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411-4AAF-47BB-B0FA-3F62C80C708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D8D-50AC-46EF-B2C8-65FB94CC3B7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1DF-91A4-4CEC-893C-90640343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394-730A-4731-B5F6-7E6EB7F0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940-5B8D-45ED-B497-1F54B6C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B41-B0C3-4031-9E6A-8A873AA2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40B-C6D8-49FB-B859-F092927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127-AC56-4DA5-9BB3-A7764669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68F-D8B3-47BA-99E3-106C8355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7F6-F768-474E-92D4-54DBF3A2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E9A-AE15-435B-8A41-988CF88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884-A192-4364-A1A9-E747F09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01C-AF89-4C83-91ED-D1E644D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2CD-6FC9-4E8D-BEEF-DB78161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9FD-35AD-4D0D-8EDA-E1C67F85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BOS DE HAB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BOS DE HAB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án regulados por los art.138 al 146 de la L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rt.138: dispone que todo pago de salario u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tra forma de remuneración deberá instru-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ntarse mediante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cibo firmado por el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bajador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rt.139: establece que el recibo debe con-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eccionarse en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oble ejemplar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, debiendo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tregarse al trabajador el duplic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firm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or el emplead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0ED-6B04-442B-9311-3BD5B8D69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 DEL 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á legislado en el art.140 de la LCT que establece los enunciad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ínim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debe conte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del emple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bre íntegro o raz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del trabaj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ic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ha de in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a cumplida o la categoría en que efectivamente se desempeño durante el período pa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F1F-89B4-468D-BB48-0215902ED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la remuneración y el pa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 tipo de remuneración que perciba con indicación subs -tancial de su determinación. Si se tratase de porcentajes o comisiones o comisiones de ventas se indicarán los importes totales de estas últimas, y el porcentaje o comisión asignada a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total bruto de la remuneración básica o fija y porcentual devengado y tiempo que corresponda. Los trabajos remunera-  dos a jornal o por hora, el número de jornadas u horas trabaja- das, y si se tratase de remuneración por pieza o medida, núme-ro de éstas, importe por unidad adoptado y monto global corres -pondiente al lapso liqui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mporte de las deducciones que se efectúan por aportes jubilato- rios u otras autorizadas por esta ley; embargos y demás des-cuentos que legalmente correspond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mporte neto percibido, expresado en números y le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ugar y fecha que deberán corresponder al pago real y efectivo de la remuneración a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000-13A1-4367-B1D3-2E43CE2E3E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tros datos obligato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requisitos del art.12 del Dec-Ley 17250/67 (…que en el recibo deberá indicarse la fecha en que se efectuó el último depósito de las contribuciones y los aportes retenidos en el período inmediato anterior, con expresión del lapso al que corresponde el depósito y el Banco en el que efectu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stancia de la recepción del duplicado por parte del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el caso de los art.124 y 129 de esta ley, firma y sello de los funcionarios o agentes dependientes de la autoridad y supervisión de los pa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E5A-54DC-4D0F-8701-726F14AF91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os datos suplementarios no exigidos por la ley pero de suma ut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ipo y número del doc. de identidad de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úmero de afiliación jubilatoria de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úmero y nombre del Convenio Colectivo de Trabajo por el que   se liquida a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bra social y el código de la obra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úmero de la Caja de Ahorro donde se le efectúan el depósito de las remun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ejor remuneración bruta del semestre o el año en cu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mporte promedio de las remuneraciones variables, horario o di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Ganancia neta sujeta a impuesto para el cálculo de las reten- ciones del Impuesto a las Ganancias (4a.cat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tc.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5F3-1AEB-4FD3-B8CC-A8A3F9DA01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RECIBO DE HAB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51000" y="836640"/>
            <a:ext cx="503244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721-39E2-496F-92E8-95013A5D67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bos se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art.141 se dispone que el importe de las remuneraciones por vacaciones, licencias pagas, asignaciones familiares, indemnizaciones debidas la trabajador con motivo de su relación de trabajo o su extinció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rá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se constar en recibo separado de los que correspondan a las remuneraciones ordinarias, el que deberá reunir los mismos requisitos de forma y contenido que los previstos en el art.140 en cuanto sea pertinente. En caso de optar por un recibo único los rubros deberán ser debidamente discriminados en concepto y en m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66F-0A14-4EE2-8A88-EDB396F8A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ZO DE CONSERVACIÓN DE LOS RECI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ibos de sueldos que acrediten el pago de las remuneraciones deberán ser guardados por el término de 2 años según lo dispuesto en el art.143, que a su vez remite al art.256 de la L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FFB-C3A3-44B0-BF89-6935DBE5E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25:49Z</dcterms:created>
  <dc:creator>Administrator</dc:creator>
  <dc:description/>
  <dc:language>en-US</dc:language>
  <cp:lastModifiedBy>Administrator</cp:lastModifiedBy>
  <dcterms:modified xsi:type="dcterms:W3CDTF">2011-06-20T22:32:41Z</dcterms:modified>
  <cp:revision>3</cp:revision>
  <dc:subject/>
  <dc:title>RECIBOS DE HABERES</dc:title>
</cp:coreProperties>
</file>