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AFA-D078-4908-A8B1-5A71F682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282-1626-4BD5-8E69-C22A9BEC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062-8F8E-4140-B9AB-4D492EDA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7AF-58F9-473B-B63E-328395DD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885-D4DA-4992-B249-0487459D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4B7-91B2-43C7-BED1-2692CE6E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5D0-FC5C-4E14-A1E1-9DEBCA9D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88E-2622-4362-94A3-DFEFE44D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824-AEE2-4934-8D88-C81395D8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0A7-99D2-476D-B325-61BF355E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139-4B04-41D3-B956-5ABAB714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175-D396-4250-BC25-B3C04F49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D4BB-1DC5-4F11-B60E-43145D70B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ILLA DE HORARIOS DEL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Y Nº 11.5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ARIO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.11544 obliga al empleador a poner en conocimiento de sus empleados el horario de trabajo y tiempo de descanso durante la jornada laboral. Para ello deberá confeccionar una planilla que exhibirá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lugar vi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otra parte el art.197 deberá notificar la diagramación de la jornada ya sea por turnos fijos, rotativos o trabajo en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E33-E79E-422E-8611-144805ADA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ILLA HORARIA DEL PERSONAL FEMEN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en la empresa haya personal femenino, cumpliendo con el art.174 de la LCT se confeccionará una planilla separada, la que deberá estar firmada por cada una de las empleadas y que deberá s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r la autoridad de aplicación, en este caso la DNP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planilla deberá ser exhibida, como la del personal masculino, en un lugar vi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0B0-6518-4477-BBC6-8E3AFC318F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53320" cy="58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CAC-5604-4696-A5B4-0365982E3D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TOS MODELOS SEGÚN LAS NECESIDADES DE CADA TIPO DE EMPRES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922-0E68-4E71-9EEA-50B25493C1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53320" cy="58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AD6-7233-4C90-A143-9696211AF2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900000" y="-458640"/>
            <a:ext cx="11287080" cy="852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FF9-C003-4045-B5FC-FEDE2DBF6A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743600" cy="58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ADC-B634-4719-91FA-648A6CC76F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044720" y="-819000"/>
            <a:ext cx="9936360" cy="750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1B4-67FA-40B6-9DF6-CD68DA2CAF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21:38:56Z</dcterms:created>
  <dc:creator>Administrator</dc:creator>
  <dc:description/>
  <dc:language>en-US</dc:language>
  <cp:lastModifiedBy>Administrator</cp:lastModifiedBy>
  <dcterms:modified xsi:type="dcterms:W3CDTF">2011-06-20T23:34:47Z</dcterms:modified>
  <cp:revision>4</cp:revision>
  <dc:subject/>
  <dc:title>PLANILLA DE HORARIOS DEL PERSONAL</dc:title>
</cp:coreProperties>
</file>