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931623-9F5F-4D07-9838-22C8209B3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5881D7-0301-422A-A5D5-F01AD3DC0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E21064-1701-455B-8DBE-B8FC0AB225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68B8E0-77DB-4EC3-B51E-A5F32BF8E3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3C841-DF7D-4ADB-B34E-1C84CF27C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966F9-FCCA-43FA-BDAA-0025BB8B0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7B8E1-74CC-4CCD-B69C-30D795A78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68034-485B-4CFD-A63F-1A0943364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37CAB-6642-42C9-A1BB-BD3AB17BE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64C0F-1B84-4DE0-BDC2-B48EF343A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F42D5-3244-44EE-9387-6365AE102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E74C56-0861-46FB-AB9C-6F753F345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47B26-66B5-40D8-A6DC-E532701DF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EF57D-7A61-4618-9C1B-1F2BA1FE7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DE8BC-D8C3-4151-A76E-BE2FA941E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ACAA0-4899-490C-8934-B5BFE2FB2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B665B-1034-4332-B582-B12051F94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B84D27-E099-4250-9FE3-CF8508FE6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FFFE52-61E3-4C4E-BBAA-7B5F4A3AC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502051-D73A-49C0-91A4-380296D35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E4C37-FC6A-41FD-AA6E-726D68A3F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A8A3C1-3B5C-487F-8940-F353F9D2D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9ADA4D-0520-48EB-B825-830C708BF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B28BB2-8475-4905-B0CA-2A9DCAFD20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71EA-1393-4540-915F-123D4BEC7A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945C-2F4F-4E70-9E18-7F8AF39F5D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240"/>
            <a:ext cx="5867640" cy="378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Arial"/>
              </a:rPr>
              <a:t>PERICIAS LABORALES</a:t>
            </a:r>
            <a:endParaRPr b="0" lang="en-US" sz="5400" spc="-1" strike="noStrike">
              <a:solidFill>
                <a:srgbClr val="ffffff"/>
              </a:solidFill>
              <a:latin typeface="Arial"/>
            </a:endParaRPr>
          </a:p>
        </p:txBody>
      </p:sp>
      <p:sp>
        <p:nvSpPr>
          <p:cNvPr id="115" name="PlaceHolder 2"/>
          <p:cNvSpPr>
            <a:spLocks noGrp="1"/>
          </p:cNvSpPr>
          <p:nvPr>
            <p:ph type="subTitle"/>
          </p:nvPr>
        </p:nvSpPr>
        <p:spPr>
          <a:xfrm>
            <a:off x="1835280" y="6858000"/>
            <a:ext cx="6256080" cy="64944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sldNum" idx="6"/>
          </p:nvPr>
        </p:nvSpPr>
        <p:spPr/>
        <p:txBody>
          <a:bodyPr/>
          <a:p>
            <a:fld id="{6540B6B1-FBE6-4B65-9A0D-07F592DBDE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9440" y="456840"/>
            <a:ext cx="67770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ACLARACIONES PREVIAS</a:t>
            </a:r>
            <a:endParaRPr b="0" lang="en-US" sz="3900" spc="-1" strike="noStrike">
              <a:solidFill>
                <a:srgbClr val="ffffff"/>
              </a:solidFill>
              <a:latin typeface="Arial"/>
            </a:endParaRPr>
          </a:p>
        </p:txBody>
      </p:sp>
      <p:sp>
        <p:nvSpPr>
          <p:cNvPr id="133" name="PlaceHolder 2"/>
          <p:cNvSpPr>
            <a:spLocks noGrp="1"/>
          </p:cNvSpPr>
          <p:nvPr>
            <p:ph/>
          </p:nvPr>
        </p:nvSpPr>
        <p:spPr>
          <a:xfrm>
            <a:off x="1477440" y="1341000"/>
            <a:ext cx="748692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destaco que en algunas preguntas del cuestionario de la actora, dada su difícil comprensión o por no ser concretas, se manifiesta lo que se entendió de ella.</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en los cálculos se ha seguido lo establecido en el cuestionario de cada una de las partes, por lo tanto, no implica opinión del perito, excepto en aquellos casos en que lo indique específicamente.</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en  caso  de  ser  observado  cualquier  cálculo  del  presente informe, por cualquiera de las partes, solicito que indique en forma concreta el error del mío y como requiere que se efectúe el nuevo cálculo.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on parte integrante de este informe los siguientes adjunto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375753E-A3CC-406A-9EFD-7A0A5EF37A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ADJUNTOS</a:t>
            </a:r>
            <a:endParaRPr b="0" lang="en-US" sz="3900" spc="-1" strike="noStrike">
              <a:solidFill>
                <a:srgbClr val="ffffff"/>
              </a:solidFill>
              <a:latin typeface="Arial"/>
            </a:endParaRPr>
          </a:p>
        </p:txBody>
      </p:sp>
      <p:sp>
        <p:nvSpPr>
          <p:cNvPr id="135" name="PlaceHolder 2"/>
          <p:cNvSpPr>
            <a:spLocks noGrp="1"/>
          </p:cNvSpPr>
          <p:nvPr>
            <p:ph/>
          </p:nvPr>
        </p:nvSpPr>
        <p:spPr>
          <a:xfrm>
            <a:off x="1676160" y="1557000"/>
            <a:ext cx="7010280" cy="4538520"/>
          </a:xfrm>
          <a:prstGeom prst="rect">
            <a:avLst/>
          </a:prstGeom>
          <a:noFill/>
          <a:ln w="0">
            <a:noFill/>
          </a:ln>
        </p:spPr>
        <p:txBody>
          <a:bodyPr lIns="90000" rIns="90000" tIns="46800" bIns="46800"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djunto I</a:t>
            </a:r>
            <a:r>
              <a:rPr b="0" lang="es-MX" sz="1600" spc="-1" strike="noStrike">
                <a:solidFill>
                  <a:srgbClr val="ffffff"/>
                </a:solidFill>
                <a:latin typeface="Arial"/>
              </a:rPr>
              <a:t>	</a:t>
            </a:r>
            <a:r>
              <a:rPr b="0" lang="es-MX" sz="1600" spc="-1" strike="noStrike">
                <a:solidFill>
                  <a:srgbClr val="ffffff"/>
                </a:solidFill>
                <a:latin typeface="Arial"/>
              </a:rPr>
              <a:t>Codificación liquidación de haberes</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djunto II</a:t>
            </a:r>
            <a:r>
              <a:rPr b="0" lang="es-MX" sz="1600" spc="-1" strike="noStrike">
                <a:solidFill>
                  <a:srgbClr val="ffffff"/>
                </a:solidFill>
                <a:latin typeface="Arial"/>
              </a:rPr>
              <a:t>	</a:t>
            </a:r>
            <a:r>
              <a:rPr b="0" lang="es-MX" sz="1600" spc="-1" strike="noStrike">
                <a:solidFill>
                  <a:srgbClr val="ffffff"/>
                </a:solidFill>
                <a:latin typeface="Arial"/>
              </a:rPr>
              <a:t>Remuneraciones del último año de trabajo</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djunto III</a:t>
            </a:r>
            <a:r>
              <a:rPr b="0" lang="es-MX" sz="1600" spc="-1" strike="noStrike">
                <a:solidFill>
                  <a:srgbClr val="ffffff"/>
                </a:solidFill>
                <a:latin typeface="Arial"/>
              </a:rPr>
              <a:t>	</a:t>
            </a:r>
            <a:r>
              <a:rPr b="0" lang="es-MX" sz="1600" spc="-1" strike="noStrike">
                <a:solidFill>
                  <a:srgbClr val="ffffff"/>
                </a:solidFill>
                <a:latin typeface="Arial"/>
              </a:rPr>
              <a:t>Remuneraciones del último año de trabajo – actualizadas</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djunto IV</a:t>
            </a:r>
            <a:r>
              <a:rPr b="0" lang="es-MX" sz="1600" spc="-1" strike="noStrike">
                <a:solidFill>
                  <a:srgbClr val="ffffff"/>
                </a:solidFill>
                <a:latin typeface="Arial"/>
              </a:rPr>
              <a:t>	</a:t>
            </a:r>
            <a:r>
              <a:rPr b="0" lang="es-MX" sz="1600" spc="-1" strike="noStrike">
                <a:solidFill>
                  <a:srgbClr val="ffffff"/>
                </a:solidFill>
                <a:latin typeface="Arial"/>
              </a:rPr>
              <a:t>Remuneraciones del último año de trabajo – actualizadas y a promedio (mejor mes)</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djunto V</a:t>
            </a:r>
            <a:r>
              <a:rPr b="0" lang="es-MX" sz="1600" spc="-1" strike="noStrike">
                <a:solidFill>
                  <a:srgbClr val="ffffff"/>
                </a:solidFill>
                <a:latin typeface="Arial"/>
              </a:rPr>
              <a:t>	</a:t>
            </a:r>
            <a:r>
              <a:rPr b="0" lang="es-MX" sz="1600" spc="-1" strike="noStrike">
                <a:solidFill>
                  <a:srgbClr val="ffffff"/>
                </a:solidFill>
                <a:latin typeface="Arial"/>
              </a:rPr>
              <a:t>Horas ausente por enfermedad (incluye horas trabajadas por personal jornalizado)</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djunto VI </a:t>
            </a:r>
            <a:r>
              <a:rPr b="0" lang="es-MX" sz="1600" spc="-1" strike="noStrike">
                <a:solidFill>
                  <a:srgbClr val="ffffff"/>
                </a:solidFill>
                <a:latin typeface="Arial"/>
              </a:rPr>
              <a:t>	</a:t>
            </a:r>
            <a:r>
              <a:rPr b="0" lang="es-MX" sz="1600" spc="-1" strike="noStrike">
                <a:solidFill>
                  <a:srgbClr val="ffffff"/>
                </a:solidFill>
                <a:latin typeface="Arial"/>
              </a:rPr>
              <a:t>Remuneraciones de los últimos seis meses actualizadas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djunto VII</a:t>
            </a:r>
            <a:r>
              <a:rPr b="0" lang="es-MX" sz="1600" spc="-1" strike="noStrike">
                <a:solidFill>
                  <a:srgbClr val="ffffff"/>
                </a:solidFill>
                <a:latin typeface="Arial"/>
              </a:rPr>
              <a:t>	</a:t>
            </a:r>
            <a:r>
              <a:rPr b="0" lang="es-MX" sz="1600" spc="-1" strike="noStrike">
                <a:solidFill>
                  <a:srgbClr val="ffffff"/>
                </a:solidFill>
                <a:latin typeface="Arial"/>
              </a:rPr>
              <a:t>Indemnizaciones por antigüedad – Indemnización sustitutiva del preaviso</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djunto VIII</a:t>
            </a:r>
            <a:r>
              <a:rPr b="0" lang="es-MX" sz="1600" spc="-1" strike="noStrike">
                <a:solidFill>
                  <a:srgbClr val="ffffff"/>
                </a:solidFill>
                <a:latin typeface="Arial"/>
              </a:rPr>
              <a:t>	</a:t>
            </a:r>
            <a:r>
              <a:rPr b="0" lang="es-MX" sz="1600" spc="-1" strike="noStrike">
                <a:solidFill>
                  <a:srgbClr val="ffffff"/>
                </a:solidFill>
                <a:latin typeface="Arial"/>
              </a:rPr>
              <a:t>Remuneraciones últimos seis meses – preaviso (remuneraciones actualizadas y a promedio)</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djunto IX</a:t>
            </a:r>
            <a:r>
              <a:rPr b="0" lang="es-MX" sz="1600" spc="-1" strike="noStrike">
                <a:solidFill>
                  <a:srgbClr val="ffffff"/>
                </a:solidFill>
                <a:latin typeface="Arial"/>
              </a:rPr>
              <a:t>	</a:t>
            </a:r>
            <a:r>
              <a:rPr b="0" lang="es-MX" sz="1600" spc="-1" strike="noStrike">
                <a:solidFill>
                  <a:srgbClr val="ffffff"/>
                </a:solidFill>
                <a:latin typeface="Arial"/>
              </a:rPr>
              <a:t>Cálculo preaviso según actora (punto 14) – actualizados.</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djunto X – Haberes del último año - sin actualizar – promedio (indemnización por antigüedad y preaviso)</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djunto XI – Indemnizaciones por antigüedad según demandada (incluye también preavis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614C023-7F9A-40C4-84A9-E73054CD08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LA PREGUNTA</a:t>
            </a:r>
            <a:endParaRPr b="0" lang="en-US" sz="3900" spc="-1" strike="noStrike">
              <a:solidFill>
                <a:srgbClr val="ffffff"/>
              </a:solidFill>
              <a:latin typeface="Arial"/>
            </a:endParaRPr>
          </a:p>
        </p:txBody>
      </p:sp>
      <p:sp>
        <p:nvSpPr>
          <p:cNvPr id="13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i la demandada lleva sus libros rubricados y al día, sin deficiencias de orden contable, enumerando dichos libros o registros, sus respectivas fechas de rubricación y autoridad que la efectuó</a:t>
            </a:r>
            <a:r>
              <a:rPr b="1" lang="es-MX"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15AFC0-3828-434E-92B7-8425E73BEA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6840"/>
            <a:ext cx="701028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ACLARACIÓN PREVIA</a:t>
            </a:r>
            <a:endParaRPr b="0" lang="en-US" sz="3900" spc="-1" strike="noStrike">
              <a:solidFill>
                <a:srgbClr val="ffffff"/>
              </a:solidFill>
              <a:latin typeface="Arial"/>
            </a:endParaRPr>
          </a:p>
        </p:txBody>
      </p:sp>
      <p:sp>
        <p:nvSpPr>
          <p:cNvPr id="139" name="PlaceHolder 2"/>
          <p:cNvSpPr>
            <a:spLocks noGrp="1"/>
          </p:cNvSpPr>
          <p:nvPr>
            <p:ph/>
          </p:nvPr>
        </p:nvSpPr>
        <p:spPr>
          <a:xfrm>
            <a:off x="1676160" y="1413000"/>
            <a:ext cx="7010280" cy="468288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claración:</a:t>
            </a:r>
            <a:r>
              <a:rPr b="0" lang="es-MX" sz="2400" spc="-1" strike="noStrike">
                <a:solidFill>
                  <a:srgbClr val="ffffff"/>
                </a:solidFill>
                <a:latin typeface="Arial"/>
              </a:rPr>
              <a:t> </a:t>
            </a:r>
            <a:r>
              <a:rPr b="0" i="1" lang="es-MX" sz="2400" spc="-1" strike="noStrike">
                <a:solidFill>
                  <a:srgbClr val="ffffff"/>
                </a:solidFill>
                <a:latin typeface="Arial"/>
              </a:rPr>
              <a:t>Si la acepción “al día”, significa que al día siguiente deben estar volcadas las operaciones del día anterior, es de imposible cumplimiento por aplicación de la existencia de asientos globales que no superen el mes calendario. En nuestra legislación comercial no existe norma que indique cual es el atraso máximo permitido para la transcripción a los libros de las operaciones realizadas, excepto para el libro de Inventarios y Balances que debe estar completado dentro de los 90 días del cierre del ejercicio, por ende, el libro Diario debe tener un atraso máximo de 90 días, en ese momento, ya que es indispensable para la confección de los estados contables que son volcados al primer libro mencionado</a:t>
            </a:r>
            <a:r>
              <a:rPr b="0" lang="es-ES"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E30CD6-DE55-4FE6-BB01-66CB998A5F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457200"/>
            <a:ext cx="701028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Arial"/>
              </a:rPr>
              <a:t>SEGUNDA ACLARACION</a:t>
            </a:r>
            <a:endParaRPr b="0" lang="en-US" sz="3500" spc="-1" strike="noStrike">
              <a:solidFill>
                <a:srgbClr val="ffffff"/>
              </a:solidFill>
              <a:latin typeface="Arial"/>
            </a:endParaRPr>
          </a:p>
        </p:txBody>
      </p:sp>
      <p:sp>
        <p:nvSpPr>
          <p:cNvPr id="141" name="PlaceHolder 2"/>
          <p:cNvSpPr>
            <a:spLocks noGrp="1"/>
          </p:cNvSpPr>
          <p:nvPr>
            <p:ph/>
          </p:nvPr>
        </p:nvSpPr>
        <p:spPr>
          <a:xfrm>
            <a:off x="1403280" y="1197000"/>
            <a:ext cx="7740720" cy="5184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El pedido de “sin deficiencias de orden contable” implica una tarea de auditoría de los estados contables, que de tener que realizarse debe concedérseme el correspondiente plazo para su realización y el correspondiente adelanto monetario para solventar los haberes del personal que deba acompañarme en la tarea de revisión.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Queda a consideración de S.E. si debo completar este punto del cuestionario de la parte de la actora, tal como ha sido redactado.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A los efectos de conocer el monto aproximado de los honorarios a incurrir, solicito se libre oficio a los auditores externos de la demandada Estudio de Primera, calle zz yyy, de esta Ciudad, para que informen cantidad de horas gastadas y monto facturado para la última auditoría de estados contables realizada en la demandad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C92852E-DE04-4530-AF2A-C90176D7CA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LA RESPUESTA</a:t>
            </a:r>
            <a:endParaRPr b="0" lang="en-US" sz="3900" spc="-1" strike="noStrike">
              <a:solidFill>
                <a:srgbClr val="ffffff"/>
              </a:solidFill>
              <a:latin typeface="Arial"/>
            </a:endParaRPr>
          </a:p>
        </p:txBody>
      </p:sp>
      <p:sp>
        <p:nvSpPr>
          <p:cNvPr id="14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demandada lleva los libros obligatorios contables identificados de acuerdo con las disposiciones legales vigentes y  cumpliendo sus formalidades. Incluir cuadro detallado.</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registro de sueldos y jornales es llevado en microfichas, por autorización del 16 de noviembre de 1989 extendida por el Ministerio de Trabajo y Seguridad Social y otorgada (firmada) por el Director Nacional de Inspección del Trabajo.</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mi opinión no se verifican atrasos en las registracione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90B5ABB-A4E8-4E7C-B9BA-5CA10E7FD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PREGUNTA</a:t>
            </a:r>
            <a:endParaRPr b="0" lang="en-US" sz="3900" spc="-1" strike="noStrike">
              <a:solidFill>
                <a:srgbClr val="ffffff"/>
              </a:solidFill>
              <a:latin typeface="Arial"/>
            </a:endParaRPr>
          </a:p>
        </p:txBody>
      </p:sp>
      <p:sp>
        <p:nvSpPr>
          <p:cNvPr id="14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i la demandada cumple con los requisitos de la L.C.T., Convenios colectivos y Estatutos legales, con la determinación precisa de los datos allí establecidos con relación a los actores. Con detalles de planillas, registros y otros elementos del contado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DC2F86-8079-450C-9296-A4BEF37D68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549360"/>
            <a:ext cx="70102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Arial"/>
              </a:rPr>
              <a:t>ACLARACION</a:t>
            </a:r>
            <a:endParaRPr b="0" lang="en-US" sz="3500" spc="-1" strike="noStrike">
              <a:solidFill>
                <a:srgbClr val="ffffff"/>
              </a:solidFill>
              <a:latin typeface="Arial"/>
            </a:endParaRPr>
          </a:p>
        </p:txBody>
      </p:sp>
      <p:sp>
        <p:nvSpPr>
          <p:cNvPr id="147" name="PlaceHolder 2"/>
          <p:cNvSpPr>
            <a:spLocks noGrp="1"/>
          </p:cNvSpPr>
          <p:nvPr>
            <p:ph/>
          </p:nvPr>
        </p:nvSpPr>
        <p:spPr>
          <a:xfrm>
            <a:off x="1693440" y="1197000"/>
            <a:ext cx="699300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Entiendo que la expresión “con detalles de las planillas, registros y otros elementos del </a:t>
            </a:r>
            <a:r>
              <a:rPr b="1" i="1" lang="es-MX" sz="2400" spc="-1" strike="noStrike" u="sng">
                <a:solidFill>
                  <a:srgbClr val="ffffff"/>
                </a:solidFill>
                <a:uFillTx/>
                <a:latin typeface="Arial"/>
              </a:rPr>
              <a:t>contador</a:t>
            </a:r>
            <a:r>
              <a:rPr b="0" i="1" lang="es-MX" sz="2400" spc="-1" strike="noStrike">
                <a:solidFill>
                  <a:srgbClr val="ffffff"/>
                </a:solidFill>
                <a:latin typeface="Arial"/>
              </a:rPr>
              <a:t>, se refiere al título que identifica al artículo 54 de la LCT, que dice: “Aplicación a los registros, planillas u otros elementos de </a:t>
            </a:r>
            <a:r>
              <a:rPr b="1" i="1" lang="es-MX" sz="2400" spc="-1" strike="noStrike" u="sng">
                <a:solidFill>
                  <a:srgbClr val="ffffff"/>
                </a:solidFill>
                <a:uFillTx/>
                <a:latin typeface="Arial"/>
              </a:rPr>
              <a:t>contralor</a:t>
            </a:r>
            <a:r>
              <a:rPr b="0" i="1" lang="es-MX" sz="2400" spc="-1" strike="noStrike">
                <a:solidFill>
                  <a:srgbClr val="ffffff"/>
                </a:solidFill>
                <a:latin typeface="Arial"/>
              </a:rPr>
              <a:t>”. De tratarse de una acepción distinta, requiero una explicación de que se entiende por elementos del contador. Dado que la pregunta no es concreta y especifica, el completar lo requerido implica una tarea de auditoría, que escapa a la labor de una compulsa pericial que debe estar limitada a los puntos que interesan a la causa, únicamente. De requerirse la realización de la auditoría solicito se me otorguen el plazo para su realización y los fondos necesarios para abonar los honorarios de mis colaboradores</a:t>
            </a:r>
            <a:r>
              <a:rPr b="0" i="1" lang="es-MX"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7EDAE0-1E93-484E-A6EF-64C7955E44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Arial"/>
              </a:rPr>
              <a:t>RESPUESTA</a:t>
            </a:r>
            <a:endParaRPr b="0" lang="en-US" sz="3500" spc="-1" strike="noStrike">
              <a:solidFill>
                <a:srgbClr val="ffffff"/>
              </a:solidFill>
              <a:latin typeface="Arial"/>
            </a:endParaRPr>
          </a:p>
        </p:txBody>
      </p:sp>
      <p:sp>
        <p:nvSpPr>
          <p:cNvPr id="149" name="PlaceHolder 2"/>
          <p:cNvSpPr>
            <a:spLocks noGrp="1"/>
          </p:cNvSpPr>
          <p:nvPr>
            <p:ph/>
          </p:nvPr>
        </p:nvSpPr>
        <p:spPr>
          <a:xfrm>
            <a:off x="1403280" y="1413000"/>
            <a:ext cx="7561440" cy="4968720"/>
          </a:xfrm>
          <a:prstGeom prst="rect">
            <a:avLst/>
          </a:prstGeom>
          <a:noFill/>
          <a:ln w="0">
            <a:noFill/>
          </a:ln>
        </p:spPr>
        <p:txBody>
          <a:bodyPr lIns="90000" rIns="90000" tIns="46800" bIns="46800"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relación con la ley de contrato de trabajo, se verificó el cumplimiento de lo establecido en los artículos 52 (registro de sueldos y jornales),  59 (firma en los duplicados de los recibos de pago), 80 (deber de ingresar los fondos de los organismos de seguridad social y sindicales), 103 (remuneración no inferior al salario mínimo vital y móvil), 106 (viáticos como remuneración), 121 (sueldo anual complementario), 122 (época de pago del SAC), 123 (pago proporcional del SAC), 124 (medio de pago), 129 (lugares de pago), 138 (recibo firmado por el trabajador), 139 (doble ejemplar de recibo de pago), 140 (contenido del recibo de pago), 141 (recibos separados), 145 (nulidad de la renuncia en los recibos de pago), 150 (vacaciones), 153 (licencia proporcional), etc.</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elementos utilizados para la verificación han sido el registro del artículo 52, las copias de los recibos de pago y cálculos de verificación efectuados por el suscripto, sobre la información correspondiente a los actores. Además de las constancia de los depósitos de los aportes y contribuciones a la seguridad social y de las cuotas sindicales retenidas</a:t>
            </a:r>
            <a:r>
              <a:rPr b="0" lang="es-ES"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FF93E2-96C9-4228-A129-91D32DD157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6840"/>
            <a:ext cx="701028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CONT. RESPUESTA</a:t>
            </a:r>
            <a:endParaRPr b="0" lang="en-US" sz="3900" spc="-1" strike="noStrike">
              <a:solidFill>
                <a:srgbClr val="ffffff"/>
              </a:solidFill>
              <a:latin typeface="Arial"/>
            </a:endParaRPr>
          </a:p>
        </p:txBody>
      </p:sp>
      <p:sp>
        <p:nvSpPr>
          <p:cNvPr id="151" name="PlaceHolder 2"/>
          <p:cNvSpPr>
            <a:spLocks noGrp="1"/>
          </p:cNvSpPr>
          <p:nvPr>
            <p:ph/>
          </p:nvPr>
        </p:nvSpPr>
        <p:spPr>
          <a:xfrm>
            <a:off x="1676160" y="1413000"/>
            <a:ext cx="7010280" cy="468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registro de sueldos y jornales es llevado en microfichas, por autorización del 16 de noviembre de 1989 extendida por el Ministerio de Trabajo y Seguridad Social y otorgada (firmada) por el Director Nacional de Inspección del Trabajo.</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n relación a los convenios colectivos de trabajo podemos expresar que los salarios abonados por la demandada no son inferiores a los fijados en el convenio y las cuotas sindicales retenidas de los afiliados son depositadas mensualmente, en término.</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tendiendo por estatutos especiales al cumplimiento de las disposiciones legales de la ley de empleo. La demandada cumple con los mismos, la verificación se efectuó sobre la base de los actores, no existiendo reclamo alguno de los actores por remuneraciones mensuales que no cumpla con las disposiciones de la ley de empleo, ni existen discrepancias entre los recibos de pago y el registro del artículo 52 de la L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CF9A3D-821A-4CC6-AE16-D8C94B3907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C.P.C.C.N.</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Art. 472 – Presentación del dictamen – El perito presentará su dictamen, por escrito, con copias para las partes. Contendrá la explicación detallada de las operaciones técnicas realizadas y de los principios científicos en que se funde</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404FCE7-60A6-4147-A602-065F4049BC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Arial"/>
              </a:rPr>
              <a:t>3° PREGUNTA Y SU RESPUESTA</a:t>
            </a:r>
            <a:endParaRPr b="0" lang="en-US" sz="3500" spc="-1" strike="noStrike">
              <a:solidFill>
                <a:srgbClr val="ffffff"/>
              </a:solidFill>
              <a:latin typeface="Arial"/>
            </a:endParaRPr>
          </a:p>
        </p:txBody>
      </p:sp>
      <p:sp>
        <p:nvSpPr>
          <p:cNvPr id="15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Fecha de ingreso y egreso de los actore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información ha sido extraída de los registros de sueldos y jornales, previstos en el artículo 52 de la Ley de Contrato de Trabajo, que son coincidentes con las copias de los recibos de pago que he tenido acceso</a:t>
            </a:r>
            <a:r>
              <a:rPr b="0" lang="es-ES" sz="2800" spc="-1" strike="noStrike">
                <a:solidFill>
                  <a:srgbClr val="ffffff"/>
                </a:solidFill>
                <a:latin typeface="Arial"/>
              </a:rPr>
              <a:t>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Incluir cuadro con la información solicitada</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1ED792-6D9C-4078-9724-125238D376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4° PREGUNTA</a:t>
            </a:r>
            <a:endParaRPr b="0" lang="en-US" sz="3900" spc="-1" strike="noStrike">
              <a:solidFill>
                <a:srgbClr val="ffffff"/>
              </a:solidFill>
              <a:latin typeface="Arial"/>
            </a:endParaRPr>
          </a:p>
        </p:txBody>
      </p:sp>
      <p:sp>
        <p:nvSpPr>
          <p:cNvPr id="15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Retribuciones que le abonaron mes a mes durante el último año de relación laboral con detalle de la remuneración básica, horas extraordinarias, premios, feriados nacionales, francos no gozados, sueldos anuales complementarios, vacaciones (gozadas y no gozadas) y salario familiar.</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5075A6-FADC-436E-A439-2A7F6BEE2F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RESPUESTA</a:t>
            </a:r>
            <a:endParaRPr b="0" lang="en-US" sz="3900" spc="-1" strike="noStrike">
              <a:solidFill>
                <a:srgbClr val="ffffff"/>
              </a:solidFill>
              <a:latin typeface="Arial"/>
            </a:endParaRPr>
          </a:p>
        </p:txBody>
      </p:sp>
      <p:sp>
        <p:nvSpPr>
          <p:cNvPr id="15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el adjunto I se detallan los conceptos y sus códigos que se incluyen en la liquidación de haberes.</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el adjunto II se detallan todos los conceptos codificados, abonados por la demandada.</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s conceptos no remunerativos son los incluidos en los códigos del 201 al 228 (salario familiar) y el código 279 que corresponde a un pago voluntario de la empres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67027DC-0339-489A-9A0E-D5E91D9467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160" y="457200"/>
            <a:ext cx="701028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5° PREGUNTA</a:t>
            </a:r>
            <a:endParaRPr b="0" lang="en-US" sz="3900" spc="-1" strike="noStrike">
              <a:solidFill>
                <a:srgbClr val="ffffff"/>
              </a:solidFill>
              <a:latin typeface="Arial"/>
            </a:endParaRPr>
          </a:p>
        </p:txBody>
      </p:sp>
      <p:sp>
        <p:nvSpPr>
          <p:cNvPr id="159" name="PlaceHolder 2"/>
          <p:cNvSpPr>
            <a:spLocks noGrp="1"/>
          </p:cNvSpPr>
          <p:nvPr>
            <p:ph/>
          </p:nvPr>
        </p:nvSpPr>
        <p:spPr>
          <a:xfrm>
            <a:off x="1676160" y="1413000"/>
            <a:ext cx="7010280" cy="4682880"/>
          </a:xfrm>
          <a:prstGeom prst="rect">
            <a:avLst/>
          </a:prstGeom>
          <a:noFill/>
          <a:ln w="0">
            <a:noFill/>
          </a:ln>
        </p:spPr>
        <p:txBody>
          <a:bodyPr lIns="90000" rIns="90000" tIns="46800" bIns="46800" anchor="t">
            <a:normAutofit/>
          </a:bodyPr>
          <a:p>
            <a:pPr marL="609480" indent="-6094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Horario trabajo con detalle de la documentación compulsada para determinarlo.</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ado que no me fueron suministradas las tarjetas reloj, excepto aquellas que se encontraban en los legajos de los actores, - las correspondientes al último mes trabajado -, la información requerida en este punto del cuestionario fue extraída de los datos existentes en el sistema computadorizado de personal de la demandada.</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información obtenida desde el sistema computadorizado es coincidente con la registrada en las tarjetas reloj compulsada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Incluir cuadro demostrativo</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5DEE15-93F0-40FF-9C8A-7C0991CBB0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6° PREGUNTA</a:t>
            </a:r>
            <a:endParaRPr b="0" lang="en-US" sz="3900" spc="-1" strike="noStrike">
              <a:solidFill>
                <a:srgbClr val="ffffff"/>
              </a:solidFill>
              <a:latin typeface="Arial"/>
            </a:endParaRPr>
          </a:p>
        </p:txBody>
      </p:sp>
      <p:sp>
        <p:nvSpPr>
          <p:cNvPr id="16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terminará la mejor remuneración mensual que le correspondió percibir a los actores durante el último año de relación laboral, y la que le hubiese correspondido percibir en ese periodo. Para determinar la mejor remuneración mensual, normal y habitual  de los mismos, computará el señor perito la depreciación monetaria que se produjo en ese último año, mes por mes, actualizando cada suma desde que se devengó y hasta el momento del despido y sobre esa base liquidará las indemnizaciones legales</a:t>
            </a:r>
            <a:r>
              <a:rPr b="0" lang="es-MX" sz="2400" spc="-1" strike="noStrike">
                <a:solidFill>
                  <a:srgbClr val="ffffff"/>
                </a:solidFill>
                <a:latin typeface="Arial"/>
              </a:rPr>
              <a: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DEDE710-8D0E-4DF8-8A5A-D0A465D12A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160" y="457200"/>
            <a:ext cx="701028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ACLARACIÓN</a:t>
            </a:r>
            <a:endParaRPr b="0" lang="en-US" sz="3900" spc="-1" strike="noStrike">
              <a:solidFill>
                <a:srgbClr val="ffffff"/>
              </a:solidFill>
              <a:latin typeface="Arial"/>
            </a:endParaRPr>
          </a:p>
        </p:txBody>
      </p:sp>
      <p:sp>
        <p:nvSpPr>
          <p:cNvPr id="163" name="PlaceHolder 2"/>
          <p:cNvSpPr>
            <a:spLocks noGrp="1"/>
          </p:cNvSpPr>
          <p:nvPr>
            <p:ph/>
          </p:nvPr>
        </p:nvSpPr>
        <p:spPr>
          <a:xfrm>
            <a:off x="1676160" y="1557000"/>
            <a:ext cx="7010280" cy="4538520"/>
          </a:xfrm>
          <a:prstGeom prst="rect">
            <a:avLst/>
          </a:prstGeom>
          <a:noFill/>
          <a:ln w="0">
            <a:noFill/>
          </a:ln>
        </p:spPr>
        <p:txBody>
          <a:bodyPr lIns="90000" rIns="90000" tIns="46800" bIns="46800"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Considero que lo requerido en este punto se refiere a la mejor remuneración mensual, según los registros del empleador, ya que “correspondió percibir” y “ hubiese correspondido percibir”, son diferencias de tiempos verbales y no de significado</a:t>
            </a:r>
            <a:r>
              <a:rPr b="0" lang="es-MX"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Dado que no especifica cual es el índice a aplicar para la depreciación monetaria, se considera a los efectos de cálculo los coeficientes de intereses de la tasa pasiva del Banco de la Nación Argentina para depósitos a plazo fijo a 30 días. El detalle de los haberes actualizados se encuentra en el adjunto III</a:t>
            </a:r>
            <a:r>
              <a:rPr b="0" i="1" lang="es-MX"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140500-9BFD-4E30-84C9-1840C58A0D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160" y="457200"/>
            <a:ext cx="701028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RESPUESTA</a:t>
            </a:r>
            <a:endParaRPr b="0" lang="en-US" sz="3900" spc="-1" strike="noStrike">
              <a:solidFill>
                <a:srgbClr val="ffffff"/>
              </a:solidFill>
              <a:latin typeface="Arial"/>
            </a:endParaRPr>
          </a:p>
        </p:txBody>
      </p:sp>
      <p:sp>
        <p:nvSpPr>
          <p:cNvPr id="165" name="PlaceHolder 2"/>
          <p:cNvSpPr>
            <a:spLocks noGrp="1"/>
          </p:cNvSpPr>
          <p:nvPr>
            <p:ph/>
          </p:nvPr>
        </p:nvSpPr>
        <p:spPr>
          <a:xfrm>
            <a:off x="1676160" y="1268280"/>
            <a:ext cx="7010280" cy="4827600"/>
          </a:xfrm>
          <a:prstGeom prst="rect">
            <a:avLst/>
          </a:prstGeom>
          <a:noFill/>
          <a:ln w="0">
            <a:noFill/>
          </a:ln>
        </p:spPr>
        <p:txBody>
          <a:bodyPr lIns="90000" rIns="90000" tIns="46800" bIns="46800"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 los efectos de la mejor remuneración mensual habitual, a los importes abonados se les ha sustraído los conceptos no remunerativos (códigos 201/228 y 279), indemnizatorios por ruptura del contrato laboral (códigos 269/273) y el sueldo anual complementario (códigos 91 y 281/283).</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todos los casos el mes en que ocurrió el despido no ha sido considerado.</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xcepto los códigos 001 al 005, los restantes códigos han sido tomados considerando el promedio de los últimos doce meses, a fin de determinar la mejor remuneración mensual habitual, su cálculo se encuentra en el adjunto IV.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Incluir cuadros comparativo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BE4EBA-7AF5-48B1-B2E6-A53ED1D2F8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7° PREGUNTA</a:t>
            </a:r>
            <a:endParaRPr b="0" lang="en-US" sz="3900" spc="-1" strike="noStrike">
              <a:solidFill>
                <a:srgbClr val="ffffff"/>
              </a:solidFill>
              <a:latin typeface="Arial"/>
            </a:endParaRPr>
          </a:p>
        </p:txBody>
      </p:sp>
      <p:sp>
        <p:nvSpPr>
          <p:cNvPr id="16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i la demandada cumple con la L.C.T. en cuanto a su obligación de ingresar regularmente los fondos de seguridad sociales, y  sindicales, como obligada directa o como agente de retención, y con detalle de los depósitos practicado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410DF9-FB3E-48AC-9DC4-38F0C03547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160" y="456840"/>
            <a:ext cx="701028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ACLARACIÓN</a:t>
            </a:r>
            <a:endParaRPr b="0" lang="en-US" sz="3900" spc="-1" strike="noStrike">
              <a:solidFill>
                <a:srgbClr val="ffffff"/>
              </a:solidFill>
              <a:latin typeface="Arial"/>
            </a:endParaRPr>
          </a:p>
        </p:txBody>
      </p:sp>
      <p:sp>
        <p:nvSpPr>
          <p:cNvPr id="169" name="PlaceHolder 2"/>
          <p:cNvSpPr>
            <a:spLocks noGrp="1"/>
          </p:cNvSpPr>
          <p:nvPr>
            <p:ph/>
          </p:nvPr>
        </p:nvSpPr>
        <p:spPr>
          <a:xfrm>
            <a:off x="1676160" y="1268280"/>
            <a:ext cx="7010280" cy="4827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Para un mejor entendimiento, es necesario mencionar que la demandada está controlada por la AFIP (Administración Federal de Ingresos Públicos – Dirección General Impositiva) como gran contribuyente nacional, por lo tanto cualquier atraso en la presentación de declaraciones juradas o falta de ingreso de los valores a depositar, implica multas e intereses punitorios que se verificarían al controlar los pagos.</a:t>
            </a:r>
            <a:endParaRPr b="0" lang="en-US" sz="2400" spc="-1" strike="noStrike">
              <a:solidFill>
                <a:srgbClr val="ffffff"/>
              </a:solidFill>
              <a:latin typeface="Arial"/>
            </a:endParaRPr>
          </a:p>
          <a:p>
            <a:pPr marL="329040" indent="-3290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Asimismo, no me fue factible encontrar el artículo de la LCT que especifique la obligación de ingresar regularmente los fondos de seguridad sociales y sindicales, por lo que interpreto que la actora quiere establecer si los fondos retenidos a los trabajadores son depositados por la demandad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7357A21-C300-4662-85AD-77C345E0F6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RESPUESTA</a:t>
            </a:r>
            <a:endParaRPr b="0" lang="en-US" sz="3900" spc="-1" strike="noStrike">
              <a:solidFill>
                <a:srgbClr val="ffffff"/>
              </a:solidFill>
              <a:latin typeface="Arial"/>
            </a:endParaRPr>
          </a:p>
        </p:txBody>
      </p:sp>
      <p:sp>
        <p:nvSpPr>
          <p:cNvPr id="17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fin de cumplir con lo solicitado en  esta pregunta, se verificaron todos los pagos y declaraciones juradas presentadas en el corriente año, resultand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Se incluyó cuadros por todos los concepto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251AC6-AA90-4720-815B-13E71CEB68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INFORME/DICTAMEN</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609480">
              <a:spcBef>
                <a:spcPts val="10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Tarea encomendada</a:t>
            </a:r>
            <a:endParaRPr b="0" lang="en-US" sz="4000" spc="-1" strike="noStrike">
              <a:solidFill>
                <a:srgbClr val="ffffff"/>
              </a:solidFill>
              <a:latin typeface="Arial"/>
            </a:endParaRPr>
          </a:p>
          <a:p>
            <a:pPr marL="609480" indent="-609480">
              <a:spcBef>
                <a:spcPts val="10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Documentación a analizar</a:t>
            </a:r>
            <a:endParaRPr b="0" lang="en-US" sz="4000" spc="-1" strike="noStrike">
              <a:solidFill>
                <a:srgbClr val="ffffff"/>
              </a:solidFill>
              <a:latin typeface="Arial"/>
            </a:endParaRPr>
          </a:p>
          <a:p>
            <a:pPr marL="609480" indent="-609480">
              <a:spcBef>
                <a:spcPts val="10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Observaciones a señalar</a:t>
            </a:r>
            <a:endParaRPr b="0" lang="en-US" sz="4000" spc="-1" strike="noStrike">
              <a:solidFill>
                <a:srgbClr val="ffffff"/>
              </a:solidFill>
              <a:latin typeface="Arial"/>
            </a:endParaRPr>
          </a:p>
          <a:p>
            <a:pPr marL="609480" indent="-609480">
              <a:spcBef>
                <a:spcPts val="10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Emitir opinión profesional</a:t>
            </a:r>
            <a:endParaRPr b="0" lang="en-US" sz="4000" spc="-1" strike="noStrike">
              <a:solidFill>
                <a:srgbClr val="ffffff"/>
              </a:solidFill>
              <a:latin typeface="Arial"/>
            </a:endParaRPr>
          </a:p>
        </p:txBody>
      </p:sp>
      <p:sp>
        <p:nvSpPr>
          <p:cNvPr id="4" name="PlaceHolder 3"/>
          <p:cNvSpPr>
            <a:spLocks noGrp="1"/>
          </p:cNvSpPr>
          <p:nvPr>
            <p:ph type="sldNum" idx="2"/>
          </p:nvPr>
        </p:nvSpPr>
        <p:spPr/>
        <p:txBody>
          <a:bodyPr/>
          <a:p>
            <a:fld id="{CC345421-73BA-4A75-8364-944EBF70DC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8° PREGUNTA</a:t>
            </a:r>
            <a:endParaRPr b="0" lang="en-US" sz="3900" spc="-1" strike="noStrike">
              <a:solidFill>
                <a:srgbClr val="ffffff"/>
              </a:solidFill>
              <a:latin typeface="Arial"/>
            </a:endParaRPr>
          </a:p>
        </p:txBody>
      </p:sp>
      <p:sp>
        <p:nvSpPr>
          <p:cNvPr id="17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Días trabajados durante el último año calendario y determinación expresa y detallada, durante el período no prescripto de relación laboral, de las licencias por enfermedad y de los francos recibidos en días labora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E8FE22-2046-4E5F-95B8-2042E8703F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160" y="456840"/>
            <a:ext cx="701028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RESPUESTA</a:t>
            </a:r>
            <a:endParaRPr b="0" lang="en-US" sz="3900" spc="-1" strike="noStrike">
              <a:solidFill>
                <a:srgbClr val="ffffff"/>
              </a:solidFill>
              <a:latin typeface="Arial"/>
            </a:endParaRPr>
          </a:p>
        </p:txBody>
      </p:sp>
      <p:sp>
        <p:nvSpPr>
          <p:cNvPr id="175" name="PlaceHolder 2"/>
          <p:cNvSpPr>
            <a:spLocks noGrp="1"/>
          </p:cNvSpPr>
          <p:nvPr>
            <p:ph/>
          </p:nvPr>
        </p:nvSpPr>
        <p:spPr>
          <a:xfrm>
            <a:off x="1676160" y="1267920"/>
            <a:ext cx="701028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ado que no se ha tenido acceso a la información de las tarjetas-reloj, ni a mi pedido, recibí otro tipo de documentación que me permitiera responder a esta pregunta, solo puedo dejar constancia de los meses en que se registraron ausencias por enfermedad, que surgen del registro del artículo 52 de la LCT, el cual no discrimina las horas y los días de ausentismo.</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ara el personal jornalizado se indican las horas trabajadas, calculadas dividiendo el importe abonado por el valor hora</a:t>
            </a:r>
            <a:r>
              <a:rPr b="0" lang="es-E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A7CDAF-A0F6-46EC-866D-4766E60083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160" y="456840"/>
            <a:ext cx="701028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CONT. RESPUESTA</a:t>
            </a:r>
            <a:endParaRPr b="0" lang="en-US" sz="3900" spc="-1" strike="noStrike">
              <a:solidFill>
                <a:srgbClr val="ffffff"/>
              </a:solidFill>
              <a:latin typeface="Arial"/>
            </a:endParaRPr>
          </a:p>
        </p:txBody>
      </p:sp>
      <p:sp>
        <p:nvSpPr>
          <p:cNvPr id="177" name="PlaceHolder 2"/>
          <p:cNvSpPr>
            <a:spLocks noGrp="1"/>
          </p:cNvSpPr>
          <p:nvPr>
            <p:ph/>
          </p:nvPr>
        </p:nvSpPr>
        <p:spPr>
          <a:xfrm>
            <a:off x="1676160" y="1413000"/>
            <a:ext cx="7010280" cy="468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el caso de los operarios al importe abonado por código 011 – Enfermedad, se lo ha dividido por el valor hora pagado más su antigüedad, resultando las horas no trabajadas por el mencionado concepto. Al personal mensualizado al importe del salario del mes se le sumó la antigüedad y se lo dividió por 25, obteniendo el valor diario, dividiendo al importe abonado por el concepto 011 por el valor diario se obtuvieron los días de ausencia por enfermedad.</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s resultados de estos cálculos se encuentran detallados en el adjunto V, que por el sistema utilizado son aproximado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7F3928A-4E03-48A3-8148-7C5A26E70E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9° PREGUNTA Y RESPUESTA</a:t>
            </a:r>
            <a:endParaRPr b="0" lang="en-US" sz="3900" spc="-1" strike="noStrike">
              <a:solidFill>
                <a:srgbClr val="ffffff"/>
              </a:solidFill>
              <a:latin typeface="Arial"/>
            </a:endParaRPr>
          </a:p>
        </p:txBody>
      </p:sp>
      <p:sp>
        <p:nvSpPr>
          <p:cNvPr id="17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i los salarios abonados a los actores lo han sido conformes a las leyes laborales y convenios colectivos aplicables durante el período no prescripto de relación laboral (en caso de existir diferencias en perjuicio del actor, detalle las misma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 la revisión, por muestreo, no surgen diferencias con lo estatuido en las leyes laborales y convenios colectivos aplicables a los actore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14FD735-7DC6-45CF-8EE8-7157E4A2A6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10° PREGUNTA</a:t>
            </a:r>
            <a:endParaRPr b="0" lang="en-US" sz="3900" spc="-1" strike="noStrike">
              <a:solidFill>
                <a:srgbClr val="ffffff"/>
              </a:solidFill>
              <a:latin typeface="Arial"/>
            </a:endParaRPr>
          </a:p>
        </p:txBody>
      </p:sp>
      <p:sp>
        <p:nvSpPr>
          <p:cNvPr id="1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acticará el período de liquidación de todos los rubros reclamados en la demanda, contemplando el caso de que prosperara la misma. A tal efecto deberá ajustarse estrictamente a las constancias que surjan de libros de la demandada  prescindiendo de otros elementos, ya sea informes verbales o documentación no reconocida por la actora o resolución firme en el expedient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2E89387-A980-456C-B685-529A3B09CE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ACLARACIÓN</a:t>
            </a:r>
            <a:endParaRPr b="0" lang="en-US" sz="3900" spc="-1" strike="noStrike">
              <a:solidFill>
                <a:srgbClr val="ffffff"/>
              </a:solidFill>
              <a:latin typeface="Arial"/>
            </a:endParaRPr>
          </a:p>
        </p:txBody>
      </p:sp>
      <p:sp>
        <p:nvSpPr>
          <p:cNvPr id="18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Entiendo que en donde dice “ Practicará el </a:t>
            </a:r>
            <a:r>
              <a:rPr b="1" i="1" lang="es-MX" sz="2800" spc="-1" strike="noStrike">
                <a:solidFill>
                  <a:srgbClr val="ffffff"/>
                </a:solidFill>
                <a:latin typeface="Arial"/>
              </a:rPr>
              <a:t>período</a:t>
            </a:r>
            <a:r>
              <a:rPr b="0" i="1" lang="es-MX" sz="2800" spc="-1" strike="noStrike">
                <a:solidFill>
                  <a:srgbClr val="ffffff"/>
                </a:solidFill>
                <a:latin typeface="Arial"/>
              </a:rPr>
              <a:t> liquidación” significa “ Practicará el </a:t>
            </a:r>
            <a:r>
              <a:rPr b="1" i="1" lang="es-MX" sz="2800" spc="-1" strike="noStrike">
                <a:solidFill>
                  <a:srgbClr val="ffffff"/>
                </a:solidFill>
                <a:latin typeface="Arial"/>
              </a:rPr>
              <a:t>perito </a:t>
            </a:r>
            <a:r>
              <a:rPr b="0" i="1" lang="es-MX" sz="2800" spc="-1" strike="noStrike">
                <a:solidFill>
                  <a:srgbClr val="ffffff"/>
                </a:solidFill>
                <a:latin typeface="Arial"/>
              </a:rPr>
              <a:t>liquidación”, si mi interpretación es errónea, solicito me indiquen cual es la interpretación a darle a este punto del cuestionario.</a:t>
            </a:r>
            <a:r>
              <a:rPr b="0" lang="es-MX"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88BD8E-08ED-4149-A0FE-CA5427DEA3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456840"/>
            <a:ext cx="701028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RESPUESTA</a:t>
            </a:r>
            <a:endParaRPr b="0" lang="en-US" sz="3900" spc="-1" strike="noStrike">
              <a:solidFill>
                <a:srgbClr val="ffffff"/>
              </a:solidFill>
              <a:latin typeface="Arial"/>
            </a:endParaRPr>
          </a:p>
        </p:txBody>
      </p:sp>
      <p:sp>
        <p:nvSpPr>
          <p:cNvPr id="185" name="PlaceHolder 2"/>
          <p:cNvSpPr>
            <a:spLocks noGrp="1"/>
          </p:cNvSpPr>
          <p:nvPr>
            <p:ph/>
          </p:nvPr>
        </p:nvSpPr>
        <p:spPr>
          <a:xfrm>
            <a:off x="1676160" y="1413000"/>
            <a:ext cx="7010280" cy="468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la demanda se reclama diferencias en la liquidación final por errónea liquidación del tope del convenio colectivo de trabajo, el sueldo anual complementario sobre las indemnizaciones por antigüedad y preaviso, incluyendo en el cálculo los vales alimenticios entregados por la demandada.</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 los efectos de establecer la mejor remuneración habitual mensual, para el cálculo de las liquidaciones finales de los actores se consideran los importes percibidos en los últimos seis meses anteriores a la ruptura de la relación laboral, actualizados como lo pide la actora, los cuales se detallan en el adjunto VI.</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3D52E8A-AFE0-4DAE-BE5F-560E3D7FB2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CONT. RESPUESTA</a:t>
            </a:r>
            <a:endParaRPr b="0" lang="en-US" sz="3900" spc="-1" strike="noStrike">
              <a:solidFill>
                <a:srgbClr val="ffffff"/>
              </a:solidFill>
              <a:latin typeface="Arial"/>
            </a:endParaRPr>
          </a:p>
        </p:txBody>
      </p:sp>
      <p:sp>
        <p:nvSpPr>
          <p:cNvPr id="18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ara los códigos de horas extras, vacaciones, premios y gastos de movilidad he tomado el promedio de los últimos seis meses, para determinar la mejor remuneración mensual habitual, excluyendo previamente los no remuneratorios, el sueldo anual complementario y los conceptos pertenecientes a la liquidación final.</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on la metodología expuesta el mejor mes habitual de cada actor es; (INCLUIR CUADRO)</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3A314E4-40B2-4CB6-87B5-77813FEF08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457200"/>
            <a:ext cx="701028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CONT. RESPUESTA</a:t>
            </a:r>
            <a:endParaRPr b="0" lang="en-US" sz="3900" spc="-1" strike="noStrike">
              <a:solidFill>
                <a:srgbClr val="ffffff"/>
              </a:solidFill>
              <a:latin typeface="Arial"/>
            </a:endParaRPr>
          </a:p>
        </p:txBody>
      </p:sp>
      <p:sp>
        <p:nvSpPr>
          <p:cNvPr id="189" name="PlaceHolder 2"/>
          <p:cNvSpPr>
            <a:spLocks noGrp="1"/>
          </p:cNvSpPr>
          <p:nvPr>
            <p:ph/>
          </p:nvPr>
        </p:nvSpPr>
        <p:spPr>
          <a:xfrm>
            <a:off x="1676160" y="1268280"/>
            <a:ext cx="7010280" cy="482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l adjunto VII, página 1, se detallan las indemnizaciones por antigüedad correspondiente a cada uno de los actores, calculadas sobre los salarios mencionados más arriba (adjunto VI), con el detalle de la indemnización máxima, considerando los topes de $ 746,61, $ 931,02 y $ 1054,44 y sin tope, con y sin la inclusión del sueldo anual complementario.</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l mismo adjunto en la página 2 se encuentran los cálculos de la indemnización sustitutiva del preaviso y el sueldo anual complementario sobre el mismo.</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ara el cálculo del preaviso, se ha tomado los sueldos o remuneración horaria y la antigüedad, el promedio de horas extras, sin actualizar y las restantes remuneraciones variables de los últimos seis meses, siguiendo el espíritu del artículo 208 de la LCT, a valores actualizados. Estos cálculos se muestran en el adjunto VIII</a:t>
            </a:r>
            <a:r>
              <a:rPr b="0" lang="es-ES"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79CDB7-BD82-4B05-9D63-40802D5642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11° PREGUNTA</a:t>
            </a:r>
            <a:endParaRPr b="0" lang="en-US" sz="3900" spc="-1" strike="noStrike">
              <a:solidFill>
                <a:srgbClr val="ffffff"/>
              </a:solidFill>
              <a:latin typeface="Arial"/>
            </a:endParaRPr>
          </a:p>
        </p:txBody>
      </p:sp>
      <p:sp>
        <p:nvSpPr>
          <p:cNvPr id="19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De existir discrepancias entre las  constancias de libros y los hechos narrados en la demanda, practicará una liquidación especial de los rubros reclamados, de acuerdo a las pautas que surgen de la demanda.</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31E82D-7B0D-494A-BA0F-B975ACCF66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LA PRIMER PREGUNTA</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Informar si los libros o registros son llevados en legal forma?</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Informar si los libros o registros son llevados sujetos a derech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o …?</a:t>
            </a:r>
            <a:endParaRPr b="0" lang="en-US" sz="3600" spc="-1" strike="noStrike">
              <a:solidFill>
                <a:srgbClr val="ffffff"/>
              </a:solidFill>
              <a:latin typeface="Arial"/>
            </a:endParaRPr>
          </a:p>
        </p:txBody>
      </p:sp>
      <p:sp>
        <p:nvSpPr>
          <p:cNvPr id="4" name="PlaceHolder 3"/>
          <p:cNvSpPr>
            <a:spLocks noGrp="1"/>
          </p:cNvSpPr>
          <p:nvPr>
            <p:ph type="sldNum" idx="2"/>
          </p:nvPr>
        </p:nvSpPr>
        <p:spPr/>
        <p:txBody>
          <a:bodyPr/>
          <a:p>
            <a:fld id="{D69C4B75-9FAB-4EE9-AE1B-82C481ABD0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76160" y="456840"/>
            <a:ext cx="701028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RESPUESTA</a:t>
            </a:r>
            <a:endParaRPr b="0" lang="en-US" sz="3900" spc="-1" strike="noStrike">
              <a:solidFill>
                <a:srgbClr val="ffffff"/>
              </a:solidFill>
              <a:latin typeface="Arial"/>
            </a:endParaRPr>
          </a:p>
        </p:txBody>
      </p:sp>
      <p:sp>
        <p:nvSpPr>
          <p:cNvPr id="193" name="PlaceHolder 2"/>
          <p:cNvSpPr>
            <a:spLocks noGrp="1"/>
          </p:cNvSpPr>
          <p:nvPr>
            <p:ph/>
          </p:nvPr>
        </p:nvSpPr>
        <p:spPr>
          <a:xfrm>
            <a:off x="1676160" y="1341000"/>
            <a:ext cx="7010280" cy="4754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 acuerdo con las liquidaciones que figuran en la demanda las discrepancias existen en el importe de la indemnización por antigüedad y el sueldo anual complementario sobre la antigüedad. Las diferencias están dadas porque los actores consideran que el tope previsto por el artículo 245 de la LCT, independientemente del valor a aplicar como tope – también en discusión en la causa -, es aplicable como único valor, a los efectos del cálculo de la indemnización por antigüedad. Con relación al S.A.C. aplicado sobre la indemnización por antigüedad, tal como se menciona más arriba la demandada no lo liquidó. (INCLUIR CUADRO)</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46228AB-31F4-46AE-931A-D7DB87E507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CONT. RESPUESTA</a:t>
            </a:r>
            <a:endParaRPr b="0" lang="en-US" sz="3900" spc="-1" strike="noStrike">
              <a:solidFill>
                <a:srgbClr val="ffffff"/>
              </a:solidFill>
              <a:latin typeface="Arial"/>
            </a:endParaRPr>
          </a:p>
        </p:txBody>
      </p:sp>
      <p:sp>
        <p:nvSpPr>
          <p:cNvPr id="19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e realizan los cálculos ya que en los registros del artículo 52 y en los recibos de pago de las liquidaciones finales, figura la liquidación efectuada por la demandada, cuyos valores se encuentran detallados en el adjunto II y de las liquidaciones existentes en la demanda, surge el valor pretendido por la actora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3F9A82-F57F-4800-AA9E-1ECE7E4022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457200"/>
            <a:ext cx="701028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12° PREGUNTA-RESPUESTA</a:t>
            </a:r>
            <a:endParaRPr b="0" lang="en-US" sz="3900" spc="-1" strike="noStrike">
              <a:solidFill>
                <a:srgbClr val="ffffff"/>
              </a:solidFill>
              <a:latin typeface="Arial"/>
            </a:endParaRPr>
          </a:p>
        </p:txBody>
      </p:sp>
      <p:sp>
        <p:nvSpPr>
          <p:cNvPr id="197" name="PlaceHolder 2"/>
          <p:cNvSpPr>
            <a:spLocks noGrp="1"/>
          </p:cNvSpPr>
          <p:nvPr>
            <p:ph/>
          </p:nvPr>
        </p:nvSpPr>
        <p:spPr>
          <a:xfrm>
            <a:off x="1676160" y="1484280"/>
            <a:ext cx="7010280" cy="4611600"/>
          </a:xfrm>
          <a:prstGeom prst="rect">
            <a:avLst/>
          </a:prstGeom>
          <a:noFill/>
          <a:ln w="0">
            <a:noFill/>
          </a:ln>
        </p:spPr>
        <p:txBody>
          <a:bodyPr lIns="90000" rIns="90000" tIns="46800" bIns="46800" anchor="t">
            <a:normAutofit/>
          </a:bodyPr>
          <a:p>
            <a:pPr marL="609480" indent="-60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i fuera el caso de que la demandada no llevara sus libros o registros o los mismos fueran llevados sin observancias de las normas legales respectivas, el perito practicará liquidación de todos los rubros consignados en la demanda teniendo en cuenta a tal efecto los hechos narrados en la misma y las pautas de liquidación de las</a:t>
            </a:r>
            <a:r>
              <a:rPr b="0" lang="es-MX" sz="2400" spc="-1" strike="noStrike">
                <a:solidFill>
                  <a:srgbClr val="ffffff"/>
                </a:solidFill>
                <a:latin typeface="Arial"/>
              </a:rPr>
              <a:t> </a:t>
            </a:r>
            <a:r>
              <a:rPr b="1" lang="es-MX" sz="2400" spc="-1" strike="noStrike">
                <a:solidFill>
                  <a:srgbClr val="ffffff"/>
                </a:solidFill>
                <a:latin typeface="Arial"/>
              </a:rPr>
              <a:t>indemnizaciones que surgen de este ofrecimiento de prueba.</a:t>
            </a:r>
            <a:endParaRPr b="0" lang="en-US" sz="2400" spc="-1" strike="noStrike">
              <a:solidFill>
                <a:srgbClr val="ffffff"/>
              </a:solidFill>
              <a:latin typeface="Arial"/>
            </a:endParaRPr>
          </a:p>
          <a:p>
            <a:pPr marL="609480" indent="-60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demandada lleva sus registros laborales en concordancia con las disposiciones legales vigentes, por lo tanto, esta pregunta no debe contestar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9F0C5E0-1510-4494-AF49-AAA47E028E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160" y="456840"/>
            <a:ext cx="701028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13° PREGUNTA</a:t>
            </a:r>
            <a:endParaRPr b="0" lang="en-US" sz="3900" spc="-1" strike="noStrike">
              <a:solidFill>
                <a:srgbClr val="ffffff"/>
              </a:solidFill>
              <a:latin typeface="Arial"/>
            </a:endParaRPr>
          </a:p>
        </p:txBody>
      </p:sp>
      <p:sp>
        <p:nvSpPr>
          <p:cNvPr id="199" name="PlaceHolder 2"/>
          <p:cNvSpPr>
            <a:spLocks noGrp="1"/>
          </p:cNvSpPr>
          <p:nvPr>
            <p:ph/>
          </p:nvPr>
        </p:nvSpPr>
        <p:spPr>
          <a:xfrm>
            <a:off x="1676160" y="1413000"/>
            <a:ext cx="7010280" cy="46828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ara el caso que la demandada desconociera los recibos duplicados que se acompañan, y se desconociere que hubiere abonado las cifras que en </a:t>
            </a:r>
            <a:r>
              <a:rPr b="1" lang="es-MX" sz="3600" spc="-1" strike="noStrike">
                <a:solidFill>
                  <a:srgbClr val="ffffff"/>
                </a:solidFill>
                <a:latin typeface="Arial"/>
              </a:rPr>
              <a:t>concepto</a:t>
            </a:r>
            <a:r>
              <a:rPr b="1" lang="es-MX" sz="2400" spc="-1" strike="noStrike">
                <a:solidFill>
                  <a:srgbClr val="ffffff"/>
                </a:solidFill>
                <a:latin typeface="Arial"/>
              </a:rPr>
              <a:t> de indemnización y preaviso denunció en esta demanda, ofrezco la siguiente prueba que hace al derecho invocado por mi parte, a fin de que se informe si la demandada abonó a los actores  las indemnizaciones por antigüedad y preaviso, en caso afirmativo, informará detalladamente el monto de cada una de ellas atribuibles a cada uno de los mismo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5DE1BF7-A2C7-44C1-9CA8-7CE75C5E29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676160" y="457200"/>
            <a:ext cx="701028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RESPUESTA</a:t>
            </a:r>
            <a:endParaRPr b="0" lang="en-US" sz="3900" spc="-1" strike="noStrike">
              <a:solidFill>
                <a:srgbClr val="ffffff"/>
              </a:solidFill>
              <a:latin typeface="Arial"/>
            </a:endParaRPr>
          </a:p>
        </p:txBody>
      </p:sp>
      <p:sp>
        <p:nvSpPr>
          <p:cNvPr id="201" name="PlaceHolder 2"/>
          <p:cNvSpPr>
            <a:spLocks noGrp="1"/>
          </p:cNvSpPr>
          <p:nvPr>
            <p:ph/>
          </p:nvPr>
        </p:nvSpPr>
        <p:spPr>
          <a:xfrm>
            <a:off x="1676160" y="1413000"/>
            <a:ext cx="7010280" cy="468288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ado que no fueron desconocidos los recibos duplicados que se acompañaron a la demanda no corresponde contestar a esta pregunta.</a:t>
            </a:r>
            <a:endParaRPr b="0" lang="en-US" sz="28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pesar de ello, en la respuesta al punto 6 de este mismo cuestionario se indican los valores abonados correspondientes a la ruptura laboral de los actores, incluidos en la liquidación de salarios del mes de egreso</a:t>
            </a:r>
            <a:r>
              <a:rPr b="0" lang="es-MX" sz="2400" spc="-1" strike="noStrike">
                <a:solidFill>
                  <a:srgbClr val="ffffff"/>
                </a:solidFill>
                <a:latin typeface="Arial"/>
              </a:rPr>
              <a: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70A33E1-9297-47FC-8D8D-B222806EB9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676160" y="456840"/>
            <a:ext cx="701028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14° PREGUNTA</a:t>
            </a:r>
            <a:endParaRPr b="0" lang="en-US" sz="3900" spc="-1" strike="noStrike">
              <a:solidFill>
                <a:srgbClr val="ffffff"/>
              </a:solidFill>
              <a:latin typeface="Arial"/>
            </a:endParaRPr>
          </a:p>
        </p:txBody>
      </p:sp>
      <p:sp>
        <p:nvSpPr>
          <p:cNvPr id="203" name="PlaceHolder 2"/>
          <p:cNvSpPr>
            <a:spLocks noGrp="1"/>
          </p:cNvSpPr>
          <p:nvPr>
            <p:ph/>
          </p:nvPr>
        </p:nvSpPr>
        <p:spPr>
          <a:xfrm>
            <a:off x="1547280" y="1413000"/>
            <a:ext cx="7417080" cy="468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Informará el experto si la demandada abonó el rubro sueldo anual complementario sobre la indemnización de antigüedad y preaviso abonadas. Si a los efectos de abonar el monto de preaviso se tuvo en cuenta el salario promedio de los últimos seis meses, teniendo en cuenta a fin de determinar dicho rubro el porcentaje aguinaldo. , horas extras, premios por presentismo y antigüedad. Determine monto del preaviso teniendo en cuenta  los rubros mencionados anteriormente</a:t>
            </a:r>
            <a:r>
              <a:rPr b="0" lang="es-E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57A4CD-2A18-430A-AD97-B077C9B9D2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676160" y="456840"/>
            <a:ext cx="701028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RESPUESTA</a:t>
            </a:r>
            <a:endParaRPr b="0" lang="en-US" sz="3900" spc="-1" strike="noStrike">
              <a:solidFill>
                <a:srgbClr val="ffffff"/>
              </a:solidFill>
              <a:latin typeface="Arial"/>
            </a:endParaRPr>
          </a:p>
        </p:txBody>
      </p:sp>
      <p:sp>
        <p:nvSpPr>
          <p:cNvPr id="205" name="PlaceHolder 2"/>
          <p:cNvSpPr>
            <a:spLocks noGrp="1"/>
          </p:cNvSpPr>
          <p:nvPr>
            <p:ph/>
          </p:nvPr>
        </p:nvSpPr>
        <p:spPr>
          <a:xfrm>
            <a:off x="1676160" y="1413000"/>
            <a:ext cx="701028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demandada ha liquidado el sueldo anual complementario sobre integración del mes de despido, falta de preaviso y sobre vacaciones no gozadas, no así sobre la indemnización por antigüedad.</a:t>
            </a:r>
            <a:endParaRPr b="0" lang="en-US" sz="24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ara el cálculo del preaviso, la actora, no ha tenido en cuenta los salarios promedios de los últimos seis meses, ni el aguinaldo, horas extras, premios por presentismo y antigüedad. En el nuevo cálculo se excluye el promedio de aguinaldo para evitar considerar aguinaldo sobre aguinaldo cuando se lo calcula sobre el preaviso</a:t>
            </a:r>
            <a:r>
              <a:rPr b="0" lang="es-MX"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C21C6E-6326-4EFF-849B-B4A28C39A9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76160" y="456840"/>
            <a:ext cx="701028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CONT. RESPUESTA</a:t>
            </a:r>
            <a:endParaRPr b="0" lang="en-US" sz="3900" spc="-1" strike="noStrike">
              <a:solidFill>
                <a:srgbClr val="ffffff"/>
              </a:solidFill>
              <a:latin typeface="Arial"/>
            </a:endParaRPr>
          </a:p>
        </p:txBody>
      </p:sp>
      <p:sp>
        <p:nvSpPr>
          <p:cNvPr id="207" name="PlaceHolder 2"/>
          <p:cNvSpPr>
            <a:spLocks noGrp="1"/>
          </p:cNvSpPr>
          <p:nvPr>
            <p:ph/>
          </p:nvPr>
        </p:nvSpPr>
        <p:spPr>
          <a:xfrm>
            <a:off x="1676160" y="1413000"/>
            <a:ext cx="7010280" cy="468288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s indemnizaciones sustitutivas del preaviso abonadas por la empresa se encuentran detalladas en el adjunto II, bajo el código 270 y el sueldo anual complementario, sobre la misma en el código 282. Las calculadas a promedio se encuentran detalladas en el adjunto IX, en el cual no se ha incluido el aguinaldo, que se agrega al valor resultante, para evitar calcular aguinaldo sobre aguinaldo.</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onto del preaviso sin incluir el SAC sobre el mismo (Adjunto IX)</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EF1878A-FE30-4CE5-B99E-66D624C070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456840"/>
            <a:ext cx="701028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15° PREGUNTA-RESPUESTA</a:t>
            </a:r>
            <a:endParaRPr b="0" lang="en-US" sz="3900" spc="-1" strike="noStrike">
              <a:solidFill>
                <a:srgbClr val="ffffff"/>
              </a:solidFill>
              <a:latin typeface="Arial"/>
            </a:endParaRPr>
          </a:p>
        </p:txBody>
      </p:sp>
      <p:sp>
        <p:nvSpPr>
          <p:cNvPr id="209" name="PlaceHolder 2"/>
          <p:cNvSpPr>
            <a:spLocks noGrp="1"/>
          </p:cNvSpPr>
          <p:nvPr>
            <p:ph/>
          </p:nvPr>
        </p:nvSpPr>
        <p:spPr>
          <a:xfrm>
            <a:off x="1547280" y="1341360"/>
            <a:ext cx="7347240" cy="51120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actique liquidación de lo reclamado en la demanda contemplando el caso de que la misma prosperara en todos sus términos siguiendo las pautas establecidas en el punto liquidación.</a:t>
            </a:r>
            <a:endParaRPr b="0" lang="en-US" sz="2400" spc="-1" strike="noStrike">
              <a:solidFill>
                <a:srgbClr val="ffffff"/>
              </a:solidFill>
              <a:latin typeface="Arial"/>
            </a:endParaRPr>
          </a:p>
          <a:p>
            <a:pPr marL="603360" indent="-60336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el rubro liquidación de la demanda figura los conceptos abonados por la demandada, incluidos en el adjunto II de este informe y los reclamados por la actora, discrepando solamente en lo liquidado por indemnización por antigüedad  y el sueldo anual complementario sobre el mismo que la empresa no lo ha liquidado, - ver diferencias en la respuesta al punto 11 del cuestionario de la actora -. No figura en el rubro liquidación de la demanda pauta alguna, por lo tanto, no puede efectuarse el cálculo solicitado por la actora</a:t>
            </a:r>
            <a:r>
              <a:rPr b="0" lang="es-MX"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FAF21F-A481-4493-B25A-E6C32B2F39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16° PREGUNTA - RESPUESTA</a:t>
            </a:r>
            <a:endParaRPr b="0" lang="en-US" sz="3900" spc="-1" strike="noStrike">
              <a:solidFill>
                <a:srgbClr val="ffffff"/>
              </a:solidFill>
              <a:latin typeface="Arial"/>
            </a:endParaRPr>
          </a:p>
        </p:txBody>
      </p:sp>
      <p:sp>
        <p:nvSpPr>
          <p:cNvPr id="21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actique liquidación según convenio colectivo de Trabajo N° 89/90 para la actividad alimentación c/ LA EMPRESA S.A., teniendo en cuenta la fecha de producirse el distracto laboral y las distintas modificaciones de dicho tope.</a:t>
            </a:r>
            <a:endParaRPr b="0" lang="en-US" sz="2400" spc="-1" strike="noStrike">
              <a:solidFill>
                <a:srgbClr val="ffffff"/>
              </a:solidFill>
              <a:latin typeface="Arial"/>
            </a:endParaRPr>
          </a:p>
          <a:p>
            <a:pPr marL="603360" indent="-60336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el adjunto VII se detallan los importes correspondientes a las indemnizaciones por antigüedad y su sueldo anual complementario, calculados según los diferentes valores de los distintos topes establecidos de los convenios en discusión.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6439D6D-9BD0-4041-A290-18024F68A9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SUJETO A DERECHO</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El dictamen debe versar sobre:</a:t>
            </a:r>
            <a:endParaRPr b="0" lang="en-US" sz="4000" spc="-1" strike="noStrike">
              <a:solidFill>
                <a:srgbClr val="ffffff"/>
              </a:solidFill>
              <a:latin typeface="Arial"/>
            </a:endParaRPr>
          </a:p>
          <a:p>
            <a:pPr marL="609480" indent="-609480">
              <a:spcBef>
                <a:spcPts val="10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Con los aspectos de fondo y</a:t>
            </a:r>
            <a:endParaRPr b="0" lang="en-US" sz="4000" spc="-1" strike="noStrike">
              <a:solidFill>
                <a:srgbClr val="ffffff"/>
              </a:solidFill>
              <a:latin typeface="Arial"/>
            </a:endParaRPr>
          </a:p>
          <a:p>
            <a:pPr marL="609480" indent="-609480">
              <a:spcBef>
                <a:spcPts val="10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Con los aspectos formales</a:t>
            </a:r>
            <a:endParaRPr b="0" lang="en-US" sz="4000" spc="-1" strike="noStrike">
              <a:solidFill>
                <a:srgbClr val="ffffff"/>
              </a:solidFill>
              <a:latin typeface="Arial"/>
            </a:endParaRPr>
          </a:p>
        </p:txBody>
      </p:sp>
      <p:sp>
        <p:nvSpPr>
          <p:cNvPr id="4" name="PlaceHolder 3"/>
          <p:cNvSpPr>
            <a:spLocks noGrp="1"/>
          </p:cNvSpPr>
          <p:nvPr>
            <p:ph type="sldNum" idx="2"/>
          </p:nvPr>
        </p:nvSpPr>
        <p:spPr/>
        <p:txBody>
          <a:bodyPr/>
          <a:p>
            <a:fld id="{2BEC4060-00A4-4F65-9EE7-3827877FD5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17° PREGUNTA - RESPUESTA</a:t>
            </a:r>
            <a:endParaRPr b="0" lang="en-US" sz="3900" spc="-1" strike="noStrike">
              <a:solidFill>
                <a:srgbClr val="ffffff"/>
              </a:solidFill>
              <a:latin typeface="Arial"/>
            </a:endParaRPr>
          </a:p>
        </p:txBody>
      </p:sp>
      <p:sp>
        <p:nvSpPr>
          <p:cNvPr id="21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actique el perito contador liquidación correcta de lo adeudado a los actores, conforme el C.C.T. 89/90 “Alimentación c/ La Empresa S. A.”, vigente al 1/10/94, cuyo tope indemnizatorio es de $ 1.054,44.</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l como se indica en la respuesta al punto anterior, en el adjunto VII se detallan los importes correspondientes a la indemnización por antigüedad y su sueldo anual complementario, según los diferentes valores según el convenio que se aplique y sobre la base de las pautas establecidas en la demand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1CE3BEA-1DF9-4B05-B40A-71C8FE1EF5DC}"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LEGAL FORMA</a:t>
            </a:r>
            <a:endParaRPr b="0" lang="en-US" sz="3900" spc="-1" strike="noStrike">
              <a:solidFill>
                <a:srgbClr val="ffffff"/>
              </a:solidFill>
              <a:latin typeface="Arial"/>
            </a:endParaRPr>
          </a:p>
        </p:txBody>
      </p:sp>
      <p:sp>
        <p:nvSpPr>
          <p:cNvPr id="1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Sólo debemos dictaminar si se cumplen los aspectos formales</a:t>
            </a:r>
            <a:endParaRPr b="0" lang="en-US" sz="4000" spc="-1" strike="noStrike">
              <a:solidFill>
                <a:srgbClr val="ffffff"/>
              </a:solidFill>
              <a:latin typeface="Arial"/>
            </a:endParaRPr>
          </a:p>
        </p:txBody>
      </p:sp>
      <p:sp>
        <p:nvSpPr>
          <p:cNvPr id="4" name="PlaceHolder 3"/>
          <p:cNvSpPr>
            <a:spLocks noGrp="1"/>
          </p:cNvSpPr>
          <p:nvPr>
            <p:ph type="sldNum" idx="2"/>
          </p:nvPr>
        </p:nvSpPr>
        <p:spPr/>
        <p:txBody>
          <a:bodyPr/>
          <a:p>
            <a:fld id="{21806C1A-DCCA-4F09-A3AE-C45518D770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6840"/>
            <a:ext cx="701028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Arial"/>
              </a:rPr>
              <a:t>ART. 43 COD. COM.</a:t>
            </a:r>
            <a:endParaRPr b="0" lang="en-US" sz="3900" spc="-1" strike="noStrike">
              <a:solidFill>
                <a:srgbClr val="ffffff"/>
              </a:solidFill>
              <a:latin typeface="Arial"/>
            </a:endParaRPr>
          </a:p>
        </p:txBody>
      </p:sp>
      <p:sp>
        <p:nvSpPr>
          <p:cNvPr id="127" name="PlaceHolder 2"/>
          <p:cNvSpPr>
            <a:spLocks noGrp="1"/>
          </p:cNvSpPr>
          <p:nvPr>
            <p:ph/>
          </p:nvPr>
        </p:nvSpPr>
        <p:spPr>
          <a:xfrm>
            <a:off x="1676160" y="1484280"/>
            <a:ext cx="7010280" cy="4611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odo comerciante está obligado</a:t>
            </a:r>
            <a:r>
              <a:rPr b="0" lang="en-US" sz="2800" spc="-1" strike="noStrike">
                <a:solidFill>
                  <a:srgbClr val="ffffff"/>
                </a:solidFill>
                <a:latin typeface="Arial"/>
              </a:rPr>
              <a:t> a </a:t>
            </a:r>
            <a:r>
              <a:rPr b="0" lang="en-US" sz="2800" spc="-1" strike="noStrike">
                <a:solidFill>
                  <a:srgbClr val="ffffff"/>
                </a:solidFill>
                <a:latin typeface="Arial"/>
              </a:rPr>
              <a:t>llevar cuenta y razón de sus operaciones</a:t>
            </a:r>
            <a:r>
              <a:rPr b="0" lang="en-US" sz="2800" spc="-1" strike="noStrike">
                <a:solidFill>
                  <a:srgbClr val="ffffff"/>
                </a:solidFill>
                <a:latin typeface="Arial"/>
              </a:rPr>
              <a:t> y a </a:t>
            </a:r>
            <a:r>
              <a:rPr b="0" lang="en-US" sz="2800" spc="-1" strike="noStrike" u="sng">
                <a:solidFill>
                  <a:srgbClr val="ffcc00"/>
                </a:solidFill>
                <a:uFillTx/>
                <a:latin typeface="Arial"/>
              </a:rPr>
              <a:t>tener una contabilidad mercantil organizada</a:t>
            </a:r>
            <a:r>
              <a:rPr b="0" lang="en-US" sz="2800" spc="-1" strike="noStrike">
                <a:solidFill>
                  <a:srgbClr val="ffffff"/>
                </a:solidFill>
                <a:latin typeface="Arial"/>
              </a:rPr>
              <a:t> </a:t>
            </a:r>
            <a:r>
              <a:rPr b="0" lang="en-US" sz="2800" spc="-1" strike="noStrike">
                <a:solidFill>
                  <a:srgbClr val="ffffff"/>
                </a:solidFill>
                <a:latin typeface="Arial"/>
              </a:rPr>
              <a:t>sobre una base contable uniforme y de la que resulte un cuadro verídico de sus negocios y una justificación clara de todos y cada uno de los actos susceptibles de registración contable</a:t>
            </a:r>
            <a:r>
              <a:rPr b="0" lang="en-US" sz="2800" spc="-1" strike="noStrike">
                <a:solidFill>
                  <a:srgbClr val="ffcc00"/>
                </a:solidFill>
                <a:latin typeface="Arial"/>
              </a:rPr>
              <a:t>.</a:t>
            </a:r>
            <a:r>
              <a:rPr b="0" lang="en-US" sz="2800" spc="-1" strike="noStrike">
                <a:solidFill>
                  <a:srgbClr val="ffffff"/>
                </a:solidFill>
                <a:latin typeface="Arial"/>
              </a:rPr>
              <a:t> </a:t>
            </a:r>
            <a:r>
              <a:rPr b="0" lang="en-US" sz="2800" spc="-1" strike="noStrike">
                <a:solidFill>
                  <a:srgbClr val="ffcc00"/>
                </a:solidFill>
                <a:latin typeface="Arial"/>
              </a:rPr>
              <a:t>Las constancias contables deben complementarse con la documentación respectiva</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EF0A25-D413-44B1-9244-204201B750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63640" y="476280"/>
            <a:ext cx="70106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Arial"/>
              </a:rPr>
              <a:t>ART. 44 COD. COM. – 2° PARTE</a:t>
            </a:r>
            <a:endParaRPr b="0" lang="en-US" sz="35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n perjuicio de ello el comerciante deberá llevar,</a:t>
            </a:r>
            <a:r>
              <a:rPr b="0" lang="en-US" sz="2400" spc="-1" strike="noStrike">
                <a:solidFill>
                  <a:srgbClr val="ffffff"/>
                </a:solidFill>
                <a:latin typeface="Arial"/>
              </a:rPr>
              <a:t> </a:t>
            </a:r>
            <a:r>
              <a:rPr b="0" lang="en-US" sz="2400" spc="-1" strike="noStrike" u="sng">
                <a:solidFill>
                  <a:srgbClr val="ffffff"/>
                </a:solidFill>
                <a:uFillTx/>
                <a:latin typeface="Arial"/>
              </a:rPr>
              <a:t>los libros registrados y la documentación contable que correspondan a una adecuada integración de un sistema de contabilidad y que le exijan la importancia y la naturaleza de sus actividades</a:t>
            </a:r>
            <a:r>
              <a:rPr b="0" lang="en-US" sz="2400" spc="-1" strike="noStrike">
                <a:solidFill>
                  <a:srgbClr val="ffffff"/>
                </a:solidFill>
                <a:latin typeface="Arial"/>
              </a:rPr>
              <a:t> </a:t>
            </a:r>
            <a:r>
              <a:rPr b="0" lang="en-US" sz="2400" spc="-1" strike="noStrike">
                <a:solidFill>
                  <a:srgbClr val="ffcc00"/>
                </a:solidFill>
                <a:latin typeface="Arial"/>
              </a:rPr>
              <a:t>de modo que de la contabilidad y documentación resulten con claridad los actos de su gestión y su situación patrimonial</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0C54BD6-CCA7-49A0-8CBB-3BE542D6AB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6840"/>
            <a:ext cx="7010280" cy="491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ffffff"/>
                </a:solidFill>
                <a:latin typeface="Arial"/>
              </a:rPr>
              <a:t>EJEMPLO </a:t>
            </a:r>
            <a:br>
              <a:rPr sz="4800"/>
            </a:br>
            <a:r>
              <a:rPr b="0" lang="es-AR" sz="4800" spc="-1" strike="noStrike">
                <a:solidFill>
                  <a:srgbClr val="ffffff"/>
                </a:solidFill>
                <a:latin typeface="Arial"/>
              </a:rPr>
              <a:t>PRÁCTICO</a:t>
            </a:r>
            <a:br>
              <a:rPr sz="4800"/>
            </a:br>
            <a:r>
              <a:rPr b="0" lang="es-AR" sz="3900" spc="-1" strike="noStrike">
                <a:solidFill>
                  <a:srgbClr val="ffffff"/>
                </a:solidFill>
                <a:latin typeface="Arial"/>
              </a:rPr>
              <a:t> </a:t>
            </a:r>
            <a:endParaRPr b="0" lang="en-US" sz="3900" spc="-1" strike="noStrike">
              <a:solidFill>
                <a:srgbClr val="ffffff"/>
              </a:solidFill>
              <a:latin typeface="Arial"/>
            </a:endParaRPr>
          </a:p>
        </p:txBody>
      </p:sp>
      <p:sp>
        <p:nvSpPr>
          <p:cNvPr id="131" name="PlaceHolder 2"/>
          <p:cNvSpPr>
            <a:spLocks noGrp="1"/>
          </p:cNvSpPr>
          <p:nvPr>
            <p:ph/>
          </p:nvPr>
        </p:nvSpPr>
        <p:spPr>
          <a:xfrm>
            <a:off x="2842920" y="6165360"/>
            <a:ext cx="2160360" cy="87480"/>
          </a:xfrm>
          <a:prstGeom prst="rect">
            <a:avLst/>
          </a:prstGeom>
          <a:noFill/>
          <a:ln w="0">
            <a:noFill/>
          </a:ln>
        </p:spPr>
        <p:txBody>
          <a:bodyPr lIns="90000" rIns="9000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 name="PlaceHolder 3"/>
          <p:cNvSpPr>
            <a:spLocks noGrp="1"/>
          </p:cNvSpPr>
          <p:nvPr>
            <p:ph type="sldNum" idx="2"/>
          </p:nvPr>
        </p:nvSpPr>
        <p:spPr/>
        <p:txBody>
          <a:bodyPr/>
          <a:p>
            <a:fld id="{EC71B8D2-257C-46F2-926E-8B22E88D2A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4T14:55:18Z</dcterms:created>
  <dc:creator>Usuario</dc:creator>
  <dc:description/>
  <dc:language>en-US</dc:language>
  <cp:lastModifiedBy>Usuario</cp:lastModifiedBy>
  <dcterms:modified xsi:type="dcterms:W3CDTF">2011-06-09T21:19:14Z</dcterms:modified>
  <cp:revision>14</cp:revision>
  <dc:subject/>
  <dc:title>PERICIAS LABORALES</dc:title>
</cp:coreProperties>
</file>