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4D37B-F093-446E-B69E-0C0881DE7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0F0BD-9556-43C2-B078-E88B73AC0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2BB17-DE10-4BB1-B9CD-FA325A44C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CBAEB-D36B-494C-B5E0-310711E98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CBF27-FD0B-4111-8D42-0B7AFFEF9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AF4A5-3CFD-44F9-9A0A-E6553A8ED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F8B8F-77CE-487B-957C-55989297E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DB5C2-67B4-4B64-BF2E-B11CE2183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E618B-72D7-4BC9-B6AF-73109CC07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3FFA2-FEC6-4816-BA78-E7DCB7EB1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F126B-106A-4A94-B57D-4C36EA200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4B2F3-EFD0-4065-BEA4-4204B296F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5B8B-42CE-4F49-BE43-D593BAF6DD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RO ESPECIAL DEL ART.52 LEY 20744</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ÚBRIC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Lugares de rúbrica en Capital Feder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ede central de la Oficina de Rúbrica de Documentación Laboral de la Dirección General de Protección del Trabajo (DGPDT) en Lima 221. El trámite lo realiza el titular o un tercero con autorizació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Delegación del CPCECABA. El trámite lo realiza solamente el profesional con matríc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421DD9B-0AF0-46D8-AA46-38DC2379B5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SITOS PARA LA RÚBRICA</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Arial"/>
              </a:rPr>
              <a:t>Libro man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Se presenta en ventanilla el libro a rubricar con la carátula completa y la documentación pertinente, cuyo detalle se baja de la página del GCBA, según se trate de primer libro, libro continuación de otro rubricado por el Mº de T. o de otro rubricado en el GCBA, pasar de hojas móviles a libro manual, etc. et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20B25E2-5BF7-4D84-9976-B50C0EAC33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SITOS PARA LA RÚBRICA</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Hojas móviles</a:t>
            </a:r>
            <a:r>
              <a:rPr b="0" lang="es-AR"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Se presentan en ventanilla las hojas </a:t>
            </a:r>
            <a:r>
              <a:rPr b="1" i="1" lang="es-AR" sz="2400" spc="-1" strike="noStrike">
                <a:solidFill>
                  <a:srgbClr val="000000"/>
                </a:solidFill>
                <a:latin typeface="Arial"/>
              </a:rPr>
              <a:t>en blanco </a:t>
            </a:r>
            <a:r>
              <a:rPr b="0" i="1" lang="es-AR" sz="2400" spc="-1" strike="noStrike">
                <a:solidFill>
                  <a:srgbClr val="000000"/>
                </a:solidFill>
                <a:latin typeface="Arial"/>
              </a:rPr>
              <a:t>(o sea antes de su uso) </a:t>
            </a:r>
            <a:r>
              <a:rPr b="0" lang="es-AR" sz="2400" spc="-1" strike="noStrike">
                <a:solidFill>
                  <a:srgbClr val="000000"/>
                </a:solidFill>
                <a:latin typeface="Arial"/>
              </a:rPr>
              <a:t>preimpresas con el membrete de la empresa (razón social, domicilio, CUIT y actividad); la ley y artículo por el cual se rubrica (L.20744 art.52, L.22248 art.122 y 123, etc.) y la numeración correlativa desde el folio 1 en adelante y y la documentación perti-nente, cuyo detalle se baja de la página del GCB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Se rubrican hasta 500 hojas (si se requiere rubricar más de esa cantidad hay que presentar nota firmada por el titular de la empresa expresando las razones que justifiquen la cantidad solicitada). La rúbrica se realiza mediante la perforación de las misma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556DB4-1736-4B7E-9BF7-FB313D1A2B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SITOS PARA LA RÚBRICA</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Arial"/>
              </a:rPr>
              <a:t>Fichas microfilmad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Primero se debe obtener la autorización para microfilmar, luego se presentan en ventanilla las microfichas dentro del mes siguiente al mes que se rubrica en forma mensual respecto al personal mensualiza-do y al cierre de cada quincena para el caso del personal jornalizad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2590C84-B6E9-415E-91D8-5434852F9C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SITOS PARA LA RÚBRICA</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le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 presentan en ventanilla las etiquetas autoadhesivas autorizadas por la Res.490 del MTYSS completadas en todos sus campos acompañadas por el resto de la documentación requerida, entre la que figura el informe de “Almacenamiento” con firma de contador externo legalizada por el CPCECAB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84F1CA-B669-4A2E-A2A2-1F40743CBF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RAVÍO DEL LIBRO DE SUELDOS</a:t>
            </a:r>
            <a:endParaRPr b="0" lang="en-US" sz="4000" spc="-1" strike="noStrike">
              <a:solidFill>
                <a:srgbClr val="000000"/>
              </a:solidFill>
              <a:latin typeface="Arial"/>
            </a:endParaRPr>
          </a:p>
        </p:txBody>
      </p:sp>
      <p:sp>
        <p:nvSpPr>
          <p:cNvPr id="70"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2800" spc="-1" strike="noStrike">
                <a:solidFill>
                  <a:srgbClr val="000000"/>
                </a:solidFill>
                <a:latin typeface="Arial"/>
              </a:rPr>
              <a:t>En caso de que el libro de sueldos, en cualquie-ra de sus formatos, se haya extraviado, haya resultado destruido en un siniestro, o se haya perdido es muy importante que el empleador proceda a realizar la denuncia policial y la presentación ante la DGPDT para deslindar su responsabilida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Para ello deberá presentar a la DGDPT los siguientes elementos:</a:t>
            </a:r>
            <a:r>
              <a:rPr b="0" lang="es-AR"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BB731C-A228-419A-ABA5-E995AA4AEE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620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mentos a presentar</a:t>
            </a:r>
            <a:endParaRPr b="0" lang="en-US" sz="4000" spc="-1" strike="noStrike">
              <a:solidFill>
                <a:srgbClr val="000000"/>
              </a:solidFill>
              <a:latin typeface="Arial"/>
            </a:endParaRPr>
          </a:p>
        </p:txBody>
      </p:sp>
      <p:sp>
        <p:nvSpPr>
          <p:cNvPr id="72" name="PlaceHolder 2"/>
          <p:cNvSpPr>
            <a:spLocks noGrp="1"/>
          </p:cNvSpPr>
          <p:nvPr>
            <p:ph/>
          </p:nvPr>
        </p:nvSpPr>
        <p:spPr>
          <a:xfrm>
            <a:off x="611280" y="1413000"/>
            <a:ext cx="8229600" cy="51451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Nota del empleador informando el extravío, con firma cer-tificada por Escribano Público, P. Judicial, Policía o Banco.</a:t>
            </a:r>
            <a:endParaRPr b="0" lang="en-US" sz="2300" spc="-1" strike="noStrike">
              <a:solidFill>
                <a:srgbClr val="000000"/>
              </a:solidFill>
              <a:latin typeface="Arial"/>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Denuncia policial.</a:t>
            </a:r>
            <a:endParaRPr b="0" lang="en-US" sz="2300" spc="-1" strike="noStrike">
              <a:solidFill>
                <a:srgbClr val="000000"/>
              </a:solidFill>
              <a:latin typeface="Arial"/>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Un listado con la nómina de todo el personal incluido en el libro extraviado con nombre y apellido, CUIL, fecha de ingreso, firma del empleado (en caso de egreso reempla-zar la firma por esa fecha). Este listado debe ser firmado por un contador público y la firma certificada por el CPCECABA.</a:t>
            </a:r>
            <a:endParaRPr b="0" lang="en-US" sz="2300" spc="-1" strike="noStrike">
              <a:solidFill>
                <a:srgbClr val="000000"/>
              </a:solidFill>
              <a:latin typeface="Arial"/>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Fotocopia de los 6 últimos Form.931 presentados ante la Afip con acuse de recibo.</a:t>
            </a:r>
            <a:endParaRPr b="0" lang="en-US" sz="2300" spc="-1" strike="noStrike">
              <a:solidFill>
                <a:srgbClr val="000000"/>
              </a:solidFill>
              <a:latin typeface="Arial"/>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Tomo y datos del libro extraviado.</a:t>
            </a:r>
            <a:endParaRPr b="0" lang="en-US" sz="2300" spc="-1" strike="noStrike">
              <a:solidFill>
                <a:srgbClr val="000000"/>
              </a:solidFill>
              <a:latin typeface="Arial"/>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Fotocopia del formulario del rúbrica del libro anterior al extraviado.</a:t>
            </a:r>
            <a:endParaRPr b="0" lang="en-US" sz="2300" spc="-1" strike="noStrike">
              <a:solidFill>
                <a:srgbClr val="000000"/>
              </a:solidFill>
              <a:latin typeface="Arial"/>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Arial"/>
              </a:rPr>
              <a:t>Contrato o estatuto social si se tratase de una sociedad.</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A22285E4-21B3-420A-84E7-29C289B3F0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CACIÓN DE DATO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Sin que ello implique una nueva rúbrica deberá solicitarse la modificación para actualizar cualquier cambio en los siguientes datos:</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ambio de razón socia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ambio de domicilio</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ambio de actividad</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ambio de modelo de registració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46DE67-2DD7-4EE3-8F59-6E651CCD42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mentos a presentar en la modificación de datos</a:t>
            </a:r>
            <a:endParaRPr b="0" lang="en-US" sz="4000" spc="-1" strike="noStrike">
              <a:solidFill>
                <a:srgbClr val="000000"/>
              </a:solidFill>
              <a:latin typeface="Arial"/>
            </a:endParaRPr>
          </a:p>
        </p:txBody>
      </p:sp>
      <p:sp>
        <p:nvSpPr>
          <p:cNvPr id="76"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Para el cambio de razón social, domicilio o actividad:</a:t>
            </a:r>
            <a:endParaRPr b="0" lang="en-US" sz="32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Nota con firma certificad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Constancia de inscripción en la Afi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Copia del Estatuto, Libro de actas, etc.    </a:t>
            </a:r>
            <a:r>
              <a:rPr b="0" lang="es-AR" sz="2800" spc="-1" strike="noStrike">
                <a:solidFill>
                  <a:srgbClr val="000000"/>
                </a:solidFill>
                <a:latin typeface="Arial"/>
              </a:rPr>
              <a:t>	</a:t>
            </a:r>
            <a:r>
              <a:rPr b="0" lang="es-AR" sz="2800" spc="-1" strike="noStrike">
                <a:solidFill>
                  <a:srgbClr val="000000"/>
                </a:solidFill>
                <a:latin typeface="Arial"/>
              </a:rPr>
              <a:t>donde se acredite el cambi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Constancia de rúbrica, original y copia, y </a:t>
            </a:r>
            <a:r>
              <a:rPr b="0" lang="es-AR" sz="2800" spc="-1" strike="noStrike">
                <a:solidFill>
                  <a:srgbClr val="000000"/>
                </a:solidFill>
                <a:latin typeface="Arial"/>
              </a:rPr>
              <a:t>	</a:t>
            </a:r>
            <a:r>
              <a:rPr b="0" lang="es-AR" sz="2800" spc="-1" strike="noStrike">
                <a:solidFill>
                  <a:srgbClr val="000000"/>
                </a:solidFill>
                <a:latin typeface="Arial"/>
              </a:rPr>
              <a:t>libro manual de corresponde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C07E990-1FD1-487E-99E6-573A38B486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mentos a presentar en la modificación de dato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 el cambio de modelo de registración:</a:t>
            </a:r>
            <a:endParaRPr b="0" lang="en-US" sz="32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a solicitando la aprobación del nuevo </a:t>
            </a:r>
            <a:r>
              <a:rPr b="0" lang="en-US" sz="2800" spc="-1" strike="noStrike">
                <a:solidFill>
                  <a:srgbClr val="000000"/>
                </a:solidFill>
                <a:latin typeface="Arial"/>
              </a:rPr>
              <a:t>	</a:t>
            </a:r>
            <a:r>
              <a:rPr b="0" lang="en-US" sz="2800" spc="-1" strike="noStrike">
                <a:solidFill>
                  <a:srgbClr val="000000"/>
                </a:solidFill>
                <a:latin typeface="Arial"/>
              </a:rPr>
              <a:t>modelo con firma certificada, indicando a </a:t>
            </a:r>
            <a:r>
              <a:rPr b="0" lang="en-US" sz="2800" spc="-1" strike="noStrike">
                <a:solidFill>
                  <a:srgbClr val="000000"/>
                </a:solidFill>
                <a:latin typeface="Arial"/>
              </a:rPr>
              <a:t>	</a:t>
            </a:r>
            <a:r>
              <a:rPr b="0" lang="en-US" sz="2800" spc="-1" strike="noStrike">
                <a:solidFill>
                  <a:srgbClr val="000000"/>
                </a:solidFill>
                <a:latin typeface="Arial"/>
              </a:rPr>
              <a:t>partir de que folio se efectuará el cambio.</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tancia de rúbrica, original y copi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juntar modelo de registració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65F637-3C01-4A27-B1AC-AAF3F9E8C4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CIÓ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En este libro se deben consign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Datos del empleador sin enmiendas ni tachadura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Razón social o apellido y nombr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Domicilio</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CUI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Actividad (que debe coincidir con la decla-  </a:t>
            </a:r>
            <a:r>
              <a:rPr b="0" lang="es-AR" sz="2800" spc="-1" strike="noStrike">
                <a:solidFill>
                  <a:srgbClr val="000000"/>
                </a:solidFill>
                <a:latin typeface="Arial"/>
              </a:rPr>
              <a:t>	</a:t>
            </a:r>
            <a:r>
              <a:rPr b="0" lang="es-AR" sz="2800" spc="-1" strike="noStrike">
                <a:solidFill>
                  <a:srgbClr val="000000"/>
                </a:solidFill>
                <a:latin typeface="Arial"/>
              </a:rPr>
              <a:t>rada ante la Afi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151A744-B512-4CF1-B5D9-C678B8BD2A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ALIZACIÓN LABORAL</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Cuando los empleadores (sociedades o asociaciones regularmente constituidas) desarrollen sus actividades en más de una jurisdicción podrán centralizar la rúbrica de la documentación laboral en el domicilio legal de la empresa, o donde ésta tenga el asiento principal de sus negocios o la sede de su administración, siempre que en dicha jurisdicción, al momento de solicitarse la centralización de la rúbrica, preste efectivo servicio al menos el 20% del personal de la empres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Las sociedades irregulares y las personas físicas podrán hacerlo en el asiento principal de sus negocios. (Res.Nº 168 Secretaría Trabajo de la Nación 28-08-0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Wingdings 3"/>
                <a:ea typeface="Wingdings 3"/>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EB26CC-89FC-4815-AE4C-9BBC164E48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3"/>
                <a:ea typeface="Wingdings 3"/>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úbrica centralizada no exime al empleador de tener en cada lugar de trabajo la documentación que exige la ley, en especial en lo que se refiere a autorizar y/o verificar los descansos de quienes allí trabajen.</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da la centralización de la rúbrica el empleador deberá comunicarlo a la autoridad de aplicación de la jurisdicción donde haya personal cuya documentación   y registro haya sido centralizado.</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lugar de trabajo hay que mantener copia autentica-da de la aprobación de la centralización, donde conste el personal que presta servicios en cada jurisdicció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3163CA-1D26-4245-9158-87CA86B25A2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atos del empleado:</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pellido y nomb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ado civ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Fecha de ingreso y egres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alificación profesional de manera tal que permita una evaluación exacta de cuáles son las obligaciones del empleado y su evolución durante su permanencia en la empres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muneraciones brutas, retenciones, asignaciones, sueldo neto percibi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atos de los familiares que generan derecho al cobro de asignaciones familiar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75CF618-4FC2-43DA-B40A-375D1E1187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HIBICIONES</a:t>
            </a:r>
            <a:endParaRPr b="0" lang="en-US" sz="4400" spc="-1" strike="noStrike">
              <a:solidFill>
                <a:srgbClr val="000000"/>
              </a:solidFill>
              <a:latin typeface="Arial"/>
            </a:endParaRPr>
          </a:p>
        </p:txBody>
      </p:sp>
      <p:sp>
        <p:nvSpPr>
          <p:cNvPr id="48"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e prohíbe expresamente:</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lterar los registros correspondientes a cada empleado</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ejar blancos y espacio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Hacer interlineaciones, raspaduras, o enmiendas, las que deberán ser salvadas en el cuadro o espacio respectivo con la firma del trabajador al que se refiere el asiento y control de la autoridad administrativa.</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achar anotaciones, suprimir fojas o alterar su foliatura (ya que como los otros libros de comercio la numeración correlativa de los folios es estricta) o registro. Tratándose de registros de hojas móviles su habilitación se hará por autoridad administrativa, debiendo estar precedido cada conjunto de hojas por una constancia extendida por dicha autoridad, de donde surja la cantidad y número de los folios y la fecha de habilitación.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F294DB-0140-4F30-B296-6459F1CF26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RVACIÓN Y GUARDA</a:t>
            </a:r>
            <a:endParaRPr b="0" lang="en-US" sz="4400" spc="-1" strike="noStrike">
              <a:solidFill>
                <a:srgbClr val="000000"/>
              </a:solidFill>
              <a:latin typeface="Arial"/>
            </a:endParaRPr>
          </a:p>
        </p:txBody>
      </p:sp>
      <p:sp>
        <p:nvSpPr>
          <p:cNvPr id="50" name="PlaceHolder 2"/>
          <p:cNvSpPr>
            <a:spLocks noGrp="1"/>
          </p:cNvSpPr>
          <p:nvPr>
            <p:ph/>
          </p:nvPr>
        </p:nvSpPr>
        <p:spPr>
          <a:xfrm>
            <a:off x="468360" y="1773000"/>
            <a:ext cx="8229600" cy="4640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3200" spc="-1" strike="noStrike">
                <a:solidFill>
                  <a:srgbClr val="000000"/>
                </a:solidFill>
                <a:latin typeface="Arial"/>
              </a:rPr>
              <a:t>El empleador está obligado a guardar este libro (en cualquiera de sus formatos) de por vida, aunque la empresa haya cerrado o el empleador haya fallecido, ya que en este caso se supone que los herederos también han heredado los libros del em-pleador y estarían obligados a exhibirlos en la forma y términos en que lo estaría   el causante (</a:t>
            </a:r>
            <a:r>
              <a:rPr b="0" lang="es-AR" sz="1800" spc="-1" strike="noStrike">
                <a:solidFill>
                  <a:srgbClr val="000000"/>
                </a:solidFill>
                <a:latin typeface="Arial"/>
              </a:rPr>
              <a:t>Jurisp.Neuquén</a:t>
            </a:r>
            <a:r>
              <a:rPr b="0" lang="es-AR"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5004F7-3895-4F23-AECF-6338721C78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rvación y guarda del libro manual</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 empleador deberá guardar los libros manuales encuadernados y foliados  en perfectas condiciones de conservación de modo tal que sea posible su consulta, preservándolos de los efectos de la humedad y del ataque de roedores e insecto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DC81DF-4752-4CA3-8A65-C09ECFBC23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rvación y guarda de las hojas móvil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 el caso de </a:t>
            </a:r>
            <a:r>
              <a:rPr b="0" lang="en-US" sz="3200" spc="-1" strike="noStrike" u="sng">
                <a:solidFill>
                  <a:srgbClr val="000000"/>
                </a:solidFill>
                <a:uFillTx/>
                <a:latin typeface="Arial"/>
              </a:rPr>
              <a:t>hojas móviles </a:t>
            </a:r>
            <a:r>
              <a:rPr b="0" lang="en-US" sz="3200" spc="-1" strike="noStrike">
                <a:solidFill>
                  <a:srgbClr val="000000"/>
                </a:solidFill>
                <a:latin typeface="Arial"/>
              </a:rPr>
              <a:t>el empleador deberá encuadernar las mismas para su conservación y guarda, en lotes que correspondan a un período que no exceda el de 3 meses o 500 hojas, lo que suceda primero, pegando en la última un </a:t>
            </a:r>
            <a:r>
              <a:rPr b="1" lang="en-US" sz="3200" spc="-1" strike="noStrike" u="sng">
                <a:solidFill>
                  <a:srgbClr val="000000"/>
                </a:solidFill>
                <a:uFillTx/>
                <a:latin typeface="Arial"/>
              </a:rPr>
              <a:t>informe de contador público independiente</a:t>
            </a:r>
            <a:r>
              <a:rPr b="0" lang="en-US" sz="3200" spc="-1" strike="noStrike">
                <a:solidFill>
                  <a:srgbClr val="000000"/>
                </a:solidFill>
                <a:latin typeface="Arial"/>
              </a:rPr>
              <a:t> dando cuenta que los listados autorizados se corresponden con los habilitados por el ente de contralo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A389AF5-B3BA-4789-86E2-799CE86380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rvación y guarda de las microfichas</a:t>
            </a:r>
            <a:endParaRPr b="0" lang="en-US" sz="4000" spc="-1" strike="noStrike">
              <a:solidFill>
                <a:srgbClr val="000000"/>
              </a:solidFill>
              <a:latin typeface="Arial"/>
            </a:endParaRPr>
          </a:p>
        </p:txBody>
      </p:sp>
      <p:sp>
        <p:nvSpPr>
          <p:cNvPr id="56" name="PlaceHolder 2"/>
          <p:cNvSpPr>
            <a:spLocks noGrp="1"/>
          </p:cNvSpPr>
          <p:nvPr>
            <p:ph/>
          </p:nvPr>
        </p:nvSpPr>
        <p:spPr>
          <a:xfrm>
            <a:off x="468360" y="1988640"/>
            <a:ext cx="8229600" cy="4310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 el caso de </a:t>
            </a:r>
            <a:r>
              <a:rPr b="0" lang="en-US" sz="2800" spc="-1" strike="noStrike" u="sng">
                <a:solidFill>
                  <a:srgbClr val="000000"/>
                </a:solidFill>
                <a:uFillTx/>
                <a:latin typeface="Arial"/>
              </a:rPr>
              <a:t>microfichas</a:t>
            </a:r>
            <a:r>
              <a:rPr b="0" lang="en-US" sz="2800" spc="-1" strike="noStrike">
                <a:solidFill>
                  <a:srgbClr val="000000"/>
                </a:solidFill>
                <a:latin typeface="Arial"/>
              </a:rPr>
              <a:t> la empresa deberá proceder a su guarda en hojas plásticas especiales y en períodos que no excedan los 3 meses o 500 microfichas, lo que suceda primero, debiendo adjuntar con la última un </a:t>
            </a:r>
            <a:r>
              <a:rPr b="1" lang="en-US" sz="2800" spc="-1" strike="noStrike" u="sng">
                <a:solidFill>
                  <a:srgbClr val="000000"/>
                </a:solidFill>
                <a:uFillTx/>
                <a:latin typeface="Arial"/>
              </a:rPr>
              <a:t>informe de contador público independiente</a:t>
            </a:r>
            <a:r>
              <a:rPr b="0" lang="en-US" sz="2800" spc="-1" strike="noStrike">
                <a:solidFill>
                  <a:srgbClr val="000000"/>
                </a:solidFill>
                <a:latin typeface="Arial"/>
              </a:rPr>
              <a:t> matriculado en la CABA, legalizado por el CPCECABA dando cuenta que los listados autorizados se corresponden con los habilitados por el ente de contral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imismo deberá garantizar los elementos que permitan su lectura a través del tiemp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C79D7CD-4F4E-461E-B9B4-491B288D05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ALIDADES</a:t>
            </a:r>
            <a:endParaRPr b="0" lang="en-US" sz="4400" spc="-1" strike="noStrike">
              <a:solidFill>
                <a:srgbClr val="000000"/>
              </a:solidFill>
              <a:latin typeface="Arial"/>
            </a:endParaRPr>
          </a:p>
        </p:txBody>
      </p:sp>
      <p:sp>
        <p:nvSpPr>
          <p:cNvPr id="58" name="PlaceHolder 2"/>
          <p:cNvSpPr>
            <a:spLocks noGrp="1"/>
          </p:cNvSpPr>
          <p:nvPr>
            <p:ph/>
          </p:nvPr>
        </p:nvSpPr>
        <p:spPr>
          <a:xfrm>
            <a:off x="468360" y="1267920"/>
            <a:ext cx="8229600" cy="50403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rt. 53 LCT: en caso de controversia serán los jueces quienes determinarán, en función de las particulares circunstancias de cada caso, el valor probatorio del mismo si el libro carece de alguna de las formalidades impuestas por el art.52 de la LCT o si tiene alguno de los defectos allí consignados.</a:t>
            </a:r>
            <a:endParaRPr b="0" lang="en-US" sz="2400" spc="-1" strike="noStrike">
              <a:solidFill>
                <a:srgbClr val="000000"/>
              </a:solidFill>
              <a:latin typeface="Arial"/>
            </a:endParaRPr>
          </a:p>
          <a:p>
            <a:pPr marL="329040" indent="-3290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rt.54 LCT: queda sujeta a la apreciación de los jueces, según lo prescripto en artículo anterior, la validez de los registros, planillas u otros elementos de contralor exigi-dos por los estatutos profesionales o las convenciones colectivas de trabajo.</a:t>
            </a:r>
            <a:endParaRPr b="0" lang="en-US" sz="2400" spc="-1" strike="noStrike">
              <a:solidFill>
                <a:srgbClr val="000000"/>
              </a:solidFill>
              <a:latin typeface="Arial"/>
            </a:endParaRPr>
          </a:p>
          <a:p>
            <a:pPr marL="329040" indent="-3290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rt.55: La falta de exhibición a requerimiento judicial o administrativo del libro, registro, planilla u otros elemen-tos de contralor, previstos en los artículos 52 y 54 de la LCT, será tenida como presunción a favor de las afirma-ciones del trabajador o sus causahabientes, sobre las circunstancias que deberían constar en dichos asiento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D6F742-A13B-4FBE-BF6C-D41ED8318E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0T02:40:23Z</dcterms:created>
  <dc:creator>Administrator</dc:creator>
  <dc:description/>
  <dc:language>en-US</dc:language>
  <cp:lastModifiedBy>Administrator</cp:lastModifiedBy>
  <dcterms:modified xsi:type="dcterms:W3CDTF">2011-06-20T05:43:54Z</dcterms:modified>
  <cp:revision>2</cp:revision>
  <dc:subject/>
  <dc:title>LIBRO ESPECIAL DEL ART.52 LEY 20744</dc:title>
</cp:coreProperties>
</file>