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A3D3C-536D-4851-943A-D03B33A8F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36989-74B4-40F9-84C7-4DEDD6615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37715-B0CB-4B7F-8A91-7245E9B74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25128-AF2C-4050-A5BC-46BE56CE7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08B45-AAC4-4A30-B626-F0F7C76C1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95FB2-3133-4822-BAC8-7F99FD562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597DC-9EF2-49FD-8E02-CFBBC77D4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F0EAB-2450-4E3D-AF57-0FD7E7BAD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02BF1-6CCD-4224-9C89-816851C2A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98B80-6979-4B13-B523-812A31B9C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FD766-CC7A-42D8-8DBC-4061EC5E2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B81C9-C3F9-4DBA-8432-561CD51B2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6C9C9-A3FA-4D8C-A87C-8BC49F018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255A1-469F-4E32-A5A2-2739CD5AD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75FB8-E6BA-451D-A8D3-E3CF7DDEA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66B52-4546-491B-B2A3-18B73D779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B25BC-A779-483E-8501-458099201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4ACD-2DFC-4F04-BB16-8159E167F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2E512-1BC1-4606-9DCF-1723FA90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1A7B7-F4F2-450F-BD9D-BA33D2ADF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8379C-862E-418F-8310-7F46693A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91B83-1EAE-48F9-82C3-94CBBA99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7EF4-5D72-4DA4-93C9-124DF3EE5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6DC6-7CDD-44E0-8441-B2DA0934A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E0E7-F173-4E6F-8DD4-D91C4A526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D6CA-7CCE-4EA8-84A5-ADF4CEB6A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41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OS LEGAJO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403280" y="3068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AJO PERSON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AJO MÉDIC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AJO SEG. SOCIAL Y FISCA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C4D0347-0BEC-4E47-AD67-5D7BF12F03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JO MÉDICO</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legajo es </a:t>
            </a:r>
            <a:r>
              <a:rPr b="1" lang="en-US" sz="2800" spc="-1" strike="noStrike">
                <a:solidFill>
                  <a:srgbClr val="000000"/>
                </a:solidFill>
                <a:latin typeface="Times New Roman"/>
              </a:rPr>
              <a:t>independiente</a:t>
            </a:r>
            <a:r>
              <a:rPr b="0" lang="en-US" sz="2800" spc="-1" strike="noStrike">
                <a:solidFill>
                  <a:srgbClr val="000000"/>
                </a:solidFill>
                <a:latin typeface="Times New Roman"/>
              </a:rPr>
              <a:t> del legajo de personal, y el </a:t>
            </a:r>
            <a:r>
              <a:rPr b="1" lang="en-US" sz="2800" spc="-1" strike="noStrike">
                <a:solidFill>
                  <a:srgbClr val="000000"/>
                </a:solidFill>
                <a:latin typeface="Times New Roman"/>
              </a:rPr>
              <a:t>único responsable</a:t>
            </a:r>
            <a:r>
              <a:rPr b="0" lang="en-US" sz="2800" spc="-1" strike="noStrike">
                <a:solidFill>
                  <a:srgbClr val="000000"/>
                </a:solidFill>
                <a:latin typeface="Times New Roman"/>
              </a:rPr>
              <a:t> de su creación, mantenimiento y custodia será el </a:t>
            </a:r>
            <a:r>
              <a:rPr b="1" lang="en-US" sz="2800" spc="-1" strike="noStrike">
                <a:solidFill>
                  <a:srgbClr val="000000"/>
                </a:solidFill>
                <a:latin typeface="Times New Roman"/>
              </a:rPr>
              <a:t>Servicio Médico</a:t>
            </a:r>
            <a:r>
              <a:rPr b="0" lang="en-US" sz="2800" spc="-1" strike="noStrike">
                <a:solidFill>
                  <a:srgbClr val="000000"/>
                </a:solidFill>
                <a:latin typeface="Times New Roman"/>
              </a:rPr>
              <a:t> de la empresa, interno o externo según sea el cas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ntenido del mismo está amparado por el secreto profesional. En consecuencia, ninguna persona del la empresa, incluyendo su dueño o su presidente, podrá consultarlo y solamente tendrá acceso al mismo el personal sanitario autorizado y regido por el juramento hipocrático.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24F6D4-FCA7-45DF-87A5-2CC14764D1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 DE LLEVAR EL LEGAJO MÉDIC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erá ser llevado de acuerdo con las disposiciones legales sobre Seguridad Industrial y Medicina Laboral y siempre teniendo presente que está regido por las disposiciones de la ley de Habeas Data ya que contiene datos sensibl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B80697-BE20-412C-AA0D-273BFFBA31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IDO DEL LEGAJO MÉDICO</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legajo médico deberá contener por lo menos los siguientes exámenes:</a:t>
            </a:r>
            <a:endParaRPr b="0" lang="en-US" sz="3200" spc="-1" strike="noStrike">
              <a:solidFill>
                <a:srgbClr val="000000"/>
              </a:solidFill>
              <a:latin typeface="Times New Roman"/>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ocupacional</a:t>
            </a:r>
            <a:endParaRPr b="0" lang="en-US" sz="2800" spc="-1" strike="noStrike">
              <a:solidFill>
                <a:srgbClr val="000000"/>
              </a:solidFill>
              <a:latin typeface="Times New Roman"/>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ódicos</a:t>
            </a:r>
            <a:endParaRPr b="0" lang="en-US" sz="2800" spc="-1" strike="noStrike">
              <a:solidFill>
                <a:srgbClr val="000000"/>
              </a:solidFill>
              <a:latin typeface="Times New Roman"/>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cambio de tareas</a:t>
            </a:r>
            <a:endParaRPr b="0" lang="en-US" sz="2800" spc="-1" strike="noStrike">
              <a:solidFill>
                <a:srgbClr val="000000"/>
              </a:solidFill>
              <a:latin typeface="Times New Roman"/>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ausencia prolongada</a:t>
            </a:r>
            <a:endParaRPr b="0" lang="en-US" sz="2800" spc="-1" strike="noStrike">
              <a:solidFill>
                <a:srgbClr val="000000"/>
              </a:solidFill>
              <a:latin typeface="Times New Roman"/>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egreso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D75D80-6321-4362-9375-02F9726DE5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examen médico PREOCUPACIONAL</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Carácter</a:t>
            </a:r>
            <a:r>
              <a:rPr b="0" lang="en-US" sz="3200" spc="-1" strike="noStrike">
                <a:solidFill>
                  <a:srgbClr val="000000"/>
                </a:solidFill>
                <a:latin typeface="Times New Roman"/>
              </a:rPr>
              <a:t>: obligatorio</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Responsabilidad</a:t>
            </a:r>
            <a:r>
              <a:rPr b="0" lang="en-US" sz="3200" spc="-1" strike="noStrike">
                <a:solidFill>
                  <a:srgbClr val="000000"/>
                </a:solidFill>
                <a:latin typeface="Times New Roman"/>
              </a:rPr>
              <a:t>: del empleador. Puede ser fiscalizado por organismos designados por la SRT </a:t>
            </a:r>
            <a:r>
              <a:rPr b="0" lang="en-US" sz="2800" spc="-1" strike="noStrike">
                <a:solidFill>
                  <a:srgbClr val="000000"/>
                </a:solidFill>
                <a:latin typeface="Times New Roman"/>
              </a:rPr>
              <a:t>(Superintendencia de Riesgos de Trabajo)</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Objeto</a:t>
            </a:r>
            <a:r>
              <a:rPr b="0" lang="en-US" sz="3200" spc="-1" strike="noStrike">
                <a:solidFill>
                  <a:srgbClr val="000000"/>
                </a:solidFill>
                <a:latin typeface="Times New Roman"/>
              </a:rPr>
              <a:t>: Evaluar el estado de salud al ingreso y determinar si médicamente es apto para la tarea a realiza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986326-3DEA-4013-9708-22B683654B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s exámenes médicos PERIÓDICO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Carácter</a:t>
            </a:r>
            <a:r>
              <a:rPr b="0" lang="en-US" sz="3200" spc="-1" strike="noStrike">
                <a:solidFill>
                  <a:srgbClr val="000000"/>
                </a:solidFill>
                <a:latin typeface="Times New Roman"/>
              </a:rPr>
              <a:t>: obligatori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Responsabilidad</a:t>
            </a:r>
            <a:r>
              <a:rPr b="0" lang="en-US" sz="3200" spc="-1" strike="noStrike">
                <a:solidFill>
                  <a:srgbClr val="000000"/>
                </a:solidFill>
                <a:latin typeface="Times New Roman"/>
              </a:rPr>
              <a:t>: de la ART o del empleador autoasegurad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Objeto</a:t>
            </a:r>
            <a:r>
              <a:rPr b="0" lang="en-US" sz="3200" spc="-1" strike="noStrike">
                <a:solidFill>
                  <a:srgbClr val="000000"/>
                </a:solidFill>
                <a:latin typeface="Times New Roman"/>
              </a:rPr>
              <a:t>: Detección precoz de posibles enfermedades profesionales. Medicina preventiva gener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F484CD-F439-4A90-9882-FA5CCF74FD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s </a:t>
            </a:r>
            <a:r>
              <a:rPr b="0" lang="es-AR" sz="4400" spc="-1" strike="noStrike">
                <a:solidFill>
                  <a:srgbClr val="000000"/>
                </a:solidFill>
                <a:latin typeface="Times New Roman"/>
              </a:rPr>
              <a:t>exámenes</a:t>
            </a:r>
            <a:r>
              <a:rPr b="0" lang="en-US" sz="4400" spc="-1" strike="noStrike">
                <a:solidFill>
                  <a:srgbClr val="000000"/>
                </a:solidFill>
                <a:latin typeface="Times New Roman"/>
              </a:rPr>
              <a:t> médicos por CAMBIO DE TARE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Carácte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90840" indent="-2656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ligatorio antes de iniciar la nueva tarea si ésta implica una posible exposición a agentes de riesgo</a:t>
            </a:r>
            <a:endParaRPr b="0" lang="en-US" sz="2400" spc="-1" strike="noStrike">
              <a:solidFill>
                <a:srgbClr val="000000"/>
              </a:solidFill>
              <a:latin typeface="Times New Roman"/>
            </a:endParaRPr>
          </a:p>
          <a:p>
            <a:pPr lvl="1" marL="690840" indent="-2656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ativo cuando cese la exposición al agente de riesgo</a:t>
            </a:r>
            <a:endParaRPr b="0" lang="en-US" sz="2400" spc="-1" strike="noStrike">
              <a:solidFill>
                <a:srgbClr val="000000"/>
              </a:solidFill>
              <a:latin typeface="Times New Roman"/>
            </a:endParaRPr>
          </a:p>
          <a:p>
            <a:pPr marL="318960" indent="-318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Responsabilidad</a:t>
            </a:r>
            <a:r>
              <a:rPr b="0" lang="en-US" sz="2800" spc="-1" strike="noStrike">
                <a:solidFill>
                  <a:srgbClr val="000000"/>
                </a:solidFill>
                <a:latin typeface="Times New Roman"/>
              </a:rPr>
              <a:t>: del empleador. Fiscalizable por organismos designados por la SRT</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Objeto</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90840" indent="-2656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iniciar la nueva tarea determinar si médicamente es apto para realizarla. Evaluar el estado de salud.</a:t>
            </a:r>
            <a:endParaRPr b="0" lang="en-US" sz="2400" spc="-1" strike="noStrike">
              <a:solidFill>
                <a:srgbClr val="000000"/>
              </a:solidFill>
              <a:latin typeface="Times New Roman"/>
            </a:endParaRPr>
          </a:p>
          <a:p>
            <a:pPr lvl="1" marL="690840" indent="-2656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finalizar la exposición al riesgo, evaluar si quedó algún tipo de secuela e iniciar su tratamiento.</a:t>
            </a:r>
            <a:endParaRPr b="0" lang="en-US" sz="2400" spc="-1" strike="noStrike">
              <a:solidFill>
                <a:srgbClr val="000000"/>
              </a:solidFill>
              <a:latin typeface="Times New Roman"/>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D8D993-F9AD-4179-B9B2-FD318850AD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s exámenes médicos por AUSENCIAS PROLONGAD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Carácter</a:t>
            </a:r>
            <a:r>
              <a:rPr b="0" lang="en-US" sz="2800" spc="-1" strike="noStrike">
                <a:solidFill>
                  <a:srgbClr val="000000"/>
                </a:solidFill>
                <a:latin typeface="Times New Roman"/>
              </a:rPr>
              <a:t>: optativ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Responsabilidad</a:t>
            </a:r>
            <a:r>
              <a:rPr b="0" lang="en-US" sz="2800" spc="-1" strike="noStrike">
                <a:solidFill>
                  <a:srgbClr val="000000"/>
                </a:solidFill>
                <a:latin typeface="Times New Roman"/>
              </a:rPr>
              <a:t>: de la ART o del empleador autoasegurado</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Objeto</a:t>
            </a:r>
            <a:r>
              <a:rPr b="0" lang="en-US" sz="2800" spc="-1" strike="noStrike">
                <a:solidFill>
                  <a:srgbClr val="000000"/>
                </a:solidFill>
                <a:latin typeface="Times New Roman"/>
              </a:rPr>
              <a:t>: Evaluar el estado de salud al reingreso y determinar si médicamente es apto para la tarea a realizar luego de accidentes laborales y/o enfermedades largas. También para detectar si en el interin se desarrollaron patologías nuevas.</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7EEAE7-D13A-428B-BFA7-99E5F88DC9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examen médico de </a:t>
            </a:r>
            <a:br>
              <a:rPr sz="4400"/>
            </a:br>
            <a:r>
              <a:rPr b="0" lang="en-US" sz="4400" spc="-1" strike="noStrike">
                <a:solidFill>
                  <a:srgbClr val="000000"/>
                </a:solidFill>
                <a:latin typeface="Times New Roman"/>
              </a:rPr>
              <a:t>EGRESO</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Carácter</a:t>
            </a:r>
            <a:r>
              <a:rPr b="0" lang="en-US" sz="2800" spc="-1" strike="noStrike">
                <a:solidFill>
                  <a:srgbClr val="000000"/>
                </a:solidFill>
                <a:latin typeface="Times New Roman"/>
              </a:rPr>
              <a:t>: optativ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Responsabilidad</a:t>
            </a:r>
            <a:r>
              <a:rPr b="0" lang="en-US" sz="2800" spc="-1" strike="noStrike">
                <a:solidFill>
                  <a:srgbClr val="000000"/>
                </a:solidFill>
                <a:latin typeface="Times New Roman"/>
              </a:rPr>
              <a:t>: de la ART o del empleador autoasegurado</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Objeto</a:t>
            </a:r>
            <a:r>
              <a:rPr b="0" lang="en-US" sz="2800" spc="-1" strike="noStrike">
                <a:solidFill>
                  <a:srgbClr val="000000"/>
                </a:solidFill>
                <a:latin typeface="Times New Roman"/>
              </a:rPr>
              <a:t>: Evaluar el estado de salud al momento de la desvinculación, para detectar secuelas inca- pacitantes y/o enfermedades profesionales que se hubiesen desarrollado durante la relación laboral. Habría que realizarlos entre los 10 días previos y los 30 posteriores al egres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BDAEAC-DAD4-4D90-96B7-86D8C56117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JO S.SOCIAL Y FISCAL</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igual que el legajo de personal será creado, mantenido y custodiado por la oficina de RRHH, la oficina de personal o la oficina administrativa, según la envergadura de la empres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él se archivará toda la documentación exigida por Anses, Afip, Obras Sociales, etc. y que, juntamente con la del empleador, será exigible por cada uno de estos organismos en el caso de una inspecció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CA9EFE-23D6-4128-831D-CEE2172B0F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ACIÓN EXIGIBLE POR LA AFIP</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rt.12 de la L.24241/93 establece las obligaciones de los empleadores en materia de seguridad social y en el inc.f) dice específicamente “Suministrar todo informe y exhibir los comprobantes justificativos que la autoridad de aplicación les requiera en el ejercicio de sus atribuciones, y permitir las inspecciones, investigacione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23CE87-388B-4C58-B894-00E3F6732D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J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CIÓN</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 latín “legare” = atar.</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el conjunto de papeles o documentos que tratan sobre una misma materia o asunto reunidos (antiguamente atados) en un mismo lo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7B8CAD-0B19-4DAE-A594-88A28753EA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5432040"/>
            <a:ext cx="22860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457200" y="914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obaciones y compulsas que aquélla le ordene en los lugares de trabajo, libros, anotaciones, papeles y documentos”… Eso incluye las inspecciones por “Verificación de Servicios efectivamente prestados” que pueden realizarse muchos años después del egreso del trabajador, cuando éste solicita el beneficio jubilato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333028-C2A9-4148-ACAA-2F04CA94CF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IP</a:t>
            </a:r>
            <a:br>
              <a:rPr sz="2800"/>
            </a:br>
            <a:r>
              <a:rPr b="0" lang="en-US" sz="2800" spc="-1" strike="noStrike">
                <a:solidFill>
                  <a:srgbClr val="000000"/>
                </a:solidFill>
                <a:latin typeface="Times New Roman"/>
              </a:rPr>
              <a:t>DOCUMENTACIÓN EXIGIBLE</a:t>
            </a:r>
            <a:br>
              <a:rPr sz="2800"/>
            </a:br>
            <a:r>
              <a:rPr b="0" lang="en-US" sz="2800" spc="-1" strike="noStrike">
                <a:solidFill>
                  <a:srgbClr val="000000"/>
                </a:solidFill>
                <a:latin typeface="Times New Roman"/>
              </a:rPr>
              <a:t>DEL EMPLEADOR </a:t>
            </a:r>
            <a:endParaRPr b="0" lang="en-US" sz="28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460 F ó J de inscripción como empleador y sus modificaciones</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561 Domicilio de la explotación</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931 con tickets y/o Veps de presentación y pago</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ómina de empleados: Papel de trabajo Form 931</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DJJ anual Form U-44 y U-78 por los años anteriores a 199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760452-DC92-415C-907B-50BD7A215A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IP</a:t>
            </a:r>
            <a:br>
              <a:rPr sz="2800"/>
            </a:br>
            <a:r>
              <a:rPr b="0" lang="en-US" sz="2800" spc="-1" strike="noStrike">
                <a:solidFill>
                  <a:srgbClr val="000000"/>
                </a:solidFill>
                <a:latin typeface="Times New Roman"/>
              </a:rPr>
              <a:t>DOCUMENTACIÓN EXIGIBLE</a:t>
            </a:r>
            <a:br>
              <a:rPr sz="2800"/>
            </a:br>
            <a:r>
              <a:rPr b="0" lang="en-US" sz="2800" spc="-1" strike="noStrike">
                <a:solidFill>
                  <a:srgbClr val="000000"/>
                </a:solidFill>
                <a:latin typeface="Times New Roman"/>
              </a:rPr>
              <a:t>DEL EMPLEADO</a:t>
            </a:r>
            <a:endParaRPr b="0" lang="en-US" sz="28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cia de CUIL (Dec.1021/94)</a:t>
            </a:r>
            <a:endParaRPr b="0" lang="en-US" sz="28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cia de opción jubilatoria </a:t>
            </a:r>
            <a:r>
              <a:rPr b="0" lang="en-US" sz="2200" spc="-1" strike="noStrike">
                <a:solidFill>
                  <a:srgbClr val="000000"/>
                </a:solidFill>
                <a:latin typeface="Times New Roman"/>
              </a:rPr>
              <a:t>(hasta 2008)</a:t>
            </a:r>
            <a:endParaRPr b="0" lang="en-US" sz="22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DJJ si es o no beneficiario de jubilación, pensión, retiro, o prestación no contributiva (L.24241 art.12 inc h)</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ado del empleado: Papel de trabajo Form 931</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ibos de sueldos (con los requisitos del art.140 de la </a:t>
            </a:r>
            <a:r>
              <a:rPr b="0" lang="en-US" sz="2400" spc="-1" strike="noStrike">
                <a:solidFill>
                  <a:srgbClr val="000000"/>
                </a:solidFill>
                <a:latin typeface="Times New Roman"/>
              </a:rPr>
              <a:t>LC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678E1D-1DF8-42D4-8914-734ECF9E1C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5432040"/>
            <a:ext cx="1522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a en “Mi simplificación” con recepción firmada por el emplea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 en “Mi simplifica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cación en “Mi simplificación” (cambio domicilio, nacimiento hijo,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cia (telegrama, etc.) de la desvinculación laboral</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DJJ</a:t>
            </a:r>
            <a:r>
              <a:rPr b="0" lang="en-US" sz="2800" spc="-1" strike="noStrike">
                <a:solidFill>
                  <a:srgbClr val="000000"/>
                </a:solidFill>
                <a:latin typeface="Times New Roman"/>
              </a:rPr>
              <a:t> Form 572 (electrónico) Impuesto a las Ganancia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DJJ</a:t>
            </a:r>
            <a:r>
              <a:rPr b="0" lang="en-US" sz="2800" spc="-1" strike="noStrike">
                <a:solidFill>
                  <a:srgbClr val="000000"/>
                </a:solidFill>
                <a:latin typeface="Times New Roman"/>
              </a:rPr>
              <a:t> Form 649 Liquidación anual otro empleado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C2525C-C767-413E-93A3-0404E5679E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55087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ificado del art.80 de la LCT (no confundir con el Certificado de Servicios Form 6.2 de Anses). Este certificado es una constancia documentada con la fotocopia de los acuses de recibo y tickets de pago y la certificación propiamente dicha </a:t>
            </a:r>
            <a:r>
              <a:rPr b="1" lang="en-US" sz="3200" spc="-1" strike="noStrike">
                <a:solidFill>
                  <a:srgbClr val="000000"/>
                </a:solidFill>
                <a:latin typeface="Times New Roman"/>
              </a:rPr>
              <a:t>de toda la relación laboral</a:t>
            </a:r>
            <a:r>
              <a:rPr b="0" lang="en-US" sz="3200" spc="-1" strike="noStrike">
                <a:solidFill>
                  <a:srgbClr val="000000"/>
                </a:solidFill>
                <a:latin typeface="Times New Roman"/>
              </a:rPr>
              <a:t>.  Hay que volcar los importes declarados en el U44 y el U78 pero a partir  del 1/7/94 el detalle debe ser mensual. Actualmente la emite el siste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F1014A-5273-4690-8A19-C0B3F0263F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RA SOCIAL </a:t>
            </a:r>
            <a:br>
              <a:rPr sz="2800"/>
            </a:br>
            <a:r>
              <a:rPr b="0" lang="en-US" sz="2800" spc="-1" strike="noStrike">
                <a:solidFill>
                  <a:srgbClr val="000000"/>
                </a:solidFill>
                <a:latin typeface="Times New Roman"/>
              </a:rPr>
              <a:t>DOCUMENTACIÓN EXIGIBLE </a:t>
            </a:r>
            <a:br>
              <a:rPr sz="2800"/>
            </a:br>
            <a:r>
              <a:rPr b="0" lang="en-US" sz="2800" spc="-1" strike="noStrike">
                <a:solidFill>
                  <a:srgbClr val="000000"/>
                </a:solidFill>
                <a:latin typeface="Times New Roman"/>
              </a:rPr>
              <a:t>DEL EMPLEADOR</a:t>
            </a:r>
            <a:endParaRPr b="0" lang="en-US" sz="28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alta como empleado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PS 5.5 Novedad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PS 5.6 Personal Jerárquic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ado de aportes y contribuciones por Obra Social: Papel de trabajo Form 931</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C9F1FE-4E67-4789-811A-C1DD53BB64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RA SOCIAL </a:t>
            </a:r>
            <a:br>
              <a:rPr sz="2800"/>
            </a:br>
            <a:r>
              <a:rPr b="0" lang="en-US" sz="2800" spc="-1" strike="noStrike">
                <a:solidFill>
                  <a:srgbClr val="000000"/>
                </a:solidFill>
                <a:latin typeface="Times New Roman"/>
              </a:rPr>
              <a:t>DOCUMENTACIÓN EXIGIBLE </a:t>
            </a:r>
            <a:br>
              <a:rPr sz="2800"/>
            </a:br>
            <a:r>
              <a:rPr b="0" lang="en-US" sz="2800" spc="-1" strike="noStrike">
                <a:solidFill>
                  <a:srgbClr val="000000"/>
                </a:solidFill>
                <a:latin typeface="Times New Roman"/>
              </a:rPr>
              <a:t>DEL EMPLEADO</a:t>
            </a:r>
            <a:endParaRPr b="0" lang="en-US" sz="28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hesión a la Obra Social</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PS 5.3 </a:t>
            </a:r>
            <a:r>
              <a:rPr b="0" lang="en-US" sz="2400" spc="-1" strike="noStrike">
                <a:solidFill>
                  <a:srgbClr val="000000"/>
                </a:solidFill>
                <a:latin typeface="Times New Roman"/>
              </a:rPr>
              <a:t>DDJJ </a:t>
            </a:r>
            <a:r>
              <a:rPr b="0" lang="en-US" sz="2800" spc="-1" strike="noStrike">
                <a:solidFill>
                  <a:srgbClr val="000000"/>
                </a:solidFill>
                <a:latin typeface="Times New Roman"/>
              </a:rPr>
              <a:t>Grupo familiar del trabajador</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tocopia de los </a:t>
            </a:r>
            <a:r>
              <a:rPr b="0" lang="en-US" sz="2400" spc="-1" strike="noStrike">
                <a:solidFill>
                  <a:srgbClr val="000000"/>
                </a:solidFill>
                <a:latin typeface="Times New Roman"/>
              </a:rPr>
              <a:t>DNI</a:t>
            </a:r>
            <a:r>
              <a:rPr b="0" lang="en-US" sz="2800" spc="-1" strike="noStrike">
                <a:solidFill>
                  <a:srgbClr val="000000"/>
                </a:solidFill>
                <a:latin typeface="Times New Roman"/>
              </a:rPr>
              <a:t> de los familiares incluido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citud de cambio de Obra Social</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ado del empleado: Papel de trabajo Form 9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9B724C-278F-4352-B1A8-DA178E67D6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SGOS DEL TRABAJO </a:t>
            </a:r>
            <a:br>
              <a:rPr sz="2800"/>
            </a:br>
            <a:r>
              <a:rPr b="0" lang="en-US" sz="2800" spc="-1" strike="noStrike">
                <a:solidFill>
                  <a:srgbClr val="000000"/>
                </a:solidFill>
                <a:latin typeface="Times New Roman"/>
              </a:rPr>
              <a:t>DOCUMENTACIÓN EXIGIBLE </a:t>
            </a:r>
            <a:br>
              <a:rPr sz="2800"/>
            </a:br>
            <a:endParaRPr b="0" lang="en-US" sz="2800" spc="-1" strike="noStrike">
              <a:solidFill>
                <a:srgbClr val="000000"/>
              </a:solidFill>
              <a:latin typeface="Times New Roman"/>
            </a:endParaRPr>
          </a:p>
        </p:txBody>
      </p:sp>
      <p:sp>
        <p:nvSpPr>
          <p:cNvPr id="13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óliza de seguro vigente con una </a:t>
            </a:r>
            <a:r>
              <a:rPr b="0" lang="en-US" sz="2000" spc="-1" strike="noStrike">
                <a:solidFill>
                  <a:srgbClr val="000000"/>
                </a:solidFill>
                <a:latin typeface="Times New Roman"/>
              </a:rPr>
              <a:t>ART </a:t>
            </a:r>
            <a:r>
              <a:rPr b="0" lang="en-US" sz="2800" spc="-1" strike="noStrike">
                <a:solidFill>
                  <a:srgbClr val="000000"/>
                </a:solidFill>
                <a:latin typeface="Times New Roman"/>
              </a:rPr>
              <a:t>o si es autoasegurado documentación respaldatoria s/art. 3 L.24557</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icación al trabajador de la </a:t>
            </a:r>
            <a:r>
              <a:rPr b="0" lang="en-US" sz="2400" spc="-1" strike="noStrike">
                <a:solidFill>
                  <a:srgbClr val="000000"/>
                </a:solidFill>
                <a:latin typeface="Times New Roman"/>
              </a:rPr>
              <a:t>ART</a:t>
            </a:r>
            <a:r>
              <a:rPr b="0" lang="en-US" sz="2800" spc="-1" strike="noStrike">
                <a:solidFill>
                  <a:srgbClr val="000000"/>
                </a:solidFill>
                <a:latin typeface="Times New Roman"/>
              </a:rPr>
              <a:t> que lo ampara</a:t>
            </a:r>
            <a:endParaRPr b="0" lang="en-US" sz="2800" spc="-1" strike="noStrike">
              <a:solidFill>
                <a:srgbClr val="000000"/>
              </a:solidFill>
              <a:latin typeface="Times New Roman"/>
            </a:endParaRPr>
          </a:p>
          <a:p>
            <a:pPr marL="325800" indent="-32580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hibición del afiche provisto por la </a:t>
            </a:r>
            <a:r>
              <a:rPr b="0" lang="en-US" sz="2400" spc="-1" strike="noStrike">
                <a:solidFill>
                  <a:srgbClr val="000000"/>
                </a:solidFill>
                <a:latin typeface="Times New Roman"/>
              </a:rPr>
              <a:t>ART</a:t>
            </a:r>
            <a:endParaRPr b="0" lang="en-US" sz="2400" spc="-1" strike="noStrike">
              <a:solidFill>
                <a:srgbClr val="000000"/>
              </a:solidFill>
              <a:latin typeface="Times New Roman"/>
            </a:endParaRPr>
          </a:p>
          <a:p>
            <a:pPr marL="325800" indent="-32580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dos de habilitación</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mplimiento de normas de seguridad e higiene</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de mejoramiento, si lo hubiese</a:t>
            </a:r>
            <a:endParaRPr b="0" lang="en-US" sz="2800" spc="-1" strike="noStrike">
              <a:solidFill>
                <a:srgbClr val="000000"/>
              </a:solidFill>
              <a:latin typeface="Times New Roman"/>
            </a:endParaRPr>
          </a:p>
          <a:p>
            <a:pPr marL="325800" indent="-3258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o de siniestralidad en la empresa </a:t>
            </a:r>
            <a:r>
              <a:rPr b="0" lang="en-US" sz="2000" spc="-1" strike="noStrike">
                <a:solidFill>
                  <a:srgbClr val="000000"/>
                </a:solidFill>
                <a:latin typeface="Times New Roman"/>
              </a:rPr>
              <a:t>(art.31 inc e)</a:t>
            </a:r>
            <a:endParaRPr b="0" lang="en-US" sz="2000" spc="-1" strike="noStrike">
              <a:solidFill>
                <a:srgbClr val="000000"/>
              </a:solidFill>
              <a:latin typeface="Times New Roman"/>
            </a:endParaRPr>
          </a:p>
          <a:p>
            <a:pPr marL="325800" indent="-32580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sos de capacitación e información al personal en materia de prevención de riesgos</a:t>
            </a:r>
            <a:endParaRPr b="0" lang="en-US" sz="28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1DC449-95A2-4675-9166-0C3B25BCAE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STERIO DE TRABAJO Y GOB.CABA </a:t>
            </a:r>
            <a:br>
              <a:rPr sz="2800"/>
            </a:br>
            <a:r>
              <a:rPr b="0" lang="en-US" sz="2800" spc="-1" strike="noStrike">
                <a:solidFill>
                  <a:srgbClr val="000000"/>
                </a:solidFill>
                <a:latin typeface="Times New Roman"/>
              </a:rPr>
              <a:t>DOCUMENTACIÓN EXIGIBLE</a:t>
            </a:r>
            <a:endParaRPr b="0" lang="en-US" sz="28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de los libros rubricados y planillas de horario que se mencionaron en la exposición anterior:</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T </a:t>
            </a:r>
            <a:r>
              <a:rPr b="0" lang="en-US" sz="3200" spc="-1" strike="noStrike">
                <a:solidFill>
                  <a:srgbClr val="000000"/>
                </a:solidFill>
                <a:latin typeface="Times New Roman"/>
              </a:rPr>
              <a:t>aplicables a la actividad</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eta de trabajo en caso de corresponder</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os especiales en caso de corresponder</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A5E270-FA11-4E4E-AFDC-9C6EB70019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4320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óliza Seguro Obligatorio Dec.1567/74 (que cubre solamente riesgo de muerte):</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óliza vigente contratada dentro de los 30 días de iniciada la actividad</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ado mensual de altas, bajas y modi- ficaciones del personal</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ción de beneficiarios por parte del trabajador</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caso de pluriempleo, comunicación del trabajador al empleador de dicha situación (Res.23970/95 art.12) Asegura el empleador con el que cumple mayor jornada laboral.</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3EDE2C-53A1-429A-86B2-68D984827F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JO</a:t>
            </a:r>
            <a:endParaRPr b="0" lang="en-US" sz="4400" spc="-1" strike="noStrike">
              <a:solidFill>
                <a:srgbClr val="000000"/>
              </a:solidFill>
              <a:latin typeface="Times New Roman"/>
            </a:endParaRPr>
          </a:p>
        </p:txBody>
      </p:sp>
      <p:sp>
        <p:nvSpPr>
          <p:cNvPr id="8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necesario llevar </a:t>
            </a:r>
            <a:r>
              <a:rPr b="1" lang="en-US" sz="3200" spc="-1" strike="noStrike">
                <a:solidFill>
                  <a:srgbClr val="000000"/>
                </a:solidFill>
                <a:latin typeface="Times New Roman"/>
              </a:rPr>
              <a:t>un legajo por cada trabajador</a:t>
            </a:r>
            <a:r>
              <a:rPr b="0" lang="en-US" sz="3200" spc="-1" strike="noStrike">
                <a:solidFill>
                  <a:srgbClr val="000000"/>
                </a:solidFill>
                <a:latin typeface="Times New Roman"/>
              </a:rPr>
              <a:t> que tenga la empresa, en el que se registrará pormenorizadamente toda la información referida al mismo.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información que en él se guarde </a:t>
            </a:r>
            <a:r>
              <a:rPr b="1" lang="en-US" sz="3200" spc="-1" strike="noStrike">
                <a:solidFill>
                  <a:srgbClr val="000000"/>
                </a:solidFill>
                <a:latin typeface="Times New Roman"/>
              </a:rPr>
              <a:t>es confidencial</a:t>
            </a:r>
            <a:r>
              <a:rPr b="0" lang="en-US" sz="3200" spc="-1" strike="noStrike">
                <a:solidFill>
                  <a:srgbClr val="000000"/>
                </a:solidFill>
                <a:latin typeface="Times New Roman"/>
              </a:rPr>
              <a:t>, por lo tanto su acceso deberá ser restringid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FB372C-D1B3-467B-B9DC-0AD5316D98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DICATOS SEGÚN CCT </a:t>
            </a:r>
            <a:br>
              <a:rPr sz="2800"/>
            </a:br>
            <a:r>
              <a:rPr b="0" lang="en-US" sz="2800" spc="-1" strike="noStrike">
                <a:solidFill>
                  <a:srgbClr val="000000"/>
                </a:solidFill>
                <a:latin typeface="Times New Roman"/>
              </a:rPr>
              <a:t>DOCUMENTACIÓN EXIGIBLE</a:t>
            </a:r>
            <a:br>
              <a:rPr sz="2800"/>
            </a:br>
            <a:endParaRPr b="0" lang="en-US" sz="28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 documentación es variable porque cada </a:t>
            </a:r>
            <a:r>
              <a:rPr b="0" lang="en-US" sz="2400" spc="-1" strike="noStrike">
                <a:solidFill>
                  <a:srgbClr val="000000"/>
                </a:solidFill>
                <a:latin typeface="Times New Roman"/>
              </a:rPr>
              <a:t>CCT </a:t>
            </a:r>
            <a:r>
              <a:rPr b="0" lang="en-US" sz="2800" spc="-1" strike="noStrike">
                <a:solidFill>
                  <a:srgbClr val="000000"/>
                </a:solidFill>
                <a:latin typeface="Times New Roman"/>
              </a:rPr>
              <a:t>y cada sindicato piden lo suyo pero básicament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a como empleador en el sindicat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a como empleado en el sindicato</a:t>
            </a:r>
            <a:endParaRPr b="0" lang="en-US" sz="28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letas de depósito de las contribuciones y/o los aportes s/</a:t>
            </a:r>
            <a:r>
              <a:rPr b="0" lang="en-US" sz="2400" spc="-1" strike="noStrike">
                <a:solidFill>
                  <a:srgbClr val="000000"/>
                </a:solidFill>
                <a:latin typeface="Times New Roman"/>
              </a:rPr>
              <a:t>CCT</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illas de aportes sindical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ción beneficiario del Seguro Convencional si existiese</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CB9EF6-9DDB-4672-9CD9-EA892A8515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rvación de los legajos</a:t>
            </a:r>
            <a:endParaRPr b="0" lang="en-US" sz="4400" spc="-1" strike="noStrike">
              <a:solidFill>
                <a:srgbClr val="000000"/>
              </a:solidFill>
              <a:latin typeface="Times New Roman"/>
            </a:endParaRPr>
          </a:p>
        </p:txBody>
      </p:sp>
      <p:sp>
        <p:nvSpPr>
          <p:cNvPr id="89"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deberán </a:t>
            </a:r>
            <a:r>
              <a:rPr b="1" lang="en-US" sz="3200" spc="-1" strike="noStrike">
                <a:solidFill>
                  <a:srgbClr val="000000"/>
                </a:solidFill>
                <a:latin typeface="Times New Roman"/>
              </a:rPr>
              <a:t>conservar</a:t>
            </a:r>
            <a:r>
              <a:rPr b="0" lang="en-US" sz="3200" spc="-1" strike="noStrike">
                <a:solidFill>
                  <a:srgbClr val="000000"/>
                </a:solidFill>
                <a:latin typeface="Times New Roman"/>
              </a:rPr>
              <a:t> de acuerdo a lo dispuesto por la ley previsional</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mienda </a:t>
            </a:r>
            <a:r>
              <a:rPr b="1" lang="en-US" sz="3200" spc="-1" strike="noStrike">
                <a:solidFill>
                  <a:srgbClr val="000000"/>
                </a:solidFill>
                <a:latin typeface="Times New Roman"/>
              </a:rPr>
              <a:t>separar</a:t>
            </a:r>
            <a:r>
              <a:rPr b="0" lang="en-US" sz="3200" spc="-1" strike="noStrike">
                <a:solidFill>
                  <a:srgbClr val="000000"/>
                </a:solidFill>
                <a:latin typeface="Times New Roman"/>
              </a:rPr>
              <a:t> el archivo de los legajos en dos sectores:</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rsonal en actividad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rsonal egresado</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585550-A980-4596-B67F-3204CCC80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S DE LEGAJO</a:t>
            </a:r>
            <a:endParaRPr b="0" lang="en-US" sz="4400" spc="-1" strike="noStrike">
              <a:solidFill>
                <a:srgbClr val="000000"/>
              </a:solidFill>
              <a:latin typeface="Times New Roman"/>
            </a:endParaRPr>
          </a:p>
        </p:txBody>
      </p:sp>
      <p:sp>
        <p:nvSpPr>
          <p:cNvPr id="91" name="PlaceHolder 2"/>
          <p:cNvSpPr>
            <a:spLocks noGrp="1"/>
          </p:cNvSpPr>
          <p:nvPr>
            <p:ph/>
          </p:nvPr>
        </p:nvSpPr>
        <p:spPr>
          <a:xfrm>
            <a:off x="1066680" y="1981080"/>
            <a:ext cx="65534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y varios tipos de legaj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jo </a:t>
            </a:r>
            <a:r>
              <a:rPr b="1" lang="en-US" sz="2800" spc="-1" strike="noStrike">
                <a:solidFill>
                  <a:srgbClr val="000000"/>
                </a:solidFill>
                <a:latin typeface="Times New Roman"/>
              </a:rPr>
              <a:t>perso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jo </a:t>
            </a:r>
            <a:r>
              <a:rPr b="1" lang="en-US" sz="2800" spc="-1" strike="noStrike">
                <a:solidFill>
                  <a:srgbClr val="000000"/>
                </a:solidFill>
                <a:latin typeface="Times New Roman"/>
              </a:rPr>
              <a:t>médic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jo</a:t>
            </a:r>
            <a:r>
              <a:rPr b="1" lang="en-US" sz="2800" spc="-1" strike="noStrike">
                <a:solidFill>
                  <a:srgbClr val="000000"/>
                </a:solidFill>
                <a:latin typeface="Times New Roman"/>
              </a:rPr>
              <a:t> seguridad social y fisca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ECE09B-09DC-438C-AD5A-1410CA49A8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JO PERSONAL</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legajo será creado, mantenido y custodiado por la oficina de RRHH, la oficina de personal o la oficina administrativa según sea la envergadura de la empres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él se archivará toda la documentación administrativa referida al empleado desde el primer contacto con la empresa hasta su egres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791EDF-8A6A-4500-93F0-8AFAB8E207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IDO DEL LEGAJO PERSONAL</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523880"/>
            <a:ext cx="815328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odo de ejemplo, debería contener:</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iso de búsqueda de personal</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a y/o solicitud de ingreso. Curriculum vitae</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en de ingreso y evaluación de competencia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evista y su evaluación</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e ambiental y verificación de antecedentes con las limitaciones de la ley de Habeas Dat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alidad de contratación y contrato si lo hubiere</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ción del período de prueba</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500443-790D-4EAB-AE77-609E9B8F5C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4320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600200"/>
            <a:ext cx="8077320" cy="449568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tocopia de las dos primeras hojas del </a:t>
            </a:r>
            <a:r>
              <a:rPr b="0" lang="en-US" sz="2400" spc="-1" strike="noStrike">
                <a:solidFill>
                  <a:srgbClr val="000000"/>
                </a:solidFill>
                <a:latin typeface="Times New Roman"/>
              </a:rPr>
              <a:t>DNI</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tografía tipo carnet actualizada al ingreso</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DJJ </a:t>
            </a:r>
            <a:r>
              <a:rPr b="0" lang="en-US" sz="2800" spc="-1" strike="noStrike">
                <a:solidFill>
                  <a:srgbClr val="000000"/>
                </a:solidFill>
                <a:latin typeface="Times New Roman"/>
              </a:rPr>
              <a:t>del domicilio real y del domicilio alternativo</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unicación de incorporación</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ignación del lugar de trabajo, horario, categoría y tareas a realizar</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ignación de la remuneración y </a:t>
            </a:r>
            <a:r>
              <a:rPr b="0" lang="en-US" sz="2400" spc="-1" strike="noStrike">
                <a:solidFill>
                  <a:srgbClr val="000000"/>
                </a:solidFill>
                <a:latin typeface="Times New Roman"/>
              </a:rPr>
              <a:t>CCT</a:t>
            </a:r>
            <a:r>
              <a:rPr b="0" lang="en-US" sz="2800" spc="-1" strike="noStrike">
                <a:solidFill>
                  <a:srgbClr val="000000"/>
                </a:solidFill>
                <a:latin typeface="Times New Roman"/>
              </a:rPr>
              <a:t> aplicable</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pción del reglamento interno</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pción de uniforme y/o elementos de trabajo si la tarea lo requirie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E895BB-D43B-4647-9E27-9D2A8485F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5087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unicación de licencias ordinarias, excedencia, gremial, extraordinarias, por trabajo temporada,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sos de capacitación, evalua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es de ausencias, sanciones,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censos y traslados, cambios de categoría y/o tarea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obante de incorporación al Seguro Obliga- torio Dec.1564/74 con recepción firmad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ción de beneficiarios del Seguro Obliga-torio Dec.1564/74</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evista de egreso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D638A5-120D-49A8-95EE-4BBCC93E66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5T22:31:25Z</dcterms:created>
  <dc:creator>CLIENT</dc:creator>
  <dc:description/>
  <dc:language>en-US</dc:language>
  <cp:lastModifiedBy>Administrator</cp:lastModifiedBy>
  <dcterms:modified xsi:type="dcterms:W3CDTF">2011-06-20T02:29:00Z</dcterms:modified>
  <cp:revision>9</cp:revision>
  <dc:subject/>
  <dc:title>PARTE II   LOS LEGAJOS</dc:title>
</cp:coreProperties>
</file>