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77600" cy="90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08240" y="-36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76200" y="679320"/>
            <a:ext cx="4524480" cy="339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59752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08240" y="859752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189A-B911-4CF9-BADC-1B31F845416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008600" y="8597880"/>
            <a:ext cx="30668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F4D6-58E5-40CA-AE27-E1F329347055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76200" y="679320"/>
            <a:ext cx="4524480" cy="33940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76200" y="679320"/>
            <a:ext cx="4524480" cy="3394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CONDUCCIÓN (40% del Mercado Argentino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alibri"/>
              </a:rPr>
              <a:t>Negro Biselad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alibri"/>
              </a:rPr>
              <a:t>Epox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alibri"/>
              </a:rPr>
              <a:t>Galvanizad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alibri"/>
              </a:rPr>
              <a:t>AST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alibri"/>
              </a:rPr>
              <a:t>Tipo Condui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alibri"/>
              </a:rPr>
              <a:t>Revestido en tricap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ESTRUCTURAL (15% del Mercado Argentino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alibri"/>
              </a:rPr>
              <a:t>Livian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alibri"/>
              </a:rPr>
              <a:t>Semi pesad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alibri"/>
              </a:rPr>
              <a:t>Pesad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CONSTRUCCIÓN EN SECO (30% de Mercado Arg.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alibri"/>
              </a:rPr>
              <a:t>Steel House Paredes (Dry Wall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alibri"/>
              </a:rPr>
              <a:t>Steel House Estructural (Steel Frame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PRODUCTOS VI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4008600" y="8597880"/>
            <a:ext cx="30668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508D-154C-40E6-88AD-E19E60B99DC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E89-73E6-41F2-B019-6116D4DF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BAE-5BD5-47A6-9869-B7C02682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3F0-214D-4CBE-BC39-3FC8DC37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C72E-977E-4572-8B56-C4120A47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1A6D-F029-434C-8681-EB1FD67D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159E-8344-4371-83E4-C1F0AAFD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3283-5364-4911-8FD6-08B3CA4C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10CF-2CCE-4055-874D-5563D254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937F-6AD5-4169-9687-086E6EAF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705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CB69-5C87-4209-9B79-6D139C4D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CCFA-138E-469C-AB14-73D03420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0A8-7C6A-41FE-A813-A0A9B4C1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E390-2A67-4C19-AB50-035A1801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EB43-5ECD-4214-8616-A364287C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A0AA-7029-4171-ADCA-D39BD957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707D-DB7E-4A60-9964-DA7C416F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F682-3CE6-45B1-AA70-5DC210EF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F69F-6A1F-4B65-BCDA-B01FFD16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5073-2496-4C4E-B749-3CD47E29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E86E-B0F3-4C59-A42E-E9809581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705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57C4-B51D-42FC-80D2-0DB189A5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F87-6AF4-402E-B2C2-AF703D59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856-1A32-4641-9E69-89AA1257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0B3C-F0E9-42D3-BE51-911D6440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BF00-4F5B-40CC-BBA8-B4B99E4974A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63E6-5488-4573-B174-59E8DB011A2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tasa"/>
          <p:cNvPicPr/>
          <p:nvPr/>
        </p:nvPicPr>
        <p:blipFill>
          <a:blip r:embed="rId2"/>
          <a:stretch/>
        </p:blipFill>
        <p:spPr>
          <a:xfrm>
            <a:off x="7207200" y="0"/>
            <a:ext cx="1936800" cy="96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3"/>
          <a:stretch/>
        </p:blipFill>
        <p:spPr>
          <a:xfrm>
            <a:off x="0" y="6039000"/>
            <a:ext cx="9144000" cy="84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56272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7054920" y="0"/>
            <a:ext cx="208908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800" spc="-1" strike="noStrike">
                <a:solidFill>
                  <a:srgbClr val="ff3300"/>
                </a:solidFill>
                <a:latin typeface="Arial"/>
              </a:rPr>
              <a:t>STEEL  HOUSE  DO  BRASI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c8c9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Primera Etapa (2010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8c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3c8c93"/>
                </a:solidFill>
                <a:latin typeface="Arial"/>
              </a:rPr>
              <a:t>Comercialización Estados del S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8c9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c8c9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Segunda Etapa (2011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8c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3c8c93"/>
                </a:solidFill>
                <a:latin typeface="Arial"/>
              </a:rPr>
              <a:t>Comercialización Estados del Sud E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8c9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c8c9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Tercera Etapa (2012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8c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3c8c93"/>
                </a:solidFill>
                <a:latin typeface="Arial"/>
              </a:rPr>
              <a:t>Proyecto Industrial en Bras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000000"/>
                </a:solidFill>
                <a:latin typeface="Arial"/>
              </a:rPr>
              <a:t>Actividades  para  Insta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240" y="9907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Captación de Personal Superior radicado en Brasi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i="1" lang="es-AR" sz="2600" spc="-1" strike="noStrike">
                <a:solidFill>
                  <a:srgbClr val="000000"/>
                </a:solidFill>
                <a:latin typeface="Arial"/>
              </a:rPr>
              <a:t>Condiciones de Azar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Porto Alegre: Cercanía y facil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Socio Brasilero: Ya no es necesario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Convenio Radicación Ciudadanos Argentinos.  Trámite muy simple que habilita al argentino residente a ser “Administrador” de una Soc. Lt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Responsabilidad del Socio Administr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Elección del Estudio de Abog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Elección del Estudio de Contado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Importancia de acercarse al Consul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Elección de un Sistema Electrónico de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000000"/>
                </a:solidFill>
                <a:latin typeface="Arial"/>
              </a:rPr>
              <a:t>Actividades  para  Insta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ccionistas de la sociedad: </a:t>
            </a: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Tubos Argentinos S.A.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(Argentina 99%) e </a:t>
            </a: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Intasa S.A.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(Chile 1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Representante legal de Sociedades Extranjeras: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Ser persona física distinta del Administ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Domicilio de la sociedad: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Necesidad de alquilar un espacio físico propio. En Brasil no se admite un domicilio legal compartido con estudio profesional o con otr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ema Seguridad: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dominios de Depós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írculo vicioso: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probación de la sociedad para poder alquilar…  Necesidad de un domicilio para constituir la soc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000000"/>
                </a:solidFill>
                <a:latin typeface="Arial"/>
              </a:rPr>
              <a:t>Actividades  para  Insta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99036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ramitación del RADAR: Autorización de importación que otorga el Gobierno. Límite en US$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ección de Banco y apertura de Cu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xcelente Bancarización de Bras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xportación desde Argentina en Re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ertificación del producto según normas técnicas Brasil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Visita a Distribuidores: </a:t>
            </a: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“Piensan en Real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Gran capítulo: </a:t>
            </a: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“Entender los impuestos en Brasil”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sorpresa de los precios: </a:t>
            </a: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“Incluyen impuesto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elección de Representantes Comer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000000"/>
                </a:solidFill>
                <a:latin typeface="Arial"/>
              </a:rPr>
              <a:t>Actividades  para  Insta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ección de Agente Aduanero: Importante la coordinación con Despachante Argent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ructura defini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n Ger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n Administr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n Operador de Autoelev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inco Representantes Comer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branza Bancaria: Baja incobr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agos por Internet desde Argen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el primer año de actividades captamos el 35% del mercado en los Estados del S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000000"/>
                </a:solidFill>
                <a:latin typeface="Arial"/>
              </a:rPr>
              <a:t>Segunda Etapa: Estados S.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56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nstalación en San Pablo: Operador Logí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égimen Especial que permite en centros logísticos fijar domicil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nálisis Costo Logístico Integ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ección de un Representante Comercial en San Pab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stitución de una sucursal en San Pab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lo comerc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amos realizando un curso mensual gratu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marca ya es reconocida en el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1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4008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000" spc="-1" strike="noStrike">
                <a:solidFill>
                  <a:srgbClr val="00b050"/>
                </a:solidFill>
                <a:latin typeface="Arial"/>
              </a:rPr>
              <a:t>BRAS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La oportunidad de un mercado enor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Un desafío para las empresas argentin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Una necesidad para las empresas globa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0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0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Documents and Settings\mferrando\Escritorio\Fotos Planta\IMG_2488.JPG"/>
          <p:cNvPicPr/>
          <p:nvPr/>
        </p:nvPicPr>
        <p:blipFill>
          <a:blip r:embed="rId1"/>
          <a:stretch/>
        </p:blipFill>
        <p:spPr>
          <a:xfrm>
            <a:off x="4800600" y="3200400"/>
            <a:ext cx="3816360" cy="2743200"/>
          </a:xfrm>
          <a:prstGeom prst="rect">
            <a:avLst/>
          </a:prstGeom>
          <a:ln w="19080">
            <a:solidFill>
              <a:srgbClr val="6b6bcf"/>
            </a:solidFill>
            <a:bevel/>
          </a:ln>
        </p:spPr>
      </p:pic>
      <p:pic>
        <p:nvPicPr>
          <p:cNvPr id="132" name="Picture 3" descr="C:\Documents and Settings\mferrando\Escritorio\Fotos Planta\Imagen 150.jpg"/>
          <p:cNvPicPr/>
          <p:nvPr/>
        </p:nvPicPr>
        <p:blipFill>
          <a:blip r:embed="rId2"/>
          <a:stretch/>
        </p:blipFill>
        <p:spPr>
          <a:xfrm>
            <a:off x="685800" y="3200400"/>
            <a:ext cx="3657600" cy="2743200"/>
          </a:xfrm>
          <a:prstGeom prst="rect">
            <a:avLst/>
          </a:prstGeom>
          <a:ln w="19080">
            <a:solidFill>
              <a:srgbClr val="6b6bcf"/>
            </a:solidFill>
            <a:bevel/>
          </a:ln>
        </p:spPr>
      </p:pic>
      <p:pic>
        <p:nvPicPr>
          <p:cNvPr id="133" name="Picture 9" descr=""/>
          <p:cNvPicPr/>
          <p:nvPr/>
        </p:nvPicPr>
        <p:blipFill>
          <a:blip r:embed="rId3"/>
          <a:stretch/>
        </p:blipFill>
        <p:spPr>
          <a:xfrm>
            <a:off x="152280" y="496800"/>
            <a:ext cx="3495960" cy="2490840"/>
          </a:xfrm>
          <a:prstGeom prst="rect">
            <a:avLst/>
          </a:prstGeom>
          <a:ln w="19080">
            <a:solidFill>
              <a:srgbClr val="6b6bcf"/>
            </a:solidFill>
            <a:bevel/>
          </a:ln>
        </p:spPr>
      </p:pic>
      <p:pic>
        <p:nvPicPr>
          <p:cNvPr id="134" name="Picture 10" descr=""/>
          <p:cNvPicPr/>
          <p:nvPr/>
        </p:nvPicPr>
        <p:blipFill>
          <a:blip r:embed="rId4"/>
          <a:stretch/>
        </p:blipFill>
        <p:spPr>
          <a:xfrm>
            <a:off x="3886200" y="496800"/>
            <a:ext cx="3276720" cy="2502000"/>
          </a:xfrm>
          <a:prstGeom prst="rect">
            <a:avLst/>
          </a:prstGeom>
          <a:ln w="19080">
            <a:solidFill>
              <a:srgbClr val="6b6bcf"/>
            </a:solidFill>
            <a:bevel/>
          </a:ln>
        </p:spPr>
      </p:pic>
    </p:spTree>
  </p:cSld>
  <p:transition spd="med">
    <p:fad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000"/>
                            </p:stCondLst>
                            <p:childTnLst>
                              <p:par>
                                <p:cTn id="5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Una empresa del GRUPO 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P: Acería de Chile integrada c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bricación de productos planos y lamin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ineral de Hierro y pellets prop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ábricas de Tubos en Chile, Argentina y Per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ntros de Servicios en Ch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bricación de Paneles y Galpones en Ch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a cartera de clientes en los tres paí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boratorio de Innovación en Ac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íder en Latinoamérica en tecnología de Perfiles Galvanizados para Construcción en Se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tizamos en Bolsa de Santiago de Chile: INTA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AP Minería"/>
          <p:cNvPicPr/>
          <p:nvPr/>
        </p:nvPicPr>
        <p:blipFill>
          <a:blip r:embed="rId1"/>
          <a:stretch/>
        </p:blipFill>
        <p:spPr>
          <a:xfrm>
            <a:off x="303120" y="1295280"/>
            <a:ext cx="251640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AP Acero"/>
          <p:cNvPicPr/>
          <p:nvPr/>
        </p:nvPicPr>
        <p:blipFill>
          <a:blip r:embed="rId2"/>
          <a:stretch/>
        </p:blipFill>
        <p:spPr>
          <a:xfrm>
            <a:off x="3200400" y="12841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AP Procesamiento Acero"/>
          <p:cNvPicPr/>
          <p:nvPr/>
        </p:nvPicPr>
        <p:blipFill>
          <a:blip r:embed="rId3"/>
          <a:stretch/>
        </p:blipFill>
        <p:spPr>
          <a:xfrm>
            <a:off x="6095880" y="12952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98" name="6 CuadroTexto"/>
          <p:cNvSpPr/>
          <p:nvPr/>
        </p:nvSpPr>
        <p:spPr>
          <a:xfrm>
            <a:off x="304920" y="0"/>
            <a:ext cx="699912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00b0f0"/>
                </a:solidFill>
                <a:latin typeface="Arial"/>
                <a:ea typeface="Arial"/>
              </a:rPr>
              <a:t>TUBOS ARGENTINOS S.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UNA COMPAÑÍA DEL GRUPO 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4"/>
          <a:srcRect l="0" t="0" r="58010" b="0"/>
          <a:stretch/>
        </p:blipFill>
        <p:spPr>
          <a:xfrm>
            <a:off x="5486400" y="4267080"/>
            <a:ext cx="2286000" cy="1654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Ver imagen en tamaño completo"/>
          <p:cNvPicPr/>
          <p:nvPr/>
        </p:nvPicPr>
        <p:blipFill>
          <a:blip r:embed="rId5"/>
          <a:stretch/>
        </p:blipFill>
        <p:spPr>
          <a:xfrm>
            <a:off x="7010280" y="4038480"/>
            <a:ext cx="876600" cy="584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6"/>
          <a:stretch/>
        </p:blipFill>
        <p:spPr>
          <a:xfrm>
            <a:off x="609480" y="4267080"/>
            <a:ext cx="3524400" cy="1882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Nuestra Historia: 102 a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5000"/>
              </a:lnSpc>
              <a:spcBef>
                <a:spcPts val="601"/>
              </a:spcBef>
              <a:buClr>
                <a:srgbClr val="0070c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ubos Argentinos es la continuadora de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“Fábrica Argentina de Caños de Acero Mauricio Silbert S.A.”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ndada en 19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930: Comienza la fabricación seriada de caños.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960: Laminador prop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2: CINTAC  toma el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70c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6: Adquisición de Planta en San Luis.                                    Hoy: Planta de Perfiles para Dry Wall y Steel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: CAP toma el contr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uración: 90 MMUS$ y 65 MTON. Ac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ME de un Grupo Global Latinoameric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tubos-institucionalDer"/>
          <p:cNvPicPr/>
          <p:nvPr/>
        </p:nvPicPr>
        <p:blipFill>
          <a:blip r:embed="rId1"/>
          <a:stretch/>
        </p:blipFill>
        <p:spPr>
          <a:xfrm>
            <a:off x="5908680" y="1447920"/>
            <a:ext cx="323532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0" y="5985000"/>
            <a:ext cx="9144000" cy="873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b6bcf"/>
                </a:solidFill>
                <a:latin typeface="Arial"/>
              </a:rPr>
              <a:t>LÍNEAS 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68816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NDUCCIÓN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(40% del Mercado Argentino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Negro Bise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po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alvani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Tipo Cond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Revestido en tric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STRUCTURAL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(15% del Mercado Argentino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iv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emi pes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es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NSTRUCCIÓN EN SECO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(35%Merc. Arg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teel House Paredes (Dry W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teel House Estructural (Steel Fram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ODUCTOS V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0" y="-609480"/>
            <a:ext cx="9144000" cy="244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"/>
          <p:cNvPicPr/>
          <p:nvPr/>
        </p:nvPicPr>
        <p:blipFill>
          <a:blip r:embed="rId1"/>
          <a:srcRect l="0" t="0" r="58010" b="0"/>
          <a:stretch/>
        </p:blipFill>
        <p:spPr>
          <a:xfrm>
            <a:off x="2573280" y="2209680"/>
            <a:ext cx="3370320" cy="243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Ver imagen en tamaño completo"/>
          <p:cNvPicPr/>
          <p:nvPr/>
        </p:nvPicPr>
        <p:blipFill>
          <a:blip r:embed="rId2"/>
          <a:stretch/>
        </p:blipFill>
        <p:spPr>
          <a:xfrm>
            <a:off x="4724280" y="1905120"/>
            <a:ext cx="1143000" cy="76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47840">
              <a:spcBef>
                <a:spcPts val="7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junto de elementos constructivos que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relacionados entre sí, permiten construir una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vivien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"/>
              </a:lnSpc>
              <a:spcBef>
                <a:spcPts val="700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7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e trata del sistema de construcción en seco,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que utiliza el acero como estructura (columnas)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s placas de yeso y aislaciones como ladri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7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Ventajas tecnológicas, pero problema cultural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Argent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7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0070c0"/>
                </a:solidFill>
                <a:latin typeface="Arial"/>
              </a:rPr>
              <a:t>www.tubosarg.com.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7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s-AR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0070c0"/>
                </a:solidFill>
                <a:latin typeface="Arial"/>
              </a:rPr>
              <a:t>www.steelhouse.com.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Premisas  del  Proye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xperiencia del negocio de nuestra filial en Ch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l perfil de acero galvanizado…es un commod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¿Cómo salir del commod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remis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 incorporación de la Palabra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Promocionar la idea del sistema constr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Capacitar en su utilización en forma gratu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Respetar la cadena de val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71460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Fabric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71460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Distribui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71460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Construct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Premisas del Proye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levar el concepto “Steel House” al Mercos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Registración de mar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2008: Necesidad de estar instalados en Bras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2009: Aprobación del Proyecto por Directo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egundo semestre 2009: Seis meses para abrir la filial en Porto Aleg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ño 2010: Creación de </a:t>
            </a:r>
            <a:r>
              <a:rPr b="0" i="1" lang="es-AR" sz="2800" spc="-1" strike="noStrike">
                <a:solidFill>
                  <a:srgbClr val="0070c0"/>
                </a:solidFill>
                <a:latin typeface="Arial"/>
              </a:rPr>
              <a:t>Steel House do Brasil Comercio Ltda.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(Porto Alegr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Modelo de Negoc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apacitación Gratuita en 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sesoramiento Gratuito en Obra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20:45:12Z</dcterms:created>
  <dc:creator>Marcelo Ferrando</dc:creator>
  <dc:description/>
  <dc:language>en-US</dc:language>
  <cp:lastModifiedBy> liliferrando</cp:lastModifiedBy>
  <dcterms:modified xsi:type="dcterms:W3CDTF">2011-06-20T23:15:15Z</dcterms:modified>
  <cp:revision>697</cp:revision>
  <dc:subject/>
  <dc:title>INDICADOR DÍAS EN LA CALLE</dc:title>
</cp:coreProperties>
</file>