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4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4E29-304B-4AE8-A721-417283803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8DBA-4947-44B8-9D77-04880E0D6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3074-BF43-44E9-91B1-CBF590F43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731F-4B76-46A1-85A6-450A3623C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AE575-0E89-4BEE-8F05-690395167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06F25-436A-4BA6-8897-42D527FF7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037F6-BD55-4087-BBE2-AF6F9410F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9ACF5-9C53-43A7-BDDF-D07D8ABDA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7D572-7C3A-4AC0-B5C1-E6FFD4BA6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637E6-CBFB-436A-8E95-9F76AFE3F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7DC53-DFC9-40D6-B748-6CE806DE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60FC-A453-4266-9076-57CC8F72C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E2FDE-3C90-48A1-8BE7-AC41C055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19FDB-9E6C-4A01-9DAF-77A3B097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880B2-48D6-4104-9E5E-81D0514E4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7BF18-5087-4439-A006-091606DEF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5DB9E-EBDE-4FC6-99AD-F95793644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D428-51F7-46AD-B0B4-C100CA2E6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BA8C-CA6E-4381-A432-45E501B2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F7DB-1845-4AD7-B362-1EED0F250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E846-A4E6-47F1-A85B-CCE5B8BFE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4E67-20DC-4231-8DDB-A7FF0494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B4AF-36E1-47DB-B9A2-5630BA12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4D85-13D0-49F6-B6B0-51D0E855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54CB-8963-4BD0-A0E7-1B9D5B780F04}" type="slidenum">
              <a:rPr b="0" lang="es-ES_trad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03ED7-A611-4D6B-826C-59C4CFF2FDE8}" type="slidenum">
              <a:rPr b="0" lang="es-ES_trad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667640" y="0"/>
            <a:ext cx="1476360" cy="14112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747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ecff"/>
                </a:solidFill>
                <a:latin typeface="MetaPlusBold-Roman"/>
              </a:rPr>
              <a:t>Argentina-Brasil </a:t>
            </a:r>
            <a:br>
              <a:rPr sz="3600"/>
            </a:br>
            <a:r>
              <a:rPr b="1" lang="es-ES_tradnl" sz="3600" spc="-1" strike="noStrike">
                <a:solidFill>
                  <a:srgbClr val="ccecff"/>
                </a:solidFill>
                <a:latin typeface="MetaPlusBold-Roman"/>
              </a:rPr>
              <a:t>Oportunidades comermciale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MetaPlusBold-Roman"/>
              </a:rPr>
              <a:t>Ermoplas S.R.L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MetaPlusBold-Roman"/>
              </a:rPr>
              <a:t>Como se generó el intercambio comercial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MetaPlusBold-Roman"/>
              </a:rPr>
              <a:t>Dificultades y solucion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MetaPlusBold-Roman"/>
              </a:rPr>
              <a:t>Próximos planes en Brasil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MetaPlusBold-Roman"/>
              </a:rPr>
              <a:t>Consejos para exportar a Brasil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4764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916360" cy="1989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0" y="4365720"/>
            <a:ext cx="2987640" cy="24922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6084720" y="4581360"/>
            <a:ext cx="3059280" cy="22766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4789440" y="0"/>
            <a:ext cx="1368360" cy="1989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0" y="1989000"/>
            <a:ext cx="1547640" cy="23767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6"/>
          <a:stretch/>
        </p:blipFill>
        <p:spPr>
          <a:xfrm>
            <a:off x="6084720" y="1989000"/>
            <a:ext cx="3059280" cy="26863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7"/>
          <a:stretch/>
        </p:blipFill>
        <p:spPr>
          <a:xfrm>
            <a:off x="2916360" y="0"/>
            <a:ext cx="1008000" cy="981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8"/>
          <a:stretch/>
        </p:blipFill>
        <p:spPr>
          <a:xfrm>
            <a:off x="3924360" y="0"/>
            <a:ext cx="865080" cy="19890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9"/>
          <a:stretch/>
        </p:blipFill>
        <p:spPr>
          <a:xfrm>
            <a:off x="2916360" y="90792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0"/>
          <a:stretch/>
        </p:blipFill>
        <p:spPr>
          <a:xfrm>
            <a:off x="2987640" y="4365720"/>
            <a:ext cx="3097080" cy="24922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1"/>
          <a:stretch/>
        </p:blipFill>
        <p:spPr>
          <a:xfrm>
            <a:off x="6084720" y="0"/>
            <a:ext cx="3059280" cy="1989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2"/>
          <a:stretch/>
        </p:blipFill>
        <p:spPr>
          <a:xfrm>
            <a:off x="1258920" y="1989000"/>
            <a:ext cx="1689120" cy="23767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3"/>
          <a:stretch/>
        </p:blipFill>
        <p:spPr>
          <a:xfrm>
            <a:off x="2916360" y="1989000"/>
            <a:ext cx="316836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667640" y="0"/>
            <a:ext cx="1476360" cy="14112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747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ecff"/>
                </a:solidFill>
                <a:latin typeface="MetaPlusBold-Roman"/>
              </a:rPr>
              <a:t>Argentina-Brasil </a:t>
            </a:r>
            <a:br>
              <a:rPr sz="3600"/>
            </a:br>
            <a:r>
              <a:rPr b="1" lang="es-ES_tradnl" sz="3600" spc="-1" strike="noStrike">
                <a:solidFill>
                  <a:srgbClr val="ccecff"/>
                </a:solidFill>
                <a:latin typeface="MetaPlusBold-Roman"/>
              </a:rPr>
              <a:t>Oportunidades comermciale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MetaPlusBold-Roman"/>
              </a:rPr>
              <a:t>Primera exportación en el año 1987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MetaPlusBold-Roman"/>
              </a:rPr>
              <a:t>Primera importación 1996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MetaPlusBold-Roman"/>
              </a:rPr>
              <a:t>En 2001 incorporación de L’oreal en cartera de client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MetaPlusBold-Roman"/>
              </a:rPr>
              <a:t>Crecimiento del Intercambio:                                    1987 u$s 125.000                                                         2010  u$s 728.0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250920" y="1341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ecff"/>
                </a:solidFill>
                <a:latin typeface="MetaPlusBold-Roman"/>
              </a:rPr>
              <a:t>Como se generó el intercambio comer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7636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667640" y="0"/>
            <a:ext cx="1476360" cy="14112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60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ecff"/>
                </a:solidFill>
                <a:latin typeface="MetaPlusBold-Roman"/>
              </a:rPr>
              <a:t>Argentina-Brasil </a:t>
            </a:r>
            <a:br>
              <a:rPr sz="3600"/>
            </a:br>
            <a:r>
              <a:rPr b="1" lang="es-ES_tradnl" sz="3600" spc="-1" strike="noStrike">
                <a:solidFill>
                  <a:srgbClr val="ccecff"/>
                </a:solidFill>
                <a:latin typeface="MetaPlusBold-Roman"/>
              </a:rPr>
              <a:t>Oportunidades comermciale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4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/>
          <p:nvPr/>
        </p:nvSpPr>
        <p:spPr>
          <a:xfrm>
            <a:off x="250920" y="981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ecff"/>
                </a:solidFill>
                <a:latin typeface="MetaPlusBold-Roman"/>
              </a:rPr>
              <a:t>Dificultades y Solu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40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MetaPlusBold-Roman"/>
              </a:rPr>
              <a:t>Operativ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MetaPlusBold-Roman"/>
              </a:rPr>
              <a:t>-Aduaner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MetaPlusBold-Roman"/>
              </a:rPr>
              <a:t>-Financier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MetaPlusBold-Roman"/>
              </a:rPr>
              <a:t>-Logístic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MetaPlusBold-Roman"/>
              </a:rPr>
              <a:t>-Impositiv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MetaPlusBold-Roman"/>
              </a:rPr>
              <a:t>Cultura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MetaPlusBold-Roman"/>
              </a:rPr>
              <a:t>-Desconfianza Histór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MetaPlusBold-Roman"/>
              </a:rPr>
              <a:t>-Apertura económ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MetaPlusBold-Roman"/>
              </a:rPr>
              <a:t>-Nacionalism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0328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667640" y="0"/>
            <a:ext cx="1476360" cy="14112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60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ecff"/>
                </a:solidFill>
                <a:latin typeface="MetaPlusBold-Roman"/>
              </a:rPr>
              <a:t>Argentina-Brasil </a:t>
            </a:r>
            <a:br>
              <a:rPr sz="3600"/>
            </a:br>
            <a:r>
              <a:rPr b="1" lang="es-ES_tradnl" sz="3600" spc="-1" strike="noStrike">
                <a:solidFill>
                  <a:srgbClr val="ccecff"/>
                </a:solidFill>
                <a:latin typeface="MetaPlusBold-Roman"/>
              </a:rPr>
              <a:t>Oportunidades comermciale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4360" y="26474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MetaPlusBold-Roman"/>
              </a:rPr>
              <a:t>Grupo Exportado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MetaPlusBold-Roman"/>
              </a:rPr>
              <a:t>Evaluación del SML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MetaPlusBold-Roman"/>
              </a:rPr>
              <a:t>Búsqueda de Parceir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MetaPlusBold-Roman"/>
              </a:rPr>
              <a:t>Ermoplas do Brasil Ltd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50920" y="1341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ecff"/>
                </a:solidFill>
                <a:latin typeface="MetaPlusBold-Roman"/>
              </a:rPr>
              <a:t>Próximos Pla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7636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667640" y="0"/>
            <a:ext cx="1476360" cy="14112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60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ecff"/>
                </a:solidFill>
                <a:latin typeface="MetaPlusBold-Roman"/>
              </a:rPr>
              <a:t>Argentina-Brasil </a:t>
            </a:r>
            <a:br>
              <a:rPr sz="3600"/>
            </a:br>
            <a:r>
              <a:rPr b="1" lang="es-ES_tradnl" sz="3600" spc="-1" strike="noStrike">
                <a:solidFill>
                  <a:srgbClr val="ccecff"/>
                </a:solidFill>
                <a:latin typeface="MetaPlusBold-Roman"/>
              </a:rPr>
              <a:t>Oportunidades comermciale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4360" y="26474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MetaPlusBold-Roman"/>
              </a:rPr>
              <a:t>Asociación a Cambra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MetaPlusBold-Roman"/>
              </a:rPr>
              <a:t>Asesoramiento profesional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MetaPlusBold-Roman"/>
              </a:rPr>
              <a:t>Perseveranci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250920" y="1341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ecff"/>
                </a:solidFill>
                <a:latin typeface="MetaPlusBold-Roman"/>
              </a:rPr>
              <a:t>Consej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7636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667640" y="0"/>
            <a:ext cx="1476360" cy="14112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60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ecff"/>
                </a:solidFill>
                <a:latin typeface="MetaPlusBold-Roman"/>
              </a:rPr>
              <a:t>Argentina-Brasil </a:t>
            </a:r>
            <a:br>
              <a:rPr sz="3600"/>
            </a:br>
            <a:r>
              <a:rPr b="1" lang="es-ES_tradnl" sz="3600" spc="-1" strike="noStrike">
                <a:solidFill>
                  <a:srgbClr val="ccecff"/>
                </a:solidFill>
                <a:latin typeface="MetaPlusBold-Roman"/>
              </a:rPr>
              <a:t>Oportunidades comermciale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5280" y="3141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ccecff"/>
                </a:solidFill>
                <a:latin typeface="MetaPlusBold-Roman"/>
              </a:rPr>
              <a:t>MUCHAS GRACIA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7636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9T17:38:56Z</dcterms:created>
  <dc:creator>SANTIAGO</dc:creator>
  <dc:description/>
  <dc:language>en-US</dc:language>
  <cp:lastModifiedBy>Santiago Castro</cp:lastModifiedBy>
  <dcterms:modified xsi:type="dcterms:W3CDTF">2011-06-22T14:47:34Z</dcterms:modified>
  <cp:revision>40</cp:revision>
  <dc:subject/>
  <dc:title>Diapositiva 1</dc:title>
</cp:coreProperties>
</file>