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907588" cy="6858000"/>
  <p:notesSz cx="100155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1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38720" cy="343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73600" y="-360"/>
            <a:ext cx="4338720" cy="343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47840" y="514440"/>
            <a:ext cx="3716640" cy="25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00080" y="3257640"/>
            <a:ext cx="8013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38720" cy="343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73600" y="6513120"/>
            <a:ext cx="4338720" cy="343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3E46C35-9687-443A-8B69-06FBB39D5DC6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147840" y="514440"/>
            <a:ext cx="3716640" cy="25732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00080" y="3257640"/>
            <a:ext cx="80136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5673600" y="6513480"/>
            <a:ext cx="4338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54C3F3-7810-488C-A20C-98DB0A72C084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147840" y="514440"/>
            <a:ext cx="3716640" cy="25732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000080" y="3257640"/>
            <a:ext cx="80136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5673600" y="6513480"/>
            <a:ext cx="4338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9FEB539-AB87-497E-AF58-D5C9BB3CB72F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147840" y="514440"/>
            <a:ext cx="3716640" cy="25732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000080" y="3257640"/>
            <a:ext cx="80136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5673600" y="6513480"/>
            <a:ext cx="4338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CB32D1-EA57-4DFB-87AC-ACD21BD91497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7128-269A-466F-A82D-08FC8E84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5B2-29B5-4B6F-BFD3-CD7E26C6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520-54F0-4B89-AB9C-E4324016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42A-3847-42C9-8884-BB48B11A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D51-96F7-4A91-AA24-76B1B5C0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BCB-9C56-4A5A-AED1-FC3BDC20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3B8-1E70-4B63-A2B0-B2825A53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4EE-23F2-4928-A450-AE14C882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764-B3F6-46DA-BEEB-7C76E3BE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7B9-E5D9-41DE-9E8F-993EB5F1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CDC-50C6-4856-889B-4D9775FD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17EC-BD3A-4B2A-BBF5-E5143122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115F-9B48-46EC-9ACF-6B1E774DF4F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PCECABA</a:t>
            </a:r>
            <a:br>
              <a:rPr sz="1800"/>
            </a:b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Problemática de los profesionales que actúan en la actividad docente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AR" sz="2000" spc="-1" strike="noStrike">
                <a:solidFill>
                  <a:srgbClr val="000000"/>
                </a:solidFill>
                <a:latin typeface="Calibri"/>
              </a:rPr>
              <a:t>Actualización pedagógica y disciplinar para docentes </a:t>
            </a:r>
            <a:br>
              <a:rPr sz="2000"/>
            </a:br>
            <a:br>
              <a:rPr sz="4000"/>
            </a:br>
            <a:r>
              <a:rPr b="1" i="1" lang="es-AR" sz="4800" spc="-1" strike="noStrike">
                <a:solidFill>
                  <a:srgbClr val="000000"/>
                </a:solidFill>
                <a:latin typeface="Calibri"/>
              </a:rPr>
              <a:t>¿Cómo enseñar impuestos en las escuelas secundaria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3320" y="4005360"/>
            <a:ext cx="9712440" cy="27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Exposito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Dra. Graciela Paris - Dra. Liliana Sosis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CABA- 23 de mayo de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521000" y="333360"/>
            <a:ext cx="53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odos tenemos que tratar de que estos interrogantes no surjan m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¿Para qué pagar impuestos si los servicios públicos no funcion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¿Para qué ser contribuyente cumplidor si el dinero que pagamos luego es robado por los corruptos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ncepto de reciproci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1197000"/>
            <a:ext cx="9906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la formación de cultura tributaria se relaciona con el de 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ciudadanía fiscal, el deber ciudadano  de tributar para  favorecer el rol del 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y, por la otr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el buen uso de los recurso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la transparencia del gast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la rendición de cuentas 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la importancia de la auditoría social / veeduría ciudada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Fuentes del Derecho Tribut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5 Marcador de contenido" descr=""/>
          <p:cNvPicPr/>
          <p:nvPr/>
        </p:nvPicPr>
        <p:blipFill>
          <a:blip r:embed="rId1"/>
          <a:stretch/>
        </p:blipFill>
        <p:spPr>
          <a:xfrm>
            <a:off x="474840" y="542880"/>
            <a:ext cx="895644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Fuentes del Derecho Tribut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Constitución Nacional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: protege el derecho de propiedad y garantiza la igualdad en las cargas públ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Leyes tributarias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: todo tributo debe estar amparado por una 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Decretos Reglamentarios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: interpretan las le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Fuentes de Derecho Tribut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95000" y="1052640"/>
            <a:ext cx="8915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Resoluciones Administrativa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 son dictadas por el Director de la D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Resoluciones Reglamentarias :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tratan aspectos prácticos del impues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Resoluciones interpretativas  :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interpretan disposiciones de las leyes impositivas y de su regla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Normas de la D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Dictámenes interno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: reflejan la opinión de la D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Consultas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 la DGI opina sobre ciertas consulta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000000"/>
                </a:solidFill>
                <a:uFillTx/>
                <a:latin typeface="Calibri"/>
              </a:rPr>
              <a:t>Principios de la tribut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5000" y="1484280"/>
            <a:ext cx="89154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Los principios tributarios   se deberían tener en cuenta cuando se elaboran las normas tributarias  con el objetivo de proteger los derechos del Contribuyent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Principios Legales de la Tribut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Legalida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adie está obligado a pagar un impuesto si éste no tiene el sustento legal correspondi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Irretroactivida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: la norma impositiva debe ser anterior a los hechos sobre los cuales se a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Principios Legales de la Tribut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Igualdad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odos los que reúnen las mismas condiciones, establecidas por ley, pagan los mismos impues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Equidad 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be existir una relación razonable entre la base imponible y el impuesto que recae sobre ella, para que no  atente contra el derecho de propieda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Principios Legales de la Tribut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Proporcionalida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:el impuesto debe recaer en forma proporcional gravando más a los que más ganan o más patrimonio  pose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No confiscatoriedad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tributos no pueden ser tan elevados que resulten confiscatorios y atenten contra la propiedad privada de los contribuyen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55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nfoque de enseñanza </a:t>
            </a: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interdisciplinar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nta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form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conom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gislación y práctica imposi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ormación cívica/ciudad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re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4 CuadroTexto"/>
          <p:cNvSpPr/>
          <p:nvPr/>
        </p:nvSpPr>
        <p:spPr>
          <a:xfrm>
            <a:off x="5734080" y="3213000"/>
            <a:ext cx="335268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m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6 Conector recto de flecha"/>
          <p:cNvCxnSpPr/>
          <p:nvPr/>
        </p:nvCxnSpPr>
        <p:spPr>
          <a:xfrm flipH="1" flipV="1">
            <a:off x="3419280" y="1988640"/>
            <a:ext cx="2521440" cy="1153440"/>
          </a:xfrm>
          <a:prstGeom prst="straightConnector1">
            <a:avLst/>
          </a:prstGeom>
          <a:ln w="9360">
            <a:solidFill>
              <a:srgbClr val="ef9f28"/>
            </a:solidFill>
            <a:miter/>
            <a:tailEnd len="med" type="arrow" w="med"/>
          </a:ln>
        </p:spPr>
      </p:cxnSp>
      <p:cxnSp>
        <p:nvCxnSpPr>
          <p:cNvPr id="92" name="8 Conector recto de flecha"/>
          <p:cNvCxnSpPr/>
          <p:nvPr/>
        </p:nvCxnSpPr>
        <p:spPr>
          <a:xfrm flipH="1" flipV="1">
            <a:off x="3202920" y="2636640"/>
            <a:ext cx="2161080" cy="721440"/>
          </a:xfrm>
          <a:prstGeom prst="straightConnector1">
            <a:avLst/>
          </a:prstGeom>
          <a:ln w="9360">
            <a:solidFill>
              <a:srgbClr val="ef9f28"/>
            </a:solidFill>
            <a:miter/>
            <a:tailEnd len="med" type="arrow" w="med"/>
          </a:ln>
        </p:spPr>
      </p:cxnSp>
      <p:cxnSp>
        <p:nvCxnSpPr>
          <p:cNvPr id="93" name="10 Conector recto de flecha"/>
          <p:cNvCxnSpPr/>
          <p:nvPr/>
        </p:nvCxnSpPr>
        <p:spPr>
          <a:xfrm flipH="1" flipV="1">
            <a:off x="2987640" y="3428640"/>
            <a:ext cx="2161080" cy="288000"/>
          </a:xfrm>
          <a:prstGeom prst="straightConnector1">
            <a:avLst/>
          </a:prstGeom>
          <a:ln w="9360">
            <a:solidFill>
              <a:srgbClr val="ef9f28"/>
            </a:solidFill>
            <a:miter/>
            <a:tailEnd len="med" type="arrow" w="med"/>
          </a:ln>
        </p:spPr>
      </p:cxnSp>
      <p:cxnSp>
        <p:nvCxnSpPr>
          <p:cNvPr id="94" name="12 Conector recto de flecha"/>
          <p:cNvCxnSpPr/>
          <p:nvPr/>
        </p:nvCxnSpPr>
        <p:spPr>
          <a:xfrm flipH="1">
            <a:off x="5148000" y="4004280"/>
            <a:ext cx="1008720" cy="216360"/>
          </a:xfrm>
          <a:prstGeom prst="straightConnector1">
            <a:avLst/>
          </a:prstGeom>
          <a:ln w="9360">
            <a:solidFill>
              <a:srgbClr val="ef9f28"/>
            </a:solidFill>
            <a:miter/>
            <a:tailEnd len="med" type="arrow" w="med"/>
          </a:ln>
        </p:spPr>
      </p:cxnSp>
      <p:cxnSp>
        <p:nvCxnSpPr>
          <p:cNvPr id="95" name="14 Conector recto de flecha"/>
          <p:cNvCxnSpPr>
            <a:stCxn id="90" idx="2"/>
          </p:cNvCxnSpPr>
          <p:nvPr/>
        </p:nvCxnSpPr>
        <p:spPr>
          <a:xfrm flipH="1">
            <a:off x="4709520" y="3995640"/>
            <a:ext cx="2701080" cy="1318320"/>
          </a:xfrm>
          <a:prstGeom prst="straightConnector1">
            <a:avLst/>
          </a:prstGeom>
          <a:ln w="9360">
            <a:solidFill>
              <a:srgbClr val="ef9f28"/>
            </a:solidFill>
            <a:miter/>
            <a:tailEnd len="med" type="arrow" w="med"/>
          </a:ln>
        </p:spPr>
      </p:cxnSp>
      <p:cxnSp>
        <p:nvCxnSpPr>
          <p:cNvPr id="96" name="16 Conector recto de flecha"/>
          <p:cNvCxnSpPr/>
          <p:nvPr/>
        </p:nvCxnSpPr>
        <p:spPr>
          <a:xfrm flipH="1">
            <a:off x="3708000" y="4149720"/>
            <a:ext cx="3456720" cy="2232720"/>
          </a:xfrm>
          <a:prstGeom prst="straightConnector1">
            <a:avLst/>
          </a:prstGeom>
          <a:ln w="9360">
            <a:solidFill>
              <a:srgbClr val="ef9f28"/>
            </a:solidFill>
            <a:miter/>
            <a:tailEnd len="med" type="arrow" w="med"/>
          </a:ln>
        </p:spPr>
      </p:cxnSp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7215120" y="4365720"/>
            <a:ext cx="2320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Actualizar a los participantes sobre contenidos didácticos y disciplinares específicos.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Generar espacios de reflexión entre los distintos participant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eflexiones para mejorar la práctica docent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95000" y="1599840"/>
            <a:ext cx="89154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obre la acción (antes y despué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 la acción (durante el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sarroll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onald Schö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356520" y="3657600"/>
            <a:ext cx="1609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O EXPLICO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ERO ELLOS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APRENDE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C:\Documents and Settings\Favazza\Datos de programa\Microsoft\Media Catalog\Downloaded Clips\cl89\j0343347.wmf"/>
          <p:cNvPicPr/>
          <p:nvPr/>
        </p:nvPicPr>
        <p:blipFill>
          <a:blip r:embed="rId1"/>
          <a:stretch/>
        </p:blipFill>
        <p:spPr>
          <a:xfrm>
            <a:off x="6734160" y="228600"/>
            <a:ext cx="2805120" cy="2590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Favazza\Datos de programa\Microsoft\Media Catalog\Downloaded Clips\cl74\j0292112.wmf"/>
          <p:cNvPicPr/>
          <p:nvPr/>
        </p:nvPicPr>
        <p:blipFill>
          <a:blip r:embed="rId2"/>
          <a:stretch/>
        </p:blipFill>
        <p:spPr>
          <a:xfrm>
            <a:off x="584280" y="3716280"/>
            <a:ext cx="280656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915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Intervención  doc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Las </a:t>
            </a:r>
            <a:r>
              <a:rPr b="1" i="1" lang="es-AR" sz="3200" spc="-1" strike="noStrike">
                <a:solidFill>
                  <a:srgbClr val="000000"/>
                </a:solidFill>
                <a:latin typeface="Calibri"/>
              </a:rPr>
              <a:t>estrategias de enseñanza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i="1" lang="es-AR" sz="3200" spc="-1" strike="noStrike">
                <a:solidFill>
                  <a:srgbClr val="000000"/>
                </a:solidFill>
                <a:latin typeface="Calibri"/>
              </a:rPr>
              <a:t>conjunto de decisiones que toma el docente 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para </a:t>
            </a:r>
            <a:r>
              <a:rPr b="1" i="1" lang="es-AR" sz="3200" spc="-1" strike="noStrike">
                <a:solidFill>
                  <a:srgbClr val="000000"/>
                </a:solidFill>
                <a:latin typeface="Calibri"/>
              </a:rPr>
              <a:t>orientar la enseñanza 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con el fin de </a:t>
            </a:r>
            <a:r>
              <a:rPr b="1" i="1" lang="es-AR" sz="3200" spc="-1" strike="noStrike">
                <a:solidFill>
                  <a:srgbClr val="000000"/>
                </a:solidFill>
                <a:latin typeface="Calibri"/>
              </a:rPr>
              <a:t>promover el aprendizaje 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de sus alumn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Se trata de orientaciones generales acerca de </a:t>
            </a:r>
            <a:r>
              <a:rPr b="1" i="1" lang="es-AR" sz="3200" spc="-1" strike="noStrike">
                <a:solidFill>
                  <a:srgbClr val="000000"/>
                </a:solidFill>
                <a:latin typeface="Calibri"/>
              </a:rPr>
              <a:t>cómo enseñar 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un contenido disciplinar considerando </a:t>
            </a:r>
            <a:r>
              <a:rPr b="1" i="1" lang="es-AR" sz="3200" spc="-1" strike="noStrike">
                <a:solidFill>
                  <a:srgbClr val="000000"/>
                </a:solidFill>
                <a:latin typeface="Calibri"/>
              </a:rPr>
              <a:t>qué queremos que nuestros alumnos comprendan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s-AR" sz="3200" spc="-1" strike="noStrike">
                <a:solidFill>
                  <a:srgbClr val="000000"/>
                </a:solidFill>
                <a:latin typeface="Calibri"/>
              </a:rPr>
              <a:t>por qué y para qué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158320" y="0"/>
            <a:ext cx="17478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Intervención  doc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1125000"/>
            <a:ext cx="9906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Según Jean Díaz Bordenave las 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"son instrumentos para crear situaciones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bordar contenidos que permiten al alum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vivir experiencias necesari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para su propia transformació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as actividades son las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tarea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que los alumnos realizan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para apropiarse de diferentes sabere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, son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instrumentos con los que el docente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uenta y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que pone a disposición en la clase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ra ayudar a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structurar las experiencias de aprendizaje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8307360" y="0"/>
            <a:ext cx="159876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Intervención  doc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07920"/>
            <a:ext cx="99061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l decidir 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qué tareas debe realizar el alumno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on el fin de aprender, es necesario considerar los siguientes 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factores: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los estilos de aprendizaje, los ritmos, los intereses, los tipos de inteligencia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, entre otros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el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tipo de demanda cognitiva que se pretende del alumno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el grado de libertad que tendrán los alumnos para tomar decisiones y proponer cambios y caminos alternativ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8620200" y="0"/>
            <a:ext cx="12859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9500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Arial"/>
              </a:rPr>
              <a:t>La pregunta que los alumnos quieren responder con el aprendiza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13"/>
          <p:cNvGrpSpPr/>
          <p:nvPr/>
        </p:nvGrpSpPr>
        <p:grpSpPr>
          <a:xfrm>
            <a:off x="495360" y="274680"/>
            <a:ext cx="8915760" cy="5314320"/>
            <a:chOff x="495360" y="274680"/>
            <a:chExt cx="8915760" cy="5314320"/>
          </a:xfrm>
        </p:grpSpPr>
        <p:sp>
          <p:nvSpPr>
            <p:cNvPr id="115" name="AutoShape 4"/>
            <p:cNvSpPr/>
            <p:nvPr/>
          </p:nvSpPr>
          <p:spPr>
            <a:xfrm>
              <a:off x="4722840" y="274680"/>
              <a:ext cx="2665080" cy="1476000"/>
            </a:xfrm>
            <a:prstGeom prst="cloudCallout">
              <a:avLst>
                <a:gd name="adj1" fmla="val -75217"/>
                <a:gd name="adj2" fmla="val 26148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495360" y="557280"/>
              <a:ext cx="8915760" cy="5031720"/>
              <a:chOff x="495360" y="557280"/>
              <a:chExt cx="8915760" cy="5031720"/>
            </a:xfrm>
          </p:grpSpPr>
          <p:pic>
            <p:nvPicPr>
              <p:cNvPr id="117" name="Picture 2" descr="C:\Documents and Settings\Favazza\Datos de programa\Microsoft\Media Catalog\Downloaded Clips\cl23\j0088926.wmf"/>
              <p:cNvPicPr/>
              <p:nvPr/>
            </p:nvPicPr>
            <p:blipFill>
              <a:blip r:embed="rId1"/>
              <a:stretch/>
            </p:blipFill>
            <p:spPr>
              <a:xfrm>
                <a:off x="2241360" y="1393920"/>
                <a:ext cx="5238360" cy="419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AutoShape 3"/>
              <p:cNvSpPr/>
              <p:nvPr/>
            </p:nvSpPr>
            <p:spPr>
              <a:xfrm flipV="1">
                <a:off x="6652800" y="1463400"/>
                <a:ext cx="1746000" cy="1185120"/>
              </a:xfrm>
              <a:prstGeom prst="cloudCallout">
                <a:avLst>
                  <a:gd name="adj1" fmla="val -132569"/>
                  <a:gd name="adj2" fmla="val -68263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AutoShape 5"/>
              <p:cNvSpPr/>
              <p:nvPr/>
            </p:nvSpPr>
            <p:spPr>
              <a:xfrm>
                <a:off x="495360" y="2160720"/>
                <a:ext cx="2113920" cy="767160"/>
              </a:xfrm>
              <a:prstGeom prst="cloudCallout">
                <a:avLst>
                  <a:gd name="adj1" fmla="val 80976"/>
                  <a:gd name="adj2" fmla="val 6231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utoShape 6"/>
              <p:cNvSpPr/>
              <p:nvPr/>
            </p:nvSpPr>
            <p:spPr>
              <a:xfrm flipV="1">
                <a:off x="6836400" y="2858040"/>
                <a:ext cx="2481120" cy="766800"/>
              </a:xfrm>
              <a:prstGeom prst="cloudCallout">
                <a:avLst>
                  <a:gd name="adj1" fmla="val -61578"/>
                  <a:gd name="adj2" fmla="val 17231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7"/>
              <p:cNvSpPr/>
              <p:nvPr/>
            </p:nvSpPr>
            <p:spPr>
              <a:xfrm>
                <a:off x="770760" y="2297520"/>
                <a:ext cx="202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</a:rPr>
                  <a:t>¿Cómo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8"/>
              <p:cNvSpPr/>
              <p:nvPr/>
            </p:nvSpPr>
            <p:spPr>
              <a:xfrm flipH="1">
                <a:off x="7113600" y="3067560"/>
                <a:ext cx="2297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</a:rPr>
                  <a:t>¿Por qué?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9"/>
              <p:cNvSpPr/>
              <p:nvPr/>
            </p:nvSpPr>
            <p:spPr>
              <a:xfrm>
                <a:off x="6928560" y="1812240"/>
                <a:ext cx="1562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</a:rPr>
                  <a:t>¿Qué?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10"/>
              <p:cNvSpPr/>
              <p:nvPr/>
            </p:nvSpPr>
            <p:spPr>
              <a:xfrm>
                <a:off x="5090760" y="557280"/>
                <a:ext cx="1837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</a:rPr>
                  <a:t>¿Qué pasaría si...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0" y="1600200"/>
            <a:ext cx="941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Importancia de la enseñanza  en el nivel medio del  tema tributario y su  justificación ética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Estrategias didácticas a implemen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Conceptos necesarios para resolver situaciones impositiv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Desarrollo de casos prácticos</a:t>
            </a: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ara enseñar impuestos comenzamos por dar respuesta a los siguientes interroga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360" y="1196640"/>
            <a:ext cx="99061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 qué llamamos Estado? ¿Cuál es su funció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Cuáles son sus necesidad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es el  gasto públic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Cuáles son los recursos con que cuenta el Estado?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cuáles son los recursos tributari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información se incluye en el Presupuesto del Esta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uáles son las normas fiscales existentes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Cuáles los efectos económicos de los impuesto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odríamos ahora preguntarn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500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1" lang="es-AR" sz="3600" spc="-1" strike="noStrike">
                <a:solidFill>
                  <a:srgbClr val="000000"/>
                </a:solidFill>
                <a:latin typeface="Calibri"/>
              </a:rPr>
              <a:t>Qué implica el saber sobre impuesto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¿Para qué son los impuesto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omar conciencia de que: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os impuestos son el precio que los ciudadanos de un Estado deben pagar, por vivir en una sociedad civiliza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99061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flexionar  sobre el rol del Estado y la justificación ética de la contribución impositiv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2708280"/>
            <a:ext cx="9906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La necesidad de un Estado deviene de la misma naturaleza social del ser humano, el sostenimiento del Estado es una consecuencia lógica de la misma realida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392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arlos Santiago Nino importante jurista argentino dij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699920"/>
            <a:ext cx="9477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 Estado como organización política, debe servir como instrumento de la materialización de una concepción de la sociedad, que sea un esquema de cooperación, de mutuo beneficio entre seres libres e igual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7215120" y="4724280"/>
            <a:ext cx="2135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braham Lincoln dijo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95000" y="1599840"/>
            <a:ext cx="89154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mocracia 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gobierno del pueblo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or el pueblo 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ara el pueb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215120" y="4221000"/>
            <a:ext cx="23004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fin 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62040" y="2781000"/>
            <a:ext cx="87487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Favorecer a la existencia de u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ultura tributaria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edia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ducación tributa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4406760" y="0"/>
            <a:ext cx="4875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2:35:05Z</dcterms:created>
  <dc:creator>notebook</dc:creator>
  <dc:description/>
  <dc:language>en-US</dc:language>
  <cp:lastModifiedBy>CPCEACABA</cp:lastModifiedBy>
  <dcterms:modified xsi:type="dcterms:W3CDTF">2011-05-27T13:34:20Z</dcterms:modified>
  <cp:revision>89</cp:revision>
  <dc:subject/>
  <dc:title>Diapositiva 1</dc:title>
</cp:coreProperties>
</file>