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audio1.wav" ContentType="audio/x-wav"/>
  <Override PartName="/ppt/media/image2.png" ContentType="image/png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906-732F-4BBF-8D4D-54990227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CF8-33D1-41B1-8CD8-BC03DC53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B02-23BB-41FD-A03E-26560A21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2B1-4362-4424-AB70-45477BBE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E9F0-4AC4-429F-8B6C-32D7994B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C997-5DC4-4D77-93CD-884613E4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8D6A-3583-4928-82D2-EB9957B2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4BE0-DF72-486B-9BF4-BFAE1970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B510-1D2F-448F-9520-6311770C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DBB3-048D-4701-AF5B-0C772468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0F22-781A-420B-BBB6-1CD7A7F9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B5E-1F44-46FE-802D-8325EA58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C71F-E662-4FF3-8577-27207D16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679B-F9F9-4849-AE2C-88739335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8549-C885-4C8B-B285-C208F5E7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54F5-710C-4FC8-A3E7-C059A38F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F48D-1D54-4996-8C2B-A021B48C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59F7-BC79-4595-A491-2E841F7E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3606-5FCF-4D05-ACE4-AE2A6ECD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532B-3FE4-4277-9902-618EBE47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82D2-ED45-439A-AB25-47A874D2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7857-2A99-4DE5-80A4-1182F1B4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07E-9FFB-4365-9382-B67A0967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495F-C87D-479B-AF68-154C5B00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D937-181F-4B7A-9B25-D54FA26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37998-E99C-47E1-8AC0-76F3A49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46FA-F966-43C7-B1A1-AF822164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8F83-BC52-4418-B196-A55A790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CFBA-8423-4065-8A69-CAF35872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BADF-EB06-4E3D-B90D-16ECAAD5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66CE1-2633-4C5B-97B2-55AB273D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61B4-0332-4690-BFF4-1593FC14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43AA-220A-49D1-8C98-4D1825FA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699-3EFB-4431-BEB2-22AF1240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CA9C-F629-4772-9153-673E5C3E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165B-CF19-4156-8D82-E39B2723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1A079-BA8A-4FD3-83D0-FE4EC748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7F3B1-C3E5-49AE-8727-6ED392B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2120-ADBD-4FFC-A83E-415D51B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DD14-95BF-48EC-B077-3C4D8D1C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1D1D9-52B3-419B-8603-D008A0F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2D6B-FCFF-4048-BB58-AE2E3A24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51DD-A036-48B6-9364-6CCF9B4B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250-C436-4210-BD96-1CB4E4F9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C6B-51ED-4766-8C10-7885DD7D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012-061B-431F-BFD2-9DB0BA2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7DB-DCE5-4DDC-9525-79B5343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645-CDFA-4C48-9582-8C3C16D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42D4C1-E587-4F9F-85AB-F95DCAE50150}" type="slidenum">
              <a:rPr b="0" lang="es-E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CF70FB-CA5A-4AB4-BAB4-BD1EE4AEC1CB}" type="slidenum">
              <a:rPr b="0" lang="es-E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72821E-88CC-41C6-B6FD-A6AA69176EF8}" type="slidenum">
              <a:rPr b="0" lang="es-E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3EF5B1-2C19-4743-9A08-D2F543B9EA01}" type="slidenum">
              <a:rPr b="0" lang="es-E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31640" y="4581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8b8b8b"/>
                </a:solidFill>
                <a:latin typeface="Calibri"/>
              </a:rPr>
              <a:t>CICLO DE CONFER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b0f0"/>
                </a:solidFill>
                <a:latin typeface="Calibri"/>
              </a:rPr>
              <a:t>REGISTROS ORGANIZACION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8b8b8b"/>
                </a:solidFill>
                <a:latin typeface="Calibri"/>
              </a:rPr>
              <a:t>SU ESTADO ACTUAL Y SU PROYECCIÓN FU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8b8b8b"/>
                </a:solidFill>
                <a:latin typeface="Calibri"/>
              </a:rPr>
              <a:t>2ª REUN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Rectángulo"/>
          <p:cNvSpPr/>
          <p:nvPr/>
        </p:nvSpPr>
        <p:spPr>
          <a:xfrm>
            <a:off x="2057400" y="2967480"/>
            <a:ext cx="50288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5400" spc="-1" strike="noStrike">
                <a:solidFill>
                  <a:srgbClr val="2d3fce"/>
                </a:solidFill>
                <a:latin typeface="Calibri"/>
              </a:rPr>
              <a:t>BIENVENIDOS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288440" y="1828800"/>
            <a:ext cx="66427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SOLUCIÓN GENERAL I.G.J. Nº 7/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41560" y="2513160"/>
            <a:ext cx="48492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oletín Oficial Nº 30724 - Pág. 12 a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echa de Publicación: 25/0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79520" y="3733920"/>
            <a:ext cx="818352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r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 – Vigencia: A los 180 días de su publicación  (21/02/0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6 – Punto 6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ecuación de u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jercicio inmediato siguie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 a la v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8370720" y="6019920"/>
            <a:ext cx="280800" cy="304560"/>
          </a:xfrm>
          <a:prstGeom prst="actionButtonForwardNext">
            <a:avLst/>
          </a:prstGeom>
          <a:solidFill>
            <a:srgbClr val="cc99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52440" y="609480"/>
            <a:ext cx="8438760" cy="5105160"/>
          </a:xfrm>
          <a:prstGeom prst="rect">
            <a:avLst/>
          </a:prstGeom>
          <a:noFill/>
          <a:ln w="762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914400" y="666720"/>
            <a:ext cx="7837200" cy="729720"/>
          </a:xfrm>
          <a:prstGeom prst="rect">
            <a:avLst/>
          </a:prstGeom>
          <a:solidFill>
            <a:srgbClr val="3399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SPECCIÓN GENERAL DE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isterio de Justicia y Derech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http://snts1.jus.gov.ar/minjus/ssjyal/IGJ/bandera.gif"/>
          <p:cNvPicPr/>
          <p:nvPr/>
        </p:nvPicPr>
        <p:blipFill>
          <a:blip r:embed="rId1"/>
          <a:stretch/>
        </p:blipFill>
        <p:spPr>
          <a:xfrm>
            <a:off x="7877160" y="762120"/>
            <a:ext cx="609120" cy="482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http://snts1.jus.gov.ar/minjus/ssjyal/IGJ/escnac.gif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98520" y="663480"/>
            <a:ext cx="525240" cy="7329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422280" y="5943600"/>
            <a:ext cx="350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370A-8693-40DE-9CD1-46ADF9A958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983160" y="609480"/>
            <a:ext cx="7616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BRO IV – TÍTULO II –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ISTRACIÓN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68760" y="1412640"/>
            <a:ext cx="903996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Registración Contab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bro Inventario y Balanc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istro por ordenadores, medios mecánicos, mag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 otros (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t. 61 Ley 19550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dimien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Aprobación tác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ligatoriedad de la autorización prev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bro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istración contable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stado de hojas móvi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de Registración Contable en compact disk,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scos óptic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microfil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7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formación periódic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os mecánicos, mag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>
            <a:hlinkClick r:id="" action="ppaction://hlinkshowjump?jump=nextslide"/>
          </p:cNvPr>
          <p:cNvSpPr/>
          <p:nvPr/>
        </p:nvSpPr>
        <p:spPr>
          <a:xfrm>
            <a:off x="8370720" y="6019920"/>
            <a:ext cx="280800" cy="304560"/>
          </a:xfrm>
          <a:prstGeom prst="actionButtonForwardNext">
            <a:avLst/>
          </a:prstGeom>
          <a:solidFill>
            <a:srgbClr val="cc99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5">
            <a:hlinkClick r:id="" action="ppaction://hlinkshowjump?jump=previousslide"/>
          </p:cNvPr>
          <p:cNvSpPr/>
          <p:nvPr/>
        </p:nvSpPr>
        <p:spPr>
          <a:xfrm rot="10800000">
            <a:off x="633600" y="6019920"/>
            <a:ext cx="280800" cy="304560"/>
          </a:xfrm>
          <a:prstGeom prst="actionButtonForwardNext">
            <a:avLst/>
          </a:prstGeom>
          <a:solidFill>
            <a:srgbClr val="cc99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5E2E-C834-4CA2-9E9F-09FDBB6D97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3120" y="692640"/>
            <a:ext cx="8762760" cy="594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0   3. Ofrezc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evado grado de inalterabil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2   1.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imer testimonio de Escritura Pública o instrumento  priv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s/art.36)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eniendo resolución social que manifi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voluntad de solicitar autorización 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mpromiso de preservar l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xtender en papel los reg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antener la vigencia de las máquinas lect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3   Aprobación tácita (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dentro de los 30 días no tiene observacion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4   Discontinuar el uso de registros manuales que se sustituy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reditar ante la I.G.J. dentro de los 10 dí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ant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pia certificad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foja donde conste la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iente firmada por representante legal y síndico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a de constatación notari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>
            <a:hlinkClick r:id="" action="ppaction://hlinkshowjump?jump=nextslide"/>
          </p:cNvPr>
          <p:cNvSpPr/>
          <p:nvPr/>
        </p:nvSpPr>
        <p:spPr>
          <a:xfrm>
            <a:off x="8370720" y="6019920"/>
            <a:ext cx="280800" cy="304560"/>
          </a:xfrm>
          <a:prstGeom prst="actionButtonForwardNext">
            <a:avLst/>
          </a:prstGeom>
          <a:solidFill>
            <a:srgbClr val="cc99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4">
            <a:hlinkClick r:id="" action="ppaction://hlinkshowjump?jump=previousslide"/>
          </p:cNvPr>
          <p:cNvSpPr/>
          <p:nvPr/>
        </p:nvSpPr>
        <p:spPr>
          <a:xfrm rot="10800000">
            <a:off x="633600" y="6019920"/>
            <a:ext cx="280800" cy="304560"/>
          </a:xfrm>
          <a:prstGeom prst="actionButtonForwardNext">
            <a:avLst/>
          </a:prstGeom>
          <a:solidFill>
            <a:srgbClr val="cc99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D707-AA4A-4EEC-A2E7-2B22781418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37240" y="320760"/>
            <a:ext cx="8369640" cy="600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ja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adernación cada 500 ho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rimera págin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mbre de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enominación del regis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Número de la primera y última pág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irma representante legal y sínd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scos ópticos / microfil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Acta de reg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 del so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antidad de reg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erio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rimera y última registr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Actas deben estar firmadas por el representante leg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mestralmente: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Órgano de Fiscalización emiti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for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bre las condiciones exig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>
            <a:hlinkClick r:id="" action="ppaction://hlinkshowjump?jump=nextslide"/>
          </p:cNvPr>
          <p:cNvSpPr/>
          <p:nvPr/>
        </p:nvSpPr>
        <p:spPr>
          <a:xfrm>
            <a:off x="8370720" y="6172200"/>
            <a:ext cx="280800" cy="304560"/>
          </a:xfrm>
          <a:prstGeom prst="actionButtonForwardNext">
            <a:avLst/>
          </a:prstGeom>
          <a:solidFill>
            <a:srgbClr val="cc99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>
            <a:hlinkClick r:id="" action="ppaction://hlinkshowjump?jump=previousslide"/>
          </p:cNvPr>
          <p:cNvSpPr/>
          <p:nvPr/>
        </p:nvSpPr>
        <p:spPr>
          <a:xfrm rot="10800000">
            <a:off x="633600" y="6019920"/>
            <a:ext cx="280800" cy="304560"/>
          </a:xfrm>
          <a:prstGeom prst="actionButtonForwardNext">
            <a:avLst/>
          </a:prstGeom>
          <a:solidFill>
            <a:srgbClr val="cc99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43FC-191F-490B-96BE-6A9D05D3B4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7640" y="220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FORMULARIO DE ACTUACIÓN  C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CONTENIDOS DE LA PRESENTACIÓN: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1. Formulario del ente de control.</a:t>
            </a:r>
            <a:endParaRPr b="0" lang="es-ES" sz="30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2. Solicitud del pedido de autorización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3. Sistema de información contable.</a:t>
            </a:r>
            <a:endParaRPr b="0" lang="es-ES" sz="30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4. Registros por los que solicita habilitación.</a:t>
            </a:r>
            <a:endParaRPr b="0" lang="es-ES" sz="30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5. Modelo de los listados.</a:t>
            </a:r>
            <a:endParaRPr b="0" lang="es-ES" sz="30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6. Plan de cuentas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7. Sistema de almacenamiento.</a:t>
            </a:r>
            <a:endParaRPr b="0" lang="es-ES" sz="30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8. Situación frente a las resol. I.G.J.: </a:t>
            </a: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9/98,3/03,7/03,1362/03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9. Tasas.</a:t>
            </a:r>
            <a:endParaRPr b="0" lang="es-ES" sz="26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10. Certificaciones contables.</a:t>
            </a:r>
            <a:endParaRPr b="0" lang="es-E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3">
            <a:hlinkClick r:id="" action="ppaction://hlinkshowjump?jump=nextslide"/>
          </p:cNvPr>
          <p:cNvSpPr/>
          <p:nvPr/>
        </p:nvSpPr>
        <p:spPr>
          <a:xfrm>
            <a:off x="8362800" y="60562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69440" y="6132600"/>
            <a:ext cx="255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266840" y="3886200"/>
            <a:ext cx="73846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3200" spc="-1" strike="noStrike">
                <a:solidFill>
                  <a:srgbClr val="0066cc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MX" sz="3200" spc="-1" strike="noStrike">
                <a:solidFill>
                  <a:srgbClr val="0066cc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96E-FA96-4F3B-B85B-D05A9786BD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222200" y="457200"/>
            <a:ext cx="6656400" cy="5162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2. SOLICITUD DEL PEDIDO DE AUTO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Group 3"/>
          <p:cNvGraphicFramePr/>
          <p:nvPr/>
        </p:nvGraphicFramePr>
        <p:xfrm>
          <a:off x="885960" y="1219320"/>
          <a:ext cx="7384680" cy="4584960"/>
        </p:xfrm>
        <a:graphic>
          <a:graphicData uri="http://schemas.openxmlformats.org/drawingml/2006/table">
            <a:tbl>
              <a:tblPr/>
              <a:tblGrid>
                <a:gridCol w="421920"/>
                <a:gridCol w="6118200"/>
                <a:gridCol w="84420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 Órgano de Administr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e Social. Efectiv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os técnic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consulta, lectura e impre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 de información por parte de organismos de control o de terce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s tecnológic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o de conservar el libro Inventarios y Balances cumpliendo normas legales vig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el sistema de archivo de los registros, por los que se solicita autoriz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a del Representante Legal o Apoderado – Acreditación de personer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AutoShape 25">
            <a:hlinkClick r:id="" action="ppaction://hlinkshowjump?jump=nextslide"/>
          </p:cNvPr>
          <p:cNvSpPr/>
          <p:nvPr/>
        </p:nvSpPr>
        <p:spPr>
          <a:xfrm>
            <a:off x="8362800" y="604692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26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C674-4BED-41C3-8E14-1E3671FC8A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169640" y="457200"/>
            <a:ext cx="6106320" cy="5162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3. SISTEMA DE INFORMACIÓN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Group 31"/>
          <p:cNvGraphicFramePr/>
          <p:nvPr/>
        </p:nvGraphicFramePr>
        <p:xfrm>
          <a:off x="773280" y="1600200"/>
          <a:ext cx="7760880" cy="436716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21896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ña instituci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 del sistema de inform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quema del circuito conta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stración técnica del grado de inalterabil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aforma tecnológ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idad informática / Accesos / Back-up / Plan de continge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 de la documentación respaldator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tas de Confiabil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y periodicidad de numeración de los regist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AutoShape 29">
            <a:hlinkClick r:id="" action="ppaction://hlinkshowjump?jump=nextslide"/>
          </p:cNvPr>
          <p:cNvSpPr/>
          <p:nvPr/>
        </p:nvSpPr>
        <p:spPr>
          <a:xfrm>
            <a:off x="8362800" y="604692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30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971D-25F5-4F91-9ADD-36B7C0036F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302120" y="457200"/>
            <a:ext cx="5926680" cy="9428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4. REGISTROS POR LOS QUE SE SOL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    </a:t>
            </a: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HABIL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Group 3"/>
          <p:cNvGraphicFramePr/>
          <p:nvPr/>
        </p:nvGraphicFramePr>
        <p:xfrm>
          <a:off x="773280" y="2728800"/>
          <a:ext cx="7625880" cy="154116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396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s y Registros actualmente en u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s y Registros que siguen en u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ción con la que se solicita habilitación, de los registros que se reemplaz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AutoShape 21">
            <a:hlinkClick r:id="" action="ppaction://hlinkshowjump?jump=nextslide"/>
          </p:cNvPr>
          <p:cNvSpPr/>
          <p:nvPr/>
        </p:nvSpPr>
        <p:spPr>
          <a:xfrm>
            <a:off x="8362800" y="604692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22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D48B-5A2E-40AD-AFAB-B606BEC30C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103400" y="457200"/>
            <a:ext cx="4376520" cy="5162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5. MODELO DE LOS LI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Group 3"/>
          <p:cNvGraphicFramePr/>
          <p:nvPr/>
        </p:nvGraphicFramePr>
        <p:xfrm>
          <a:off x="773280" y="2728800"/>
          <a:ext cx="7625880" cy="114912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396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blanco – Por dupli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ific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tos de Individualización de los List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AutoShape 17">
            <a:hlinkClick r:id="" action="ppaction://hlinkshowjump?jump=nextslide"/>
          </p:cNvPr>
          <p:cNvSpPr/>
          <p:nvPr/>
        </p:nvSpPr>
        <p:spPr>
          <a:xfrm>
            <a:off x="8362800" y="604692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18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1A23-EC4B-4B74-91B9-A6F9C2A3E7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es-AR" sz="3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AR" sz="3000" spc="-1" strike="noStrike">
                <a:solidFill>
                  <a:schemeClr val="accent5">
                    <a:lumMod val="50000"/>
                  </a:schemeClr>
                </a:solidFill>
                <a:latin typeface="Century Gothic"/>
              </a:rPr>
              <a:t>GESTIÓN ANTE LA I.G.J. PARA AUTORIZAR EL ALMACENAMIENTO DE LOS REGISTROS CONTABLES”</a:t>
            </a:r>
            <a:endParaRPr b="0" lang="es-E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45600" indent="-34560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i="1" lang="es-AR" sz="2800" spc="-1" strike="noStrike">
                <a:solidFill>
                  <a:srgbClr val="0070c0"/>
                </a:solidFill>
                <a:latin typeface="Calibri"/>
              </a:rPr>
              <a:t>I N T R O D U C C I ÓN</a:t>
            </a:r>
            <a:r>
              <a:rPr b="0" lang="es-AR" sz="2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-345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l S. XXI se caracteriza por la velocidad de la información y el avance de la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informática,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que está presente en nuestra vida cotidiana e impacta en nuestra actividad profesional,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-345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ra que la información contable cumpla con las condiciones de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integridad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fiabilidad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-345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ra su adecuado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macenamiento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resguardo,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-345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ra que esté disponible ante el requerimiento del ente de contralor o de cualquier organismo gubernamental,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-345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ecesitamos instaurar ciertos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canismos de seguridad y control,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n: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-Los sistemas informáticos.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- Los sistemas administrativos.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-  Los sistemas de registros contables.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-345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iendo esta gestión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l comienzo de un largo camino hacia el objetivo de que los registros contables tengan validez probatoria en los estrados judiciales.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marL="7488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Group 2"/>
          <p:cNvGraphicFramePr/>
          <p:nvPr/>
        </p:nvGraphicFramePr>
        <p:xfrm>
          <a:off x="773280" y="2805120"/>
          <a:ext cx="7625880" cy="114552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396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Cuen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Cos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le de referencias frecuentes del siste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Text Box 20"/>
          <p:cNvSpPr/>
          <p:nvPr/>
        </p:nvSpPr>
        <p:spPr>
          <a:xfrm>
            <a:off x="1008360" y="457200"/>
            <a:ext cx="3183480" cy="5162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6. 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7345440" y="547560"/>
            <a:ext cx="990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82-2-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2">
            <a:hlinkClick r:id="" action="ppaction://hlinkshowjump?jump=nextslide"/>
          </p:cNvPr>
          <p:cNvSpPr/>
          <p:nvPr/>
        </p:nvSpPr>
        <p:spPr>
          <a:xfrm>
            <a:off x="8362800" y="604692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23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9CD2-0C19-44DA-BDBD-8AF11B1288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064160" y="457200"/>
            <a:ext cx="5205600" cy="5162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7. SISTEMA DE 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Group 43"/>
          <p:cNvGraphicFramePr/>
          <p:nvPr/>
        </p:nvGraphicFramePr>
        <p:xfrm>
          <a:off x="773280" y="1343160"/>
          <a:ext cx="7625880" cy="452340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396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ación del medio de Almacena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eza y calidad del soporte a utilizar para el almacenamiento de los regist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2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s internos a implementar en la operatoria de almacena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ias de Segur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adern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lterabilidad de los registros – Función HAS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s de Reg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6/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ización del encuadern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de archivo actual y su diferencia con el propues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AutoShape 41">
            <a:hlinkClick r:id="" action="ppaction://hlinkshowjump?jump=nextslide"/>
          </p:cNvPr>
          <p:cNvSpPr/>
          <p:nvPr/>
        </p:nvSpPr>
        <p:spPr>
          <a:xfrm>
            <a:off x="8362800" y="604692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42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EAF2-5F42-42B8-88AA-8C7B699E18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301040" y="457200"/>
            <a:ext cx="6479640" cy="9428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8. SITUACIÓN FRENTE A LAS RE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    </a:t>
            </a: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IGJ 9/98 – 3/03 – 7/03 – 1362/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>
            <a:hlinkClick r:id="" action="ppaction://hlinkshowjump?jump=nextslide"/>
          </p:cNvPr>
          <p:cNvSpPr/>
          <p:nvPr/>
        </p:nvSpPr>
        <p:spPr>
          <a:xfrm>
            <a:off x="8362800" y="604692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4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C068-0980-491F-9FD6-5166D53D0A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Group 2"/>
          <p:cNvGraphicFramePr/>
          <p:nvPr/>
        </p:nvGraphicFramePr>
        <p:xfrm>
          <a:off x="773280" y="3200400"/>
          <a:ext cx="7625880" cy="39528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396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miento del pago de las Ta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s-AR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Text Box 12"/>
          <p:cNvSpPr/>
          <p:nvPr/>
        </p:nvSpPr>
        <p:spPr>
          <a:xfrm>
            <a:off x="891360" y="457200"/>
            <a:ext cx="1410840" cy="5162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9. T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3">
            <a:hlinkClick r:id="" action="ppaction://hlinkshowjump?jump=nextslide"/>
          </p:cNvPr>
          <p:cNvSpPr/>
          <p:nvPr/>
        </p:nvSpPr>
        <p:spPr>
          <a:xfrm>
            <a:off x="8362800" y="604692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14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3A5B-2B7D-45CC-ABC8-C7B0996234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202760" y="457200"/>
            <a:ext cx="5001480" cy="5162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10. CERTIFICACIONE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Group 29"/>
          <p:cNvGraphicFramePr/>
          <p:nvPr/>
        </p:nvGraphicFramePr>
        <p:xfrm>
          <a:off x="773280" y="1752480"/>
          <a:ext cx="7989480" cy="180000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44756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actual de los registros y libros rubric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special sobre autorización de medios de registración (Dictámen precalificatorio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técnico exigido por el Art. 61, Ley 1955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AutoShape 21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22">
            <a:hlinkClick r:id="" action="ppaction://hlinkshowjump?jump=nextslide"/>
          </p:cNvPr>
          <p:cNvSpPr/>
          <p:nvPr/>
        </p:nvSpPr>
        <p:spPr>
          <a:xfrm>
            <a:off x="8362800" y="604692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689040" y="4537080"/>
            <a:ext cx="169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AR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40680" y="3606840"/>
            <a:ext cx="7391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QUISITOS OBLIGATORIOS DEL TRÁMITE PRECAL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914400" y="4140360"/>
            <a:ext cx="7384680" cy="199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9.2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xpedirse sobre el estado de vigencia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ifestar la disolución de pleno derecho, de acuerdo al Contrato Social o la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probación de otras caus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ifestar si existen Actas que contemplen la Convocatoria a disolu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cuadramiento frente al Art. 299 de LS, indicando inc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9.3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go de t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9.4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egalización de la firma del Profes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 flipH="1">
            <a:off x="561960" y="2514600"/>
            <a:ext cx="2109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27"/>
          <p:cNvSpPr/>
          <p:nvPr/>
        </p:nvSpPr>
        <p:spPr>
          <a:xfrm>
            <a:off x="561960" y="2514600"/>
            <a:ext cx="360" cy="1295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28"/>
          <p:cNvSpPr/>
          <p:nvPr/>
        </p:nvSpPr>
        <p:spPr>
          <a:xfrm>
            <a:off x="561960" y="3809880"/>
            <a:ext cx="28224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9195-85ED-4725-BC6F-36023A7C80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LIBRO INVENTARIOS Y BALANCES.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RANSCRIPCIÓN INTEGRA DE LA AUTORIZACIÓN OTORGADA Y LA PRESENTACIÓN HECHA ANTE LA I.G.J. 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E ACUERDO AL ART. 61 L.S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LIBRO IV : Título  II-  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ART. 284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7640" y="162864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LOGRADA LA AUTORIZACIÓN DE LOS REGISTROS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por ordenadores, medios mecánicos, magnéticos u otros (ART.61 L.S.).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be </a:t>
            </a:r>
            <a:r>
              <a:rPr b="1" lang="es-ES_tradnl" sz="2000" spc="-1" strike="noStrike">
                <a:solidFill>
                  <a:srgbClr val="000000"/>
                </a:solidFill>
                <a:latin typeface="Century Gothic"/>
              </a:rPr>
              <a:t>discontinuarse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entury Gothic"/>
              </a:rPr>
              <a:t>el uso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 los REGISTROS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MANUALES  que se sustituyan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entury Gothic"/>
              </a:rPr>
              <a:t>Acreditar ante la I.G.J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.  A los 10 días.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4 Cheurón"/>
          <p:cNvSpPr/>
          <p:nvPr/>
        </p:nvSpPr>
        <p:spPr>
          <a:xfrm>
            <a:off x="1187640" y="2565000"/>
            <a:ext cx="484200" cy="484200"/>
          </a:xfrm>
          <a:prstGeom prst="chevron">
            <a:avLst>
              <a:gd name="adj" fmla="val 50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6 Cheurón"/>
          <p:cNvSpPr/>
          <p:nvPr/>
        </p:nvSpPr>
        <p:spPr>
          <a:xfrm>
            <a:off x="1187640" y="3285000"/>
            <a:ext cx="484200" cy="484200"/>
          </a:xfrm>
          <a:prstGeom prst="chevron">
            <a:avLst>
              <a:gd name="adj" fmla="val 50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7 Rectángulo"/>
          <p:cNvSpPr/>
          <p:nvPr/>
        </p:nvSpPr>
        <p:spPr>
          <a:xfrm>
            <a:off x="2483640" y="386100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PIA CERTIFICADA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de la foja donde conste la NOTA respectiva suscripta por el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PRESENTANTE LEGAL Y EL SINDIC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,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CTA NOTARIAL efectuada a pedido de é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8 Cheurón"/>
          <p:cNvSpPr/>
          <p:nvPr/>
        </p:nvSpPr>
        <p:spPr>
          <a:xfrm>
            <a:off x="1187640" y="5085360"/>
            <a:ext cx="484200" cy="484200"/>
          </a:xfrm>
          <a:prstGeom prst="chevron">
            <a:avLst>
              <a:gd name="adj" fmla="val 50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10 Rectángulo"/>
          <p:cNvSpPr/>
          <p:nvPr/>
        </p:nvSpPr>
        <p:spPr>
          <a:xfrm>
            <a:off x="2483640" y="51573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 pondrá NOTA en el sistema informático(IG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1 Cheurón"/>
          <p:cNvSpPr/>
          <p:nvPr/>
        </p:nvSpPr>
        <p:spPr>
          <a:xfrm>
            <a:off x="1187640" y="5805360"/>
            <a:ext cx="484200" cy="484200"/>
          </a:xfrm>
          <a:prstGeom prst="chevron">
            <a:avLst>
              <a:gd name="adj" fmla="val 50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12 Rectángulo"/>
          <p:cNvSpPr/>
          <p:nvPr/>
        </p:nvSpPr>
        <p:spPr>
          <a:xfrm>
            <a:off x="2483640" y="5733360"/>
            <a:ext cx="46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esponden los Directores y Síndicos, por la infracción de la soc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9F0A-4948-4284-B24B-539ECE9C55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OBLIGACION DE EFECTUAR EL CIERRE: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s recomendable realizarla aún tratándose de medios de almacenamiento del art. 61 L.S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1295280" y="1219320"/>
            <a:ext cx="7848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295280" y="1268640"/>
            <a:ext cx="7848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E8E4-010B-4A85-9B86-7B57BC4DE5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ojas Móvi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5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adernación cada 500 hojas o cierre de ejercicio.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rimera página contendr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mbre de la sociedad.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nominación del registro.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úmero de la primera y última página.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Fecha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rma representante legal y sínd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BA55-802C-43A9-B004-14D7D3627D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Oval 2"/>
          <p:cNvSpPr/>
          <p:nvPr/>
        </p:nvSpPr>
        <p:spPr>
          <a:xfrm>
            <a:off x="2743200" y="1371600"/>
            <a:ext cx="3987360" cy="4319280"/>
          </a:xfrm>
          <a:prstGeom prst="ellipse">
            <a:avLst/>
          </a:prstGeom>
          <a:solidFill>
            <a:srgbClr val="f8f8f8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3"/>
          <p:cNvSpPr/>
          <p:nvPr/>
        </p:nvSpPr>
        <p:spPr>
          <a:xfrm>
            <a:off x="4071960" y="2811600"/>
            <a:ext cx="1328400" cy="1439640"/>
          </a:xfrm>
          <a:prstGeom prst="ellipse">
            <a:avLst/>
          </a:prstGeom>
          <a:solidFill>
            <a:srgbClr val="ffff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838680" y="1676520"/>
            <a:ext cx="17539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305160" y="2171880"/>
            <a:ext cx="2520720" cy="34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RIGINAL O COPIA N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427560" y="4352760"/>
            <a:ext cx="26301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OL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I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772360" y="3124080"/>
            <a:ext cx="11718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ces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tiqueta N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5464080" y="3276720"/>
            <a:ext cx="866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º INT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>
            <a:hlinkClick r:id="" action="ppaction://hlinkshowjump?jump=endshow"/>
          </p:cNvPr>
          <p:cNvSpPr/>
          <p:nvPr/>
        </p:nvSpPr>
        <p:spPr>
          <a:xfrm>
            <a:off x="8256600" y="6048360"/>
            <a:ext cx="394920" cy="302760"/>
          </a:xfrm>
          <a:prstGeom prst="actionButtonBlank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>
            <a:hlinkClick r:id="" action="ppaction://hlinkshowjump?jump=previousslide"/>
          </p:cNvPr>
          <p:cNvSpPr/>
          <p:nvPr/>
        </p:nvSpPr>
        <p:spPr>
          <a:xfrm rot="10800000">
            <a:off x="524160" y="6032880"/>
            <a:ext cx="288720" cy="312480"/>
          </a:xfrm>
          <a:prstGeom prst="actionButtonForwardNex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es-AR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1179000" y="457200"/>
            <a:ext cx="3857040" cy="51624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2800" spc="-1" strike="noStrike">
                <a:solidFill>
                  <a:srgbClr val="0066cc"/>
                </a:solidFill>
                <a:latin typeface="Calibri"/>
              </a:rPr>
              <a:t>ETIQUETADO DE CD-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A530-1869-415C-B362-0268FAC7B3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48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C. P. C. E. C. A. B. A.</a:t>
            </a:r>
            <a:br>
              <a:rPr sz="4400"/>
            </a:br>
            <a:br>
              <a:rPr sz="4400"/>
            </a:br>
            <a:r>
              <a:rPr b="1" lang="es-AR" sz="3100" spc="-1" strike="noStrike">
                <a:solidFill>
                  <a:srgbClr val="000000"/>
                </a:solidFill>
                <a:latin typeface="Calibri"/>
              </a:rPr>
              <a:t>“COMISIÓN DE ESTUDIO SOBRE SISTEMAS DE REGISTROS, SU INTEGRIDAD Y AUTENTICIDAD DOCUMENTAL</a:t>
            </a: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59640" y="4509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8b8b8b"/>
                </a:solidFill>
                <a:latin typeface="Calibri"/>
              </a:rPr>
              <a:t>2ª REUNIÓN DEL CICLO 20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gistro de emisión de medios ópticos. Requisitos.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00240" indent="-300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umplir con las disposiciones del art. 53 Cód. Com. , y Res. 7/05 de la I.G.J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Se asentarán en él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- por numeración cronológica los dispositivos de almacenamiento (CD),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- fecha de la primera y última registración,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-su nro. Interno, 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-registros que contiene, 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-período que abarca, 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-nº de hash, etc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292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INFORMES  PROFESIONALES PERIODICOS: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rt. 286 inc.7:  INFORME ESPECIAL respecto al sistema de almacenamiento en CD-ROM que se registrará en el Libro de Inventarios y Balances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fectuada trimestralmente por el  Organo de fiscalización y firmada por el Representante legal de la sociedad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593B-A060-4F14-B309-DB1B1E36E6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1 Tabla"/>
          <p:cNvGraphicFramePr/>
          <p:nvPr/>
        </p:nvGraphicFramePr>
        <p:xfrm>
          <a:off x="4932000" y="5445360"/>
          <a:ext cx="2146680" cy="916560"/>
        </p:xfrm>
        <a:graphic>
          <a:graphicData uri="http://schemas.openxmlformats.org/drawingml/2006/table">
            <a:tbl>
              <a:tblPr/>
              <a:tblGrid>
                <a:gridCol w="2146680"/>
              </a:tblGrid>
              <a:tr h="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r" pos="900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dor Público (Universidad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5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.P.C.E.C.A.B.A. Tº xxx Fº 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1"/>
          <p:cNvSpPr/>
          <p:nvPr/>
        </p:nvSpPr>
        <p:spPr>
          <a:xfrm>
            <a:off x="24840" y="-505440"/>
            <a:ext cx="7341840" cy="677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E ESPECIAL ANUAL SOBRE EL MEDIO DE REGISTRACION CONTABL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QUERIDO POR LA RES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GJ 7/05 - ART. 287 Inc.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eñores Directores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BCD S.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Domicilio legal de ABCD SA)..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iudad Autónoma de Buenos Ai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UIT 30-00000000-0 (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 ABCD S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n mi carácter de Contador Público independiente, a su pedido y para su presentación ante la Inspección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e Justicia, informo que he examinado la documentación preparada por ABCD S.A. detallada en el apartado siguient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ACIÓN ANALIZ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rio I.G.J. Nº 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agos anuales de la tasa de inspección de justici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ón requerida por el art. 287 inc. I de la Resolución I.G.J. 7/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tatuto social y sus modific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istros sociales y contab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ación sobre el sistema aprobado por la Inspección General de Justicia el ..../..../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ibro Inventarios y Balances Nº ......, rubricado bajo el Nº ........, el .../..../...... donde se encuentra transcripto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utorización y la documentación exigida en el Art. 282 inc.2 a) hasta    2 g) de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a resolución citada, en los folios Nº ......... al Nº 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.  ALCANCE DE LAS TARES REALIZ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 tarea profesional consistió en examina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s registros contables y sociales del 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 sistema de registración contable en </a:t>
            </a:r>
            <a:r>
              <a:rPr b="0" lang="es-MX" sz="1000" spc="-1" strike="noStrike" baseline="30000">
                <a:solidFill>
                  <a:srgbClr val="17bbfd"/>
                </a:solidFill>
                <a:latin typeface="Arial"/>
                <a:ea typeface="Times New Roman"/>
                <a:hlinkClick r:id="rId1" action="ppaction://hlinksldjump"/>
              </a:rPr>
              <a:t>1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do durante el ejercicio finalizado el .../...../......, verificando s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ordancia con el aprobado por la IGJ y con el 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cripto en el Libro Inventarios y Bala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 pago de las tasas anuales de inspección de justicia por los años no prescrip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3.  INFORME ESPE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 consecuencia, y base a lo expuesto en el párrafo precedente INFORMO qu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concordancia entre el sistema de registración contable utilizado durante el ejercicio finalizado el..../...../......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 oportunamente autorizado por la Inspección General de Justicia, mediante la autorización N° ….. de fecha …/…/…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bidamente transcripto en el Libro Inventarios y Bala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 comprobó el  pago de las tasas de inspección de justicia desde.... hasta ....</a:t>
            </a:r>
            <a:r>
              <a:rPr b="0" lang="es-ES_tradnl" sz="1000" spc="-1" strike="noStrike" baseline="30000">
                <a:solidFill>
                  <a:srgbClr val="17bbfd"/>
                </a:solidFill>
                <a:latin typeface="Arial"/>
                <a:ea typeface="Times New Roman"/>
                <a:hlinkClick r:id="rId2" action="ppaction://hlinksldjump"/>
              </a:rPr>
              <a:t>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 sociedad se encuentra vig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sociedad (no/si) está comprendida en el art. 299 </a:t>
            </a:r>
            <a:r>
              <a:rPr b="0" lang="es-ES_tradnl" sz="1000" spc="-1" strike="noStrike" baseline="30000">
                <a:solidFill>
                  <a:srgbClr val="17bbfd"/>
                </a:solidFill>
                <a:latin typeface="Arial"/>
                <a:ea typeface="Times New Roman"/>
                <a:hlinkClick r:id="rId3" action="ppaction://hlinksldjump"/>
              </a:rPr>
              <a:t>3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de la Ley 19.5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 verificó el efectivo funcionamiento de la dirección y administración en la sede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iudad Autónoma de Buenos Aires, .. de ................. de 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28800" y="6153840"/>
            <a:ext cx="7075440" cy="69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000" spc="-1" strike="noStrike" baseline="30000">
                <a:solidFill>
                  <a:srgbClr val="17bbfd"/>
                </a:solidFill>
                <a:latin typeface="Arial"/>
                <a:ea typeface="Times New Roman"/>
                <a:hlinkClick r:id="rId4" action="ppaction://hlinksldjump"/>
              </a:rPr>
              <a:t>1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Poner el que corresponda: h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jas móviles, DVD, CD Rom, microfilm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lain" startAt="2"/>
              <a:tabLst>
                <a:tab algn="l" pos="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s últimos 10 años. Si la sociedad se hubiera inscrito dentro de ese período, indicar las tasas abonadas y la fecha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lain" startAt="2"/>
              <a:tabLst>
                <a:tab algn="l" pos="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cripción en el Registro Público de Comerci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ES" sz="1000" spc="-1" strike="noStrike" baseline="30000">
                <a:solidFill>
                  <a:srgbClr val="17bbfd"/>
                </a:solidFill>
                <a:latin typeface="Arial"/>
                <a:ea typeface="Times New Roman"/>
                <a:hlinkClick r:id="rId5" action="ppaction://hlinksldjump"/>
              </a:rPr>
              <a:t>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Se estuviera encuadrada en el art.299 indicar incis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RT. 287  II: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NFORME DE ACTUALIZACION TECNICA cada dos años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obre la situación de obsolescencia del sistema utilizado  y un proyecto de las medidas y reemplazos necesarios para su actualización técnica 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E85D-BC0B-4C05-A332-22BD04B181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640" y="2637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TEXTOS ADICIONALES: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CODIGO DE COMERCIO</a:t>
            </a:r>
            <a:br>
              <a:rPr sz="2500"/>
            </a:b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CAPITULO III: De lo libros de Comercio</a:t>
            </a:r>
            <a:endParaRPr b="0" lang="es-E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rt. 43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odo comerciante esta obligado a llevar cuenta y razón de sus operaciones y a tener una contabilidad mercantil organizada sobre una base contable uniforme y de la que resulte un cuadro verídico de sus negocios y una justificación clara de todos y cada uno de los actos susceptibles de registracion contable. Las constancias contables deben complementarse con la documentación respectiva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7C99-8B5F-4C3D-8477-774BEEBAC0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050"/>
          <p:cNvSpPr/>
          <p:nvPr/>
        </p:nvSpPr>
        <p:spPr>
          <a:xfrm>
            <a:off x="990720" y="762120"/>
            <a:ext cx="7467120" cy="499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9144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. 44: Los comerciantes, además de los que en forma especial impongan este Código y otras leyes, deben indispensablemente llevar los siguientes libros: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ario  B) Inventarios y Balances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n perjuicio de ello el comerciante deberá llevar, los libros registrados y la documentación contable que correspondan a un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adecuada integración de un sistema de contabilidad y que le exijan la importancia y naturaleza de sus actividad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modo que de la contabilidad y documentación resulten con claridad los actos de su gestión y su situación patrimon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0226-1F62-4DA7-9B94-12756C64E9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3"/>
          <p:cNvSpPr/>
          <p:nvPr/>
        </p:nvSpPr>
        <p:spPr>
          <a:xfrm>
            <a:off x="228600" y="1600200"/>
            <a:ext cx="8457840" cy="516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t. 53: Los libros que sean indispensables conforme las reglas de este Código estará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encuadernados y foliados,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cuya forma los presentara cada comerciante al Tribunal de Comercio de su domicilio para que se los individualice en la forma que determine el respectivo tribunal superior y se ponga en ellos nota datada y firmada del destino del libro, del nombre de aquel a quien pertenezca y del numero de hojas que conte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0620-6987-4163-B4B1-E74689C6DC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LEY DE SOCIEDADES COMERCIALES</a:t>
            </a:r>
            <a:br>
              <a:rPr sz="2500"/>
            </a:b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SECCION VIII: De la Administración y Representación</a:t>
            </a:r>
            <a:endParaRPr b="0" lang="es-E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355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rt. 60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Toda designación o cesación de administradores debe ser inscripta en los registros correspondientes e incorporada al respectivo legajo de la sociedad. También debe publicarse cuando se tratare de Sociedad de Responsabilidad Limitada o Sociedades por Acciones. La falta de inscripción hará aplicable el Art. 12, sin las excepciones que el mismo prevé.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Art. 12: “Las modificaciones no inscriptas regularmente obligan a los socios otorgantes. Son inoponibles a los terceros; no obstante estos pueden alegarlas contra la sociedad y los socios, salvo en las S.A y S.R.L.)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9BAD-4F6C-4944-8777-EC47D395A0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EY DE SOCIEDADES COMERCIALE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CCION IX: De la Documentación y de la Contabilidad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33520" y="1523880"/>
            <a:ext cx="8152920" cy="459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. 61: Podrá prescindirse del cumplimiento de las formalidades impuestas por el Art. 53 del Código de Comercio para llevar los libros en la medida que la autoridad de control o el Registro Publico de Comercio autoricen la sustitución de los mismos por ordenadores medio mecánicos o magnéticos u otros salvo el de Inventarios y Bal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petición deberá incluir una adecuada descripción del sistema, con dictamen técnico o antecedente de su utilización, la que, una vez autorizada, deberá transcribirse en el libro de Inventarios y Bala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Los pedidos de autorización se consideraran automáticamente aprobados dentro de los treinta días de efectuados, si no mediar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observación previa o rechazo fundad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 El libro Diario podrá ser llevado con asientos globales que no comprendan periodos mayores de un 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sistema de contabilización debe permitir la individualización de las operaciones, las correspondientes cuentas deudoras y acreedora y su posterior verificación, con arreglo al Art. 43 del Código de Comer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1ADC-9563-425E-99E1-3B39EFC77B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s-AR" sz="3100" spc="-1" strike="noStrike">
                <a:solidFill>
                  <a:srgbClr val="000000"/>
                </a:solidFill>
                <a:latin typeface="Calibri"/>
              </a:rPr>
              <a:t>Coordinadora general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.P.  </a:t>
            </a: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Dra</a:t>
            </a: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s-AR" sz="3600" spc="-1" strike="noStrike">
                <a:solidFill>
                  <a:srgbClr val="000000"/>
                </a:solidFill>
                <a:latin typeface="Calibri"/>
              </a:rPr>
              <a:t>Silvia G. Iglesias</a:t>
            </a: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xpositores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C.P.-L.A.  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R.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Jorge Sanchez Pastor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C.P.-L.A. 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ra.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Gladis R. Giménez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ordinación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.P.- L.A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. Dra. Gladis R. Giménez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NORMATIVA LEGAL APLICAB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Código de Comercio: art. 43,44,53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ey 19.550: art.61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Res.7/05 I.G.J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0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AR" sz="4400" spc="-1" strike="noStrike">
                <a:solidFill>
                  <a:srgbClr val="000000"/>
                </a:solidFill>
                <a:latin typeface="Calibri"/>
              </a:rPr>
              <a:t>NORMATIVA  LEGAL  APLICABLE </a:t>
            </a:r>
            <a:br>
              <a:rPr sz="4400"/>
            </a:br>
            <a:br>
              <a:rPr sz="4400"/>
            </a:br>
            <a:r>
              <a:rPr b="0" i="1" lang="es-AR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br>
              <a:rPr sz="4400"/>
            </a:br>
            <a:r>
              <a:rPr b="0" i="1" lang="es-A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br>
              <a:rPr sz="3400"/>
            </a:b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200" spc="-1" strike="noStrike">
                <a:solidFill>
                  <a:srgbClr val="000000"/>
                </a:solidFill>
                <a:latin typeface="Calibri"/>
              </a:rPr>
              <a:t>Art. 43. </a:t>
            </a:r>
            <a:r>
              <a:rPr b="1" i="1" lang="en-US" sz="3800" spc="-1" strike="noStrike">
                <a:solidFill>
                  <a:srgbClr val="000000"/>
                </a:solidFill>
                <a:latin typeface="Calibri"/>
              </a:rPr>
              <a:t>CÓD. COM</a:t>
            </a:r>
            <a:r>
              <a:rPr b="0" i="1" lang="en-US" sz="3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s-ES" sz="38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Contabilidad mercantil organizada sobre base uniforme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Registración contable complementada con la documentación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Cuadro verídico de sus operaciones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4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4200" spc="-1" strike="noStrike">
                <a:solidFill>
                  <a:srgbClr val="000000"/>
                </a:solidFill>
                <a:latin typeface="Calibri"/>
              </a:rPr>
              <a:t>rt. 44</a:t>
            </a:r>
            <a:r>
              <a:rPr b="1" i="1" lang="en-US" sz="3800" spc="-1" strike="noStrike">
                <a:solidFill>
                  <a:srgbClr val="000000"/>
                </a:solidFill>
                <a:latin typeface="Calibri"/>
              </a:rPr>
              <a:t>. CÓD. COM.  </a:t>
            </a:r>
            <a:endParaRPr b="0" lang="es-ES" sz="38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Adecuada integración de un sistema de contabilidad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Según la importancia y naturaleza de sus actividades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Los libros obligatorios son el DIARIO y el INVENTARIOS Y BCES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200" spc="-1" strike="noStrike">
                <a:solidFill>
                  <a:srgbClr val="000000"/>
                </a:solidFill>
                <a:latin typeface="Calibri"/>
              </a:rPr>
              <a:t>Art. 53</a:t>
            </a:r>
            <a:r>
              <a:rPr b="1" i="1" lang="en-US" sz="3800" spc="-1" strike="noStrike">
                <a:solidFill>
                  <a:srgbClr val="000000"/>
                </a:solidFill>
                <a:latin typeface="Calibri"/>
              </a:rPr>
              <a:t>. CÓD. COM</a:t>
            </a:r>
            <a:r>
              <a:rPr b="0" i="1" lang="en-US" sz="3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s-ES" sz="38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Libros encuadernados y foliados, tendrá: 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NOMBRE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DESTINO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A QUIEN PERTENECE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Nº DE HOJAS QUE CONTIENE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AR" sz="3200" spc="-1" strike="noStrike">
                <a:solidFill>
                  <a:srgbClr val="000000"/>
                </a:solidFill>
                <a:latin typeface="Calibri"/>
              </a:rPr>
              <a:t>Estará autorizado por el Tribunal de Comercio del domicilio del   comerciante.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Flecha derecha"/>
          <p:cNvSpPr/>
          <p:nvPr/>
        </p:nvSpPr>
        <p:spPr>
          <a:xfrm>
            <a:off x="827640" y="3141000"/>
            <a:ext cx="978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4 Flecha derecha"/>
          <p:cNvSpPr/>
          <p:nvPr/>
        </p:nvSpPr>
        <p:spPr>
          <a:xfrm>
            <a:off x="755640" y="1917000"/>
            <a:ext cx="978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5 Flecha derecha"/>
          <p:cNvSpPr/>
          <p:nvPr/>
        </p:nvSpPr>
        <p:spPr>
          <a:xfrm>
            <a:off x="755640" y="4365000"/>
            <a:ext cx="978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s-AR" sz="4400" spc="-1" strike="noStrike">
                <a:solidFill>
                  <a:srgbClr val="000000"/>
                </a:solidFill>
                <a:latin typeface="Calibri"/>
              </a:rPr>
              <a:t>FACILIDADES DEL ART. 61 DE LA LEY 19.550.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s-AR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es-AR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Se puede sustituir las formalidades del art. 53 del Cód. de Com. </a:t>
            </a:r>
            <a:endParaRPr b="0" lang="es-ES" sz="7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es-AR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6000" spc="-1" strike="noStrike">
                <a:solidFill>
                  <a:srgbClr val="000000"/>
                </a:solidFill>
                <a:latin typeface="Calibri"/>
              </a:rPr>
              <a:t>Por :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*Ordenadores,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*Medios mecánicos,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*Medios magnéticos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*U otros.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Se debe solicitar la autorización al Registro Público de Comercio o</a:t>
            </a:r>
            <a:endParaRPr b="0" lang="es-ES" sz="7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a la Autoridad de contralor</a:t>
            </a:r>
            <a:r>
              <a:rPr b="0" i="1" lang="es-AR" sz="7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s-ES" sz="7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Acompañar Dictámen técnico con adecuada descripción del Sistema de 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Contabilidad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que deberá permitir la individualización de las operaciones,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Las correspondientes cuentas deudoras y acreedoras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y su posterior verificación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o Antecedente de su utilización.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i="1" lang="es-AR" sz="7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Permite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/  asientos globales mensuales en el Libro Diario.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s-AR" sz="7200" spc="-1" strike="noStrike">
                <a:solidFill>
                  <a:srgbClr val="000000"/>
                </a:solidFill>
                <a:latin typeface="Calibri"/>
              </a:rPr>
              <a:t>No permite</a:t>
            </a:r>
            <a:r>
              <a:rPr b="0" i="1" lang="es-AR" sz="7200" spc="-1" strike="noStrike">
                <a:solidFill>
                  <a:srgbClr val="000000"/>
                </a:solidFill>
                <a:latin typeface="Calibri"/>
              </a:rPr>
              <a:t>/reemplazo </a:t>
            </a:r>
            <a:r>
              <a:rPr b="0" i="1" lang="es-AR" sz="5400" spc="-1" strike="noStrike">
                <a:solidFill>
                  <a:srgbClr val="000000"/>
                </a:solidFill>
                <a:latin typeface="Calibri"/>
              </a:rPr>
              <a:t>del Libro Inventarios y Balances.</a:t>
            </a:r>
            <a:endParaRPr b="0" lang="es-ES" sz="5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es-AR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AR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A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4 Flecha curvada hacia la derecha"/>
          <p:cNvSpPr/>
          <p:nvPr/>
        </p:nvSpPr>
        <p:spPr>
          <a:xfrm>
            <a:off x="539640" y="3789000"/>
            <a:ext cx="731160" cy="12157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5 Flecha curvada hacia la derecha"/>
          <p:cNvSpPr/>
          <p:nvPr/>
        </p:nvSpPr>
        <p:spPr>
          <a:xfrm>
            <a:off x="611640" y="2637000"/>
            <a:ext cx="731160" cy="12157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6 Flecha curvada hacia la derecha"/>
          <p:cNvSpPr/>
          <p:nvPr/>
        </p:nvSpPr>
        <p:spPr>
          <a:xfrm>
            <a:off x="611640" y="1484640"/>
            <a:ext cx="731160" cy="12157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7 Flecha curvada hacia la derecha"/>
          <p:cNvSpPr/>
          <p:nvPr/>
        </p:nvSpPr>
        <p:spPr>
          <a:xfrm>
            <a:off x="611640" y="4941000"/>
            <a:ext cx="731160" cy="14317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 flipV="1">
            <a:off x="4068000" y="6020640"/>
            <a:ext cx="1079640" cy="6476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ESOL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30 dí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789000"/>
            <a:ext cx="2234880" cy="28126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s-A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IEZ D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 PARTIR DE 5 DÍ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1" i="1" lang="es-A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F. PRECALIF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 PARTIR DE 10 DÍ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( </a:t>
            </a:r>
            <a:r>
              <a:rPr b="1" i="1" lang="es-A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Inf. Precalif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276000" y="2493000"/>
            <a:ext cx="366480" cy="186840"/>
          </a:xfrm>
          <a:prstGeom prst="leftRightArrow">
            <a:avLst>
              <a:gd name="adj1" fmla="val 50000"/>
              <a:gd name="adj2" fmla="val 39153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5220000" y="2493000"/>
            <a:ext cx="366480" cy="186840"/>
          </a:xfrm>
          <a:prstGeom prst="leftRightArrow">
            <a:avLst>
              <a:gd name="adj1" fmla="val 50000"/>
              <a:gd name="adj2" fmla="val 39153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3204000" y="4365000"/>
            <a:ext cx="366480" cy="186840"/>
          </a:xfrm>
          <a:prstGeom prst="leftRightArrow">
            <a:avLst>
              <a:gd name="adj1" fmla="val 50000"/>
              <a:gd name="adj2" fmla="val 39153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5436000" y="4293000"/>
            <a:ext cx="366480" cy="186840"/>
          </a:xfrm>
          <a:prstGeom prst="leftRightArrow">
            <a:avLst>
              <a:gd name="adj1" fmla="val 50000"/>
              <a:gd name="adj2" fmla="val 39153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6"/>
          <p:cNvSpPr/>
          <p:nvPr/>
        </p:nvSpPr>
        <p:spPr>
          <a:xfrm flipV="1">
            <a:off x="1907640" y="2205000"/>
            <a:ext cx="1093320" cy="6480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OCESO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ORMA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5724000" y="2133000"/>
            <a:ext cx="1093320" cy="7488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s-AR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URGENTE 16,30 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1907640" y="4221000"/>
            <a:ext cx="1093320" cy="734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V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or 10 d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084000" y="4149000"/>
            <a:ext cx="1087200" cy="7268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H/13.30 HS</a:t>
            </a:r>
            <a:r>
              <a:rPr b="0" i="1" lang="es-A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4212000" y="1124640"/>
            <a:ext cx="114120" cy="1028520"/>
          </a:xfrm>
          <a:prstGeom prst="upDownArrow">
            <a:avLst>
              <a:gd name="adj1" fmla="val 50000"/>
              <a:gd name="adj2" fmla="val 180000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1"/>
          <p:cNvSpPr/>
          <p:nvPr/>
        </p:nvSpPr>
        <p:spPr>
          <a:xfrm>
            <a:off x="4428000" y="2997000"/>
            <a:ext cx="114120" cy="1028520"/>
          </a:xfrm>
          <a:prstGeom prst="upDownArrow">
            <a:avLst>
              <a:gd name="adj1" fmla="val 50000"/>
              <a:gd name="adj2" fmla="val 180000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4500000" y="4941000"/>
            <a:ext cx="114120" cy="1028520"/>
          </a:xfrm>
          <a:prstGeom prst="upDownArrow">
            <a:avLst>
              <a:gd name="adj1" fmla="val 50000"/>
              <a:gd name="adj2" fmla="val 180000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411640" y="3069000"/>
            <a:ext cx="114120" cy="1028520"/>
          </a:xfrm>
          <a:prstGeom prst="upDownArrow">
            <a:avLst>
              <a:gd name="adj1" fmla="val 50000"/>
              <a:gd name="adj2" fmla="val 180000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6444360" y="2997000"/>
            <a:ext cx="114120" cy="1028520"/>
          </a:xfrm>
          <a:prstGeom prst="upDownArrow">
            <a:avLst>
              <a:gd name="adj1" fmla="val 50000"/>
              <a:gd name="adj2" fmla="val 180000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A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3708000" y="404640"/>
            <a:ext cx="1093320" cy="734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s-AR" sz="1400" spc="-1" strike="noStrike">
                <a:solidFill>
                  <a:srgbClr val="622423"/>
                </a:solidFill>
                <a:latin typeface="Calibri"/>
                <a:ea typeface="Times New Roman"/>
              </a:rPr>
              <a:t>TRÁM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3708000" y="2061000"/>
            <a:ext cx="1453680" cy="9140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ESA DE ENTR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s-AR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. G. 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780000" y="4077000"/>
            <a:ext cx="1485720" cy="799920"/>
          </a:xfrm>
          <a:prstGeom prst="flowChartDecision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s-AR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ROL LEGAL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0" y="265320"/>
            <a:ext cx="1331280" cy="946440"/>
          </a:xfrm>
          <a:prstGeom prst="rect">
            <a:avLst/>
          </a:prstGeom>
          <a:solidFill>
            <a:srgbClr val="f2dbd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04560" bIns="63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s-AR" sz="2000" spc="-1" strike="noStrike">
                <a:solidFill>
                  <a:srgbClr val="622423"/>
                </a:solidFill>
                <a:latin typeface="Cambria"/>
              </a:rPr>
              <a:t>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0" y="-239040"/>
            <a:ext cx="6105600" cy="821520"/>
          </a:xfrm>
          <a:prstGeom prst="rect">
            <a:avLst/>
          </a:prstGeom>
          <a:solidFill>
            <a:srgbClr val="f2dbd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es-AR" sz="1400" spc="-1" strike="noStrike">
                <a:solidFill>
                  <a:srgbClr val="622423"/>
                </a:solidFill>
                <a:latin typeface="Cambria"/>
              </a:rPr>
              <a:t>	</a:t>
            </a:r>
            <a:r>
              <a:rPr b="1" i="1" lang="es-AR" sz="1400" spc="-1" strike="noStrike">
                <a:solidFill>
                  <a:srgbClr val="622423"/>
                </a:solidFill>
                <a:latin typeface="Cambria"/>
              </a:rPr>
              <a:t>LOS PLAZOS SE CUENTAN EN DIAS HABILES ADMINISTRA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565440" y="46800"/>
            <a:ext cx="20127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447800" y="-219960"/>
            <a:ext cx="248040" cy="13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4022640" y="199080"/>
            <a:ext cx="109836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6"/>
          <p:cNvSpPr/>
          <p:nvPr/>
        </p:nvSpPr>
        <p:spPr>
          <a:xfrm>
            <a:off x="3565440" y="-600840"/>
            <a:ext cx="2012760" cy="211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7"/>
          <p:cNvSpPr/>
          <p:nvPr/>
        </p:nvSpPr>
        <p:spPr>
          <a:xfrm>
            <a:off x="1736640" y="123120"/>
            <a:ext cx="5670360" cy="66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4022640" y="-524520"/>
            <a:ext cx="1098360" cy="19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s-A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0606-AB65-49BD-A9E0-89498B29B1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7640" y="220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ON 7/2005 I.G.J.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Brío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e Office">
  <a:themeElements>
    <a:clrScheme name="Brío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e Office">
  <a:themeElements>
    <a:clrScheme name="Brío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ema de Office">
  <a:themeElements>
    <a:clrScheme name="Brío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  <Words>2049</Words>
  <Paragraphs>4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lossus User</cp:lastModifiedBy>
  <dcterms:modified xsi:type="dcterms:W3CDTF">2011-05-12T09:39:42Z</dcterms:modified>
  <cp:revision>64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39</vt:r8>
  </property>
</Properties>
</file>