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F560A-BA94-49BA-905C-08A605AD6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62828-01BC-4A6D-854F-E8B1D3603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1F980-6B94-4B8E-8393-43C6235E3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9BEAE-8EC8-4712-988A-9D7F16839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D424B-B9FC-4D53-9789-FAD77D2EF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1499A-4988-446F-8130-806C31DBB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E88C2-5CF5-48A2-B228-16792836B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A8F1D-8C18-461D-9091-03450339A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086FD-2579-468C-97E5-713E287E6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3A14C-6698-4EE8-8380-A2C7D3BC8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FC00E-89BA-4F00-A959-8D8365BA7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78772-7C06-4212-90DC-7D6CCAF5A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2829-CD4F-44BC-93B6-16C2D5FAC448}" type="slidenum">
              <a:rPr b="0" lang="es-ES_tradn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ccffff"/>
                </a:solidFill>
                <a:latin typeface="Arial"/>
              </a:rPr>
              <a:t>NOVEDADES </a:t>
            </a:r>
            <a:br>
              <a:rPr sz="4800"/>
            </a:br>
            <a:r>
              <a:rPr b="0" lang="es-AR" sz="4800" spc="-1" strike="noStrike">
                <a:solidFill>
                  <a:srgbClr val="ccffff"/>
                </a:solidFill>
                <a:latin typeface="Arial"/>
              </a:rPr>
              <a:t> 17-10-2011</a:t>
            </a:r>
            <a:endParaRPr b="0" lang="en-US" sz="4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Arial"/>
              </a:rPr>
              <a:t>“</a:t>
            </a:r>
            <a:r>
              <a:rPr b="0" lang="es-ES_tradnl" sz="4000" spc="-1" strike="noStrike">
                <a:solidFill>
                  <a:srgbClr val="ccffff"/>
                </a:solidFill>
                <a:latin typeface="Arial"/>
              </a:rPr>
              <a:t>SMI c/LIDERAR CÍA GENERAL DE SEGUROS S.A. "</a:t>
            </a:r>
            <a:endParaRPr b="0" lang="en-US" sz="4000" spc="-1" strike="noStrike">
              <a:solidFill>
                <a:srgbClr val="ccffff"/>
              </a:solidFill>
              <a:latin typeface="Arial"/>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VII-  21</a:t>
            </a:r>
            <a:r>
              <a:rPr b="0" lang="es-ES_tradnl" sz="3200" spc="-1" strike="noStrike">
                <a:solidFill>
                  <a:srgbClr val="ffffff"/>
                </a:solidFill>
                <a:latin typeface="Arial"/>
              </a:rPr>
              <a:t>.09.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SITUACION TRABAJADORA QUE ADOPTA INVOCA PROTECCION DEL ART. 178 YSIG DE LA L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INGRESO EL 01/12/05 Y VIAJA EL 27 DE JUNIO DE 2006 PARA LA CUSTODIA Y ADOPCION DE 4 NIÑO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LA EMPRESA LE CONCEDE LIC. POR MATERNIDAD DESDE  26/6 AL 10/9.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LUEGO DEL 11/9 SE PRODUCE EL DESPIDO SIN CAUS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LOS JUECES CONSIDERAN QUE POR LOS PRINCIPIOS DE LAS LEYES DE PROTECCION DE LA FAMILIA, AUNQU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NO ESTE PREVISTO EN LA LCT CORRESPONDE CONSIDERAR QUE LA MUJER FUE DESPEDIDA POR EL HECHO DE CONVERTIRSE EN MADRE, POR LO CUAL LE CORRESPONDE LA INDEMNIZACION DEL ART. 182 DE LA L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LOS JUECES ENTENDIERON NO QUE HABIA MAS ARGUMENTOS PARA CONSIDERAR QUE CORRESPONDIESE UNA INDEMNIZACIÓN POR DAÑO MO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Arial"/>
              </a:rPr>
              <a:t>“</a:t>
            </a:r>
            <a:r>
              <a:rPr b="0" lang="es-ES_tradnl" sz="4000" spc="-1" strike="noStrike">
                <a:solidFill>
                  <a:srgbClr val="ccffff"/>
                </a:solidFill>
                <a:latin typeface="Arial"/>
              </a:rPr>
              <a:t>BUENAÑO ABARRZA JULIO M. c/MAXIMA AFJP Y HSBC SEGUROS s/ DESPIDO "</a:t>
            </a:r>
            <a:endParaRPr b="0" lang="en-US" sz="4000" spc="-1" strike="noStrike">
              <a:solidFill>
                <a:srgbClr val="ccffff"/>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V-  15</a:t>
            </a:r>
            <a:r>
              <a:rPr b="0" lang="es-ES_tradnl" sz="3200" spc="-1" strike="noStrike">
                <a:solidFill>
                  <a:srgbClr val="ffffff"/>
                </a:solidFill>
                <a:latin typeface="Arial"/>
              </a:rPr>
              <a:t>.07.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SE TRATA DE UN EMPLEADO DE AFJP CON CESIÓN DE CONTRATO DE TRABAJO A LAS EMPRESAS DEL GRUPO EL 29-12-2008 CON EFECTO EL 01/01/2009, DESPEDIDO EL 06/02/2009</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1" lang="es-AR" sz="3200" spc="-1" strike="noStrike">
                <a:solidFill>
                  <a:srgbClr val="ffffff"/>
                </a:solidFill>
                <a:latin typeface="Arial"/>
              </a:rPr>
              <a:t>INDEMNIZACION POR DAÑOS Y PERJUICIO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0" lang="es-AR" sz="3200" spc="-1" strike="noStrike">
                <a:solidFill>
                  <a:srgbClr val="ffffff"/>
                </a:solidFill>
                <a:latin typeface="Arial"/>
              </a:rPr>
              <a:t>SI BIEN EL CONTRATO DE CESIÓN VERSABA SOBRE LA CONTINUIDAD LABORAL, NO SUFICIENTE PARA E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DAÑO MOR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EL TRABAJADOR NO PUEDE ALEGAR DESCONOCIMIENTO AL 29/12/2008 LOS TERMINOS DE LA LEY 26.425, SIN PERJUICIO DE LO CUAL ACEPTO LA CESIÓN. EL TENIA LA POSIBILIDAD DE NO DAR CONFORMIDAD Y QUEDAR EN LA AFJP Y CONSECUENTEMENTE PASAR AL ESTAD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NI EN LA DEMANDA NI EN LAS PRUEBAS EL TRAB. NO ALEGA VICI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EN EL CONTRATO DE CESIÓN, QUE PERMITA COLEGIR EL USO DE MANIOBRA  FRAUDULENT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1" lang="es-AR" sz="3200" spc="-1" strike="noStrike">
                <a:solidFill>
                  <a:srgbClr val="ffffff"/>
                </a:solidFill>
                <a:latin typeface="Arial"/>
              </a:rPr>
              <a:t>NO EXISTEN DERECHOS ABSOLUTOS SINO RELATIVOS (SEGÚN EL JUEGO ARMONICO DE LOS ART. 14, 14 BIS Y 28 DE LA C.N.)</a:t>
            </a:r>
            <a:r>
              <a:rPr b="0" lang="es-A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ANTE LA CONDUCTA () DEL DESPIDO SIN CAUSA LA REPARACION ES LA INDEMNIZACION DEL ART. 245.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1" lang="es-AR" sz="3200" spc="-1" strike="noStrike">
                <a:solidFill>
                  <a:srgbClr val="ffffff"/>
                </a:solidFill>
                <a:latin typeface="Arial"/>
              </a:rPr>
              <a:t>BASE DEL ART. 245</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0" lang="es-AR" sz="3200" spc="-1" strike="noStrike">
                <a:solidFill>
                  <a:srgbClr val="ffffff"/>
                </a:solidFill>
                <a:latin typeface="Arial"/>
              </a:rPr>
              <a:t>SE DEBE CONSIDERAR LAS REMUNERACIONES DE SU ULTIMO AÑO (ES DECIR AFJP Y SEGUR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NO CORRESPONDE CONSIDERAR IMPORTES ABONADOS SOLO EN UN PERIODO (DIF. O REAJUS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E DEBE CONSIDERAR EL SUELDO Y LA COMISION MEJOR DEL ÚLTIMO AÑO </a:t>
            </a:r>
            <a:r>
              <a:rPr b="1" lang="es-ES_tradnl" sz="3200" spc="-1" strike="noStrike">
                <a:solidFill>
                  <a:srgbClr val="ffffff"/>
                </a:solidFill>
                <a:latin typeface="Arial"/>
              </a:rPr>
              <a:t>NO PROMED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1" lang="es-AR" sz="3200" spc="-1" strike="noStrike">
                <a:solidFill>
                  <a:srgbClr val="ffffff"/>
                </a:solidFill>
                <a:latin typeface="Arial"/>
              </a:rPr>
              <a:t>BASE DEL ART. 232 Y 233</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0" lang="es-AR" sz="3200" spc="-1" strike="noStrike">
                <a:solidFill>
                  <a:srgbClr val="ffffff"/>
                </a:solidFill>
                <a:latin typeface="Arial"/>
              </a:rPr>
              <a:t>SUELDO NORMAL Y HABITU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EN CASO DE VARIABLES PROMEDIO DE LOS ÚLTIMOS 6 MESES (PARA NORMALIZAR LA REMUNERAC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ccffff"/>
                </a:solidFill>
                <a:latin typeface="Arial"/>
              </a:rPr>
              <a:t>DTO. 1482/2011</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Arial"/>
              </a:rPr>
              <a:t>“</a:t>
            </a:r>
            <a:r>
              <a:rPr b="0" lang="es-ES_tradnl" sz="4000" spc="-1" strike="noStrike">
                <a:solidFill>
                  <a:srgbClr val="ccffff"/>
                </a:solidFill>
                <a:latin typeface="Arial"/>
              </a:rPr>
              <a:t>CECCHINI RUBEN I c/JUMBO RETAIL ARG S.A. s/ DESPIDO "</a:t>
            </a:r>
            <a:endParaRPr b="0" lang="en-US" sz="4000" spc="-1" strike="noStrike">
              <a:solidFill>
                <a:srgbClr val="ccffff"/>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  31</a:t>
            </a:r>
            <a:r>
              <a:rPr b="0" lang="es-ES_tradnl" sz="3200" spc="-1" strike="noStrike">
                <a:solidFill>
                  <a:srgbClr val="ffffff"/>
                </a:solidFill>
                <a:latin typeface="Arial"/>
              </a:rPr>
              <a:t>.08.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DESPIDO DE FEB DE 2009, DONDE SE RECLAMAN DIFERENCIAS SALARIALES Y DE INDEMNIZ.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1" lang="es-AR" sz="3200" spc="-1" strike="noStrike">
                <a:solidFill>
                  <a:srgbClr val="ffffff"/>
                </a:solidFill>
                <a:latin typeface="Arial"/>
              </a:rPr>
              <a:t>RESULTA PROCEDENTE EL RECLAMO DE DIF. SALARIALES O DE REMUNERACION EN LOS CASOS DE CONTRATOS A TIEMPO PARCIAL POR LA LEY 26.474, POR LOS PERIODOS POSTERIORES A FEBRERO 2009.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Arial"/>
              </a:rPr>
              <a:t>“</a:t>
            </a:r>
            <a:r>
              <a:rPr b="0" lang="es-ES_tradnl" sz="4000" spc="-1" strike="noStrike">
                <a:solidFill>
                  <a:srgbClr val="ccffff"/>
                </a:solidFill>
                <a:latin typeface="Arial"/>
              </a:rPr>
              <a:t>D.O.L.  c/EMBAJADA DE MEXICO s/ DESPIDO "</a:t>
            </a:r>
            <a:endParaRPr b="0" lang="en-US" sz="4000" spc="-1" strike="noStrike">
              <a:solidFill>
                <a:srgbClr val="ccffff"/>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X-  12</a:t>
            </a:r>
            <a:r>
              <a:rPr b="0" lang="es-ES_tradnl" sz="3200" spc="-1" strike="noStrike">
                <a:solidFill>
                  <a:srgbClr val="ffffff"/>
                </a:solidFill>
                <a:latin typeface="Arial"/>
              </a:rPr>
              <a:t>.08.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ASESOR LEGAL DE LA EMBAJADA “AD HONOREM” - , SE LE DERIVABAN A MEXICANOS COMO AUTONOM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0" lang="es-AR" sz="3200" spc="-1" strike="noStrike">
                <a:solidFill>
                  <a:srgbClr val="ffffff"/>
                </a:solidFill>
                <a:latin typeface="Arial"/>
              </a:rPr>
              <a:t>ESTE ASESORAMIENTO FUE DESDE 1994 A 2006 CUANDO SE RESCINDE EL CONTRATO, YA QUE EL ABOGADO SE IBA A DEDICAR A LA POLITICA. </a:t>
            </a:r>
            <a:r>
              <a:rPr b="1" lang="es-A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1" lang="es-AR" sz="3200" spc="-1" strike="noStrike">
                <a:solidFill>
                  <a:srgbClr val="ffffff"/>
                </a:solidFill>
                <a:latin typeface="Arial"/>
              </a:rPr>
              <a:t>EN LA CAUSA SE DEMUESTRA LA GRAN CANTIDAD DE CLIENTES IMPORTANTES DEL LETRADO Y QUE LOS SERVICIOS A LA EMBAJAD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1" lang="es-AR" sz="3200" spc="-1" strike="noStrike">
                <a:solidFill>
                  <a:srgbClr val="ffffff"/>
                </a:solidFill>
                <a:latin typeface="Arial"/>
              </a:rPr>
              <a:t>ERAN GRATUITO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1" lang="es-AR" sz="3200" spc="-1" strike="noStrike">
                <a:solidFill>
                  <a:srgbClr val="ffffff"/>
                </a:solidFill>
                <a:latin typeface="Arial"/>
              </a:rPr>
              <a:t>POR ENDE LA CAMARA RATIFICA EL FALLO DE PRIMERA INSTANCIA, EN CUANTO NO EXISTE UNA RELACION LABO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16280"/>
            <a:ext cx="7772400" cy="16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Arial"/>
              </a:rPr>
              <a:t>“</a:t>
            </a:r>
            <a:r>
              <a:rPr b="0" lang="es-ES_tradnl" sz="4000" spc="-1" strike="noStrike">
                <a:solidFill>
                  <a:srgbClr val="ccffff"/>
                </a:solidFill>
                <a:latin typeface="Arial"/>
              </a:rPr>
              <a:t>REBOREDO SERGIO D. c/BUMERAN.COM ARG S.A. s/ DESPIDO "</a:t>
            </a:r>
            <a:endParaRPr b="0" lang="en-US" sz="4000" spc="-1" strike="noStrike">
              <a:solidFill>
                <a:srgbClr val="ccffff"/>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  30</a:t>
            </a:r>
            <a:r>
              <a:rPr b="0" lang="es-ES_tradnl" sz="3200" spc="-1" strike="noStrike">
                <a:solidFill>
                  <a:srgbClr val="ffffff"/>
                </a:solidFill>
                <a:latin typeface="Arial"/>
              </a:rPr>
              <a:t>.08.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68360" y="-36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SE TRATA DEL DESPIDO DEL DIRECTOR DE RR HH, QUE TRABAJO DESDE JUNIO 2007 A NOVIEMBRE 2008.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1" lang="es-AR" sz="3200" spc="-1" strike="noStrike">
                <a:solidFill>
                  <a:srgbClr val="ffffff"/>
                </a:solidFill>
                <a:latin typeface="Arial"/>
              </a:rPr>
              <a:t>BASE ART. 245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0" lang="es-AR" sz="3200" spc="-1" strike="noStrike">
                <a:solidFill>
                  <a:srgbClr val="ffffff"/>
                </a:solidFill>
                <a:latin typeface="Arial"/>
              </a:rPr>
              <a:t>EL TELEFONO CELULAR, COMO ERA PARA USO DEL TRABAJO, SE DEBE COMPUTAR EL USO PERSONAL DEL TELEFONO, COMO NO HAY ELEMENTOS DE COMPUTA EL 50%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68360" y="-360"/>
            <a:ext cx="8229600" cy="604836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TAMBIEN FORMA PARTE DE LA BASE LOS PAGOS DE COCHERA. </a:t>
            </a:r>
            <a:endParaRPr b="0" lang="en-US" sz="3200" spc="-1" strike="noStrike">
              <a:solidFill>
                <a:srgbClr val="ffffff"/>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YA QUE EL PUESTO DEL SUJETO NO NECESITABA EL AUTO PARA SUS TAREAS. </a:t>
            </a:r>
            <a:endParaRPr b="0" lang="en-US" sz="3200" spc="-1" strike="noStrike">
              <a:solidFill>
                <a:srgbClr val="ffffff"/>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1" lang="es-AR" sz="3200" spc="-1" strike="noStrike">
                <a:solidFill>
                  <a:srgbClr val="ffffff"/>
                </a:solidFill>
                <a:latin typeface="Arial"/>
              </a:rPr>
              <a:t>NO FORMA PARTE DE LA BASE, LOS PAGOS DIFERENCIALES DE OSDE. </a:t>
            </a:r>
            <a:endParaRPr b="0" lang="en-US" sz="3200" spc="-1" strike="noStrike">
              <a:solidFill>
                <a:srgbClr val="ffffff"/>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1" lang="es-AR" sz="3200" spc="-1" strike="noStrike">
                <a:solidFill>
                  <a:srgbClr val="ffffff"/>
                </a:solidFill>
                <a:latin typeface="Arial"/>
              </a:rPr>
              <a:t>DEV. BONO DEL 2008 </a:t>
            </a:r>
            <a:endParaRPr b="0" lang="en-US" sz="3200" spc="-1" strike="noStrike">
              <a:solidFill>
                <a:srgbClr val="ffffff"/>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0" lang="es-AR" sz="3200" spc="-1" strike="noStrike">
                <a:solidFill>
                  <a:srgbClr val="ffffff"/>
                </a:solidFill>
                <a:latin typeface="Arial"/>
              </a:rPr>
              <a:t>PARA COBRAR EL BONO ADEMAS DE CUMPLIR CON LOS OBJETIVOS, DEBIA APROBARLO EL DIRECTORIO Y </a:t>
            </a:r>
            <a:endParaRPr b="0" lang="en-US" sz="3200" spc="-1" strike="noStrike">
              <a:solidFill>
                <a:srgbClr val="ffffff"/>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68360" y="-360"/>
            <a:ext cx="8229600" cy="604836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ADEMAS PARA COBRAR EL BONO EL EMPLEADO DEBE ESTAR EN LA COMPAÑÍA AL MOMENTO DE LA LIQUIDACION Y PAGO DEL BONO.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EL BONO SE LIQUIDA EN MARZO DEL AÑO SIGUIENTE, </a:t>
            </a:r>
            <a:r>
              <a:rPr b="1" lang="es-AR" sz="3200" spc="-1" strike="noStrike">
                <a:solidFill>
                  <a:srgbClr val="ffffff"/>
                </a:solidFill>
                <a:latin typeface="Arial"/>
              </a:rPr>
              <a:t>POR ENDE NO LE CORRESPONDE EL COBRO DE BONO.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1" lang="es-AR" sz="3200" spc="-1" strike="noStrike">
                <a:solidFill>
                  <a:srgbClr val="ffffff"/>
                </a:solidFill>
                <a:latin typeface="Arial"/>
              </a:rPr>
              <a:t>STOCK OPCION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   </a:t>
            </a:r>
            <a:r>
              <a:rPr b="0" lang="es-AR" sz="3200" spc="-1" strike="noStrike">
                <a:solidFill>
                  <a:srgbClr val="ffffff"/>
                </a:solidFill>
                <a:latin typeface="Arial"/>
              </a:rPr>
              <a:t>LAS PRUEBAS NO DEMUESTRAN QU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SE HAYAN FIRMADO LOS CONTRA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68360" y="-360"/>
            <a:ext cx="8229600" cy="604836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1" lang="es-AR" sz="3200" spc="-1" strike="noStrike">
                <a:solidFill>
                  <a:srgbClr val="ffffff"/>
                </a:solidFill>
                <a:latin typeface="Arial"/>
              </a:rPr>
              <a:t>DAÑO MORAL</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NO CORRESPONDE POR USO DE IMAGEN, YA QUE EL DIRECTOR ASISTIA A LAS SUPUESTAS ENTREVISTAS QUE LE PROPONÍA LA COMPAÑÍA, EL ASISTIR Y ESCRIBIR CITANDO A LA CÍA, ERA CON SU CONSENTIMIENTO.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NO CORRESPONDE POR LA DENUNCIA PENAL, YA QUE EL EMPLEADO RETUVO INDEBIDAMENTE BIENES AJEN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ccffff"/>
                </a:solidFill>
                <a:latin typeface="Arial"/>
              </a:rPr>
              <a:t>DTO. 1482/2011</a:t>
            </a:r>
            <a:endParaRPr b="0" lang="en-US" sz="4400" spc="-1" strike="noStrike">
              <a:solidFill>
                <a:srgbClr val="ccffff"/>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SE INCREMENTARON LOS MONTOS DE LAS ASIGNACIONES FAMILIARES Y LAS ASISTENCIALES, COMO SI TODAS FUERAN LAS MISMA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LA ASIG. FAMILIAR POR HIJO Y LA ASIGNACION UNIVERSAL $ 27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SE PAGA ASIGNACION FAMILIAR HASTA LOS $ 5.200 (VALOR $ 1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68360" y="-36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CORRESPONDE LA INDEMNIZACION  ART. 2 DE LA LEY 25323,  YA QUE LA INDEMNIZACIONES LABORALES SE ABONARON Y SOLO  SE DEBE POR SENTENCIA ES UNA DIRFERENCIA, LA INDEMNIZACION LEY 25323 CORRESPONDE POR LA DIFERENC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16280"/>
            <a:ext cx="7772400" cy="16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Arial"/>
              </a:rPr>
              <a:t>“</a:t>
            </a:r>
            <a:r>
              <a:rPr b="0" lang="es-ES_tradnl" sz="4000" spc="-1" strike="noStrike">
                <a:solidFill>
                  <a:srgbClr val="ccffff"/>
                </a:solidFill>
                <a:latin typeface="Arial"/>
              </a:rPr>
              <a:t>VINET CARMEN ANDREA c/ADECCO ARG S.A. s/ DESPIDO "</a:t>
            </a:r>
            <a:endParaRPr b="0" lang="en-US" sz="4000" spc="-1" strike="noStrike">
              <a:solidFill>
                <a:srgbClr val="ccff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I-  29</a:t>
            </a:r>
            <a:r>
              <a:rPr b="0" lang="es-ES_tradnl" sz="3200" spc="-1" strike="noStrike">
                <a:solidFill>
                  <a:srgbClr val="ffffff"/>
                </a:solidFill>
                <a:latin typeface="Arial"/>
              </a:rPr>
              <a:t>.08.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68360" y="-360"/>
            <a:ext cx="8229600" cy="604836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ES EL CASO DE UNA TRABAJADORA QUE SE ENCONTRABA EN PERIODO DE PRUEBA E INFORMALMENTE COMUNICA SU EMBARAZO, DESPIDA</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DESPIDA DIAS DESPU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EN EL FALLO SE EXPRESA EL TRABAJADOR INICIA SU CONTRATO POR TIEMPO INDETERMINADO CON UN PERIODO DE PRUEBA.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QUE LA ESTABILIDAD POR MATERNIDAD SE GOZA A PARTIR DE LA NOTIFIC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8360" y="-36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EN EL CASO, LA PROXIMIDAD ENTRE QUE LA TRABAJADORA COMUNICA AL CONTROL DE PRESENTISMO SU ESTADO Y EL DESPIDO HAN TRANSCURRIDO ESCASOS 8 DÍAS, POR LO CUAL SE ENTIENDE QUE LA CAUSA ES EL EMBARAZ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POR LO CUAL SE CONSIDERA QUE RESULTA PROCEDENTE LA INDEMN DEL ART 182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68360" y="-36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CONFORME CON QUE GOZABA DE ESTABILIDAD, AUNQUE SE ENCONTRARA EN PERIODO DE PRUEB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POR LO EXPUESTO, CORRESPONDE LA INDEMNIZACION POR PREAVIS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LA DEL ART. 245 AL NO COMPUTAR EL MINIMO DE ANTIGÜEDAD NO SE GENERA VALOR ALGUN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68360" y="-36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LAS INTENCIONES DISCRIMINATORIAS SE ENCUENTRAN INDEMNIZADAS POR LA IND. ART 182 LCT, POR LO CUAL NO CORRESPONDE ABONAR LOS MONTOS DE ASIG. POR PRENATAL Y NACIMIEN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8920" y="259920"/>
            <a:ext cx="8425080" cy="5932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ccffff"/>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ccffff"/>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836280"/>
            <a:ext cx="8820000" cy="431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ccffff"/>
                </a:solidFill>
                <a:latin typeface="Arial"/>
              </a:rPr>
              <a:t>FACULTADES DE </a:t>
            </a:r>
            <a:br>
              <a:rPr sz="4800"/>
            </a:br>
            <a:br>
              <a:rPr sz="4800"/>
            </a:br>
            <a:r>
              <a:rPr b="1" lang="es-AR" sz="4800" spc="-1" strike="noStrike">
                <a:solidFill>
                  <a:srgbClr val="ccffff"/>
                </a:solidFill>
                <a:latin typeface="Arial"/>
              </a:rPr>
              <a:t>VERIFICACION Y </a:t>
            </a:r>
            <a:br>
              <a:rPr sz="4800"/>
            </a:br>
            <a:br>
              <a:rPr sz="4800"/>
            </a:br>
            <a:r>
              <a:rPr b="1" lang="es-AR" sz="4800" spc="-1" strike="noStrike">
                <a:solidFill>
                  <a:srgbClr val="ccffff"/>
                </a:solidFill>
                <a:latin typeface="Arial"/>
              </a:rPr>
              <a:t>FISCALIZACION  </a:t>
            </a:r>
            <a:br>
              <a:rPr sz="4800"/>
            </a:br>
            <a:endParaRPr b="0" lang="en-US" sz="4800" spc="-1" strike="noStrike">
              <a:solidFill>
                <a:srgbClr val="ccffff"/>
              </a:solidFill>
              <a:latin typeface="Arial"/>
            </a:endParaRPr>
          </a:p>
        </p:txBody>
      </p:sp>
      <p:sp>
        <p:nvSpPr>
          <p:cNvPr id="94" name="PlaceHolder 2"/>
          <p:cNvSpPr>
            <a:spLocks noGrp="1"/>
          </p:cNvSpPr>
          <p:nvPr>
            <p:ph type="subTitle"/>
          </p:nvPr>
        </p:nvSpPr>
        <p:spPr>
          <a:xfrm>
            <a:off x="2879280" y="5733720"/>
            <a:ext cx="6264360" cy="14292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ccffff"/>
                </a:solidFill>
                <a:latin typeface="Arial"/>
              </a:rPr>
              <a:t>RG 3189/2011</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7800" y="1174680"/>
            <a:ext cx="8369640" cy="4521240"/>
          </a:xfrm>
          <a:prstGeom prst="rect">
            <a:avLst/>
          </a:prstGeom>
          <a:noFill/>
          <a:ln w="0">
            <a:noFill/>
          </a:ln>
        </p:spPr>
        <p:style>
          <a:lnRef idx="0"/>
          <a:fillRef idx="0"/>
          <a:effectRef idx="0"/>
          <a:fontRef idx="minor"/>
        </p:style>
        <p:txBody>
          <a:bodyPr lIns="92160" rIns="92160" tIns="46080" bIns="46080" anchor="t">
            <a:noAutofit/>
          </a:bodyPr>
          <a:p>
            <a:pPr marL="480960" indent="-480960">
              <a:spcBef>
                <a:spcPts val="3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Efectuar inspecciones en los lugares de trabajo, oficinas administración de las empresas y todo otro sito que permite el cumplimiento de su cometido.</a:t>
            </a:r>
            <a:endParaRPr b="0" lang="en-US" sz="2600" spc="-1" strike="noStrike">
              <a:solidFill>
                <a:srgbClr val="ffffff"/>
              </a:solidFill>
              <a:latin typeface="Arial"/>
            </a:endParaRPr>
          </a:p>
          <a:p>
            <a:pPr marL="480960" indent="-480960">
              <a:spcBef>
                <a:spcPts val="3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Citar y hacer comparecer al responsable u obligado, o a terceros, para contestar o informar.</a:t>
            </a:r>
            <a:endParaRPr b="0" lang="en-US" sz="2600" spc="-1" strike="noStrike">
              <a:solidFill>
                <a:srgbClr val="ffffff"/>
              </a:solidFill>
              <a:latin typeface="Arial"/>
            </a:endParaRPr>
          </a:p>
          <a:p>
            <a:pPr marL="480960" indent="-480960">
              <a:spcBef>
                <a:spcPts val="3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Formular a los responsables u obligados o a terceros requerimientos, solicitud de información o documentación y registros previstos en las leyes previsionales.</a:t>
            </a:r>
            <a:endParaRPr b="0" lang="en-US" sz="2600" spc="-1" strike="noStrike">
              <a:solidFill>
                <a:srgbClr val="ffffff"/>
              </a:solidFill>
              <a:latin typeface="Arial"/>
            </a:endParaRPr>
          </a:p>
        </p:txBody>
      </p:sp>
      <p:sp>
        <p:nvSpPr>
          <p:cNvPr id="96" name="Rectangle 3"/>
          <p:cNvSpPr/>
          <p:nvPr/>
        </p:nvSpPr>
        <p:spPr>
          <a:xfrm>
            <a:off x="965160" y="304920"/>
            <a:ext cx="6384960" cy="7034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ccffff"/>
                </a:solidFill>
                <a:latin typeface="Arial"/>
              </a:rPr>
              <a:t>Facultades de la A.F.I.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17"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270000" y="1162080"/>
            <a:ext cx="8369280" cy="4406760"/>
          </a:xfrm>
          <a:prstGeom prst="rect">
            <a:avLst/>
          </a:prstGeom>
          <a:noFill/>
          <a:ln w="0">
            <a:noFill/>
          </a:ln>
        </p:spPr>
        <p:style>
          <a:lnRef idx="0"/>
          <a:fillRef idx="0"/>
          <a:effectRef idx="0"/>
          <a:fontRef idx="minor"/>
        </p:style>
        <p:txBody>
          <a:bodyPr lIns="92160" rIns="92160" tIns="46080" bIns="46080" anchor="t">
            <a:noAutofit/>
          </a:bodyPr>
          <a:p>
            <a:pPr marL="480960" indent="-480960">
              <a:spcBef>
                <a:spcPts val="3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Inspeccionar los libros, anotaciones, registros, papeles y documentos de los responsables u obligados.</a:t>
            </a:r>
            <a:endParaRPr b="0" lang="en-US" sz="2600" spc="-1" strike="noStrike">
              <a:solidFill>
                <a:srgbClr val="ffffff"/>
              </a:solidFill>
              <a:latin typeface="Arial"/>
            </a:endParaRPr>
          </a:p>
          <a:p>
            <a:pPr marL="480960" indent="-480960">
              <a:spcBef>
                <a:spcPts val="3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Practicar notificaciones e intimaciones.</a:t>
            </a:r>
            <a:endParaRPr b="0" lang="en-US" sz="2600" spc="-1" strike="noStrike">
              <a:solidFill>
                <a:srgbClr val="ffffff"/>
              </a:solidFill>
              <a:latin typeface="Arial"/>
            </a:endParaRPr>
          </a:p>
          <a:p>
            <a:pPr marL="480960" indent="-480960">
              <a:spcBef>
                <a:spcPts val="3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Requerir el auxilio de la fuerza pública cuando fuese necesario para el desempeño de sus funciones.</a:t>
            </a:r>
            <a:endParaRPr b="0" lang="en-US" sz="2600" spc="-1" strike="noStrike">
              <a:solidFill>
                <a:srgbClr val="ffffff"/>
              </a:solidFill>
              <a:latin typeface="Arial"/>
            </a:endParaRPr>
          </a:p>
          <a:p>
            <a:pPr marL="480960" indent="-480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Rectangle 3"/>
          <p:cNvSpPr/>
          <p:nvPr/>
        </p:nvSpPr>
        <p:spPr>
          <a:xfrm>
            <a:off x="674640" y="285840"/>
            <a:ext cx="8469360" cy="7034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ccffff"/>
                </a:solidFill>
                <a:latin typeface="Arial"/>
              </a:rPr>
              <a:t>Facultades de la A.F.I.P. (Co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24" dur="500"/>
                                        <p:tgtEl>
                                          <p:spTgt spid="9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29" dur="500"/>
                                        <p:tgtEl>
                                          <p:spTgt spid="97">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34"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270000" y="1162080"/>
            <a:ext cx="8369280" cy="4406760"/>
          </a:xfrm>
          <a:prstGeom prst="rect">
            <a:avLst/>
          </a:prstGeom>
          <a:noFill/>
          <a:ln w="0">
            <a:noFill/>
          </a:ln>
        </p:spPr>
        <p:style>
          <a:lnRef idx="0"/>
          <a:fillRef idx="0"/>
          <a:effectRef idx="0"/>
          <a:fontRef idx="minor"/>
        </p:style>
        <p:txBody>
          <a:bodyPr lIns="92160" rIns="92160" tIns="46080" bIns="46080" anchor="t">
            <a:noAutofit/>
          </a:bodyPr>
          <a:p>
            <a:pPr marL="480960" indent="-480960">
              <a:spcBef>
                <a:spcPts val="3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Recabar orden de allanamiento al juez competente.</a:t>
            </a:r>
            <a:endParaRPr b="0" lang="en-US" sz="2600" spc="-1" strike="noStrike">
              <a:solidFill>
                <a:srgbClr val="ffffff"/>
              </a:solidFill>
              <a:latin typeface="Arial"/>
            </a:endParaRPr>
          </a:p>
          <a:p>
            <a:pPr marL="480960" indent="-480960">
              <a:spcBef>
                <a:spcPts val="2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Requerir la colaboración de los organismos nacionales, provinciales o municipales para el desempeño de su cometido.</a:t>
            </a:r>
            <a:endParaRPr b="0" lang="en-US" sz="2600" spc="-1" strike="noStrike">
              <a:solidFill>
                <a:srgbClr val="ffffff"/>
              </a:solidFill>
              <a:latin typeface="Arial"/>
            </a:endParaRPr>
          </a:p>
          <a:p>
            <a:pPr marL="480960" indent="-480960">
              <a:spcBef>
                <a:spcPts val="2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Clausurar preventivamente un establecimiento cuando se verifiquen hechos u omisiones citadas en el art. 40 y concord. </a:t>
            </a:r>
            <a:endParaRPr b="0" lang="en-US" sz="2600" spc="-1" strike="noStrike">
              <a:solidFill>
                <a:srgbClr val="ffffff"/>
              </a:solidFill>
              <a:latin typeface="Arial"/>
            </a:endParaRPr>
          </a:p>
          <a:p>
            <a:pPr marL="480960" indent="-4809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Rectangle 3"/>
          <p:cNvSpPr/>
          <p:nvPr/>
        </p:nvSpPr>
        <p:spPr>
          <a:xfrm>
            <a:off x="412920" y="312840"/>
            <a:ext cx="8469000" cy="7034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ccffff"/>
                </a:solidFill>
                <a:latin typeface="Arial"/>
              </a:rPr>
              <a:t>Facultades de la A.F.I.P. (Co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41" dur="500"/>
                                        <p:tgtEl>
                                          <p:spTgt spid="99">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46" dur="500"/>
                                        <p:tgtEl>
                                          <p:spTgt spid="99">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51"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477720" y="477720"/>
            <a:ext cx="8199720" cy="4064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4400" spc="-1" strike="noStrike">
                <a:solidFill>
                  <a:srgbClr val="ccffff"/>
                </a:solidFill>
                <a:latin typeface="Arial"/>
              </a:rPr>
              <a:t>Procedimiento de Inspección</a:t>
            </a:r>
            <a:endParaRPr b="0" lang="en-US" sz="4400" spc="-1" strike="noStrike">
              <a:solidFill>
                <a:srgbClr val="ffffff"/>
              </a:solidFill>
              <a:latin typeface="Arial"/>
            </a:endParaRPr>
          </a:p>
        </p:txBody>
      </p:sp>
      <p:sp>
        <p:nvSpPr>
          <p:cNvPr id="102" name="Rectangle 3"/>
          <p:cNvSpPr/>
          <p:nvPr/>
        </p:nvSpPr>
        <p:spPr>
          <a:xfrm>
            <a:off x="3282840" y="1530360"/>
            <a:ext cx="2806920" cy="458280"/>
          </a:xfrm>
          <a:prstGeom prst="rect">
            <a:avLst/>
          </a:prstGeom>
          <a:noFill/>
          <a:ln w="12600">
            <a:solidFill>
              <a:srgbClr val="ffffff"/>
            </a:solidFill>
            <a:miter/>
          </a:ln>
        </p:spPr>
        <p:style>
          <a:lnRef idx="0"/>
          <a:fillRef idx="0"/>
          <a:effectRef idx="0"/>
          <a:fontRef idx="minor"/>
        </p:style>
        <p:txBody>
          <a:bodyPr lIns="92160" rIns="92160" tIns="46080" bIns="460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400" spc="-1" strike="noStrike">
                <a:solidFill>
                  <a:srgbClr val="ffffff"/>
                </a:solidFill>
                <a:latin typeface="Arial"/>
              </a:rPr>
              <a:t>Inspección</a:t>
            </a:r>
            <a:endParaRPr b="0" lang="en-US" sz="2400" spc="-1" strike="noStrike">
              <a:solidFill>
                <a:srgbClr val="ffffff"/>
              </a:solidFill>
              <a:latin typeface="Arial"/>
            </a:endParaRPr>
          </a:p>
        </p:txBody>
      </p:sp>
      <p:sp>
        <p:nvSpPr>
          <p:cNvPr id="103" name="Rectangle 4"/>
          <p:cNvSpPr/>
          <p:nvPr/>
        </p:nvSpPr>
        <p:spPr>
          <a:xfrm>
            <a:off x="2432160" y="2355840"/>
            <a:ext cx="4508280" cy="458280"/>
          </a:xfrm>
          <a:prstGeom prst="rect">
            <a:avLst/>
          </a:prstGeom>
          <a:noFill/>
          <a:ln w="12600">
            <a:solidFill>
              <a:srgbClr val="ffffff"/>
            </a:solidFill>
            <a:miter/>
          </a:ln>
        </p:spPr>
        <p:style>
          <a:lnRef idx="0"/>
          <a:fillRef idx="0"/>
          <a:effectRef idx="0"/>
          <a:fontRef idx="minor"/>
        </p:style>
        <p:txBody>
          <a:bodyPr lIns="92160" rIns="92160" tIns="46080" bIns="460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400" spc="-1" strike="noStrike">
                <a:solidFill>
                  <a:srgbClr val="ffffff"/>
                </a:solidFill>
                <a:latin typeface="Arial"/>
              </a:rPr>
              <a:t>Detección de Infracciones</a:t>
            </a:r>
            <a:endParaRPr b="0" lang="en-US" sz="2400" spc="-1" strike="noStrike">
              <a:solidFill>
                <a:srgbClr val="ffffff"/>
              </a:solidFill>
              <a:latin typeface="Arial"/>
            </a:endParaRPr>
          </a:p>
        </p:txBody>
      </p:sp>
      <p:sp>
        <p:nvSpPr>
          <p:cNvPr id="104" name="Rectangle 5"/>
          <p:cNvSpPr/>
          <p:nvPr/>
        </p:nvSpPr>
        <p:spPr>
          <a:xfrm>
            <a:off x="298440" y="3513240"/>
            <a:ext cx="2603520" cy="869040"/>
          </a:xfrm>
          <a:prstGeom prst="rect">
            <a:avLst/>
          </a:prstGeom>
          <a:noFill/>
          <a:ln w="12600">
            <a:solidFill>
              <a:srgbClr val="ffffff"/>
            </a:solidFill>
            <a:miter/>
          </a:ln>
        </p:spPr>
        <p:style>
          <a:lnRef idx="0"/>
          <a:fillRef idx="0"/>
          <a:effectRef idx="0"/>
          <a:fontRef idx="minor"/>
        </p:style>
        <p:txBody>
          <a:bodyPr lIns="92160" rIns="92160" tIns="46080" bIns="46080" anchor="t">
            <a:spAutoFit/>
          </a:bodyPr>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ffffff"/>
                </a:solidFill>
                <a:latin typeface="Arial"/>
              </a:rPr>
              <a:t>Instrucción Sumario por infracción laboral</a:t>
            </a:r>
            <a:endParaRPr b="0" lang="en-US" sz="2000" spc="-1" strike="noStrike">
              <a:solidFill>
                <a:srgbClr val="ffffff"/>
              </a:solidFill>
              <a:latin typeface="Arial"/>
            </a:endParaRPr>
          </a:p>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
        <p:nvSpPr>
          <p:cNvPr id="105" name="Rectangle 6"/>
          <p:cNvSpPr/>
          <p:nvPr/>
        </p:nvSpPr>
        <p:spPr>
          <a:xfrm>
            <a:off x="3270240" y="3513240"/>
            <a:ext cx="2832120" cy="1127880"/>
          </a:xfrm>
          <a:prstGeom prst="rect">
            <a:avLst/>
          </a:prstGeom>
          <a:noFill/>
          <a:ln w="12600">
            <a:solidFill>
              <a:srgbClr val="ffffff"/>
            </a:solidFill>
            <a:miter/>
          </a:ln>
        </p:spPr>
        <p:style>
          <a:lnRef idx="0"/>
          <a:fillRef idx="0"/>
          <a:effectRef idx="0"/>
          <a:fontRef idx="minor"/>
        </p:style>
        <p:txBody>
          <a:bodyPr lIns="92160" rIns="92160" tIns="46080" bIns="46080" anchor="t">
            <a:spAutoFit/>
          </a:bodyPr>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ffffff"/>
                </a:solidFill>
                <a:latin typeface="Arial"/>
              </a:rPr>
              <a:t>Notificación a la AFIP en el caso de corresponder</a:t>
            </a:r>
            <a:endParaRPr b="0" lang="en-US" sz="2000" spc="-1" strike="noStrike">
              <a:solidFill>
                <a:srgbClr val="ffffff"/>
              </a:solidFill>
              <a:latin typeface="Arial"/>
            </a:endParaRPr>
          </a:p>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
        <p:nvSpPr>
          <p:cNvPr id="106" name="Rectangle 7"/>
          <p:cNvSpPr/>
          <p:nvPr/>
        </p:nvSpPr>
        <p:spPr>
          <a:xfrm>
            <a:off x="6242040" y="3513240"/>
            <a:ext cx="2603520" cy="1127880"/>
          </a:xfrm>
          <a:prstGeom prst="rect">
            <a:avLst/>
          </a:prstGeom>
          <a:noFill/>
          <a:ln w="12600">
            <a:solidFill>
              <a:srgbClr val="ffffff"/>
            </a:solidFill>
            <a:miter/>
          </a:ln>
        </p:spPr>
        <p:style>
          <a:lnRef idx="0"/>
          <a:fillRef idx="0"/>
          <a:effectRef idx="0"/>
          <a:fontRef idx="minor"/>
        </p:style>
        <p:txBody>
          <a:bodyPr lIns="92160" rIns="92160" tIns="46080" bIns="46080" anchor="t">
            <a:spAutoFit/>
          </a:bodyPr>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ffffff"/>
                </a:solidFill>
                <a:latin typeface="Arial"/>
              </a:rPr>
              <a:t>Notificación a Migraciones en el caso de corresponder</a:t>
            </a:r>
            <a:endParaRPr b="0" lang="en-US" sz="2000" spc="-1" strike="noStrike">
              <a:solidFill>
                <a:srgbClr val="ffffff"/>
              </a:solidFill>
              <a:latin typeface="Arial"/>
            </a:endParaRPr>
          </a:p>
        </p:txBody>
      </p:sp>
      <p:sp>
        <p:nvSpPr>
          <p:cNvPr id="107" name="Rectangle 8"/>
          <p:cNvSpPr/>
          <p:nvPr/>
        </p:nvSpPr>
        <p:spPr>
          <a:xfrm>
            <a:off x="3384720" y="4960800"/>
            <a:ext cx="2603160" cy="869040"/>
          </a:xfrm>
          <a:prstGeom prst="rect">
            <a:avLst/>
          </a:prstGeom>
          <a:noFill/>
          <a:ln w="12600">
            <a:solidFill>
              <a:srgbClr val="ffffff"/>
            </a:solidFill>
            <a:miter/>
          </a:ln>
        </p:spPr>
        <p:style>
          <a:lnRef idx="0"/>
          <a:fillRef idx="0"/>
          <a:effectRef idx="0"/>
          <a:fontRef idx="minor"/>
        </p:style>
        <p:txBody>
          <a:bodyPr lIns="92160" rIns="92160" tIns="46080" bIns="46080" anchor="t">
            <a:spAutoFit/>
          </a:bodyPr>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ffffff"/>
                </a:solidFill>
                <a:latin typeface="Arial"/>
              </a:rPr>
              <a:t>Determinación de Deuda y aplicación de sanciones</a:t>
            </a:r>
            <a:endParaRPr b="0" lang="en-US" sz="2000" spc="-1" strike="noStrike">
              <a:solidFill>
                <a:srgbClr val="ffffff"/>
              </a:solidFill>
              <a:latin typeface="Arial"/>
            </a:endParaRPr>
          </a:p>
        </p:txBody>
      </p:sp>
      <p:sp>
        <p:nvSpPr>
          <p:cNvPr id="108" name="Line 9"/>
          <p:cNvSpPr/>
          <p:nvPr/>
        </p:nvSpPr>
        <p:spPr>
          <a:xfrm>
            <a:off x="4533840" y="1981080"/>
            <a:ext cx="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0"/>
          <p:cNvSpPr/>
          <p:nvPr/>
        </p:nvSpPr>
        <p:spPr>
          <a:xfrm>
            <a:off x="4533840" y="281952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
          <p:cNvSpPr/>
          <p:nvPr/>
        </p:nvSpPr>
        <p:spPr>
          <a:xfrm>
            <a:off x="4572000" y="4629240"/>
            <a:ext cx="0" cy="32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12"/>
          <p:cNvSpPr/>
          <p:nvPr/>
        </p:nvSpPr>
        <p:spPr>
          <a:xfrm>
            <a:off x="1371600" y="3124080"/>
            <a:ext cx="6095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13"/>
          <p:cNvSpPr/>
          <p:nvPr/>
        </p:nvSpPr>
        <p:spPr>
          <a:xfrm>
            <a:off x="7467480" y="3124080"/>
            <a:ext cx="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14"/>
          <p:cNvSpPr/>
          <p:nvPr/>
        </p:nvSpPr>
        <p:spPr>
          <a:xfrm>
            <a:off x="1371600" y="3124080"/>
            <a:ext cx="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5"/>
          <p:cNvSpPr/>
          <p:nvPr/>
        </p:nvSpPr>
        <p:spPr>
          <a:xfrm>
            <a:off x="6280200" y="4960800"/>
            <a:ext cx="2603520" cy="869040"/>
          </a:xfrm>
          <a:prstGeom prst="rect">
            <a:avLst/>
          </a:prstGeom>
          <a:noFill/>
          <a:ln w="12600">
            <a:solidFill>
              <a:srgbClr val="ffffff"/>
            </a:solidFill>
            <a:miter/>
          </a:ln>
        </p:spPr>
        <p:style>
          <a:lnRef idx="0"/>
          <a:fillRef idx="0"/>
          <a:effectRef idx="0"/>
          <a:fontRef idx="minor"/>
        </p:style>
        <p:txBody>
          <a:bodyPr lIns="92160" rIns="92160" tIns="46080" bIns="46080" anchor="t">
            <a:spAutoFit/>
          </a:bodyPr>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ffffff"/>
                </a:solidFill>
                <a:latin typeface="Arial"/>
              </a:rPr>
              <a:t>Aplicación de sanciones</a:t>
            </a:r>
            <a:endParaRPr b="0" lang="en-US" sz="2000" spc="-1" strike="noStrike">
              <a:solidFill>
                <a:srgbClr val="ffffff"/>
              </a:solidFill>
              <a:latin typeface="Arial"/>
            </a:endParaRPr>
          </a:p>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
        <p:nvSpPr>
          <p:cNvPr id="115" name="Line 16"/>
          <p:cNvSpPr/>
          <p:nvPr/>
        </p:nvSpPr>
        <p:spPr>
          <a:xfrm>
            <a:off x="7467480" y="4629240"/>
            <a:ext cx="0" cy="32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74320"/>
            <a:ext cx="87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ccffff"/>
                </a:solidFill>
                <a:latin typeface="Arial"/>
              </a:rPr>
              <a:t>DETERMINACION DE DEUDA</a:t>
            </a:r>
            <a:br>
              <a:rPr sz="4000"/>
            </a:br>
            <a:endParaRPr b="0" lang="en-US" sz="4000" spc="-1" strike="noStrike">
              <a:solidFill>
                <a:srgbClr val="ccffff"/>
              </a:solidFill>
              <a:latin typeface="Arial"/>
            </a:endParaRPr>
          </a:p>
        </p:txBody>
      </p:sp>
      <p:sp>
        <p:nvSpPr>
          <p:cNvPr id="117" name="PlaceHolder 2"/>
          <p:cNvSpPr>
            <a:spLocks noGrp="1"/>
          </p:cNvSpPr>
          <p:nvPr>
            <p:ph/>
          </p:nvPr>
        </p:nvSpPr>
        <p:spPr>
          <a:xfrm>
            <a:off x="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   </a:t>
            </a:r>
            <a:r>
              <a:rPr b="0" lang="es-AR" sz="2800" spc="-1" strike="noStrike">
                <a:solidFill>
                  <a:srgbClr val="ffffff"/>
                </a:solidFill>
                <a:latin typeface="Arial"/>
              </a:rPr>
              <a:t>MERA LIQUIDACION </a:t>
            </a:r>
            <a:endParaRPr b="0" lang="en-US" sz="2800" spc="-1" strike="noStrike">
              <a:solidFill>
                <a:srgbClr val="ffffff"/>
              </a:solidFill>
              <a:latin typeface="Arial"/>
            </a:endParaRPr>
          </a:p>
        </p:txBody>
      </p:sp>
      <p:sp>
        <p:nvSpPr>
          <p:cNvPr id="118" name="PlaceHolder 3"/>
          <p:cNvSpPr>
            <a:spLocks noGrp="1"/>
          </p:cNvSpPr>
          <p:nvPr>
            <p:ph/>
          </p:nvPr>
        </p:nvSpPr>
        <p:spPr>
          <a:xfrm>
            <a:off x="51055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ETERMINAC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       </a:t>
            </a:r>
            <a:r>
              <a:rPr b="0" lang="es-AR" sz="2800" spc="-1" strike="noStrike">
                <a:solidFill>
                  <a:srgbClr val="ffffff"/>
                </a:solidFill>
                <a:latin typeface="Arial"/>
              </a:rPr>
              <a:t>DE OFIC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Rectangle 5"/>
          <p:cNvSpPr/>
          <p:nvPr/>
        </p:nvSpPr>
        <p:spPr>
          <a:xfrm flipH="1">
            <a:off x="179280" y="1700280"/>
            <a:ext cx="4105440" cy="129708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AutoShape 6"/>
          <p:cNvSpPr/>
          <p:nvPr/>
        </p:nvSpPr>
        <p:spPr>
          <a:xfrm>
            <a:off x="2124000" y="3141720"/>
            <a:ext cx="432000" cy="576360"/>
          </a:xfrm>
          <a:prstGeom prst="downArrow">
            <a:avLst>
              <a:gd name="adj1" fmla="val 50000"/>
              <a:gd name="adj2" fmla="val 333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7"/>
          <p:cNvSpPr/>
          <p:nvPr/>
        </p:nvSpPr>
        <p:spPr>
          <a:xfrm>
            <a:off x="250920" y="4005360"/>
            <a:ext cx="4392360" cy="116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Arial"/>
              </a:rPr>
              <a:t>Constatación y/o Presunción </a:t>
            </a:r>
            <a:endParaRPr b="0" lang="en-US" sz="3500" spc="-1" strike="noStrike">
              <a:solidFill>
                <a:srgbClr val="ffffff"/>
              </a:solidFill>
              <a:latin typeface="Arial"/>
            </a:endParaRPr>
          </a:p>
        </p:txBody>
      </p:sp>
      <p:sp>
        <p:nvSpPr>
          <p:cNvPr id="122" name="AutoShape 8"/>
          <p:cNvSpPr/>
          <p:nvPr/>
        </p:nvSpPr>
        <p:spPr>
          <a:xfrm>
            <a:off x="6372360" y="3284640"/>
            <a:ext cx="431640" cy="576000"/>
          </a:xfrm>
          <a:prstGeom prst="downArrow">
            <a:avLst>
              <a:gd name="adj1" fmla="val 50000"/>
              <a:gd name="adj2" fmla="val 3336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9"/>
          <p:cNvSpPr/>
          <p:nvPr/>
        </p:nvSpPr>
        <p:spPr>
          <a:xfrm>
            <a:off x="4572000" y="4076640"/>
            <a:ext cx="4321080" cy="116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Arial"/>
              </a:rPr>
              <a:t>Sin exhibición de documentación</a:t>
            </a:r>
            <a:endParaRPr b="0" lang="en-US" sz="3500" spc="-1" strike="noStrike">
              <a:solidFill>
                <a:srgbClr val="ffffff"/>
              </a:solidFill>
              <a:latin typeface="Arial"/>
            </a:endParaRPr>
          </a:p>
        </p:txBody>
      </p:sp>
      <p:sp>
        <p:nvSpPr>
          <p:cNvPr id="124" name="Rectangle 10"/>
          <p:cNvSpPr/>
          <p:nvPr/>
        </p:nvSpPr>
        <p:spPr>
          <a:xfrm>
            <a:off x="4932360" y="1700280"/>
            <a:ext cx="3887640" cy="136836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AutoShape 11"/>
          <p:cNvSpPr/>
          <p:nvPr/>
        </p:nvSpPr>
        <p:spPr>
          <a:xfrm>
            <a:off x="755640" y="3933720"/>
            <a:ext cx="3600360" cy="1366920"/>
          </a:xfrm>
          <a:prstGeom prst="flowChartPunchedTape">
            <a:avLst/>
          </a:prstGeom>
          <a:noFill/>
          <a:ln w="5724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AutoShape 12"/>
          <p:cNvSpPr/>
          <p:nvPr/>
        </p:nvSpPr>
        <p:spPr>
          <a:xfrm>
            <a:off x="5076720" y="4005360"/>
            <a:ext cx="3384720" cy="1368360"/>
          </a:xfrm>
          <a:prstGeom prst="flowChartPunchedTape">
            <a:avLst/>
          </a:prstGeom>
          <a:noFill/>
          <a:ln w="5724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2060280"/>
            <a:ext cx="882000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ccffff"/>
                </a:solidFill>
                <a:latin typeface="Arial"/>
              </a:rPr>
              <a:t>Presunciones Legales</a:t>
            </a:r>
            <a:endParaRPr b="0" lang="en-US" sz="4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ccffff"/>
                </a:solidFill>
                <a:latin typeface="Arial"/>
              </a:rPr>
              <a:t>INTRODUCCION</a:t>
            </a:r>
            <a:r>
              <a:rPr b="0" lang="es-AR" sz="4400" spc="-1" strike="noStrike">
                <a:solidFill>
                  <a:srgbClr val="ccffff"/>
                </a:solidFill>
                <a:latin typeface="Arial"/>
              </a:rPr>
              <a:t> </a:t>
            </a:r>
            <a:endParaRPr b="0" lang="en-US" sz="4400" spc="-1" strike="noStrike">
              <a:solidFill>
                <a:srgbClr val="ccffff"/>
              </a:solidFill>
              <a:latin typeface="Arial"/>
            </a:endParaRPr>
          </a:p>
        </p:txBody>
      </p:sp>
      <p:sp>
        <p:nvSpPr>
          <p:cNvPr id="129" name="PlaceHolder 2"/>
          <p:cNvSpPr>
            <a:spLocks noGrp="1"/>
          </p:cNvSpPr>
          <p:nvPr>
            <p:ph/>
          </p:nvPr>
        </p:nvSpPr>
        <p:spPr>
          <a:xfrm>
            <a:off x="457200" y="1557000"/>
            <a:ext cx="8229600" cy="45385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INDICIOS  – Ley 18.82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PRESUNCIONES – LEY 26.063</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CAMBIO FUNDAMENTAL EN EL PROCESO DE LA PRUEB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ccffff"/>
                </a:solidFill>
                <a:latin typeface="Arial"/>
              </a:rPr>
              <a:t>PCIO. REALIDAD </a:t>
            </a:r>
            <a:br>
              <a:rPr sz="5400"/>
            </a:br>
            <a:r>
              <a:rPr b="1" lang="es-AR" sz="5400" spc="-1" strike="noStrike">
                <a:solidFill>
                  <a:srgbClr val="ccffff"/>
                </a:solidFill>
                <a:latin typeface="Arial"/>
              </a:rPr>
              <a:t>ECONÓMICA</a:t>
            </a:r>
            <a:endParaRPr b="0" lang="en-US" sz="5400" spc="-1" strike="noStrike">
              <a:solidFill>
                <a:srgbClr val="cc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APLICACIÓN DEL PCIO. DE REALIDAD ECONOMIC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NORMA ANTI ELUSIÓN  O NORMA PARA SITUACIONES SIMULAD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U VINCULACIÓN CON OTRAS AREAS DE IMPUESTOS Y CON EL ÁMBITO LABORA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TERCERIZACIÓN DE ACTIVIDAD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ccffff"/>
                </a:solidFill>
                <a:latin typeface="Arial"/>
              </a:rPr>
              <a:t>CTO. DE TRABAJO</a:t>
            </a:r>
            <a:endParaRPr b="0" lang="en-US" sz="6000" spc="-1" strike="noStrike">
              <a:solidFill>
                <a:srgbClr val="ccfff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PRESUNCION Y PCIO. DE REALIDAD ECONÓMI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VINCULACION CON EL AMBITO LABOR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INCUMBENCIAS PROFESIONA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DIVERSAS TIPOS DE PRESUNCIO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OTROS ASPECTOS – NOTAS TIPIFICAN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ccffff"/>
                </a:solidFill>
                <a:latin typeface="Arial"/>
              </a:rPr>
              <a:t>OTRAS PRESUNCIONES</a:t>
            </a:r>
            <a:r>
              <a:rPr b="0" lang="es-AR" sz="4000" spc="-1" strike="noStrike">
                <a:solidFill>
                  <a:srgbClr val="ccffff"/>
                </a:solidFill>
                <a:latin typeface="Arial"/>
              </a:rPr>
              <a:t> </a:t>
            </a:r>
            <a:endParaRPr b="0" lang="en-US" sz="4000" spc="-1" strike="noStrike">
              <a:solidFill>
                <a:srgbClr val="cc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FECHA DE INICIO – CAT – elementos de prueba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CANTIDAD DE PERSONAL Y REMUNERACIONES – elaboración de indices, partes intervinientes, publicació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REMUNERACION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ccffff"/>
                </a:solidFill>
                <a:latin typeface="Arial"/>
              </a:rPr>
              <a:t>RG 3189/2011</a:t>
            </a:r>
            <a:endParaRPr b="0" lang="en-US" sz="4400" spc="-1" strike="noStrike">
              <a:solidFill>
                <a:srgbClr val="ccffff"/>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	</a:t>
            </a:r>
            <a:r>
              <a:rPr b="0" lang="es-AR" sz="3200" spc="-1" strike="noStrike">
                <a:solidFill>
                  <a:srgbClr val="ffffff"/>
                </a:solidFill>
                <a:latin typeface="Arial"/>
              </a:rPr>
              <a:t>PUBLICA LA AFIP LOS TOPES DE APORTE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Límite mínimo   $ 498,8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 Límite máximo: $ 16.213,72.</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ccffff"/>
                </a:solidFill>
                <a:latin typeface="Arial"/>
              </a:rPr>
              <a:t>OTROS ASPECTOS</a:t>
            </a:r>
            <a:r>
              <a:rPr b="0" lang="es-AR" sz="6000" spc="-1" strike="noStrike">
                <a:solidFill>
                  <a:srgbClr val="ccffff"/>
                </a:solidFill>
                <a:latin typeface="Arial"/>
              </a:rPr>
              <a:t> </a:t>
            </a:r>
            <a:endParaRPr b="0" lang="en-US" sz="6000" spc="-1" strike="noStrike">
              <a:solidFill>
                <a:srgbClr val="ccffff"/>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CADENA DE PRESUNCIONES – INCIDENCIA EN IMPUESTO DE DET. DE RECURSOS DE SEGURIDAD SOCI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APLICACIÓN DE SANCIONE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VIGENCIA DE LAS PRESUNCION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ffff"/>
                </a:solidFill>
                <a:latin typeface="Arial"/>
              </a:rPr>
              <a:t>Jurisprudencia </a:t>
            </a:r>
            <a:br>
              <a:rPr sz="4400"/>
            </a:br>
            <a:r>
              <a:rPr b="0" lang="es-AR" sz="4400" spc="-1" strike="noStrike">
                <a:solidFill>
                  <a:srgbClr val="ccffff"/>
                </a:solidFill>
                <a:latin typeface="Arial"/>
              </a:rPr>
              <a:t>Seguridad Social </a:t>
            </a:r>
            <a:endParaRPr b="0" lang="en-US" sz="4400" spc="-1" strike="noStrike">
              <a:solidFill>
                <a:srgbClr val="ccffff"/>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Arial"/>
              </a:rPr>
              <a:t>"MADERERA JLG S.R.L. c/ A.F.I.P. - D.G.I. s/Impugnación de deuda"</a:t>
            </a:r>
            <a:endParaRPr b="0" lang="en-US" sz="4000" spc="-1" strike="noStrike">
              <a:solidFill>
                <a:srgbClr val="ccffff"/>
              </a:solidFill>
              <a:latin typeface="Arial"/>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II-  </a:t>
            </a:r>
            <a:r>
              <a:rPr b="0" lang="es-ES_tradnl" sz="3200" spc="-1" strike="noStrike">
                <a:solidFill>
                  <a:srgbClr val="ffffff"/>
                </a:solidFill>
                <a:latin typeface="Arial"/>
              </a:rPr>
              <a:t>15.07.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95280" y="549000"/>
            <a:ext cx="822960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CUESTIONAMIENTO POR UTILIZACION DE SERVICIOS DE UNA COOPERATIV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DE TRABAJ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LA SITUACION SURGE EN UN RELEVAMIENTO DE LA AFIP SOBRE E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PERSONAL, AUNQUE SE MANIFESTO QUE ERAN SOCIOS DE UNA COOP LA AFIP CONSIDERO QUE EXISTIA UNA DEUD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os JUECES ENTENDIERON  que tratándose de una genuina sociedad cooperativa, en cuyo funcionamiento no ha mediado fraude o irregularidad que desnaturalice sus fines, cuando es la cooperativa la que realiza la actividad, el vínculo del prestador con el tercero ha de ser cuidadosamente analizado a efectos de no desnaturalizar la finalidad que se persigue con este tipo de asociacion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GREGANDO QUE será pura y exclusivamente una cuestión de hecho y prueba demostrar que los asociados cooperativos son trabajadores de quienes contratan con la cooperativa, convirtiéndose en realidad en socios de una fraude a las leyes laborales y previsionales; supuesto de extrema gravedad que requiere de parte de quien efectúa tal imputación, el máximo de prudenci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Arial"/>
              </a:rPr>
              <a:t>"ALCAIN, GUSTAVO c/ Ministerio de Trabajo, Empleo y Seguridad Social s/Impugnación de deuda </a:t>
            </a:r>
            <a:endParaRPr b="0" lang="en-US" sz="4000" spc="-1" strike="noStrike">
              <a:solidFill>
                <a:srgbClr val="ccffff"/>
              </a:solidFill>
              <a:latin typeface="Arial"/>
            </a:endParaRPr>
          </a:p>
        </p:txBody>
      </p:sp>
      <p:sp>
        <p:nvSpPr>
          <p:cNvPr id="146"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  30.</a:t>
            </a:r>
            <a:r>
              <a:rPr b="0" lang="es-ES_tradnl" sz="3200" spc="-1" strike="noStrike">
                <a:solidFill>
                  <a:srgbClr val="ffffff"/>
                </a:solidFill>
                <a:latin typeface="Arial"/>
              </a:rPr>
              <a:t>06.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N ESTE CASO ANTE UN RELEVAMIENTO POR CAT (TRAB REGISTRADOS) DEL MTySS, SE DETECTARON TRABAJANDO ASOCIADOS DE UNA COOPERATIV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MENCIONADO LOS JUEC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personas enviadas por la cooperativa a prestar servicios para terceros no pueden ser consideradas simples socias de aquél, pues se trataría de una formalidad sin contenido re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 su respecto, no realizan aporte alguno de trabajo, y el que realizan lo hacen para otra persona física o jurídica distinta y como  contraprestación  reciben un pago de carácter salari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QUE las cooperativas de trabajo como colocadoras de personal para terceros, resultando aplicable el art. 29 de la L.C.T. Ello torna inválida la defensa del recurrente q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 efectos de eximirse de su responsabilidad, aduce que los trabajadores afectados no son sus empleados sino asociados a una cooperativa de trabajo, toda vez que como consecuencia de dicha aplicación, los trabajadores relevados serán considerados sus empleados directos por haber utilizado de sus prestacion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ccffff"/>
                </a:solidFill>
                <a:latin typeface="Arial"/>
              </a:rPr>
              <a:t>RG 3189/2011</a:t>
            </a:r>
            <a:endParaRPr b="0" lang="en-US" sz="4400" spc="-1" strike="noStrike">
              <a:solidFill>
                <a:srgbClr val="ccffff"/>
              </a:solidFill>
              <a:latin typeface="Arial"/>
            </a:endParaRPr>
          </a:p>
        </p:txBody>
      </p:sp>
      <p:sp>
        <p:nvSpPr>
          <p:cNvPr id="49" name=""/>
          <p:cNvSpPr txBox="1"/>
          <p:nvPr/>
        </p:nvSpPr>
        <p:spPr>
          <a:xfrm>
            <a:off x="457200" y="16398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	</a:t>
            </a:r>
            <a:r>
              <a:rPr b="0" lang="es-AR" sz="3200" spc="-1" strike="noStrike">
                <a:solidFill>
                  <a:srgbClr val="ffffff"/>
                </a:solidFill>
                <a:latin typeface="Arial"/>
              </a:rPr>
              <a:t>TABLA DE AUTONOMO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50" name=""/>
          <p:cNvGraphicFramePr/>
          <p:nvPr/>
        </p:nvGraphicFramePr>
        <p:xfrm>
          <a:off x="1835280" y="3059280"/>
          <a:ext cx="4038480" cy="2739960"/>
        </p:xfrm>
        <a:graphic>
          <a:graphicData uri="http://schemas.openxmlformats.org/drawingml/2006/table">
            <a:tbl>
              <a:tblPr/>
              <a:tblGrid>
                <a:gridCol w="2019240"/>
                <a:gridCol w="2019240"/>
              </a:tblGrid>
              <a:tr h="5047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Categoría</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e701"/>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mporte en $</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e701"/>
                    </a:solidFill>
                  </a:tcPr>
                </a:tc>
              </a:tr>
              <a:tr h="4302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266,06</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I</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372,49</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II</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532,14</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V</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851,42</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V</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1170,7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 ley 26.063  </a:t>
            </a:r>
            <a:r>
              <a:rPr b="1" i="1" lang="es-ES_tradnl" sz="3200" spc="-1" strike="noStrike" u="sng">
                <a:solidFill>
                  <a:srgbClr val="ffffff"/>
                </a:solidFill>
                <a:uFillTx/>
                <a:latin typeface="Arial"/>
              </a:rPr>
              <a:t>ha estableció como presunción que los asociados a cooperativas de trabajo son empleados en relación de dependencia, y que las personas física o las</a:t>
            </a:r>
            <a:r>
              <a:rPr b="0" lang="es-ES_tradnl" sz="3200" spc="-1" strike="noStrike">
                <a:solidFill>
                  <a:srgbClr val="ffffff"/>
                </a:solidFill>
                <a:latin typeface="Arial"/>
              </a:rPr>
              <a:t> empresas que contraten a cooperativas de trabajo serán solidariamente responsables de las obligaciones que, para con el Sistema Único de la Seguridad Soci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e hayan devengado por parte de los asociados de dichas cooperativas durante los períodos comprendidos en la respectiva contratación. </a:t>
            </a:r>
            <a:r>
              <a:rPr b="1" lang="es-ES_tradnl" sz="3200" spc="-1" strike="noStrike">
                <a:solidFill>
                  <a:srgbClr val="ffffff"/>
                </a:solidFill>
                <a:latin typeface="Arial"/>
              </a:rPr>
              <a:t>En consecuencia, las empresas o personas físicas que contraten bajo dicha modalidad, resultarán solidariamente responsables respecto</a:t>
            </a:r>
            <a:r>
              <a:rPr b="0" lang="es-ES_tradnl" sz="3200" spc="-1" strike="noStrike">
                <a:solidFill>
                  <a:srgbClr val="ffffff"/>
                </a:solidFill>
                <a:latin typeface="Arial"/>
              </a:rPr>
              <a:t> de las obligaciones laborales y de seguridad social que evidentemente no serán cumplidas por la cooperativ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Arial"/>
              </a:rPr>
              <a:t>"EDICIONES COLIHUE S.R.L. c/ Ministerio de Trabajo, Empleo y Seguridad Social s/Impugnación de deuda"</a:t>
            </a:r>
            <a:endParaRPr b="0" lang="en-US" sz="4000" spc="-1" strike="noStrike">
              <a:solidFill>
                <a:srgbClr val="ccffff"/>
              </a:solidFill>
              <a:latin typeface="Arial"/>
            </a:endParaRPr>
          </a:p>
        </p:txBody>
      </p:sp>
      <p:sp>
        <p:nvSpPr>
          <p:cNvPr id="153"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  </a:t>
            </a:r>
            <a:r>
              <a:rPr b="0" lang="es-ES_tradnl" sz="3200" spc="-1" strike="noStrike">
                <a:solidFill>
                  <a:srgbClr val="ffffff"/>
                </a:solidFill>
                <a:latin typeface="Arial"/>
              </a:rPr>
              <a:t>21.04.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E TRATA DE UN RELEVAMIENTO DE PERSONAL DONDE SE PRETENDE DECIR QUE HAY DATOS ERRONEO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AL RESPECTO SE DICE: </a:t>
            </a:r>
            <a:r>
              <a:rPr b="0" lang="es-ES_tradnl" sz="3200" spc="-1" strike="noStrike">
                <a:solidFill>
                  <a:srgbClr val="ffffff"/>
                </a:solidFill>
                <a:latin typeface="Arial"/>
              </a:rPr>
              <a:t>resulta necesaria la actividad administrativa de comprobación y un criterio amplio en la evaluación de los medios probatorios, en tanto no parece irrazonable que los empleados puedan equivocarse o confundirse al tiempo de consignar o responder acerca de la fecha de inicio de sus tareas o sobre las remuneracion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Pero cuando dichos errores refieren a los datos personales suministrados por el propio relevado y no a la actividad  que desarrolla -a cuyo respecto, en el caso, refiere con precisión-, no se aprecia que la prueba testimonial ofrecida en la instancia administrativa, hubiese resultado pertinente para resolver la cuestión, teniendo en cuenta los hechos determinantes de la infracción (incumplimiento al debido registro de alta del trabajador) y la incongruencia de la testimonial del propio empleado relevado por la inspe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ccffff"/>
              </a:solidFill>
              <a:latin typeface="Arial"/>
            </a:endParaRPr>
          </a:p>
        </p:txBody>
      </p:sp>
      <p:sp>
        <p:nvSpPr>
          <p:cNvPr id="157"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  </a:t>
            </a:r>
            <a:r>
              <a:rPr b="0" lang="es-ES_tradnl" sz="3200" spc="-1" strike="noStrike">
                <a:solidFill>
                  <a:srgbClr val="ffffff"/>
                </a:solidFill>
                <a:latin typeface="Arial"/>
              </a:rPr>
              <a:t>21.04.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Arial"/>
              </a:rPr>
              <a:t>"EDICIONES COLIHUE S.R.L. c/ Ministerio de Trabajo, Empleo y Seguridad Social s/Impugnación de deuda"</a:t>
            </a:r>
            <a:endParaRPr b="0" lang="en-US" sz="4000" spc="-1" strike="noStrike">
              <a:solidFill>
                <a:srgbClr val="ccffff"/>
              </a:solidFill>
              <a:latin typeface="Arial"/>
            </a:endParaRPr>
          </a:p>
        </p:txBody>
      </p:sp>
      <p:sp>
        <p:nvSpPr>
          <p:cNvPr id="159"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I-</a:t>
            </a:r>
            <a:r>
              <a:rPr b="0" lang="es-ES_tradnl" sz="3200" spc="-1" strike="noStrike">
                <a:solidFill>
                  <a:srgbClr val="ffffff"/>
                </a:solidFill>
                <a:latin typeface="Arial"/>
              </a:rPr>
              <a:t>16.06.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ITUACION DE HECHO UN RELEVAMIENTO DE PERSONAL, UTILIZADO COMO UNICA PRUEBA PARA APLICAR UNA SANCION Y POSTERIORMENTE RECLAMAR UNA DEUDA.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1" i="1" lang="es-ES_tradnl" sz="3200" spc="-1" strike="noStrike" u="sng">
                <a:solidFill>
                  <a:srgbClr val="ffffff"/>
                </a:solidFill>
                <a:uFillTx/>
                <a:latin typeface="Arial"/>
              </a:rPr>
              <a:t>En presencia de una sanción, una penalidad, la actividad administrativa debe ser muy rigurosa en cuanto a las formas, para evitar planteos nulificantes que perjudiquen la pronta dilucidación de la cau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La declaración que los supuestos trabajadores brindan a la inspección ha de ser considerada únicamente como un punto de partida de una mayor investigación, y no como presunción cierta de los hechos y circunstancias que manifiestan. El grado </a:t>
            </a:r>
            <a:r>
              <a:rPr b="1" lang="es-ES_tradnl" sz="2800" spc="-1" strike="noStrike">
                <a:solidFill>
                  <a:srgbClr val="ffffff"/>
                </a:solidFill>
                <a:latin typeface="Arial"/>
              </a:rPr>
              <a:t>de certeza de ese "indicio" dependerá del cúmulo de pruebas que se obtenga, mediante la labor investigativa de la administración</a:t>
            </a:r>
            <a:r>
              <a:rPr b="0" lang="es-ES_tradnl" sz="2800" spc="-1" strike="noStrike">
                <a:solidFill>
                  <a:srgbClr val="ffffff"/>
                </a:solidFill>
                <a:latin typeface="Arial"/>
              </a:rPr>
              <a:t>, sin perjuicio de las que el propio imputado pueda suministrar para la mejor defensa de su derech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uando la administración efectúa imputaciones concretas, debe constituirse en un investigador imparcial, a modo de descubrir, en lo posible, la verdad que se encierra en la situación fáctica que se le presenta. Por ello, no basta con la simple manifestación de quien pueda tener interés en la cuestión para tener por cierta una relación de trabajo encubiert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ccffff"/>
                </a:solidFill>
                <a:latin typeface="Arial"/>
              </a:rPr>
              <a:t>LEY  26704</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ino que ha de ahondarse la investigación para afianzar ese indicio con elementos concretos que den pie a la formación de un cargo, por la gravedad que ello implica. En ese orden, las declaraciones -que podrían asimilarse a una testimonial- deben ser tomadas con todos los recaudos pertinentes, especialmente, el control de aquel sobre el que se imponga el carg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i las pruebas aquellas son insuficientes, relativas o parciales, no cabe sino apreciarlas con sana crítica y nunca en detrimento del principio de inocencia consagrado por la Constitución Nacional. Exigir al contribuyente una exhaustiva demostración de su inocencia, sin ahondar la investigación -para lo que tiene facultades y atribuciones suficientes el organismo-, implica colocarlo en la difícil -si no imposible- tarea de demostrar un hecho negativo, por una mera presun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MESYS S.A. c/ Ministerio de Trabajo, Empleo y Seguridad Social s/Impugnación de deuda"</a:t>
            </a:r>
            <a:endParaRPr b="0" lang="en-US" sz="4400" spc="-1" strike="noStrike">
              <a:solidFill>
                <a:srgbClr val="ccffff"/>
              </a:solidFill>
              <a:latin typeface="Arial"/>
            </a:endParaRPr>
          </a:p>
        </p:txBody>
      </p:sp>
      <p:sp>
        <p:nvSpPr>
          <p:cNvPr id="166"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I-</a:t>
            </a:r>
            <a:r>
              <a:rPr b="0" lang="es-ES_tradnl" sz="3200" spc="-1" strike="noStrike">
                <a:solidFill>
                  <a:srgbClr val="ffffff"/>
                </a:solidFill>
                <a:latin typeface="Arial"/>
              </a:rPr>
              <a:t>27.09.10</a:t>
            </a:r>
            <a:endParaRPr b="0" lang="en-US" sz="3200" spc="-1" strike="noStrike">
              <a:solidFill>
                <a:srgbClr val="ffffff"/>
              </a:solidFill>
              <a:latin typeface="Arial"/>
            </a:endParaRPr>
          </a:p>
        </p:txBody>
      </p:sp>
      <p:sp>
        <p:nvSpPr>
          <p:cNvPr id="167" name="Rectangle 4"/>
          <p:cNvSpPr/>
          <p:nvPr/>
        </p:nvSpPr>
        <p:spPr>
          <a:xfrm>
            <a:off x="4038120" y="3245760"/>
            <a:ext cx="1067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7.09.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RELEVAMIENTO DE PERSONAL, FALTA DE REGISTRACION A UN PROFESIONAL,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i la administración entiende que se está en presencia de un fraude a la ley laboral, no basta la presunción de la prestación de servicios, sino que debe demostrar que la actividad se realizó bajo la dependencia de la empresa que los contrató, es decir, bajo su control y dirección, sometido a órdenes y facultades disciplinarias, con ajenidad de riesgo,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n consecuencia, si de la prueba obrante en autos no resultan evidentes dichos aspectos, generando en el juzgador una duda razonable sobre la modalidad en que se desarrolló la prestación, corresponde revocar la resolución por la que se impuso el carg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MAGAN, MANUEL O. c/ A.F.I.P. - D.G.I. s/Impugnación de deuda"</a:t>
            </a:r>
            <a:endParaRPr b="0" lang="en-US" sz="4400" spc="-1" strike="noStrike">
              <a:solidFill>
                <a:srgbClr val="ccffff"/>
              </a:solidFill>
              <a:latin typeface="Arial"/>
            </a:endParaRPr>
          </a:p>
        </p:txBody>
      </p:sp>
      <p:sp>
        <p:nvSpPr>
          <p:cNvPr id="171"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a:t>
            </a:r>
            <a:r>
              <a:rPr b="0" lang="es-ES_tradnl" sz="3200" spc="-1" strike="noStrike">
                <a:solidFill>
                  <a:srgbClr val="ffffff"/>
                </a:solidFill>
                <a:latin typeface="Arial"/>
              </a:rPr>
              <a:t>26.10.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ITUACION UN RECLAMO FISCAL A RAIZ DE UN JUICIO LABORA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l organismo fiscal tiene amplias facultades de verificación, control y formulación de cargos (art. 35 , ley 11.683 y cctes.) respecto del reclamo de deudas por la falta de registración de trabajadores, con prescindencia de la causa judicial que promovieran los mismos. HABLAN DE PRESCRIPCION HASTA QUE 10 AÑOS ANTES A LA NOTIFICACION DE LA PRETENS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Si bien, el art. 3980 del Cód. Civil dispone una suerte de suspensión de los términos prescriptivos, refiere a situaciones en las que desde el punto de vista fáctico el acreedor de ve imposibilitado de reclamar su derecho. Esa imposibilidad de obrar debe ser apreciada, concretamente, en relación con la persona del demandante. Por ello, el organismo recaudador no puede neutralizar la prescripción con invocación del art. 17 de la Ley Nacional de Empleo o con la prevención de la evasión regulad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VERGARA Y CÍA. S.R.L. c/ A.F.I.P. - D.G.I. s/Impugnación de deuda"</a:t>
            </a:r>
            <a:endParaRPr b="0" lang="en-US" sz="4400" spc="-1" strike="noStrike">
              <a:solidFill>
                <a:srgbClr val="ccffff"/>
              </a:solidFill>
              <a:latin typeface="Arial"/>
            </a:endParaRPr>
          </a:p>
        </p:txBody>
      </p:sp>
      <p:sp>
        <p:nvSpPr>
          <p:cNvPr id="175"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I- </a:t>
            </a:r>
            <a:r>
              <a:rPr b="0" lang="es-ES_tradnl" sz="3200" spc="-1" strike="noStrike">
                <a:solidFill>
                  <a:srgbClr val="ffffff"/>
                </a:solidFill>
                <a:latin typeface="Arial"/>
              </a:rPr>
              <a:t>09.08.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l instituto de la prescripción liberatoria procede frente a la inactividad del acreedor. Por ello, si la actividad de éste nace -como en el caso- con la comunicación prescripta por el art. 17 de la ley 24.013, es decir, cuando la A.F.I.P. toma conocimiento de la existencia de una deuda o crédito que reclamar, desde ese momento cuenta con la acción para ejercer el derecho que le asiste (cfr. C.N.A.T., Sala IV, sent. del 28.12.84, "De Luca, Anton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ccffff"/>
                </a:solidFill>
                <a:latin typeface="Arial"/>
              </a:rPr>
              <a:t>LEY 26704</a:t>
            </a:r>
            <a:endParaRPr b="0" lang="en-US" sz="4400" spc="-1" strike="noStrike">
              <a:solidFill>
                <a:srgbClr val="ccffff"/>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s-AR" sz="3200" spc="-1" strike="noStrike">
                <a:solidFill>
                  <a:srgbClr val="ffffff"/>
                </a:solidFill>
                <a:latin typeface="Arial"/>
              </a:rPr>
              <a:t>SE ESTABLECE QUE LOS EMPLEADORES NO COMPRENDIDOS EN LA LCT PODRAN PAGAR LAS REMUNERACIONES A TRAVES DEL SISTEMA BANCARIO, SIN COSTO PATA EL TRABAJAD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or lo tanto, resulta a todas luces irrazonable atribuirle inactividad al acreedor cuando éste desconocía la deuda existente debido a la inconducta imputable al supuesto deud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ASOCIACIÓN COOPERADORA ESCUELA NORMAL MANUEL BELGRANO c/ A.F.I.P. - D.G.I. s/Impugnación de deuda"</a:t>
            </a:r>
            <a:endParaRPr b="0" lang="en-US" sz="4400" spc="-1" strike="noStrike">
              <a:solidFill>
                <a:srgbClr val="ccffff"/>
              </a:solidFill>
              <a:latin typeface="Arial"/>
            </a:endParaRPr>
          </a:p>
        </p:txBody>
      </p:sp>
      <p:sp>
        <p:nvSpPr>
          <p:cNvPr id="179" name="PlaceHolder 2"/>
          <p:cNvSpPr>
            <a:spLocks noGrp="1"/>
          </p:cNvSpPr>
          <p:nvPr>
            <p:ph type="subTitle"/>
          </p:nvPr>
        </p:nvSpPr>
        <p:spPr>
          <a:xfrm>
            <a:off x="1371600" y="5229000"/>
            <a:ext cx="6400800" cy="4093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Sala I- </a:t>
            </a:r>
            <a:r>
              <a:rPr b="0" lang="es-ES_tradnl" sz="2400" spc="-1" strike="noStrike">
                <a:solidFill>
                  <a:srgbClr val="ffffff"/>
                </a:solidFill>
                <a:latin typeface="Arial"/>
              </a:rPr>
              <a:t>19.03.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Habiendo quedado explícita y definitivamente resuelto por sentencia emanada del Tribunal del Trabajo que la recurrente y la trabajadora estuvieron ligadas por un contrato de trabajo, resulta inatendible la queja de aquélla cuestionando la determinación de deuda efectuada por el organismo en base al fallo dictado, que se hallaba firme, y sobre el cual recaían los efectos de la cosa juzgada judicial en los términos del art. 347 del C.P.C.C. En otras palabras, el pronunciamiento laboral que goza del carácter de cosa juzgada, no puede ser objeto de revisión en el fuero de la Seguridad Soci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KIMBERLY CLARK ARGENTINA S.A. c/ A.F.I.P. - D.G.I. s/Impugnación de deuda"</a:t>
            </a:r>
            <a:endParaRPr b="0" lang="en-US" sz="4400" spc="-1" strike="noStrike">
              <a:solidFill>
                <a:srgbClr val="ccffff"/>
              </a:solidFill>
              <a:latin typeface="Arial"/>
            </a:endParaRPr>
          </a:p>
        </p:txBody>
      </p:sp>
      <p:sp>
        <p:nvSpPr>
          <p:cNvPr id="182"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 18</a:t>
            </a:r>
            <a:r>
              <a:rPr b="0" lang="es-ES_tradnl" sz="3200" spc="-1" strike="noStrike">
                <a:solidFill>
                  <a:srgbClr val="ffffff"/>
                </a:solidFill>
                <a:latin typeface="Arial"/>
              </a:rPr>
              <a:t>.02.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S EL CASO DE INTIMACIONES POR TRABAJADORES MAL DECLARADOS EN EL REGIMEN PREVISION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 presentación de declaraciones rectificativas y el ingreso de diferencias adeudadas e intereses no obstan a que el incumplimiento detectado habilite la aplicación de las sanciones tipificadas en la ley 17.250 y reglamentadas por la Res. A.F.I.P. 1566/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llo aún cuando el contribuyente no sea el beneficiario de la situación de la referida falsa declaración, pues le resulta imputable la ventaja creada frente al régimen de los recursos de la Seguridad Social, desde el momento que el propio art. 14 de la Res. A.F.I.P. 1566/03 y sus modificatorias, pone de manifiesto que el "beneficiario" puede ser también el depend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n orden a la "falsa declaración" respecto de datos de los empleados, cabe remarcar que la conducta objeto de reproche está descripta en la normativa, y no da necesariamente la idea de ardid o engaño, sino de que no se corresponde con la verdad, por cuya razón no es menester indagar acerca de la intención con que se hayan asentado los datos, ni si el responsable se valió de alguna mani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Es doctrina reiterada del Tribunal que, respecto a las infracciones vinculadas con la Seguridad Social, el mero incumplimiento habilita las sanciones (cfr. ley 17.250, reglamentada por la Res. A.F.I.P. 1566/03, con exclusión de la intencionalidad, hallando ello sustento en la propia literalidad de la norma. Asimismo, se ha sostenido que en el caso de las multas previsionales, la sola constatación de la infracción genera la consiguiente responsabilidad y sanción al infra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El elemento subjetivo no tiene cabida, dado que la sanción tiene por finalidad la falta objetivamente considerada y no la intencionalidad de la parte. Ello sin perjuicio de constatar la razonabilidad de la san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VINISKY, MARTÍN GERARDO Y OTROS c/ Consolidar A.R.T. S.A. y otro s/Ley 24.557"</a:t>
            </a:r>
            <a:endParaRPr b="0" lang="en-US" sz="4400" spc="-1" strike="noStrike">
              <a:solidFill>
                <a:srgbClr val="ccffff"/>
              </a:solidFill>
              <a:latin typeface="Arial"/>
            </a:endParaRPr>
          </a:p>
        </p:txBody>
      </p:sp>
      <p:sp>
        <p:nvSpPr>
          <p:cNvPr id="189"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Sala iI- </a:t>
            </a:r>
            <a:r>
              <a:rPr b="0" lang="es-ES_tradnl" sz="3200" spc="-1" strike="noStrike">
                <a:solidFill>
                  <a:srgbClr val="ffffff"/>
                </a:solidFill>
                <a:latin typeface="Arial"/>
              </a:rPr>
              <a:t>03.03.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ffff"/>
                </a:solidFill>
                <a:latin typeface="Arial"/>
              </a:rPr>
              <a:t>Jurisprudencia Laboral </a:t>
            </a:r>
            <a:endParaRPr b="0" lang="en-US" sz="4400" spc="-1" strike="noStrike">
              <a:solidFill>
                <a:srgbClr val="ccffff"/>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E TRATA DE ACCIDENTE DE TRABAJO EN EL TRAYECTO A LA  EN EL VERAN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 expresión domicilio no debe ser entendida en el sentido técnico jurídico de los arts. 89 y 90 del Código Civil, sino en el más amplio de residencia -que puede o no coincidir con el de domicili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Incluso la mera habitación -lugar donde se fija transitoriamente la residencia- basta para caracterizarlo, porque lo relevante para el art. 3 de la ley 24.028, es que el accidente haya ocurrido entre el lugar desde donde el trabajador inició su traslación hacia el establecimiento y éste, o entre el lugar de trabajo y aquel al cual se dirigió al finalizar la jornad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nsecuencia de ello, el domicilio no es único e inmutable, sino que puede variar; motivo por el cual debe concluirse que el accidente que provocara el fallecimiento del trabajador reviste carácter laboral en los términos del art. 6, ap. 1 de la ley 24.557, si el mismo acaeció durante el trayecto entre el lugar de trabajo y la casa de veraneo en la que se alojaba los fines de sema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con autorización de su empleador, se retiraba del establecimiento aproximadamente a las 17 hs. para dirigirse para dirigirse a Pinamar; y el accidente de tránsito donde perdió la vida ocurrió a las 18.30 hs., en una ruta nacional que conduce a aquel destin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El art. 6 de la L.R.T. pone en cabeza del dependiente, a los fines de excepcionar los casos en que el trabajador altera su trayecto original, declarar por escrito ante el empleador, lo cual  trasluce la obligación de poner en conocimiento del dador de  trabajo cualquier modificación relacionada con el trayecto habitual utilizado para arribar a su lugar de prestación de tareas o desde éste a su domicilio, incluyendo dicha carga la de notificar cualquier modificación aún cuando fuere transitoria, del domicilio del dependient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14:26:10Z</dcterms:created>
  <dc:creator>LeMonique</dc:creator>
  <dc:description/>
  <dc:language>en-US</dc:language>
  <cp:lastModifiedBy>Monica</cp:lastModifiedBy>
  <dcterms:modified xsi:type="dcterms:W3CDTF">2011-10-14T22:58:22Z</dcterms:modified>
  <cp:revision>42</cp:revision>
  <dc:subject/>
  <dc:title>Jurisprudencia  Seguridad Social</dc:title>
</cp:coreProperties>
</file>