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928-2607-4E32-8801-02ADF8AD5D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3833C6D-1BBD-4026-8EC9-CEE116C71D5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180A13E-F1E9-493A-BC36-94C101FCE4D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2E593C-1BFE-4B1A-8A3F-69640B7A1D2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A8E07DF-B86B-44DB-BDB7-B3EE99D3E580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3BB95CB-0A06-4939-85B9-74A5BE9ADD2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E20B3BC-C0C9-461E-AABC-6FF1D97FED2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8306C09-DDFD-4AD8-87D5-C76E9B0843E1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121-2445-4FBA-94BD-2E3D18CC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451-7449-4B0E-BB3A-1F3F428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F3B-834B-4AAD-AE6B-F5FECE0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2EC-D125-4BB8-AFBA-78A64434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E3D-5031-4E1E-86A6-F5C32F5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BD5-96EA-4760-8E0C-D7EED7F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C52-0A37-4018-BB56-992D7FB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579-5630-4A40-B991-4D2BF3B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770-7347-4776-A45D-67BD591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153-E2E4-437D-9D00-A89F130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7E7-B9D5-4C0D-8380-32149E2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45B-DD2C-492A-9452-BF347A9B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CB3-8A28-4FC1-93DB-AFD08BC6B05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hyperlink" Target="http://www.ecuadortramites.com/images/ecuador_bandera.jpg" TargetMode="External"/><Relationship Id="rId16" Type="http://schemas.openxmlformats.org/officeDocument/2006/relationships/image" Target="../media/image19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49360"/>
            <a:ext cx="777240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EL CONVENIO MULTILATERAL IBEROAMERICANO DE</a:t>
            </a: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SEGURIDAD SOCIAL</a:t>
            </a: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s-ES" sz="1400" spc="-1" strike="noStrike">
                <a:solidFill>
                  <a:srgbClr val="1f497d"/>
                </a:solidFill>
                <a:latin typeface="Arial"/>
              </a:rPr>
              <a:t>Adolfo Jiménez Fernández                                                                                                                                </a:t>
            </a:r>
            <a:br>
              <a:rPr sz="1400"/>
            </a:br>
            <a:r>
              <a:rPr b="0" lang="es-ES" sz="14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                      Secretario General OISS</a:t>
            </a:r>
            <a:br>
              <a:rPr sz="1400"/>
            </a:br>
            <a:r>
              <a:rPr b="0" lang="es-ES" sz="14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16-05-2010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1258920" y="4221000"/>
            <a:ext cx="792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"/>
                <a:ea typeface="Times New Roman"/>
              </a:rPr>
              <a:t>SUPUESTO PRÁCTICO (B)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0" y="1052640"/>
            <a:ext cx="8532360" cy="1081080"/>
            <a:chOff x="0" y="1052640"/>
            <a:chExt cx="8532360" cy="1081080"/>
          </a:xfrm>
        </p:grpSpPr>
        <p:sp>
          <p:nvSpPr>
            <p:cNvPr id="156" name="Text Box 4"/>
            <p:cNvSpPr/>
            <p:nvPr/>
          </p:nvSpPr>
          <p:spPr>
            <a:xfrm>
              <a:off x="845280" y="1197000"/>
              <a:ext cx="768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Gill Sans"/>
                  <a:ea typeface="Times New Roman"/>
                </a:rPr>
                <a:t>Trabajador que ha trabajado y cotizado en su pa</a:t>
              </a:r>
              <a:r>
                <a:rPr b="0" lang="en-US" sz="2400" spc="-1" strike="noStrike">
                  <a:solidFill>
                    <a:srgbClr val="ff0000"/>
                  </a:solidFill>
                  <a:latin typeface="Gill Sans MT"/>
                  <a:ea typeface="Times New Roman"/>
                </a:rPr>
                <a:t>í</a:t>
              </a:r>
              <a:r>
                <a:rPr b="0" lang="en-US" sz="2400" spc="-1" strike="noStrike">
                  <a:solidFill>
                    <a:srgbClr val="ff0000"/>
                  </a:solidFill>
                  <a:latin typeface="Gill Sans"/>
                  <a:ea typeface="Times New Roman"/>
                </a:rPr>
                <a:t>s y en otro u otros distintos dentro de Iberoam</a:t>
              </a:r>
              <a:r>
                <a:rPr b="0" lang="en-US" sz="2400" spc="-1" strike="noStrike">
                  <a:solidFill>
                    <a:srgbClr val="ff0000"/>
                  </a:solidFill>
                  <a:latin typeface="Gill Sans MT"/>
                  <a:ea typeface="Times New Roman"/>
                </a:rPr>
                <a:t>é</a:t>
              </a:r>
              <a:r>
                <a:rPr b="0" lang="en-US" sz="2400" spc="-1" strike="noStrike">
                  <a:solidFill>
                    <a:srgbClr val="ff0000"/>
                  </a:solidFill>
                  <a:latin typeface="Gill Sans"/>
                  <a:ea typeface="Times New Roman"/>
                </a:rPr>
                <a:t>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0" y="1052640"/>
              <a:ext cx="9216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"/>
          <p:cNvGrpSpPr/>
          <p:nvPr/>
        </p:nvGrpSpPr>
        <p:grpSpPr>
          <a:xfrm>
            <a:off x="539640" y="2565360"/>
            <a:ext cx="7993080" cy="1368360"/>
            <a:chOff x="539640" y="2565360"/>
            <a:chExt cx="7993080" cy="1368360"/>
          </a:xfrm>
        </p:grpSpPr>
        <p:grpSp>
          <p:nvGrpSpPr>
            <p:cNvPr id="159" name="Group 7"/>
            <p:cNvGrpSpPr/>
            <p:nvPr/>
          </p:nvGrpSpPr>
          <p:grpSpPr>
            <a:xfrm>
              <a:off x="539640" y="2565360"/>
              <a:ext cx="3959280" cy="1296720"/>
              <a:chOff x="539640" y="2565360"/>
              <a:chExt cx="3959280" cy="1296720"/>
            </a:xfrm>
          </p:grpSpPr>
          <p:sp>
            <p:nvSpPr>
              <p:cNvPr id="160" name="Rectangle 8"/>
              <p:cNvSpPr/>
              <p:nvPr/>
            </p:nvSpPr>
            <p:spPr>
              <a:xfrm>
                <a:off x="539640" y="2565360"/>
                <a:ext cx="3889440" cy="129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307803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9"/>
              <p:cNvSpPr/>
              <p:nvPr/>
            </p:nvSpPr>
            <p:spPr>
              <a:xfrm>
                <a:off x="612720" y="2620800"/>
                <a:ext cx="3886200" cy="11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SITUACIÓ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ACTU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000" spc="-1" strike="noStrike" u="sng">
                    <a:solidFill>
                      <a:srgbClr val="ff0000"/>
                    </a:solidFill>
                    <a:uFillTx/>
                    <a:latin typeface="Arial Narrow"/>
                    <a:ea typeface="Times New Roman"/>
                  </a:rPr>
                  <a:t>Hay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 Narrow"/>
                    <a:ea typeface="Times New Roman"/>
                  </a:rPr>
                  <a:t>convenio bilate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0"/>
            <p:cNvSpPr/>
            <p:nvPr/>
          </p:nvSpPr>
          <p:spPr>
            <a:xfrm>
              <a:off x="5076720" y="2565360"/>
              <a:ext cx="3456000" cy="136836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50000">
                  <a:srgbClr val="d5aad5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5232240" y="2768400"/>
              <a:ext cx="322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CONVEN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MULTILAT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95280" y="3716280"/>
            <a:ext cx="3960720" cy="2952720"/>
            <a:chOff x="395280" y="3716280"/>
            <a:chExt cx="3960720" cy="2952720"/>
          </a:xfrm>
        </p:grpSpPr>
        <p:sp>
          <p:nvSpPr>
            <p:cNvPr id="165" name="Rectangle 13"/>
            <p:cNvSpPr/>
            <p:nvPr/>
          </p:nvSpPr>
          <p:spPr>
            <a:xfrm>
              <a:off x="395280" y="4365720"/>
              <a:ext cx="3960720" cy="23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468360" y="4890600"/>
              <a:ext cx="374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ara generar  pensión de jubilación se computan las cotizaciones realizadas en lo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Narrow"/>
                  <a:ea typeface="Times New Roman"/>
                </a:rPr>
                <a:t>do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países con convenio bilateral, pero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Narrow"/>
                  <a:ea typeface="Times New Roman"/>
                </a:rPr>
                <a:t>no de otr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>
              <a:off x="1908000" y="3716280"/>
              <a:ext cx="721080" cy="720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5003640" y="3933720"/>
            <a:ext cx="3961080" cy="2159280"/>
            <a:chOff x="5003640" y="3933720"/>
            <a:chExt cx="3961080" cy="2159280"/>
          </a:xfrm>
        </p:grpSpPr>
        <p:sp>
          <p:nvSpPr>
            <p:cNvPr id="169" name="Rectangle 17"/>
            <p:cNvSpPr/>
            <p:nvPr/>
          </p:nvSpPr>
          <p:spPr>
            <a:xfrm>
              <a:off x="5003640" y="4581360"/>
              <a:ext cx="3961080" cy="1511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5148360" y="4653000"/>
              <a:ext cx="3527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ued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ill Sans"/>
                  <a:ea typeface="Times New Roman"/>
                </a:rPr>
                <a:t>totalizar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 las cotizacione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ill Sans"/>
                  <a:ea typeface="Times New Roman"/>
                </a:rPr>
                <a:t>de todos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 los países que hayan ratificado el conven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9"/>
            <p:cNvSpPr/>
            <p:nvPr/>
          </p:nvSpPr>
          <p:spPr>
            <a:xfrm>
              <a:off x="6443640" y="3933720"/>
              <a:ext cx="720720" cy="720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5" descr="C:\Documents and Settings\Adolfo\Mis documentos\Logo_nuevo2.jpg"/>
          <p:cNvPicPr/>
          <p:nvPr/>
        </p:nvPicPr>
        <p:blipFill>
          <a:blip r:embed="rId2"/>
          <a:stretch/>
        </p:blipFill>
        <p:spPr>
          <a:xfrm>
            <a:off x="0" y="0"/>
            <a:ext cx="5000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6280" cy="6041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6308640"/>
            <a:ext cx="31687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6000" spc="-1" strike="noStrike">
                <a:solidFill>
                  <a:srgbClr val="000099"/>
                </a:solidFill>
                <a:latin typeface="Calibri"/>
              </a:rPr>
              <a:t>F  I  N</a:t>
            </a:r>
            <a:br>
              <a:rPr sz="6000"/>
            </a:br>
            <a:br>
              <a:rPr sz="40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4211640" y="4005360"/>
            <a:ext cx="8334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"/>
                <a:ea typeface="Times New Roman"/>
              </a:rPr>
              <a:t>POBLACIÓN BENEFICIARIA DEL CONVENIO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250920" y="1413000"/>
            <a:ext cx="3484440" cy="5040360"/>
            <a:chOff x="250920" y="1413000"/>
            <a:chExt cx="3484440" cy="5040360"/>
          </a:xfrm>
        </p:grpSpPr>
        <p:pic>
          <p:nvPicPr>
            <p:cNvPr id="52" name="Picture 4" descr="iberoamerica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4440" cy="50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Group 5"/>
            <p:cNvGrpSpPr/>
            <p:nvPr/>
          </p:nvGrpSpPr>
          <p:grpSpPr>
            <a:xfrm>
              <a:off x="395280" y="2781360"/>
              <a:ext cx="1836720" cy="3135960"/>
              <a:chOff x="395280" y="2781360"/>
              <a:chExt cx="1836720" cy="3135960"/>
            </a:xfrm>
          </p:grpSpPr>
          <p:sp>
            <p:nvSpPr>
              <p:cNvPr id="54" name="Text Box 6"/>
              <p:cNvSpPr/>
              <p:nvPr/>
            </p:nvSpPr>
            <p:spPr>
              <a:xfrm>
                <a:off x="395280" y="3933720"/>
                <a:ext cx="1800000" cy="19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Població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Gill Sans"/>
                    <a:ea typeface="Times New Roman"/>
                  </a:rPr>
                  <a:t>605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millon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de habitant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7" descr="muñecos"/>
              <p:cNvPicPr/>
              <p:nvPr/>
            </p:nvPicPr>
            <p:blipFill>
              <a:blip r:embed="rId2"/>
              <a:stretch/>
            </p:blipFill>
            <p:spPr>
              <a:xfrm>
                <a:off x="468360" y="2781360"/>
                <a:ext cx="1763640" cy="1168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8" descr="iberica"/>
            <p:cNvPicPr/>
            <p:nvPr/>
          </p:nvPicPr>
          <p:blipFill>
            <a:blip r:embed="rId3"/>
            <a:stretch/>
          </p:blipFill>
          <p:spPr>
            <a:xfrm>
              <a:off x="2698920" y="1628640"/>
              <a:ext cx="8539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9"/>
          <p:cNvGrpSpPr/>
          <p:nvPr/>
        </p:nvGrpSpPr>
        <p:grpSpPr>
          <a:xfrm>
            <a:off x="3708360" y="1413000"/>
            <a:ext cx="1727280" cy="5040360"/>
            <a:chOff x="3708360" y="1413000"/>
            <a:chExt cx="1727280" cy="5040360"/>
          </a:xfrm>
        </p:grpSpPr>
        <p:pic>
          <p:nvPicPr>
            <p:cNvPr id="58" name="Picture 10" descr="1"/>
            <p:cNvPicPr/>
            <p:nvPr/>
          </p:nvPicPr>
          <p:blipFill>
            <a:blip r:embed="rId4"/>
            <a:stretch/>
          </p:blipFill>
          <p:spPr>
            <a:xfrm>
              <a:off x="4140360" y="3429000"/>
              <a:ext cx="12952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AutoShape 11"/>
            <p:cNvSpPr/>
            <p:nvPr/>
          </p:nvSpPr>
          <p:spPr>
            <a:xfrm>
              <a:off x="3708360" y="1413000"/>
              <a:ext cx="792360" cy="5040360"/>
            </a:xfrm>
            <a:custGeom>
              <a:avLst/>
              <a:gdLst>
                <a:gd name="textAreaLeft" fmla="*/ 0 w 792360"/>
                <a:gd name="textAreaRight" fmla="*/ 286200 w 79236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5364000" y="1844640"/>
            <a:ext cx="3529080" cy="4248360"/>
            <a:chOff x="5364000" y="1844640"/>
            <a:chExt cx="3529080" cy="4248360"/>
          </a:xfrm>
        </p:grpSpPr>
        <p:pic>
          <p:nvPicPr>
            <p:cNvPr id="61" name="Picture 13" descr="tierra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796000" y="2637000"/>
              <a:ext cx="2913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4"/>
            <p:cNvSpPr/>
            <p:nvPr/>
          </p:nvSpPr>
          <p:spPr>
            <a:xfrm>
              <a:off x="5796000" y="3500280"/>
              <a:ext cx="28083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Gill Sans"/>
                  <a:ea typeface="Times New Roman"/>
                </a:rPr>
                <a:t>6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Millones de beneficiarios en 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5"/>
            <p:cNvGrpSpPr/>
            <p:nvPr/>
          </p:nvGrpSpPr>
          <p:grpSpPr>
            <a:xfrm>
              <a:off x="5651640" y="2924280"/>
              <a:ext cx="936000" cy="936000"/>
              <a:chOff x="5651640" y="2924280"/>
              <a:chExt cx="936000" cy="936000"/>
            </a:xfrm>
          </p:grpSpPr>
          <p:grpSp>
            <p:nvGrpSpPr>
              <p:cNvPr id="64" name="Group 16"/>
              <p:cNvGrpSpPr/>
              <p:nvPr/>
            </p:nvGrpSpPr>
            <p:grpSpPr>
              <a:xfrm>
                <a:off x="5651640" y="2924280"/>
                <a:ext cx="441360" cy="928800"/>
                <a:chOff x="5651640" y="2924280"/>
                <a:chExt cx="441360" cy="928800"/>
              </a:xfrm>
            </p:grpSpPr>
            <p:sp>
              <p:nvSpPr>
                <p:cNvPr id="65" name="Freeform 17"/>
                <p:cNvSpPr/>
                <p:nvPr/>
              </p:nvSpPr>
              <p:spPr>
                <a:xfrm>
                  <a:off x="5651640" y="3080520"/>
                  <a:ext cx="441360" cy="772560"/>
                </a:xfrm>
                <a:prstGeom prst="pi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Oval 18"/>
                <p:cNvSpPr/>
                <p:nvPr/>
              </p:nvSpPr>
              <p:spPr>
                <a:xfrm>
                  <a:off x="5788080" y="2924280"/>
                  <a:ext cx="173160" cy="137520"/>
                </a:xfrm>
                <a:prstGeom prst="ellips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19"/>
              <p:cNvGrpSpPr/>
              <p:nvPr/>
            </p:nvGrpSpPr>
            <p:grpSpPr>
              <a:xfrm>
                <a:off x="6084000" y="2924280"/>
                <a:ext cx="503640" cy="936000"/>
                <a:chOff x="6084000" y="2924280"/>
                <a:chExt cx="503640" cy="936000"/>
              </a:xfrm>
            </p:grpSpPr>
            <p:sp>
              <p:nvSpPr>
                <p:cNvPr id="68" name="Oval 20"/>
                <p:cNvSpPr/>
                <p:nvPr/>
              </p:nvSpPr>
              <p:spPr>
                <a:xfrm>
                  <a:off x="6248880" y="2924280"/>
                  <a:ext cx="172440" cy="138240"/>
                </a:xfrm>
                <a:prstGeom prst="ellips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1"/>
                <p:cNvSpPr/>
                <p:nvPr/>
              </p:nvSpPr>
              <p:spPr>
                <a:xfrm>
                  <a:off x="6084000" y="3086280"/>
                  <a:ext cx="503640" cy="774000"/>
                </a:xfrm>
                <a:prstGeom prst="pi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" name="Rectangle 22"/>
            <p:cNvSpPr/>
            <p:nvPr/>
          </p:nvSpPr>
          <p:spPr>
            <a:xfrm>
              <a:off x="5364000" y="1844640"/>
              <a:ext cx="3529080" cy="424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5738760" y="5060880"/>
              <a:ext cx="2779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3 millones directos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Más de 2,5 millon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indire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>
              <a:off x="5435640" y="1989000"/>
              <a:ext cx="33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obla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Migrante  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5"/>
            <p:cNvGrpSpPr/>
            <p:nvPr/>
          </p:nvGrpSpPr>
          <p:grpSpPr>
            <a:xfrm>
              <a:off x="8028000" y="4221000"/>
              <a:ext cx="720720" cy="793800"/>
              <a:chOff x="8028000" y="4221000"/>
              <a:chExt cx="720720" cy="793800"/>
            </a:xfrm>
          </p:grpSpPr>
          <p:grpSp>
            <p:nvGrpSpPr>
              <p:cNvPr id="74" name="Group 26"/>
              <p:cNvGrpSpPr/>
              <p:nvPr/>
            </p:nvGrpSpPr>
            <p:grpSpPr>
              <a:xfrm>
                <a:off x="8028000" y="4221000"/>
                <a:ext cx="340200" cy="787320"/>
                <a:chOff x="8028000" y="4221000"/>
                <a:chExt cx="340200" cy="787320"/>
              </a:xfrm>
            </p:grpSpPr>
            <p:sp>
              <p:nvSpPr>
                <p:cNvPr id="75" name="Freeform 27"/>
                <p:cNvSpPr/>
                <p:nvPr/>
              </p:nvSpPr>
              <p:spPr>
                <a:xfrm>
                  <a:off x="8028000" y="4353480"/>
                  <a:ext cx="340200" cy="654840"/>
                </a:xfrm>
                <a:prstGeom prst="pi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Oval 28"/>
                <p:cNvSpPr/>
                <p:nvPr/>
              </p:nvSpPr>
              <p:spPr>
                <a:xfrm>
                  <a:off x="8133120" y="4221000"/>
                  <a:ext cx="133200" cy="116640"/>
                </a:xfrm>
                <a:prstGeom prst="ellips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29"/>
              <p:cNvGrpSpPr/>
              <p:nvPr/>
            </p:nvGrpSpPr>
            <p:grpSpPr>
              <a:xfrm>
                <a:off x="8361000" y="4221000"/>
                <a:ext cx="387720" cy="793800"/>
                <a:chOff x="8361000" y="4221000"/>
                <a:chExt cx="387720" cy="793800"/>
              </a:xfrm>
            </p:grpSpPr>
            <p:sp>
              <p:nvSpPr>
                <p:cNvPr id="78" name="Oval 30"/>
                <p:cNvSpPr/>
                <p:nvPr/>
              </p:nvSpPr>
              <p:spPr>
                <a:xfrm>
                  <a:off x="8488080" y="4221000"/>
                  <a:ext cx="132840" cy="117000"/>
                </a:xfrm>
                <a:prstGeom prst="ellips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8361000" y="4358520"/>
                  <a:ext cx="387720" cy="656280"/>
                </a:xfrm>
                <a:prstGeom prst="pie">
                  <a:avLst/>
                </a:prstGeom>
                <a:solidFill>
                  <a:srgbClr val="d5d5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Text Box 32"/>
          <p:cNvSpPr/>
          <p:nvPr/>
        </p:nvSpPr>
        <p:spPr>
          <a:xfrm>
            <a:off x="48600" y="652464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Times New Roman"/>
              </a:rPr>
              <a:t>Fuente CE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Documents and Settings\Adolfo\Mis documentos\Logo_nuevo2.jpg"/>
          <p:cNvPicPr/>
          <p:nvPr/>
        </p:nvPicPr>
        <p:blipFill>
          <a:blip r:embed="rId6"/>
          <a:stretch/>
        </p:blipFill>
        <p:spPr>
          <a:xfrm>
            <a:off x="8532720" y="907920"/>
            <a:ext cx="4269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aracterísticas Convenio Multilateral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86880" cy="50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Aplicable a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todo el espacio 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iberoamerican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Coordina 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legislaciones nacionales. No las modifica ni las sustituy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No modifica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los convenios exist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Tiene en cuenta las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diferencias de regímenes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en la coordinación (reparto/capitalizació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Amplitud</a:t>
            </a:r>
            <a:r>
              <a:rPr b="1" lang="es-MX" sz="2400" spc="-1" strike="noStrike">
                <a:solidFill>
                  <a:srgbClr val="000099"/>
                </a:solidFill>
                <a:latin typeface="Calibri"/>
              </a:rPr>
              <a:t> campo de aplicación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Flexibilidad</a:t>
            </a:r>
            <a:r>
              <a:rPr b="1" lang="es-MX" sz="2400" spc="-1" strike="noStrike">
                <a:solidFill>
                  <a:srgbClr val="000099"/>
                </a:solidFill>
                <a:latin typeface="Calibri"/>
              </a:rPr>
              <a:t> (excepciones en anexo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Contiene los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rincipios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de coordinación interna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Favorece las posibilidades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movilidad 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y retorno.</a:t>
            </a:r>
            <a:r>
              <a:rPr b="0" i="1" lang="es-ES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vita perder derechos 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sociales migr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8317080" y="5734080"/>
            <a:ext cx="50004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Principios que rigen el conve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43000"/>
            <a:ext cx="8713800" cy="55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1c1c1c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Igualdad de trato (art 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Totalización de periodos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de cotización o empleo cumplido en cada uno de los países donde se haya trabajado. Abono 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“prorrata témporis” (art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Conservación de derechos </a:t>
            </a: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adquiridos y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xportación de prestaciones </a:t>
            </a: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(pago de pensiones en el extranjero) (Art.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"/>
              </a:rPr>
              <a:t>Garantiza la revalorización </a:t>
            </a:r>
            <a:r>
              <a:rPr b="0" lang="es-ES" sz="2800" spc="-1" strike="noStrike">
                <a:solidFill>
                  <a:srgbClr val="000099"/>
                </a:solidFill>
                <a:latin typeface="Gill Sans"/>
              </a:rPr>
              <a:t>de pen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Aplicación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isposiciones más favorables (art.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"/>
              </a:rPr>
              <a:t>Colaboración</a:t>
            </a:r>
            <a:r>
              <a:rPr b="1" lang="es-ES" sz="2800" spc="-1" strike="noStrike">
                <a:solidFill>
                  <a:srgbClr val="000099"/>
                </a:solidFill>
                <a:latin typeface="Gill Sans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Gill Sans"/>
              </a:rPr>
              <a:t>entre  administraciones de Seg. S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Legislación aplicable: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“lex loci labori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8459640" y="5877000"/>
            <a:ext cx="50004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8989920" cy="128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Arial"/>
                <a:ea typeface="Arial"/>
              </a:rPr>
              <a:t>Campo de aplicaciòn personal (art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840" y="1447920"/>
            <a:ext cx="8713800" cy="51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Calibri"/>
              </a:rPr>
              <a:t>Personas que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estén o hayan estado </a:t>
            </a:r>
            <a:r>
              <a:rPr b="1" lang="es-ES" sz="3200" spc="-1" strike="noStrike">
                <a:solidFill>
                  <a:srgbClr val="000099"/>
                </a:solidFill>
                <a:latin typeface="Calibri"/>
              </a:rPr>
              <a:t>sujetas a la legislación de uno o varios Estados Pa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Calibri"/>
              </a:rPr>
              <a:t>Trabajadore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depend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Calibri"/>
              </a:rPr>
              <a:t>Trabajadore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o depend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Calibri"/>
              </a:rPr>
              <a:t>Familiare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beneficiarios y derechoh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8244000" y="5734080"/>
            <a:ext cx="50004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Campo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 de aplicación material (art.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restacione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</a:rPr>
              <a:t>económicas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de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validez, vejez; supervivencia; accidente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de trabajo y enfermedad profes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xclusió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de prestaciones méd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Exclusión d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gímenes no contributivos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, de asistencia social y victimas de guer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ibilidad de excluir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algunos regímenes (anexo I) o prestaciones (anexo I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ibilidad de ampliar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a otros regímenes o prestaciones (anexo III).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8172360" y="5734080"/>
            <a:ext cx="500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CONTENIDO:</a:t>
            </a:r>
            <a:br>
              <a:rPr sz="2800"/>
            </a:br>
            <a:r>
              <a:rPr b="1" i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Invalidez, vejez, supervivencia (art. 13 a 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Determinación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inicial 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por legislaciones separad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Totalización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si es necesaria (o a solicitu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Abono 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“prorrata témporis”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en proporción al tiempo total o al máximo requer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Cálculo con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últimos datos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del Estado Part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Prioridad de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seguro obligatorio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sobre volu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No reconocimiento</a:t>
            </a: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 por períodos menores de 1 año, salvo para adquirir derec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:\Documents and Settings\Adolfo\Mis documentos\Logo_nuevo2.jpg"/>
          <p:cNvPicPr/>
          <p:nvPr/>
        </p:nvPicPr>
        <p:blipFill>
          <a:blip r:embed="rId1"/>
          <a:stretch/>
        </p:blipFill>
        <p:spPr>
          <a:xfrm>
            <a:off x="8028000" y="5734080"/>
            <a:ext cx="500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aíses que han ratificado o están en proceso de ratificación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beroamerica"/>
          <p:cNvPicPr/>
          <p:nvPr/>
        </p:nvPicPr>
        <p:blipFill>
          <a:blip r:embed="rId1"/>
          <a:stretch/>
        </p:blipFill>
        <p:spPr>
          <a:xfrm>
            <a:off x="6084720" y="1844640"/>
            <a:ext cx="305928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iberica"/>
          <p:cNvPicPr/>
          <p:nvPr/>
        </p:nvPicPr>
        <p:blipFill>
          <a:blip r:embed="rId2"/>
          <a:stretch/>
        </p:blipFill>
        <p:spPr>
          <a:xfrm>
            <a:off x="7740720" y="2033640"/>
            <a:ext cx="85392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79280" y="5516640"/>
            <a:ext cx="5832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Gill San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Gill Sans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Times New Roman"/>
              </a:rPr>
              <a:t>Ecuador                 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"/>
                <a:ea typeface="Times New Roman"/>
              </a:rPr>
              <a:t>Los países citados concentran  el 91% de los potenciales beneficiarios (población 401 mill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250920" y="1844640"/>
            <a:ext cx="5623200" cy="3816360"/>
            <a:chOff x="250920" y="1844640"/>
            <a:chExt cx="5623200" cy="3816360"/>
          </a:xfrm>
        </p:grpSpPr>
        <p:sp>
          <p:nvSpPr>
            <p:cNvPr id="103" name="Rectangle 7"/>
            <p:cNvSpPr/>
            <p:nvPr/>
          </p:nvSpPr>
          <p:spPr>
            <a:xfrm>
              <a:off x="250920" y="1844640"/>
              <a:ext cx="5545080" cy="381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"/>
            <p:cNvGrpSpPr/>
            <p:nvPr/>
          </p:nvGrpSpPr>
          <p:grpSpPr>
            <a:xfrm>
              <a:off x="468360" y="2126160"/>
              <a:ext cx="2501280" cy="459720"/>
              <a:chOff x="468360" y="2126160"/>
              <a:chExt cx="2501280" cy="459720"/>
            </a:xfrm>
          </p:grpSpPr>
          <p:pic>
            <p:nvPicPr>
              <p:cNvPr id="105" name="Picture 9" descr="argentina"/>
              <p:cNvPicPr/>
              <p:nvPr/>
            </p:nvPicPr>
            <p:blipFill>
              <a:blip r:embed="rId3"/>
              <a:stretch/>
            </p:blipFill>
            <p:spPr>
              <a:xfrm>
                <a:off x="468360" y="2134440"/>
                <a:ext cx="647640" cy="38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10"/>
              <p:cNvSpPr/>
              <p:nvPr/>
            </p:nvSpPr>
            <p:spPr>
              <a:xfrm>
                <a:off x="1370160" y="2126160"/>
                <a:ext cx="159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Argent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11"/>
            <p:cNvSpPr/>
            <p:nvPr/>
          </p:nvSpPr>
          <p:spPr>
            <a:xfrm>
              <a:off x="1378440" y="2733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2" descr="venezuela2"/>
            <p:cNvPicPr/>
            <p:nvPr/>
          </p:nvPicPr>
          <p:blipFill>
            <a:blip r:embed="rId4"/>
            <a:stretch/>
          </p:blipFill>
          <p:spPr>
            <a:xfrm>
              <a:off x="466560" y="2737800"/>
              <a:ext cx="71928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banderaEspagne"/>
            <p:cNvPicPr/>
            <p:nvPr/>
          </p:nvPicPr>
          <p:blipFill>
            <a:blip r:embed="rId5"/>
            <a:stretch/>
          </p:blipFill>
          <p:spPr>
            <a:xfrm>
              <a:off x="466560" y="3311640"/>
              <a:ext cx="64944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4"/>
            <p:cNvSpPr/>
            <p:nvPr/>
          </p:nvSpPr>
          <p:spPr>
            <a:xfrm>
              <a:off x="1393920" y="33058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Españ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466560" y="3796560"/>
              <a:ext cx="1904760" cy="476280"/>
              <a:chOff x="466560" y="3796560"/>
              <a:chExt cx="1904760" cy="476280"/>
            </a:xfrm>
          </p:grpSpPr>
          <p:sp>
            <p:nvSpPr>
              <p:cNvPr id="112" name="Text Box 16"/>
              <p:cNvSpPr/>
              <p:nvPr/>
            </p:nvSpPr>
            <p:spPr>
              <a:xfrm>
                <a:off x="1390320" y="3813120"/>
                <a:ext cx="98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Brasi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17" descr="BRkZIL"/>
              <p:cNvPicPr/>
              <p:nvPr/>
            </p:nvPicPr>
            <p:blipFill>
              <a:blip r:embed="rId6"/>
              <a:stretch/>
            </p:blipFill>
            <p:spPr>
              <a:xfrm>
                <a:off x="466560" y="3796560"/>
                <a:ext cx="792000" cy="43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18"/>
            <p:cNvGrpSpPr/>
            <p:nvPr/>
          </p:nvGrpSpPr>
          <p:grpSpPr>
            <a:xfrm>
              <a:off x="466560" y="4364640"/>
              <a:ext cx="2603160" cy="490320"/>
              <a:chOff x="466560" y="4364640"/>
              <a:chExt cx="2603160" cy="490320"/>
            </a:xfrm>
          </p:grpSpPr>
          <p:sp>
            <p:nvSpPr>
              <p:cNvPr id="115" name="Text Box 19"/>
              <p:cNvSpPr/>
              <p:nvPr/>
            </p:nvSpPr>
            <p:spPr>
              <a:xfrm>
                <a:off x="1421280" y="4395240"/>
                <a:ext cx="164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Costa Ric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20" descr="costa rica"/>
              <p:cNvPicPr/>
              <p:nvPr/>
            </p:nvPicPr>
            <p:blipFill>
              <a:blip r:embed="rId7"/>
              <a:stretch/>
            </p:blipFill>
            <p:spPr>
              <a:xfrm>
                <a:off x="466560" y="4364640"/>
                <a:ext cx="68580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Group 21"/>
            <p:cNvGrpSpPr/>
            <p:nvPr/>
          </p:nvGrpSpPr>
          <p:grpSpPr>
            <a:xfrm>
              <a:off x="466560" y="5038200"/>
              <a:ext cx="1809000" cy="459720"/>
              <a:chOff x="466560" y="5038200"/>
              <a:chExt cx="1809000" cy="459720"/>
            </a:xfrm>
          </p:grpSpPr>
          <p:sp>
            <p:nvSpPr>
              <p:cNvPr id="118" name="Text Box 22"/>
              <p:cNvSpPr/>
              <p:nvPr/>
            </p:nvSpPr>
            <p:spPr>
              <a:xfrm>
                <a:off x="1383120" y="5038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Chi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23" descr="chile"/>
              <p:cNvPicPr/>
              <p:nvPr/>
            </p:nvPicPr>
            <p:blipFill>
              <a:blip r:embed="rId8"/>
              <a:stretch/>
            </p:blipFill>
            <p:spPr>
              <a:xfrm>
                <a:off x="466560" y="5045040"/>
                <a:ext cx="649440" cy="389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" name="Picture 24" descr="bolivia"/>
            <p:cNvPicPr/>
            <p:nvPr/>
          </p:nvPicPr>
          <p:blipFill>
            <a:blip r:embed="rId9"/>
            <a:stretch/>
          </p:blipFill>
          <p:spPr>
            <a:xfrm>
              <a:off x="3276720" y="2074320"/>
              <a:ext cx="647640" cy="5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5" descr="EL SALVADOR"/>
            <p:cNvPicPr/>
            <p:nvPr/>
          </p:nvPicPr>
          <p:blipFill>
            <a:blip r:embed="rId10"/>
            <a:stretch/>
          </p:blipFill>
          <p:spPr>
            <a:xfrm>
              <a:off x="3348000" y="4381560"/>
              <a:ext cx="647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6" descr="paraguay"/>
            <p:cNvPicPr/>
            <p:nvPr/>
          </p:nvPicPr>
          <p:blipFill>
            <a:blip r:embed="rId11"/>
            <a:stretch/>
          </p:blipFill>
          <p:spPr>
            <a:xfrm>
              <a:off x="3276720" y="2682000"/>
              <a:ext cx="647640" cy="5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7" descr="PERU"/>
            <p:cNvPicPr/>
            <p:nvPr/>
          </p:nvPicPr>
          <p:blipFill>
            <a:blip r:embed="rId12"/>
            <a:stretch/>
          </p:blipFill>
          <p:spPr>
            <a:xfrm>
              <a:off x="3348000" y="3283200"/>
              <a:ext cx="576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8" descr="portugalflag1l"/>
            <p:cNvPicPr/>
            <p:nvPr/>
          </p:nvPicPr>
          <p:blipFill>
            <a:blip r:embed="rId13"/>
            <a:stretch/>
          </p:blipFill>
          <p:spPr>
            <a:xfrm>
              <a:off x="3348000" y="3825000"/>
              <a:ext cx="5763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9" descr="uruguay"/>
            <p:cNvPicPr/>
            <p:nvPr/>
          </p:nvPicPr>
          <p:blipFill>
            <a:blip r:embed="rId14"/>
            <a:stretch/>
          </p:blipFill>
          <p:spPr>
            <a:xfrm>
              <a:off x="3348000" y="5014080"/>
              <a:ext cx="576360" cy="4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30"/>
            <p:cNvSpPr/>
            <p:nvPr/>
          </p:nvSpPr>
          <p:spPr>
            <a:xfrm>
              <a:off x="4026600" y="212508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Bolivi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1"/>
            <p:cNvSpPr/>
            <p:nvPr/>
          </p:nvSpPr>
          <p:spPr>
            <a:xfrm>
              <a:off x="4006440" y="273384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aragu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2"/>
            <p:cNvSpPr/>
            <p:nvPr/>
          </p:nvSpPr>
          <p:spPr>
            <a:xfrm>
              <a:off x="4000320" y="330588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3"/>
            <p:cNvSpPr/>
            <p:nvPr/>
          </p:nvSpPr>
          <p:spPr>
            <a:xfrm>
              <a:off x="3999240" y="381348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ortug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4044600" y="439452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El Salvado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3995640" y="503676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Urugu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37" descr="ecuador_bandera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5280" y="5589720"/>
            <a:ext cx="579600" cy="54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nts and Settings\Adolfo\Mis documentos\Logo_nuevo2.jpg"/>
          <p:cNvPicPr/>
          <p:nvPr/>
        </p:nvPicPr>
        <p:blipFill>
          <a:blip r:embed="rId17"/>
          <a:stretch/>
        </p:blipFill>
        <p:spPr>
          <a:xfrm>
            <a:off x="6156360" y="6072120"/>
            <a:ext cx="500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"/>
                <a:ea typeface="Times New Roman"/>
              </a:rPr>
              <a:t>SUPUESTO PRÁCTICO (A) 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95280" y="2637000"/>
            <a:ext cx="7993080" cy="1368360"/>
            <a:chOff x="395280" y="2637000"/>
            <a:chExt cx="7993080" cy="1368360"/>
          </a:xfrm>
        </p:grpSpPr>
        <p:grpSp>
          <p:nvGrpSpPr>
            <p:cNvPr id="136" name="Group 4"/>
            <p:cNvGrpSpPr/>
            <p:nvPr/>
          </p:nvGrpSpPr>
          <p:grpSpPr>
            <a:xfrm>
              <a:off x="395280" y="2637000"/>
              <a:ext cx="3959280" cy="1296720"/>
              <a:chOff x="395280" y="2637000"/>
              <a:chExt cx="3959280" cy="129672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395280" y="2637000"/>
                <a:ext cx="3889440" cy="129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307803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6"/>
              <p:cNvSpPr/>
              <p:nvPr/>
            </p:nvSpPr>
            <p:spPr>
              <a:xfrm>
                <a:off x="468360" y="2692440"/>
                <a:ext cx="3886200" cy="11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SITUACIÓN ACTU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000" spc="-1" strike="noStrike" u="sng">
                    <a:solidFill>
                      <a:srgbClr val="ff0000"/>
                    </a:solidFill>
                    <a:uFillTx/>
                    <a:latin typeface="Gill Sans"/>
                    <a:ea typeface="Times New Roman"/>
                  </a:rPr>
                  <a:t>No hay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Gill Sans"/>
                    <a:ea typeface="Times New Roman"/>
                  </a:rPr>
                  <a:t> conveni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 bilateral entre ambos país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7"/>
            <p:cNvSpPr/>
            <p:nvPr/>
          </p:nvSpPr>
          <p:spPr>
            <a:xfrm>
              <a:off x="4932360" y="2637000"/>
              <a:ext cx="3456000" cy="136836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50000">
                  <a:srgbClr val="d5aad5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5087880" y="2840040"/>
              <a:ext cx="322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CONVEN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MULTILAT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395280" y="3933000"/>
            <a:ext cx="3456000" cy="2377440"/>
            <a:chOff x="395280" y="3933000"/>
            <a:chExt cx="3456000" cy="2377440"/>
          </a:xfrm>
        </p:grpSpPr>
        <p:grpSp>
          <p:nvGrpSpPr>
            <p:cNvPr id="142" name="Group 10"/>
            <p:cNvGrpSpPr/>
            <p:nvPr/>
          </p:nvGrpSpPr>
          <p:grpSpPr>
            <a:xfrm>
              <a:off x="395280" y="4869000"/>
              <a:ext cx="3456000" cy="1441440"/>
              <a:chOff x="395280" y="4869000"/>
              <a:chExt cx="3456000" cy="1441440"/>
            </a:xfrm>
          </p:grpSpPr>
          <p:sp>
            <p:nvSpPr>
              <p:cNvPr id="143" name="Rectangle 11"/>
              <p:cNvSpPr/>
              <p:nvPr/>
            </p:nvSpPr>
            <p:spPr>
              <a:xfrm>
                <a:off x="395280" y="4869000"/>
                <a:ext cx="345600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307803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2"/>
              <p:cNvSpPr/>
              <p:nvPr/>
            </p:nvSpPr>
            <p:spPr>
              <a:xfrm>
                <a:off x="538200" y="4942440"/>
                <a:ext cx="32767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Se genera pensión de jubilación </a:t>
                </a: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Arial Narrow"/>
                    <a:ea typeface="Times New Roman"/>
                  </a:rPr>
                  <a:t>si se cumple en cada paí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 con los requisitos de la legislación establecid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AutoShape 13"/>
            <p:cNvSpPr/>
            <p:nvPr/>
          </p:nvSpPr>
          <p:spPr>
            <a:xfrm flipV="1" rot="5400000">
              <a:off x="1582560" y="4113720"/>
              <a:ext cx="1009800" cy="647640"/>
            </a:xfrm>
            <a:prstGeom prst="rightArrow">
              <a:avLst>
                <a:gd name="adj1" fmla="val 50000"/>
                <a:gd name="adj2" fmla="val 3898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394920" y="1268280"/>
            <a:ext cx="8352360" cy="1081080"/>
            <a:chOff x="394920" y="1268280"/>
            <a:chExt cx="8352360" cy="1081080"/>
          </a:xfrm>
        </p:grpSpPr>
        <p:sp>
          <p:nvSpPr>
            <p:cNvPr id="147" name="Text Box 15"/>
            <p:cNvSpPr/>
            <p:nvPr/>
          </p:nvSpPr>
          <p:spPr>
            <a:xfrm>
              <a:off x="971640" y="1413000"/>
              <a:ext cx="777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Gill Sans"/>
                  <a:ea typeface="Times New Roman"/>
                </a:rPr>
                <a:t>Trabajador que ha  cotizado en su país y en otro u otros distintos dentro de Iberoamé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16" descr=""/>
            <p:cNvPicPr/>
            <p:nvPr/>
          </p:nvPicPr>
          <p:blipFill>
            <a:blip r:embed="rId1"/>
            <a:stretch/>
          </p:blipFill>
          <p:spPr>
            <a:xfrm flipH="1">
              <a:off x="394920" y="1268280"/>
              <a:ext cx="86364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7"/>
          <p:cNvGrpSpPr/>
          <p:nvPr/>
        </p:nvGrpSpPr>
        <p:grpSpPr>
          <a:xfrm>
            <a:off x="4284720" y="3933000"/>
            <a:ext cx="4535280" cy="2736000"/>
            <a:chOff x="4284720" y="3933000"/>
            <a:chExt cx="4535280" cy="2736000"/>
          </a:xfrm>
        </p:grpSpPr>
        <p:sp>
          <p:nvSpPr>
            <p:cNvPr id="150" name="Rectangle 18"/>
            <p:cNvSpPr/>
            <p:nvPr/>
          </p:nvSpPr>
          <p:spPr>
            <a:xfrm>
              <a:off x="4284720" y="4653000"/>
              <a:ext cx="4535280" cy="2016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2f2f2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4427640" y="4653000"/>
              <a:ext cx="435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Para generar una pensión de jubilació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ill Sans"/>
                  <a:ea typeface="Times New Roman"/>
                </a:rPr>
                <a:t>podrá sumar los periodos cotizados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Times New Roman"/>
                </a:rPr>
                <a:t> en  cualquier  estado iberoamericano que haya ratificado el Convenio Multilat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 flipV="1" rot="5400000">
              <a:off x="6155280" y="4004640"/>
              <a:ext cx="792360" cy="648000"/>
            </a:xfrm>
            <a:prstGeom prst="rightArrow">
              <a:avLst>
                <a:gd name="adj1" fmla="val 50000"/>
                <a:gd name="adj2" fmla="val 3056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5" descr="C:\Documents and Settings\Adolfo\Mis documentos\Logo_nuevo2.jpg"/>
          <p:cNvPicPr/>
          <p:nvPr/>
        </p:nvPicPr>
        <p:blipFill>
          <a:blip r:embed="rId2"/>
          <a:stretch/>
        </p:blipFill>
        <p:spPr>
          <a:xfrm>
            <a:off x="0" y="0"/>
            <a:ext cx="611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15:50:57Z</dcterms:created>
  <dc:creator>Adolfo Jiménez Fernández</dc:creator>
  <dc:description/>
  <dc:language>en-US</dc:language>
  <cp:lastModifiedBy>Gamo-Seven</cp:lastModifiedBy>
  <dcterms:modified xsi:type="dcterms:W3CDTF">2011-09-26T13:09:29Z</dcterms:modified>
  <cp:revision>77</cp:revision>
  <dc:subject/>
  <dc:title>REFLEXIONES  SOBRE LA SEGURIDAD SOCIAL. EL CONVENIO MULTILATERAL IBEROAMERICANO</dc:title>
</cp:coreProperties>
</file>