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A7E-8C04-41D3-8BBB-C7689482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86F-74B4-4D7F-8C60-574BA770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A9A-47EB-4822-89D6-79985904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DEC-2906-4495-ABC7-55662A23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D14-6BD3-45CC-BEA1-6EAC8122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95A-AFDE-4AE9-A21E-339B924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D6C3-DE98-4A9C-858C-E6D13CE8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2DE0-5360-48D1-95AC-D971371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8D0D-DCF9-4EB7-BEA9-1332E1D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6641-7720-4C73-8689-57C5B66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3309-4533-4C4E-9E90-AE69D8F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54E-0F44-4BBB-871E-1CC3B421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F4D5-71E3-4E6C-B200-C3387B6B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342A-0373-43FF-BCEA-72BF164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D731-D705-49ED-86EC-D2057770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EE52-22DD-4608-8775-68EED109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F78A-5AD3-4B16-8723-44BDCDC1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5A4-DDC6-4809-AD7F-9A9BA9C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382-F0A0-41BE-9A86-98C6049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A2B-E0B9-4D6D-B30F-0757880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74E-B9CD-4169-8DCE-CE4F80EB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50F-1EFC-4B46-8F20-02997FF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BFE-DB69-4E88-A4AE-FF963F55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9E7-E32C-4C39-A01F-F4F06E5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687-7625-4262-8503-D559B7C04811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F349-D081-4FAC-8D57-C99289984A0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b7e7ff"/>
                </a:solidFill>
                <a:latin typeface="Arial"/>
              </a:rPr>
              <a:t>NOVEDADES</a:t>
            </a:r>
            <a:r>
              <a:rPr b="0" lang="es-AR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27 DE JUNIO DE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b7e7ff"/>
                </a:solidFill>
                <a:latin typeface="Times New Roman"/>
              </a:rPr>
              <a:t>TABLAS – CATEGORIAS.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sonas comprendida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ersonas físicas que realicen algunas de las actividades indicadas en el Artículo 2º, inciso b) de la Ley Nº 24.241 y sus modificaciones, no incluidas en la tabla anterior, que constituyan locaciones o prestaciones de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tegorías mínima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determinarán en función de la actividad realizada y de los ingresos brutos anuales que obtiene la persona física por dich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tegoría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gresos brutos anuales inferiores o iguales a $ 20.000.-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tegoría I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gresos brutos anuales mayores a $ 20.000.-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b7e7ff"/>
                </a:solidFill>
                <a:latin typeface="Times New Roman"/>
              </a:rPr>
              <a:t>TABLAS – CATEGORIAS.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A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sonas comprendid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personas físicas que realicen algunas de las actividades indicadas en el Artículo 2º, inciso b) de la Ley Nº 24.241 y sus modificaciones, no incluidas en las Tablas I y II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tegorías mínima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determinarán en función de los ingresos brutos anuales que obtiene la persona física por las actividades realiz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tegoría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gresos brutos anuales inferiores o iguales a $ 25.000.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tegoría II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gresos brutos anuales mayores a $ 25.000.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b7e7ff"/>
                </a:solidFill>
                <a:latin typeface="Times New Roman"/>
              </a:rPr>
              <a:t>TABLAS – CATEGORIAS.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023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ABLA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Afiliaciones voluntarias: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las personas comprendidas en el Artículo 3º, inciso b) de la Ley Nº 24.241 y sus modificaciones y su reglamentación (ej: amas de casa, miembros del clero, etc), que decidan incorporarse voluntariamente al Sistema Integrado de Jubilaciones y Pensiones, lo harán en la categoría I, pudiendo optar por cualquier otra categoría superi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100" spc="-1" strike="noStrike">
                <a:solidFill>
                  <a:srgbClr val="b7e7ff"/>
                </a:solidFill>
                <a:latin typeface="Times New Roman"/>
              </a:rPr>
              <a:t>IMPORTES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007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ortes mensuales de los trabajadores autóno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47640" y="1700280"/>
          <a:ext cx="4896000" cy="487008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</a:tblGrid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e en $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7,7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8,8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5,5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8,8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2,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b7e7ff"/>
                </a:solidFill>
                <a:latin typeface="Arial"/>
              </a:rPr>
              <a:t>Trabajadores autónomo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3933720"/>
            <a:ext cx="677376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Bookman Old Style"/>
              </a:rPr>
              <a:t>II. RECATEGORIZACION ANU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pítulo D de la RG AFIP 2217/07</a:t>
            </a:r>
            <a:r>
              <a:rPr b="1" lang="es-AR" sz="3000" spc="-1" strike="noStrike">
                <a:solidFill>
                  <a:srgbClr val="ffffff"/>
                </a:solidFill>
                <a:latin typeface="Bookman Old Style"/>
              </a:rPr>
              <a:t>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b7e7ff"/>
                </a:solidFill>
                <a:latin typeface="Times New Roman"/>
              </a:rPr>
              <a:t>QUIÉNES DEBEN RECATEGORIZARS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2163600"/>
            <a:ext cx="854064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Todos los que estuvieren inscriptos en el régimen y hubieran iniciado actividades antes del 31.12 del año anteri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ienes hubieren iniciado actividades en el 2010 deberán recategorizarse por primera vez en junio 2011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b7e7ff"/>
                </a:solidFill>
                <a:latin typeface="Times New Roman"/>
              </a:rPr>
              <a:t>CUÁNDO</a:t>
            </a:r>
            <a:r>
              <a:rPr b="0" lang="es-ES" sz="3900" spc="-1" strike="noStrike">
                <a:solidFill>
                  <a:srgbClr val="b7e7ff"/>
                </a:solidFill>
                <a:latin typeface="Times New Roman"/>
              </a:rPr>
              <a:t>?</a:t>
            </a:r>
            <a:endParaRPr b="0" lang="en-US" sz="3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ffff"/>
                </a:solidFill>
                <a:latin typeface="Times New Roman"/>
              </a:rPr>
              <a:t>En cualquier día del mes de junio de cada añ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b7e7ff"/>
                </a:solidFill>
                <a:latin typeface="Times New Roman"/>
              </a:rPr>
              <a:t>CÓMO?</a:t>
            </a:r>
            <a:endParaRPr b="0" lang="en-US" sz="43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719000"/>
            <a:ext cx="84358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Deberán ingresar a través de la página "web“ de AFIP (http: //www.afip.gov.ar), al servicio denominado "Padrón Unico de Contribuyentes", opción "Empadronamiento/Autónomos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En dicha transacción, luego de completarse los datos requeridos, el sistema generará una constancia de presentación (acuse de recibo, formulario F. 940) y la credencial para el pago (formulario F. 1101), que contendrá el Código de Registro Autónomo (CRA) correspondiente a la categoría de revista autodecla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Times New Roman"/>
              </a:rPr>
              <a:t>1er. Paso) Ingresar al sistema con la Clave Fiscal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24720" cy="528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6516360" y="3500280"/>
            <a:ext cx="64764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516360" y="3933720"/>
            <a:ext cx="64764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3213000"/>
            <a:ext cx="151272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645000"/>
            <a:ext cx="151308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341360"/>
            <a:ext cx="8497800" cy="216000"/>
          </a:xfrm>
          <a:prstGeom prst="rect">
            <a:avLst/>
          </a:prstGeom>
          <a:solidFill>
            <a:srgbClr val="0000a4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85016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Times New Roman"/>
              </a:rPr>
              <a:t>2do. Paso) Se deberá elegir la opción “Padrón Unico de Contribuyentes”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497800" cy="5446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000" y="5013360"/>
            <a:ext cx="360036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40000" y="5229360"/>
            <a:ext cx="64764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97000"/>
            <a:ext cx="8497800" cy="216000"/>
          </a:xfrm>
          <a:prstGeom prst="rect">
            <a:avLst/>
          </a:prstGeom>
          <a:solidFill>
            <a:srgbClr val="0000a4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rabajadores autónomo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4000" y="3933720"/>
            <a:ext cx="84960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RECATEGORIZACION ANU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4560" y="65214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Times New Roman"/>
              </a:rPr>
              <a:t>3er. Paso) Luego, deberá elegir la opción “Empadronamiento / categorización de Autónomos”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280360" cy="539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268280"/>
            <a:ext cx="8351640" cy="216000"/>
          </a:xfrm>
          <a:prstGeom prst="rect">
            <a:avLst/>
          </a:prstGeom>
          <a:solidFill>
            <a:srgbClr val="0000a4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4292640"/>
            <a:ext cx="2303280" cy="4334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71640" y="4508640"/>
            <a:ext cx="64800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213000"/>
            <a:ext cx="7632720" cy="71640"/>
          </a:xfrm>
          <a:prstGeom prst="rect">
            <a:avLst/>
          </a:prstGeom>
          <a:solidFill>
            <a:srgbClr val="87e3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Times New Roman"/>
              </a:rPr>
              <a:t>4to. Paso) Completar los datos solicitados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160640"/>
            <a:ext cx="8713800" cy="5464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3573360"/>
            <a:ext cx="64764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3573360"/>
            <a:ext cx="79200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3573360"/>
            <a:ext cx="129528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3716280"/>
            <a:ext cx="576360" cy="730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292640"/>
            <a:ext cx="289080" cy="108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360" y="4221000"/>
            <a:ext cx="64764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716280"/>
            <a:ext cx="0" cy="504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97000"/>
            <a:ext cx="8642160" cy="144360"/>
          </a:xfrm>
          <a:prstGeom prst="rect">
            <a:avLst/>
          </a:prstGeom>
          <a:solidFill>
            <a:srgbClr val="87e3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Times New Roman"/>
              </a:rPr>
              <a:t>5to. Paso) En esta pantalla se podrá elegir una categoría opcional o si tiene beneficios inferiores al 30% optar por una categoría menor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0720" cy="509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1557360"/>
            <a:ext cx="8642520" cy="144360"/>
          </a:xfrm>
          <a:prstGeom prst="rect">
            <a:avLst/>
          </a:prstGeom>
          <a:solidFill>
            <a:srgbClr val="87e3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3280" y="5229360"/>
            <a:ext cx="64800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58920" y="5445000"/>
            <a:ext cx="64764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716280"/>
            <a:ext cx="79200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716280"/>
            <a:ext cx="79236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3716280"/>
            <a:ext cx="792000" cy="71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3860640"/>
            <a:ext cx="576000" cy="730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6868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b7e7ff"/>
                </a:solidFill>
                <a:latin typeface="Times New Roman"/>
              </a:rPr>
              <a:t>6to. Paso) Una vez aceptado </a:t>
            </a:r>
            <a:r>
              <a:rPr b="1" lang="es-AR" sz="2600" spc="-1" strike="noStrike">
                <a:solidFill>
                  <a:srgbClr val="b7e7ff"/>
                </a:solidFill>
                <a:latin typeface="Times New Roman"/>
              </a:rPr>
              <a:t>el sistema generará una constancia de presentación y la credencial para el pago</a:t>
            </a:r>
            <a:br>
              <a:rPr sz="2600"/>
            </a:b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7" name="lpext" descr=""/>
          <p:cNvPicPr/>
          <p:nvPr/>
        </p:nvPicPr>
        <p:blipFill>
          <a:blip r:embed="rId2"/>
          <a:stretch/>
        </p:blipFill>
        <p:spPr>
          <a:xfrm>
            <a:off x="2205000" y="1628640"/>
            <a:ext cx="5391360" cy="5034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51280" y="242100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249228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256536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263700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335772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70828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486900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501336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5157720"/>
            <a:ext cx="576360" cy="0"/>
          </a:xfrm>
          <a:prstGeom prst="line">
            <a:avLst/>
          </a:prstGeom>
          <a:ln w="63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b7e7ff"/>
                </a:solidFill>
                <a:latin typeface="Times New Roman"/>
              </a:rPr>
              <a:t>QUIÉNES NO TIENEN OBLIGACIÓN DE RECATEGORIZARSE?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Beneficiarios de prestaciones previsionales en el marco de la Ley 24241 que ingresen, reingresen o continúen en la actividad autóno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filiados voluntarios (Tabla IV del Anexo II Dec 1866/0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Jugadores de fútbol, miembros de los cuerpos médicos, técnicos y auxiliares que atiendan planteles del fútbol profesional, que intervienen en torneos organizados por la AFA en las divisiones de Primera A, Nacional B y Primera B, comprendidos en el régimen del Dec 1212/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mas de casa que optaron por el aporte reducido previsto en la Ley 248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b7e7ff"/>
                </a:solidFill>
                <a:latin typeface="Times New Roman"/>
              </a:rPr>
              <a:t>EFECTOS  DE NO CUMPLIR CON LA  RECATEGORIZACIÓN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2884320"/>
            <a:ext cx="85406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mplicará la ratificación de la categoría declarada con anterior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b7e7ff"/>
                </a:solidFill>
                <a:latin typeface="Times New Roman"/>
              </a:rPr>
              <a:t>CARÁCTER DE LA INFORMACIÓN SUMINISTRADA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2595600"/>
            <a:ext cx="854064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datos informados a través de las transacciones informáticas previstas tendrán el carácter de declaración jurada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b7e7ff"/>
                </a:solidFill>
                <a:latin typeface="Times New Roman"/>
              </a:rPr>
              <a:t>INGRESO BRUTO ANUAL.</a:t>
            </a:r>
            <a:br>
              <a:rPr sz="4100"/>
            </a:br>
            <a:r>
              <a:rPr b="0" lang="es-ES" sz="4100" spc="-1" strike="noStrike">
                <a:solidFill>
                  <a:srgbClr val="b7e7ff"/>
                </a:solidFill>
                <a:latin typeface="Times New Roman"/>
              </a:rPr>
              <a:t>CONCEPTO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imes New Roman"/>
              </a:rPr>
              <a:t>Son los obtenidos por su actividad de trabajador autónomo, en dinero o en especie (valor de plaza al momento del cobro), durante el año calendario, incluido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Los adelantos, anticipos o pagos a cuen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Los derivados por la venta de bienes de uso (precio) afectados a su actividad, amortizables para el Impuesto a las Gananci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Times New Roman"/>
              </a:rPr>
              <a:t>Los obtenidos por su participación en sociedades de cualquier tipo, atribuidos según las normas del Impuesto a las Ganancias (participación en el resultado impositiv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b7e7ff"/>
                </a:solidFill>
                <a:latin typeface="Times New Roman"/>
              </a:rPr>
              <a:t>LIMITE MINIMO DE INGRESOS BRUTOS</a:t>
            </a:r>
            <a:endParaRPr b="0" lang="en-US" sz="3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2523600"/>
            <a:ext cx="854064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beneficio bruto determinado según lo expuesto no podrá ser inferior al total de los ingresos gravados, exentos y no alcanzados por el Impuesto a las Gana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b7e7ff"/>
                </a:solidFill>
                <a:latin typeface="Times New Roman"/>
              </a:rPr>
              <a:t>DETERMINACION A LOS EFECTOS DE LA SOLICITUD DE IMPUTACION</a:t>
            </a:r>
            <a:br>
              <a:rPr sz="3700"/>
            </a:br>
            <a:r>
              <a:rPr b="1" lang="es-ES" sz="3700" spc="-1" strike="noStrike">
                <a:solidFill>
                  <a:srgbClr val="b7e7ff"/>
                </a:solidFill>
                <a:latin typeface="Times New Roman"/>
              </a:rPr>
              <a:t>DEL CREDITO</a:t>
            </a:r>
            <a:r>
              <a:rPr b="0" lang="es-AR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2668320"/>
            <a:ext cx="85406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 estos fines el ingreso bruto obtenido en caso de no corresponder a la totalidad del año calendario por haberse iniciado actividades durante el mismo deberá proporcionarse a un año completo a los efectos de su comparación con el límite de $ 5.124,56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Bookman Old Style"/>
              </a:rPr>
              <a:t>I. Marco Normativo. Ley 24241: </a:t>
            </a:r>
            <a:br>
              <a:rPr sz="3200"/>
            </a:br>
            <a:r>
              <a:rPr b="1" lang="es-ES" sz="3200" spc="-1" strike="noStrike">
                <a:solidFill>
                  <a:srgbClr val="b7e7ff"/>
                </a:solidFill>
                <a:latin typeface="Bookman Old Style"/>
              </a:rPr>
              <a:t>Art 2. b) Incorporación obligatoria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sonas que por sí solas o conjunta o alternativamente con otras, asociadas o no, ejerzan habitualmente en la República alguna de las actividades que a continuación se enumeran, siempre que estas no configuren una relación de depend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rección, administración o conducción de cualquier empresa, organización, establecimiento o explotación con fines de lucro, o sociedad comercial o civil, aunque por esas actividades no obtengan retribución, utilidad o ingreso algu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Times New Roman"/>
              </a:rPr>
              <a:t>BENEFICIO NETO. CONCEPT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2523600"/>
            <a:ext cx="854064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la diferencia entre los ingresos brutos y los gastos necesarios para obtenerlos. Estos últimos imputados según los criterios del Impuesto a las Gana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b7e7ff"/>
                </a:solidFill>
                <a:latin typeface="Times New Roman"/>
              </a:rPr>
              <a:t>LIMITE INFERIOR DE INGRESOS NETOS</a:t>
            </a:r>
            <a:endParaRPr b="0" lang="en-US" sz="4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2523600"/>
            <a:ext cx="854064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beneficio neto determinado según lo expuesto no podrá ser inferior a la ganancia neta calculada según las normas del Impuesto a las Gan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RESOLUCION  (ST) </a:t>
            </a:r>
            <a:br>
              <a:rPr sz="4400"/>
            </a:b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513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RESOLUCIÓN N° 513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APRUEBA LOS FORMULARIOS PARA LA FISCALIZACIÓN DE LOS PUERTOS Y AEROPUERTOS, DE LOS TRABAJADORES DE TERMINALES, BUQUES O AERONA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CIRCULAR   10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TRABAJADORES 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TEMPOR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CIRCULAR 10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) Los empleadores que contraten trabajadores mediante un contrato de trabajo por temporada, deben continuar declarando a los mismos durante el período de reserva de puesto. A tal efecto, deberán utilizar el programa aplicativo denominado “Sistema de Cálculo de Obligaciones de la Seguridad Soci al - SICOSS” o, en su caso, el sistema “Su Declaración” y seleccionar el código “21 - Trabajador de temporada - Reserva de Puesto” de la Tabla “Situación de revist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CIRCULAR 10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) Durante el período de actividad (o “temporada”) el código indicado en el inciso precedente deberá reemplazarse por el que corresponda a la situación laboral del trabaj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R.G. 3136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BENEFIC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LEY 26476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Bookman Old Style"/>
              </a:rPr>
              <a:t>I. Marco Normativo. Ley 24241: </a:t>
            </a:r>
            <a:br>
              <a:rPr sz="3200"/>
            </a:br>
            <a:r>
              <a:rPr b="1" lang="es-ES" sz="3200" spc="-1" strike="noStrike">
                <a:solidFill>
                  <a:srgbClr val="b7e7ff"/>
                </a:solidFill>
                <a:latin typeface="Bookman Old Style"/>
              </a:rPr>
              <a:t>Art 2. b) Incorporación obligatoria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ofesión desempeñada por graduado en universidad nacional o en universidad provincial o privada autorizada para funcionar por el Poder Ejecutivo, o por quien tenga especial habilitación legal para el ejercicio de profesión universitaria reglament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oducción o cobranza de seguros, reaseguros, capitalización, ahorro, ahorro y préstamo, o simi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ualquier otra actividad lucrativa no comprendida en los apartados prece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b7e7ff"/>
                </a:solidFill>
                <a:latin typeface="Arial"/>
              </a:rPr>
              <a:t>RG 3136/201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LOS EMPLEADORES PODRAN RECTIFICAR SUS DDJJ Y LAS ALTAS EN EL SISTEMA MI SIMPLIFICACIÓN, HASTA EL VENCIMIENTO DE LA DDJJ DE JUNIO EN EL MES DE JULIO, </a:t>
            </a:r>
            <a:r>
              <a:rPr b="1" i="1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PARA COMPUTAR LOS BENEFICOS DE REDUCCION DE CONTRIBU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b7e7ff"/>
                </a:solidFill>
                <a:latin typeface="Bookman Old Style"/>
              </a:rPr>
              <a:t>Art 3. Incorporación voluntaria</a:t>
            </a:r>
            <a:endParaRPr b="0" lang="en-US" sz="3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miembros de consejos de administración de cooperativas que no perciban retribución alguna por esas funciones, socios no gerentes de sociedades de responsabilidad limitada, síndicos de cualquier sociedad y fiduci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titulares de condominios y de sucesiones indivisas que no ejerzan la dirección, administración o conducción de la explotación comú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miembros del clero y de organizaciones religiosas pertenecientes al culto católico apostólico romano, u otros inscriptos en el Registro Nacional de Cult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b7e7ff"/>
                </a:solidFill>
                <a:latin typeface="Bookman Old Style"/>
              </a:rPr>
              <a:t>Art 3. Incorporación voluntaria</a:t>
            </a:r>
            <a:endParaRPr b="0" lang="en-US" sz="3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ersonas que ejerzan las actividades mencionadas en el artículo 2º, inciso b), apartado 2, y que por ellas se encontraren obligatoriamente afiliadas a uno o más regímenes jubilatorios provinciales para profesionales, como asimismo aquellas que ejerzan una profesión no académica autorizada con anterioridad a la promulgación de esta ley. Esta incorporación no modificará la obligatoriedad que dimana de los respectivos regímenes loc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amas de casa que decidan incorporarse voluntariamente al Sistema Integrado de Jubilaciones y Pensiones lo harán en la categoría mínima de aportes, pudiendo optar por cualquier otra categoría superi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b7e7ff"/>
                </a:solidFill>
                <a:latin typeface="Bookman Old Style"/>
              </a:rPr>
              <a:t>Art 5. Actividades simultáneas</a:t>
            </a:r>
            <a:endParaRPr b="0" lang="en-US" sz="39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201888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 circunstancia de estar también comprendido en otro régimen jubilatorio nacional, provincial o municipal, así como el hecho de gozar de cualquier jubilación, pensión o retiro, no eximen de la obligatoriedad de efectuar aportes y contribuciones a este sistema, salvo en los casos expresamente determinados en la presente le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ersonas que ejerzan en forma simultánea más de una actividad de las comprendidas en los incisos a), b), o c) del artículo 2º, así como los empleadores en su caso, contribuirán obligatoriamente por cada una de ell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b7e7ff"/>
                </a:solidFill>
                <a:latin typeface="Bookman Old Style"/>
              </a:rPr>
              <a:t>Dec 1866/06 </a:t>
            </a:r>
            <a:br>
              <a:rPr sz="3700"/>
            </a:br>
            <a:r>
              <a:rPr b="1" lang="es-ES" sz="3700" spc="-1" strike="noStrike">
                <a:solidFill>
                  <a:srgbClr val="b7e7ff"/>
                </a:solidFill>
                <a:latin typeface="Bookman Old Style"/>
              </a:rPr>
              <a:t>Modificatorio del Dec 433/94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jorar medición de la capacidad contribu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hora sólo ingresos / antes otros elementos (antig. Matrícula, cant. de personal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osibilidad de optar por una categoría inferior (según relación ing. netos/brut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e mantiene opción imputación de créditos con algunas modif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mover la litigiosidad de ciertos t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ámetros (cant. de personal, antig. matrícula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educción de tablas y categorías (antes 9t y15c y ahora 4t y 5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ctividades simult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ducción del padr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eempadr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ecategorización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b7e7ff"/>
                </a:solidFill>
                <a:latin typeface="Times New Roman"/>
              </a:rPr>
              <a:t>TABLAS – CATEGORIAS.</a:t>
            </a:r>
            <a:endParaRPr b="0" lang="en-US" sz="4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sonas comprendida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ersonas físicas que realicen la dirección, administración o conducción de sociedades comerciales o civiles, regulares o irregulares, y socios de sociedades de cualquier tipo (Artículo 2º, incisos b), apartado 1 y d) de la Ley Nº 24.241 y sus modificacion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ategorías mínim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e determinarán en función de los ingresos brutos anuales obtenidos por la persona física, por cualquier concepto, en retribución a la mencionada activ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ategoría II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Ingresos brutos anuales inferiores o iguales a $ 15.000.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ategoría IV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gresos brutos anuales mayores a $ 15.000.- e inferiores o iguales a $ 30.000.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ategoría V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gresos brutos anuales mayores a $ 30.000.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94560" y="65530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db8"/>
                </a:solidFill>
                <a:latin typeface="Georgia"/>
              </a:rPr>
              <a:t>Gabriel De Albalade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8:51:10Z</dcterms:created>
  <dc:creator>sebastianw</dc:creator>
  <dc:description/>
  <dc:language>en-US</dc:language>
  <cp:lastModifiedBy>LeMonique</cp:lastModifiedBy>
  <dcterms:modified xsi:type="dcterms:W3CDTF">2011-06-25T19:41:36Z</dcterms:modified>
  <cp:revision>57</cp:revision>
  <dc:subject/>
  <dc:title>Trabajadores autónomo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9354188</vt:r8>
  </property>
  <property fmtid="{D5CDD505-2E9C-101B-9397-08002B2CF9AE}" pid="3" name="_AuthorEmail">
    <vt:lpwstr>sebastian.wagner@rdea.com.ar</vt:lpwstr>
  </property>
  <property fmtid="{D5CDD505-2E9C-101B-9397-08002B2CF9AE}" pid="4" name="_AuthorEmailDisplayName">
    <vt:lpwstr>Sebastian Wagner</vt:lpwstr>
  </property>
  <property fmtid="{D5CDD505-2E9C-101B-9397-08002B2CF9AE}" pid="5" name="_EmailSubject">
    <vt:lpwstr>AUTONOMOS</vt:lpwstr>
  </property>
  <property fmtid="{D5CDD505-2E9C-101B-9397-08002B2CF9AE}" pid="6" name="_ReviewingToolsShownOnce">
    <vt:lpwstr/>
  </property>
</Properties>
</file>