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CCAAAEF-59B6-4325-A3D8-9B2A6B5CA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6944FA2-63CB-4DDC-96FF-3F3703CEC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C121A20-C851-4142-8C58-DCD233570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9488AE2-E8DD-43FC-A462-758D3E58B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595B7-6540-42D3-9B2F-BB4636789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3A604-15CD-4A13-94E9-A8AA62E55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2BF33-CB03-48FF-A852-447D550E5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385B9-C7B9-4529-B3FF-D4946DD31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C3FD8-9616-404F-B0A9-96C1B386A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7C4EB-108F-4F57-8DF1-58CE8F28A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0F768-98A3-4F60-BDB1-2BD63E9CB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257CC21-2BD9-4D3D-96DE-B7E1B8B4C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6E8A7-37D6-4FC8-AB6A-109A7A7AF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23A2B-C234-4E5F-9D7B-692539A02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B96AA-F6A7-4C3C-838F-D82C0CAF0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1DA33-CC0C-4B99-91D9-25DF71AF9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8EFE1-EE84-4807-8FC4-DEE5690A4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7338EB-058B-43F7-B2FC-D0747F17E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BEAE38E-2D1B-48B2-A0FD-622FD107E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D7ED16-198A-429A-A5B0-803CDF5B6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5CE000-6503-4562-ACED-B16AA73C1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A66316-FFDD-4EA7-BC43-AA08B941B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367363-6246-4B05-A65D-157BFBB8B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FB978C-3F07-4007-8D39-97C49C7F3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6C99-5832-45AA-86D8-14821E6A2E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0A77-4CE8-4B27-B556-BA8C8F4213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7200" spc="-1" strike="noStrike">
                <a:solidFill>
                  <a:srgbClr val="e5e5ff"/>
                </a:solidFill>
                <a:latin typeface="Garamond"/>
              </a:rPr>
              <a:t>NOVEDADES </a:t>
            </a:r>
            <a:br>
              <a:rPr sz="7200"/>
            </a:br>
            <a:endParaRPr b="1" lang="en-US" sz="72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28-03-2011</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8/03/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 35550 .SS - INQUIETUD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2) La cobertura sólo comprende a los trabajadores en relación de dependencia que fueran declarados en la nómina de la póliza, motivo por el cual consideramos que debería instrumentarse un mecanismo de actualización periódica como existe con la ART. </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Garamond"/>
              </a:rPr>
              <a:t>    </a:t>
            </a:r>
            <a:r>
              <a:rPr b="0" i="1" lang="es-ES" sz="2400" spc="-1" strike="noStrike">
                <a:solidFill>
                  <a:srgbClr val="ffffff"/>
                </a:solidFill>
                <a:latin typeface="Garamond"/>
              </a:rPr>
              <a:t>a) Altas: el asegurado deberá agregar en la nómina a todo personal que incorpore bajo su dependencia con cuarenta y ocho (48) horas de anticipación al inicio del contrato de trabajo, con certificado de aptitud psicofísica.</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    </a:t>
            </a:r>
            <a:r>
              <a:rPr b="0" i="1" lang="es-ES" sz="2400" spc="-1" strike="noStrike">
                <a:solidFill>
                  <a:srgbClr val="ffffff"/>
                </a:solidFill>
                <a:latin typeface="Garamond"/>
              </a:rPr>
              <a:t>b) Bajas: El asegurado deberá comunicar fehacientemente al asegurador, dentro de los quince (15) días posteriores al mes respectivo, el detalla de las bajas producidas, indicando en cada caso la fecha y motivo del distracto que le diera origen.</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 35550 .SS - INQUIETUD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3) Otro elemento que podría provocar inconvenientes resulta ser las incapacidades previas.</a:t>
            </a:r>
            <a:r>
              <a:rPr b="0" lang="es-ES" sz="3200" spc="-1" strike="noStrike">
                <a:solidFill>
                  <a:srgbClr val="ffffff"/>
                </a:solidFill>
                <a:latin typeface="Garamond"/>
              </a:rPr>
              <a:t> </a:t>
            </a:r>
            <a:r>
              <a:rPr b="0" lang="es-ES" sz="4000" spc="-1" strike="noStrike">
                <a:solidFill>
                  <a:srgbClr val="ffffff"/>
                </a:solidFill>
                <a:latin typeface="Garamond"/>
              </a:rPr>
              <a:t>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RES. 90/2011</a:t>
            </a:r>
            <a:br>
              <a:rPr sz="6000"/>
            </a:br>
            <a:r>
              <a:rPr b="1" lang="es-AR" sz="6000" spc="-1" strike="noStrike">
                <a:solidFill>
                  <a:srgbClr val="e5e5ff"/>
                </a:solidFill>
                <a:latin typeface="Garamond"/>
              </a:rPr>
              <a:t>MTYSS  </a:t>
            </a:r>
            <a:endParaRPr b="1" lang="en-US" sz="6000" spc="-1" strike="noStrike">
              <a:solidFill>
                <a:srgbClr val="e5e5ff"/>
              </a:solidFill>
              <a:latin typeface="Garamond"/>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8/03/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ES. 90/2011</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PAGO EN CUOTAS DE MULTAS IMPUESTAS POR MTYSS, POR SECRETARIA DE TRABAJO.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EL CONTRIBUYENTE SOLICITA LAS CUOTAS, SI EL MONTO ES MENOR A $ 50.000, LA CANTIDA DE CUOTAS LO RESUELVE LOS DELEGADOS REGIONALE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ES. 90/2011</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LA TASA DE INTERES ES LA TASA RESARCITORIO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LOS INTERESES SE APLICAN DESDE QUE LA MULTA SE ENCUENTRA FIRME.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RG 3062/2011</a:t>
            </a:r>
            <a:endParaRPr b="1" lang="en-US" sz="6000" spc="-1" strike="noStrike">
              <a:solidFill>
                <a:srgbClr val="e5e5ff"/>
              </a:solidFill>
              <a:latin typeface="Garamond"/>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ODIF.  DE PADRON </a:t>
            </a: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8/03/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62</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TRABAJADORES AUTONOMO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MODIF. DE SITUACION DE REVISTA </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ULTIMOS 10 AÑOS EN LA DEPENDENCIA DONDE ESTE INSCRIPT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Por internet la modif. de Impuestos acuerde a la modif. de situación de revista.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62</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TRABAJADORES AUTONOMOS </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MODIF. DE SITUACION DE REVIST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ANTERIORES A ULTIMOS 10 AÑOS A TRAVES DEL SICAM </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ES" sz="3200" spc="-1" strike="noStrike">
                <a:solidFill>
                  <a:srgbClr val="ffffff"/>
                </a:solidFill>
                <a:latin typeface="Garamond"/>
              </a:rPr>
              <a:t>Los períodos modificados serán resaltados por el SICAM a fin de que la ANSeS pueda individualizarlos, correspondiendo a dicho organismo la verificación de la prueba respaldatoria de la modificación efectuada.</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62</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EQUEÑOS SIMPLIFICADO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MODIF. DE SITUACION DE REVISTA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POR INTERNET O EN LA DEPENDENC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NO INSCRIPTO NO PODRÁ INSC. RETROACTIVAMENTE EXCEPTO QUE PUEDA DEMOSTRAR QUE SOLICITO LA INSCRIPCIÓN EN SU MOMENTO</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62</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LAS MODIFICACIONES EN LOS REGISTROS TRIBUTARIOS SERÁN EVALUADOS POR LOS JUECES ADMINISTRATIVOS, EN MERITO A LA PRUEBA PRODUCIDA.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Dto. 68/2011</a:t>
            </a:r>
            <a:endParaRPr b="1" lang="en-US" sz="6000" spc="-1" strike="noStrike">
              <a:solidFill>
                <a:srgbClr val="e5e5ff"/>
              </a:solidFill>
              <a:latin typeface="Garamond"/>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31/01/2011</a:t>
            </a: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8/03/1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MOD. DE TOPES, MONTOS Y MULTAS</a:t>
            </a:r>
            <a:endParaRPr b="1" lang="en-US" sz="6000" spc="-1" strike="noStrike">
              <a:solidFill>
                <a:srgbClr val="e5e5ff"/>
              </a:solidFill>
              <a:latin typeface="Garamond"/>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8/03/1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BASE IMPONIBLE</a:t>
            </a:r>
            <a:endParaRPr b="1" lang="en-US" sz="6000" spc="-1" strike="noStrike">
              <a:solidFill>
                <a:srgbClr val="e5e5ff"/>
              </a:solidFill>
              <a:latin typeface="Garamon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8/03/1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BASE IMPOBIBLE </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 PARTIR DEL 1° MARZO DE 201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BASE IMPONIBLE MINIMA     $ 427,06</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BASE IMPONIBLE MAXIMA  $ 13.879,25</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TRABAJADORES </a:t>
            </a:r>
            <a:br>
              <a:rPr sz="6000"/>
            </a:br>
            <a:r>
              <a:rPr b="1" lang="es-AR" sz="6000" spc="-1" strike="noStrike">
                <a:solidFill>
                  <a:srgbClr val="e5e5ff"/>
                </a:solidFill>
                <a:latin typeface="Garamond"/>
              </a:rPr>
              <a:t>AUTONOMOS</a:t>
            </a:r>
            <a:endParaRPr b="1" lang="en-US" sz="6000" spc="-1" strike="noStrike">
              <a:solidFill>
                <a:srgbClr val="e5e5ff"/>
              </a:solidFill>
              <a:latin typeface="Garamond"/>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8/03/1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e5e5ff"/>
                </a:solidFill>
                <a:latin typeface="Times New Roman"/>
              </a:rPr>
              <a:t>IMPORTES</a:t>
            </a:r>
            <a:endParaRPr b="1" lang="en-US" sz="4100" spc="-1" strike="noStrike">
              <a:solidFill>
                <a:srgbClr val="e5e5ff"/>
              </a:solidFill>
              <a:latin typeface="Garamond"/>
            </a:endParaRPr>
          </a:p>
        </p:txBody>
      </p:sp>
      <p:sp>
        <p:nvSpPr>
          <p:cNvPr id="147" name="PlaceHolder 2"/>
          <p:cNvSpPr>
            <a:spLocks noGrp="1"/>
          </p:cNvSpPr>
          <p:nvPr>
            <p:ph/>
          </p:nvPr>
        </p:nvSpPr>
        <p:spPr>
          <a:xfrm>
            <a:off x="456840" y="1875960"/>
            <a:ext cx="7715160" cy="73980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portes mensuales de los trabajadores autónomos:</a:t>
            </a:r>
            <a:endParaRPr b="0" lang="en-US" sz="2800" spc="-1" strike="noStrike">
              <a:solidFill>
                <a:srgbClr val="ffffff"/>
              </a:solidFill>
              <a:latin typeface="Garamond"/>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148" name=""/>
          <p:cNvGraphicFramePr/>
          <p:nvPr/>
        </p:nvGraphicFramePr>
        <p:xfrm>
          <a:off x="1835280" y="3059280"/>
          <a:ext cx="4038480" cy="2739960"/>
        </p:xfrm>
        <a:graphic>
          <a:graphicData uri="http://schemas.openxmlformats.org/drawingml/2006/table">
            <a:tbl>
              <a:tblPr/>
              <a:tblGrid>
                <a:gridCol w="2019240"/>
                <a:gridCol w="2019240"/>
              </a:tblGrid>
              <a:tr h="5047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Categoría</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cc"/>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mporte en $</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cc"/>
                    </a:solidFill>
                  </a:tcPr>
                </a:tc>
              </a:tr>
              <a:tr h="4302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227,76</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I</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318,86</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II</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455,52</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34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IV</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728,84</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34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Garamond"/>
                        </a:rPr>
                        <a:t>V</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1002,1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9" name=""/>
          <p:cNvSpPr/>
          <p:nvPr/>
        </p:nvSpPr>
        <p:spPr>
          <a:xfrm>
            <a:off x="6694560" y="6553080"/>
            <a:ext cx="24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db8"/>
                </a:solidFill>
                <a:latin typeface="Georgia"/>
              </a:rPr>
              <a:t>Gabriel De Albaladejo</a:t>
            </a:r>
            <a:endParaRPr b="0" lang="en-US" sz="1400" spc="-1" strike="noStrike">
              <a:solidFill>
                <a:srgbClr val="ffffff"/>
              </a:solidFill>
              <a:latin typeface="Arial"/>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MULTAS</a:t>
            </a:r>
            <a:endParaRPr b="1" lang="en-US" sz="6000" spc="-1" strike="noStrike">
              <a:solidFill>
                <a:srgbClr val="e5e5ff"/>
              </a:solidFill>
              <a:latin typeface="Garamond"/>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8/03/1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A.F.I.P. (cont)- </a:t>
            </a:r>
            <a:r>
              <a:rPr b="0" lang="en-US" sz="4400" spc="-1" strike="noStrike">
                <a:solidFill>
                  <a:srgbClr val="ff0000"/>
                </a:solidFill>
                <a:latin typeface="Garamond"/>
              </a:rPr>
              <a:t>A PARTIR 1/03</a:t>
            </a:r>
            <a:endParaRPr b="1" lang="en-US" sz="44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cumplimiento al r</a:t>
            </a:r>
            <a:r>
              <a:rPr b="1" lang="es-AR" sz="3600" spc="-1" strike="noStrike">
                <a:solidFill>
                  <a:srgbClr val="ffffff"/>
                </a:solidFill>
                <a:latin typeface="Garamond"/>
              </a:rPr>
              <a:t>egistro de Altas y Bajas </a:t>
            </a:r>
            <a:r>
              <a:rPr b="0" lang="en-US" sz="2600" spc="-1" strike="noStrike">
                <a:solidFill>
                  <a:srgbClr val="ffffff"/>
                </a:solidFill>
                <a:latin typeface="Garamond"/>
              </a:rPr>
              <a:t> (art agreg 40 y sig. Ley 11.683 t.o. 1998 y sus modif.)</a:t>
            </a:r>
            <a:endParaRPr b="0" lang="en-US" sz="2600" spc="-1" strike="noStrike">
              <a:solidFill>
                <a:srgbClr val="ffffff"/>
              </a:solidFill>
              <a:latin typeface="Garamond"/>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     </a:t>
            </a:r>
            <a:r>
              <a:rPr b="1" lang="en-US" sz="2600" spc="-1" strike="noStrike">
                <a:solidFill>
                  <a:srgbClr val="ffffff"/>
                </a:solidFill>
                <a:latin typeface="Garamond"/>
              </a:rPr>
              <a:t>MULTA  10 VECES BASE MINIMA ART. 9</a:t>
            </a:r>
            <a:endParaRPr b="0" lang="en-US" sz="2600" spc="-1" strike="noStrike">
              <a:solidFill>
                <a:srgbClr val="ffffff"/>
              </a:solidFill>
              <a:latin typeface="Garamond"/>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      </a:t>
            </a:r>
            <a:r>
              <a:rPr b="1" lang="en-US" sz="2600" spc="-1" strike="noStrike">
                <a:solidFill>
                  <a:srgbClr val="ffffff"/>
                </a:solidFill>
                <a:latin typeface="Garamond"/>
              </a:rPr>
              <a:t>10 X 427,06  =  $ 4.270,6 </a:t>
            </a:r>
            <a:endParaRPr b="0" lang="en-US" sz="26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Atenuante: </a:t>
            </a:r>
            <a:r>
              <a:rPr b="0" lang="es-AR" sz="3200" spc="-1" strike="noStrike">
                <a:solidFill>
                  <a:srgbClr val="ffffff"/>
                </a:solidFill>
                <a:latin typeface="Garamond"/>
              </a:rPr>
              <a:t>	</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Se reducirá a $ 300 si el contribuyente regulariza la situación antes de la audiencia, aun cuando hayan incurrido en situaciones agravantes.</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A.F.I.P. (cont)- </a:t>
            </a:r>
            <a:r>
              <a:rPr b="0" lang="en-US" sz="4400" spc="-1" strike="noStrike">
                <a:solidFill>
                  <a:srgbClr val="ff0000"/>
                </a:solidFill>
                <a:latin typeface="Garamond"/>
              </a:rPr>
              <a:t>A PARTIR 1/03</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cumplimiento al r</a:t>
            </a:r>
            <a:r>
              <a:rPr b="1" lang="es-AR" sz="3200" spc="-1" strike="noStrike">
                <a:solidFill>
                  <a:srgbClr val="ffffff"/>
                </a:solidFill>
                <a:latin typeface="Garamond"/>
              </a:rPr>
              <a:t>egistro de Altas y Bajas </a:t>
            </a:r>
            <a:r>
              <a:rPr b="0" lang="en-US" sz="2200" spc="-1" strike="noStrike">
                <a:solidFill>
                  <a:srgbClr val="ffffff"/>
                </a:solidFill>
                <a:latin typeface="Garamond"/>
              </a:rPr>
              <a:t> (art agreg 40 y sig. Ley 11.683 t.o. 1998 y sus modif.)</a:t>
            </a:r>
            <a:endParaRPr b="0" lang="en-US" sz="2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     </a:t>
            </a:r>
            <a:r>
              <a:rPr b="1" lang="en-US" sz="3200" spc="-1" strike="noStrike">
                <a:solidFill>
                  <a:srgbClr val="ffffff"/>
                </a:solidFill>
                <a:latin typeface="Garamond"/>
              </a:rPr>
              <a:t>MULTA  $ 4.270,60</a:t>
            </a:r>
            <a:endParaRPr b="0" lang="en-US" sz="3200" spc="-1" strike="noStrike">
              <a:solidFill>
                <a:srgbClr val="ffffff"/>
              </a:solidFill>
              <a:latin typeface="Garamond"/>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endParaRPr b="0" lang="en-US" sz="2800" spc="-1" strike="noStrike">
              <a:solidFill>
                <a:srgbClr val="ffffff"/>
              </a:solidFill>
              <a:latin typeface="Garamond"/>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Agravantes </a:t>
            </a:r>
            <a:endParaRPr b="0" lang="en-US" sz="2800" spc="-1" strike="noStrike">
              <a:solidFill>
                <a:srgbClr val="ffffff"/>
              </a:solidFill>
              <a:latin typeface="Garamond"/>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1" lang="es-AR" sz="2800" spc="-1" strike="noStrike">
                <a:solidFill>
                  <a:srgbClr val="ffffff"/>
                </a:solidFill>
                <a:latin typeface="Garamond"/>
              </a:rPr>
              <a:t>SE DUPLICARÁ</a:t>
            </a:r>
            <a:r>
              <a:rPr b="0" lang="es-AR" sz="2800" spc="-1" strike="noStrike">
                <a:solidFill>
                  <a:srgbClr val="ffffff"/>
                </a:solidFill>
                <a:latin typeface="Garamond"/>
              </a:rPr>
              <a:t>  cuando se trate de 10 trabajadores o más del 50% de los trabajadores ocupados. </a:t>
            </a:r>
            <a:endParaRPr b="0" lang="en-US" sz="2800" spc="-1" strike="noStrike">
              <a:solidFill>
                <a:srgbClr val="ffffff"/>
              </a:solidFill>
              <a:latin typeface="Garamond"/>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SE CUADRUPLICARÁ</a:t>
            </a:r>
            <a:r>
              <a:rPr b="0" lang="es-AR" sz="2800" spc="-1" strike="noStrike">
                <a:solidFill>
                  <a:srgbClr val="ffffff"/>
                </a:solidFill>
                <a:latin typeface="Garamond"/>
              </a:rPr>
              <a:t>  cuando se constate las dos anteriores.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A.F.I.P. (cont)- </a:t>
            </a:r>
            <a:r>
              <a:rPr b="0" lang="en-US" sz="4400" spc="-1" strike="noStrike">
                <a:solidFill>
                  <a:srgbClr val="ff0000"/>
                </a:solidFill>
                <a:latin typeface="Garamond"/>
              </a:rPr>
              <a:t>A PARTIR 1/03</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alta o audencia del registro del art. 52 Ley 20744</a:t>
            </a:r>
            <a:r>
              <a:rPr b="1" lang="es-AR" sz="3600" spc="-1" strike="noStrike">
                <a:solidFill>
                  <a:srgbClr val="ffffff"/>
                </a:solidFill>
                <a:latin typeface="Garamond"/>
              </a:rPr>
              <a:t> </a:t>
            </a:r>
            <a:r>
              <a:rPr b="0" lang="en-US" sz="2600" spc="-1" strike="noStrike">
                <a:solidFill>
                  <a:srgbClr val="ffffff"/>
                </a:solidFill>
                <a:latin typeface="Garamond"/>
              </a:rPr>
              <a:t>(art agreg 40 y sig. Ley 11.683 t.o. 1998 y sus modif.)</a:t>
            </a:r>
            <a:endParaRPr b="0" lang="en-US" sz="26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MULTA  5 VECES BASE MINIMA ART. 9</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5 X 427,06  = $ 2.135,30</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1" lang="es-AR" sz="3200" spc="-1" strike="noStrike">
                <a:solidFill>
                  <a:srgbClr val="ffffff"/>
                </a:solidFill>
                <a:latin typeface="Garamond"/>
              </a:rPr>
              <a:t>Atenuante: </a:t>
            </a: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Se reducirá a $ 300 si el contribuyente regulariza la situación antes de la audiencia</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A.F.I.P. (cont)- </a:t>
            </a:r>
            <a:r>
              <a:rPr b="0" lang="en-US" sz="4400" spc="-1" strike="noStrike">
                <a:solidFill>
                  <a:srgbClr val="ff0000"/>
                </a:solidFill>
                <a:latin typeface="Garamond"/>
              </a:rPr>
              <a:t>A PARTIR 1/03</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alta o audencia del registro del art. 52 Ley 20744</a:t>
            </a:r>
            <a:r>
              <a:rPr b="1" lang="es-AR" sz="3200" spc="-1" strike="noStrike">
                <a:solidFill>
                  <a:srgbClr val="ffffff"/>
                </a:solidFill>
                <a:latin typeface="Garamond"/>
              </a:rPr>
              <a:t> </a:t>
            </a:r>
            <a:r>
              <a:rPr b="0" lang="en-US" sz="2200" spc="-1" strike="noStrike">
                <a:solidFill>
                  <a:srgbClr val="ffffff"/>
                </a:solidFill>
                <a:latin typeface="Garamond"/>
              </a:rPr>
              <a:t>(art agreg 40 y sig. Ley 11.683 t.o. 1998 y sus modif.)</a:t>
            </a:r>
            <a:endParaRPr b="0" lang="en-US" sz="22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MULTA  $ 2.135,30</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1" lang="es-AR" sz="2800" spc="-1" strike="noStrike">
                <a:solidFill>
                  <a:srgbClr val="ffffff"/>
                </a:solidFill>
                <a:latin typeface="Garamond"/>
              </a:rPr>
              <a:t>Agravantes </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1" lang="es-AR" sz="2800" spc="-1" strike="noStrike">
                <a:solidFill>
                  <a:srgbClr val="ffffff"/>
                </a:solidFill>
                <a:latin typeface="Garamond"/>
              </a:rPr>
              <a:t>SE DUPLICARÁ</a:t>
            </a:r>
            <a:r>
              <a:rPr b="0" lang="es-AR" sz="2800" spc="-1" strike="noStrike">
                <a:solidFill>
                  <a:srgbClr val="ffffff"/>
                </a:solidFill>
                <a:latin typeface="Garamond"/>
              </a:rPr>
              <a:t>  cuando se trate de 10 trabajadores o más del 50% de los trabajadores ocupados. </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	</a:t>
            </a:r>
            <a:r>
              <a:rPr b="1" lang="es-AR" sz="2800" spc="-1" strike="noStrike">
                <a:solidFill>
                  <a:srgbClr val="ffffff"/>
                </a:solidFill>
                <a:latin typeface="Garamond"/>
              </a:rPr>
              <a:t>SE CUADRUPLICARÁ</a:t>
            </a:r>
            <a:r>
              <a:rPr b="0" lang="es-AR" sz="2800" spc="-1" strike="noStrike">
                <a:solidFill>
                  <a:srgbClr val="ffffff"/>
                </a:solidFill>
                <a:latin typeface="Garamond"/>
              </a:rPr>
              <a:t>  cuando se constate las dos anteriores.  </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Dto. 68/2011</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1" lang="es-AR" sz="3600" spc="-1" strike="noStrike">
                <a:solidFill>
                  <a:srgbClr val="ffffff"/>
                </a:solidFill>
                <a:latin typeface="Garamond"/>
              </a:rPr>
              <a:t>PRORROGA HASTA EL 31/12/2011 DE BENEFICIOS DE REDUCCION DE CONTRIBUCIONES SUSS</a:t>
            </a:r>
            <a:endParaRPr b="0" lang="en-US" sz="36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SE PUDO OPERATIVAMENTE MODIFICAR LAS AL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UN NO SE DETERMINO INCREMENTOS SOBRE QUE NOMINA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A.F.I.P. (cont)- </a:t>
            </a:r>
            <a:r>
              <a:rPr b="0" lang="en-US" sz="4400" spc="-1" strike="noStrike">
                <a:solidFill>
                  <a:srgbClr val="ff0000"/>
                </a:solidFill>
                <a:latin typeface="Garamond"/>
              </a:rPr>
              <a:t>A PARTIR 1/03</a:t>
            </a: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claración formalmente erronea en la DDJJ </a:t>
            </a:r>
            <a:r>
              <a:rPr b="0" lang="en-US" sz="2600" spc="-1" strike="noStrike">
                <a:solidFill>
                  <a:srgbClr val="ffffff"/>
                </a:solidFill>
                <a:latin typeface="Garamond"/>
              </a:rPr>
              <a:t>(art agreg 40 y sig. Ley </a:t>
            </a:r>
            <a:r>
              <a:rPr b="0" lang="en-US" sz="2400" spc="-1" strike="noStrike">
                <a:solidFill>
                  <a:srgbClr val="ffffff"/>
                </a:solidFill>
                <a:latin typeface="Garamond"/>
              </a:rPr>
              <a:t>11.683 t.o. 1998 y sus modif.) </a:t>
            </a:r>
            <a:endParaRPr b="0" lang="en-US" sz="24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MULTA  3 VECES BASE MINIMA ART 9</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 </a:t>
            </a:r>
            <a:r>
              <a:rPr b="0" lang="es-AR" sz="3200" spc="-1" strike="noStrike">
                <a:solidFill>
                  <a:srgbClr val="ffffff"/>
                </a:solidFill>
                <a:latin typeface="Garamond"/>
              </a:rPr>
              <a:t>3</a:t>
            </a:r>
            <a:r>
              <a:rPr b="1" lang="es-AR" sz="3200" spc="-1" strike="noStrike">
                <a:solidFill>
                  <a:srgbClr val="ffffff"/>
                </a:solidFill>
                <a:latin typeface="Garamond"/>
              </a:rPr>
              <a:t> X  427,06   =  $   1.281,18</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1" lang="es-AR" sz="3200" spc="-1" strike="noStrike">
                <a:solidFill>
                  <a:srgbClr val="ffffff"/>
                </a:solidFill>
                <a:latin typeface="Garamond"/>
              </a:rPr>
              <a:t>Atenuante: </a:t>
            </a:r>
            <a:r>
              <a:rPr b="0" lang="es-AR" sz="3200" spc="-1" strike="noStrike">
                <a:solidFill>
                  <a:srgbClr val="ffffff"/>
                </a:solidFill>
                <a:latin typeface="Garamond"/>
              </a:rPr>
              <a:t>	</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Se reducirá a $ 300 si el contribuyente regulariza la situación antes de la audiencia</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R.G. 3038 </a:t>
            </a:r>
            <a:br>
              <a:rPr sz="6000"/>
            </a:br>
            <a:r>
              <a:rPr b="1" lang="es-AR" sz="6000" spc="-1" strike="noStrike">
                <a:solidFill>
                  <a:srgbClr val="e5e5ff"/>
                </a:solidFill>
                <a:latin typeface="Garamond"/>
              </a:rPr>
              <a:t>NUEVOS   IMT</a:t>
            </a:r>
            <a:endParaRPr b="1" lang="en-US" sz="6000" spc="-1" strike="noStrike">
              <a:solidFill>
                <a:srgbClr val="e5e5ff"/>
              </a:solidFill>
              <a:latin typeface="Garamond"/>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8/03/1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RESTUARANTES</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r>
              <a:rPr b="1" lang="es-ES_tradnl" sz="3200" spc="-1" strike="noStrike">
                <a:solidFill>
                  <a:srgbClr val="ffffff"/>
                </a:solidFill>
                <a:latin typeface="Garamond"/>
              </a:rPr>
              <a:t>SIN AMBIENTE CLIMATIZADO, SIN SALA DE ESPERA Y SIN VALET PARKING</a:t>
            </a:r>
            <a:endParaRPr b="0" lang="en-US" sz="3200" spc="-1" strike="noStrike">
              <a:solidFill>
                <a:srgbClr val="ffffff"/>
              </a:solidFill>
              <a:latin typeface="Garamond"/>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En el caso de un establecimiento que sólo trabaje en un turno (almuerzo o cena), se estima que debe tener 1 trabajador por cada 16 cubiertos ofrecidos.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RESTUARANTES</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r>
              <a:rPr b="1" lang="es-ES_tradnl" sz="3200" spc="-1" strike="noStrike">
                <a:solidFill>
                  <a:srgbClr val="ffffff"/>
                </a:solidFill>
                <a:latin typeface="Garamond"/>
              </a:rPr>
              <a:t>SIN AMBIENTE CLIMATIZADO, SIN SALA DE ESPERA Y SIN VALET PARKING</a:t>
            </a:r>
            <a:endParaRPr b="0" lang="en-US" sz="32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En cambio, cuando el establecimiento trabaje en los dos turnos  (almuerzo y cena) la norma presume que debe tener 1 trabajador por cada 11 cubiertos ofrecidos.</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RESTUARANTE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r>
              <a:rPr b="1" lang="es-ES_tradnl" sz="3200" spc="-1" strike="noStrike">
                <a:solidFill>
                  <a:srgbClr val="ffffff"/>
                </a:solidFill>
                <a:latin typeface="Garamond"/>
              </a:rPr>
              <a:t>SIN AMBIENTE CLIMATIZADO, SIN SALA DE ESPERA Y SIN VALET PARKING</a:t>
            </a:r>
            <a:endParaRPr b="0" lang="en-US" sz="3200" spc="-1" strike="noStrike">
              <a:solidFill>
                <a:srgbClr val="ffffff"/>
              </a:solidFill>
              <a:latin typeface="Garamond"/>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Cuando el servicio ofrecido es autoservicio y el establecimiento trabaje un sólo turno se estima que debe haber 1 trabajador por cada 20 cubiertos ofrecidos.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RESTUARANTES</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r>
              <a:rPr b="1" lang="es-ES_tradnl" sz="3200" spc="-1" strike="noStrike">
                <a:solidFill>
                  <a:srgbClr val="ffffff"/>
                </a:solidFill>
                <a:latin typeface="Garamond"/>
              </a:rPr>
              <a:t>SIN AMBIENTE CLIMATIZADO, SIN SALA DE ESPERA Y SIN VALET PARKING</a:t>
            </a:r>
            <a:endParaRPr b="0" lang="en-US" sz="3200" spc="-1" strike="noStrike">
              <a:solidFill>
                <a:srgbClr val="ffffff"/>
              </a:solidFill>
              <a:latin typeface="Garamond"/>
            </a:endParaRPr>
          </a:p>
          <a:p>
            <a:pPr marL="597240" indent="-5972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Por último tratándose un establecimiento que trabaje los dos turnos revistiendo la calidad de autoservicio, se prevé que debe tener 1 trabajador por cada 14 cubiertos ofrecidos.</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RESTUARANTES</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CON AMBIENTE CLIMATIZADO Y SIN VALET PARKING</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uando el establecimiento  trabaje sólo un turno (almuerzo o cena), la norma aprecia que debe tener 1 trabajador por cada 14 cubiertos ofrecidos. </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n cambio, cuando el establecimiento trabaje en los dos turnos  (almuerzo y cena) se presume que debe tener 1 trabajador por cada 9 cubiertos ofrecidos.</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RESTUARANTES</a:t>
            </a: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CON AMBIENTE CLIMATIZADO Y SIN VALET PARKING</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uando el servicio ofrecido es autoservicio y el establecimiento trabaje un sólo turno se calcula que debe haber 1 trabajador por cada 18 cubiertos ofrecidos. </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or último tratándose un establecimiento que trabaje los dos turnos revistiendo la calidad de autoservicio, se prevé que debe tener 1 trabajador por cada 12 cubiertos ofrecidos.</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RESTUARANTES</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CON AMBIENTE CLIMATIZADO, CON SALA DE ESPERA Y CON VALET PARKING</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n el caso de un establecimiento que sólo trabaje en un turno (almuerzo o cena), se estima que debe tener 1 trabajador por cada 12 cubiertos ofrecidos. </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n cambio, cuando el establecimiento trabaje en los dos turnos  (almuerzo y cena) la norma presume que debe tener 1 trabajador por cada 8 cubiertos ofrecidos.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RESTUARANTE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CON AMBIENTE CLIMATIZADO, CON SALA DE ESPERA Y CON VALET PARKING</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uando el servicio ofrecido es autoservicio y el establecimiento trabaje un sólo turno se estima que debe haber 1 trabajador por cada 15 cubiertos ofrecidos. </a:t>
            </a:r>
            <a:endParaRPr b="0" lang="en-US" sz="2800" spc="-1" strike="noStrike">
              <a:solidFill>
                <a:srgbClr val="ffffff"/>
              </a:solidFill>
              <a:latin typeface="Garamond"/>
            </a:endParaRPr>
          </a:p>
          <a:p>
            <a:pPr marL="585000" indent="-5850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or último tratándose un establecimiento que trabaje los dos turnos revistiendo la calidad de autoservicio, se prevé que debe tener 1 trabajador por cada 10 cubiertos ofrecidos.</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Dto. 68/2011</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1" lang="es-AR" sz="3600" spc="-1" strike="noStrike">
                <a:solidFill>
                  <a:srgbClr val="ffffff"/>
                </a:solidFill>
                <a:latin typeface="Garamond"/>
              </a:rPr>
              <a:t>PRORROGA HASTA EL 31/12/2011 DE BENEFICIOS DE REDUCCION DE CONTRIBUCIONES SUSS</a:t>
            </a:r>
            <a:endParaRPr b="0" lang="en-US" sz="36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AUN NO SE ESTABLECIO LA FECHA EN QUE SE DEBE MANTENER LA NOMINA PARA NO PERDER EL</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RESTUARANTES</a:t>
            </a: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endParaRPr b="0" lang="en-US" sz="3200" spc="-1" strike="noStrike">
              <a:solidFill>
                <a:srgbClr val="ffffff"/>
              </a:solidFill>
              <a:latin typeface="Garamond"/>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r>
              <a:rPr b="1" lang="es-ES_tradnl" sz="3200" spc="-1" strike="noStrike">
                <a:solidFill>
                  <a:srgbClr val="ffffff"/>
                </a:solidFill>
                <a:latin typeface="Garamond"/>
              </a:rPr>
              <a:t>A efectos de proceder a la cuantificación de la deuda, la norma prevé que se compute como base remunerativa los salarios promedios dispuestos en el Convenio Colectivo de Trabajo Nº  389/04, para la categoría de mozo, correspondientes a cada periodo sujeto a determinación.</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ESTABLECIMIENTOS DE LA PROVINCIA DE BUENOS AIRES.</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MESES DE: mayo, junio, julio y agosto</a:t>
            </a:r>
            <a:r>
              <a:rPr b="0" lang="en-US" sz="3600" spc="-1" strike="noStrike">
                <a:solidFill>
                  <a:srgbClr val="ffffff"/>
                </a:solidFill>
                <a:latin typeface="Garamond"/>
              </a:rPr>
              <a:t> </a:t>
            </a:r>
            <a:r>
              <a:rPr b="1" lang="en-US" sz="3600" spc="-1" strike="noStrike">
                <a:solidFill>
                  <a:srgbClr val="ffffff"/>
                </a:solidFill>
                <a:latin typeface="Garamond"/>
              </a:rPr>
              <a:t>	</a:t>
            </a:r>
            <a:endParaRPr b="0" lang="en-US" sz="36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5 estrellas 0,68 trabajador por habitación </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4 estrellas 0,43 trabajador por habitación</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3 estrellas 0,26 trabajador por habitación</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2 estrellas 0,24 trabajador por habitación </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1 estrella 0,20 trabajador por habitación</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523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MESES DE: MARZO, ABRIL, SEPTIEMBRE, OCTUBRE, NOVIEMBRE Y DICIEMBRE</a:t>
            </a:r>
            <a:r>
              <a:rPr b="1" lang="en-US" sz="4000" spc="-1" strike="noStrike">
                <a:solidFill>
                  <a:srgbClr val="ffffff"/>
                </a:solidFill>
                <a:latin typeface="Garamond"/>
              </a:rPr>
              <a:t> </a:t>
            </a:r>
            <a:endParaRPr b="0" lang="en-US" sz="4000" spc="-1" strike="noStrike">
              <a:solidFill>
                <a:srgbClr val="ffffff"/>
              </a:solidFill>
              <a:latin typeface="Garamond"/>
            </a:endParaRPr>
          </a:p>
          <a:p>
            <a:pPr marL="523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523800" indent="-523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5 estrellas 0,80 trabajador por habitación </a:t>
            </a:r>
            <a:endParaRPr b="0" lang="en-US" sz="2400" spc="-1" strike="noStrike">
              <a:solidFill>
                <a:srgbClr val="ffffff"/>
              </a:solidFill>
              <a:latin typeface="Garamond"/>
            </a:endParaRPr>
          </a:p>
          <a:p>
            <a:pPr marL="523800" indent="-523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4 estrellas 0,50 trabajador por habitación</a:t>
            </a:r>
            <a:endParaRPr b="0" lang="en-US" sz="2400" spc="-1" strike="noStrike">
              <a:solidFill>
                <a:srgbClr val="ffffff"/>
              </a:solidFill>
              <a:latin typeface="Garamond"/>
            </a:endParaRPr>
          </a:p>
          <a:p>
            <a:pPr marL="523800" indent="-523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3 estrellas 0,31 trabajador por habitación</a:t>
            </a:r>
            <a:endParaRPr b="0" lang="en-US" sz="2400" spc="-1" strike="noStrike">
              <a:solidFill>
                <a:srgbClr val="ffffff"/>
              </a:solidFill>
              <a:latin typeface="Garamond"/>
            </a:endParaRPr>
          </a:p>
          <a:p>
            <a:pPr marL="523800" indent="-523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2 estrellas 0,28 trabajador por habitación </a:t>
            </a:r>
            <a:endParaRPr b="0" lang="en-US" sz="2400" spc="-1" strike="noStrike">
              <a:solidFill>
                <a:srgbClr val="ffffff"/>
              </a:solidFill>
              <a:latin typeface="Garamond"/>
            </a:endParaRPr>
          </a:p>
          <a:p>
            <a:pPr marL="523800" indent="-523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1 estrella 0,24 trabajador por habitación</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548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MESES DE: </a:t>
            </a:r>
            <a:r>
              <a:rPr b="1" lang="en-US" sz="3600" spc="-1" strike="noStrike">
                <a:solidFill>
                  <a:srgbClr val="ffffff"/>
                </a:solidFill>
                <a:latin typeface="Garamond"/>
              </a:rPr>
              <a:t>ENERO Y FEBRERO</a:t>
            </a:r>
            <a:r>
              <a:rPr b="0" lang="en-US" sz="2800" spc="-1" strike="noStrike">
                <a:solidFill>
                  <a:srgbClr val="ffffff"/>
                </a:solidFill>
                <a:latin typeface="Garamond"/>
              </a:rPr>
              <a:t> </a:t>
            </a:r>
            <a:endParaRPr b="0" lang="en-US" sz="2800" spc="-1" strike="noStrike">
              <a:solidFill>
                <a:srgbClr val="ffffff"/>
              </a:solidFill>
              <a:latin typeface="Garamond"/>
            </a:endParaRPr>
          </a:p>
          <a:p>
            <a:pPr marL="548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548280" indent="-548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5 estrellas 0,92 trabajador por Habitación </a:t>
            </a:r>
            <a:endParaRPr b="0" lang="en-US" sz="2400" spc="-1" strike="noStrike">
              <a:solidFill>
                <a:srgbClr val="ffffff"/>
              </a:solidFill>
              <a:latin typeface="Garamond"/>
            </a:endParaRPr>
          </a:p>
          <a:p>
            <a:pPr marL="548280" indent="-548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4 estrellas 0,58 trabajador por habitación</a:t>
            </a:r>
            <a:endParaRPr b="0" lang="en-US" sz="2400" spc="-1" strike="noStrike">
              <a:solidFill>
                <a:srgbClr val="ffffff"/>
              </a:solidFill>
              <a:latin typeface="Garamond"/>
            </a:endParaRPr>
          </a:p>
          <a:p>
            <a:pPr marL="548280" indent="-548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3 estrellas 0,36 trabajador por habitación</a:t>
            </a:r>
            <a:endParaRPr b="0" lang="en-US" sz="2400" spc="-1" strike="noStrike">
              <a:solidFill>
                <a:srgbClr val="ffffff"/>
              </a:solidFill>
              <a:latin typeface="Garamond"/>
            </a:endParaRPr>
          </a:p>
          <a:p>
            <a:pPr marL="548280" indent="-548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2 estrellas 0,32 trabajador por habitación </a:t>
            </a:r>
            <a:endParaRPr b="0" lang="en-US" sz="2400" spc="-1" strike="noStrike">
              <a:solidFill>
                <a:srgbClr val="ffffff"/>
              </a:solidFill>
              <a:latin typeface="Garamond"/>
            </a:endParaRPr>
          </a:p>
          <a:p>
            <a:pPr marL="548280" indent="-548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1 estrella 0,28 trabajador por habitación</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ESTABLECIMIENTOS DE LA PROVINCIA DE CORDOBA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MESES DE: </a:t>
            </a:r>
            <a:r>
              <a:rPr b="1" lang="en-US" sz="3600" spc="-1" strike="noStrike">
                <a:solidFill>
                  <a:srgbClr val="ffffff"/>
                </a:solidFill>
                <a:latin typeface="Garamond"/>
              </a:rPr>
              <a:t>ABRIL, MAYO, AGOSTO, SEPTIEMBRE Y OCTUBRE</a:t>
            </a:r>
            <a:r>
              <a:rPr b="0" lang="en-US" sz="2400" spc="-1" strike="noStrike">
                <a:solidFill>
                  <a:srgbClr val="ffffff"/>
                </a:solidFill>
                <a:latin typeface="Garamond"/>
              </a:rPr>
              <a:t> </a:t>
            </a:r>
            <a:endParaRPr b="0" lang="en-US" sz="2400" spc="-1" strike="noStrike">
              <a:solidFill>
                <a:srgbClr val="ffffff"/>
              </a:solidFill>
              <a:latin typeface="Garamond"/>
            </a:endParaRPr>
          </a:p>
          <a:p>
            <a:pPr marL="560520" indent="-560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5 estrellas 0,68 trabajador por habitación </a:t>
            </a:r>
            <a:endParaRPr b="0" lang="en-US" sz="2400" spc="-1" strike="noStrike">
              <a:solidFill>
                <a:srgbClr val="ffffff"/>
              </a:solidFill>
              <a:latin typeface="Garamond"/>
            </a:endParaRPr>
          </a:p>
          <a:p>
            <a:pPr marL="560520" indent="-560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4 estrellas 0,43 trabajador por habitación</a:t>
            </a:r>
            <a:endParaRPr b="0" lang="en-US" sz="2400" spc="-1" strike="noStrike">
              <a:solidFill>
                <a:srgbClr val="ffffff"/>
              </a:solidFill>
              <a:latin typeface="Garamond"/>
            </a:endParaRPr>
          </a:p>
          <a:p>
            <a:pPr marL="560520" indent="-560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3 estrellas 0,26 trabajador por habitación</a:t>
            </a:r>
            <a:endParaRPr b="0" lang="en-US" sz="2400" spc="-1" strike="noStrike">
              <a:solidFill>
                <a:srgbClr val="ffffff"/>
              </a:solidFill>
              <a:latin typeface="Garamond"/>
            </a:endParaRPr>
          </a:p>
          <a:p>
            <a:pPr marL="560520" indent="-560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2 estrellas 0,24 trabajador por habitación </a:t>
            </a:r>
            <a:endParaRPr b="0" lang="en-US" sz="2400" spc="-1" strike="noStrike">
              <a:solidFill>
                <a:srgbClr val="ffffff"/>
              </a:solidFill>
              <a:latin typeface="Garamond"/>
            </a:endParaRPr>
          </a:p>
          <a:p>
            <a:pPr marL="560520" indent="-560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1 estrella 0,20 trabajador por habitación</a:t>
            </a:r>
            <a:r>
              <a:rPr b="0"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MESES DE: </a:t>
            </a:r>
            <a:r>
              <a:rPr b="1" lang="en-US" sz="3200" spc="-1" strike="noStrike">
                <a:solidFill>
                  <a:srgbClr val="ffffff"/>
                </a:solidFill>
                <a:latin typeface="Garamond"/>
              </a:rPr>
              <a:t>MARZO, JUNIO, JULIO, NOVIEMBRE Y DICIEMBRE</a:t>
            </a:r>
            <a:endParaRPr b="0" lang="en-US" sz="3200" spc="-1" strike="noStrike">
              <a:solidFill>
                <a:srgbClr val="ffffff"/>
              </a:solidFill>
              <a:latin typeface="Garamond"/>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5 estrellas 0,80 trabajador por habitación </a:t>
            </a:r>
            <a:endParaRPr b="0" lang="en-US" sz="2400" spc="-1" strike="noStrike">
              <a:solidFill>
                <a:srgbClr val="ffffff"/>
              </a:solidFill>
              <a:latin typeface="Garamond"/>
            </a:endParaRPr>
          </a:p>
          <a:p>
            <a:pPr marL="560520" indent="-560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4 estrellas 0,50 trabajador por habitación</a:t>
            </a:r>
            <a:endParaRPr b="0" lang="en-US" sz="2400" spc="-1" strike="noStrike">
              <a:solidFill>
                <a:srgbClr val="ffffff"/>
              </a:solidFill>
              <a:latin typeface="Garamond"/>
            </a:endParaRPr>
          </a:p>
          <a:p>
            <a:pPr marL="560520" indent="-560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3 estrellas 0,31 trabajador por habitación</a:t>
            </a:r>
            <a:endParaRPr b="0" lang="en-US" sz="2400" spc="-1" strike="noStrike">
              <a:solidFill>
                <a:srgbClr val="ffffff"/>
              </a:solidFill>
              <a:latin typeface="Garamond"/>
            </a:endParaRPr>
          </a:p>
          <a:p>
            <a:pPr marL="560520" indent="-560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2 estrellas 0,28 trabajador por habitación </a:t>
            </a:r>
            <a:endParaRPr b="0" lang="en-US" sz="2400" spc="-1" strike="noStrike">
              <a:solidFill>
                <a:srgbClr val="ffffff"/>
              </a:solidFill>
              <a:latin typeface="Garamond"/>
            </a:endParaRPr>
          </a:p>
          <a:p>
            <a:pPr marL="560520" indent="-560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1 estrella 0,24 trabajador por habitación</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MESES DE: </a:t>
            </a:r>
            <a:r>
              <a:rPr b="1" lang="en-US" sz="3600" spc="-1" strike="noStrike">
                <a:solidFill>
                  <a:srgbClr val="ffffff"/>
                </a:solidFill>
                <a:latin typeface="Garamond"/>
              </a:rPr>
              <a:t>ENERO Y FEBRERO</a:t>
            </a:r>
            <a:endParaRPr b="0" lang="en-US" sz="36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teles de 5 estrellas 0,92 trabajador por habitación </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teles de 4 estrellas 0,58 trabajador por habitación</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teles de 3 estrellas 0,36 trabajador por habitación</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teles de 2 estrellas 0,32 trabajador por habitación </a:t>
            </a:r>
            <a:endParaRPr b="0" lang="en-US" sz="2800" spc="-1" strike="noStrike">
              <a:solidFill>
                <a:srgbClr val="ffffff"/>
              </a:solidFill>
              <a:latin typeface="Garamond"/>
            </a:endParaRPr>
          </a:p>
          <a:p>
            <a:pPr marL="609480" indent="-60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oteles de 1 estrella 0,28 trabajador por habitació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ESTABLECIMIENTOS DE LA PROVINCIAS  DE  LA PAMPA, NEUQUÉN, RÍO NEGRO, CHUBUT, SANTA CRUZ Y TIERRA DEL FUEGO</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R. 18/2011- IERIC</a:t>
            </a:r>
            <a:endParaRPr b="1" lang="en-US" sz="6000" spc="-1" strike="noStrike">
              <a:solidFill>
                <a:srgbClr val="e5e5ff"/>
              </a:solidFill>
              <a:latin typeface="Garamond"/>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8/03/11</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MESES DE: </a:t>
            </a:r>
            <a:r>
              <a:rPr b="1" lang="en-US" sz="3200" spc="-1" strike="noStrike">
                <a:solidFill>
                  <a:srgbClr val="ffffff"/>
                </a:solidFill>
                <a:latin typeface="Garamond"/>
              </a:rPr>
              <a:t>MAYO, JUNIO, SEPTIEMBRE Y OCTUBRE</a:t>
            </a:r>
            <a:r>
              <a:rPr b="0" lang="en-US" sz="2400" spc="-1" strike="noStrike">
                <a:solidFill>
                  <a:srgbClr val="ffffff"/>
                </a:solidFill>
                <a:latin typeface="Garamond"/>
              </a:rPr>
              <a:t> </a:t>
            </a:r>
            <a:endParaRPr b="0" lang="en-US" sz="2400" spc="-1" strike="noStrike">
              <a:solidFill>
                <a:srgbClr val="ffffff"/>
              </a:solidFill>
              <a:latin typeface="Garamond"/>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66640" indent="-566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5 estrellas 0,68 trabajador por habitación </a:t>
            </a:r>
            <a:endParaRPr b="0" lang="en-US" sz="2400" spc="-1" strike="noStrike">
              <a:solidFill>
                <a:srgbClr val="ffffff"/>
              </a:solidFill>
              <a:latin typeface="Garamond"/>
            </a:endParaRPr>
          </a:p>
          <a:p>
            <a:pPr marL="566640" indent="-566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4 estrellas 0,43 trabajador por habitación</a:t>
            </a:r>
            <a:endParaRPr b="0" lang="en-US" sz="2400" spc="-1" strike="noStrike">
              <a:solidFill>
                <a:srgbClr val="ffffff"/>
              </a:solidFill>
              <a:latin typeface="Garamond"/>
            </a:endParaRPr>
          </a:p>
          <a:p>
            <a:pPr marL="566640" indent="-566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3 estrellas 0,26 trabajador por habitación</a:t>
            </a:r>
            <a:endParaRPr b="0" lang="en-US" sz="2400" spc="-1" strike="noStrike">
              <a:solidFill>
                <a:srgbClr val="ffffff"/>
              </a:solidFill>
              <a:latin typeface="Garamond"/>
            </a:endParaRPr>
          </a:p>
          <a:p>
            <a:pPr marL="566640" indent="-566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2 estrellas 0,24 trabajador por habitación </a:t>
            </a:r>
            <a:endParaRPr b="0" lang="en-US" sz="2400" spc="-1" strike="noStrike">
              <a:solidFill>
                <a:srgbClr val="ffffff"/>
              </a:solidFill>
              <a:latin typeface="Garamond"/>
            </a:endParaRPr>
          </a:p>
          <a:p>
            <a:pPr marL="566640" indent="-566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oteles de 1 estrella 0,20 trabajador por habitación</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Garamond"/>
              </a:rPr>
              <a:t>MESES DE: </a:t>
            </a:r>
            <a:r>
              <a:rPr b="1" lang="es-ES_tradnl" sz="2400" spc="-1" strike="noStrike">
                <a:solidFill>
                  <a:srgbClr val="ffffff"/>
                </a:solidFill>
                <a:latin typeface="Garamond"/>
              </a:rPr>
              <a:t>ABRIL Y NOVIEMBRE</a:t>
            </a:r>
            <a:endParaRPr b="0" lang="en-US" sz="2400" spc="-1" strike="noStrike">
              <a:solidFill>
                <a:srgbClr val="ffffff"/>
              </a:solidFill>
              <a:latin typeface="Garamond"/>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Hoteles de 5 estrellas 0,80 trabajador por habitación </a:t>
            </a:r>
            <a:endParaRPr b="0" lang="en-US" sz="2400" spc="-1" strike="noStrike">
              <a:solidFill>
                <a:srgbClr val="ffffff"/>
              </a:solidFill>
              <a:latin typeface="Garamond"/>
            </a:endParaRPr>
          </a:p>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Hoteles de 4 estrellas 0,50 trabajador por habitación</a:t>
            </a:r>
            <a:endParaRPr b="0" lang="en-US" sz="2400" spc="-1" strike="noStrike">
              <a:solidFill>
                <a:srgbClr val="ffffff"/>
              </a:solidFill>
              <a:latin typeface="Garamond"/>
            </a:endParaRPr>
          </a:p>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Hoteles de 3 estrellas 0,31 trabajador por habitación</a:t>
            </a:r>
            <a:endParaRPr b="0" lang="en-US" sz="2400" spc="-1" strike="noStrike">
              <a:solidFill>
                <a:srgbClr val="ffffff"/>
              </a:solidFill>
              <a:latin typeface="Garamond"/>
            </a:endParaRPr>
          </a:p>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Hoteles de 2 estrellas 0,28 trabajador por habitación </a:t>
            </a:r>
            <a:endParaRPr b="0" lang="en-US" sz="2400" spc="-1" strike="noStrike">
              <a:solidFill>
                <a:srgbClr val="ffffff"/>
              </a:solidFill>
              <a:latin typeface="Garamond"/>
            </a:endParaRPr>
          </a:p>
          <a:p>
            <a:pPr marL="578880" indent="-578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Hoteles de 1 estrella 0,24 trabajador por habitación</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Garamond"/>
              </a:rPr>
              <a:t>MESES DE: </a:t>
            </a:r>
            <a:r>
              <a:rPr b="1" lang="es-ES_tradnl" sz="3200" spc="-1" strike="noStrike">
                <a:solidFill>
                  <a:srgbClr val="ffffff"/>
                </a:solidFill>
                <a:latin typeface="Garamond"/>
              </a:rPr>
              <a:t>ENERO, FEBRERO, MARZO, JULIO, AGOSTO Y DICIEMBRE </a:t>
            </a:r>
            <a:endParaRPr b="0" lang="en-US" sz="3200" spc="-1" strike="noStrike">
              <a:solidFill>
                <a:srgbClr val="ffffff"/>
              </a:solidFill>
              <a:latin typeface="Garamond"/>
            </a:endParaRPr>
          </a:p>
          <a:p>
            <a:pPr marL="536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Hoteles de 5 estrellas 0,92 trabajador por habitación </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Hoteles de 4 estrellas 0,58 trabajador por habitación</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Hoteles de 3 estrellas 0,36 trabajador por habitación</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Hoteles de 2 estrellas 0,32 trabajador por habitación </a:t>
            </a:r>
            <a:endParaRPr b="0" lang="en-US" sz="2400" spc="-1" strike="noStrike">
              <a:solidFill>
                <a:srgbClr val="ffffff"/>
              </a:solidFill>
              <a:latin typeface="Garamond"/>
            </a:endParaRPr>
          </a:p>
          <a:p>
            <a:pPr marL="536040" indent="-536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Hoteles de 1 estrella 0,28 trabajador por habitación</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ESTABLECIMIENTOS  UBICADOS EN EL RESTO DEL PAIS Y SIN IMPORTAR LOS MESES</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Hoteles de 5 estrellas 0,80 trabajador por habitación </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Hoteles de 4 estrellas 0,50 trabajador por habitació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Hoteles de 3 estrellas 0,31 trabajador por habitació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Hoteles de 2 estrellas 0,28 trabajador por habitación </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Hoteles de 1 estrella 0,24 trabajador por habitació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r>
              <a:rPr b="1" lang="es-ES_tradnl" sz="4000" spc="-1" strike="noStrike">
                <a:solidFill>
                  <a:srgbClr val="ffffff"/>
                </a:solidFill>
                <a:latin typeface="Garamond"/>
              </a:rPr>
              <a:t>Los establecimientos que no cuenten con clasificación (estrellas) o con la habilitación formal como hotel, se considerara como IMT el equivalente a 0,80 trabajador por habitación.</a:t>
            </a:r>
            <a:r>
              <a:rPr b="0" lang="es-ES_tradnl" sz="4000" spc="-1" strike="noStrike">
                <a:solidFill>
                  <a:srgbClr val="ffffff"/>
                </a:solidFill>
                <a:latin typeface="Garamond"/>
              </a:rPr>
              <a:t>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ACT  HOTELERA</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r>
              <a:rPr b="1" lang="es-ES_tradnl" sz="3200" spc="-1" strike="noStrike">
                <a:solidFill>
                  <a:srgbClr val="ffffff"/>
                </a:solidFill>
                <a:latin typeface="Garamond"/>
              </a:rPr>
              <a:t>En relación  a la base remuneratoria para determinar la supuesta deuda no declarada, se debe considerar el salario promedio general para hoteles de 4 estrellas fijado en el Convenio Colectivo N° 389/04 correspondiente a la zona del establecimiento, vigentes para cada período objeto del ajuste.</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600" spc="-1" strike="noStrike">
                <a:solidFill>
                  <a:srgbClr val="ffffff"/>
                </a:solidFill>
                <a:latin typeface="Garamond"/>
              </a:rPr>
              <a:t>ACTIVIDAD TURISMO </a:t>
            </a:r>
            <a:endParaRPr b="0" lang="en-US" sz="3600" spc="-1" strike="noStrike">
              <a:solidFill>
                <a:srgbClr val="ffffff"/>
              </a:solidFill>
              <a:latin typeface="Garamond"/>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STUDIANTIL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TURISMO ESTUD</a:t>
            </a: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ERSONAL AUXILIAR –TURISTICO </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ra viajes de hasta 2 días máximo de duración, 1 trabajador por cada 240 pasajeros transportados por mes. </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ra viajes superiores a 2 días y que no superen los 6 días, 1 trabajador por cada 140 pasajeros transportados por mes.   </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ra el resto de los viajes  1 trabajador por cada 55 pasajeros transportados por mes.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TURISMO ESTUD</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ERSONAL ADMINISTRATIVO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1 trabajador cada 1.100 pasajeros transportados por año.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1" lang="es-ES_tradnl" sz="2800" spc="-1" strike="noStrike">
                <a:solidFill>
                  <a:srgbClr val="ffffff"/>
                </a:solidFill>
                <a:latin typeface="Garamond"/>
              </a:rPr>
              <a:t>A los efectos de estimar la supuesta deuda, se debe computar como remuneración el promedio mensual de las remuneraciones básicas fijadas por el Convenio Colectivo N° 547/08 para las categorías de “Auxiliar de Primera” y “Administrativo de Primera Categoría”, vigentes en cada periodo sujeto a ajuste.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 18/2011 - IERIC</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PRORROGA LA VIGENCIA HASTA 13/03/13 DE LAS LIBRETAS DEL FONDO DE DESEMPLEO </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   </a:t>
            </a:r>
            <a:r>
              <a:rPr b="1" lang="es-AR" sz="3200" spc="-1" strike="noStrike">
                <a:solidFill>
                  <a:srgbClr val="ffffff"/>
                </a:solidFill>
                <a:latin typeface="Garamond"/>
              </a:rPr>
              <a:t>TODAS LAS RELACIONES LABORALES QUE SE INICIEN A PARTIR ABRIL DE 2011, SE DEBERÁ GESTIONAR LAS NUEVAS CREDENCIALES –R 16/2009 </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endParaRPr b="0" lang="en-US" sz="3200" spc="-1" strike="noStrike">
              <a:solidFill>
                <a:srgbClr val="ffffff"/>
              </a:solidFill>
              <a:latin typeface="Garamond"/>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r>
              <a:rPr b="1" lang="es-ES_tradnl" sz="3600" spc="-1" strike="noStrike">
                <a:solidFill>
                  <a:srgbClr val="ffffff"/>
                </a:solidFill>
                <a:latin typeface="Garamond"/>
              </a:rPr>
              <a:t>ACTIVIDAD  TEXTIL  </a:t>
            </a:r>
            <a:endParaRPr b="0" lang="en-US" sz="3600" spc="-1" strike="noStrike">
              <a:solidFill>
                <a:srgbClr val="ffffff"/>
              </a:solidFill>
              <a:latin typeface="Garamond"/>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Garamond"/>
              </a:rPr>
              <a:t>CONFECCIÓN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 CONFECCION </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 Según máquinas, se estima que por cada máquina debe haber contratado 1,25 trabajado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b) Según kilowats, se calcula que por cada 56 kilowats mensuales consumidos debe haber contratados 1 trabajador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 CONFECCION </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c) Según la producción, se estima que por día de 8 horas debe un trabajador confecciona: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50 remeras de algodón o sintéticas, con cuello redondo o en v</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17 camisas o chombas o blusas</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40 buzos sin cierre, con cuello redondo o en v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40 pantalanes tipo joggins</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40 calzas</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 CONFECCION </a:t>
            </a: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 Según la producción, se estima que por día de 8 horas debe un trabajador confecciona: </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17 pantalones de jeans en tela Denia</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9 camperas</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20 pantalones de hombre de tela planas y/o garbaditas</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25 prendas cuando se verifica confección en forma mixta o conjunta de remeras, camisas, chombas, pantalones de jeans, pantalones de hombre, camperas, calzas, buzos, joggins, pijamas etc. </a:t>
            </a:r>
            <a:endParaRPr b="0" lang="en-US" sz="2800" spc="-1" strike="noStrike">
              <a:solidFill>
                <a:srgbClr val="ffffff"/>
              </a:solidFill>
              <a:latin typeface="Garamond"/>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 CONFECCION </a:t>
            </a: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 efectos de proceder a la cuantificación de la deuda, la norma prevé que se compute como base remunerativa los salarios promedios dispuestos en el Convenio Colectivo de Trabajo Nº 544/08, para las categorías oficial calificado/ medio oficial., correspondientes a cada periodo sujeto a determinación.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a:t>
            </a:r>
            <a:endParaRPr b="1" lang="en-US" sz="4400" spc="-1" strike="noStrike">
              <a:solidFill>
                <a:srgbClr val="e5e5ff"/>
              </a:solidFill>
              <a:latin typeface="Garamond"/>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endParaRPr b="0" lang="en-US" sz="3200" spc="-1" strike="noStrike">
              <a:solidFill>
                <a:srgbClr val="ffffff"/>
              </a:solidFill>
              <a:latin typeface="Garamond"/>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	</a:t>
            </a:r>
            <a:r>
              <a:rPr b="1" lang="es-ES_tradnl" sz="3600" spc="-1" strike="noStrike">
                <a:solidFill>
                  <a:srgbClr val="ffffff"/>
                </a:solidFill>
                <a:latin typeface="Garamond"/>
              </a:rPr>
              <a:t>ACTIVIDAD  GANADERA   </a:t>
            </a:r>
            <a:endParaRPr b="0" lang="en-US" sz="3600" spc="-1" strike="noStrike">
              <a:solidFill>
                <a:srgbClr val="ffffff"/>
              </a:solidFill>
              <a:latin typeface="Garamond"/>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Garamond"/>
              </a:rPr>
              <a:t>FEEF  LOT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 ACT FEEF  LOT</a:t>
            </a: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sta 2000 cabezas se requiere que haya 3 trabajadores.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sde 2001 a 8000 cabezas se requiere 3 trabajadores por las 2000 cabezas más 1 trabajador por cada 1000 cabezas.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sde 8001 a 16000 cabezas, es necesario 9 trabajadores más 1 trabajador por cada 1250 cabezas después de las 8000 cabezas.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 16001 cabezas en adelante , resulta necesario contar con 15 trabajadores por las 16000 cabezas más 1 trabajador  por cada 1650 cabezas que exceden las 16000.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 ACT FEEF  LOT</a:t>
            </a:r>
            <a:endParaRPr b="1" lang="en-US" sz="4400" spc="-1" strike="noStrike">
              <a:solidFill>
                <a:srgbClr val="e5e5ff"/>
              </a:solidFill>
              <a:latin typeface="Garamond"/>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Luego de estimar la cantidad de trabajadores mínimos a los fines de determinar la base imponible omitida de declarar se utilizarán las remuneraciones que resulten ser el promedio de las categorías de encargado, capataz y peón especializado, que determine la Comisión Nacional de Trabajo Agrario para la actividad, para cada periodo.</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a:t>
            </a:r>
            <a:endParaRPr b="1" lang="en-US" sz="4400" spc="-1" strike="noStrike">
              <a:solidFill>
                <a:srgbClr val="e5e5ff"/>
              </a:solidFill>
              <a:latin typeface="Garamond"/>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600" spc="-1" strike="noStrike">
                <a:solidFill>
                  <a:srgbClr val="ffffff"/>
                </a:solidFill>
                <a:latin typeface="Garamond"/>
              </a:rPr>
              <a:t>ACTIVIDAD   MODELAJE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e5e5ff"/>
                </a:solidFill>
                <a:latin typeface="Garamond"/>
              </a:rPr>
              <a:t>R. 35550/2011</a:t>
            </a:r>
            <a:br>
              <a:rPr sz="5400"/>
            </a:br>
            <a:r>
              <a:rPr b="1" lang="es-AR" sz="5400" spc="-1" strike="noStrike">
                <a:solidFill>
                  <a:srgbClr val="e5e5ff"/>
                </a:solidFill>
                <a:latin typeface="Garamond"/>
              </a:rPr>
              <a:t>SUPERTENDENCIA DE SEGUROS</a:t>
            </a:r>
            <a:br>
              <a:rPr sz="5400"/>
            </a:br>
            <a:endParaRPr b="1" lang="en-US" sz="5400" spc="-1" strike="noStrike">
              <a:solidFill>
                <a:srgbClr val="e5e5ff"/>
              </a:solidFill>
              <a:latin typeface="Garamond"/>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Garamond"/>
              </a:rPr>
              <a:t>SEGURO COMPLEMENTARIO ART </a:t>
            </a:r>
            <a:endParaRPr b="0" lang="en-US" sz="3600" spc="-1" strike="noStrike">
              <a:solidFill>
                <a:srgbClr val="ffffff"/>
              </a:solidFill>
              <a:latin typeface="Garamond"/>
            </a:endParaRPr>
          </a:p>
        </p:txBody>
      </p:sp>
      <p:sp>
        <p:nvSpPr>
          <p:cNvPr id="4" name="PlaceHolder 3"/>
          <p:cNvSpPr>
            <a:spLocks noGrp="1"/>
          </p:cNvSpPr>
          <p:nvPr>
            <p:ph type="ftr" idx="5"/>
          </p:nvPr>
        </p:nvSpPr>
        <p:spPr/>
        <p:txBody>
          <a:bodyPr/>
          <a:p>
            <a:r>
              <a:t>Dra. Monica Ramon  - 28/03/11</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 MODELAJE</a:t>
            </a:r>
            <a:endParaRPr b="1" lang="en-US" sz="4400" spc="-1" strike="noStrike">
              <a:solidFill>
                <a:srgbClr val="e5e5ff"/>
              </a:solidFill>
              <a:latin typeface="Garamond"/>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Los IMT son para desfiles que no sean considerados de alta costura/o alta moda, que se desarrolle en locales, discotecas, bares, clubes, o cualquier evento privado, fijando que el desfile es por 1 día se dispone</a:t>
            </a:r>
            <a:endParaRPr b="0" lang="en-US" sz="3200" spc="-1" strike="noStrike">
              <a:solidFill>
                <a:srgbClr val="ffffff"/>
              </a:solidFill>
              <a:latin typeface="Garamond"/>
            </a:endParaRPr>
          </a:p>
          <a:p>
            <a:pPr marL="329040" indent="-329040" algn="just">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modelos por desfiles, que harán 3 pasadas cada una.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 – MODELAJE</a:t>
            </a: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 los efectos de estimar las bases imponibles se computarán las remuneraciones de los art. 13 y 15 del Convenio Colectivo N° 540/08, para la categoría B “individual”. A esta suma se le adicionará en 20% en concepto de viáticos si la modelo tiene su lugar de residencia a más de 60 km del lugar del desfile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38-</a:t>
            </a:r>
            <a:endParaRPr b="1" lang="en-US" sz="44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600" spc="-1" strike="noStrike">
                <a:solidFill>
                  <a:srgbClr val="ffffff"/>
                </a:solidFill>
                <a:latin typeface="Garamond"/>
              </a:rPr>
              <a:t>ACTIVIDAD   CITRICOLA  </a:t>
            </a:r>
            <a:endParaRPr b="0" lang="en-US" sz="3600" spc="-1" strike="noStrike">
              <a:solidFill>
                <a:srgbClr val="ffffff"/>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RG 3038 –CITRICOLA- LIMONES</a:t>
            </a:r>
            <a:endParaRPr b="1" lang="en-US" sz="4000" spc="-1" strike="noStrike">
              <a:solidFill>
                <a:srgbClr val="e5e5ff"/>
              </a:solidFill>
              <a:latin typeface="Garamond"/>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requieren de 12,84 jornales anuales por hectárea de producción,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requieren 1,66 jornales anuales por cada tonelada cosechada o 57,26 jornales anuales por cada hectárea cosechada,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requieren 1,86 jornales por cada pallets exportado (siendo el pallets equivalente a 1,2 toneladas).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e5e5ff"/>
                </a:solidFill>
                <a:latin typeface="Garamond"/>
              </a:rPr>
              <a:t>RG 3038 –CITRICOLA- NARANJAS Y MANDARINAS </a:t>
            </a:r>
            <a:endParaRPr b="1" lang="en-US" sz="4000" spc="-1" strike="noStrike">
              <a:solidFill>
                <a:srgbClr val="e5e5ff"/>
              </a:solidFill>
              <a:latin typeface="Garamond"/>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 requieren de 1 jornal por cada 2 toneladas mensual para el mercado interno,  </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 requieren 1 jornal por cada 1,5 toneladas mensual para el mercado externo,</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 los casos que se carezca de la producción o la AFIP cuestione la producción declarada se considerará que cada hectárea produce 20 toneladas al año.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 35550 .S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Garamond"/>
              </a:rPr>
              <a:t>	</a:t>
            </a:r>
            <a:r>
              <a:rPr b="1" lang="es-ES" sz="4000" spc="-1" strike="noStrike">
                <a:solidFill>
                  <a:srgbClr val="ffffff"/>
                </a:solidFill>
                <a:latin typeface="Garamond"/>
              </a:rPr>
              <a:t>Seguro de Responsabilidad Civil por Accidentes de Trabajo y Enfermedades Profesionales</a:t>
            </a:r>
            <a:r>
              <a:rPr b="0" lang="es-ES" sz="4000" spc="-1" strike="noStrike">
                <a:solidFill>
                  <a:srgbClr val="ffffff"/>
                </a:solidFill>
                <a:latin typeface="Garamond"/>
              </a:rPr>
              <a:t>", en exceso a los riesgos amparados por la Ley 24.557, en respuesta a la cantidad considerables de reclamos por accidentes laborales que en la vía civil.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 35550 .SS - INQUIETUD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La nueva póliza solo cubriría los accidentes laborales y enfermedades profesionales descriptas en el artículo 6° de la Ley de Riesgo de Trabajo. </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	</a:t>
            </a:r>
            <a:r>
              <a:rPr b="1" lang="es-ES" sz="2800" spc="-1" strike="noStrike">
                <a:solidFill>
                  <a:srgbClr val="ffffff"/>
                </a:solidFill>
                <a:latin typeface="Garamond"/>
              </a:rPr>
              <a:t>Por lo cual, se considera que se encontrarán cubiertas solo las enfermedades profesionales listadas en la normativa de riesgo del trabajo, no contando el empleador cobertura en el caso de reclamos judiciales por enfermedades profesionales no listadas. </a:t>
            </a:r>
            <a:endParaRPr b="0" lang="en-US" sz="2800" spc="-1" strike="noStrike">
              <a:solidFill>
                <a:srgbClr val="ffffff"/>
              </a:solidFill>
              <a:latin typeface="Garamond"/>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8/03/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17:17:51Z</dcterms:created>
  <dc:creator>WinuE</dc:creator>
  <dc:description/>
  <dc:language>en-US</dc:language>
  <cp:lastModifiedBy>LeMonique</cp:lastModifiedBy>
  <dcterms:modified xsi:type="dcterms:W3CDTF">2011-03-25T21:17:42Z</dcterms:modified>
  <cp:revision>68</cp:revision>
  <dc:subject/>
  <dc:title>NOVEDADES   </dc:title>
</cp:coreProperties>
</file>