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71852-F7F2-4F29-B43D-79ADF1FC349D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28AC9-5E68-434A-B644-1EB539F32B60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99F3F-206F-4C76-884F-A268947AF366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D9CE1-1332-4D4B-81EA-AC1D148FFAC3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C57AE-CEF3-4A39-919D-88885118BB62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BB6D0-CCE5-4967-85E7-4DBCFF207CF4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74B9E-8B2B-4142-A8B4-3EE24A7E1DFC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64ADF-023E-4F65-8E7C-DE3D977E1ABE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BCC5F-D2BC-4B21-9003-DA1A1C8AB4FB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9DB4E-308C-466C-B31A-41C4F537D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87639-75C1-4C38-9E6B-6A7A8A8F1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88120-494A-4200-B958-934ED6B44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85ADF-1015-4D02-ADDF-0BDC25DAB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94E81-A6DB-475D-B7E7-09DC4B96E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0553A-7921-42D7-B015-A0F8FEF92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F537E-5422-4DB0-B179-4D81B60BA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4B100-37B8-4009-8111-379172D84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D311C-0F93-4502-A0D6-0000E9543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36D57-32BB-4128-AB38-AF94912C9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44C92-A5AA-4D3E-83E1-8443D8DF9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08762-D25F-40C9-A0BE-6701A4082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88CE9-1E2B-4399-903B-D55F523DA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589A1-AE06-4EC0-A39D-150F1CA58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E5AB9-FC9B-46B9-B3CE-E658B59D6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CB548-2E5A-4D13-AECF-1F0D2CD78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28C3C-5ADB-45CC-84CE-A1A038893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8521A-657F-4042-91D9-8CE8AA787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E0CE7-065F-41E6-91C7-BA3DC59B7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470C1-1F20-4740-ACBF-720DDB043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2899D-4330-4488-AA0C-A5BBE635B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046FF-65AE-4A6F-873E-DCBC204F1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CAC74-3CDF-4F65-9C09-BF9BA0107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0407B-95E1-43D7-96D3-0B2D135A6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5B902-1997-4C06-AEE6-EA953F11C5A1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image001"/>
          <p:cNvPicPr/>
          <p:nvPr/>
        </p:nvPicPr>
        <p:blipFill>
          <a:blip r:embed="rId2"/>
          <a:stretch/>
        </p:blipFill>
        <p:spPr>
          <a:xfrm>
            <a:off x="0" y="0"/>
            <a:ext cx="9144000" cy="10526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C30F0-A909-43E4-8073-DAD6F8EC3AEF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8"/>
          <p:cNvSpPr/>
          <p:nvPr/>
        </p:nvSpPr>
        <p:spPr>
          <a:xfrm>
            <a:off x="2266920" y="6040440"/>
            <a:ext cx="508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Lucida Sans"/>
              </a:rPr>
              <a:t>- Viernes 1º de Abril -</a:t>
            </a:r>
            <a:r>
              <a:rPr b="0" lang="es-ES" sz="1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12 Rectángulo"/>
          <p:cNvSpPr/>
          <p:nvPr/>
        </p:nvSpPr>
        <p:spPr>
          <a:xfrm>
            <a:off x="569520" y="1413000"/>
            <a:ext cx="774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f497d"/>
                </a:solidFill>
                <a:latin typeface="Lucida Sans"/>
              </a:rPr>
              <a:t>CALIDAD Y COMPETITIVIDAD - Media Jorn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14 Rectángulo"/>
          <p:cNvSpPr/>
          <p:nvPr/>
        </p:nvSpPr>
        <p:spPr>
          <a:xfrm>
            <a:off x="1042920" y="2060640"/>
            <a:ext cx="676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e9649"/>
                </a:solidFill>
                <a:latin typeface="Lucida Sans"/>
                <a:ea typeface="Calibri"/>
              </a:rPr>
              <a:t>Competitividad Sustentable, el aporte de las normas ISO 26.000 a la estrategia de la organización.</a:t>
            </a: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Lucida Sans"/>
                <a:ea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16 CuadroTexto"/>
          <p:cNvSpPr/>
          <p:nvPr/>
        </p:nvSpPr>
        <p:spPr>
          <a:xfrm>
            <a:off x="324000" y="3691080"/>
            <a:ext cx="7056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Calibri"/>
              </a:rPr>
              <a:t>Comisión Organizadora: 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Estudio sobre la Innovación y Competitividad Organizac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Calibri"/>
              </a:rPr>
              <a:t>Comisiones partícipes: 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Licenciados en Administración; Administración de Recursos Humanos; Estudios de Sustentabilidad Económica, Social y Medioambient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3" descr=""/>
          <p:cNvPicPr/>
          <p:nvPr/>
        </p:nvPicPr>
        <p:blipFill>
          <a:blip r:embed="rId1"/>
          <a:stretch/>
        </p:blipFill>
        <p:spPr>
          <a:xfrm>
            <a:off x="1116000" y="1484280"/>
            <a:ext cx="704232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"/>
          <p:cNvPicPr/>
          <p:nvPr/>
        </p:nvPicPr>
        <p:blipFill>
          <a:blip r:embed="rId1"/>
          <a:stretch/>
        </p:blipFill>
        <p:spPr>
          <a:xfrm>
            <a:off x="971640" y="1484280"/>
            <a:ext cx="7084800" cy="393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1042920" y="1628640"/>
            <a:ext cx="714384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1116000" y="1484280"/>
            <a:ext cx="6810480" cy="471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879480" y="1168560"/>
            <a:ext cx="7743960" cy="52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"/>
          <p:cNvPicPr/>
          <p:nvPr/>
        </p:nvPicPr>
        <p:blipFill>
          <a:blip r:embed="rId1"/>
          <a:stretch/>
        </p:blipFill>
        <p:spPr>
          <a:xfrm>
            <a:off x="611280" y="1149480"/>
            <a:ext cx="7993080" cy="570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826920" y="1125360"/>
            <a:ext cx="7417080" cy="555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1 Rectángulo"/>
          <p:cNvSpPr/>
          <p:nvPr/>
        </p:nvSpPr>
        <p:spPr>
          <a:xfrm>
            <a:off x="1116000" y="1844640"/>
            <a:ext cx="69850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Lucida Sans"/>
              </a:rPr>
              <a:t>La RSyA es un proceso que ha comenzado y se desarrolla en la sociedad, y, finalmente, uno de s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Lucida Sans"/>
              </a:rPr>
              <a:t>objetivos es social, porque se dirige a mejorar la función social de las empresas y organiza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Lucida Sans"/>
              </a:rPr>
              <a:t>en general, más allá de la legislación vigente y dando pruebas de responsabilidad en relación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Lucida Sans"/>
              </a:rPr>
              <a:t>todos los actores que participan, o son beneficiarios de los resultados del proceso productiv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Lucida Sans"/>
              </a:rPr>
              <a:t>La RSyA  es un valor agregado y una ventaja competitiva que “humaniza la gestión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4T19:07:47Z</dcterms:created>
  <dc:creator>icem</dc:creator>
  <dc:description/>
  <dc:language>en-US</dc:language>
  <cp:lastModifiedBy>Usuario</cp:lastModifiedBy>
  <dcterms:modified xsi:type="dcterms:W3CDTF">2011-04-05T07:50:22Z</dcterms:modified>
  <cp:revision>13</cp:revision>
  <dc:subject/>
  <dc:title>Diapositiva 1</dc:title>
</cp:coreProperties>
</file>