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950F-F969-4551-B573-502A41C756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C25F2D7B-6206-4363-A3BC-7F9DE83DCDE7}" type="slidenum">
              <a:rPr b="0" lang="es-A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43A-2878-4D58-A989-B0A8323A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72D-6985-429E-8BA4-84DF2C5D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B50-723B-4839-9994-3BB40ED5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9DA-6F1E-4613-9350-579BC7C5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F79-FA1D-4FBA-9DE0-A07CE56E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0BB-EB33-4947-933F-22AA8EAE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078-6913-4828-9336-9C72C498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1F2-BBCB-46E3-A99C-801ED753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165-908C-4235-A394-366C0C67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701-41D4-4833-ABB2-3CDD9EDF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1D1-B754-4F59-AE0B-27F8D9AA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B65-CEA2-4215-837C-2BC4009C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B013-9EA4-46F5-8CCE-19A55B384D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UPUESTO EJECUTADO Y DEUDA DEL GCABA y de la  N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ÑO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179280" y="65833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Calibri"/>
              </a:rPr>
              <a:t>Fuente:  AN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7040" y="190440"/>
            <a:ext cx="8829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alibri"/>
              </a:rPr>
              <a:t>El haber mínimo jubilatorio vuelve a elevarse junto al resto de las categorías de haberes mediante los aumentos dados por la Ley de Movilidad Jubilatoria. A partir de marzo los haberes se elevan en un 17,33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95360" y="120636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volución del Haber Mínimo y de Cantidad de Benef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92320" y="1833480"/>
            <a:ext cx="72514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9308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3610080"/>
            <a:ext cx="9144000" cy="20509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8020080" y="6521400"/>
            <a:ext cx="1123920" cy="33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3743280" cy="1143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40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000000"/>
                </a:solidFill>
                <a:latin typeface="Calibri"/>
              </a:rPr>
              <a:t>Fuente:  Elaboración propia en base a  Secretaría de Haci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2010, el aumento de las Transferencias Automáticas (Recursos de Origen Nacional y Fondo Federal Solidario) representa el 16,1% de los ingresos totales de las provi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22320" y="1098720"/>
            <a:ext cx="6889680" cy="557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3759120" y="3019320"/>
          <a:ext cx="1625760" cy="365400"/>
        </p:xfrm>
        <a:graphic>
          <a:graphicData uri="http://schemas.openxmlformats.org/drawingml/2006/table">
            <a:tbl>
              <a:tblPr/>
              <a:tblGrid>
                <a:gridCol w="16257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208720" cy="520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333360"/>
            <a:ext cx="842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Ratio Deuda Bruta del Sector Público Nacional a PIB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6237360"/>
            <a:ext cx="727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Fuente: Elaboración propia en base a Secretaría de Finanza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46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Composición de la Deuda Pública por acree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6308640"/>
            <a:ext cx="64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Fuente: Secretaría de Fin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95280" y="1400040"/>
            <a:ext cx="8424720" cy="3900600"/>
            <a:chOff x="395280" y="1400040"/>
            <a:chExt cx="8424720" cy="39006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434880" y="1400040"/>
              <a:ext cx="8385120" cy="39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5280" y="1628640"/>
              <a:ext cx="1152360" cy="2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CA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1280" y="907920"/>
          <a:ext cx="7848360" cy="5185080"/>
        </p:xfrm>
        <a:graphic>
          <a:graphicData uri="http://schemas.openxmlformats.org/drawingml/2006/table">
            <a:tbl>
              <a:tblPr/>
              <a:tblGrid>
                <a:gridCol w="2089080"/>
                <a:gridCol w="1049400"/>
                <a:gridCol w="1003320"/>
                <a:gridCol w="958680"/>
                <a:gridCol w="901800"/>
                <a:gridCol w="871560"/>
                <a:gridCol w="97452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upue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tado 30/06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tado 30/09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tado 31/12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y de Pres.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o 31-12/ 30-09 -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– Ingresos Corri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9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7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8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9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- Ingresos de Ca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- Total de Ingres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74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7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3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8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9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– Gastos Corri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51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9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2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6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cio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8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5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6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- Gastos de Ca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9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6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ón Real Direc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8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7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4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encia de Ca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 Financi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 –Gastos Prim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1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9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9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 – Intereses Deuda Públ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I- Gastos Tot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60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9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4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9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X - Resultado Financi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6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 IRD/Gasto Prim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971640" y="2602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ción del presupuesto de la Ciudad de Buenos 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618012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836640"/>
          <a:ext cx="8291160" cy="5663880"/>
        </p:xfrm>
        <a:graphic>
          <a:graphicData uri="http://schemas.openxmlformats.org/drawingml/2006/table">
            <a:tbl>
              <a:tblPr/>
              <a:tblGrid>
                <a:gridCol w="4827240"/>
                <a:gridCol w="887400"/>
                <a:gridCol w="885960"/>
                <a:gridCol w="887760"/>
                <a:gridCol w="802800"/>
              </a:tblGrid>
              <a:tr h="59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ON DEL GASTO  AL 31- 12-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. 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. 31/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. 31/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/sa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to De La Vivienda Ley 12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.488.3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.219.7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.993.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7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erio De Desarrollo Urba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2.158.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81.800.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3.801.6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,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s Complementarias (Dirección General Obras De Arquitectur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92.7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252.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225.3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,7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erráneos De Buenos Ai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40.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.400.4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.742.6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,8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jecutora Exau3 (Recuperación De La Traza De La Ex-Au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30.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50.5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59.7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,8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s De Infraestructura Urbana (Dirección General Obras De Ingenierí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17.2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00.1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7.9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o De La Infraestructura De La Red Pluvial (Dirección General Obras De Ingenierí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.160.9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.850.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.330.9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erio De Ambiente Y Espacio Pu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8.971.4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99.820.5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30.566.2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4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 de la Vía Pública (Dirección General Acera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.560.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050.5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.091.7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3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 De Higiene Urbana (Recolección, Barrido E Higiene De La Ciudad De Buenos Aires-Propi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62.6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.572.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.658.5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9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ción General de Limpieza (Servicios De Higiene Urban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77.020.2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1.542.0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4.491.3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9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ción General De Espacios Verdes (Cuidado Y Puesta En Valor De Espacios Verde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.668.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.862.6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.158.9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,3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ción General De Arbolado (Arbolado Urban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22.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417.6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223.8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,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ción General De Red Pluvial (Mantenimiento De La Red Pluvi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483.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.175.4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71.9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,6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ción General Mantenimiento Edificios Públicos Y Mobiliario Urbano (Mantenimiento Edilic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40.1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964.4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01.4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9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erio de Salud - Presupuesto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2.883.7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87.315.5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24.480.4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estructura Y Equipamiento (Dir.Gral.De Recursos Físicos En Salud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.922.1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14.2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87.5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erio de Educación - Presupuesto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6.055.1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96.262.9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67.534.7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7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.Gral.De Infraestructura Y Equipami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.293.9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.155.3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.973.1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29600" cy="5989680"/>
        </p:xfrm>
        <a:graphic>
          <a:graphicData uri="http://schemas.openxmlformats.org/drawingml/2006/table">
            <a:tbl>
              <a:tblPr/>
              <a:tblGrid>
                <a:gridCol w="3110040"/>
                <a:gridCol w="1650960"/>
                <a:gridCol w="1817640"/>
                <a:gridCol w="165096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DEU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/12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/12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/12/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Deuda Financi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Provee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Organismos Internacionales de crédi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I.R.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I.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bierno de Españ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Títulos Públ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Deuda Previs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Certificados cancelación deuda- ley 28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Bonos FOISO  Serie 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Letras del Teso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) Bono Ley 3.152 art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) Bono Ley 3.152      Art. 3 Serie 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) Bono Ley 3.152      Art. 3 Serie 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8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8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189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PROPUESTAS PRESUPU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052640"/>
            <a:ext cx="8437320" cy="56937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1º) Poner inmediata y sistemáticamente en “caja” el gasto corriente y la ejecución de los contratos de concesión  de servicios y de obra públ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2º) Reducir la planta política y los gastos en funcionari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3º) Relacionar el gasto presupuestario con las metas físicas (descripción detallada de las prestaciones y obras públicas con su costo monetari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4º) Hacer valer por parte del Estado de la ciudad la plus valía urb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º) Modificación y adecuación del Régimen Simplificado para pequeños contribuyentes en Ingresos Brutos con las categorías y requisitos del sistema de monotributo nacion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6º) Incentivo fiscal para la construcción de edificios de viviendas u oficinas nuevas en la zona sur y recuperación de empres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7º) Instrumentar con la participación de los vecinos en el presupuesto y en la planificación, que atienda también los desafíos del AMBA (Área Metropolitana de Buenos Aires) en forma conjunta con la Nación y la Provincia de Buenos Ai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C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00160" y="333360"/>
            <a:ext cx="566892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cuentas del Sector Públic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69920" y="1600200"/>
            <a:ext cx="520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4:39:38Z</dcterms:created>
  <dc:creator>hrovel_mecon</dc:creator>
  <dc:description/>
  <dc:language>en-US</dc:language>
  <cp:lastModifiedBy>CPCEACABA</cp:lastModifiedBy>
  <dcterms:modified xsi:type="dcterms:W3CDTF">2011-05-05T14:45:49Z</dcterms:modified>
  <cp:revision>17</cp:revision>
  <dc:subject/>
  <dc:title>Diapositiva 1</dc:title>
</cp:coreProperties>
</file>