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D19F-8385-4433-8411-21A456BF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66E-B8ED-49AC-ADD6-DA7D50E4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F6F8-1592-42BB-828E-2B4B9EEB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B97-C4E5-483B-8171-DB13BE9D2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4E5A-4F96-4F27-8BE0-FD7E6315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158F-8EFC-4B10-A0F6-542A8CFC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57E3-D2E0-4F20-A0F1-922AB2CA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7C32-E636-4962-B410-DA1AFEA0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93CD-854F-417B-8B50-982D66EE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82C0-0AC2-4A7E-BE5F-6C0FE763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26D2-D4FD-4F07-8AF4-0FF465D3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BEE-9193-4781-91E4-DF6DF65C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0292-14D6-4A2A-B603-03A8EF83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C1C2-53D2-4C1F-B7EA-1BB2AE9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8EB0-6819-44B4-ACC2-34FB36B7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60BD-D3D7-4328-BAE0-DA7224C9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3E99-5B1B-47C3-80DE-389202011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B67-BE34-42C7-A1C4-E3158815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F80-EA9A-4CCA-960B-81FF67FC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8C68-8CA2-4513-A252-047AB1B0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A69-87D3-42E9-B497-AECFAE7E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0AB-668D-4708-A531-BAF8DA6A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B5F-BDE1-4C79-9642-D9B1C52D6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357-A07D-44AF-B8ED-D7C07E2B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17AF-0153-407E-B673-38F1DBAA4F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001D-6993-4380-9E35-27B98476DB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Ilícitos tributarios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Tahoma"/>
              </a:rPr>
              <a:t>Ley 11.683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ÉGIMEN SANCIONATORI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9.1.1 – Cumplimiento parcial deberes formales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Deberes formales art. 38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Deberes formales art. 3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Deberes formales art. 39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Subsiste la infracción si se obstaculiza labor del Fisc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80000"/>
              </a:lnSpc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40 – CLAUSUR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Multa $ 300 a $ 30.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Clausura de 3 a 10 dí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 entregar/no emitir factu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 llevar anotación de opera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transportar sin remi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falta de inscripción AF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 conservación comprobantes de comp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no poseer/no mantener en condiciones instrumentos de med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40.1 – Clausur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Multa $ 300 a $ 30.0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 ocupar personal no registrad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Clausur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gravedad del hecho y reincide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0920" indent="-520920">
              <a:spcBef>
                <a:spcPts val="10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Tahoma"/>
              </a:rPr>
              <a:t>Art. 37 – Intereses resarcitorio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20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Falta total o parcial del pago de gravámen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20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Interés sobre interé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20920" indent="-520920">
              <a:spcBef>
                <a:spcPts val="10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ffff"/>
                </a:solidFill>
                <a:latin typeface="Tahoma"/>
              </a:rPr>
              <a:t>Art. 52 – Intereses punitorio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209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Se devengan a partir inicio acciones judiciales para el cobro del impuesto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1720" indent="-53172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t. 45 – Omisión de impuest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* Sanción del 50% al 100% del gravamen: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falta presentación DDJJ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inexactitud de las presentada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no actuar como agente de retenció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siempre que no corresponda art. 46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t. 45 – Omisión de impuesto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* Agravamiento: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- sanción del 100% hasta 400% del ajuste de impuesto o retención no practicada: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. Transacciones celebradas entre entes del país con personas físicas o jurídicas del exterior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1720" indent="-53172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. 46 – Defrauda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* Multa de 2 a 10 vece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- Declaración engaños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- Ocultación malicios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31720" indent="-531720">
              <a:spcBef>
                <a:spcPts val="11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. 46.1 – Igual sanció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Utilización indebida de quebra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1720" indent="-53172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t. 47 – Indicios declaración engañosa / ocultación malicio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Contradicción entre registros, documentación y DDJJ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Datos inexactos en documentació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Claro apartamiento con norm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Carencia de documentación y contabilida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* Utilización figuras jurídicas inadecuad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Art. 48 – Agentes de retención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* Multa 2 a 10 veces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- Retención mantenida en poder del agente después del vencimiento para su pag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Art. 49 – Reducción y eximición de san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Rectificación de DDJJ previa a vista determinación de oficio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No reincidente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- Reducción a 1/3 del mínimo legal sanciones art. 45/46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7120" indent="-53712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rt. 38 – Multa automátic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37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No presentación en término DDJ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37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Sanción monto fijo $ 200 / $ 4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37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Reducción al 50% - cumplimiento    dentro de los 15 dí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37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Reducción Instr. 06/2007 AF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ahoma"/>
              </a:rPr>
              <a:t>Art. 49 – Reducción y eximición de sancion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Aceptación de ajuste una vez corrida la vista pero antes del vencimiento de los primeros 15 día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* Excepto reincidenci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400" spc="-1" strike="noStrike">
                <a:solidFill>
                  <a:srgbClr val="ffffff"/>
                </a:solidFill>
                <a:latin typeface="Tahoma"/>
              </a:rPr>
              <a:t>- Reducción 2/3 mínimo legal art. 45/46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Art. 49 – Reducción y eximición de sancion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Determinación de oficio consentid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No mediando reincidencia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- Reducción al mínimo legal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materi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ahoma"/>
              </a:rPr>
              <a:t>Art. 49 – Reducción y eximición de sancione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3800" spc="-1" strike="noStrike">
                <a:solidFill>
                  <a:srgbClr val="ffffff"/>
                </a:solidFill>
                <a:latin typeface="Tahoma"/>
              </a:rPr>
              <a:t>* Gravámenes adeudados actualizados menores a $ 1.000.- pago espontáneo, eximición de sanción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6237360"/>
            <a:ext cx="8229600" cy="35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FI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6320" indent="-52632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8.1 – Multa automátic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* No presentación en término DDJJ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- DDJJ informativas – Reg. Inf. 3º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. Sanción $ 5.000 / $ 10.000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. Reducción Instr. 06/2007 AFIP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6320" indent="-52632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8.1 – Multa automátic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* No presentación en término DDJJ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- DDJJ informativas – Impo/Expo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Partes Independientes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263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. Sanción $ 1.500 / $ 9.000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31720" indent="-53172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8.1 – Multa automátic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* No presentación en término DDJJ 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- DDJJ informativas – Precios  de transferencia.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  <a:p>
            <a:pPr marL="53172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900" spc="-1" strike="noStrike">
                <a:solidFill>
                  <a:srgbClr val="ffffff"/>
                </a:solidFill>
                <a:latin typeface="Tahoma"/>
              </a:rPr>
              <a:t>. Sanción $ 10.000 / $ 20.000</a:t>
            </a:r>
            <a:endParaRPr b="0" lang="en-US" sz="3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80000"/>
              </a:lnSpc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9 – Incumplimiento deberes formales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Sanción genérica $ 150 / $ 2.500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Sanción agravada $ 150 / $ 45.000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Normas domicilio fisc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Resistencia pasiva inspec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Omisión datos DDJJ precios transf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Falta conservación comproban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9.1 – Incumplimiento deberes formales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Agravamien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* Sanción $ 500 / $ 45.00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 Incumplimientos presentación DDJJ art. 38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Se recuerda: 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ffff"/>
                </a:solidFill>
                <a:uFillTx/>
                <a:latin typeface="Tahoma"/>
              </a:rPr>
              <a:t>Art. 38.1</a:t>
            </a: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 – Multa automática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* No presentación en término DDJJ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DJJ informativas – Reg. Inf. 3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DJJ informativas – Impo/Exp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es Independien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DDJJ informativas – Precios  de transferenci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Infracciones formal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Art. 39.1 – Incumplimiento deberes formales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Acumulación con sanciones del art. 3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Reiteración – Nuevas san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 Incumplimientos para sujetos con ingresos superiores $ 10.000.000 anuales agravamiento ante 3º intimación 2 a 10 veces sanción art. 39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0:29:06Z</dcterms:created>
  <dc:creator>WinuE</dc:creator>
  <dc:description/>
  <dc:language>en-US</dc:language>
  <cp:lastModifiedBy>WinuE</cp:lastModifiedBy>
  <dcterms:modified xsi:type="dcterms:W3CDTF">2011-08-17T15:33:04Z</dcterms:modified>
  <cp:revision>31</cp:revision>
  <dc:subject/>
  <dc:title>Diapositiva 1</dc:title>
</cp:coreProperties>
</file>