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FDF-2054-4BF2-92B6-FBB3048E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63D-7034-4B92-BCCA-4198D5E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15E-96C8-4718-BBC4-1F13028B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4BC-55DE-4FA0-B867-6EF2E5A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5C7-12E1-4A22-97B0-317A646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6E6-D9D7-4DEA-AAB4-1189C586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C9B-4D6B-40EC-9EBE-1D2E6A0A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958-896B-4BEC-B26A-33DB1D24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DC7-C427-42B9-A971-1722F53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DC9-9D7E-45BD-9285-95D05F1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13E-1861-46F1-86E6-1316D33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010-CCB2-4440-8415-334620E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160-5387-4DE1-95BC-6FEC02F673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ASPECTOS PROCESALES EN LA LABOR PERICIAL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000840"/>
            <a:ext cx="87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.Contador Público-Abogado-Espec.en sindicatura concur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1979640" y="3141720"/>
            <a:ext cx="511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 EL ÁMBITO JURISDICCIONAL DE LA CIUDAD DE BUENOS A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15" descr="C:\Archivos de programa\Microsoft Office\MEDIA\CAGCAT10\j0186002.wmf"/>
          <p:cNvPicPr/>
          <p:nvPr/>
        </p:nvPicPr>
        <p:blipFill>
          <a:blip r:embed="rId2"/>
          <a:stretch/>
        </p:blipFill>
        <p:spPr>
          <a:xfrm>
            <a:off x="3714840" y="4071960"/>
            <a:ext cx="17762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17 Rectángulo"/>
          <p:cNvSpPr/>
          <p:nvPr/>
        </p:nvSpPr>
        <p:spPr>
          <a:xfrm>
            <a:off x="500040" y="2214720"/>
            <a:ext cx="2857680" cy="357120"/>
          </a:xfrm>
          <a:prstGeom prst="rect">
            <a:avLst/>
          </a:prstGeom>
          <a:noFill/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3883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EL EXPEDIENTE ESTÁ EN LETRA</a:t>
            </a: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00040" y="1071720"/>
            <a:ext cx="8143920" cy="5713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ULSO EL EXPEDIENTE ANTES DE ACEPTAR EL C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1"/>
          <p:cNvSpPr/>
          <p:nvPr/>
        </p:nvSpPr>
        <p:spPr>
          <a:xfrm rot="2817000">
            <a:off x="1310040" y="3934800"/>
            <a:ext cx="370080" cy="815760"/>
          </a:xfrm>
          <a:custGeom>
            <a:avLst/>
            <a:gdLst>
              <a:gd name="textAreaLeft" fmla="*/ 49320 w 370080"/>
              <a:gd name="textAreaRight" fmla="*/ 320760 w 370080"/>
              <a:gd name="textAreaTop" fmla="*/ 128880 h 815760"/>
              <a:gd name="textAreaBottom" fmla="*/ 586800 h 81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29" stAng="-5400000" swAng="-5400000"/>
                <a:lnTo>
                  <a:pt x="0" y="12124"/>
                </a:lnTo>
                <a:arcTo wR="21600" hR="6829" stAng="10800000" swAng="-2508239"/>
                <a:lnTo>
                  <a:pt x="14400" y="21209"/>
                </a:lnTo>
                <a:lnTo>
                  <a:pt x="21600" y="16306"/>
                </a:lnTo>
                <a:lnTo>
                  <a:pt x="14400" y="10620"/>
                </a:lnTo>
                <a:lnTo>
                  <a:pt x="14400" y="13267"/>
                </a:lnTo>
                <a:arcTo wR="21600" hR="6829" stAng="8291761" swAng="2053792"/>
                <a:lnTo>
                  <a:pt x="1689" y="9477"/>
                </a:lnTo>
                <a:arcTo wR="21600" hR="6829" stAng="-10345553" swAng="4945553"/>
                <a:close/>
              </a:path>
              <a:path fill="darkenLess" w="21600" h="21600">
                <a:moveTo>
                  <a:pt x="21600" y="0"/>
                </a:moveTo>
                <a:arcTo wR="21600" hR="6829" stAng="-5400000" swAng="-5400000"/>
                <a:lnTo>
                  <a:pt x="0" y="6829"/>
                </a:lnTo>
                <a:arcTo wR="21600" hR="6829" stAng="10800000" swAng="-454447"/>
                <a:lnTo>
                  <a:pt x="1689" y="9477"/>
                </a:lnTo>
                <a:arcTo wR="21600" hR="6829" stAng="-10345553" swAng="4945553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25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2"/>
          <p:cNvSpPr/>
          <p:nvPr/>
        </p:nvSpPr>
        <p:spPr>
          <a:xfrm flipH="1" rot="19078200">
            <a:off x="4408200" y="3919320"/>
            <a:ext cx="326880" cy="919080"/>
          </a:xfrm>
          <a:custGeom>
            <a:avLst/>
            <a:gdLst>
              <a:gd name="textAreaLeft" fmla="*/ 43560 w 326880"/>
              <a:gd name="textAreaRight" fmla="*/ 283320 w 326880"/>
              <a:gd name="textAreaTop" fmla="*/ 139680 h 919080"/>
              <a:gd name="textAreaBottom" fmla="*/ 659520 h 9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575" stAng="-5400000" swAng="-5400000"/>
                <a:lnTo>
                  <a:pt x="0" y="12209"/>
                </a:lnTo>
                <a:arcTo wR="21600" hR="6575" stAng="10800000" swAng="-2443515"/>
                <a:lnTo>
                  <a:pt x="14400" y="21224"/>
                </a:lnTo>
                <a:lnTo>
                  <a:pt x="21600" y="15966"/>
                </a:lnTo>
                <a:lnTo>
                  <a:pt x="14400" y="9956"/>
                </a:lnTo>
                <a:lnTo>
                  <a:pt x="14400" y="12773"/>
                </a:lnTo>
                <a:arcTo wR="21600" hR="6575" stAng="8356485" swAng="1950723"/>
                <a:lnTo>
                  <a:pt x="2083" y="9392"/>
                </a:lnTo>
                <a:arcTo wR="21600" hR="6575" stAng="-10307208" swAng="4907208"/>
                <a:close/>
              </a:path>
              <a:path fill="darkenLess" w="21600" h="21600">
                <a:moveTo>
                  <a:pt x="21600" y="0"/>
                </a:moveTo>
                <a:arcTo wR="21600" hR="6575" stAng="-5400000" swAng="-5400000"/>
                <a:lnTo>
                  <a:pt x="0" y="6575"/>
                </a:lnTo>
                <a:arcTo wR="21600" hR="6575" stAng="10800000" swAng="-492792"/>
                <a:lnTo>
                  <a:pt x="2083" y="9392"/>
                </a:lnTo>
                <a:arcTo wR="21600" hR="6575" stAng="-10307208" swAng="490720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288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00040" y="1785960"/>
            <a:ext cx="314316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ATOS DEL EXPED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14 Rectángulo"/>
          <p:cNvSpPr/>
          <p:nvPr/>
        </p:nvSpPr>
        <p:spPr>
          <a:xfrm>
            <a:off x="428760" y="264312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DEMANDADO/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TERCERO/S CITADO/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) APODERADOS YLETRADOS PATROCIN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16 Rectángulo"/>
          <p:cNvSpPr/>
          <p:nvPr/>
        </p:nvSpPr>
        <p:spPr>
          <a:xfrm>
            <a:off x="500040" y="2214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TOS DE LAS PAR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19 Rectángulo"/>
          <p:cNvSpPr/>
          <p:nvPr/>
        </p:nvSpPr>
        <p:spPr>
          <a:xfrm>
            <a:off x="2643120" y="4143240"/>
            <a:ext cx="1143000" cy="4287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20 CuadroTexto"/>
          <p:cNvSpPr/>
          <p:nvPr/>
        </p:nvSpPr>
        <p:spPr>
          <a:xfrm>
            <a:off x="2714760" y="414324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21 Rectángulo"/>
          <p:cNvSpPr/>
          <p:nvPr/>
        </p:nvSpPr>
        <p:spPr>
          <a:xfrm>
            <a:off x="4500720" y="47862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CHA DE SEGUIMIENTO DEL EXPED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22 Rectángulo"/>
          <p:cNvSpPr/>
          <p:nvPr/>
        </p:nvSpPr>
        <p:spPr>
          <a:xfrm>
            <a:off x="285840" y="47149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 S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ED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CEPTAR EL CAR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0" y="291960"/>
            <a:ext cx="8820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NÁLISIS DEL EXPE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2336400" y="1071720"/>
            <a:ext cx="2474280" cy="36828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DATOS DE LA CAU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71680" y="1643040"/>
            <a:ext cx="162396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X. X. c/Z. Z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040" y="2143080"/>
            <a:ext cx="142884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Y OTR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143240" y="1643040"/>
            <a:ext cx="3071880" cy="3682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ACTOR - DEMAND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857760" y="2143080"/>
            <a:ext cx="500040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VARIOS ACTORES Y/O DEMANDAD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LITISCONSORCIO ACTIVO Y/O PAS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00040" y="2786040"/>
            <a:ext cx="142884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S/ L. 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857760" y="2857680"/>
            <a:ext cx="2658960" cy="3682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Tahoma"/>
              </a:rPr>
              <a:t>OBJETO DEL LITIG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57120" y="3286080"/>
            <a:ext cx="31431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CUADERNO DE PRUEBA  ACTORA/DEMAND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2714760" y="4071960"/>
            <a:ext cx="1214280" cy="3682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Tahoma"/>
              </a:rPr>
              <a:t>EXIST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071960" y="3357720"/>
            <a:ext cx="221472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RT. 380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14 Decisión"/>
          <p:cNvSpPr/>
          <p:nvPr/>
        </p:nvSpPr>
        <p:spPr>
          <a:xfrm>
            <a:off x="857160" y="4143240"/>
            <a:ext cx="857520" cy="642960"/>
          </a:xfrm>
          <a:prstGeom prst="flowChartDecision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15 Decisión"/>
          <p:cNvSpPr/>
          <p:nvPr/>
        </p:nvSpPr>
        <p:spPr>
          <a:xfrm>
            <a:off x="5214960" y="4214880"/>
            <a:ext cx="1000080" cy="642960"/>
          </a:xfrm>
          <a:prstGeom prst="flowChartDecision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85840" y="4857840"/>
            <a:ext cx="35002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ULSAR PRINCIPAL Y CUADER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14200" y="5643720"/>
            <a:ext cx="450072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 AGREGARÁ AL PRINCIP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786200" y="4929120"/>
            <a:ext cx="3571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DA LA PRUEBA CONSTA EN EL PRINCIP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357120" y="4143240"/>
            <a:ext cx="314316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NCIDENTE DE .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.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071960" y="4071960"/>
            <a:ext cx="306216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RT. 175 Y SIG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500040" y="4643280"/>
            <a:ext cx="3286080" cy="11912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 RESUELVE EL INCIDE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SE AGREGA AL PRINCIP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40 Rectángulo"/>
          <p:cNvSpPr/>
          <p:nvPr/>
        </p:nvSpPr>
        <p:spPr>
          <a:xfrm>
            <a:off x="5219640" y="3933720"/>
            <a:ext cx="1928880" cy="500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2700000"/>
          </a:gradFill>
          <a:ln w="25560">
            <a:solidFill>
              <a:srgbClr val="297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8200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DESIGNADO EL PERIT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57120" y="928800"/>
            <a:ext cx="371484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TES PUEDEN RECUSAR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389960" y="1500120"/>
            <a:ext cx="6025320" cy="36828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ART 466 C.P.C.C.N. : PLAZO PARA CONTESTAR 3 DÍ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71680" y="2357280"/>
            <a:ext cx="320832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CONOZCO LA CAU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5249520" y="2357280"/>
            <a:ext cx="222912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IEGO LA CAU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78000" y="300024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UEZ DESIGNA REEMPLAZA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859280" y="292896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MITA POR INCID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32"/>
          <p:cNvSpPr/>
          <p:nvPr/>
        </p:nvSpPr>
        <p:spPr>
          <a:xfrm rot="20539800">
            <a:off x="4441320" y="3090600"/>
            <a:ext cx="290520" cy="106668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6680"/>
              <a:gd name="textAreaBottom" fmla="*/ 7711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32"/>
          <p:cNvSpPr/>
          <p:nvPr/>
        </p:nvSpPr>
        <p:spPr>
          <a:xfrm rot="20539800">
            <a:off x="4441320" y="4233600"/>
            <a:ext cx="290520" cy="106668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6680"/>
              <a:gd name="textAreaBottom" fmla="*/ 7711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5430960" y="3429000"/>
            <a:ext cx="35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INTERRUMPE EL PROCE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669640" y="4500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APEL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39 CuadroTexto"/>
          <p:cNvSpPr/>
          <p:nvPr/>
        </p:nvSpPr>
        <p:spPr>
          <a:xfrm>
            <a:off x="5214960" y="40006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UEZ RESUEL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1 Rectángulo"/>
          <p:cNvSpPr/>
          <p:nvPr/>
        </p:nvSpPr>
        <p:spPr>
          <a:xfrm>
            <a:off x="5143680" y="5000760"/>
            <a:ext cx="3460680" cy="714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2700000"/>
          </a:gradFill>
          <a:ln w="25560">
            <a:solidFill>
              <a:srgbClr val="297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42 CuadroTexto"/>
          <p:cNvSpPr/>
          <p:nvPr/>
        </p:nvSpPr>
        <p:spPr>
          <a:xfrm>
            <a:off x="5076720" y="50133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MARA= PUEDE RESOLVER JUNTO CON LO PRINCIP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55"/>
          <p:cNvSpPr/>
          <p:nvPr/>
        </p:nvSpPr>
        <p:spPr>
          <a:xfrm rot="316200">
            <a:off x="1422000" y="2533680"/>
            <a:ext cx="5472000" cy="1655640"/>
          </a:xfrm>
          <a:prstGeom prst="irregularSeal2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082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1 CuadroTexto"/>
          <p:cNvSpPr/>
          <p:nvPr/>
        </p:nvSpPr>
        <p:spPr>
          <a:xfrm>
            <a:off x="2643120" y="2857680"/>
            <a:ext cx="27147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T 13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TÁCITA DE TODAS LAS RESOLUCION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291960"/>
            <a:ext cx="8820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CEPTADO EL CAR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28760" y="1071720"/>
            <a:ext cx="38574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TIRO COPIAS PARA PE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5147640" y="1071720"/>
            <a:ext cx="2972520" cy="3682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A EN EL EXPED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86080" y="2143080"/>
            <a:ext cx="221472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b5481"/>
                </a:solidFill>
                <a:latin typeface="Comic Sans MS"/>
              </a:rPr>
              <a:t>ART. 127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5786280" y="2143080"/>
            <a:ext cx="28576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BRO DE PRÉSTAM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28760" y="4786200"/>
            <a:ext cx="27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 EL PLAZO FIJADO POR EL J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357120" y="2786040"/>
            <a:ext cx="2786040" cy="58068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YA AUTORIZADO EN AUTO DE DESIGN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55"/>
          <p:cNvSpPr/>
          <p:nvPr/>
        </p:nvSpPr>
        <p:spPr>
          <a:xfrm rot="316200">
            <a:off x="1422000" y="1319040"/>
            <a:ext cx="5472000" cy="1656000"/>
          </a:xfrm>
          <a:prstGeom prst="irregularSeal2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082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13 CuadroTexto"/>
          <p:cNvSpPr/>
          <p:nvPr/>
        </p:nvSpPr>
        <p:spPr>
          <a:xfrm>
            <a:off x="2286000" y="17859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T 13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IRO DE COPIAS = NOTIFICACIÓN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57120" y="2214720"/>
            <a:ext cx="285768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ÉSTAMO DEL EXP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5357880" y="2857680"/>
            <a:ext cx="2786040" cy="3373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UN NO AUTORIZ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85840" y="357192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IRAR AL ACEPTAR EL CAR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786200" y="3500280"/>
            <a:ext cx="400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DIR POR ESCRITO: PRÉSTAMO + INTERRUPCIÓN DE LOS PLAZOS PARA PRESENTAR INFOR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57120" y="4357800"/>
            <a:ext cx="314316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OLUCIÓN DEL EXP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357800" y="4572000"/>
            <a:ext cx="40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TARD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RT 128 CPCCN  = MULT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357800" y="4929120"/>
            <a:ext cx="39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TRAVI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 ART 128 Y 130 CPCCN = MULTA  + RESPONS CIVIL / PE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3357720" y="2571840"/>
            <a:ext cx="2428560" cy="1714320"/>
          </a:xfrm>
          <a:prstGeom prst="line">
            <a:avLst/>
          </a:prstGeom>
          <a:ln cap="sq" w="76320">
            <a:solidFill>
              <a:srgbClr val="cc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12 Rectángulo"/>
          <p:cNvSpPr/>
          <p:nvPr/>
        </p:nvSpPr>
        <p:spPr>
          <a:xfrm>
            <a:off x="2571840" y="3000240"/>
            <a:ext cx="1071360" cy="428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10 Rectángulo"/>
          <p:cNvSpPr/>
          <p:nvPr/>
        </p:nvSpPr>
        <p:spPr>
          <a:xfrm>
            <a:off x="4357800" y="1928880"/>
            <a:ext cx="1071360" cy="428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9 Rectángulo"/>
          <p:cNvSpPr/>
          <p:nvPr/>
        </p:nvSpPr>
        <p:spPr>
          <a:xfrm>
            <a:off x="285840" y="1928880"/>
            <a:ext cx="2500200" cy="4284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0" y="291960"/>
            <a:ext cx="88200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CEPTADO EL CAR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57120" y="1357200"/>
            <a:ext cx="328608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TICIPO PARA GA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857840" y="1357200"/>
            <a:ext cx="216216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T. 463 CPCC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57120" y="192888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PEDIDO DEL PERI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4200" y="2357280"/>
            <a:ext cx="28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PROCEDE DE OF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ICAR MO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572000" y="200016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Z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214880" y="2428920"/>
            <a:ext cx="41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 DI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DE LA ACEPTACIÓN DEL CAR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643120" y="300024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428760" y="392904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JA MO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28760" y="3500280"/>
            <a:ext cx="1214280" cy="3373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CE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357800" y="3429000"/>
            <a:ext cx="1857240" cy="3373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CONCE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32"/>
          <p:cNvSpPr/>
          <p:nvPr/>
        </p:nvSpPr>
        <p:spPr>
          <a:xfrm rot="20539800">
            <a:off x="155160" y="3661920"/>
            <a:ext cx="290520" cy="106704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7040"/>
              <a:gd name="textAreaBottom" fmla="*/ 7711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17 Rectángulo"/>
          <p:cNvSpPr/>
          <p:nvPr/>
        </p:nvSpPr>
        <p:spPr>
          <a:xfrm>
            <a:off x="711360" y="4357800"/>
            <a:ext cx="25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IFICACIÓN A PAR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ZO 5 DÍ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786040" y="5000760"/>
            <a:ext cx="16430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DEPOSI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42960" y="5000760"/>
            <a:ext cx="13572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POSI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21 Rectángulo"/>
          <p:cNvSpPr/>
          <p:nvPr/>
        </p:nvSpPr>
        <p:spPr>
          <a:xfrm>
            <a:off x="3000240" y="542916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 LO TIENE POR DESISTIDO DE LA PERI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32"/>
          <p:cNvSpPr/>
          <p:nvPr/>
        </p:nvSpPr>
        <p:spPr>
          <a:xfrm rot="20539800">
            <a:off x="2512800" y="5019480"/>
            <a:ext cx="290520" cy="106668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6680"/>
              <a:gd name="textAreaBottom" fmla="*/ 7711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429000" y="3284640"/>
            <a:ext cx="1928880" cy="43020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RT. 360 CPCC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3883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1cd2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LA TAREA PERICIAL</a:t>
            </a:r>
            <a:r>
              <a:rPr b="1" i="1" lang="en-US" sz="44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428760" y="128592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UNTOS PERIC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28760" y="1714680"/>
            <a:ext cx="25714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PUESTOS POR LAS PAR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2 Marcador de contenido"/>
          <p:cNvSpPr/>
          <p:nvPr/>
        </p:nvSpPr>
        <p:spPr>
          <a:xfrm>
            <a:off x="3286080" y="1714680"/>
            <a:ext cx="5072040" cy="14983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RECIMIENTO = CO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ACIÓN DE DEMANDA/RECONV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ACIÓN DE LA RECONVENC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68360" y="3284640"/>
            <a:ext cx="25718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O DE APERTURA A PRUEB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3929040" y="3929040"/>
            <a:ext cx="928800" cy="368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2 Marcador de contenido"/>
          <p:cNvSpPr/>
          <p:nvPr/>
        </p:nvSpPr>
        <p:spPr>
          <a:xfrm>
            <a:off x="3429000" y="4429080"/>
            <a:ext cx="5072040" cy="12319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RUE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ESTIMA 1 O MÁS PUNTOS PERI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CORPORA OTROS PUNTOS DE PERICIA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30"/>
          <p:cNvSpPr/>
          <p:nvPr/>
        </p:nvSpPr>
        <p:spPr>
          <a:xfrm rot="10800000">
            <a:off x="285840" y="4429080"/>
            <a:ext cx="2000160" cy="1000080"/>
          </a:xfrm>
          <a:prstGeom prst="wedgeRectCallout">
            <a:avLst>
              <a:gd name="adj1" fmla="val -99148"/>
              <a:gd name="adj2" fmla="val 20712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DE LA LECTURA DEL EXPEDI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7850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LECTURA DEL EXPEDIENTE</a:t>
            </a:r>
            <a:r>
              <a:rPr b="1" i="1" lang="en-US" sz="48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390960" y="62373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2 Marcador de contenido"/>
          <p:cNvSpPr/>
          <p:nvPr/>
        </p:nvSpPr>
        <p:spPr>
          <a:xfrm>
            <a:off x="214200" y="1500120"/>
            <a:ext cx="5113440" cy="179388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ICAR EL LUGAR DE REALIZACIÓN DE LA PERI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IGNAR CONSULTOR TÉC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DIR ESTAR PRESENTE EN LA REALIZACIÓN DE LA PERI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ONERSE A LA PRUEBA PERICI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30"/>
          <p:cNvSpPr/>
          <p:nvPr/>
        </p:nvSpPr>
        <p:spPr>
          <a:xfrm rot="10800000">
            <a:off x="5571720" y="1428120"/>
            <a:ext cx="3079800" cy="863640"/>
          </a:xfrm>
          <a:prstGeom prst="wedgeRectCallout">
            <a:avLst>
              <a:gd name="adj1" fmla="val 64430"/>
              <a:gd name="adj2" fmla="val 25550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NO LO HACEN: PEDIRLO POR ESCRITO + SUSPENSIÓN DE PLAZ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30"/>
          <p:cNvSpPr/>
          <p:nvPr/>
        </p:nvSpPr>
        <p:spPr>
          <a:xfrm rot="10800000">
            <a:off x="5571720" y="2071440"/>
            <a:ext cx="3079800" cy="1081080"/>
          </a:xfrm>
          <a:prstGeom prst="wedgeRectCallout">
            <a:avLst>
              <a:gd name="adj1" fmla="val 64430"/>
              <a:gd name="adj2" fmla="val 30467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T 471 CPCC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R POR ESCRITO LUGAR DÍA Y HORA PARA LA REALIZACIÓN DE LA PERI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30"/>
          <p:cNvSpPr/>
          <p:nvPr/>
        </p:nvSpPr>
        <p:spPr>
          <a:xfrm rot="10800000">
            <a:off x="5357880" y="2428920"/>
            <a:ext cx="3357360" cy="1357200"/>
          </a:xfrm>
          <a:prstGeom prst="wedgeRectCallout">
            <a:avLst>
              <a:gd name="adj1" fmla="val 77361"/>
              <a:gd name="adj2" fmla="val 10754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CIDE SI LA PERICIAL ES PROCEDENTE O N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NCI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T 478 CPCCN QUIEN DEBERÁ AFRONTAR LOS HONORARIOS DEL PERI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85840" y="100008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SUS PRESENTACIONES LAS PARTES PUE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214200" y="3500280"/>
            <a:ext cx="8388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1cd2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LA TAREA PERICIAL</a:t>
            </a:r>
            <a:r>
              <a:rPr b="1" i="1" lang="en-US" sz="28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14200" y="4000680"/>
            <a:ext cx="292896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T. 458 Y 471 CPCC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500280" y="40719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RGO DE UN PERITO DE OF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285840" y="4714920"/>
            <a:ext cx="3000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T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R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SULTOR TÉCN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2 Marcador de contenido"/>
          <p:cNvSpPr/>
          <p:nvPr/>
        </p:nvSpPr>
        <p:spPr>
          <a:xfrm>
            <a:off x="3429000" y="4786200"/>
            <a:ext cx="5715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RECHO A ESTAR PRES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PUEDEN INTERFERIR Y/O ENTORPE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EDEN FORMULAR OBSERV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6"/>
          <p:cNvSpPr/>
          <p:nvPr/>
        </p:nvSpPr>
        <p:spPr>
          <a:xfrm>
            <a:off x="285840" y="1428840"/>
            <a:ext cx="3000240" cy="91692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R AL JUZGADO LAS DILIGENCIAS REALIZAD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660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85840" y="285840"/>
            <a:ext cx="8388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1cd2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LA TAREA PERICIAL</a:t>
            </a:r>
            <a:r>
              <a:rPr b="1" i="1" lang="en-US" sz="44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2 Marcador de contenido"/>
          <p:cNvSpPr/>
          <p:nvPr/>
        </p:nvSpPr>
        <p:spPr>
          <a:xfrm>
            <a:off x="4000680" y="1428840"/>
            <a:ext cx="47145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ACTOS ESTABLEC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CHA PARA LA PERI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 NO NOS PONEN A DISPOSICIÓN LOS ELEM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57120" y="4429080"/>
            <a:ext cx="428616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 OPORTUNIDAD DE LA PERI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428760" y="4929120"/>
            <a:ext cx="2500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BRAR AC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RMADA POR LOS PRESE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2 Marcador de contenido"/>
          <p:cNvSpPr/>
          <p:nvPr/>
        </p:nvSpPr>
        <p:spPr>
          <a:xfrm>
            <a:off x="3929040" y="4786200"/>
            <a:ext cx="48578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S PRESEN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DOCUMENTACIÓN EXHIBIDA Y LA NO PUESTA A DISPOSI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REA DESPLEGAD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SERVACIONES RECIBI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57120" y="928800"/>
            <a:ext cx="578664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ALIZARLA EN LOS PLAZOS ESTABLECI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79280" y="2708280"/>
            <a:ext cx="314352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NTES DE VENCIMIENTO D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929040" y="26431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OSIBILIDAD DE PEDIR PRÓRROGA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UNDAMENT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50920" y="3573360"/>
            <a:ext cx="2857320" cy="6426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RT 470 CPCC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LAZO VENCI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2 Marcador de contenido"/>
          <p:cNvSpPr/>
          <p:nvPr/>
        </p:nvSpPr>
        <p:spPr>
          <a:xfrm>
            <a:off x="4071960" y="3286080"/>
            <a:ext cx="47149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MO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ÉRDIDA DE HONORARI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MNIZACIÓN POR DAÑOS CAUS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LA TAREA PERICIAL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68360" y="1341360"/>
            <a:ext cx="251928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DELEG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74960" y="6491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79280" y="4724280"/>
            <a:ext cx="8713800" cy="133416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51cd2"/>
                </a:solidFill>
                <a:latin typeface="Tahoma"/>
              </a:rPr>
              <a:t>“</a:t>
            </a:r>
            <a:r>
              <a:rPr b="1" lang="es-ES" sz="1800" spc="-1" strike="noStrike">
                <a:solidFill>
                  <a:srgbClr val="251cd2"/>
                </a:solidFill>
                <a:latin typeface="Tahoma"/>
              </a:rPr>
              <a:t>COMPAÑÍA FINANCIERA SAN MARTIN SA c/BCRA”,  Juzg. Nac. 1ª inst. CAF nº 2 SEC 3 06/09/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51cd2"/>
                </a:solidFill>
                <a:latin typeface="Tahoma"/>
              </a:rPr>
              <a:t>“</a:t>
            </a:r>
            <a:r>
              <a:rPr b="1" lang="es-ES" sz="1800" spc="-1" strike="noStrike">
                <a:solidFill>
                  <a:srgbClr val="251cd2"/>
                </a:solidFill>
                <a:latin typeface="Tahoma"/>
              </a:rPr>
              <a:t>CASTRO AGUIRRE, KARINA REBECA c/UBM SA Y OTROS s/DESPIDO” , JNT 60, 22/06/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68360" y="3429000"/>
            <a:ext cx="2952720" cy="9169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DEBEN SUPLANTAR LA ACTUACIÓN DEL PE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32"/>
          <p:cNvSpPr/>
          <p:nvPr/>
        </p:nvSpPr>
        <p:spPr>
          <a:xfrm rot="15388800">
            <a:off x="4347000" y="3508920"/>
            <a:ext cx="361800" cy="1353960"/>
          </a:xfrm>
          <a:custGeom>
            <a:avLst/>
            <a:gdLst>
              <a:gd name="textAreaLeft" fmla="*/ 48240 w 361800"/>
              <a:gd name="textAreaRight" fmla="*/ 313560 w 361800"/>
              <a:gd name="textAreaTop" fmla="*/ 227520 h 1353960"/>
              <a:gd name="textAreaBottom" fmla="*/ 978480 h 135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1161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708360" y="2708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PONSABILIDAD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POR LA DOCUMENTACIÓ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RMAD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PERSONAL E INDELEGABL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ABORADORES:  SUPER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24000" y="1844640"/>
            <a:ext cx="292896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T. 458 Y 471 CPCC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2781360"/>
            <a:ext cx="292896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T. 5 COD DE ETICA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780000" y="18446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RGO DE UN PERITO DE OF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500"/>
                            </p:stCondLst>
                            <p:childTnLst>
                              <p:par>
                                <p:cTn id="17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500"/>
                            </p:stCondLst>
                            <p:childTnLst>
                              <p:par>
                                <p:cTn id="17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26 Rectángulo"/>
          <p:cNvSpPr/>
          <p:nvPr/>
        </p:nvSpPr>
        <p:spPr>
          <a:xfrm>
            <a:off x="357120" y="3857760"/>
            <a:ext cx="1571760" cy="357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20 Rectángulo"/>
          <p:cNvSpPr/>
          <p:nvPr/>
        </p:nvSpPr>
        <p:spPr>
          <a:xfrm>
            <a:off x="6000840" y="1857240"/>
            <a:ext cx="2286000" cy="500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19 Rectángulo"/>
          <p:cNvSpPr/>
          <p:nvPr/>
        </p:nvSpPr>
        <p:spPr>
          <a:xfrm>
            <a:off x="2928960" y="1857240"/>
            <a:ext cx="2286000" cy="500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18 Rectángulo"/>
          <p:cNvSpPr/>
          <p:nvPr/>
        </p:nvSpPr>
        <p:spPr>
          <a:xfrm>
            <a:off x="214200" y="1857240"/>
            <a:ext cx="2071800" cy="500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EL INFORME PERICIAL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79280" y="1341360"/>
            <a:ext cx="210672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24660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14200" y="192888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OR DE TIN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42960" y="2428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G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2928960" y="1928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MAÑO DE PAP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357720" y="2428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6143760" y="1928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º DE COP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715000" y="24289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A PARA CADA PA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85840" y="2786040"/>
            <a:ext cx="200016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I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22 Rectángulo"/>
          <p:cNvSpPr/>
          <p:nvPr/>
        </p:nvSpPr>
        <p:spPr>
          <a:xfrm>
            <a:off x="357120" y="3286080"/>
            <a:ext cx="1428840" cy="357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357120" y="32860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ITU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25 Rectángulo"/>
          <p:cNvSpPr/>
          <p:nvPr/>
        </p:nvSpPr>
        <p:spPr>
          <a:xfrm>
            <a:off x="357120" y="4429080"/>
            <a:ext cx="2071800" cy="500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3143160" y="328608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ITO CONTADOR PRESENTA INFORME PERI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3214800" y="38577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R. JUEZ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357120" y="442908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RODUCCIÓ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2 Marcador de contenido"/>
          <p:cNvSpPr/>
          <p:nvPr/>
        </p:nvSpPr>
        <p:spPr>
          <a:xfrm>
            <a:off x="3000240" y="4286160"/>
            <a:ext cx="48578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MBRE Y APELL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ÁC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ÍTULO PROFESI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ÁTULA Y Nº DE CAU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MICILIO CONSTITU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ZONA DE NO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357120" y="385776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IGIDO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"/>
                            </p:stCondLst>
                            <p:childTnLst>
                              <p:par>
                                <p:cTn id="17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500"/>
                            </p:stCondLst>
                            <p:childTnLst>
                              <p:par>
                                <p:cTn id="18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500"/>
                            </p:stCondLst>
                            <p:childTnLst>
                              <p:par>
                                <p:cTn id="18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500"/>
                            </p:stCondLst>
                            <p:childTnLst>
                              <p:par>
                                <p:cTn id="18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2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2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2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2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20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2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20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7 Llamada de flecha a la izquierda"/>
          <p:cNvSpPr/>
          <p:nvPr/>
        </p:nvSpPr>
        <p:spPr>
          <a:xfrm>
            <a:off x="4140360" y="3500280"/>
            <a:ext cx="4572000" cy="785880"/>
          </a:xfrm>
          <a:prstGeom prst="leftArrowCallout">
            <a:avLst>
              <a:gd name="adj1" fmla="val 25002"/>
              <a:gd name="adj2" fmla="val 25000"/>
              <a:gd name="adj3" fmla="val 63671"/>
              <a:gd name="adj4" fmla="val 8144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5560">
            <a:solidFill>
              <a:srgbClr val="006f6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36 Llamada de flecha a la izquierda"/>
          <p:cNvSpPr/>
          <p:nvPr/>
        </p:nvSpPr>
        <p:spPr>
          <a:xfrm>
            <a:off x="4211640" y="5300640"/>
            <a:ext cx="4714920" cy="1357200"/>
          </a:xfrm>
          <a:prstGeom prst="leftArrowCallout">
            <a:avLst>
              <a:gd name="adj1" fmla="val 9760"/>
              <a:gd name="adj2" fmla="val 22144"/>
              <a:gd name="adj3" fmla="val 39292"/>
              <a:gd name="adj4" fmla="val 8144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5560">
            <a:solidFill>
              <a:srgbClr val="006f6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.P.C.C.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.P.PE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.P.LABO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D CONT.ADM. Y TRIB. CAB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NORMAS APLICABL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14200" y="1571760"/>
            <a:ext cx="4286520" cy="9169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PECTO A LAS COMPETENCIAS Y RESPONSABILIDADES PROFES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86200" y="1571760"/>
            <a:ext cx="396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Y 2048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ÓDIGO DE É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4200" y="2643120"/>
            <a:ext cx="856944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PECTO NORMATIVO APLIC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24660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24000" y="378936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MAS IMPOSITIVA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285840" y="3000240"/>
            <a:ext cx="79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ÓDIGO CIV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285840" y="3357720"/>
            <a:ext cx="79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DIGO D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79280" y="58053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ÓDIGO DE PROCED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50920" y="472428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MAS LABORAL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39 Llamada de flecha a la izquierda"/>
          <p:cNvSpPr/>
          <p:nvPr/>
        </p:nvSpPr>
        <p:spPr>
          <a:xfrm>
            <a:off x="4211640" y="4437000"/>
            <a:ext cx="4500720" cy="785880"/>
          </a:xfrm>
          <a:prstGeom prst="leftArrowCallout">
            <a:avLst>
              <a:gd name="adj1" fmla="val 25002"/>
              <a:gd name="adj2" fmla="val 25000"/>
              <a:gd name="adj3" fmla="val 63686"/>
              <a:gd name="adj4" fmla="val 8144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5560">
            <a:solidFill>
              <a:srgbClr val="006f6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PECÍFICAS P/ACTIV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24000" y="51577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TRAS NORMA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17 Rectángulo"/>
          <p:cNvSpPr/>
          <p:nvPr/>
        </p:nvSpPr>
        <p:spPr>
          <a:xfrm>
            <a:off x="285840" y="4786200"/>
            <a:ext cx="1571400" cy="357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14 Rectángulo"/>
          <p:cNvSpPr/>
          <p:nvPr/>
        </p:nvSpPr>
        <p:spPr>
          <a:xfrm>
            <a:off x="285840" y="1643040"/>
            <a:ext cx="1285920" cy="428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174960" y="6491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500040" y="35712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EL INFORME PER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85840" y="1143000"/>
            <a:ext cx="174924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I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28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ER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357120" y="4786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TITO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3071880" y="1500120"/>
            <a:ext cx="52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CRIBIR LOS PUNTOS PERI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3071880" y="1857240"/>
            <a:ext cx="52862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SPONDER CADA PUNTO PERICIAL INDICANDO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ACIÓN COMPULS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CEDIMIENTO TÉCNICO APLIC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3071880" y="3143160"/>
            <a:ext cx="528624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ÓLO EXPEDIRSE SOBRE CONSTATACIONES CONCRET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EXPEDIRSE SOBRE TEMÁTICA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DERECH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 INCUMBENCIA DE OTRA PROFES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22 Rectángulo"/>
          <p:cNvSpPr/>
          <p:nvPr/>
        </p:nvSpPr>
        <p:spPr>
          <a:xfrm>
            <a:off x="428760" y="5429160"/>
            <a:ext cx="1285920" cy="4287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e0efef"/>
              </a:gs>
            </a:gsLst>
            <a:lin ang="189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428760" y="55008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ER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3143160" y="485784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 PRESENTADO EN LEGAL TIEMPO Y FORM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3071880" y="5357880"/>
            <a:ext cx="5715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ER DE CONFORM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Á JUSTI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RMA Y SE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500"/>
                            </p:stCondLst>
                            <p:childTnLst>
                              <p:par>
                                <p:cTn id="19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Comic Sans MS"/>
              </a:rPr>
              <a:t>PRESENTADO EL INFORME PERICIAL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85840" y="1285920"/>
            <a:ext cx="328608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SLADO A LAS PAR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786200" y="128592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ZO 5 DÍAS</a:t>
            </a:r>
            <a:r>
              <a:rPr b="1" lang="en-US" sz="1800" spc="-1" strike="noStrike">
                <a:solidFill>
                  <a:srgbClr val="5c55e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74960" y="6491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85840" y="1785960"/>
            <a:ext cx="7929360" cy="36828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MPUGNACIONES– PEDIDO ACLARACIONES -OBSERV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85840" y="5072040"/>
            <a:ext cx="3714840" cy="368280"/>
          </a:xfrm>
          <a:prstGeom prst="rect">
            <a:avLst/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LIGACIÓN DE CONTESTA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714240" y="2428920"/>
            <a:ext cx="500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4286160" y="2428920"/>
            <a:ext cx="64296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429080" y="3000240"/>
            <a:ext cx="928800" cy="368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AutoShape 32"/>
          <p:cNvSpPr/>
          <p:nvPr/>
        </p:nvSpPr>
        <p:spPr>
          <a:xfrm rot="20539800">
            <a:off x="4155840" y="3090600"/>
            <a:ext cx="290520" cy="106668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6680"/>
              <a:gd name="textAreaBottom" fmla="*/ 7711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4500720" y="350028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EDE REQUERIR EXPLICACIONES DE OFICIO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43280" y="4143240"/>
            <a:ext cx="39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R ESCRITO O EN AUDIENCI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85840" y="4500720"/>
            <a:ext cx="2928960" cy="3682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RASLADO AL PE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4500720" y="49291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MOCIÓ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ÉRDIDA DE HONORARI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5" dur="indefinite" restart="never" nodeType="tmRoot">
          <p:childTnLst>
            <p:seq>
              <p:cTn id="1946" dur="indefinite" nodeType="mainSeq">
                <p:childTnLst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2"/>
          <p:cNvSpPr/>
          <p:nvPr/>
        </p:nvSpPr>
        <p:spPr>
          <a:xfrm rot="10800000">
            <a:off x="4716000" y="3357720"/>
            <a:ext cx="3310200" cy="2016000"/>
          </a:xfrm>
          <a:prstGeom prst="wedgeRectCallout">
            <a:avLst>
              <a:gd name="adj1" fmla="val -12351"/>
              <a:gd name="adj2" fmla="val 70000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 OFICIAL NOTIFICADOR NOS DEJA UN EJEMPLAR DE LA CÉDULA C/LAS COPIAS ADJUNTAS, CONSIGNA DÍA Y HORA DE ENTREGA Y SU FIR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42960" y="2143080"/>
            <a:ext cx="4357800" cy="107172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OR CÉDULA U OTRO MED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UTORIZADO POR EL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57160" y="1285920"/>
            <a:ext cx="4032360" cy="7189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O NOS ENTERAMOS 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PRIMER DESIGNACIÓN</a:t>
            </a:r>
            <a:r>
              <a:rPr b="1" i="1" lang="en-US" sz="44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39640" y="638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30"/>
          <p:cNvSpPr/>
          <p:nvPr/>
        </p:nvSpPr>
        <p:spPr>
          <a:xfrm rot="10800000">
            <a:off x="1213920" y="4409640"/>
            <a:ext cx="4969080" cy="1233720"/>
          </a:xfrm>
          <a:prstGeom prst="wedgeRectCallout">
            <a:avLst>
              <a:gd name="adj1" fmla="val 342"/>
              <a:gd name="adj2" fmla="val 78870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 OBLIGACIÓN DEL AUXILIAR DE JUSTICIA MANTENER ACTUALIZADO SU DOMICILIO CONSTITUI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32"/>
          <p:cNvSpPr/>
          <p:nvPr/>
        </p:nvSpPr>
        <p:spPr>
          <a:xfrm rot="20539800">
            <a:off x="512280" y="1447560"/>
            <a:ext cx="290520" cy="1066680"/>
          </a:xfrm>
          <a:custGeom>
            <a:avLst/>
            <a:gdLst>
              <a:gd name="textAreaLeft" fmla="*/ 38880 w 290520"/>
              <a:gd name="textAreaRight" fmla="*/ 251640 w 290520"/>
              <a:gd name="textAreaTop" fmla="*/ 179280 h 1066680"/>
              <a:gd name="textAreaBottom" fmla="*/ 77112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6" stAng="-5400000" swAng="-5400000"/>
                <a:lnTo>
                  <a:pt x="0" y="11978"/>
                </a:lnTo>
                <a:arcTo wR="21600" hR="7266" stAng="10800000" swAng="-2614493"/>
                <a:lnTo>
                  <a:pt x="14400" y="21184"/>
                </a:lnTo>
                <a:lnTo>
                  <a:pt x="21600" y="16888"/>
                </a:lnTo>
                <a:lnTo>
                  <a:pt x="14400" y="11760"/>
                </a:lnTo>
                <a:lnTo>
                  <a:pt x="14400" y="14116"/>
                </a:lnTo>
                <a:arcTo wR="21600" hR="7266" stAng="8185507" swAng="2219850"/>
                <a:lnTo>
                  <a:pt x="1167" y="9622"/>
                </a:lnTo>
                <a:arcTo wR="21600" hR="7266" stAng="-10405358" swAng="5005358"/>
                <a:close/>
              </a:path>
              <a:path fill="darkenLess" w="21600" h="21600">
                <a:moveTo>
                  <a:pt x="21600" y="0"/>
                </a:moveTo>
                <a:arcTo wR="21600" hR="7266" stAng="-5400000" swAng="-5400000"/>
                <a:lnTo>
                  <a:pt x="0" y="7266"/>
                </a:lnTo>
                <a:arcTo wR="21600" hR="7266" stAng="10800000" swAng="-394642"/>
                <a:lnTo>
                  <a:pt x="1167" y="9622"/>
                </a:lnTo>
                <a:arcTo wR="21600" hR="7266" stAng="-10405358" swAng="5005358"/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64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21 Llamada de flecha a la izquierda"/>
          <p:cNvSpPr/>
          <p:nvPr/>
        </p:nvSpPr>
        <p:spPr>
          <a:xfrm>
            <a:off x="4857840" y="2143080"/>
            <a:ext cx="4071960" cy="785880"/>
          </a:xfrm>
          <a:prstGeom prst="leftArrowCallout">
            <a:avLst>
              <a:gd name="adj1" fmla="val 17242"/>
              <a:gd name="adj2" fmla="val 25000"/>
              <a:gd name="adj3" fmla="val 75298"/>
              <a:gd name="adj4" fmla="val 8144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5560">
            <a:solidFill>
              <a:srgbClr val="006f6f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 DOMICILIO QUE CONSIGNAMOS AL MOMENTO DE LA INSCRIP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857160" y="3286080"/>
            <a:ext cx="5643720" cy="71928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 SI EN EL INTERIN NOS MUDAMOS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56760" y="4643280"/>
            <a:ext cx="8358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Urgente, Notificar en el día, Habilitación de día y hora inhábi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OBSERVACIONES ESPECIALES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Insania art.626-Amparo-Habeas Corpus–arts.682/683/684–art.339/141 CPCC-art.129 CPP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9640" y="638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9966"/>
                </a:solidFill>
                <a:latin typeface="Tahoma"/>
              </a:rPr>
              <a:t>CO </a:t>
            </a: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ODER JUDICIAL DE LA NACIO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TRIBUNAL: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Juzgado Nacional de 1º Instancia en Comercial Nº 11 Secretaría 22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v.Callao 635 P:5, Capital Federal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6215040" y="100008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DULA DE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8 Rectángulo"/>
          <p:cNvSpPr/>
          <p:nvPr/>
        </p:nvSpPr>
        <p:spPr>
          <a:xfrm>
            <a:off x="6143760" y="1643040"/>
            <a:ext cx="1928520" cy="214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10 CuadroTexto"/>
          <p:cNvSpPr/>
          <p:nvPr/>
        </p:nvSpPr>
        <p:spPr>
          <a:xfrm>
            <a:off x="714240" y="2286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CHA DE RECEPCION EN NOTIFICACION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11 CuadroTexto"/>
          <p:cNvSpPr/>
          <p:nvPr/>
        </p:nvSpPr>
        <p:spPr>
          <a:xfrm>
            <a:off x="6143760" y="378612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LO DEL FUE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12 CuadroTexto"/>
          <p:cNvSpPr/>
          <p:nvPr/>
        </p:nvSpPr>
        <p:spPr>
          <a:xfrm>
            <a:off x="428760" y="39290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Sr.:  X. X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omicilio: Calle, Piso, Dept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14 CuadroTexto"/>
          <p:cNvSpPr/>
          <p:nvPr/>
        </p:nvSpPr>
        <p:spPr>
          <a:xfrm>
            <a:off x="5786280" y="41432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ITUI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15 Llamada de flecha izquierda y derecha"/>
          <p:cNvSpPr/>
          <p:nvPr/>
        </p:nvSpPr>
        <p:spPr>
          <a:xfrm>
            <a:off x="1571760" y="4000680"/>
            <a:ext cx="4143240" cy="571320"/>
          </a:xfrm>
          <a:custGeom>
            <a:avLst/>
            <a:gdLst>
              <a:gd name="textAreaLeft" fmla="*/ 1074600 w 4143240"/>
              <a:gd name="textAreaRight" fmla="*/ 3068640 w 41432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663" y="8100"/>
                </a:lnTo>
                <a:lnTo>
                  <a:pt x="19663" y="5500"/>
                </a:lnTo>
                <a:lnTo>
                  <a:pt x="21600" y="10800"/>
                </a:lnTo>
                <a:lnTo>
                  <a:pt x="19663" y="16100"/>
                </a:lnTo>
                <a:lnTo>
                  <a:pt x="19663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1937" y="13500"/>
                </a:lnTo>
                <a:lnTo>
                  <a:pt x="1937" y="16100"/>
                </a:lnTo>
                <a:lnTo>
                  <a:pt x="0" y="10800"/>
                </a:lnTo>
                <a:lnTo>
                  <a:pt x="1937" y="5500"/>
                </a:lnTo>
                <a:lnTo>
                  <a:pt x="1937" y="8100"/>
                </a:lnTo>
                <a:lnTo>
                  <a:pt x="5603" y="8100"/>
                </a:ln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DE LA INSCRIP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16 Explosión 1"/>
          <p:cNvSpPr/>
          <p:nvPr/>
        </p:nvSpPr>
        <p:spPr>
          <a:xfrm>
            <a:off x="1643040" y="4286160"/>
            <a:ext cx="4857840" cy="207180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6000000"/>
          </a:gra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17 CuadroTexto"/>
          <p:cNvSpPr/>
          <p:nvPr/>
        </p:nvSpPr>
        <p:spPr>
          <a:xfrm>
            <a:off x="2500200" y="48578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 MANTIENE HASTA QUE LO MODIFIQUEM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Hago saber a Ud. que en el expediente caratulado: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“XXX  c/ZZZ  s/ A.A.A.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que se tramita ante este Tribunal se ha dictado la siguient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OLUCION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“Buenos Aires, …  de ……de 2011. Desígnase Perito Contador a X.X, con domicilio en ….., para que previa aceptación del cargo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ntro del tercer día de notificad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cumpla con la labor encomendada, y presente su inform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ntro del plazo de x x x x días posteriores a la aceptació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todo bajo apercibimiento de remoción y posterior comunicación a la Excma. Cámara Nacional de Apelaciones del Fuero… Notifíquese…..”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13 Rectángulo"/>
          <p:cNvSpPr/>
          <p:nvPr/>
        </p:nvSpPr>
        <p:spPr>
          <a:xfrm>
            <a:off x="7858080" y="428760"/>
            <a:ext cx="857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15 CuadroTexto"/>
          <p:cNvSpPr/>
          <p:nvPr/>
        </p:nvSpPr>
        <p:spPr>
          <a:xfrm>
            <a:off x="7929720" y="5000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OB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16 Rectángulo"/>
          <p:cNvSpPr/>
          <p:nvPr/>
        </p:nvSpPr>
        <p:spPr>
          <a:xfrm>
            <a:off x="7072200" y="428760"/>
            <a:ext cx="78588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17 Rectángulo"/>
          <p:cNvSpPr/>
          <p:nvPr/>
        </p:nvSpPr>
        <p:spPr>
          <a:xfrm>
            <a:off x="6143760" y="428760"/>
            <a:ext cx="92844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18 Rectángulo"/>
          <p:cNvSpPr/>
          <p:nvPr/>
        </p:nvSpPr>
        <p:spPr>
          <a:xfrm>
            <a:off x="4429080" y="428760"/>
            <a:ext cx="857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19 Rectángulo"/>
          <p:cNvSpPr/>
          <p:nvPr/>
        </p:nvSpPr>
        <p:spPr>
          <a:xfrm>
            <a:off x="5286240" y="428760"/>
            <a:ext cx="85752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20 Rectángulo"/>
          <p:cNvSpPr/>
          <p:nvPr/>
        </p:nvSpPr>
        <p:spPr>
          <a:xfrm>
            <a:off x="571680" y="428760"/>
            <a:ext cx="857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21 Rectángulo"/>
          <p:cNvSpPr/>
          <p:nvPr/>
        </p:nvSpPr>
        <p:spPr>
          <a:xfrm>
            <a:off x="1428840" y="428760"/>
            <a:ext cx="128592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22 Rectángulo"/>
          <p:cNvSpPr/>
          <p:nvPr/>
        </p:nvSpPr>
        <p:spPr>
          <a:xfrm>
            <a:off x="2714760" y="428760"/>
            <a:ext cx="857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23 Rectángulo"/>
          <p:cNvSpPr/>
          <p:nvPr/>
        </p:nvSpPr>
        <p:spPr>
          <a:xfrm>
            <a:off x="3571920" y="428760"/>
            <a:ext cx="857160" cy="85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27 CuadroTexto"/>
          <p:cNvSpPr/>
          <p:nvPr/>
        </p:nvSpPr>
        <p:spPr>
          <a:xfrm>
            <a:off x="6072120" y="5000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/NO COP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28 CuadroTexto"/>
          <p:cNvSpPr/>
          <p:nvPr/>
        </p:nvSpPr>
        <p:spPr>
          <a:xfrm>
            <a:off x="7072200" y="5000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29 CuadroTexto"/>
          <p:cNvSpPr/>
          <p:nvPr/>
        </p:nvSpPr>
        <p:spPr>
          <a:xfrm>
            <a:off x="4500720" y="50004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JUZ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30 CuadroTexto"/>
          <p:cNvSpPr/>
          <p:nvPr/>
        </p:nvSpPr>
        <p:spPr>
          <a:xfrm>
            <a:off x="5286240" y="500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2 SE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31 CuadroTexto"/>
          <p:cNvSpPr/>
          <p:nvPr/>
        </p:nvSpPr>
        <p:spPr>
          <a:xfrm>
            <a:off x="500040" y="5000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32 CuadroTexto"/>
          <p:cNvSpPr/>
          <p:nvPr/>
        </p:nvSpPr>
        <p:spPr>
          <a:xfrm>
            <a:off x="1500120" y="500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257/10  EXP N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33 CuadroTexto"/>
          <p:cNvSpPr/>
          <p:nvPr/>
        </p:nvSpPr>
        <p:spPr>
          <a:xfrm>
            <a:off x="2786040" y="5000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34 CuadroTexto"/>
          <p:cNvSpPr/>
          <p:nvPr/>
        </p:nvSpPr>
        <p:spPr>
          <a:xfrm>
            <a:off x="3500280" y="5000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 FU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30"/>
          <p:cNvSpPr/>
          <p:nvPr/>
        </p:nvSpPr>
        <p:spPr>
          <a:xfrm rot="10800000">
            <a:off x="285840" y="1785600"/>
            <a:ext cx="2928960" cy="785880"/>
          </a:xfrm>
          <a:prstGeom prst="wedgeRectCallout">
            <a:avLst>
              <a:gd name="adj1" fmla="val 29398"/>
              <a:gd name="adj2" fmla="val 111856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 UN Nº DE ORDEN DEL DÍA, OTORGADO POR EL JUZG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30"/>
          <p:cNvSpPr/>
          <p:nvPr/>
        </p:nvSpPr>
        <p:spPr>
          <a:xfrm rot="10800000">
            <a:off x="826560" y="1844280"/>
            <a:ext cx="3429000" cy="1368360"/>
          </a:xfrm>
          <a:prstGeom prst="wedgeRectCallout">
            <a:avLst>
              <a:gd name="adj1" fmla="val 3930"/>
              <a:gd name="adj2" fmla="val 90949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º DE EXPTE OTORGADO POR LA CAMARA DE APELACION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 FUERO COMERCIAL ES EL NÚMERO DE CAUSA DEL JUZGADO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30"/>
          <p:cNvSpPr/>
          <p:nvPr/>
        </p:nvSpPr>
        <p:spPr>
          <a:xfrm rot="10800000">
            <a:off x="1571400" y="1642680"/>
            <a:ext cx="4500360" cy="1354320"/>
          </a:xfrm>
          <a:prstGeom prst="wedgeRectCallout">
            <a:avLst>
              <a:gd name="adj1" fmla="val 11550"/>
              <a:gd name="adj2" fmla="val 8927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LIGENCIA LA OFICINA DE NOTIFICACION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 CIUDAD ESTA DIVIDIDA EN ZON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DA ZONA TIENE SU OFICIAL NOTIFICAD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30"/>
          <p:cNvSpPr/>
          <p:nvPr/>
        </p:nvSpPr>
        <p:spPr>
          <a:xfrm rot="10800000">
            <a:off x="3564000" y="1557360"/>
            <a:ext cx="3357360" cy="920880"/>
          </a:xfrm>
          <a:prstGeom prst="wedgeRectCallout">
            <a:avLst>
              <a:gd name="adj1" fmla="val 305"/>
              <a:gd name="adj2" fmla="val 77412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54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DA JUZGADO PUEDE TENER UNA, DOS O MÁS SECRETARÍA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0 Rectángulo"/>
          <p:cNvSpPr/>
          <p:nvPr/>
        </p:nvSpPr>
        <p:spPr>
          <a:xfrm>
            <a:off x="571680" y="435780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da Ud. notificad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41 Rectángulo"/>
          <p:cNvSpPr/>
          <p:nvPr/>
        </p:nvSpPr>
        <p:spPr>
          <a:xfrm>
            <a:off x="6429240" y="5643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42 Rectángulo"/>
          <p:cNvSpPr/>
          <p:nvPr/>
        </p:nvSpPr>
        <p:spPr>
          <a:xfrm>
            <a:off x="4714920" y="4786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enos Aires, … de…..de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30"/>
          <p:cNvSpPr/>
          <p:nvPr/>
        </p:nvSpPr>
        <p:spPr>
          <a:xfrm rot="10800000">
            <a:off x="2916360" y="5214600"/>
            <a:ext cx="2441520" cy="857160"/>
          </a:xfrm>
          <a:prstGeom prst="wedgeRectCallout">
            <a:avLst>
              <a:gd name="adj1" fmla="val -92458"/>
              <a:gd name="adj2" fmla="val -24078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TRADO DE LA PARTE INTERESADA EN LA PERI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31968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55736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rt. 469 C.P.C.C.N. - dentro del tercer día de notificado de su design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2857320" cy="3700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ZO PARA ACEPTAR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700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DE CUANDO SE CUENTA 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5 Rectángulo"/>
          <p:cNvSpPr/>
          <p:nvPr/>
        </p:nvSpPr>
        <p:spPr>
          <a:xfrm>
            <a:off x="428760" y="2286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de el día siguiente al de recepción de la not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0040" y="521568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O SE CUENTAN LOS PLAZ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7 Rectángulo"/>
          <p:cNvSpPr/>
          <p:nvPr/>
        </p:nvSpPr>
        <p:spPr>
          <a:xfrm>
            <a:off x="500040" y="5643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r días y horas hábiles judiciale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unes a Viernes 7,30 a 13.30 h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o se cuentan sábados, domingos, feriados, días de ferias judic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8 Rectángulo"/>
          <p:cNvSpPr/>
          <p:nvPr/>
        </p:nvSpPr>
        <p:spPr>
          <a:xfrm>
            <a:off x="642960" y="500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ACEP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9 Rectángulo"/>
          <p:cNvSpPr/>
          <p:nvPr/>
        </p:nvSpPr>
        <p:spPr>
          <a:xfrm>
            <a:off x="500040" y="27147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RESENTACIÓN DEL INFOR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95280" y="321372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ZO PARA PRESENTAR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11 Rectángulo"/>
          <p:cNvSpPr/>
          <p:nvPr/>
        </p:nvSpPr>
        <p:spPr>
          <a:xfrm>
            <a:off x="428760" y="36432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rt 460 C.P.C.C.N.: Lo fija es Juez. Si la resolución no señala el plazo, se entiende que es de 15 dí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28760" y="4358520"/>
            <a:ext cx="8229600" cy="36828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DE CUANDO SE CUENTA 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13 Rectángulo"/>
          <p:cNvSpPr/>
          <p:nvPr/>
        </p:nvSpPr>
        <p:spPr>
          <a:xfrm>
            <a:off x="428760" y="4786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de el día siguiente al de la aceptación del car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1"/>
          <p:cNvSpPr/>
          <p:nvPr/>
        </p:nvSpPr>
        <p:spPr>
          <a:xfrm>
            <a:off x="31968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1 Decisión"/>
          <p:cNvSpPr/>
          <p:nvPr/>
        </p:nvSpPr>
        <p:spPr>
          <a:xfrm>
            <a:off x="1692360" y="2133720"/>
            <a:ext cx="5357880" cy="1000080"/>
          </a:xfrm>
          <a:prstGeom prst="flowChartDecision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55"/>
          <p:cNvSpPr/>
          <p:nvPr/>
        </p:nvSpPr>
        <p:spPr>
          <a:xfrm rot="316200">
            <a:off x="3492000" y="3357720"/>
            <a:ext cx="5472360" cy="1655640"/>
          </a:xfrm>
          <a:prstGeom prst="irregularSeal2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082000"/>
          </a:gra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395280" y="907920"/>
            <a:ext cx="7891560" cy="71928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 APERSONO EN LA MESA DE ENTRADAS DEL JUZ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88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1cd2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COMO ACEPTO EL CARGO</a:t>
            </a:r>
            <a:r>
              <a:rPr b="1" i="1" lang="en-US" sz="4000" spc="-1" strike="noStrike">
                <a:solidFill>
                  <a:srgbClr val="251cd2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468360" y="3068640"/>
            <a:ext cx="30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LSAR EL EXP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95280" y="1700280"/>
            <a:ext cx="6769080" cy="43164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481"/>
                </a:solidFill>
                <a:latin typeface="Comic Sans MS"/>
              </a:rPr>
              <a:t>SOLICITO EL EXPE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468360" y="3789360"/>
            <a:ext cx="3000240" cy="42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TIRAR COPIAS PARA PERI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1"/>
          <p:cNvSpPr/>
          <p:nvPr/>
        </p:nvSpPr>
        <p:spPr>
          <a:xfrm>
            <a:off x="31968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12 Decisión"/>
          <p:cNvSpPr/>
          <p:nvPr/>
        </p:nvSpPr>
        <p:spPr>
          <a:xfrm>
            <a:off x="395280" y="2421000"/>
            <a:ext cx="857160" cy="642960"/>
          </a:xfrm>
          <a:prstGeom prst="flowChartDecision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13 Decisión"/>
          <p:cNvSpPr/>
          <p:nvPr/>
        </p:nvSpPr>
        <p:spPr>
          <a:xfrm>
            <a:off x="7093080" y="2349360"/>
            <a:ext cx="1000080" cy="642960"/>
          </a:xfrm>
          <a:prstGeom prst="flowChartDecision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14 CuadroTexto"/>
          <p:cNvSpPr/>
          <p:nvPr/>
        </p:nvSpPr>
        <p:spPr>
          <a:xfrm>
            <a:off x="2268360" y="2421000"/>
            <a:ext cx="43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481"/>
                </a:solidFill>
                <a:latin typeface="Comic Sans MS"/>
              </a:rPr>
              <a:t>EL EXPEDIENTE ESTÁ EN LETRA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4000680" y="3857760"/>
            <a:ext cx="452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468360" y="3429000"/>
            <a:ext cx="30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CEPTAR EL CAR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17 Rectángulo"/>
          <p:cNvSpPr/>
          <p:nvPr/>
        </p:nvSpPr>
        <p:spPr>
          <a:xfrm>
            <a:off x="4643280" y="306864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PUEDO HACER NINGUNA DE LAS TRES COS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19 Rectángulo"/>
          <p:cNvSpPr/>
          <p:nvPr/>
        </p:nvSpPr>
        <p:spPr>
          <a:xfrm>
            <a:off x="4356000" y="378936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BO VOLVER OTRO DÍA A LA MESA DE ENTR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20 Rectángulo"/>
          <p:cNvSpPr/>
          <p:nvPr/>
        </p:nvSpPr>
        <p:spPr>
          <a:xfrm>
            <a:off x="4716360" y="386064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ACEPTAR EN HOJA SUEL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12 Rectángulo"/>
          <p:cNvSpPr/>
          <p:nvPr/>
        </p:nvSpPr>
        <p:spPr>
          <a:xfrm>
            <a:off x="755640" y="46530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LEVAR PREPARADO UN ESCRITO, MANIFESTAND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 SE HA CONCURRIDO EN REITERADAS OPORTUNIDADES A LOS FINES DE ACEPTAR EL CARGO, Y LAS ACTUACIONES NO SE ENCONTRABAN EN LET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SOLICITANDO SE REPONGA EL EXPEDIENTE EN CASILLE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INTERÍN, SE SUSPENDAN DE LOS TÉRMINOS PARA ACEPTAR EL CAR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10"/>
          <p:cNvSpPr/>
          <p:nvPr/>
        </p:nvSpPr>
        <p:spPr>
          <a:xfrm>
            <a:off x="3429000" y="2714760"/>
            <a:ext cx="928800" cy="0"/>
          </a:xfrm>
          <a:prstGeom prst="line">
            <a:avLst/>
          </a:prstGeom>
          <a:ln cap="sq" w="76320">
            <a:solidFill>
              <a:srgbClr val="cc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PUEDO NO ACEPTAR EL CARGO ? ? 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4660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57120" y="1500120"/>
            <a:ext cx="2919600" cy="5605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RT. 469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16 Rectángulo"/>
          <p:cNvSpPr/>
          <p:nvPr/>
        </p:nvSpPr>
        <p:spPr>
          <a:xfrm>
            <a:off x="357120" y="2286000"/>
            <a:ext cx="2786040" cy="3373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L PERITO NO ACEPT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18 Rectángulo"/>
          <p:cNvSpPr/>
          <p:nvPr/>
        </p:nvSpPr>
        <p:spPr>
          <a:xfrm>
            <a:off x="428760" y="2714760"/>
            <a:ext cx="2786040" cy="82404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 NO CONCURRIERE DENTRO DEL PLAZO FIJ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21 Rectángulo"/>
          <p:cNvSpPr/>
          <p:nvPr/>
        </p:nvSpPr>
        <p:spPr>
          <a:xfrm>
            <a:off x="5929200" y="2214720"/>
            <a:ext cx="1143000" cy="428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22 CuadroTexto"/>
          <p:cNvSpPr/>
          <p:nvPr/>
        </p:nvSpPr>
        <p:spPr>
          <a:xfrm>
            <a:off x="6072120" y="2214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23 Rectángulo"/>
          <p:cNvSpPr/>
          <p:nvPr/>
        </p:nvSpPr>
        <p:spPr>
          <a:xfrm>
            <a:off x="5214960" y="2786040"/>
            <a:ext cx="3286080" cy="33732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IGNA A OTRO PERI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24 Rectángulo"/>
          <p:cNvSpPr/>
          <p:nvPr/>
        </p:nvSpPr>
        <p:spPr>
          <a:xfrm>
            <a:off x="5715000" y="3214800"/>
            <a:ext cx="2786040" cy="3373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OF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25 Rectángulo"/>
          <p:cNvSpPr/>
          <p:nvPr/>
        </p:nvSpPr>
        <p:spPr>
          <a:xfrm>
            <a:off x="5715000" y="3643200"/>
            <a:ext cx="2786040" cy="3373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OTRO TRÁMI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30"/>
          <p:cNvSpPr/>
          <p:nvPr/>
        </p:nvSpPr>
        <p:spPr>
          <a:xfrm rot="10800000">
            <a:off x="2916360" y="3716280"/>
            <a:ext cx="1714320" cy="642960"/>
          </a:xfrm>
          <a:prstGeom prst="wedgeRectCallout">
            <a:avLst>
              <a:gd name="adj1" fmla="val -98435"/>
              <a:gd name="adj2" fmla="val 27314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QUE SE SUSTANCI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30"/>
          <p:cNvSpPr/>
          <p:nvPr/>
        </p:nvSpPr>
        <p:spPr>
          <a:xfrm rot="10800000">
            <a:off x="2857680" y="3286080"/>
            <a:ext cx="1714320" cy="642960"/>
          </a:xfrm>
          <a:prstGeom prst="wedgeRectCallout">
            <a:avLst>
              <a:gd name="adj1" fmla="val -99148"/>
              <a:gd name="adj2" fmla="val 34425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QUE MEDIE PETI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28 Rectángulo"/>
          <p:cNvSpPr/>
          <p:nvPr/>
        </p:nvSpPr>
        <p:spPr>
          <a:xfrm>
            <a:off x="5357880" y="4143240"/>
            <a:ext cx="3143160" cy="58068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UNICA A LA CÁMARA DE APELACION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29 Rectángulo"/>
          <p:cNvSpPr/>
          <p:nvPr/>
        </p:nvSpPr>
        <p:spPr>
          <a:xfrm>
            <a:off x="5715000" y="4786200"/>
            <a:ext cx="2786040" cy="3373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LUYE DE LA LI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30 Rectángulo"/>
          <p:cNvSpPr/>
          <p:nvPr/>
        </p:nvSpPr>
        <p:spPr>
          <a:xfrm>
            <a:off x="5715000" y="5214960"/>
            <a:ext cx="278604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UNICA AL C.P.C.E.C.A.B.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30"/>
          <p:cNvSpPr/>
          <p:nvPr/>
        </p:nvSpPr>
        <p:spPr>
          <a:xfrm rot="10800000">
            <a:off x="2627280" y="5286240"/>
            <a:ext cx="1944720" cy="642960"/>
          </a:xfrm>
          <a:prstGeom prst="wedgeRectCallout">
            <a:avLst>
              <a:gd name="adj1" fmla="val -92694"/>
              <a:gd name="adj2" fmla="val 27282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CIONES PROFES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0"/>
          <p:cNvSpPr/>
          <p:nvPr/>
        </p:nvSpPr>
        <p:spPr>
          <a:xfrm rot="10800000">
            <a:off x="499680" y="3571920"/>
            <a:ext cx="1714680" cy="642960"/>
          </a:xfrm>
          <a:prstGeom prst="wedgeRectCallout">
            <a:avLst>
              <a:gd name="adj1" fmla="val -17370"/>
              <a:gd name="adj2" fmla="val 212203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 CAUSA JUSTIFIC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17 Rectángulo"/>
          <p:cNvSpPr/>
          <p:nvPr/>
        </p:nvSpPr>
        <p:spPr>
          <a:xfrm>
            <a:off x="250920" y="5877000"/>
            <a:ext cx="3571920" cy="428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12 Rectángulo"/>
          <p:cNvSpPr/>
          <p:nvPr/>
        </p:nvSpPr>
        <p:spPr>
          <a:xfrm>
            <a:off x="4500720" y="5877000"/>
            <a:ext cx="2000160" cy="428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62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4200" y="380880"/>
            <a:ext cx="8715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c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CAUSALES QUE JUSTIFICAN LA NO ACEPTACIÓN DEL CARGO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5840" y="1571760"/>
            <a:ext cx="3643200" cy="58068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BER PEDIDO LICENCIA ANTE LA CÁMARA DE APELACION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Rectángulo"/>
          <p:cNvSpPr/>
          <p:nvPr/>
        </p:nvSpPr>
        <p:spPr>
          <a:xfrm>
            <a:off x="285840" y="2357280"/>
            <a:ext cx="3643200" cy="824040"/>
          </a:xfrm>
          <a:prstGeom prst="rect">
            <a:avLst/>
          </a:prstGeom>
          <a:noFill/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TAR COMPRENDIDO EN ALGUNA DE LAS CAUSALES DE RECUS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071960" y="3786120"/>
            <a:ext cx="2214720" cy="50004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ART. 17 C.P.C.C.N</a:t>
            </a:r>
            <a:r>
              <a:rPr b="1" lang="es-ES" sz="2000" spc="-1" strike="noStrike">
                <a:solidFill>
                  <a:srgbClr val="2b5481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30"/>
          <p:cNvSpPr/>
          <p:nvPr/>
        </p:nvSpPr>
        <p:spPr>
          <a:xfrm rot="10800000">
            <a:off x="5429160" y="1428120"/>
            <a:ext cx="3143520" cy="1568520"/>
          </a:xfrm>
          <a:prstGeom prst="wedgeRectCallout">
            <a:avLst>
              <a:gd name="adj1" fmla="val 91361"/>
              <a:gd name="adj2" fmla="val 22467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ESENTAR ESCRITO HACIENDO SABER AL JUZGADO DICHA SITUAC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ASO CONTRARIO, EL JUZGADO PUEDE APLICAR EL 469 C.P.C.C.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30"/>
          <p:cNvSpPr/>
          <p:nvPr/>
        </p:nvSpPr>
        <p:spPr>
          <a:xfrm rot="10800000">
            <a:off x="5286240" y="3357360"/>
            <a:ext cx="3143520" cy="1143000"/>
          </a:xfrm>
          <a:prstGeom prst="wedgeRectCallout">
            <a:avLst>
              <a:gd name="adj1" fmla="val 95680"/>
              <a:gd name="adj2" fmla="val 7347"/>
            </a:avLst>
          </a:prstGeom>
          <a:gradFill rotWithShape="0">
            <a:gsLst>
              <a:gs pos="0">
                <a:srgbClr val="0000cc"/>
              </a:gs>
              <a:gs pos="100000">
                <a:srgbClr val="e0efef"/>
              </a:gs>
            </a:gsLst>
            <a:lin ang="10800000"/>
          </a:gradFill>
          <a:ln w="28440">
            <a:solidFill>
              <a:srgbClr val="251c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USA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ESCRITO ANTE EL JUZGADO, DENTRO DEL PLAZO PARA ACEPTAR EL CAR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8 Rectángulo"/>
          <p:cNvSpPr/>
          <p:nvPr/>
        </p:nvSpPr>
        <p:spPr>
          <a:xfrm>
            <a:off x="642960" y="3357720"/>
            <a:ext cx="314316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TA DE TÍTULO HABILITAN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9 Rectángulo"/>
          <p:cNvSpPr/>
          <p:nvPr/>
        </p:nvSpPr>
        <p:spPr>
          <a:xfrm>
            <a:off x="642960" y="3786120"/>
            <a:ext cx="314316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USAL DE RECUSACIÓN DE LOS JUEC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179280" y="4508640"/>
            <a:ext cx="8786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ENTESCO: POR CONSANGUINIDAD HASTA EL CUARTO GRADO, POR AFINIDAD HASTA SEGUNDO GRAD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EITO PENDI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 ACREEDOR/DEUDOR/FIADOR DE ALGUNA DE LAS PAR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ES EN EL PLEITO O EN OTRO SEMEJANTE O SOCIEDAD (SALVO S.A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NER AMISTAD/ENEMISTAD MANIFIE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11 CuadroTexto"/>
          <p:cNvSpPr/>
          <p:nvPr/>
        </p:nvSpPr>
        <p:spPr>
          <a:xfrm>
            <a:off x="4572000" y="5929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 RESUEL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13 Rectángulo"/>
          <p:cNvSpPr/>
          <p:nvPr/>
        </p:nvSpPr>
        <p:spPr>
          <a:xfrm>
            <a:off x="1857240" y="4714920"/>
            <a:ext cx="3143520" cy="3373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LADO A LAS PART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14 Rectángulo"/>
          <p:cNvSpPr/>
          <p:nvPr/>
        </p:nvSpPr>
        <p:spPr>
          <a:xfrm>
            <a:off x="4643280" y="5214960"/>
            <a:ext cx="1714680" cy="3373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OPONE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15 Rectángulo"/>
          <p:cNvSpPr/>
          <p:nvPr/>
        </p:nvSpPr>
        <p:spPr>
          <a:xfrm>
            <a:off x="285840" y="5143680"/>
            <a:ext cx="2071440" cy="5806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 DE ACUER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16 CuadroTexto"/>
          <p:cNvSpPr/>
          <p:nvPr/>
        </p:nvSpPr>
        <p:spPr>
          <a:xfrm>
            <a:off x="179280" y="587700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EZ DESIGNA A OTRO PER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74960" y="6308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51cd2"/>
                </a:solidFill>
                <a:latin typeface="Tahoma"/>
              </a:rPr>
              <a:t>Dra. Olga Ester Fagn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6:24:23Z</dcterms:created>
  <dc:creator>olga</dc:creator>
  <dc:description/>
  <dc:language>en-US</dc:language>
  <cp:lastModifiedBy>CPCEACABA</cp:lastModifiedBy>
  <dcterms:modified xsi:type="dcterms:W3CDTF">2011-03-17T22:14:03Z</dcterms:modified>
  <cp:revision>248</cp:revision>
  <dc:subject/>
  <dc:title>CONCILIACIÓN LABORAL</dc:title>
</cp:coreProperties>
</file>