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0AE-AB4B-4669-A139-D040A57B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BC8-C1F4-4503-A61A-AECBE1EA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E26-1AD0-4D85-8F83-1F4CA5BC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6AB-FC49-4C8A-B55B-063DA4E6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A5E-0158-42B9-92CD-129743D4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3B39-D7F6-433C-965A-B96C5C8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F1FE-1CCA-46B0-8FB0-5EDBE6F2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C3E-85C5-4727-86AA-EED07E2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F2D-4CA0-4F7F-887C-43D21CB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CEFD-944C-4E6E-9541-58188DE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578-021D-40FC-B44F-957DEC7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D00-4E29-442E-B458-36584EA8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E511-F529-4350-8FB9-6354675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08F-E774-42F4-B0E0-E90820F8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36E-A220-474F-B656-D75FD0F9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6261-D1FA-4DE3-B22E-7FFB5171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94D-EB59-4E29-9DA0-F308EDB6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45C7-F169-4806-A6DD-C00E89FA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455E-EAD3-430D-91E1-8E09CF5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C6ED-A193-452B-9E8A-C6216F4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434B-4920-47CD-8541-DD2AFCEF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4944-180F-4C6F-A924-7662215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03-A096-4BE2-BCBE-0E311FF7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9FC6-885E-4511-AB02-A74621D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E250-82DD-42BA-A5B3-168F1A3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D5E1-DECD-4376-8744-04E6CA3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4351-803A-47E8-83FB-79BABC6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58ED-92E7-458C-8AF3-7F4959D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F432-16F8-4EF6-B41D-4B481672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EA6B-2D64-4822-897F-811D4F7B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3E6E-C3F7-41E9-86FB-3C3394E9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BE78-BE0C-4C54-9BFE-E84245F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A278-A436-4F73-A74A-620BEA8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656-65EA-43E6-A200-895A107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A87F-F816-4875-A8DF-9BBA1B33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B9EC-F666-4DBC-ADDB-6D7FAF5A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5361-478F-405A-B0BD-EFC7FDB9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8395-2DF8-427B-B234-651A455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73BB-DFA0-44DD-A0BE-D642A934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68AB-7011-4783-8643-DEB686C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6736-0FCE-4607-A728-D9ACC0A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DD3E-B29F-4223-9E2B-854EEEDC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8B6A-2080-48E3-935D-6170B402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A757-0A2C-4FEA-9CB0-4C0400EE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CCE-7BC4-4CDC-8E00-BD2B39E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843C-6184-4205-A7E7-926B3E20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493E-9597-436C-9D2B-B39E280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6A87-2004-4B36-AE29-BC5147C0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2903-D5F5-4057-9273-40F33304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BD2B-6ECD-4074-8F97-62E4D9C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67B5-9120-4712-B325-EACAD06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27715-C795-413A-89DC-E2EBBCF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B1B3-AAE5-47A2-8C00-806A49C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999A-5A13-4656-9A55-B353BA6A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030D-BE8A-4023-910D-3E937770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BD2-CC40-4FF3-B2D4-B2809554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F0EB-ADA7-4465-9328-3532D122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6F6B-A2F6-4860-8C63-2DA0848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8238-5ADA-4CDD-8E57-992F74EE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E3482-485F-4F95-BD53-C57B2DAE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61BE-361C-4BC2-AB8A-2F3F9A8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5DAC-DE1E-4D41-9B2B-BEB200C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ED79-78B5-4370-B98B-09E0C89A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1BD7-1160-4498-A01C-4D8143C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79A3-096F-4144-BD5F-9D629D9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332E-E151-41F0-94D9-9CC3008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637-0DFB-41B4-BB65-0EBAEB4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834E-3761-438F-B0BD-17F4C9B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B696-0725-40B2-878D-5CF5F171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A40E-87A0-4F4F-936A-3CBB232E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0292-155D-43B8-B798-5D2DC187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F9C3-28F8-493B-8F9B-152C785B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C372-6F96-4512-BC72-7BED130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0FC0-F629-4BB3-99B1-31E5C6A7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414D-16A7-4223-A3A2-D23FCC78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833B-6E94-414E-BFD6-A0FCC87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F6EB6-56EE-4E05-85FA-05CA8ABB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6D2-F720-4647-A3EC-A164B8A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B31E-7FA5-4E7D-82E8-1A15D66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18E0-F7F7-4A6E-8164-3FC9D84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EC39-CB20-4CB0-86A2-D925FB87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DD6FA-CA3E-42EC-A561-F33AE8BA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4620A-685D-48AE-86D9-17C64D7D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3F69-23F6-4C1D-96CB-08309021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C0BE-BDEE-47D5-B573-FC36DA3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3488C-923C-4784-9CD6-B3F05685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CAA7-CCF0-43BD-A44A-D0230C44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B410-9AE9-4D37-BD88-B2A962C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AE2-B394-46C2-986A-E5A7C0D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695E-8BB7-416C-858D-629E3E93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7E50-F3AE-4A05-BD9C-8DD005C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6F97-9F97-4956-98DF-E4484619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13F4A-80C2-48F0-B1FD-23C8B8D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4860C-A337-489D-9D94-941AD3C4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C12A7-3F0C-49BF-B9D5-3F440CC8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0FA5C-6B3F-4128-93F0-746C4B21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569-28EF-4E5F-A9F6-63466E2C0320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189-840F-4668-8598-0D2EB2C835B9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0FC-AC18-4685-BA77-5096C89CD216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BBF-C13E-4862-A8E5-D87572D27766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604-2203-415E-BA6F-F24AD0EA510E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26D8-281F-4906-86E6-1D2A0F3B6B9B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612-8929-46F7-AF1A-AE60FC866D13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ED2-8B03-4721-B0CA-950282295B4D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7954920" cy="3357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2880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Lucida Sans Unicode"/>
              </a:rPr>
              <a:t>Humberto J. Bertazz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3 CuadroTexto"/>
          <p:cNvSpPr/>
          <p:nvPr/>
        </p:nvSpPr>
        <p:spPr>
          <a:xfrm>
            <a:off x="0" y="62118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Lucida Sans Unicod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Lucida Sans Unicode"/>
              </a:rPr>
              <a:t>13-07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717480" y="1643040"/>
          <a:ext cx="7640640" cy="3235320"/>
        </p:xfrm>
        <a:graphic>
          <a:graphicData uri="http://schemas.openxmlformats.org/drawingml/2006/table">
            <a:tbl>
              <a:tblPr/>
              <a:tblGrid>
                <a:gridCol w="2935440"/>
                <a:gridCol w="1936800"/>
                <a:gridCol w="2768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ES INGRE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30.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74" name="2 Título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9920"/>
          </a:xfrm>
          <a:prstGeom prst="rect">
            <a:avLst/>
          </a:prstGeom>
          <a:ln w="0">
            <a:noFill/>
          </a:ln>
        </p:spPr>
      </p:pic>
      <p:sp>
        <p:nvSpPr>
          <p:cNvPr id="375" name="4 CuadroTexto"/>
          <p:cNvSpPr/>
          <p:nvPr/>
        </p:nvSpPr>
        <p:spPr>
          <a:xfrm>
            <a:off x="642960" y="50720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, acción de repetición y necesidad convalidación AF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17480" y="1643040"/>
          <a:ext cx="7569360" cy="3235320"/>
        </p:xfrm>
        <a:graphic>
          <a:graphicData uri="http://schemas.openxmlformats.org/drawingml/2006/table">
            <a:tbl>
              <a:tblPr/>
              <a:tblGrid>
                <a:gridCol w="2908440"/>
                <a:gridCol w="1919160"/>
                <a:gridCol w="2741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ES INGRE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20.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77" name="2 Título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9920"/>
          </a:xfrm>
          <a:prstGeom prst="rect">
            <a:avLst/>
          </a:prstGeom>
          <a:ln w="0">
            <a:noFill/>
          </a:ln>
        </p:spPr>
      </p:pic>
      <p:sp>
        <p:nvSpPr>
          <p:cNvPr id="378" name="4 CuadroTexto"/>
          <p:cNvSpPr/>
          <p:nvPr/>
        </p:nvSpPr>
        <p:spPr>
          <a:xfrm>
            <a:off x="928800" y="50007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Por error de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179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 con saldo de libre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Por error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179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 con vía recur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74560" y="1643040"/>
          <a:ext cx="7640640" cy="3235320"/>
        </p:xfrm>
        <a:graphic>
          <a:graphicData uri="http://schemas.openxmlformats.org/drawingml/2006/table">
            <a:tbl>
              <a:tblPr/>
              <a:tblGrid>
                <a:gridCol w="2935440"/>
                <a:gridCol w="1936800"/>
                <a:gridCol w="2768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ES INGRE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15.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9920"/>
          </a:xfrm>
          <a:prstGeom prst="rect">
            <a:avLst/>
          </a:prstGeom>
          <a:ln w="0">
            <a:noFill/>
          </a:ln>
        </p:spPr>
      </p:pic>
      <p:sp>
        <p:nvSpPr>
          <p:cNvPr id="381" name="4 CuadroTexto"/>
          <p:cNvSpPr/>
          <p:nvPr/>
        </p:nvSpPr>
        <p:spPr>
          <a:xfrm>
            <a:off x="642960" y="50720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 con saldo a favor de libre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717480" y="1643040"/>
          <a:ext cx="7569360" cy="3597120"/>
        </p:xfrm>
        <a:graphic>
          <a:graphicData uri="http://schemas.openxmlformats.org/drawingml/2006/table">
            <a:tbl>
              <a:tblPr/>
              <a:tblGrid>
                <a:gridCol w="2908440"/>
                <a:gridCol w="1919160"/>
                <a:gridCol w="27417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A FAVOR OMI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2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A FAV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ES INGRE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25.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1857240" y="528624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ald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179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 con repe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aldo de libre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179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Rectificativa con Art. 29 ley 116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574560" y="1643040"/>
          <a:ext cx="7640640" cy="2494080"/>
        </p:xfrm>
        <a:graphic>
          <a:graphicData uri="http://schemas.openxmlformats.org/drawingml/2006/table">
            <a:tbl>
              <a:tblPr/>
              <a:tblGrid>
                <a:gridCol w="2935440"/>
                <a:gridCol w="1936800"/>
                <a:gridCol w="2768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86" name="2 Título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74560"/>
          </a:xfrm>
          <a:prstGeom prst="rect">
            <a:avLst/>
          </a:prstGeom>
          <a:ln w="0">
            <a:noFill/>
          </a:ln>
        </p:spPr>
      </p:pic>
      <p:sp>
        <p:nvSpPr>
          <p:cNvPr id="387" name="4 CuadroTexto"/>
          <p:cNvSpPr/>
          <p:nvPr/>
        </p:nvSpPr>
        <p:spPr>
          <a:xfrm>
            <a:off x="642960" y="44290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Opera la compensación por ajustes simétricos. Como la deuda se origina en el 1º mes y el crédito fiscal en el 2º, se generan intereses y multas. No corresponde la acción de repetición (DJ rectificativa mes posteri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574560" y="1643040"/>
          <a:ext cx="7640640" cy="2714760"/>
        </p:xfrm>
        <a:graphic>
          <a:graphicData uri="http://schemas.openxmlformats.org/drawingml/2006/table">
            <a:tbl>
              <a:tblPr/>
              <a:tblGrid>
                <a:gridCol w="2935440"/>
                <a:gridCol w="1936800"/>
                <a:gridCol w="276840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GOS A CU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1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89" name="2 Título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74560"/>
          </a:xfrm>
          <a:prstGeom prst="rect">
            <a:avLst/>
          </a:prstGeom>
          <a:ln w="0">
            <a:noFill/>
          </a:ln>
        </p:spPr>
      </p:pic>
      <p:sp>
        <p:nvSpPr>
          <p:cNvPr id="390" name="4 CuadroTexto"/>
          <p:cNvSpPr/>
          <p:nvPr/>
        </p:nvSpPr>
        <p:spPr>
          <a:xfrm>
            <a:off x="642960" y="45007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Opera la compensación por ajustes simétricos. Como la deuda se origina en el 1º mes y el débito fiscal en el 2º, se generan intereses y multas. No corresponde la acción de repetición (DJ rectificativa mes posteri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574560" y="1643040"/>
          <a:ext cx="7640640" cy="2344680"/>
        </p:xfrm>
        <a:graphic>
          <a:graphicData uri="http://schemas.openxmlformats.org/drawingml/2006/table">
            <a:tbl>
              <a:tblPr/>
              <a:tblGrid>
                <a:gridCol w="3140280"/>
                <a:gridCol w="1731960"/>
                <a:gridCol w="2768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RIG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DJ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RECTIF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BITO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ÉDITO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1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LDO A FAVOR TÉC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30.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50.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92" name="2 Título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322280"/>
          </a:xfrm>
          <a:prstGeom prst="rect">
            <a:avLst/>
          </a:prstGeom>
          <a:ln w="0">
            <a:noFill/>
          </a:ln>
        </p:spPr>
      </p:pic>
      <p:sp>
        <p:nvSpPr>
          <p:cNvPr id="393" name="4 CuadroTexto"/>
          <p:cNvSpPr/>
          <p:nvPr/>
        </p:nvSpPr>
        <p:spPr>
          <a:xfrm>
            <a:off x="571680" y="4116240"/>
            <a:ext cx="77151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Corresponde presentar rectificativa y acción recurs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El saldo a favor técnico no es asimilable, en cuanto a su tratamiento, al quebranto impositivo (criterio AFI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3:30:10Z</dcterms:created>
  <dc:creator>Nancy</dc:creator>
  <dc:description/>
  <dc:language>en-US</dc:language>
  <cp:lastModifiedBy>Nancy</cp:lastModifiedBy>
  <dcterms:modified xsi:type="dcterms:W3CDTF">2011-07-12T20:05:55Z</dcterms:modified>
  <cp:revision>8</cp:revision>
  <dc:subject/>
  <dc:title>LAS DDJJ RECTIFICATIVAS EN EL IVA</dc:title>
</cp:coreProperties>
</file>