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28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6.wmf" ContentType="image/x-wmf"/>
  <Override PartName="/ppt/media/image11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27.wmf" ContentType="image/x-wmf"/>
  <Override PartName="/ppt/media/image15.wmf" ContentType="image/x-wmf"/>
  <Override PartName="/ppt/media/image26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CF256-3647-4394-BB41-605F8C66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853F7-D385-4EFC-AF97-72EB67EC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BBB27-FB84-40DB-BB29-50A2AA43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F0062-5001-4349-AC93-53491D1C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A3EC4-7C7A-4461-A478-5A1EEE64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45589-AAC4-44F9-B4D7-3E2B9A88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86A82-46CD-496A-97BB-56B505B6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5B2AE-EC08-4314-A54A-896A6F50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4A3B6-0E4D-4162-9B02-F06E80A6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9ECC2-56F6-4923-9259-1BE2835C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F8AEE-C6B8-4F5B-B249-365FADE6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9D004-569A-461A-9D68-9DF9DD8A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784426-AB4C-4AC7-8AFB-C6467088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01A4B1-D5D3-47B8-8D42-3BF6FDB8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15FF91-F65E-4008-941A-EC7E19E3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F1F1ED-6E8C-4C39-8B87-6A61E5B9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0D515C-2E93-46E9-96FA-75D6B32F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91325C-94AA-4536-9E1D-5127E4CA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DC45D2-5D8D-4B53-A650-37AA8F0B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A6BBCF-D7B3-4B0F-9C94-23984BF6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04F522-5DAD-405B-8CAA-A426EADF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30BEE0-0C2B-4504-A9A9-BDA0B60C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BFDD15-9FA4-4985-8B73-730B163D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957466-AAA9-41DE-97C3-0AF8D25A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69960" indent="-32544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2" marL="1022400" indent="-35100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3" marL="1339920" indent="-316080"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4" marL="1681200" indent="-33984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971640" y="6165720"/>
            <a:ext cx="72007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Desarrollo Práctico de Liquidación de Haber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Aplicación de Convenio Colectivo de Trabajo  Empleados Gastronómicos 389</a:t>
            </a:r>
            <a:r>
              <a:rPr b="1" lang="es-ES_tradnl" sz="1100" spc="-1" strike="noStrike">
                <a:solidFill>
                  <a:srgbClr val="ffffff"/>
                </a:solidFill>
                <a:latin typeface="Verdana"/>
              </a:rPr>
              <a:t>/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89000"/>
            <a:ext cx="8512200" cy="6490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1C4A-CFA8-4601-92AA-ED95945E6AC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F146-388F-4B29-A6AD-EBADF5B15A0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0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" Target="slide48.xml"/><Relationship Id="rId4" Type="http://schemas.openxmlformats.org/officeDocument/2006/relationships/slide" Target="slide33.xml"/><Relationship Id="rId5" Type="http://schemas.openxmlformats.org/officeDocument/2006/relationships/slide" Target="slide48.xml"/><Relationship Id="rId6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25.png"/><Relationship Id="rId4" Type="http://schemas.openxmlformats.org/officeDocument/2006/relationships/slide" Target="slide4.xml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wmf"/><Relationship Id="rId3" Type="http://schemas.openxmlformats.org/officeDocument/2006/relationships/slide" Target="slide5.xml"/><Relationship Id="rId4" Type="http://schemas.openxmlformats.org/officeDocument/2006/relationships/hyperlink" Target="file:///tmp/home/.config/libreoffice/4/user/gallery/breeze.wav" TargetMode="Externa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" Target="slide49.xml"/><Relationship Id="rId4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29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3333cc"/>
                </a:solidFill>
                <a:latin typeface="Verdana"/>
              </a:rPr>
              <a:t>Desarrollo Práctico de la Liquidación de Haberes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plicación de Convenio Colectivo de Trabajo  Empleados Gastronómicos </a:t>
            </a:r>
            <a:r>
              <a:rPr b="1" lang="es-ES_tradnl" sz="2600" spc="-1" strike="noStrike">
                <a:solidFill>
                  <a:srgbClr val="000000"/>
                </a:solidFill>
                <a:latin typeface="Verdana"/>
              </a:rPr>
              <a:t>389/0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449520"/>
            <a:ext cx="6408720" cy="21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Exposición</a:t>
            </a:r>
            <a:br>
              <a:rPr sz="2200"/>
            </a:b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Dra. L.A. / C.P. Daniela Cabr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Lic. Gimena Magl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Lic. Mariano G. Arcidiác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Coordinación y exposición</a:t>
            </a:r>
            <a:br>
              <a:rPr sz="2200"/>
            </a:b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Dr. C.P. Antonio Omar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40840" y="630864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May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64000" y="3522600"/>
            <a:ext cx="3384720" cy="228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4ED2C-2E90-4386-90A8-9C7BAD0138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4016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Prestaciones remunerativ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Sueldo mensual, jornal diari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Comisio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Gratificacio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Honorari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Horas extraordinari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Licencias especia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Participación en las ganancia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Período de preaviso pag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Premios y adic. de distintos tip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Propinas habitua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Salarios en especi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Salarios por Accid. de trabaj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Salarios por enfermeda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Sueldo anual complementar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Vacaciones gozad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</a:rPr>
              <a:t>V</a:t>
            </a:r>
            <a:r>
              <a:rPr b="0" lang="es-AR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iáticos sin comprobant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Gastos de represent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1238400"/>
            <a:ext cx="441144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99"/>
                </a:solidFill>
                <a:latin typeface="Verdana"/>
                <a:ea typeface="Arial Unicode MS"/>
              </a:rPr>
              <a:t>Prestaciones no remuner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Asignaciones familiares y licencia paga por matern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Gratificaciones pagadas al egreso del trabajad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Indemnizaciones por antigüe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Indemnización sustitutiva del preav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Indemnización por vacaciones no goz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8080"/>
                </a:solidFill>
                <a:latin typeface="Verdana"/>
              </a:rPr>
              <a:t>Indemnizaciones por accidente de trabajo</a:t>
            </a: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33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Verdana"/>
              </a:rPr>
              <a:t>ASPECTOS TEÓRICOS DE LA REMUN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4E660-F98F-4F33-9732-5DE726B9B6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95280" y="1773360"/>
            <a:ext cx="84582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Verdana"/>
              </a:rPr>
              <a:t>Remuneraciones fijas y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80"/>
                </a:solidFill>
                <a:latin typeface="Garamond"/>
              </a:rPr>
              <a:t>Se denominan </a:t>
            </a:r>
            <a:r>
              <a:rPr b="1" lang="es-ES_tradnl" sz="2400" spc="-1" strike="noStrike">
                <a:solidFill>
                  <a:srgbClr val="008080"/>
                </a:solidFill>
                <a:latin typeface="Garamond"/>
              </a:rPr>
              <a:t>remuneraciones fijas</a:t>
            </a:r>
            <a:r>
              <a:rPr b="0" lang="es-ES_tradnl" sz="2400" spc="-1" strike="noStrike">
                <a:solidFill>
                  <a:srgbClr val="008080"/>
                </a:solidFill>
                <a:latin typeface="Garamond"/>
              </a:rPr>
              <a:t> a aquellas que se consideran sobre unidades de tiempo (mes, día, hora), como por ejemplo el sueldo (fijado por retribución mensual) o el jornal básico (valor horari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8080"/>
                </a:solidFill>
                <a:latin typeface="Garamond"/>
              </a:rPr>
              <a:t>En cambio las </a:t>
            </a:r>
            <a:r>
              <a:rPr b="1" lang="es-ES" sz="2400" spc="-1" strike="noStrike">
                <a:solidFill>
                  <a:srgbClr val="008080"/>
                </a:solidFill>
                <a:latin typeface="Garamond"/>
              </a:rPr>
              <a:t>remuneraciones variables</a:t>
            </a:r>
            <a:r>
              <a:rPr b="0" lang="es-ES" sz="2400" spc="-1" strike="noStrike">
                <a:solidFill>
                  <a:srgbClr val="008080"/>
                </a:solidFill>
                <a:latin typeface="Garamond"/>
              </a:rPr>
              <a:t> son aquellas que consisten en porcentajes o sumas por unidad de produccion, resultado, pieza o 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8080"/>
                </a:solidFill>
                <a:latin typeface="Garamond"/>
              </a:rPr>
              <a:t>En este caso también podemos considerar las horas suplementarias que por su propio concepto son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404640"/>
            <a:ext cx="86072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333399"/>
                </a:solidFill>
                <a:uFillTx/>
                <a:latin typeface="Verdana"/>
              </a:rPr>
              <a:t>ASPECTOS TEÓRICOS DE LA REMUNE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697F2-D66A-4553-A462-BE36F9DA159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Verdana"/>
              </a:rPr>
              <a:t>ASPECTOS TEÓRICOS DE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1773360"/>
            <a:ext cx="7580160" cy="36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Verdana"/>
              </a:rPr>
              <a:t>Art.103 Bis: Beneficios socia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80"/>
                </a:solidFill>
                <a:latin typeface="Verdana"/>
              </a:rPr>
              <a:t>Es todo aquella prestación no remunerativa, no dineraria no acumulables ni sustituibles en dinero</a:t>
            </a:r>
            <a:r>
              <a:rPr b="1" lang="es-ES_tradnl" sz="1800" spc="-1" strike="noStrike">
                <a:solidFill>
                  <a:srgbClr val="00808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8080"/>
                </a:solidFill>
                <a:latin typeface="Garamond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Comedor en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Vales de almuerz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Gastos de medica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Ropa de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Guarde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Cursos y semi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 </a:t>
            </a:r>
            <a:r>
              <a:rPr b="1" lang="es-ES_tradnl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Gastos sepelio fliares</a:t>
            </a:r>
            <a:r>
              <a:rPr b="0" lang="es-ES_tradnl" sz="1600" spc="-1" strike="noStrike">
                <a:solidFill>
                  <a:srgbClr val="008080"/>
                </a:solidFill>
                <a:latin typeface="Verdana"/>
                <a:ea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CF9DE-31D5-454A-9531-E65503B33F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1700280"/>
            <a:ext cx="792144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Verdana"/>
              </a:rPr>
              <a:t>Determinación de la remuneración: (art.1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80"/>
                </a:solidFill>
                <a:latin typeface="Verdana"/>
              </a:rPr>
              <a:t>Por 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80"/>
                </a:solidFill>
                <a:latin typeface="Verdana"/>
              </a:rPr>
              <a:t>Por unidad de o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80"/>
                </a:solidFill>
                <a:latin typeface="Verdana"/>
              </a:rPr>
              <a:t>Comi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80"/>
                </a:solidFill>
                <a:latin typeface="Verdana"/>
              </a:rPr>
              <a:t>Grat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80"/>
                </a:solidFill>
                <a:latin typeface="Verdana"/>
              </a:rPr>
              <a:t>Participación en ut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Verdana"/>
              </a:rPr>
              <a:t>Art. 105 – Formad de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0" lang="es-ES_tradnl" sz="1600" spc="-1" strike="noStrike">
                <a:solidFill>
                  <a:srgbClr val="008080"/>
                </a:solidFill>
                <a:latin typeface="Verdana"/>
              </a:rPr>
              <a:t>El salario debe ser abonado en dinero, especie, habitación, alimento o gana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Verdana"/>
              </a:rPr>
              <a:t>Art. 115 - Oneros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008080"/>
                </a:solidFill>
                <a:latin typeface="Verdana"/>
              </a:rPr>
              <a:t>El trabajo no se presume gratui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Verdana"/>
              </a:rPr>
              <a:t>ASPECTOS TEÓRICOS DE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A4206-E62F-4B9A-8BDD-6446C8C809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001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Verdana"/>
              </a:rPr>
              <a:t>ASPECTOS TEÓRICOS DE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848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Verdana"/>
              </a:rPr>
              <a:t>Formas de Pago (Art.124 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3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Verdana"/>
                <a:ea typeface="Arial Unicode MS"/>
              </a:rPr>
              <a:t>En  efectivo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3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Verdana"/>
                <a:ea typeface="Arial Unicode MS"/>
              </a:rPr>
              <a:t>cheque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3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Verdana"/>
                <a:ea typeface="Arial Unicode MS"/>
              </a:rPr>
              <a:t>acreditación cuenta bancari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Verdana"/>
              </a:rPr>
              <a:t>Periodos (art.126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3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Verdana"/>
                <a:ea typeface="Arial Unicode MS"/>
              </a:rPr>
              <a:t>Mensu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3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Verdana"/>
                <a:ea typeface="Arial Unicode MS"/>
              </a:rPr>
              <a:t>Quincena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Verdana"/>
              </a:rPr>
              <a:t>Plazo (art.128)</a:t>
            </a: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3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Verdana"/>
                <a:ea typeface="Arial Unicode MS"/>
              </a:rPr>
              <a:t>Mensuales: 4 dí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80"/>
                </a:solidFill>
                <a:latin typeface="Verdana"/>
                <a:ea typeface="Arial Unicode MS"/>
              </a:rPr>
              <a:t>Quincenales: 3 dí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Verdana"/>
              </a:rPr>
              <a:t>Retenciones (art. 131 a 13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80"/>
                </a:solidFill>
                <a:latin typeface="Verdana"/>
              </a:rPr>
              <a:t>Prohíbe la retención y reducción en la remuneración excepto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8080"/>
                </a:solidFill>
                <a:latin typeface="Verdana"/>
                <a:ea typeface="Arial Unicode MS"/>
              </a:rPr>
              <a:t>Adelanto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Verdana"/>
                <a:ea typeface="Arial Unicode MS"/>
              </a:rPr>
              <a:t>Aportes jubilatorios y obligaciones fisca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Verdana"/>
                <a:ea typeface="Arial Unicode MS"/>
              </a:rPr>
              <a:t>Pago de seguro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Verdana"/>
              </a:rPr>
              <a:t>Art. 132 bis:  SANC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1FAB4-9853-4789-BD7D-B6B0862F9C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5600" y="83628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333399"/>
                </a:solidFill>
                <a:uFillTx/>
                <a:latin typeface="Verdana"/>
              </a:rPr>
              <a:t>Aportes y contribu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557360"/>
            <a:ext cx="3600360" cy="359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dddddd"/>
              </a:gs>
              <a:gs pos="100000">
                <a:srgbClr val="333399"/>
              </a:gs>
            </a:gsLst>
            <a:lin ang="54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 u="sng">
                <a:solidFill>
                  <a:srgbClr val="ffffff"/>
                </a:solidFill>
                <a:uFillTx/>
                <a:latin typeface="Verdana"/>
              </a:rPr>
              <a:t>Aportes del trabaj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Jubilaciones      11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INSSJyP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3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Obra Social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3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5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s-AR" sz="1500" spc="-1" strike="noStrike">
                <a:solidFill>
                  <a:srgbClr val="ffffff"/>
                </a:solidFill>
                <a:latin typeface="Verdana"/>
              </a:rPr>
              <a:t>Sindicato</a:t>
            </a:r>
            <a:r>
              <a:rPr b="0" i="1" lang="es-AR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AR" sz="1500" spc="-1" strike="noStrike">
                <a:solidFill>
                  <a:srgbClr val="ffffff"/>
                </a:solidFill>
                <a:latin typeface="Verdana"/>
              </a:rPr>
              <a:t>2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AR" sz="1500" spc="-1" strike="noStrike">
                <a:solidFill>
                  <a:srgbClr val="ffffff"/>
                </a:solidFill>
                <a:latin typeface="Verdana"/>
              </a:rPr>
              <a:t>Seguro de Vida</a:t>
            </a:r>
            <a:r>
              <a:rPr b="0" i="1" lang="es-AR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AR" sz="1500" spc="-1" strike="noStrike">
                <a:solidFill>
                  <a:srgbClr val="ffffff"/>
                </a:solidFill>
                <a:latin typeface="Verdana"/>
              </a:rPr>
              <a:t>1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Verdana"/>
              </a:rPr>
              <a:t>Total             20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1414440"/>
            <a:ext cx="4608360" cy="3959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dddddd"/>
              </a:gs>
              <a:gs pos="100000">
                <a:srgbClr val="333399"/>
              </a:gs>
            </a:gsLst>
            <a:lin ang="54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 u="sng">
                <a:solidFill>
                  <a:srgbClr val="ffffff"/>
                </a:solidFill>
                <a:uFillTx/>
                <a:latin typeface="Verdana"/>
              </a:rPr>
              <a:t>Contribución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Jubilaciones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            10.1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INSSJy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1.5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Obra Social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5.4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AR" sz="1500" spc="-1" strike="noStrike">
                <a:solidFill>
                  <a:srgbClr val="ffffff"/>
                </a:solidFill>
                <a:latin typeface="Verdana"/>
              </a:rPr>
              <a:t>Ansal</a:t>
            </a:r>
            <a:r>
              <a:rPr b="0" i="1" lang="es-AR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AR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AR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AR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AR" sz="1500" spc="-1" strike="noStrike">
                <a:solidFill>
                  <a:srgbClr val="ffffff"/>
                </a:solidFill>
                <a:latin typeface="Verdana"/>
              </a:rPr>
              <a:t>0.6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Salario familiar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4.4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Fdo. Nac. de Empleo          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0.8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ART* y Fdo. Hipoacusia.     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    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Seguro de Vida y sepelio 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1,0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Convenio Fehgra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Verdana"/>
              </a:rPr>
              <a:t>1,0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Verdana"/>
              </a:rPr>
              <a:t>Total     </a:t>
            </a:r>
            <a:r>
              <a:rPr b="1" i="1" lang="es-E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s-E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i="1" lang="es-E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s-ES" sz="1800" spc="-1" strike="noStrike">
                <a:solidFill>
                  <a:srgbClr val="ffffff"/>
                </a:solidFill>
                <a:latin typeface="Verdana"/>
              </a:rPr>
              <a:t>          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300640"/>
            <a:ext cx="864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Verdana"/>
              </a:rPr>
              <a:t>*ART:</a:t>
            </a: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 El aporte a la ART se conviene ent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           </a:t>
            </a: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La Empresa y la aseguradora, mientras que el fondo de hipoacusia es de </a:t>
            </a:r>
            <a:r>
              <a:rPr b="1" lang="en-US" sz="1200" spc="-1" strike="noStrike">
                <a:solidFill>
                  <a:srgbClr val="333399"/>
                </a:solidFill>
                <a:latin typeface="Verdana"/>
              </a:rPr>
              <a:t>$ 0.60</a:t>
            </a: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 por cada trabaja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Verdana"/>
              </a:rPr>
              <a:t>ASPECTOS TEÓRICOS DE LA REMUN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712360" y="580536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12621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  <a:path fill="darken" w="32239" h="21600">
                <a:moveTo>
                  <a:pt x="9113" y="3794"/>
                </a:moveTo>
                <a:lnTo>
                  <a:pt x="10775" y="3794"/>
                </a:lnTo>
                <a:lnTo>
                  <a:pt x="10775" y="17806"/>
                </a:lnTo>
                <a:lnTo>
                  <a:pt x="9113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93D37-41CF-4530-AA8A-434A0E87E346}" type="slidenum">
              <a:t>15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Verdana"/>
              </a:rPr>
              <a:t>SUELDO ANUAL COMPLEMENTARI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Verdana"/>
              </a:rPr>
              <a:t>(art.121 - 12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00808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Verdana"/>
              </a:rPr>
              <a:t>50 % mayor remuneración mensual devengada en el semest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00808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Verdana"/>
              </a:rPr>
              <a:t>Epoca de pago: junio y diciemb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00808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80"/>
                </a:solidFill>
                <a:latin typeface="Verdana"/>
              </a:rPr>
              <a:t>Pago proporcional, 1/12 parte de la Remuneración devengada en la fracción de semestre trabaj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10920" y="115920"/>
            <a:ext cx="80010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Verdana"/>
              </a:rPr>
              <a:t>ASPECTOS TEÓRICOS DE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1E685-1369-429C-B161-64A776B0C8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88920"/>
            <a:ext cx="806436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Verdana"/>
              </a:rPr>
              <a:t>ASPECTOS TEÓRICOS DE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001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Verdana"/>
              </a:rPr>
              <a:t>VACACIONES Y OTRAS LICENCIAS </a:t>
            </a:r>
            <a:r>
              <a:rPr b="0" lang="es-ES_tradnl" sz="3000" spc="-1" strike="noStrike" u="sng">
                <a:solidFill>
                  <a:srgbClr val="000000"/>
                </a:solidFill>
                <a:uFillTx/>
                <a:latin typeface="Verdana"/>
              </a:rPr>
              <a:t>(art.150</a:t>
            </a: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eriodo de descanso anu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Haber prestado servicio al menos la mitad de los días hábiles del añ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Época de otorgamiento:</a:t>
            </a:r>
            <a:r>
              <a:rPr b="0" lang="es-ES_tradnl" sz="1600" spc="-1" strike="noStrike">
                <a:solidFill>
                  <a:srgbClr val="00808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80"/>
                </a:solidFill>
                <a:latin typeface="Verdana"/>
              </a:rPr>
              <a:t>de octubre a abri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icencia proporcional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8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80"/>
                </a:solidFill>
                <a:latin typeface="Verdana"/>
              </a:rPr>
              <a:t>1 día por cada 20 laborad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lculo Liquidacion:</a:t>
            </a:r>
            <a:r>
              <a:rPr b="1" lang="es-ES_tradnl" sz="1600" spc="-1" strike="noStrike" u="sng">
                <a:solidFill>
                  <a:srgbClr val="00808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80"/>
                </a:solidFill>
                <a:latin typeface="Verdana"/>
              </a:rPr>
              <a:t>Sueldo percibido / 2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61200-D39B-47A8-9D54-4B69EB305C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Verdana"/>
              </a:rPr>
              <a:t>ASPECTOS TEÓRICOS DE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Verdana"/>
              </a:rPr>
              <a:t>Licencias especial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8080"/>
                </a:solidFill>
                <a:latin typeface="Verdana"/>
              </a:rPr>
              <a:t>Por nac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8080"/>
                </a:solidFill>
                <a:latin typeface="Verdana"/>
              </a:rPr>
              <a:t>Por matrimon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8080"/>
                </a:solidFill>
                <a:latin typeface="Verdana"/>
              </a:rPr>
              <a:t>Por fallec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8080"/>
                </a:solidFill>
                <a:latin typeface="Verdana"/>
              </a:rPr>
              <a:t>Licencia por exáme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Verdana"/>
              </a:rPr>
              <a:t>Calculo Liquidación:</a:t>
            </a:r>
            <a:r>
              <a:rPr b="1" lang="es-ES_tradnl" sz="3000" spc="-1" strike="noStrike" u="sng">
                <a:solidFill>
                  <a:srgbClr val="00808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8080"/>
                </a:solidFill>
                <a:uFillTx/>
                <a:latin typeface="Verdana"/>
              </a:rPr>
              <a:t>Sueldo percibido / </a:t>
            </a:r>
            <a:r>
              <a:rPr b="0" lang="es-ES_tradnl" sz="2000" spc="-1" strike="noStrike">
                <a:solidFill>
                  <a:srgbClr val="008080"/>
                </a:solidFill>
                <a:latin typeface="Verdana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023F3-A625-4E66-BDD3-C1BD0ACE73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Verdana"/>
              </a:rPr>
              <a:t>ASPECTOS TEÓRICOS DE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JORNADA DE TRABAJO art. 19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8080"/>
                </a:solidFill>
                <a:latin typeface="Verdana"/>
              </a:rPr>
              <a:t>Es todo el tiempo durante el cual el trabajad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8080"/>
                </a:solidFill>
                <a:latin typeface="Verdana"/>
              </a:rPr>
              <a:t>esta a disposición del empleador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Verdana"/>
              </a:rPr>
              <a:t>Jornada Reducid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 algn="just">
              <a:buClr>
                <a:srgbClr val="00808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8080"/>
                </a:solidFill>
                <a:latin typeface="Verdana"/>
              </a:rPr>
              <a:t>Determinada por la convención colectiva de trabajo que correspond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B9E38-D1CA-40E4-88C4-66C6178C0E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333399"/>
                </a:solidFill>
                <a:latin typeface="Verdana"/>
              </a:rPr>
              <a:t>ESQUEMA GLOBAL DEL TALL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Verdana"/>
              </a:rPr>
              <a:t>Aspectos formales de la relación laboral</a:t>
            </a:r>
            <a:r>
              <a:rPr b="1" lang="es-AR" sz="2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</a:rPr>
              <a:t>Alta Empleador al sistema – Alta emple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Verdana"/>
              </a:rPr>
              <a:t>Aspectos teóricos de la remuner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</a:rPr>
              <a:t>Conceptos fijos y variables remunerativos – Marco legal vigente – otros conceptos que no son remunerativos integrantes del recibo de suel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Verdana"/>
              </a:rPr>
              <a:t>Aspectos prácticos de la remuner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8080"/>
                </a:solidFill>
                <a:latin typeface="Verdana"/>
              </a:rPr>
              <a:t>Caso práctico de liquidación sobre CCT 389/04 – Gastronóm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</a:rPr>
              <a:t>Liquidación mensu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</a:rPr>
              <a:t>SAC 1er Semest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</a:rPr>
              <a:t>SAC 2do Semest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</a:rPr>
              <a:t>Despido con justa cau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</a:rPr>
              <a:t>Despido sin justa cau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24400-F17C-4BF2-90BB-7B4FA67139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68360" y="333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Verdana"/>
              </a:rPr>
              <a:t>ASPECTOS TEÓRICOS DE LA REMUN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187280" y="2205000"/>
          <a:ext cx="6553440" cy="4014720"/>
        </p:xfrm>
        <a:graphic>
          <a:graphicData uri="http://schemas.openxmlformats.org/drawingml/2006/table">
            <a:tbl>
              <a:tblPr/>
              <a:tblGrid>
                <a:gridCol w="1594080"/>
                <a:gridCol w="646200"/>
                <a:gridCol w="1523880"/>
                <a:gridCol w="700200"/>
                <a:gridCol w="2089080"/>
              </a:tblGrid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Jorn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Hora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Hora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Diari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Semana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alu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ctur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684360" y="17002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Verdana"/>
              </a:rPr>
              <a:t>Jornada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3EA62-42A1-4CA4-9400-3448A48CACB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11592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Verdana"/>
              </a:rPr>
              <a:t>ASPECTOS TEÓRICOS DE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Verdana"/>
              </a:rPr>
              <a:t>De las enfermedades inculpabl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008080"/>
                </a:solidFill>
                <a:latin typeface="Verdana"/>
              </a:rPr>
              <a:t>Antigüedad hasta 5 años:  3 me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buClr>
                <a:srgbClr val="00808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8080"/>
                </a:solidFill>
                <a:latin typeface="Verdana"/>
              </a:rPr>
              <a:t>Antigüedad mas de 5 años: 6 me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8080"/>
                </a:solidFill>
                <a:latin typeface="Verdana"/>
              </a:rPr>
              <a:t>Con carga de familia: se extiende a 6 y 12 meses según la antigüe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A10C0-4682-4C73-92E2-3780A581E2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001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Verdana"/>
              </a:rPr>
              <a:t>ASPECTOS TEÓRICOS DE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TINCION DEL CONTRATO DE TRABAJ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Verdana"/>
              </a:rPr>
              <a:t>PREAVISO: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(Art.23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buClr>
                <a:srgbClr val="00808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80"/>
                </a:solidFill>
                <a:latin typeface="Verdana"/>
              </a:rPr>
              <a:t>Plazos Del trabajador:</a:t>
            </a:r>
            <a:r>
              <a:rPr b="0" lang="es-ES_tradnl" sz="1800" spc="-1" strike="noStrike">
                <a:solidFill>
                  <a:srgbClr val="00808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buClr>
                <a:srgbClr val="cc66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80"/>
                </a:solidFill>
                <a:latin typeface="Verdana"/>
              </a:rPr>
              <a:t>15 dí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buClr>
                <a:srgbClr val="00808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80"/>
                </a:solidFill>
                <a:latin typeface="Verdana"/>
              </a:rPr>
              <a:t>Plazos Del empleador</a:t>
            </a:r>
            <a:r>
              <a:rPr b="0" lang="es-ES_tradnl" sz="1800" spc="-1" strike="noStrike">
                <a:solidFill>
                  <a:srgbClr val="00808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buClr>
                <a:srgbClr val="cc66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80"/>
                </a:solidFill>
                <a:latin typeface="Verdana"/>
              </a:rPr>
              <a:t>15 días si es periodo de prueb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buClr>
                <a:srgbClr val="cc66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80"/>
                </a:solidFill>
                <a:latin typeface="Verdana"/>
              </a:rPr>
              <a:t>1 mes si la antigüedad no excede 5 añ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buClr>
                <a:srgbClr val="cc66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80"/>
                </a:solidFill>
                <a:latin typeface="Verdana"/>
              </a:rPr>
              <a:t>2 meses con antigüedad superi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Verdana"/>
              </a:rPr>
              <a:t>PREAVISO:</a:t>
            </a:r>
            <a:r>
              <a:rPr b="1" lang="es-ES_tradnl" sz="1800" spc="-1" strike="noStrike" u="sng">
                <a:solidFill>
                  <a:srgbClr val="008080"/>
                </a:solidFill>
                <a:uFillTx/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808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008080"/>
                </a:solidFill>
                <a:latin typeface="Verdana"/>
              </a:rPr>
              <a:t>Indemnización sustitutiv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buClr>
                <a:srgbClr val="00808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80"/>
                </a:solidFill>
                <a:latin typeface="Verdana"/>
              </a:rPr>
              <a:t>Equivalente a la remuneración que percibía el trabajad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Verdana"/>
              </a:rPr>
              <a:t>INTEGRACION MES DESPIDO (art.23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buClr>
                <a:srgbClr val="00808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80"/>
                </a:solidFill>
                <a:latin typeface="Verdana"/>
              </a:rPr>
              <a:t>No se abonara si la extinción se produjo en el periodo de prueba</a:t>
            </a:r>
            <a:r>
              <a:rPr b="0" lang="es-ES_tradnl" sz="1600" spc="-1" strike="noStrike">
                <a:solidFill>
                  <a:srgbClr val="00808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9A0DB-C0E1-4996-91E8-8578C0298F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280" y="152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Verdana"/>
              </a:rPr>
              <a:t>ASPECTOS TEÓRICOS DE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DEMNIZACION POR ANTIGÜEDAD (art.245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80"/>
                </a:solidFill>
                <a:latin typeface="Verdana"/>
              </a:rPr>
              <a:t>Un mes de sueldo por cada año de servicio o fracción mayor a 3 mes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80"/>
                </a:solidFill>
                <a:latin typeface="Verdana"/>
              </a:rPr>
              <a:t>Sobre la mejor remuneración mensual, normal y habitual, percibida en el ultimo añ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DEMNIZACION POR ANTIGÜEDAD (art.24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80"/>
                </a:solidFill>
                <a:latin typeface="Verdana"/>
              </a:rPr>
              <a:t>Despido por fuerza mayor, indemnización equivalente al ½ de la prevista en el art. 245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AEE4B-FCD1-43F8-BD33-24FBC7114C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333399"/>
                </a:solidFill>
                <a:latin typeface="Verdana"/>
              </a:rPr>
              <a:t>ESQUEMA GLOBAL DEL TALL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224964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Verdana"/>
              </a:rPr>
              <a:t>Aspectos formales de la relación labor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Verdana"/>
              </a:rPr>
              <a:t>Aspectos teóricos de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Verdana"/>
              </a:rPr>
              <a:t>Aspectos prácticos de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8080"/>
                </a:solidFill>
                <a:latin typeface="Verdana"/>
              </a:rPr>
              <a:t>Caso práctico de liquid. sobre CCT 389/04 – Gastronómic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8080"/>
                </a:solidFill>
                <a:latin typeface="Verdana"/>
              </a:rPr>
              <a:t>Liquidación mensu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8080"/>
                </a:solidFill>
                <a:latin typeface="Verdana"/>
              </a:rPr>
              <a:t>SAC 1er Semest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8080"/>
                </a:solidFill>
                <a:latin typeface="Verdana"/>
              </a:rPr>
              <a:t>SAC 2do Semest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8080"/>
                </a:solidFill>
                <a:latin typeface="Verdana"/>
              </a:rPr>
              <a:t>Despido con justa cau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8080"/>
                </a:solidFill>
                <a:latin typeface="Verdana"/>
              </a:rPr>
              <a:t>Despido sin justa cau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647640" y="3645000"/>
            <a:ext cx="8496360" cy="718920"/>
          </a:xfrm>
          <a:prstGeom prst="rect">
            <a:avLst/>
          </a:prstGeom>
          <a:solidFill>
            <a:srgbClr val="99ccff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7D6FB-255E-41CA-8359-1039658135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68360" y="1628640"/>
            <a:ext cx="82296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Verdana"/>
              </a:rPr>
              <a:t>Formulario recibo de suel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8080"/>
                </a:solidFill>
                <a:latin typeface="Arial"/>
              </a:rPr>
              <a:t>Art. 140</a:t>
            </a:r>
            <a:r>
              <a:rPr b="1" lang="es-ES" sz="1600" spc="-1" strike="noStrike">
                <a:solidFill>
                  <a:srgbClr val="008080"/>
                </a:solidFill>
                <a:latin typeface="Arial"/>
              </a:rPr>
              <a:t>  LCT - Capitulo IV – De la tutela y pago de la remuneración </a:t>
            </a:r>
            <a:r>
              <a:rPr b="1" i="1" lang="es-ES" sz="16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8080"/>
                </a:solidFill>
                <a:latin typeface="Arial"/>
              </a:rPr>
              <a:t>Contenido Neces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es-ES" sz="1500" spc="-1" strike="noStrike">
                <a:solidFill>
                  <a:srgbClr val="008080"/>
                </a:solidFill>
                <a:latin typeface="Times New Roman"/>
              </a:rPr>
              <a:t>EMPLEADOR :Nombre íntegro o razón social del empleador, domicilio,  Clave Unica de         identificación Tributari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es-ES" sz="1500" spc="-1" strike="noStrike">
                <a:solidFill>
                  <a:srgbClr val="008080"/>
                </a:solidFill>
                <a:latin typeface="Times New Roman"/>
              </a:rPr>
              <a:t>EMPLEADO: Nombre y apellidos,  Código Unico de Identificación Laboral. calificación profesional, categoría en que efectivamente se desempeñó durante el período de pag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es-ES" sz="1500" spc="-1" strike="noStrike">
                <a:solidFill>
                  <a:srgbClr val="008080"/>
                </a:solidFill>
                <a:latin typeface="Times New Roman"/>
              </a:rPr>
              <a:t>Fecha de ingreso y tarea cumplid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es-ES" sz="1500" spc="-1" strike="noStrike">
                <a:solidFill>
                  <a:srgbClr val="008080"/>
                </a:solidFill>
                <a:latin typeface="Times New Roman"/>
              </a:rPr>
              <a:t>Detalle del último pago de Aportes y Contribuciones. Fecha de deposito y entidad banca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es-ES" sz="1500" spc="-1" strike="noStrike">
                <a:solidFill>
                  <a:srgbClr val="008080"/>
                </a:solidFill>
                <a:latin typeface="Times New Roman"/>
              </a:rPr>
              <a:t>Todo tipo de remuneración que perciba, con indicación substancial de su determin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8080"/>
                </a:solidFill>
                <a:latin typeface="Times New Roman"/>
              </a:rPr>
              <a:t>. Importe de las deducciones y o retenciones practicadas bajo el marco de la LCT descuentos que legalmente correspondan. Detalle del último pago de Aportes y Contribuciones. Fecha de deposito y entidad banca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es-ES" sz="1500" spc="-1" strike="noStrike">
                <a:solidFill>
                  <a:srgbClr val="008080"/>
                </a:solidFill>
                <a:latin typeface="Times New Roman"/>
              </a:rPr>
              <a:t>Importe neto percibido, expresado en números y letra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es-ES" sz="1500" spc="-1" strike="noStrike">
                <a:solidFill>
                  <a:srgbClr val="008080"/>
                </a:solidFill>
                <a:latin typeface="Times New Roman"/>
              </a:rPr>
              <a:t>Lugar y fecha que deberán corresponder al pago real y efectivo de la remuneración al trabajado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es-ES" sz="1500" spc="-1" strike="noStrike">
                <a:solidFill>
                  <a:srgbClr val="008080"/>
                </a:solidFill>
                <a:latin typeface="Times New Roman"/>
              </a:rPr>
              <a:t>Constancia de la recepción del duplicado por el trabajado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99308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Verdana"/>
              </a:rPr>
              <a:t>ASPECTOS PRACTICOS DE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9AB70-631F-4556-B9C4-A3CF17BC2E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58800" y="115920"/>
            <a:ext cx="664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333399"/>
                </a:solidFill>
                <a:uFillTx/>
                <a:latin typeface="Garamond"/>
              </a:rPr>
              <a:t>ASPECTOS PRACTICOS DE LA REMUN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11280" y="1700280"/>
          <a:ext cx="7921080" cy="1081080"/>
        </p:xfrm>
        <a:graphic>
          <a:graphicData uri="http://schemas.openxmlformats.org/drawingml/2006/table">
            <a:tbl>
              <a:tblPr/>
              <a:tblGrid>
                <a:gridCol w="7921080"/>
              </a:tblGrid>
              <a:tr h="108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9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Convenio Colectivo de Trabajo 389/04   Gremio Gastronómico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684360" y="2997360"/>
            <a:ext cx="784836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Garamond"/>
              </a:rPr>
              <a:t>ADICIONALES DE CONVE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Art.11.3 Antigüedad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% 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s/escala de antigu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1 a 2 años   1%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2 a 3 años   1%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3 a 4 años   2%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4 a 5 años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5 a 6 años   4%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6 a 7 años   4%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7 a 8 años   5%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8 a 9 años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9 a 10 años   6%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10 a 11 años   6%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11 a 12 años   7%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12 a 13 años 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15 a 16 años   10%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16 a 17 años  10%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17 a 18 años   12%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19 a 20 años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Art.11.3 Por alimentacion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Art.11.3 por asistencia perfecta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Art.11.3 por complmento de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 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plus Capital federal y Zona Norte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	</a:t>
            </a: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9B2B5-1B83-42D9-BFFE-037755428E4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95280" y="2060640"/>
            <a:ext cx="734544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8080"/>
                </a:solidFill>
                <a:uFillTx/>
                <a:latin typeface="Garamond"/>
              </a:rPr>
              <a:t>Caso pr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Nombre y Apellido:</a:t>
            </a:r>
            <a:r>
              <a:rPr b="0" lang="es-AR" sz="1800" spc="-1" strike="noStrike">
                <a:solidFill>
                  <a:srgbClr val="008080"/>
                </a:solidFill>
                <a:latin typeface="Garamond"/>
              </a:rPr>
              <a:t> Enrique 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Categoría:</a:t>
            </a:r>
            <a:r>
              <a:rPr b="0" lang="es-AR" sz="1800" spc="-1" strike="noStrike">
                <a:solidFill>
                  <a:srgbClr val="008080"/>
                </a:solidFill>
                <a:latin typeface="Garamond"/>
              </a:rPr>
              <a:t> </a:t>
            </a:r>
            <a:r>
              <a:rPr b="0" lang="es-ES" sz="1800" spc="-1" strike="noStrike">
                <a:solidFill>
                  <a:srgbClr val="008080"/>
                </a:solidFill>
                <a:latin typeface="Garamond"/>
              </a:rPr>
              <a:t>6, </a:t>
            </a:r>
            <a:r>
              <a:rPr b="0" lang="es-AR" sz="1800" spc="-1" strike="noStrike">
                <a:solidFill>
                  <a:srgbClr val="008080"/>
                </a:solidFill>
                <a:latin typeface="Garamond"/>
              </a:rPr>
              <a:t>Mozo de Salón,</a:t>
            </a:r>
            <a:r>
              <a:rPr b="0" lang="es-AR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1800" spc="-1" strike="noStrike">
                <a:solidFill>
                  <a:srgbClr val="008080"/>
                </a:solidFill>
                <a:latin typeface="Garamond"/>
              </a:rPr>
              <a:t>“</a:t>
            </a:r>
            <a:r>
              <a:rPr b="1" lang="es-ES" sz="1800" spc="-1" strike="noStrike">
                <a:solidFill>
                  <a:srgbClr val="008080"/>
                </a:solidFill>
                <a:latin typeface="Garamond"/>
              </a:rPr>
              <a:t>C</a:t>
            </a:r>
            <a:r>
              <a:rPr b="0" lang="es-ES" sz="1800" spc="-1" strike="noStrike">
                <a:solidFill>
                  <a:srgbClr val="008080"/>
                </a:solidFill>
                <a:latin typeface="Garamond"/>
              </a:rPr>
              <a:t>” 1 c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Sueldo Básico</a:t>
            </a:r>
            <a:r>
              <a:rPr b="0" lang="es-AR" sz="1800" spc="-1" strike="noStrike">
                <a:solidFill>
                  <a:srgbClr val="008080"/>
                </a:solidFill>
                <a:latin typeface="Garamond"/>
              </a:rPr>
              <a:t>: $ 2.313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Fecha de ingreso</a:t>
            </a:r>
            <a:r>
              <a:rPr b="0" lang="es-AR" sz="1800" spc="-1" strike="noStrike">
                <a:solidFill>
                  <a:srgbClr val="008080"/>
                </a:solidFill>
                <a:latin typeface="Garamond"/>
              </a:rPr>
              <a:t>: 01/10/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80"/>
                </a:solidFill>
                <a:latin typeface="Garamond"/>
              </a:rPr>
              <a:t>Obra Social</a:t>
            </a:r>
            <a:r>
              <a:rPr b="0" lang="es-AR" sz="1800" spc="-1" strike="noStrike">
                <a:solidFill>
                  <a:srgbClr val="008080"/>
                </a:solidFill>
                <a:latin typeface="Garamond"/>
              </a:rPr>
              <a:t>: OSUTH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Para el cálculo del S.A.C. se debe tener en cuenta la mejor remuneración del semestre. En el caso de análisis la misma se compone de la siguiente manera: Mes 0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Sueldo Básico</a:t>
            </a: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$ 2.313,00</a:t>
            </a: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Compl. Servicio</a:t>
            </a: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$    277,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Asistencia perfecta</a:t>
            </a: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$    231,30</a:t>
            </a: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Adic. Cap. Fed.</a:t>
            </a: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$    138,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8080"/>
                </a:solidFill>
                <a:latin typeface="Arial"/>
              </a:rPr>
              <a:t>Antigüedad</a:t>
            </a:r>
            <a:r>
              <a:rPr b="0" lang="es-AR" sz="1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s-AR" sz="1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s-AR" sz="1400" spc="-1" strike="noStrike">
                <a:solidFill>
                  <a:srgbClr val="008080"/>
                </a:solidFill>
                <a:latin typeface="Arial"/>
              </a:rPr>
              <a:t>$     92.52</a:t>
            </a:r>
            <a:r>
              <a:rPr b="0" lang="es-AR" sz="1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s-AR" sz="1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s-AR" sz="1400" spc="-1" strike="noStrike">
                <a:solidFill>
                  <a:srgbClr val="008080"/>
                </a:solidFill>
                <a:latin typeface="Arial"/>
              </a:rPr>
              <a:t>Día del Gremio</a:t>
            </a:r>
            <a:r>
              <a:rPr b="0" lang="es-AR" sz="1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s-AR" sz="1400" spc="-1" strike="noStrike" u="sng">
                <a:solidFill>
                  <a:srgbClr val="008080"/>
                </a:solidFill>
                <a:uFillTx/>
                <a:latin typeface="Arial"/>
              </a:rPr>
              <a:t>$    101,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Total</a:t>
            </a: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$ 3.053,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80"/>
                </a:solidFill>
                <a:latin typeface="Arial"/>
              </a:rPr>
              <a:t>Cabe destacar que el empleado cumple 5 años en el mes de octub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1557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333399"/>
                </a:solidFill>
                <a:uFillTx/>
                <a:latin typeface="Garamond"/>
              </a:rPr>
              <a:t>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99308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Verdana"/>
              </a:rPr>
              <a:t>ASPECTOS PRACTICOS DE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C15AC-FD55-4A5F-B294-FEE2BE68E0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184464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Garamond"/>
              </a:rPr>
              <a:t>Liquidación Men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900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Verdana"/>
              </a:rPr>
              <a:t>ASPECTOS PRACTICOS DE LA REMUN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564000" y="620640"/>
            <a:ext cx="5275080" cy="623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4AD43-53B1-455C-BAB3-222BE3FC41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0010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Verdana"/>
              </a:rPr>
              <a:t>ASPECTOS PRACTICOS DE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611280" y="220500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Garamond"/>
              </a:rPr>
              <a:t>Liquidación S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619440" y="765000"/>
            <a:ext cx="4984920" cy="604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85DC2-AA61-4587-A931-FAE64F1094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820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Verdana"/>
              </a:rPr>
              <a:t>Aspectos formales de la relación labo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8080"/>
                </a:solidFill>
                <a:latin typeface="Verdana"/>
              </a:rPr>
              <a:t>Alta Empleador al sistema – Alta emple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Verdana"/>
              </a:rPr>
              <a:t>Aspectos teóricos de la Remuneración</a:t>
            </a:r>
            <a:r>
              <a:rPr b="1" lang="es-AR" sz="2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Verdana"/>
              </a:rPr>
              <a:t>Aspectos Prácticos de la remuneración</a:t>
            </a:r>
            <a:r>
              <a:rPr b="1" lang="es-AR" sz="2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205000"/>
            <a:ext cx="8640720" cy="720720"/>
          </a:xfrm>
          <a:prstGeom prst="rect">
            <a:avLst/>
          </a:prstGeom>
          <a:solidFill>
            <a:srgbClr val="ccffff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60280"/>
            <a:ext cx="8459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333399"/>
                </a:solidFill>
                <a:latin typeface="Verdana"/>
              </a:rPr>
              <a:t>ESQUEMA GLOBAL DEL TALL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8B4AB-BB7E-4BF6-9868-5641FAE36A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0010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Verdana"/>
              </a:rPr>
              <a:t>ASPECTOS PRACTICOS DE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700280"/>
            <a:ext cx="17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Garamond"/>
              </a:rPr>
              <a:t>Liquidación Desp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Garamond"/>
              </a:rPr>
              <a:t> </a:t>
            </a:r>
            <a:r>
              <a:rPr b="1" lang="es-AR" sz="2400" spc="-1" strike="noStrike" u="sng">
                <a:solidFill>
                  <a:srgbClr val="333399"/>
                </a:solidFill>
                <a:uFillTx/>
                <a:latin typeface="Garamond"/>
              </a:rPr>
              <a:t>con justa ca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564000" y="765000"/>
            <a:ext cx="5040360" cy="597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CA5D4-0A7F-446D-8B9C-13B2EC5D68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001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Verdana"/>
              </a:rPr>
              <a:t>ASPECTOS PRACTICOS DE LA REMUNE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611280" y="2205000"/>
            <a:ext cx="20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333399"/>
                </a:solidFill>
                <a:uFillTx/>
                <a:latin typeface="Garamond"/>
              </a:rPr>
              <a:t>Liquidación Despido sin justa cau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333399"/>
                </a:solidFill>
                <a:uFillTx/>
                <a:latin typeface="Garamond"/>
              </a:rPr>
              <a:t>20/1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635280" y="765000"/>
            <a:ext cx="4969080" cy="609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26442-EC31-4617-87F9-AED6CB78958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2492280"/>
          </a:xfrm>
          <a:prstGeom prst="rect">
            <a:avLst/>
          </a:prstGeom>
          <a:solidFill>
            <a:srgbClr val="cc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400" spc="-1" strike="noStrike">
                <a:solidFill>
                  <a:srgbClr val="3333cc"/>
                </a:solidFill>
                <a:latin typeface="Verdana"/>
              </a:rPr>
              <a:t>¡ Muchas gracias !</a:t>
            </a:r>
            <a:endParaRPr b="0" lang="en-US" sz="6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2886120"/>
            <a:ext cx="4032360" cy="25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Exposición</a:t>
            </a:r>
            <a:br>
              <a:rPr sz="2200"/>
            </a:b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Dra. L.A. / C.P. Daniela Cabr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Lic. Gimena Magl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Lic. Mariano G. Arcidiáco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Coordinación y Exposición</a:t>
            </a:r>
            <a:br>
              <a:rPr sz="2200"/>
            </a:b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Dr. C.P. Antonio Omar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39400" y="630864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May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88000" y="2708280"/>
            <a:ext cx="4105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Mail de contacto  </a:t>
            </a:r>
            <a:r>
              <a:rPr b="0" lang="en-US" sz="1800" spc="-1" strike="noStrike">
                <a:solidFill>
                  <a:srgbClr val="5f5f5f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5f5f5f"/>
                </a:solidFill>
                <a:latin typeface="Verdana"/>
              </a:rPr>
              <a:t>danielac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Verdana"/>
              </a:rPr>
              <a:t>gimena@mcmc.com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Verdana"/>
              </a:rPr>
              <a:t>info@mgaconsultores.com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Verdana"/>
              </a:rPr>
              <a:t>estudioz@ciudad.com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8BD11-CB84-4B00-921B-6B7C15EC313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rcRect l="6289" t="-80" r="25783" b="28272"/>
          <a:stretch/>
        </p:blipFill>
        <p:spPr>
          <a:xfrm>
            <a:off x="252360" y="1033560"/>
            <a:ext cx="8640720" cy="57085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08000" y="1125360"/>
            <a:ext cx="3456000" cy="648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rId3" action="ppaction://hlinksldjump"/>
          </p:cNvPr>
          <p:cNvSpPr/>
          <p:nvPr/>
        </p:nvSpPr>
        <p:spPr>
          <a:xfrm>
            <a:off x="8388360" y="645336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79" h="21600">
                <a:moveTo>
                  <a:pt x="12641" y="10800"/>
                </a:moveTo>
                <a:lnTo>
                  <a:pt x="23146" y="3794"/>
                </a:lnTo>
                <a:lnTo>
                  <a:pt x="23146" y="17806"/>
                </a:lnTo>
                <a:close/>
              </a:path>
              <a:path fill="darken" w="32279" h="21600">
                <a:moveTo>
                  <a:pt x="9133" y="3794"/>
                </a:moveTo>
                <a:lnTo>
                  <a:pt x="10795" y="3794"/>
                </a:lnTo>
                <a:lnTo>
                  <a:pt x="10795" y="17806"/>
                </a:lnTo>
                <a:lnTo>
                  <a:pt x="9133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6360" y="260280"/>
            <a:ext cx="8567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cc"/>
                </a:solidFill>
                <a:latin typeface="Verdana"/>
              </a:rPr>
              <a:t>Aspectos formales de la Relación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A57AF-4040-42B6-BCA1-5BE8B1EEA1F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50920" y="98100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333399"/>
                </a:solidFill>
                <a:uFillTx/>
                <a:latin typeface="Verdana"/>
              </a:rPr>
              <a:t>Inscripción en Mi Simplificación – Emplead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rcRect l="27177" t="31714" r="28703" b="17386"/>
          <a:stretch/>
        </p:blipFill>
        <p:spPr>
          <a:xfrm>
            <a:off x="826920" y="1519200"/>
            <a:ext cx="7380360" cy="5338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55640" y="3573360"/>
            <a:ext cx="2592360" cy="576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6360" y="260280"/>
            <a:ext cx="8567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cc"/>
                </a:solidFill>
                <a:latin typeface="Verdana"/>
              </a:rPr>
              <a:t>Aspectos formales de la Relación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675640" y="623736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24965" y="10800"/>
                </a:moveTo>
                <a:lnTo>
                  <a:pt x="14459" y="17806"/>
                </a:lnTo>
                <a:lnTo>
                  <a:pt x="14459" y="3794"/>
                </a:lnTo>
                <a:close/>
              </a:path>
              <a:path fill="darken" w="42931" h="21600">
                <a:moveTo>
                  <a:pt x="26810" y="3794"/>
                </a:moveTo>
                <a:lnTo>
                  <a:pt x="26810" y="17806"/>
                </a:lnTo>
                <a:lnTo>
                  <a:pt x="28472" y="17806"/>
                </a:lnTo>
                <a:lnTo>
                  <a:pt x="28472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8AD83-9B36-4856-935F-265B26BDCB6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rcRect l="28653" t="27250" r="27667" b="17069"/>
          <a:stretch/>
        </p:blipFill>
        <p:spPr>
          <a:xfrm>
            <a:off x="1042920" y="1052640"/>
            <a:ext cx="7128000" cy="5726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932360" y="1773360"/>
            <a:ext cx="2519280" cy="431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260280"/>
            <a:ext cx="8567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cc"/>
                </a:solidFill>
                <a:latin typeface="Verdana"/>
              </a:rPr>
              <a:t>Aspectos formales de la Relación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604360" y="6381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24965" y="10800"/>
                </a:moveTo>
                <a:lnTo>
                  <a:pt x="14459" y="17806"/>
                </a:lnTo>
                <a:lnTo>
                  <a:pt x="14459" y="3794"/>
                </a:lnTo>
                <a:close/>
              </a:path>
              <a:path fill="darken" w="42931" h="21600">
                <a:moveTo>
                  <a:pt x="26810" y="3794"/>
                </a:moveTo>
                <a:lnTo>
                  <a:pt x="26810" y="17806"/>
                </a:lnTo>
                <a:lnTo>
                  <a:pt x="28472" y="17806"/>
                </a:lnTo>
                <a:lnTo>
                  <a:pt x="28472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6DC1F-23FD-49C8-A77C-4264B2F031A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863640" y="1017720"/>
            <a:ext cx="7415280" cy="48225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68360" y="260280"/>
            <a:ext cx="8567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Verdana"/>
              </a:rPr>
              <a:t>Aspectos formales de la Relación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604360" y="6453360"/>
            <a:ext cx="288720" cy="142560"/>
          </a:xfrm>
          <a:custGeom>
            <a:avLst/>
            <a:gdLst>
              <a:gd name="textAreaLeft" fmla="*/ 9000 w 288720"/>
              <a:gd name="textAreaRight" fmla="*/ 279720 w 288720"/>
              <a:gd name="textAreaTop" fmla="*/ 9000 h 142560"/>
              <a:gd name="textAreaBottom" fmla="*/ 133560 h 142560"/>
            </a:gdLst>
            <a:ahLst/>
            <a:rect l="textAreaLeft" t="textAreaTop" r="textAreaRight" b="textAreaBottom"/>
            <a:pathLst>
              <a:path w="43690" h="21600">
                <a:moveTo>
                  <a:pt x="0" y="0"/>
                </a:moveTo>
                <a:lnTo>
                  <a:pt x="43690" y="0"/>
                </a:lnTo>
                <a:lnTo>
                  <a:pt x="43690" y="21600"/>
                </a:lnTo>
                <a:lnTo>
                  <a:pt x="0" y="21600"/>
                </a:lnTo>
                <a:close/>
              </a:path>
              <a:path fill="lightenLess" w="43690" h="21600">
                <a:moveTo>
                  <a:pt x="0" y="0"/>
                </a:moveTo>
                <a:lnTo>
                  <a:pt x="43690" y="0"/>
                </a:lnTo>
                <a:lnTo>
                  <a:pt x="42290" y="1400"/>
                </a:lnTo>
                <a:lnTo>
                  <a:pt x="1400" y="1400"/>
                </a:lnTo>
                <a:close/>
              </a:path>
              <a:path fill="darken" w="43690" h="21600">
                <a:moveTo>
                  <a:pt x="43690" y="0"/>
                </a:moveTo>
                <a:lnTo>
                  <a:pt x="43690" y="21600"/>
                </a:lnTo>
                <a:lnTo>
                  <a:pt x="42290" y="20200"/>
                </a:lnTo>
                <a:lnTo>
                  <a:pt x="42290" y="1400"/>
                </a:lnTo>
                <a:close/>
              </a:path>
              <a:path fill="darkenLess" w="43690" h="21600">
                <a:moveTo>
                  <a:pt x="43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290" y="20200"/>
                </a:lnTo>
                <a:close/>
              </a:path>
              <a:path fill="lighten" w="43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690" h="21600">
                <a:moveTo>
                  <a:pt x="25344" y="10800"/>
                </a:moveTo>
                <a:lnTo>
                  <a:pt x="14838" y="17806"/>
                </a:lnTo>
                <a:lnTo>
                  <a:pt x="14838" y="3794"/>
                </a:lnTo>
                <a:close/>
              </a:path>
              <a:path fill="darken" w="43690" h="21600">
                <a:moveTo>
                  <a:pt x="27189" y="3794"/>
                </a:moveTo>
                <a:lnTo>
                  <a:pt x="27189" y="17806"/>
                </a:lnTo>
                <a:lnTo>
                  <a:pt x="28851" y="17806"/>
                </a:lnTo>
                <a:lnTo>
                  <a:pt x="28851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3864E-671F-4BB0-B3C4-F3B87AF1937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547640" y="1052640"/>
          <a:ext cx="6197760" cy="5573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052640"/>
                    <a:ext cx="6197760" cy="55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468360" y="260280"/>
            <a:ext cx="8567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Verdana"/>
              </a:rPr>
              <a:t>Aspectos formales de la Relación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EBED1-D43B-4CA5-A133-4F8B6D0B60D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195640" y="1916280"/>
          <a:ext cx="5256000" cy="4941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1916280"/>
                    <a:ext cx="52560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8388360" y="566100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12621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  <a:path fill="darken" w="32239" h="21600">
                <a:moveTo>
                  <a:pt x="9113" y="3794"/>
                </a:moveTo>
                <a:lnTo>
                  <a:pt x="10775" y="3794"/>
                </a:lnTo>
                <a:lnTo>
                  <a:pt x="10775" y="17806"/>
                </a:lnTo>
                <a:lnTo>
                  <a:pt x="9113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6360" y="260280"/>
            <a:ext cx="8567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cc"/>
                </a:solidFill>
                <a:latin typeface="Verdana"/>
              </a:rPr>
              <a:t>Aspectos formales de la Relación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E9476-A0EC-4424-8791-00B507D8FB9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766800" y="981000"/>
            <a:ext cx="7608960" cy="5761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932360" y="1773360"/>
            <a:ext cx="2519280" cy="647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260280"/>
            <a:ext cx="8567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cc"/>
                </a:solidFill>
                <a:latin typeface="Verdana"/>
              </a:rPr>
              <a:t>Aspectos formales de la Relación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04360" y="6308640"/>
            <a:ext cx="287280" cy="14472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42825" h="21600">
                <a:moveTo>
                  <a:pt x="0" y="0"/>
                </a:moveTo>
                <a:lnTo>
                  <a:pt x="42825" y="0"/>
                </a:lnTo>
                <a:lnTo>
                  <a:pt x="42825" y="21600"/>
                </a:lnTo>
                <a:lnTo>
                  <a:pt x="0" y="21600"/>
                </a:lnTo>
                <a:close/>
              </a:path>
              <a:path fill="lightenLess" w="42825" h="21600">
                <a:moveTo>
                  <a:pt x="0" y="0"/>
                </a:moveTo>
                <a:lnTo>
                  <a:pt x="42825" y="0"/>
                </a:lnTo>
                <a:lnTo>
                  <a:pt x="41425" y="1400"/>
                </a:lnTo>
                <a:lnTo>
                  <a:pt x="1400" y="1400"/>
                </a:lnTo>
                <a:close/>
              </a:path>
              <a:path fill="darken" w="42825" h="21600">
                <a:moveTo>
                  <a:pt x="42825" y="0"/>
                </a:moveTo>
                <a:lnTo>
                  <a:pt x="42825" y="21600"/>
                </a:lnTo>
                <a:lnTo>
                  <a:pt x="41425" y="20200"/>
                </a:lnTo>
                <a:lnTo>
                  <a:pt x="41425" y="1400"/>
                </a:lnTo>
                <a:close/>
              </a:path>
              <a:path fill="darkenLess" w="42825" h="21600">
                <a:moveTo>
                  <a:pt x="42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425" y="20200"/>
                </a:lnTo>
                <a:close/>
              </a:path>
              <a:path fill="lighten" w="42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825" h="21600">
                <a:moveTo>
                  <a:pt x="24911" y="10800"/>
                </a:moveTo>
                <a:lnTo>
                  <a:pt x="14406" y="17806"/>
                </a:lnTo>
                <a:lnTo>
                  <a:pt x="14406" y="3794"/>
                </a:lnTo>
                <a:close/>
              </a:path>
              <a:path fill="darken" w="42825" h="21600">
                <a:moveTo>
                  <a:pt x="26756" y="3794"/>
                </a:moveTo>
                <a:lnTo>
                  <a:pt x="26756" y="17806"/>
                </a:lnTo>
                <a:lnTo>
                  <a:pt x="28419" y="17806"/>
                </a:lnTo>
                <a:lnTo>
                  <a:pt x="28419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A3F44-D84B-4C2A-AE7C-F1D727F22E1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5280" y="1125360"/>
            <a:ext cx="82296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65920" indent="-5659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333399"/>
                </a:solidFill>
                <a:latin typeface="Verdana"/>
              </a:rPr>
              <a:t>OBLIGACIONES DEL EMPLE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 algn="just">
              <a:lnSpc>
                <a:spcPct val="100000"/>
              </a:lnSpc>
              <a:spcBef>
                <a:spcPts val="476"/>
              </a:spcBef>
              <a:buSzPct val="1234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333399"/>
                </a:solidFill>
                <a:latin typeface="Verdana"/>
              </a:rPr>
              <a:t>AL INICIO DE LA RELACION LABOR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29240" indent="-489960" algn="just">
              <a:lnSpc>
                <a:spcPct val="105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8080"/>
                </a:solidFill>
                <a:latin typeface="Verdana"/>
              </a:rPr>
              <a:t>Inscripción ante la AFIP como emple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9240" indent="-489960" algn="just">
              <a:lnSpc>
                <a:spcPct val="105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8080"/>
                </a:solidFill>
                <a:latin typeface="Verdana"/>
              </a:rPr>
              <a:t>Realización del encuadre sindical / identificar convenio colectivo de trabajo del empleador, en función de la actividad en la que se desempeñe.  Inscripción en el sindicato.</a:t>
            </a:r>
            <a:r>
              <a:rPr b="0" lang="es-AR" sz="1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9240" indent="-489960" algn="just">
              <a:lnSpc>
                <a:spcPct val="105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8080"/>
                </a:solidFill>
                <a:latin typeface="Verdana"/>
              </a:rPr>
              <a:t>Inscripción en la Obra Social – OSUTHGRA Nro de Obra Social: 1088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9240" indent="-489960" algn="just">
              <a:lnSpc>
                <a:spcPct val="105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8080"/>
                </a:solidFill>
                <a:latin typeface="Verdana"/>
              </a:rPr>
              <a:t>Contratación de un Seguro para Riesgos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9240" indent="-489960" algn="just">
              <a:lnSpc>
                <a:spcPct val="105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8080"/>
                </a:solidFill>
                <a:latin typeface="Verdana"/>
              </a:rPr>
              <a:t>Contratación del Seguro de Vida Obligato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3680" indent="-414720" algn="just">
              <a:lnSpc>
                <a:spcPct val="105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8080"/>
                </a:solidFill>
                <a:latin typeface="Verdana"/>
              </a:rPr>
              <a:t>General - Decreto ley 1567/74 – Monto asegurado: $12.000 desde 01/04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3680" indent="-414720" algn="just">
              <a:lnSpc>
                <a:spcPct val="105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8080"/>
                </a:solidFill>
                <a:latin typeface="Verdana"/>
              </a:rPr>
              <a:t>Seguro de Vida Obligatorio - CCT 389/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9240" indent="-489960" algn="just">
              <a:lnSpc>
                <a:spcPct val="105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8080"/>
                </a:solidFill>
                <a:latin typeface="Verdana"/>
              </a:rPr>
              <a:t>Seguro de Sepe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9240" indent="-489960" algn="just">
              <a:lnSpc>
                <a:spcPct val="105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8080"/>
                </a:solidFill>
                <a:latin typeface="Verdana"/>
              </a:rPr>
              <a:t>Contratación de un servicio de medicina laboral. Examen médico preocupa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260280"/>
            <a:ext cx="845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Garamond"/>
              </a:rPr>
              <a:t>ASPECTOS FORMALES DE LA REMUN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5796000" y="256536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24965" y="10800"/>
                </a:moveTo>
                <a:lnTo>
                  <a:pt x="14459" y="17806"/>
                </a:lnTo>
                <a:lnTo>
                  <a:pt x="14459" y="3794"/>
                </a:lnTo>
                <a:close/>
              </a:path>
              <a:path fill="darken" w="42931" h="21600">
                <a:moveTo>
                  <a:pt x="26810" y="3794"/>
                </a:moveTo>
                <a:lnTo>
                  <a:pt x="26810" y="17806"/>
                </a:lnTo>
                <a:lnTo>
                  <a:pt x="28472" y="17806"/>
                </a:lnTo>
                <a:lnTo>
                  <a:pt x="28472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5796000" y="3213000"/>
            <a:ext cx="287280" cy="14472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42825" h="21600">
                <a:moveTo>
                  <a:pt x="0" y="0"/>
                </a:moveTo>
                <a:lnTo>
                  <a:pt x="42825" y="0"/>
                </a:lnTo>
                <a:lnTo>
                  <a:pt x="42825" y="21600"/>
                </a:lnTo>
                <a:lnTo>
                  <a:pt x="0" y="21600"/>
                </a:lnTo>
                <a:close/>
              </a:path>
              <a:path fill="lightenLess" w="42825" h="21600">
                <a:moveTo>
                  <a:pt x="0" y="0"/>
                </a:moveTo>
                <a:lnTo>
                  <a:pt x="42825" y="0"/>
                </a:lnTo>
                <a:lnTo>
                  <a:pt x="41425" y="1400"/>
                </a:lnTo>
                <a:lnTo>
                  <a:pt x="1400" y="1400"/>
                </a:lnTo>
                <a:close/>
              </a:path>
              <a:path fill="darken" w="42825" h="21600">
                <a:moveTo>
                  <a:pt x="42825" y="0"/>
                </a:moveTo>
                <a:lnTo>
                  <a:pt x="42825" y="21600"/>
                </a:lnTo>
                <a:lnTo>
                  <a:pt x="41425" y="20200"/>
                </a:lnTo>
                <a:lnTo>
                  <a:pt x="41425" y="1400"/>
                </a:lnTo>
                <a:close/>
              </a:path>
              <a:path fill="darkenLess" w="42825" h="21600">
                <a:moveTo>
                  <a:pt x="42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425" y="20200"/>
                </a:lnTo>
                <a:close/>
              </a:path>
              <a:path fill="lighten" w="42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825" h="21600">
                <a:moveTo>
                  <a:pt x="24911" y="10800"/>
                </a:moveTo>
                <a:lnTo>
                  <a:pt x="14406" y="17806"/>
                </a:lnTo>
                <a:lnTo>
                  <a:pt x="14406" y="3794"/>
                </a:lnTo>
                <a:close/>
              </a:path>
              <a:path fill="darken" w="42825" h="21600">
                <a:moveTo>
                  <a:pt x="26756" y="3794"/>
                </a:moveTo>
                <a:lnTo>
                  <a:pt x="26756" y="17806"/>
                </a:lnTo>
                <a:lnTo>
                  <a:pt x="28419" y="17806"/>
                </a:lnTo>
                <a:lnTo>
                  <a:pt x="28419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AAEB8-7AC8-4587-A8F0-67C1FB0359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58800" y="1309680"/>
            <a:ext cx="7824960" cy="42465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68360" y="260280"/>
            <a:ext cx="8567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cc"/>
                </a:solidFill>
                <a:latin typeface="Verdana"/>
              </a:rPr>
              <a:t>Aspectos formales de la Relación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604360" y="6093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14299" y="12934"/>
                </a:moveTo>
                <a:lnTo>
                  <a:pt x="3794" y="19941"/>
                </a:lnTo>
                <a:lnTo>
                  <a:pt x="3794" y="5928"/>
                </a:lnTo>
                <a:close/>
              </a:path>
              <a:path fill="darken" w="21600" h="25868">
                <a:moveTo>
                  <a:pt x="16144" y="5928"/>
                </a:moveTo>
                <a:lnTo>
                  <a:pt x="16144" y="19941"/>
                </a:lnTo>
                <a:lnTo>
                  <a:pt x="17806" y="19941"/>
                </a:lnTo>
                <a:lnTo>
                  <a:pt x="17806" y="5928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79EA6-2ABE-449A-9C4E-FD25F3B4C6C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876240" y="1052640"/>
            <a:ext cx="7391520" cy="5257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68360" y="260280"/>
            <a:ext cx="8567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cc"/>
                </a:solidFill>
                <a:latin typeface="Verdana"/>
              </a:rPr>
              <a:t>Aspectos formales de la Relación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32720" y="6165720"/>
            <a:ext cx="468360" cy="358920"/>
          </a:xfrm>
          <a:custGeom>
            <a:avLst/>
            <a:gdLst>
              <a:gd name="textAreaLeft" fmla="*/ 23040 w 468360"/>
              <a:gd name="textAreaRight" fmla="*/ 445320 w 468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8180" h="21600">
                <a:moveTo>
                  <a:pt x="0" y="0"/>
                </a:moveTo>
                <a:lnTo>
                  <a:pt x="28180" y="0"/>
                </a:lnTo>
                <a:lnTo>
                  <a:pt x="28180" y="21600"/>
                </a:lnTo>
                <a:lnTo>
                  <a:pt x="0" y="21600"/>
                </a:lnTo>
                <a:close/>
              </a:path>
              <a:path fill="lightenLess" w="28180" h="21600">
                <a:moveTo>
                  <a:pt x="0" y="0"/>
                </a:moveTo>
                <a:lnTo>
                  <a:pt x="28180" y="0"/>
                </a:lnTo>
                <a:lnTo>
                  <a:pt x="26780" y="1400"/>
                </a:lnTo>
                <a:lnTo>
                  <a:pt x="1400" y="1400"/>
                </a:lnTo>
                <a:close/>
              </a:path>
              <a:path fill="darken" w="28180" h="21600">
                <a:moveTo>
                  <a:pt x="28180" y="0"/>
                </a:moveTo>
                <a:lnTo>
                  <a:pt x="28180" y="21600"/>
                </a:lnTo>
                <a:lnTo>
                  <a:pt x="26780" y="20200"/>
                </a:lnTo>
                <a:lnTo>
                  <a:pt x="26780" y="1400"/>
                </a:lnTo>
                <a:close/>
              </a:path>
              <a:path fill="darkenLess" w="28180" h="21600">
                <a:moveTo>
                  <a:pt x="28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80" y="20200"/>
                </a:lnTo>
                <a:close/>
              </a:path>
              <a:path fill="lighten" w="28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80" h="21600">
                <a:moveTo>
                  <a:pt x="17589" y="10800"/>
                </a:moveTo>
                <a:lnTo>
                  <a:pt x="7083" y="17806"/>
                </a:lnTo>
                <a:lnTo>
                  <a:pt x="7083" y="3794"/>
                </a:lnTo>
                <a:close/>
              </a:path>
              <a:path fill="darken" w="28180" h="21600">
                <a:moveTo>
                  <a:pt x="19434" y="3794"/>
                </a:moveTo>
                <a:lnTo>
                  <a:pt x="19434" y="17806"/>
                </a:lnTo>
                <a:lnTo>
                  <a:pt x="21096" y="17806"/>
                </a:lnTo>
                <a:lnTo>
                  <a:pt x="21096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B6F3C-2047-4E50-B555-660F1DE7F24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876240" y="912960"/>
            <a:ext cx="7296120" cy="5829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388360" y="566100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12621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  <a:path fill="darken" w="32239" h="21600">
                <a:moveTo>
                  <a:pt x="9113" y="3794"/>
                </a:moveTo>
                <a:lnTo>
                  <a:pt x="10775" y="3794"/>
                </a:lnTo>
                <a:lnTo>
                  <a:pt x="10775" y="17806"/>
                </a:lnTo>
                <a:lnTo>
                  <a:pt x="9113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76360" y="260280"/>
            <a:ext cx="8567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cc"/>
                </a:solidFill>
                <a:latin typeface="Verdana"/>
              </a:rPr>
              <a:t>Aspectos formales de la Relación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64958-0310-4711-9878-B0EBB542FC7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84360" y="1085760"/>
            <a:ext cx="7488000" cy="57722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4932360" y="2205000"/>
            <a:ext cx="2303640" cy="432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260280"/>
            <a:ext cx="8567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Verdana"/>
              </a:rPr>
              <a:t>Aspectos formales de la Relación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604360" y="6165720"/>
            <a:ext cx="360360" cy="28764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7054" h="21600">
                <a:moveTo>
                  <a:pt x="0" y="0"/>
                </a:moveTo>
                <a:lnTo>
                  <a:pt x="27054" y="0"/>
                </a:lnTo>
                <a:lnTo>
                  <a:pt x="27054" y="21600"/>
                </a:lnTo>
                <a:lnTo>
                  <a:pt x="0" y="21600"/>
                </a:lnTo>
                <a:close/>
              </a:path>
              <a:path fill="lightenLess" w="27054" h="21600">
                <a:moveTo>
                  <a:pt x="0" y="0"/>
                </a:moveTo>
                <a:lnTo>
                  <a:pt x="27054" y="0"/>
                </a:lnTo>
                <a:lnTo>
                  <a:pt x="25654" y="1400"/>
                </a:lnTo>
                <a:lnTo>
                  <a:pt x="1400" y="1400"/>
                </a:lnTo>
                <a:close/>
              </a:path>
              <a:path fill="darken" w="27054" h="21600">
                <a:moveTo>
                  <a:pt x="27054" y="0"/>
                </a:moveTo>
                <a:lnTo>
                  <a:pt x="27054" y="21600"/>
                </a:lnTo>
                <a:lnTo>
                  <a:pt x="25654" y="20200"/>
                </a:lnTo>
                <a:lnTo>
                  <a:pt x="25654" y="1400"/>
                </a:lnTo>
                <a:close/>
              </a:path>
              <a:path fill="darkenLess" w="27054" h="21600">
                <a:moveTo>
                  <a:pt x="27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54" y="20200"/>
                </a:lnTo>
                <a:close/>
              </a:path>
              <a:path fill="lighten" w="27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54" h="21600">
                <a:moveTo>
                  <a:pt x="17026" y="10800"/>
                </a:moveTo>
                <a:lnTo>
                  <a:pt x="6521" y="17806"/>
                </a:lnTo>
                <a:lnTo>
                  <a:pt x="6521" y="3794"/>
                </a:lnTo>
                <a:close/>
              </a:path>
              <a:path fill="darken" w="27054" h="21600">
                <a:moveTo>
                  <a:pt x="18871" y="3794"/>
                </a:moveTo>
                <a:lnTo>
                  <a:pt x="18871" y="17806"/>
                </a:lnTo>
                <a:lnTo>
                  <a:pt x="20533" y="17806"/>
                </a:lnTo>
                <a:lnTo>
                  <a:pt x="20533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806F0-11FC-4E5D-907F-2891A8098B57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08120" y="981000"/>
            <a:ext cx="7824600" cy="5184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 flipV="1">
            <a:off x="7596360" y="4437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260280"/>
            <a:ext cx="8567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cc"/>
                </a:solidFill>
                <a:latin typeface="Verdana"/>
              </a:rPr>
              <a:t>Aspectos formales de la Relación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675640" y="6237360"/>
            <a:ext cx="468360" cy="360360"/>
          </a:xfrm>
          <a:custGeom>
            <a:avLst/>
            <a:gdLst>
              <a:gd name="textAreaLeft" fmla="*/ 23040 w 468360"/>
              <a:gd name="textAreaRight" fmla="*/ 445320 w 4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8067" h="21600">
                <a:moveTo>
                  <a:pt x="0" y="0"/>
                </a:moveTo>
                <a:lnTo>
                  <a:pt x="28067" y="0"/>
                </a:lnTo>
                <a:lnTo>
                  <a:pt x="28067" y="21600"/>
                </a:lnTo>
                <a:lnTo>
                  <a:pt x="0" y="21600"/>
                </a:lnTo>
                <a:close/>
              </a:path>
              <a:path fill="lightenLess" w="28067" h="21600">
                <a:moveTo>
                  <a:pt x="0" y="0"/>
                </a:moveTo>
                <a:lnTo>
                  <a:pt x="28067" y="0"/>
                </a:lnTo>
                <a:lnTo>
                  <a:pt x="26667" y="1400"/>
                </a:lnTo>
                <a:lnTo>
                  <a:pt x="1400" y="1400"/>
                </a:lnTo>
                <a:close/>
              </a:path>
              <a:path fill="darken" w="28067" h="21600">
                <a:moveTo>
                  <a:pt x="28067" y="0"/>
                </a:moveTo>
                <a:lnTo>
                  <a:pt x="28067" y="21600"/>
                </a:lnTo>
                <a:lnTo>
                  <a:pt x="26667" y="20200"/>
                </a:lnTo>
                <a:lnTo>
                  <a:pt x="26667" y="1400"/>
                </a:lnTo>
                <a:close/>
              </a:path>
              <a:path fill="darkenLess" w="28067" h="21600">
                <a:moveTo>
                  <a:pt x="28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7" y="20200"/>
                </a:lnTo>
                <a:close/>
              </a:path>
              <a:path fill="lighten" w="28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7" h="21600">
                <a:moveTo>
                  <a:pt x="17532" y="10800"/>
                </a:moveTo>
                <a:lnTo>
                  <a:pt x="7027" y="17806"/>
                </a:lnTo>
                <a:lnTo>
                  <a:pt x="7027" y="3794"/>
                </a:lnTo>
                <a:close/>
              </a:path>
              <a:path fill="darken" w="28067" h="21600">
                <a:moveTo>
                  <a:pt x="19378" y="3794"/>
                </a:moveTo>
                <a:lnTo>
                  <a:pt x="19378" y="17806"/>
                </a:lnTo>
                <a:lnTo>
                  <a:pt x="21040" y="17806"/>
                </a:lnTo>
                <a:lnTo>
                  <a:pt x="21040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DBD5C-7D3D-4630-BF76-61191387A51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4920" y="979560"/>
            <a:ext cx="7391520" cy="52578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rcRect l="32878" t="17875" r="44035" b="32042"/>
          <a:stretch/>
        </p:blipFill>
        <p:spPr>
          <a:xfrm>
            <a:off x="5867280" y="692280"/>
            <a:ext cx="3240360" cy="4392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68360" y="260280"/>
            <a:ext cx="8567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Aspectos formales de la Relación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675640" y="6237360"/>
            <a:ext cx="468360" cy="360360"/>
          </a:xfrm>
          <a:custGeom>
            <a:avLst/>
            <a:gdLst>
              <a:gd name="textAreaLeft" fmla="*/ 23040 w 468360"/>
              <a:gd name="textAreaRight" fmla="*/ 445320 w 4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8067" h="21600">
                <a:moveTo>
                  <a:pt x="0" y="0"/>
                </a:moveTo>
                <a:lnTo>
                  <a:pt x="28067" y="0"/>
                </a:lnTo>
                <a:lnTo>
                  <a:pt x="28067" y="21600"/>
                </a:lnTo>
                <a:lnTo>
                  <a:pt x="0" y="21600"/>
                </a:lnTo>
                <a:close/>
              </a:path>
              <a:path fill="lightenLess" w="28067" h="21600">
                <a:moveTo>
                  <a:pt x="0" y="0"/>
                </a:moveTo>
                <a:lnTo>
                  <a:pt x="28067" y="0"/>
                </a:lnTo>
                <a:lnTo>
                  <a:pt x="26667" y="1400"/>
                </a:lnTo>
                <a:lnTo>
                  <a:pt x="1400" y="1400"/>
                </a:lnTo>
                <a:close/>
              </a:path>
              <a:path fill="darken" w="28067" h="21600">
                <a:moveTo>
                  <a:pt x="28067" y="0"/>
                </a:moveTo>
                <a:lnTo>
                  <a:pt x="28067" y="21600"/>
                </a:lnTo>
                <a:lnTo>
                  <a:pt x="26667" y="20200"/>
                </a:lnTo>
                <a:lnTo>
                  <a:pt x="26667" y="1400"/>
                </a:lnTo>
                <a:close/>
              </a:path>
              <a:path fill="darkenLess" w="28067" h="21600">
                <a:moveTo>
                  <a:pt x="28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7" y="20200"/>
                </a:lnTo>
                <a:close/>
              </a:path>
              <a:path fill="lighten" w="28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7" h="21600">
                <a:moveTo>
                  <a:pt x="17532" y="10800"/>
                </a:moveTo>
                <a:lnTo>
                  <a:pt x="7027" y="17806"/>
                </a:lnTo>
                <a:lnTo>
                  <a:pt x="7027" y="3794"/>
                </a:lnTo>
                <a:close/>
              </a:path>
              <a:path fill="darken" w="28067" h="21600">
                <a:moveTo>
                  <a:pt x="19378" y="3794"/>
                </a:moveTo>
                <a:lnTo>
                  <a:pt x="19378" y="17806"/>
                </a:lnTo>
                <a:lnTo>
                  <a:pt x="21040" y="17806"/>
                </a:lnTo>
                <a:lnTo>
                  <a:pt x="21040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ADB28-8A6E-42CB-AAD8-58DB036ABA9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469880" y="822240"/>
            <a:ext cx="6197760" cy="59198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76360" y="0"/>
            <a:ext cx="8567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Verdana"/>
              </a:rPr>
              <a:t>Aspectos formales de la Relación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8360" y="6093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8621" y="10800"/>
                </a:moveTo>
                <a:lnTo>
                  <a:pt x="8116" y="17806"/>
                </a:lnTo>
                <a:lnTo>
                  <a:pt x="8116" y="3794"/>
                </a:lnTo>
                <a:close/>
              </a:path>
              <a:path fill="darken" w="30244" h="21600">
                <a:moveTo>
                  <a:pt x="20466" y="3794"/>
                </a:moveTo>
                <a:lnTo>
                  <a:pt x="20466" y="17806"/>
                </a:lnTo>
                <a:lnTo>
                  <a:pt x="22129" y="17806"/>
                </a:lnTo>
                <a:lnTo>
                  <a:pt x="22129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99644-A544-4795-B788-FE7E1AADD2D0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825560" y="843120"/>
            <a:ext cx="5492880" cy="61149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8101080" y="602136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12621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  <a:path fill="darken" w="32239" h="21600">
                <a:moveTo>
                  <a:pt x="9113" y="3794"/>
                </a:moveTo>
                <a:lnTo>
                  <a:pt x="10775" y="3794"/>
                </a:lnTo>
                <a:lnTo>
                  <a:pt x="10775" y="17806"/>
                </a:lnTo>
                <a:lnTo>
                  <a:pt x="9113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6360" y="0"/>
            <a:ext cx="8567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Verdana"/>
              </a:rPr>
              <a:t>Aspectos formales de la Relación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CCCE1-B84A-410E-BA07-44B3762A912D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8360" y="3333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333399"/>
                </a:solidFill>
                <a:uFillTx/>
                <a:latin typeface="Garamond"/>
              </a:rPr>
              <a:t>Aspectos formales de la Relación Lab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901800"/>
            <a:ext cx="131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33"/>
                </a:solidFill>
                <a:latin typeface="Garamond"/>
              </a:rPr>
              <a:t>Empadro- namiento de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63640" y="1125360"/>
            <a:ext cx="576360" cy="0"/>
          </a:xfrm>
          <a:prstGeom prst="line">
            <a:avLst/>
          </a:prstGeom>
          <a:ln w="28440">
            <a:solidFill>
              <a:srgbClr val="a3b2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rcRect l="6363" t="3524" r="66079" b="93575"/>
          <a:stretch/>
        </p:blipFill>
        <p:spPr>
          <a:xfrm>
            <a:off x="2592360" y="981000"/>
            <a:ext cx="5724720" cy="3812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4" action="ppaction://hlinksldjump"/>
          </p:cNvPr>
          <p:cNvPicPr/>
          <p:nvPr/>
        </p:nvPicPr>
        <p:blipFill>
          <a:blip r:embed="rId5"/>
          <a:srcRect l="19151" t="20471" r="21466" b="6019"/>
          <a:stretch/>
        </p:blipFill>
        <p:spPr>
          <a:xfrm>
            <a:off x="1835280" y="1628640"/>
            <a:ext cx="6514920" cy="50212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8101080" y="602136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12621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  <a:path fill="darken" w="32239" h="21600">
                <a:moveTo>
                  <a:pt x="9113" y="3794"/>
                </a:moveTo>
                <a:lnTo>
                  <a:pt x="10775" y="3794"/>
                </a:lnTo>
                <a:lnTo>
                  <a:pt x="10775" y="17806"/>
                </a:lnTo>
                <a:lnTo>
                  <a:pt x="9113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2F9A4-C627-40C8-AB79-68451A38944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411280" y="189000"/>
            <a:ext cx="6102360" cy="6669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24000" y="4076640"/>
            <a:ext cx="196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333399"/>
                </a:solidFill>
                <a:uFillTx/>
                <a:latin typeface="Verdana"/>
              </a:rPr>
              <a:t>MODELO ficha de Ingr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260280"/>
            <a:ext cx="2340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cc"/>
                </a:solidFill>
                <a:latin typeface="Verdana"/>
              </a:rPr>
              <a:t>Aspectos formales de la Relación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rId3" action="ppaction://hlinksldjump"/>
          </p:cNvPr>
          <p:cNvSpPr/>
          <p:nvPr/>
        </p:nvSpPr>
        <p:spPr>
          <a:xfrm>
            <a:off x="8604360" y="6165720"/>
            <a:ext cx="287280" cy="14472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42825" h="21600">
                <a:moveTo>
                  <a:pt x="0" y="0"/>
                </a:moveTo>
                <a:lnTo>
                  <a:pt x="42825" y="0"/>
                </a:lnTo>
                <a:lnTo>
                  <a:pt x="42825" y="21600"/>
                </a:lnTo>
                <a:lnTo>
                  <a:pt x="0" y="21600"/>
                </a:lnTo>
                <a:close/>
              </a:path>
              <a:path fill="lightenLess" w="42825" h="21600">
                <a:moveTo>
                  <a:pt x="0" y="0"/>
                </a:moveTo>
                <a:lnTo>
                  <a:pt x="42825" y="0"/>
                </a:lnTo>
                <a:lnTo>
                  <a:pt x="41425" y="1400"/>
                </a:lnTo>
                <a:lnTo>
                  <a:pt x="1400" y="1400"/>
                </a:lnTo>
                <a:close/>
              </a:path>
              <a:path fill="darken" w="42825" h="21600">
                <a:moveTo>
                  <a:pt x="42825" y="0"/>
                </a:moveTo>
                <a:lnTo>
                  <a:pt x="42825" y="21600"/>
                </a:lnTo>
                <a:lnTo>
                  <a:pt x="41425" y="20200"/>
                </a:lnTo>
                <a:lnTo>
                  <a:pt x="41425" y="1400"/>
                </a:lnTo>
                <a:close/>
              </a:path>
              <a:path fill="darkenLess" w="42825" h="21600">
                <a:moveTo>
                  <a:pt x="42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425" y="20200"/>
                </a:lnTo>
                <a:close/>
              </a:path>
              <a:path fill="lighten" w="42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825" h="21600">
                <a:moveTo>
                  <a:pt x="24911" y="10800"/>
                </a:moveTo>
                <a:lnTo>
                  <a:pt x="14406" y="17806"/>
                </a:lnTo>
                <a:lnTo>
                  <a:pt x="14406" y="3794"/>
                </a:lnTo>
                <a:close/>
              </a:path>
              <a:path fill="darken" w="42825" h="21600">
                <a:moveTo>
                  <a:pt x="26756" y="3794"/>
                </a:moveTo>
                <a:lnTo>
                  <a:pt x="26756" y="17806"/>
                </a:lnTo>
                <a:lnTo>
                  <a:pt x="28419" y="17806"/>
                </a:lnTo>
                <a:lnTo>
                  <a:pt x="28419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rId4"/>
          </p:cNvPr>
          <p:cNvSpPr/>
          <p:nvPr/>
        </p:nvSpPr>
        <p:spPr>
          <a:xfrm>
            <a:off x="8604360" y="6165720"/>
            <a:ext cx="287280" cy="14472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42825" h="21600">
                <a:moveTo>
                  <a:pt x="0" y="0"/>
                </a:moveTo>
                <a:lnTo>
                  <a:pt x="42825" y="0"/>
                </a:lnTo>
                <a:lnTo>
                  <a:pt x="42825" y="21600"/>
                </a:lnTo>
                <a:lnTo>
                  <a:pt x="0" y="21600"/>
                </a:lnTo>
                <a:close/>
              </a:path>
              <a:path fill="lightenLess" w="42825" h="21600">
                <a:moveTo>
                  <a:pt x="0" y="0"/>
                </a:moveTo>
                <a:lnTo>
                  <a:pt x="42825" y="0"/>
                </a:lnTo>
                <a:lnTo>
                  <a:pt x="41425" y="1400"/>
                </a:lnTo>
                <a:lnTo>
                  <a:pt x="1400" y="1400"/>
                </a:lnTo>
                <a:close/>
              </a:path>
              <a:path fill="darken" w="42825" h="21600">
                <a:moveTo>
                  <a:pt x="42825" y="0"/>
                </a:moveTo>
                <a:lnTo>
                  <a:pt x="42825" y="21600"/>
                </a:lnTo>
                <a:lnTo>
                  <a:pt x="41425" y="20200"/>
                </a:lnTo>
                <a:lnTo>
                  <a:pt x="41425" y="1400"/>
                </a:lnTo>
                <a:close/>
              </a:path>
              <a:path fill="darkenLess" w="42825" h="21600">
                <a:moveTo>
                  <a:pt x="42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425" y="20200"/>
                </a:lnTo>
                <a:close/>
              </a:path>
              <a:path fill="lighten" w="42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825" h="21600">
                <a:moveTo>
                  <a:pt x="24911" y="10800"/>
                </a:moveTo>
                <a:lnTo>
                  <a:pt x="14406" y="17806"/>
                </a:lnTo>
                <a:lnTo>
                  <a:pt x="14406" y="3794"/>
                </a:lnTo>
                <a:close/>
              </a:path>
              <a:path fill="darken" w="42825" h="21600">
                <a:moveTo>
                  <a:pt x="26756" y="3794"/>
                </a:moveTo>
                <a:lnTo>
                  <a:pt x="26756" y="17806"/>
                </a:lnTo>
                <a:lnTo>
                  <a:pt x="28419" y="17806"/>
                </a:lnTo>
                <a:lnTo>
                  <a:pt x="28419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A41A7-5E26-4CDB-80C8-F4A6B312351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5280" y="1052640"/>
            <a:ext cx="844704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333399"/>
                </a:solidFill>
                <a:latin typeface="Verdana"/>
              </a:rPr>
              <a:t>OBLIGACIONES DEL EMPLE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buSzPct val="1234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333399"/>
                </a:solidFill>
                <a:latin typeface="Verdana"/>
              </a:rPr>
              <a:t>AL INICIO DE LA RELACION LABORAL </a:t>
            </a:r>
            <a:r>
              <a:rPr b="1" lang="es-AR" sz="1600" spc="-1" strike="noStrike">
                <a:solidFill>
                  <a:srgbClr val="008080"/>
                </a:solidFill>
                <a:latin typeface="Verdana"/>
              </a:rPr>
              <a:t>(CONTINUAC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8080"/>
                </a:solidFill>
                <a:latin typeface="Verdana"/>
              </a:rPr>
              <a:t>Confección del legajo con datos del empleado y sus familiares. En caso de estar bajo el sistema del SUAF el empleado deberá efectuar el trámite en AN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8080"/>
                </a:solidFill>
                <a:latin typeface="Verdana"/>
              </a:rPr>
              <a:t>Clasificar la puesto, categoría y pactar la remun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8080"/>
                </a:solidFill>
                <a:latin typeface="Verdana"/>
              </a:rPr>
              <a:t>Inscripción en Mi Simplificación – Empleadores – Alta Tempra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8080"/>
                </a:solidFill>
                <a:latin typeface="Verdana"/>
              </a:rPr>
              <a:t>Carga de los datos familiares en Mi Simplificación – WEB AF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8080"/>
                </a:solidFill>
                <a:latin typeface="Verdana"/>
              </a:rPr>
              <a:t>Apertura de cuentas bancarias para acreditación de haberes de los empleados (Resoluciones 644/97, 790/99 y 360/01 MTEyS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8080"/>
                </a:solidFill>
                <a:latin typeface="Verdana"/>
              </a:rPr>
              <a:t>Entrega del contrato de trabajo al trabajador según la modalidad de contratación (plazo fij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8080"/>
                </a:solidFill>
                <a:latin typeface="Verdana"/>
              </a:rPr>
              <a:t>Entrega de los elementos necesarios para el normal desarrollo de las tareas y su segur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8080"/>
                </a:solidFill>
                <a:latin typeface="Verdana"/>
              </a:rPr>
              <a:t>Reglamento Int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Verdan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8080"/>
                </a:solidFill>
                <a:latin typeface="Verdana"/>
              </a:rPr>
              <a:t>Planilla horaria de los emple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6360" y="260280"/>
            <a:ext cx="8567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Garamond"/>
              </a:rPr>
              <a:t>ASPECTOS FORMALES DE LA REMUN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532720" y="3141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24965" y="10800"/>
                </a:moveTo>
                <a:lnTo>
                  <a:pt x="14459" y="17806"/>
                </a:lnTo>
                <a:lnTo>
                  <a:pt x="14459" y="3794"/>
                </a:lnTo>
                <a:close/>
              </a:path>
              <a:path fill="darken" w="42931" h="21600">
                <a:moveTo>
                  <a:pt x="26810" y="3794"/>
                </a:moveTo>
                <a:lnTo>
                  <a:pt x="26810" y="17806"/>
                </a:lnTo>
                <a:lnTo>
                  <a:pt x="28472" y="17806"/>
                </a:lnTo>
                <a:lnTo>
                  <a:pt x="28472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532720" y="342900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24965" y="10800"/>
                </a:moveTo>
                <a:lnTo>
                  <a:pt x="14459" y="17806"/>
                </a:lnTo>
                <a:lnTo>
                  <a:pt x="14459" y="3794"/>
                </a:lnTo>
                <a:close/>
              </a:path>
              <a:path fill="darken" w="42931" h="21600">
                <a:moveTo>
                  <a:pt x="26810" y="3794"/>
                </a:moveTo>
                <a:lnTo>
                  <a:pt x="26810" y="17806"/>
                </a:lnTo>
                <a:lnTo>
                  <a:pt x="28472" y="17806"/>
                </a:lnTo>
                <a:lnTo>
                  <a:pt x="28472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3" action="ppaction://hlinksldjump"/>
          </p:cNvPr>
          <p:cNvSpPr/>
          <p:nvPr/>
        </p:nvSpPr>
        <p:spPr>
          <a:xfrm>
            <a:off x="8532720" y="263700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24965" y="10800"/>
                </a:moveTo>
                <a:lnTo>
                  <a:pt x="14459" y="17806"/>
                </a:lnTo>
                <a:lnTo>
                  <a:pt x="14459" y="3794"/>
                </a:lnTo>
                <a:close/>
              </a:path>
              <a:path fill="darken" w="42931" h="21600">
                <a:moveTo>
                  <a:pt x="26810" y="3794"/>
                </a:moveTo>
                <a:lnTo>
                  <a:pt x="26810" y="17806"/>
                </a:lnTo>
                <a:lnTo>
                  <a:pt x="28472" y="17806"/>
                </a:lnTo>
                <a:lnTo>
                  <a:pt x="28472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A4108-3DAE-4AD2-83F6-7C10ED2283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612144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68360" y="3645000"/>
            <a:ext cx="175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333399"/>
                </a:solidFill>
                <a:uFillTx/>
                <a:latin typeface="Verdana"/>
              </a:rPr>
              <a:t>MODELO ficha de Ingreso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260280"/>
            <a:ext cx="2340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cc"/>
                </a:solidFill>
                <a:latin typeface="Verdana"/>
              </a:rPr>
              <a:t>Aspectos formales de la Relación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0800000">
            <a:off x="8604000" y="551628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19667" y="10800"/>
                </a:moveTo>
                <a:lnTo>
                  <a:pt x="9161" y="17806"/>
                </a:lnTo>
                <a:lnTo>
                  <a:pt x="9161" y="3794"/>
                </a:lnTo>
                <a:close/>
              </a:path>
              <a:path fill="darken" w="32335" h="21600">
                <a:moveTo>
                  <a:pt x="21512" y="3794"/>
                </a:moveTo>
                <a:lnTo>
                  <a:pt x="21512" y="17806"/>
                </a:lnTo>
                <a:lnTo>
                  <a:pt x="23174" y="17806"/>
                </a:lnTo>
                <a:lnTo>
                  <a:pt x="23174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D1DF7-715E-45C7-AADE-F1FC95006065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11280" y="2276640"/>
            <a:ext cx="820872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99"/>
                </a:solidFill>
                <a:latin typeface="Verdana"/>
              </a:rPr>
              <a:t>DOCUMENTACION ADJU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</a:rPr>
              <a:t>Fotocopia DNI del empleado y sus familiares (esposo/esposa, hijo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</a:rPr>
              <a:t>Constancia de CUIL del empleado y sus famili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</a:rPr>
              <a:t>Fotocopia de Partidas de Nacimiento de hijos, certificado o libreta de matrimon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</a:rPr>
              <a:t>Curriculum Vita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</a:rPr>
              <a:t>Fotografía actualiz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</a:rPr>
              <a:t>Comprobantes respaldatorios de títulos Secundarios, Terciarios, Universitario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</a:rPr>
              <a:t>Copia de certificación de servicios y certificados de trabajo de empleos anteri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8080"/>
                </a:solidFill>
                <a:latin typeface="Verdana"/>
              </a:rPr>
              <a:t>Nota del Banco acreditando CBU correspond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1628640"/>
            <a:ext cx="44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333399"/>
                </a:solidFill>
                <a:uFillTx/>
                <a:latin typeface="Verdana"/>
              </a:rPr>
              <a:t>MODELO DE LEGAJO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17080" y="558972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79" h="21600">
                <a:moveTo>
                  <a:pt x="12641" y="10800"/>
                </a:moveTo>
                <a:lnTo>
                  <a:pt x="23146" y="3794"/>
                </a:lnTo>
                <a:lnTo>
                  <a:pt x="23146" y="17806"/>
                </a:lnTo>
                <a:close/>
              </a:path>
              <a:path fill="darken" w="32279" h="21600">
                <a:moveTo>
                  <a:pt x="9133" y="3794"/>
                </a:moveTo>
                <a:lnTo>
                  <a:pt x="10795" y="3794"/>
                </a:lnTo>
                <a:lnTo>
                  <a:pt x="10795" y="17806"/>
                </a:lnTo>
                <a:lnTo>
                  <a:pt x="9133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76360" y="260280"/>
            <a:ext cx="8567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cc"/>
                </a:solidFill>
                <a:latin typeface="Verdana"/>
              </a:rPr>
              <a:t>Aspectos formales de la Relación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C705E-BF88-43C7-962F-822E81F3558B}" type="slidenum">
              <a:t>51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96960" y="1125360"/>
            <a:ext cx="844704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333399"/>
                </a:solidFill>
                <a:latin typeface="Verdana"/>
              </a:rPr>
              <a:t>OBLIGACIONES DEL EMPLE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476"/>
              </a:spcBef>
              <a:buSzPct val="1234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s-AR" sz="1900" spc="-1" strike="noStrike">
                <a:solidFill>
                  <a:srgbClr val="333399"/>
                </a:solidFill>
                <a:latin typeface="Verdana"/>
              </a:rPr>
              <a:t>DURANTE LA RELACION LABOR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80"/>
                </a:solidFill>
                <a:latin typeface="Verdana"/>
              </a:rPr>
              <a:t>Liquidación de habe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80"/>
                </a:solidFill>
                <a:latin typeface="Verdana"/>
              </a:rPr>
              <a:t>Presentación de Formulario 931 en AF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80"/>
                </a:solidFill>
                <a:latin typeface="Verdana"/>
              </a:rPr>
              <a:t>Pago de Cargas Sociales – F9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80"/>
                </a:solidFill>
                <a:latin typeface="Verdana"/>
              </a:rPr>
              <a:t>Confección, presentación y pago de boletas sindi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419040" algn="just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80"/>
                </a:solidFill>
                <a:latin typeface="Verdana"/>
              </a:rPr>
              <a:t>Convenio F.E.H.G.R.A. </a:t>
            </a:r>
            <a:r>
              <a:rPr b="1" lang="es-ES_tradnl" sz="18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8080"/>
                </a:solidFill>
                <a:latin typeface="Verdana"/>
              </a:rPr>
              <a:t>www.uthgra.org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419040" algn="just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80"/>
                </a:solidFill>
                <a:latin typeface="Verdana"/>
              </a:rPr>
              <a:t>Seguro de Vida y Sepelio</a:t>
            </a:r>
            <a:r>
              <a:rPr b="1" lang="es-ES_tradnl" sz="18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8080"/>
                </a:solidFill>
                <a:latin typeface="Verdana"/>
              </a:rPr>
              <a:t>www.uthgra.org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419040" algn="just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80"/>
                </a:solidFill>
                <a:latin typeface="Verdana"/>
              </a:rPr>
              <a:t>Sindicato</a:t>
            </a:r>
            <a:r>
              <a:rPr b="1" lang="es-ES_tradnl" sz="18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8080"/>
                </a:solidFill>
                <a:latin typeface="Verdana"/>
              </a:rPr>
              <a:t>   </a:t>
            </a:r>
            <a:r>
              <a:rPr b="1" lang="es-ES_tradnl" sz="18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8080"/>
                </a:solidFill>
                <a:latin typeface="Verdana"/>
              </a:rPr>
              <a:t>     www.uthgracap.com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80"/>
                </a:solidFill>
                <a:latin typeface="Verdana"/>
              </a:rPr>
              <a:t>Deberes registrales (Rúbrica de libros) - Libro Ley Art 52 L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260280"/>
            <a:ext cx="8567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Garamond"/>
              </a:rPr>
              <a:t>ASPECTOS FORMALES DE LA REMUN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2DF5B-12DD-4660-AA66-37AD6F46BD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96960" y="1773360"/>
            <a:ext cx="84470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333399"/>
                </a:solidFill>
                <a:latin typeface="Verdana"/>
              </a:rPr>
              <a:t>OBLIGACIONES DEL EMPLE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476"/>
              </a:spcBef>
              <a:buSzPct val="1234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s-AR" sz="1900" spc="-1" strike="noStrike">
                <a:solidFill>
                  <a:srgbClr val="333399"/>
                </a:solidFill>
                <a:latin typeface="Verdana"/>
              </a:rPr>
              <a:t>AL FINALIZAR LA RELACION LABOR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80"/>
                </a:solidFill>
                <a:latin typeface="Verdana"/>
              </a:rPr>
              <a:t>Envío de telegrama de despido ó solicitud al empleado del envío del telegrama de renu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80"/>
                </a:solidFill>
                <a:latin typeface="Verdana"/>
              </a:rPr>
              <a:t>Baja en AF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80"/>
                </a:solidFill>
                <a:latin typeface="Verdana"/>
              </a:rPr>
              <a:t>Confección y pago de liquidación 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80"/>
                </a:solidFill>
                <a:latin typeface="Verdana"/>
              </a:rPr>
              <a:t>Certificación de servicios artículo 80 LCT / Formulario P.S. 6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80"/>
                </a:solidFill>
                <a:latin typeface="Verdana"/>
              </a:rPr>
              <a:t>Examen médico por desvincu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495000" algn="just">
              <a:lnSpc>
                <a:spcPct val="10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80"/>
                </a:solidFill>
                <a:latin typeface="Verdana"/>
              </a:rPr>
              <a:t>Archivo del legajo por 10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6360" y="260280"/>
            <a:ext cx="8567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Garamond"/>
              </a:rPr>
              <a:t>ASPECTOS FORMALES DE LA REMUN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378936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24965" y="10800"/>
                </a:moveTo>
                <a:lnTo>
                  <a:pt x="14459" y="17806"/>
                </a:lnTo>
                <a:lnTo>
                  <a:pt x="14459" y="3794"/>
                </a:lnTo>
                <a:close/>
              </a:path>
              <a:path fill="darken" w="42931" h="21600">
                <a:moveTo>
                  <a:pt x="26810" y="3794"/>
                </a:moveTo>
                <a:lnTo>
                  <a:pt x="26810" y="17806"/>
                </a:lnTo>
                <a:lnTo>
                  <a:pt x="28472" y="17806"/>
                </a:lnTo>
                <a:lnTo>
                  <a:pt x="28472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DC91E-B052-4FA5-B6C3-A3742C6470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00100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333399"/>
                </a:solidFill>
                <a:latin typeface="Verdana"/>
              </a:rPr>
              <a:t>ESQUEMA GLOBAL DEL TALL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cc"/>
                </a:solidFill>
                <a:latin typeface="Verdana"/>
              </a:rPr>
              <a:t>Aspectos formales de la Relación Labo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cc"/>
                </a:solidFill>
                <a:latin typeface="Verdana"/>
              </a:rPr>
              <a:t>Aspectos teóricos de la Remuneración</a:t>
            </a:r>
            <a:r>
              <a:rPr b="0" lang="es-AR" sz="3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8080"/>
                </a:solidFill>
                <a:latin typeface="Verdana"/>
              </a:rPr>
              <a:t>Conceptos fijos y variables remunerativos – Marco legal vigente – otros conceptos que no son remunerativos integrantes del recibo de suel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cc"/>
                </a:solidFill>
                <a:latin typeface="Verdana"/>
              </a:rPr>
              <a:t>Aspectos Prácticos de la remuneración</a:t>
            </a:r>
            <a:r>
              <a:rPr b="0" lang="es-AR" sz="3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AR" sz="2300" spc="-1" strike="noStrike">
                <a:solidFill>
                  <a:srgbClr val="3333cc"/>
                </a:solidFill>
                <a:latin typeface="Verdana"/>
              </a:rPr>
              <a:t>–</a:t>
            </a:r>
            <a:r>
              <a:rPr b="0" lang="es-AR" sz="3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2565360"/>
            <a:ext cx="8496360" cy="934920"/>
          </a:xfrm>
          <a:prstGeom prst="rect">
            <a:avLst/>
          </a:prstGeom>
          <a:solidFill>
            <a:srgbClr val="99ccff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F3625-A13C-4F37-B709-76E8940FA8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4000" y="2205000"/>
            <a:ext cx="784836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Verdana"/>
              </a:rPr>
              <a:t>Concepto - </a:t>
            </a:r>
            <a:r>
              <a:rPr b="1" lang="es-AR" sz="2000" spc="-1" strike="noStrike">
                <a:solidFill>
                  <a:srgbClr val="333399"/>
                </a:solidFill>
                <a:latin typeface="Verdana"/>
              </a:rPr>
              <a:t>(Art. 103 LCT):</a:t>
            </a:r>
            <a:r>
              <a:rPr b="1" lang="es-ES_tradnl" sz="20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8080"/>
                </a:solidFill>
                <a:latin typeface="Verdana"/>
              </a:rPr>
              <a:t>      </a:t>
            </a:r>
            <a:r>
              <a:rPr b="0" lang="es-AR" sz="2000" spc="-1" strike="noStrike">
                <a:solidFill>
                  <a:srgbClr val="008080"/>
                </a:solidFill>
                <a:latin typeface="Verdana"/>
              </a:rPr>
              <a:t>Se entiende por remuneración la contraprestación  que debe percibir el trabajador como consecuencia  del contrato de trabajo. Dicha remuneración no podrá ser menor al Salario Mínimo Vital y Móvil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Haberes remunerativos y no remunerativos: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8080"/>
                </a:solidFill>
                <a:latin typeface="Verdana"/>
              </a:rPr>
              <a:t>Como consecuencia del contrato de trabajo existen dos tipos de haberes, los remunerativos que llevan aportes y contribuciones, son embargables y se utilizan para el cálculo de vacaciones, aguinaldo e indemnizaciones; y los no remunerativos que no llevan descuentos, no son embargables y no se utilizan para cálculo alguno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33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33399"/>
                </a:solidFill>
                <a:uFillTx/>
                <a:latin typeface="Verdana"/>
              </a:rPr>
              <a:t>ASPECTOS TEÓRICOS DE LA REMUN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1700280"/>
            <a:ext cx="3311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Verdana"/>
              </a:rPr>
              <a:t>Remun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misíon de RR. H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19348-F26C-48C2-B73B-03DC23122B5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17:53:01Z</dcterms:created>
  <dc:creator>NYasi</dc:creator>
  <dc:description/>
  <dc:language>en-US</dc:language>
  <cp:lastModifiedBy>Usuario</cp:lastModifiedBy>
  <dcterms:modified xsi:type="dcterms:W3CDTF">2010-05-31T18:08:35Z</dcterms:modified>
  <cp:revision>163</cp:revision>
  <dc:subject/>
  <dc:title>REGIMEN ANTERIOR</dc:title>
</cp:coreProperties>
</file>