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AFA5-3260-458B-AD2A-F010CD08E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1CD7-6EBE-406E-8F0B-D53F988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2AD0-E1BB-4629-93CF-DDAC133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B101-3113-48E4-AED2-7C84215A1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95E0B-7A84-4136-AC07-1C1F225D9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B223D-C29D-4102-9CFD-B4E0F61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4C5CF-746C-4AD3-9772-4B1068D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4F28-B3F3-443F-8C85-75D9D1B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AE9B5-87B7-4D24-869C-9EE1F6A0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FD22-3FE7-47FF-8062-61415931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D2C3-635E-4ED1-8246-5A4A0A4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FA80-35F3-43E8-BBC4-3BE3E1E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443C2-C4C8-436D-A43A-2F223F8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3B0D4-043D-40F2-8E67-995E4293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F0521-736C-49EC-8559-7E76A5B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C2E9-FB25-479E-B599-BDC39FA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7BAAA-EC36-4557-89CB-3B942C5A6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AB46-3898-46DF-82AC-24ED6C393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277-E532-4611-B414-4C017A2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FE4-0F19-4E91-83E5-78B38AAC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82B-0418-4859-973F-4AC79725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D16-7183-4332-AA69-9AFA4A4E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C47B-1FEF-4F42-8036-995A7B1D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1EA0-5A18-4FFF-865E-29A4971D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8F8-9792-4169-B610-BC6397E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1BF-38B4-4BFB-BD3B-E6EC48C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51BE-129C-40B7-B3B9-7E6F5D5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A4BF-A48B-4779-95F4-F170BD44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19D5-F9E5-4022-975B-9FB14F2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D3BC-E415-4675-A026-45846D56B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8341-6F69-4CB6-9A11-9DCDCFC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47D5-70C3-49A5-BADB-92D9E304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D958-4A6D-4839-B991-84E05FD8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1AE1-41A2-4B97-842E-472ECDE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2717-C925-445C-82F7-06F7F612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CA0E-6238-4333-8CD6-5A08091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4D18B5-6BE4-4C78-BAFA-7E814E50A0B3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4D32BC-466E-4371-8ECE-A9198184D96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gradFill rotWithShape="0">
            <a:gsLst>
              <a:gs pos="0">
                <a:srgbClr val="00247c"/>
              </a:gs>
              <a:gs pos="100000">
                <a:srgbClr val="0010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1920"/>
            <a:ext cx="9144000" cy="63360"/>
          </a:xfrm>
          <a:prstGeom prst="rect">
            <a:avLst/>
          </a:prstGeom>
          <a:solidFill>
            <a:srgbClr val="286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6676920"/>
            <a:ext cx="9144000" cy="1810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rcRect l="4754" t="1593" r="4833" b="792"/>
          <a:stretch/>
        </p:blipFill>
        <p:spPr>
          <a:xfrm>
            <a:off x="150840" y="157320"/>
            <a:ext cx="528480" cy="79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rcRect l="0" t="26932" r="0" b="32181"/>
          <a:stretch/>
        </p:blipFill>
        <p:spPr>
          <a:xfrm>
            <a:off x="7437600" y="0"/>
            <a:ext cx="160308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DEB5DD-9183-47D5-A4A9-1DD0DD84172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gradFill rotWithShape="0">
            <a:gsLst>
              <a:gs pos="0">
                <a:srgbClr val="00247c"/>
              </a:gs>
              <a:gs pos="100000">
                <a:srgbClr val="0010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61920"/>
            <a:ext cx="9144000" cy="63360"/>
          </a:xfrm>
          <a:prstGeom prst="rect">
            <a:avLst/>
          </a:prstGeom>
          <a:solidFill>
            <a:srgbClr val="286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676920"/>
            <a:ext cx="9144000" cy="1810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4754" t="1593" r="4833" b="792"/>
          <a:stretch/>
        </p:blipFill>
        <p:spPr>
          <a:xfrm>
            <a:off x="150840" y="157320"/>
            <a:ext cx="528480" cy="79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3"/>
          <a:srcRect l="0" t="26932" r="0" b="32181"/>
          <a:stretch/>
        </p:blipFill>
        <p:spPr>
          <a:xfrm>
            <a:off x="7437600" y="0"/>
            <a:ext cx="160308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3421080"/>
            <a:ext cx="9144000" cy="3436920"/>
          </a:xfrm>
          <a:prstGeom prst="rect">
            <a:avLst/>
          </a:prstGeom>
          <a:solidFill>
            <a:srgbClr val="0127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219560" y="3191040"/>
            <a:ext cx="155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446040" y="1454040"/>
            <a:ext cx="1034640" cy="1334880"/>
            <a:chOff x="446040" y="1454040"/>
            <a:chExt cx="1034640" cy="1334880"/>
          </a:xfrm>
        </p:grpSpPr>
        <p:grpSp>
          <p:nvGrpSpPr>
            <p:cNvPr id="136" name="Group 4"/>
            <p:cNvGrpSpPr/>
            <p:nvPr/>
          </p:nvGrpSpPr>
          <p:grpSpPr>
            <a:xfrm>
              <a:off x="473040" y="1454040"/>
              <a:ext cx="1000080" cy="1001880"/>
              <a:chOff x="473040" y="1454040"/>
              <a:chExt cx="1000080" cy="100188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576000" y="1456920"/>
                <a:ext cx="776160" cy="992520"/>
              </a:xfrm>
              <a:prstGeom prst="rect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AutoShape 6"/>
              <p:cNvSpPr/>
              <p:nvPr/>
            </p:nvSpPr>
            <p:spPr>
              <a:xfrm>
                <a:off x="473040" y="1454040"/>
                <a:ext cx="1000080" cy="100188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7"/>
            <p:cNvGrpSpPr/>
            <p:nvPr/>
          </p:nvGrpSpPr>
          <p:grpSpPr>
            <a:xfrm>
              <a:off x="446040" y="2519280"/>
              <a:ext cx="1034640" cy="269640"/>
              <a:chOff x="446040" y="2519280"/>
              <a:chExt cx="1034640" cy="269640"/>
            </a:xfrm>
          </p:grpSpPr>
          <p:sp>
            <p:nvSpPr>
              <p:cNvPr id="140" name="AutoShape 8"/>
              <p:cNvSpPr/>
              <p:nvPr/>
            </p:nvSpPr>
            <p:spPr>
              <a:xfrm>
                <a:off x="1153080" y="2530080"/>
                <a:ext cx="156600" cy="24912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9"/>
              <p:cNvSpPr/>
              <p:nvPr/>
            </p:nvSpPr>
            <p:spPr>
              <a:xfrm>
                <a:off x="971280" y="2526840"/>
                <a:ext cx="145440" cy="25560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0"/>
              <p:cNvSpPr/>
              <p:nvPr/>
            </p:nvSpPr>
            <p:spPr>
              <a:xfrm>
                <a:off x="983880" y="2552040"/>
                <a:ext cx="120240" cy="19728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AutoShape 11"/>
              <p:cNvSpPr/>
              <p:nvPr/>
            </p:nvSpPr>
            <p:spPr>
              <a:xfrm>
                <a:off x="1333800" y="2530080"/>
                <a:ext cx="146880" cy="25884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AutoShape 12"/>
              <p:cNvSpPr/>
              <p:nvPr/>
            </p:nvSpPr>
            <p:spPr>
              <a:xfrm>
                <a:off x="1348200" y="2553480"/>
                <a:ext cx="119880" cy="19764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3"/>
              <p:cNvSpPr/>
              <p:nvPr/>
            </p:nvSpPr>
            <p:spPr>
              <a:xfrm>
                <a:off x="446040" y="2519280"/>
                <a:ext cx="240120" cy="26352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AutoShape 14"/>
              <p:cNvSpPr/>
              <p:nvPr/>
            </p:nvSpPr>
            <p:spPr>
              <a:xfrm>
                <a:off x="577080" y="2571120"/>
                <a:ext cx="75960" cy="18792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5"/>
              <p:cNvSpPr/>
              <p:nvPr/>
            </p:nvSpPr>
            <p:spPr>
              <a:xfrm>
                <a:off x="1173960" y="2552040"/>
                <a:ext cx="12240" cy="20700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AutoShape 16"/>
              <p:cNvSpPr/>
              <p:nvPr/>
            </p:nvSpPr>
            <p:spPr>
              <a:xfrm>
                <a:off x="700560" y="2530080"/>
                <a:ext cx="230760" cy="252360"/>
              </a:xfrm>
              <a:prstGeom prst="pie">
                <a:avLst/>
              </a:prstGeom>
              <a:solidFill>
                <a:srgbClr val="012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AutoShape 17"/>
              <p:cNvSpPr/>
              <p:nvPr/>
            </p:nvSpPr>
            <p:spPr>
              <a:xfrm>
                <a:off x="757800" y="2572560"/>
                <a:ext cx="123120" cy="16128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AutoShape 18"/>
              <p:cNvSpPr/>
              <p:nvPr/>
            </p:nvSpPr>
            <p:spPr>
              <a:xfrm>
                <a:off x="718200" y="2552040"/>
                <a:ext cx="13680" cy="20700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AutoShape 19"/>
              <p:cNvSpPr/>
              <p:nvPr/>
            </p:nvSpPr>
            <p:spPr>
              <a:xfrm>
                <a:off x="898560" y="2552040"/>
                <a:ext cx="12600" cy="207000"/>
              </a:xfrm>
              <a:prstGeom prst="pie">
                <a:avLst/>
              </a:prstGeom>
              <a:solidFill>
                <a:srgbClr val="93c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0"/>
          <p:cNvSpPr/>
          <p:nvPr/>
        </p:nvSpPr>
        <p:spPr>
          <a:xfrm>
            <a:off x="1650960" y="3838680"/>
            <a:ext cx="7445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eve Reseña del Régimen de A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orporación de Empresas al SU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3517920"/>
            <a:ext cx="9144000" cy="63360"/>
          </a:xfrm>
          <a:prstGeom prst="rect">
            <a:avLst/>
          </a:prstGeom>
          <a:solidFill>
            <a:srgbClr val="286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0" y="6761160"/>
            <a:ext cx="9144000" cy="968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0" y="6458040"/>
            <a:ext cx="9144000" cy="304560"/>
          </a:xfrm>
          <a:prstGeom prst="rect">
            <a:avLst/>
          </a:prstGeom>
          <a:solidFill>
            <a:srgbClr val="286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1650960" y="6486480"/>
            <a:ext cx="7236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arzo d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1650960" y="5634000"/>
            <a:ext cx="7445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2130480" y="4422600"/>
            <a:ext cx="6962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Cobra sólo uno de los padres, el que perciba la asignación por hijo o hijo con discapac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Para los hijos con discapacidad no tiene límite de edad ni tope remunera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Ayuda Escolar An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452680" y="2332080"/>
            <a:ext cx="55054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abona por cada hijo e hijo con discapac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Corresponde por Nivel Inicial, EGB y Polimod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Para los hijos con discapacidad corresponde también por Enseñanza Diferencial y Rehabilitación aún cuando sea impartida por Maestros Part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620640" y="2525760"/>
            <a:ext cx="1468440" cy="190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2590920" y="5146560"/>
            <a:ext cx="6553080" cy="31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Nacimiento,  Adopción y Matrimon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452680" y="2408400"/>
            <a:ext cx="55054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Tienen plazos de carencia o antigüedad         6 meses en el emple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cobran dentro de los 2 años de ocurrido el hecho gene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aplica tope remuneratorio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abonan por el estado, en forma direc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estaciones Extra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628560" y="4200480"/>
            <a:ext cx="1468440" cy="1895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2"/>
          <a:stretch/>
        </p:blipFill>
        <p:spPr>
          <a:xfrm>
            <a:off x="628560" y="2031840"/>
            <a:ext cx="1468440" cy="189576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6438960" y="2496960"/>
            <a:ext cx="245880" cy="18108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00400" y="5108400"/>
            <a:ext cx="6962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20000"/>
              </a:lnSpc>
              <a:buClr>
                <a:srgbClr val="003366"/>
              </a:buClr>
              <a:buFont typeface="Symbol" charset="2"/>
              <a:buChar char="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La asignación por matrimonio puede ser cobrada por ambos cónyu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68200" y="4164120"/>
            <a:ext cx="8631360" cy="2425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12773"/>
                </a:solidFill>
                <a:latin typeface="Arial"/>
                <a:ea typeface="Arial"/>
              </a:rPr>
              <a:t>Incorporación de Empresas al SU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74680" y="4410000"/>
            <a:ext cx="165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or determinación del Director Ejecutivo, a través del Dictado de una Resolu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009880" y="4410000"/>
            <a:ext cx="157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or presentación de Solicitudes de Reintegro ante AN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805200" y="4410000"/>
            <a:ext cx="1589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or aceptación de ANSES a una solicitud voluntaria de la Empresa a incorpo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410600" y="4410000"/>
            <a:ext cx="143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or inscribirse en el Régimen de Empleador ante AF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578560" y="4410000"/>
            <a:ext cx="15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or encontrarse alcanzada por el Decreto 1212/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314440" y="3581280"/>
            <a:ext cx="45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Calibri"/>
              </a:rPr>
              <a:t>¿Cómo se incorpora una Empresa al SUA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2"/>
          <a:stretch/>
        </p:blipFill>
        <p:spPr>
          <a:xfrm>
            <a:off x="268200" y="4248000"/>
            <a:ext cx="8631360" cy="1112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2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odalidades de incorp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3" descr=""/>
          <p:cNvPicPr/>
          <p:nvPr/>
        </p:nvPicPr>
        <p:blipFill>
          <a:blip r:embed="rId3"/>
          <a:stretch/>
        </p:blipFill>
        <p:spPr>
          <a:xfrm>
            <a:off x="3137040" y="1628640"/>
            <a:ext cx="2852640" cy="189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0" name="AutoShape 1"/>
          <p:cNvCxnSpPr/>
          <p:nvPr/>
        </p:nvCxnSpPr>
        <p:spPr>
          <a:xfrm flipH="1" flipV="1">
            <a:off x="5024160" y="2850840"/>
            <a:ext cx="964080" cy="2160"/>
          </a:xfrm>
          <a:prstGeom prst="straightConnector1">
            <a:avLst/>
          </a:prstGeom>
          <a:ln w="12600">
            <a:solidFill>
              <a:srgbClr val="2c69b2"/>
            </a:solidFill>
            <a:miter/>
            <a:tailEnd len="med" type="triangle" w="med"/>
          </a:ln>
        </p:spPr>
      </p:cxnSp>
      <p:cxnSp>
        <p:nvCxnSpPr>
          <p:cNvPr id="281" name="AutoShape 2"/>
          <p:cNvCxnSpPr/>
          <p:nvPr/>
        </p:nvCxnSpPr>
        <p:spPr>
          <a:xfrm flipV="1">
            <a:off x="6286680" y="5696640"/>
            <a:ext cx="940320" cy="2520"/>
          </a:xfrm>
          <a:prstGeom prst="straightConnector1">
            <a:avLst/>
          </a:prstGeom>
          <a:ln w="12600">
            <a:solidFill>
              <a:srgbClr val="0da30d"/>
            </a:solidFill>
            <a:miter/>
            <a:tailEnd len="med" type="triangle" w="med"/>
          </a:ln>
        </p:spPr>
      </p:cxnSp>
      <p:cxnSp>
        <p:nvCxnSpPr>
          <p:cNvPr id="282" name="AutoShape 3"/>
          <p:cNvCxnSpPr/>
          <p:nvPr/>
        </p:nvCxnSpPr>
        <p:spPr>
          <a:xfrm flipV="1">
            <a:off x="4362480" y="5696640"/>
            <a:ext cx="940320" cy="2520"/>
          </a:xfrm>
          <a:prstGeom prst="straightConnector1">
            <a:avLst/>
          </a:prstGeom>
          <a:ln w="12600">
            <a:solidFill>
              <a:srgbClr val="0da30d"/>
            </a:solidFill>
            <a:miter/>
            <a:tailEnd len="med" type="triangle" w="med"/>
          </a:ln>
        </p:spPr>
      </p:cxnSp>
      <p:sp>
        <p:nvSpPr>
          <p:cNvPr id="283" name="Line 4"/>
          <p:cNvSpPr/>
          <p:nvPr/>
        </p:nvSpPr>
        <p:spPr>
          <a:xfrm flipH="1">
            <a:off x="1496880" y="4632480"/>
            <a:ext cx="5040" cy="1074600"/>
          </a:xfrm>
          <a:prstGeom prst="line">
            <a:avLst/>
          </a:prstGeom>
          <a:ln w="12600">
            <a:solidFill>
              <a:srgbClr val="0da3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338800" y="1623960"/>
            <a:ext cx="2649600" cy="15685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338800" y="1709640"/>
            <a:ext cx="2649600" cy="954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112840" y="1852560"/>
            <a:ext cx="1590840" cy="882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12773"/>
                </a:solidFill>
                <a:latin typeface="Arial"/>
                <a:ea typeface="Arial"/>
              </a:rPr>
              <a:t>Circuito Gene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112840" y="2090880"/>
            <a:ext cx="135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otificación a la empre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541600" y="4172040"/>
            <a:ext cx="2468520" cy="1930320"/>
            <a:chOff x="2541600" y="4172040"/>
            <a:chExt cx="2468520" cy="1930320"/>
          </a:xfrm>
        </p:grpSpPr>
        <p:sp>
          <p:nvSpPr>
            <p:cNvPr id="291" name="Rectangle 12"/>
            <p:cNvSpPr/>
            <p:nvPr/>
          </p:nvSpPr>
          <p:spPr>
            <a:xfrm>
              <a:off x="2541600" y="4172040"/>
              <a:ext cx="2468520" cy="1930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2541600" y="4257360"/>
              <a:ext cx="2468520" cy="94680"/>
            </a:xfrm>
            <a:prstGeom prst="rect">
              <a:avLst/>
            </a:prstGeom>
            <a:solidFill>
              <a:srgbClr val="0da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2550600" y="4409640"/>
              <a:ext cx="24084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Transmite por PSR datos de los trabajadores y cargas de famili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Presenta documentación de Medio de Pago de los trabajadore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Formularios Novedad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Text Box 15"/>
          <p:cNvSpPr/>
          <p:nvPr/>
        </p:nvSpPr>
        <p:spPr>
          <a:xfrm>
            <a:off x="5378400" y="1862280"/>
            <a:ext cx="25336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Resolució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Alta como Empleadora en AF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Aceptación Solicitud Voluntaria </a:t>
            </a:r>
            <a:br>
              <a:rPr sz="1400"/>
            </a:b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ción Reinteg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112840" y="1938240"/>
            <a:ext cx="1590840" cy="954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17"/>
          <p:cNvGrpSpPr/>
          <p:nvPr/>
        </p:nvGrpSpPr>
        <p:grpSpPr>
          <a:xfrm>
            <a:off x="5351400" y="4172040"/>
            <a:ext cx="1615680" cy="1939680"/>
            <a:chOff x="5351400" y="4172040"/>
            <a:chExt cx="1615680" cy="1939680"/>
          </a:xfrm>
        </p:grpSpPr>
        <p:sp>
          <p:nvSpPr>
            <p:cNvPr id="297" name="Rectangle 18"/>
            <p:cNvSpPr/>
            <p:nvPr/>
          </p:nvSpPr>
          <p:spPr>
            <a:xfrm>
              <a:off x="5351400" y="4172040"/>
              <a:ext cx="1590480" cy="193968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5379840" y="4409640"/>
              <a:ext cx="15872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Maternidades en curso de pago o inicio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Nota - sigue abonando empresa hasta finalizar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5351400" y="4257360"/>
              <a:ext cx="1590480" cy="94680"/>
            </a:xfrm>
            <a:prstGeom prst="rect">
              <a:avLst/>
            </a:prstGeom>
            <a:solidFill>
              <a:srgbClr val="0da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Picture 21" descr=""/>
          <p:cNvPicPr/>
          <p:nvPr/>
        </p:nvPicPr>
        <p:blipFill>
          <a:blip r:embed="rId1"/>
          <a:stretch/>
        </p:blipFill>
        <p:spPr>
          <a:xfrm>
            <a:off x="284040" y="3651120"/>
            <a:ext cx="2060640" cy="13669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2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ncorporación de Empre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3" descr=""/>
          <p:cNvPicPr/>
          <p:nvPr/>
        </p:nvPicPr>
        <p:blipFill>
          <a:blip r:embed="rId2"/>
          <a:stretch/>
        </p:blipFill>
        <p:spPr>
          <a:xfrm>
            <a:off x="3921120" y="1755720"/>
            <a:ext cx="9856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24"/>
          <p:cNvGrpSpPr/>
          <p:nvPr/>
        </p:nvGrpSpPr>
        <p:grpSpPr>
          <a:xfrm>
            <a:off x="7294680" y="4917960"/>
            <a:ext cx="1588680" cy="1193760"/>
            <a:chOff x="7294680" y="4917960"/>
            <a:chExt cx="1588680" cy="1193760"/>
          </a:xfrm>
        </p:grpSpPr>
        <p:sp>
          <p:nvSpPr>
            <p:cNvPr id="304" name="Rectangle 25"/>
            <p:cNvSpPr/>
            <p:nvPr/>
          </p:nvSpPr>
          <p:spPr>
            <a:xfrm>
              <a:off x="7295760" y="4917960"/>
              <a:ext cx="1587600" cy="119376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26"/>
            <p:cNvSpPr/>
            <p:nvPr/>
          </p:nvSpPr>
          <p:spPr>
            <a:xfrm>
              <a:off x="7294680" y="5155920"/>
              <a:ext cx="1585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UDAI carga</a:t>
              </a:r>
              <a:br>
                <a:rPr sz="1400"/>
              </a:b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BU/Bocas de Pago / Novedad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27"/>
            <p:cNvSpPr/>
            <p:nvPr/>
          </p:nvSpPr>
          <p:spPr>
            <a:xfrm>
              <a:off x="7295760" y="5003280"/>
              <a:ext cx="1587600" cy="9504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7" name="AutoShape 28"/>
          <p:cNvCxnSpPr/>
          <p:nvPr/>
        </p:nvCxnSpPr>
        <p:spPr>
          <a:xfrm flipH="1">
            <a:off x="1488240" y="2844360"/>
            <a:ext cx="2520" cy="772200"/>
          </a:xfrm>
          <a:prstGeom prst="straightConnector1">
            <a:avLst/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8" name="Line 29"/>
          <p:cNvSpPr/>
          <p:nvPr/>
        </p:nvSpPr>
        <p:spPr>
          <a:xfrm>
            <a:off x="1490760" y="2852640"/>
            <a:ext cx="2387520" cy="18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9" name="AutoShape 30"/>
          <p:cNvCxnSpPr/>
          <p:nvPr/>
        </p:nvCxnSpPr>
        <p:spPr>
          <a:xfrm flipV="1">
            <a:off x="1506600" y="5696640"/>
            <a:ext cx="940320" cy="2520"/>
          </a:xfrm>
          <a:prstGeom prst="straightConnector1">
            <a:avLst/>
          </a:prstGeom>
          <a:ln w="12600">
            <a:solidFill>
              <a:srgbClr val="0da30d"/>
            </a:solidFill>
            <a:miter/>
            <a:tailEnd len="med" type="triangle" w="med"/>
          </a:ln>
        </p:spPr>
      </p:cxnSp>
      <p:pic>
        <p:nvPicPr>
          <p:cNvPr id="310" name="Picture 31" descr=""/>
          <p:cNvPicPr/>
          <p:nvPr/>
        </p:nvPicPr>
        <p:blipFill>
          <a:blip r:embed="rId3"/>
          <a:stretch/>
        </p:blipFill>
        <p:spPr>
          <a:xfrm>
            <a:off x="7523280" y="3614760"/>
            <a:ext cx="1209600" cy="125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1346040" y="1428840"/>
            <a:ext cx="744228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otificar a todos sus trabajadores a través del Formulario PS 2.61 “Notificación del Régimen de Asignaciones Familiares”, acerca del Régimen de Asignaciones Familiares y del nuevo Sistema Liquidador dentro de los diez días hábiles del ingreso de la Empresa a SUAF, como así también, dentro de los diez (10) días hábiles del ingreso de un nuevo trabajad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Transmitir a través del Programa de Simplificación Registral (PSR) todos los datos relacionados con sus trabajadores y cargas de familia, como así también todas las altas, bajas y modificaciones que se produzcan en el futur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en tiempo y en forma ante AFIP las Declaraciones Juradas mensu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ante ANSES, en el mes de su incorporación, la Nota con los CUILES de las trabajadoras que se encuentran gozando o inicien su Licencia por Maternidad/Maternidad Down y la fecha de finalización de la Licencia respecti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ante ANSES, en el mes de su incorporación, la nota y documentación que avalen la elección del medio de pago (CBU/Boca de Pago) de sus trabajadores, como así también toda otra documentación y/o Formularios que respalden la liquidación de las Asignaciones Familiares a cada uno de sus trabajadores depend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Oficios Judiciales ordenando el pago de Asignaciones Familiares, si los hubier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Tramitar la Asignación Familiar por Maternidad en tiempo y forma a través de la página Web de ANSES si la trabajadora lo autorizara formalm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Sistema Único de Asignaciones Famili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esponsabilidades del Emple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1000080" y="2066760"/>
            <a:ext cx="744228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400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otificar a la Empresa acerca de las altas, bajas y modificaciones de datos de su grupo familiar con la presentación de la documentación respectiva, a efectos de que su empleador las transmita a través del Programa de Simplificación Registral (PSR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400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Efectuar una elección de medio de pago (CBU/Boca de Pago) para que ANSES le deposite allí el monto correspondiente a sus Asignaciones Familiares. Esta elección puede efectuarla en ANSES presentando la documentación pertinente o en su defecto a través de la Aplicación “Medio de Pago SUAF” obrante en la Autopista de Servicios de la página Web de ANSES, con clave de la Seguridad Soci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400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en tiempo y en forma ante ANSES toda la documentación y/o Formularios que avalen la liquidación de las Asignaciones Familiar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400"/>
              </a:spcBef>
              <a:buClr>
                <a:srgbClr val="558ed5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entar en tiempo y en forma ante el Empleador toda la documentación relacionada con la tramitación de la Asignación Familiar por Maternidad a través de la página Web de ANSES, si ésta fuera su elec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Sistema Único de Asignaciones Famili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esponsabilidades del Trabaj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946080" y="1846440"/>
            <a:ext cx="80265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Formulario PS.2.55 “DDJJ Novedades Unificadas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0000"/>
              </a:lnSpc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stema Único de Asignaciones Familiares”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0000"/>
              </a:lnSpc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0000"/>
              </a:lnSpc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Formulario PS.2.51 “DDJJ Solicitud Asignación Familiar por Ayuda Escolar Anual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Formulario PS.2.53 “DDJJ Renuncia/Revocación de Renuncia al Cobro de Asignaciones  Familiares - Sistema Único de Asignaciones Familiares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Formulario PS.2.57 “Nota de Reclamo - SUAF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196920"/>
                <a:tab algn="l" pos="1111320"/>
                <a:tab algn="l" pos="2025720"/>
                <a:tab algn="l" pos="2940120"/>
                <a:tab algn="l" pos="3854520"/>
                <a:tab algn="l" pos="4768920"/>
                <a:tab algn="l" pos="5683320"/>
                <a:tab algn="l" pos="6597720"/>
                <a:tab algn="l" pos="7512120"/>
                <a:tab algn="l" pos="8426520"/>
                <a:tab algn="l" pos="9340920"/>
                <a:tab algn="l" pos="102553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Sistema Único de Asignaciones Famili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ormularios de Nov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6572160" y="504504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Presenta Trabajador ante recl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6508800" y="1760400"/>
            <a:ext cx="2290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Pre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Maternidad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Maternidad D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Apoder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6072120" y="1968480"/>
            <a:ext cx="246240" cy="181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6072120" y="5143680"/>
            <a:ext cx="246240" cy="180720"/>
          </a:xfrm>
          <a:prstGeom prst="rightArrow">
            <a:avLst>
              <a:gd name="adj1" fmla="val 50000"/>
              <a:gd name="adj2" fmla="val 50105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542960" y="5753160"/>
            <a:ext cx="6362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**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Esta Asignación puede ser tramitada por el empleador a través de la página Web de ANSES si la trabajadora lo autorizara formalme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638360" y="5705640"/>
            <a:ext cx="64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"/>
          <p:cNvGrpSpPr/>
          <p:nvPr/>
        </p:nvGrpSpPr>
        <p:grpSpPr>
          <a:xfrm>
            <a:off x="3670200" y="4084560"/>
            <a:ext cx="1758960" cy="887400"/>
            <a:chOff x="3670200" y="4084560"/>
            <a:chExt cx="1758960" cy="887400"/>
          </a:xfrm>
        </p:grpSpPr>
        <p:pic>
          <p:nvPicPr>
            <p:cNvPr id="330" name="Picture 2" descr=""/>
            <p:cNvPicPr/>
            <p:nvPr/>
          </p:nvPicPr>
          <p:blipFill>
            <a:blip r:embed="rId1"/>
            <a:stretch/>
          </p:blipFill>
          <p:spPr>
            <a:xfrm>
              <a:off x="3670200" y="4084560"/>
              <a:ext cx="175896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3"/>
            <p:cNvSpPr/>
            <p:nvPr/>
          </p:nvSpPr>
          <p:spPr>
            <a:xfrm>
              <a:off x="3731760" y="4315680"/>
              <a:ext cx="1644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4"/>
          <p:cNvGrpSpPr/>
          <p:nvPr/>
        </p:nvGrpSpPr>
        <p:grpSpPr>
          <a:xfrm>
            <a:off x="3670200" y="2962440"/>
            <a:ext cx="1758960" cy="888840"/>
            <a:chOff x="3670200" y="2962440"/>
            <a:chExt cx="1758960" cy="888840"/>
          </a:xfrm>
        </p:grpSpPr>
        <p:pic>
          <p:nvPicPr>
            <p:cNvPr id="333" name="Picture 5" descr=""/>
            <p:cNvPicPr/>
            <p:nvPr/>
          </p:nvPicPr>
          <p:blipFill>
            <a:blip r:embed="rId2"/>
            <a:stretch/>
          </p:blipFill>
          <p:spPr>
            <a:xfrm>
              <a:off x="3670200" y="2962440"/>
              <a:ext cx="17589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6"/>
            <p:cNvSpPr/>
            <p:nvPr/>
          </p:nvSpPr>
          <p:spPr>
            <a:xfrm>
              <a:off x="3731760" y="3195000"/>
              <a:ext cx="16444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7"/>
          <p:cNvGrpSpPr/>
          <p:nvPr/>
        </p:nvGrpSpPr>
        <p:grpSpPr>
          <a:xfrm>
            <a:off x="3670200" y="1889280"/>
            <a:ext cx="1758960" cy="895320"/>
            <a:chOff x="3670200" y="1889280"/>
            <a:chExt cx="1758960" cy="895320"/>
          </a:xfrm>
        </p:grpSpPr>
        <p:pic>
          <p:nvPicPr>
            <p:cNvPr id="336" name="Picture 8" descr=""/>
            <p:cNvPicPr/>
            <p:nvPr/>
          </p:nvPicPr>
          <p:blipFill>
            <a:blip r:embed="rId3"/>
            <a:stretch/>
          </p:blipFill>
          <p:spPr>
            <a:xfrm>
              <a:off x="3670200" y="1889280"/>
              <a:ext cx="17589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9"/>
            <p:cNvSpPr/>
            <p:nvPr/>
          </p:nvSpPr>
          <p:spPr>
            <a:xfrm>
              <a:off x="3731760" y="2123280"/>
              <a:ext cx="16444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0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Sistema Único de Asignaciones Famili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Bases intervinientes en la Liqui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5927760" y="1647720"/>
            <a:ext cx="2203200" cy="814320"/>
            <a:chOff x="5927760" y="1647720"/>
            <a:chExt cx="2203200" cy="814320"/>
          </a:xfrm>
        </p:grpSpPr>
        <p:sp>
          <p:nvSpPr>
            <p:cNvPr id="342" name="Rectangle 14"/>
            <p:cNvSpPr/>
            <p:nvPr/>
          </p:nvSpPr>
          <p:spPr>
            <a:xfrm>
              <a:off x="5928840" y="1647720"/>
              <a:ext cx="2202120" cy="8143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5927760" y="1885320"/>
              <a:ext cx="219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atos sobre </a:t>
              </a:r>
              <a:br>
                <a:rPr sz="1400"/>
              </a:b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Relación Labo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5928840" y="1733040"/>
              <a:ext cx="2202120" cy="9504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7"/>
          <p:cNvGrpSpPr/>
          <p:nvPr/>
        </p:nvGrpSpPr>
        <p:grpSpPr>
          <a:xfrm>
            <a:off x="871560" y="3341520"/>
            <a:ext cx="1590120" cy="1194120"/>
            <a:chOff x="871560" y="3341520"/>
            <a:chExt cx="1590120" cy="1194120"/>
          </a:xfrm>
        </p:grpSpPr>
        <p:sp>
          <p:nvSpPr>
            <p:cNvPr id="346" name="Rectangle 18"/>
            <p:cNvSpPr/>
            <p:nvPr/>
          </p:nvSpPr>
          <p:spPr>
            <a:xfrm>
              <a:off x="872640" y="3341520"/>
              <a:ext cx="1589040" cy="11941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871560" y="3588840"/>
              <a:ext cx="1514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Bases intervinientes en el proces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872640" y="3427200"/>
              <a:ext cx="1589040" cy="9468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5927760" y="2724120"/>
            <a:ext cx="2203200" cy="996840"/>
            <a:chOff x="5927760" y="2724120"/>
            <a:chExt cx="2203200" cy="996840"/>
          </a:xfrm>
        </p:grpSpPr>
        <p:sp>
          <p:nvSpPr>
            <p:cNvPr id="350" name="Rectangle 22"/>
            <p:cNvSpPr/>
            <p:nvPr/>
          </p:nvSpPr>
          <p:spPr>
            <a:xfrm>
              <a:off x="5928840" y="2724120"/>
              <a:ext cx="2202120" cy="9968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5927760" y="2961720"/>
              <a:ext cx="219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atos sobre </a:t>
              </a:r>
              <a:br>
                <a:rPr sz="1400"/>
              </a:b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Personas y sus Rel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928840" y="2809440"/>
              <a:ext cx="2202120" cy="9504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25"/>
          <p:cNvGrpSpPr/>
          <p:nvPr/>
        </p:nvGrpSpPr>
        <p:grpSpPr>
          <a:xfrm>
            <a:off x="5927760" y="3976560"/>
            <a:ext cx="2203200" cy="814680"/>
            <a:chOff x="5927760" y="3976560"/>
            <a:chExt cx="2203200" cy="814680"/>
          </a:xfrm>
        </p:grpSpPr>
        <p:sp>
          <p:nvSpPr>
            <p:cNvPr id="354" name="Rectangle 26"/>
            <p:cNvSpPr/>
            <p:nvPr/>
          </p:nvSpPr>
          <p:spPr>
            <a:xfrm>
              <a:off x="5928840" y="3976560"/>
              <a:ext cx="2202120" cy="8146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5927760" y="4214160"/>
              <a:ext cx="219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atos sobre </a:t>
              </a:r>
              <a:br>
                <a:rPr sz="1400"/>
              </a:b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Empres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8"/>
            <p:cNvSpPr/>
            <p:nvPr/>
          </p:nvSpPr>
          <p:spPr>
            <a:xfrm>
              <a:off x="5928840" y="4061880"/>
              <a:ext cx="2202120" cy="9504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29"/>
          <p:cNvGrpSpPr/>
          <p:nvPr/>
        </p:nvGrpSpPr>
        <p:grpSpPr>
          <a:xfrm>
            <a:off x="5927760" y="5062680"/>
            <a:ext cx="2203200" cy="995400"/>
            <a:chOff x="5927760" y="5062680"/>
            <a:chExt cx="2203200" cy="995400"/>
          </a:xfrm>
        </p:grpSpPr>
        <p:sp>
          <p:nvSpPr>
            <p:cNvPr id="358" name="Rectangle 30"/>
            <p:cNvSpPr/>
            <p:nvPr/>
          </p:nvSpPr>
          <p:spPr>
            <a:xfrm>
              <a:off x="5928840" y="5062680"/>
              <a:ext cx="2202120" cy="99540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31"/>
            <p:cNvSpPr/>
            <p:nvPr/>
          </p:nvSpPr>
          <p:spPr>
            <a:xfrm>
              <a:off x="5927760" y="5300280"/>
              <a:ext cx="219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atos sobre </a:t>
              </a:r>
              <a:br>
                <a:rPr sz="1400"/>
              </a:b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Solicitudes de Prest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32"/>
            <p:cNvSpPr/>
            <p:nvPr/>
          </p:nvSpPr>
          <p:spPr>
            <a:xfrm>
              <a:off x="5928840" y="5148000"/>
              <a:ext cx="2202120" cy="9468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33"/>
          <p:cNvGrpSpPr/>
          <p:nvPr/>
        </p:nvGrpSpPr>
        <p:grpSpPr>
          <a:xfrm>
            <a:off x="3670200" y="5175360"/>
            <a:ext cx="1758960" cy="888840"/>
            <a:chOff x="3670200" y="5175360"/>
            <a:chExt cx="1758960" cy="888840"/>
          </a:xfrm>
        </p:grpSpPr>
        <p:pic>
          <p:nvPicPr>
            <p:cNvPr id="362" name="Picture 34" descr=""/>
            <p:cNvPicPr/>
            <p:nvPr/>
          </p:nvPicPr>
          <p:blipFill>
            <a:blip r:embed="rId4"/>
            <a:stretch/>
          </p:blipFill>
          <p:spPr>
            <a:xfrm>
              <a:off x="3670200" y="5175360"/>
              <a:ext cx="17589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5"/>
            <p:cNvSpPr/>
            <p:nvPr/>
          </p:nvSpPr>
          <p:spPr>
            <a:xfrm>
              <a:off x="3731760" y="5406480"/>
              <a:ext cx="1644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36"/>
          <p:cNvSpPr/>
          <p:nvPr/>
        </p:nvSpPr>
        <p:spPr>
          <a:xfrm>
            <a:off x="3807000" y="223992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IJ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7"/>
          <p:cNvSpPr/>
          <p:nvPr/>
        </p:nvSpPr>
        <p:spPr>
          <a:xfrm>
            <a:off x="3807000" y="335124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D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3807000" y="447660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3807000" y="5429160"/>
            <a:ext cx="151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Novedade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AA 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8" name="AutoShape 40"/>
          <p:cNvCxnSpPr/>
          <p:nvPr/>
        </p:nvCxnSpPr>
        <p:spPr>
          <a:xfrm flipV="1">
            <a:off x="2457360" y="2319120"/>
            <a:ext cx="1246680" cy="3310560"/>
          </a:xfrm>
          <a:prstGeom prst="bentConnector3">
            <a:avLst>
              <a:gd name="adj1" fmla="val 50000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69" name="AutoShape 41"/>
          <p:cNvCxnSpPr/>
          <p:nvPr/>
        </p:nvCxnSpPr>
        <p:spPr>
          <a:xfrm>
            <a:off x="2462040" y="3427560"/>
            <a:ext cx="1270800" cy="2160"/>
          </a:xfrm>
          <a:prstGeom prst="bentConnector3">
            <a:avLst>
              <a:gd name="adj1" fmla="val 49985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0" name="AutoShape 42"/>
          <p:cNvCxnSpPr/>
          <p:nvPr/>
        </p:nvCxnSpPr>
        <p:spPr>
          <a:xfrm>
            <a:off x="2462040" y="4524480"/>
            <a:ext cx="1270800" cy="2160"/>
          </a:xfrm>
          <a:prstGeom prst="bentConnector3">
            <a:avLst>
              <a:gd name="adj1" fmla="val 49985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1" name="AutoShape 43"/>
          <p:cNvCxnSpPr/>
          <p:nvPr/>
        </p:nvCxnSpPr>
        <p:spPr>
          <a:xfrm>
            <a:off x="2462040" y="5629320"/>
            <a:ext cx="1270800" cy="2160"/>
          </a:xfrm>
          <a:prstGeom prst="bentConnector3">
            <a:avLst>
              <a:gd name="adj1" fmla="val 49985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Sistema Único de Asignaciones Famili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edios de P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4203720" y="1895400"/>
            <a:ext cx="3671640" cy="814320"/>
            <a:chOff x="4203720" y="1895400"/>
            <a:chExt cx="3671640" cy="814320"/>
          </a:xfrm>
        </p:grpSpPr>
        <p:sp>
          <p:nvSpPr>
            <p:cNvPr id="376" name="Rectangle 5"/>
            <p:cNvSpPr/>
            <p:nvPr/>
          </p:nvSpPr>
          <p:spPr>
            <a:xfrm>
              <a:off x="4204800" y="1895400"/>
              <a:ext cx="3670560" cy="8143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6"/>
            <p:cNvSpPr/>
            <p:nvPr/>
          </p:nvSpPr>
          <p:spPr>
            <a:xfrm>
              <a:off x="4203720" y="2133000"/>
              <a:ext cx="36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CBU - Depósito en CB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7"/>
            <p:cNvSpPr/>
            <p:nvPr/>
          </p:nvSpPr>
          <p:spPr>
            <a:xfrm>
              <a:off x="4204800" y="1980720"/>
              <a:ext cx="3670560" cy="9504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8"/>
          <p:cNvGrpSpPr/>
          <p:nvPr/>
        </p:nvGrpSpPr>
        <p:grpSpPr>
          <a:xfrm>
            <a:off x="871560" y="3589200"/>
            <a:ext cx="1590120" cy="828720"/>
            <a:chOff x="871560" y="3589200"/>
            <a:chExt cx="1590120" cy="828720"/>
          </a:xfrm>
        </p:grpSpPr>
        <p:sp>
          <p:nvSpPr>
            <p:cNvPr id="380" name="Rectangle 9"/>
            <p:cNvSpPr/>
            <p:nvPr/>
          </p:nvSpPr>
          <p:spPr>
            <a:xfrm>
              <a:off x="872640" y="3589200"/>
              <a:ext cx="1589040" cy="8287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871560" y="3836160"/>
              <a:ext cx="151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Medios</a:t>
              </a:r>
              <a:br>
                <a:rPr sz="1400"/>
              </a:br>
              <a:r>
                <a:rPr b="1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e Pag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872640" y="3674880"/>
              <a:ext cx="1589040" cy="9468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4203720" y="3586320"/>
            <a:ext cx="3671640" cy="814320"/>
            <a:chOff x="4203720" y="3586320"/>
            <a:chExt cx="3671640" cy="814320"/>
          </a:xfrm>
        </p:grpSpPr>
        <p:sp>
          <p:nvSpPr>
            <p:cNvPr id="384" name="Rectangle 13"/>
            <p:cNvSpPr/>
            <p:nvPr/>
          </p:nvSpPr>
          <p:spPr>
            <a:xfrm>
              <a:off x="4204800" y="3586320"/>
              <a:ext cx="3670560" cy="81432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4203720" y="3823560"/>
              <a:ext cx="36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Boca de Pago: Banco / Corre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4204800" y="3671640"/>
              <a:ext cx="3670560" cy="9468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roup 16"/>
          <p:cNvGrpSpPr/>
          <p:nvPr/>
        </p:nvGrpSpPr>
        <p:grpSpPr>
          <a:xfrm>
            <a:off x="4203720" y="5129280"/>
            <a:ext cx="3673440" cy="996840"/>
            <a:chOff x="4203720" y="5129280"/>
            <a:chExt cx="3673440" cy="996840"/>
          </a:xfrm>
        </p:grpSpPr>
        <p:sp>
          <p:nvSpPr>
            <p:cNvPr id="388" name="Rectangle 17"/>
            <p:cNvSpPr/>
            <p:nvPr/>
          </p:nvSpPr>
          <p:spPr>
            <a:xfrm>
              <a:off x="4205160" y="5129280"/>
              <a:ext cx="3672000" cy="9968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8"/>
            <p:cNvSpPr/>
            <p:nvPr/>
          </p:nvSpPr>
          <p:spPr>
            <a:xfrm>
              <a:off x="4203720" y="5367240"/>
              <a:ext cx="366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Depósito Judicial: 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Cuenta Judicial, 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CBU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Boca de Pag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4205160" y="5214960"/>
              <a:ext cx="3672000" cy="9540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1" name="AutoShape 20"/>
          <p:cNvCxnSpPr/>
          <p:nvPr/>
        </p:nvCxnSpPr>
        <p:spPr>
          <a:xfrm flipV="1">
            <a:off x="2457360" y="2319120"/>
            <a:ext cx="1246680" cy="3310560"/>
          </a:xfrm>
          <a:prstGeom prst="bentConnector3">
            <a:avLst>
              <a:gd name="adj1" fmla="val 50000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92" name="AutoShape 21"/>
          <p:cNvCxnSpPr/>
          <p:nvPr/>
        </p:nvCxnSpPr>
        <p:spPr>
          <a:xfrm>
            <a:off x="2462040" y="3941280"/>
            <a:ext cx="1270800" cy="2520"/>
          </a:xfrm>
          <a:prstGeom prst="bentConnector3">
            <a:avLst>
              <a:gd name="adj1" fmla="val 49985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93" name="AutoShape 22"/>
          <p:cNvCxnSpPr/>
          <p:nvPr/>
        </p:nvCxnSpPr>
        <p:spPr>
          <a:xfrm flipV="1">
            <a:off x="3058920" y="5630040"/>
            <a:ext cx="673200" cy="2520"/>
          </a:xfrm>
          <a:prstGeom prst="bentConnector3">
            <a:avLst>
              <a:gd name="adj1" fmla="val 49973"/>
            </a:avLst>
          </a:prstGeom>
          <a:ln w="1260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142920" y="3495600"/>
            <a:ext cx="88549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TRAMITACIÓN (por parte de la Empresa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ontar con Clave de SITACI EXTERN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Informar telefónicamente a GUCA la Razón Social, CUIT, Cant. de Trabajadores, mes de aplicación, Correo Electrónico y Teléfo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BU (Cuenta Sueldo): Confeccionar un soporte en TXT (con 11 posic. para CUIT, 11 para CUIL y 22 para CBU), informando en su etiqueta el nombre de la Empre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Boca de Pago: Confeccionar un soporte en TXT (con 11 posic. para CUIT, 11 para CUIL, 3 para Banco, 3 para Agencia y 6 para período –aaaamm-), informando en su etiqueta el nombre de la Emp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Remitir el archivo por SITACI EX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Remitir el Formulario “SITACI-ENTRADA” por correo electrónico a controldeprocesos@anses.gov.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edios de P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Asignación Mas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260280" y="1452600"/>
            <a:ext cx="2157480" cy="1282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17520" y="1785960"/>
            <a:ext cx="209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uede solicitarse si el plantel es igual o superior a 200 empleados y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260280" y="1538280"/>
            <a:ext cx="2157480" cy="1540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 flipV="1">
            <a:off x="2403360" y="1506600"/>
            <a:ext cx="1089000" cy="488880"/>
          </a:xfrm>
          <a:prstGeom prst="line">
            <a:avLst/>
          </a:prstGeom>
          <a:ln w="9360">
            <a:solidFill>
              <a:srgbClr val="3379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500280" y="1371600"/>
            <a:ext cx="2810160" cy="573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3510000" y="1609560"/>
            <a:ext cx="28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e modifican sus cuentas suel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511440" y="1457280"/>
            <a:ext cx="2787840" cy="1540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12"/>
          <p:cNvGrpSpPr/>
          <p:nvPr/>
        </p:nvGrpSpPr>
        <p:grpSpPr>
          <a:xfrm>
            <a:off x="3506760" y="2073240"/>
            <a:ext cx="3222360" cy="571680"/>
            <a:chOff x="3506760" y="2073240"/>
            <a:chExt cx="3222360" cy="571680"/>
          </a:xfrm>
        </p:grpSpPr>
        <p:sp>
          <p:nvSpPr>
            <p:cNvPr id="406" name="Rectangle 13"/>
            <p:cNvSpPr/>
            <p:nvPr/>
          </p:nvSpPr>
          <p:spPr>
            <a:xfrm>
              <a:off x="3506760" y="2073240"/>
              <a:ext cx="3160800" cy="5716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14"/>
            <p:cNvSpPr/>
            <p:nvPr/>
          </p:nvSpPr>
          <p:spPr>
            <a:xfrm>
              <a:off x="3516120" y="2310840"/>
              <a:ext cx="32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Hay un ingreso masivo de emplea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15"/>
            <p:cNvSpPr/>
            <p:nvPr/>
          </p:nvSpPr>
          <p:spPr>
            <a:xfrm>
              <a:off x="3519000" y="2158560"/>
              <a:ext cx="3135600" cy="15336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16"/>
          <p:cNvGrpSpPr/>
          <p:nvPr/>
        </p:nvGrpSpPr>
        <p:grpSpPr>
          <a:xfrm>
            <a:off x="3516480" y="2778120"/>
            <a:ext cx="2863440" cy="571680"/>
            <a:chOff x="3516480" y="2778120"/>
            <a:chExt cx="2863440" cy="571680"/>
          </a:xfrm>
        </p:grpSpPr>
        <p:sp>
          <p:nvSpPr>
            <p:cNvPr id="410" name="Rectangle 17"/>
            <p:cNvSpPr/>
            <p:nvPr/>
          </p:nvSpPr>
          <p:spPr>
            <a:xfrm>
              <a:off x="3516480" y="2778120"/>
              <a:ext cx="2808360" cy="5716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3525480" y="3015360"/>
              <a:ext cx="285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Se trata del mes de incorpor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3526920" y="2863440"/>
              <a:ext cx="2786400" cy="15336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Line 20"/>
          <p:cNvSpPr/>
          <p:nvPr/>
        </p:nvSpPr>
        <p:spPr>
          <a:xfrm>
            <a:off x="2394000" y="2014560"/>
            <a:ext cx="1098360" cy="388800"/>
          </a:xfrm>
          <a:prstGeom prst="line">
            <a:avLst/>
          </a:prstGeom>
          <a:ln w="9360">
            <a:solidFill>
              <a:srgbClr val="3379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382840" y="2022480"/>
            <a:ext cx="1108080" cy="1031760"/>
          </a:xfrm>
          <a:prstGeom prst="line">
            <a:avLst/>
          </a:prstGeom>
          <a:ln w="9360">
            <a:solidFill>
              <a:srgbClr val="3379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276120" y="4172040"/>
            <a:ext cx="8618400" cy="2408040"/>
            <a:chOff x="276120" y="4172040"/>
            <a:chExt cx="8618400" cy="2408040"/>
          </a:xfrm>
        </p:grpSpPr>
        <p:sp>
          <p:nvSpPr>
            <p:cNvPr id="160" name="Rectangle 3"/>
            <p:cNvSpPr/>
            <p:nvPr/>
          </p:nvSpPr>
          <p:spPr>
            <a:xfrm>
              <a:off x="276120" y="4172040"/>
              <a:ext cx="1590480" cy="24080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3776040" y="4172040"/>
              <a:ext cx="1590120" cy="24080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7304400" y="4172040"/>
              <a:ext cx="1590120" cy="24080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5537880" y="4172040"/>
              <a:ext cx="1590120" cy="24080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999800" y="4172040"/>
              <a:ext cx="1590480" cy="240804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12773"/>
                </a:solidFill>
                <a:latin typeface="Arial"/>
                <a:ea typeface="Arial"/>
              </a:rPr>
              <a:t>Ley Nº 24714 - Defini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41640" y="4410000"/>
            <a:ext cx="121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Dinerari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085840" y="441000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Tienden a la protección de la familia en determinadas contingencias de su v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830760" y="441000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No forman parte del sa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7410600" y="4410000"/>
            <a:ext cx="143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Mantienen un equilibrio entre el salario y la carga famili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578560" y="4410000"/>
            <a:ext cx="157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Mecanismos de redistribución del ingreso por parte del Est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5" descr=""/>
          <p:cNvPicPr/>
          <p:nvPr/>
        </p:nvPicPr>
        <p:blipFill>
          <a:blip r:embed="rId1"/>
          <a:stretch/>
        </p:blipFill>
        <p:spPr>
          <a:xfrm>
            <a:off x="3273480" y="1585800"/>
            <a:ext cx="2597040" cy="1895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2314440" y="3581280"/>
            <a:ext cx="45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Calibri"/>
              </a:rPr>
              <a:t>¿Qué son las Asignaciones Familia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7" descr=""/>
          <p:cNvPicPr/>
          <p:nvPr/>
        </p:nvPicPr>
        <p:blipFill>
          <a:blip r:embed="rId2"/>
          <a:stretch/>
        </p:blipFill>
        <p:spPr>
          <a:xfrm>
            <a:off x="268200" y="4248000"/>
            <a:ext cx="8631360" cy="11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8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www.anses.gov.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Consulta Liquidación AAFF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1814400" y="1438200"/>
            <a:ext cx="6058080" cy="518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Consulta Liquidación AAFF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814400" y="1428840"/>
            <a:ext cx="6058080" cy="51814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www.anses.gov.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928800" y="1438200"/>
            <a:ext cx="6057720" cy="51818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7148520" y="3814920"/>
            <a:ext cx="1795320" cy="14238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7147080" y="4052880"/>
            <a:ext cx="1792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grese a la página: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ww.anses.gov.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cione la solapa “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topista de Servicios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7148520" y="3900600"/>
            <a:ext cx="1795320" cy="95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4276800" y="3448080"/>
            <a:ext cx="2867040" cy="177156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Consulta en internet www.anses.gov.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mpresas habilitadas en SU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"/>
          <p:cNvPicPr/>
          <p:nvPr/>
        </p:nvPicPr>
        <p:blipFill>
          <a:blip r:embed="rId1"/>
          <a:stretch/>
        </p:blipFill>
        <p:spPr>
          <a:xfrm>
            <a:off x="928800" y="1438200"/>
            <a:ext cx="6057720" cy="51818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Consulta en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mpresas habilitadas en SU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324080" y="4753080"/>
            <a:ext cx="5810040" cy="168588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7137360" y="4191120"/>
            <a:ext cx="1795320" cy="2246040"/>
            <a:chOff x="7137360" y="4191120"/>
            <a:chExt cx="1795320" cy="2246040"/>
          </a:xfrm>
        </p:grpSpPr>
        <p:sp>
          <p:nvSpPr>
            <p:cNvPr id="437" name="Rectangle 7"/>
            <p:cNvSpPr/>
            <p:nvPr/>
          </p:nvSpPr>
          <p:spPr>
            <a:xfrm>
              <a:off x="7138800" y="4191120"/>
              <a:ext cx="1793880" cy="22460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8"/>
            <p:cNvSpPr/>
            <p:nvPr/>
          </p:nvSpPr>
          <p:spPr>
            <a:xfrm>
              <a:off x="7137360" y="4506480"/>
              <a:ext cx="1791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Dentro de la solapa “Servicios Corporativos” seleccione la aplicación “Empresas incorporadas al SUAF”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9"/>
            <p:cNvSpPr/>
            <p:nvPr/>
          </p:nvSpPr>
          <p:spPr>
            <a:xfrm>
              <a:off x="7138800" y="4319280"/>
              <a:ext cx="1793880" cy="946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938160" y="1447920"/>
            <a:ext cx="6058080" cy="5181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7137360" y="2305080"/>
            <a:ext cx="1795320" cy="1274760"/>
            <a:chOff x="7137360" y="2305080"/>
            <a:chExt cx="1795320" cy="1274760"/>
          </a:xfrm>
        </p:grpSpPr>
        <p:sp>
          <p:nvSpPr>
            <p:cNvPr id="443" name="Rectangle 4"/>
            <p:cNvSpPr/>
            <p:nvPr/>
          </p:nvSpPr>
          <p:spPr>
            <a:xfrm>
              <a:off x="7138800" y="2305080"/>
              <a:ext cx="1793880" cy="12747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7137360" y="2620440"/>
              <a:ext cx="1791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grese el Nº de CUIT de la Empresa por la que  desea consultar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7138800" y="2433240"/>
              <a:ext cx="1793880" cy="9504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Consulta en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mpresas habilitadas en SU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7137360" y="4105440"/>
            <a:ext cx="1795320" cy="1112760"/>
            <a:chOff x="7137360" y="4105440"/>
            <a:chExt cx="1795320" cy="1112760"/>
          </a:xfrm>
        </p:grpSpPr>
        <p:sp>
          <p:nvSpPr>
            <p:cNvPr id="449" name="Rectangle 10"/>
            <p:cNvSpPr/>
            <p:nvPr/>
          </p:nvSpPr>
          <p:spPr>
            <a:xfrm>
              <a:off x="7138800" y="4105440"/>
              <a:ext cx="1793880" cy="11127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7137360" y="4420440"/>
              <a:ext cx="1791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grese el código que se muestra en la image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2"/>
            <p:cNvSpPr/>
            <p:nvPr/>
          </p:nvSpPr>
          <p:spPr>
            <a:xfrm>
              <a:off x="7138800" y="4233600"/>
              <a:ext cx="1793880" cy="946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13"/>
          <p:cNvCxnSpPr/>
          <p:nvPr/>
        </p:nvCxnSpPr>
        <p:spPr>
          <a:xfrm flipH="1" flipV="1">
            <a:off x="4104720" y="3571560"/>
            <a:ext cx="3182040" cy="2160"/>
          </a:xfrm>
          <a:prstGeom prst="straightConnector1">
            <a:avLst/>
          </a:prstGeom>
          <a:ln w="1260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53" name="AutoShape 14"/>
          <p:cNvCxnSpPr/>
          <p:nvPr/>
        </p:nvCxnSpPr>
        <p:spPr>
          <a:xfrm flipH="1">
            <a:off x="4599720" y="4114800"/>
            <a:ext cx="3305880" cy="2160"/>
          </a:xfrm>
          <a:prstGeom prst="straightConnector1">
            <a:avLst/>
          </a:prstGeom>
          <a:ln w="12600">
            <a:solidFill>
              <a:srgbClr val="e46c0a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928800" y="1447920"/>
            <a:ext cx="6057720" cy="51814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Consulta en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mpresas habilitadas en SU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Group 5"/>
          <p:cNvGrpSpPr/>
          <p:nvPr/>
        </p:nvGrpSpPr>
        <p:grpSpPr>
          <a:xfrm>
            <a:off x="7137360" y="4800600"/>
            <a:ext cx="1795320" cy="1274760"/>
            <a:chOff x="7137360" y="4800600"/>
            <a:chExt cx="1795320" cy="1274760"/>
          </a:xfrm>
        </p:grpSpPr>
        <p:sp>
          <p:nvSpPr>
            <p:cNvPr id="459" name="Rectangle 6"/>
            <p:cNvSpPr/>
            <p:nvPr/>
          </p:nvSpPr>
          <p:spPr>
            <a:xfrm>
              <a:off x="7138800" y="4800600"/>
              <a:ext cx="1793880" cy="12747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137360" y="5116320"/>
              <a:ext cx="1791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Se visualizará un reporte de estado de situación de la Empres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138800" y="4928760"/>
              <a:ext cx="1793880" cy="9504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62" name="AutoShape 9"/>
          <p:cNvCxnSpPr/>
          <p:nvPr/>
        </p:nvCxnSpPr>
        <p:spPr>
          <a:xfrm flipH="1">
            <a:off x="4600080" y="4809600"/>
            <a:ext cx="2934720" cy="2520"/>
          </a:xfrm>
          <a:prstGeom prst="straightConnector1">
            <a:avLst/>
          </a:prstGeom>
          <a:ln w="12600">
            <a:solidFill>
              <a:srgbClr val="e46c0a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971640" y="2038320"/>
            <a:ext cx="3495600" cy="4543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971640" y="4343400"/>
            <a:ext cx="3495600" cy="752400"/>
          </a:xfrm>
          <a:prstGeom prst="rect">
            <a:avLst/>
          </a:prstGeom>
          <a:solidFill>
            <a:srgbClr val="acc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971640" y="2714760"/>
            <a:ext cx="3495600" cy="361800"/>
          </a:xfrm>
          <a:prstGeom prst="rect">
            <a:avLst/>
          </a:prstGeom>
          <a:solidFill>
            <a:srgbClr val="acc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29120" y="2038320"/>
            <a:ext cx="3495600" cy="4543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929120" y="4286160"/>
            <a:ext cx="3495600" cy="581040"/>
          </a:xfrm>
          <a:prstGeom prst="rect">
            <a:avLst/>
          </a:prstGeom>
          <a:solidFill>
            <a:srgbClr val="acc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929120" y="2733840"/>
            <a:ext cx="3495600" cy="771480"/>
          </a:xfrm>
          <a:prstGeom prst="rect">
            <a:avLst/>
          </a:prstGeom>
          <a:solidFill>
            <a:srgbClr val="acc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640" y="2138400"/>
            <a:ext cx="3495600" cy="3286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929120" y="2138400"/>
            <a:ext cx="3495600" cy="3286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rabajadores en relación de depen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Esquema norma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047600" y="2114640"/>
            <a:ext cx="26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000760" y="211464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equis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219320" y="2738520"/>
            <a:ext cx="32288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tación dinera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Escala de montos crecientes de acuerdo a la remuner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alores diferenciales de las asignaciones para determinadas zonas geográf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5172120" y="2738520"/>
            <a:ext cx="317196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ercibir una remuneración igual o superior a $ 100 e inferior a $4.800,0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Relación de dependencia y/o efectiva prestación de servi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eríodos de carencia o antigüedad para algunas pres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16"/>
          <p:cNvGrpSpPr/>
          <p:nvPr/>
        </p:nvGrpSpPr>
        <p:grpSpPr>
          <a:xfrm>
            <a:off x="1228680" y="3714840"/>
            <a:ext cx="2865240" cy="520200"/>
            <a:chOff x="1228680" y="3714840"/>
            <a:chExt cx="2865240" cy="520200"/>
          </a:xfrm>
        </p:grpSpPr>
        <p:sp>
          <p:nvSpPr>
            <p:cNvPr id="192" name="Text Box 17"/>
            <p:cNvSpPr/>
            <p:nvPr/>
          </p:nvSpPr>
          <p:spPr>
            <a:xfrm>
              <a:off x="1228680" y="3714840"/>
              <a:ext cx="162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Menor</a:t>
              </a:r>
              <a:br>
                <a:rPr sz="1400"/>
              </a:b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remuner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2665800" y="3714840"/>
              <a:ext cx="142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Mayor</a:t>
              </a:r>
              <a:br>
                <a:rPr sz="1400"/>
              </a:b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asign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2442600" y="3809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ocedimientos de P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1006560"/>
            <a:ext cx="9144000" cy="88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514440" y="1495440"/>
            <a:ext cx="8389440" cy="5075280"/>
            <a:chOff x="514440" y="1495440"/>
            <a:chExt cx="8389440" cy="5075280"/>
          </a:xfrm>
        </p:grpSpPr>
        <p:sp>
          <p:nvSpPr>
            <p:cNvPr id="198" name="Rectangle 4"/>
            <p:cNvSpPr/>
            <p:nvPr/>
          </p:nvSpPr>
          <p:spPr>
            <a:xfrm>
              <a:off x="514440" y="2071440"/>
              <a:ext cx="8380080" cy="97596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514440" y="3133080"/>
              <a:ext cx="8380080" cy="3437280"/>
            </a:xfrm>
            <a:prstGeom prst="rect">
              <a:avLst/>
            </a:prstGeom>
            <a:solidFill>
              <a:srgbClr val="3a7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928040" y="1495440"/>
              <a:ext cx="3961440" cy="50752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971280" y="1495440"/>
              <a:ext cx="3742200" cy="50752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971280" y="1595160"/>
              <a:ext cx="3742200" cy="32832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4928040" y="1595160"/>
              <a:ext cx="3961440" cy="328320"/>
            </a:xfrm>
            <a:prstGeom prst="rect">
              <a:avLst/>
            </a:pr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1009440" y="1571400"/>
              <a:ext cx="259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Fondo Compensad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11"/>
            <p:cNvSpPr/>
            <p:nvPr/>
          </p:nvSpPr>
          <p:spPr>
            <a:xfrm>
              <a:off x="4970880" y="1571400"/>
              <a:ext cx="259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SUA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12"/>
            <p:cNvSpPr/>
            <p:nvPr/>
          </p:nvSpPr>
          <p:spPr>
            <a:xfrm>
              <a:off x="1180800" y="2214360"/>
              <a:ext cx="3456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Decreto Nº 7913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   195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Ley Nº 24714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   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1180800" y="3252240"/>
              <a:ext cx="34851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Asignaciones Familiares son abonadas por el Empleador junto con el salario, por cuenta y orden del Estado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 la contribución patronal que realiza el Empleador se descuentan los importes abonados resultando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ibución 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posita </a:t>
              </a:r>
              <a:br>
                <a:rPr sz="1400"/>
              </a:b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yor a AAFF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ferenc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ibución 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licita Reintegro</a:t>
              </a:r>
              <a:br>
                <a:rPr sz="1400"/>
              </a:b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nor a AAFF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 Est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8" name="Picture 14" descr=""/>
            <p:cNvPicPr/>
            <p:nvPr/>
          </p:nvPicPr>
          <p:blipFill>
            <a:blip r:embed="rId1"/>
            <a:stretch/>
          </p:blipFill>
          <p:spPr>
            <a:xfrm>
              <a:off x="536040" y="1999800"/>
              <a:ext cx="41400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5" descr=""/>
            <p:cNvPicPr/>
            <p:nvPr/>
          </p:nvPicPr>
          <p:blipFill>
            <a:blip r:embed="rId2"/>
            <a:stretch/>
          </p:blipFill>
          <p:spPr>
            <a:xfrm>
              <a:off x="536040" y="3120480"/>
              <a:ext cx="414000" cy="16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/>
            <p:cNvSpPr/>
            <p:nvPr/>
          </p:nvSpPr>
          <p:spPr>
            <a:xfrm>
              <a:off x="5142600" y="2080800"/>
              <a:ext cx="3761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Resolución DE Nº 641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	</a:t>
              </a: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2003</a:t>
              </a:r>
              <a:br>
                <a:rPr sz="1400"/>
              </a:b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Vigente hasta el 31/03/200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Resolución DE Nº 292                    200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Vigente desde el 01/04/200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5142600" y="3252240"/>
              <a:ext cx="3627720" cy="20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Asignaciones Familiares son abonadas por el Estado en forma directa al trabajador, a través de diversos mecanismos de pago (Bancos- Correo)</a:t>
              </a:r>
              <a:r>
                <a:rPr b="0" lang="ar-SA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AF incorpora pago en CBU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 Empleador deposita la contribución completa al Sistema de Seguridad Social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8"/>
            <p:cNvSpPr/>
            <p:nvPr/>
          </p:nvSpPr>
          <p:spPr>
            <a:xfrm>
              <a:off x="2561400" y="5209200"/>
              <a:ext cx="361800" cy="180360"/>
            </a:xfrm>
            <a:prstGeom prst="rightArrow">
              <a:avLst>
                <a:gd name="adj1" fmla="val 50000"/>
                <a:gd name="adj2" fmla="val 50150"/>
              </a:avLst>
            </a:prstGeom>
            <a:solidFill>
              <a:srgbClr val="2c69b2"/>
            </a:solidFill>
            <a:ln w="1260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2561400" y="5880240"/>
              <a:ext cx="361800" cy="18072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2c69b2"/>
            </a:solidFill>
            <a:ln w="1260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2799720" y="2633400"/>
              <a:ext cx="361440" cy="180360"/>
            </a:xfrm>
            <a:prstGeom prst="rightArrow">
              <a:avLst>
                <a:gd name="adj1" fmla="val 50000"/>
                <a:gd name="adj2" fmla="val 50100"/>
              </a:avLst>
            </a:prstGeom>
            <a:solidFill>
              <a:srgbClr val="8eb4e3"/>
            </a:solidFill>
            <a:ln w="1260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21"/>
            <p:cNvSpPr/>
            <p:nvPr/>
          </p:nvSpPr>
          <p:spPr>
            <a:xfrm>
              <a:off x="2799720" y="2285640"/>
              <a:ext cx="361440" cy="1807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8eb4e3"/>
            </a:solidFill>
            <a:ln w="1260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22"/>
            <p:cNvSpPr/>
            <p:nvPr/>
          </p:nvSpPr>
          <p:spPr>
            <a:xfrm>
              <a:off x="7356240" y="2120400"/>
              <a:ext cx="361440" cy="1807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8eb4e3"/>
            </a:solidFill>
            <a:ln w="1260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7362720" y="2565000"/>
              <a:ext cx="361440" cy="1807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8eb4e3"/>
            </a:solidFill>
            <a:ln w="1260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542960" y="1738440"/>
            <a:ext cx="63626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Prena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Mater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Hijo 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Hijo con Discapa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Ayuda Escolar (Nivel Inicial***, EGB y Polimodal)</a:t>
            </a:r>
            <a:r>
              <a:rPr b="0" lang="ar-SA" sz="1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Ayuda Escolar por hijo con discapa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Na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Adop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Matrimo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signaciones Familiare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Trabajadores en Relación de Depend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42960" y="5753160"/>
            <a:ext cx="6362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**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   Hasta el mismo mes en que cumple los 18 años estudie o n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79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***   A partir del año 2000 (Resolución SSS Nº 23/00)</a:t>
            </a:r>
            <a:r>
              <a:rPr b="0" lang="ar-SA" sz="14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1638360" y="5705640"/>
            <a:ext cx="64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30480" y="1971720"/>
            <a:ext cx="67057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Tiene plazos de carencia o antigüedad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Se paga una suma mensual igual a la asignación por hijo por cada mes de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aplica tope remuneratorio y ran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obra sólo uno de los progeni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Puede acreditar antigüedad ante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Presentación de documentación </a:t>
            </a:r>
            <a:br>
              <a:rPr sz="1800"/>
            </a:b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entre 3º y 6º me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558ed5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Presentación  de documentación</a:t>
            </a:r>
            <a:br>
              <a:rPr sz="1800"/>
            </a:b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a partir 7º mes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Pre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825480" y="2519280"/>
            <a:ext cx="1225440" cy="18954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6523200" y="2095560"/>
            <a:ext cx="245880" cy="18108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230880" y="4792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obro ínte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230880" y="549432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obro cuotas res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6850080" y="196848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3 meses en el 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5913360" y="4898880"/>
            <a:ext cx="246240" cy="181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5913360" y="5618160"/>
            <a:ext cx="246240" cy="181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eb4e3"/>
          </a:solidFill>
          <a:ln w="12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130480" y="1457280"/>
            <a:ext cx="696276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Durante la licencia percibirá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53880" algn="just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 percibe remuneraciones fijas (</a:t>
            </a:r>
            <a:r>
              <a:rPr b="1" i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entendiéndose por “fijas” cuando se percibe una remuneración por mes calendario o por quincena que no varía por el hecho de que ese lapso tenga más o menos días laborales que otro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):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Una suma igual a la remuneración bruta que le hubiera correspondido percibir si hubiera estado trabajand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53880" algn="just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 percibe remuneraciones variables (</a:t>
            </a:r>
            <a:r>
              <a:rPr b="1" i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entendiéndose por “variables” cuando se percibe una remuneración que se encuentra condicionada por un resultado, que puede ser de productos elaborados, operaciones de venta, etc. modificándose de acuerdo a ésta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) :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El promedio de las remuneraciones percibidas en los tres meses anteriores al comienzo de su Licencia por Matern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17480" indent="-17784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Máximo 90 d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17480" indent="-17784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No se aplica tope remunera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17480" indent="-17784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Requiere tres (3) meses de antigüedad en el empl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17480" indent="-177840" algn="just">
              <a:lnSpc>
                <a:spcPct val="100000"/>
              </a:lnSpc>
              <a:buClr>
                <a:srgbClr val="558ed5"/>
              </a:buClr>
              <a:buFont typeface="Courier New"/>
              <a:buChar char="o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Debe solicitarla ante ANSES antes de finalizada la Lic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uando hay más de un empleo se percibe en cada uno d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Maternidad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Matern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620640" y="2514600"/>
            <a:ext cx="1433520" cy="189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130480" y="4097160"/>
            <a:ext cx="696276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Cobra sólo uno de los padres, el que se encuentre en el rango más beneficio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 los padres están separados o divorciados, cobra la asignación quien tiene la tenencia. Si el que tiene la tenencia no trabaja o no percibe un beneficio Previsional o de desempleo puede autorizar al otro padre a cobr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paga aunque el hijo trabaje o perciba cualquier benefi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Hi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452680" y="1744560"/>
            <a:ext cx="55054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Hasta los 18 añ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olt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Que resida en el paí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Adop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Bajo Guarda o Tut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aplica tope remuneratorio y ran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20640" y="2525760"/>
            <a:ext cx="1468440" cy="190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30480" y="4290840"/>
            <a:ext cx="696276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Cobra sólo uno de los padres, el que se encuentre en el rango más beneficio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 los padres están separados o divorciados, cobra la asignación quien tiene la tenencia. Si el que tiene la tenencia no trabaja o no percibe un beneficio Previsional o de desempleo puede autorizar al otro padre a cobr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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e paga aunque el hijo trabaje o perciba cualquier benefi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1006560"/>
            <a:ext cx="9144000" cy="309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43120" y="988920"/>
            <a:ext cx="7038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12773"/>
                </a:solidFill>
                <a:latin typeface="Arial"/>
                <a:ea typeface="Arial"/>
              </a:rPr>
              <a:t>Hijo con Discapac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452680" y="1744560"/>
            <a:ext cx="608184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n límite de e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oltero, divorciado, separado legalmente o viu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Que resida en el paí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Adop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Bajo Guarda, Tutela o Curatela a la Perso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Sin tope remuneratorio, con  ran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spcBef>
                <a:spcPts val="201"/>
              </a:spcBef>
              <a:buClr>
                <a:srgbClr val="558ed5"/>
              </a:buClr>
              <a:buFont typeface="Arial"/>
              <a:buChar char="•"/>
              <a:tabLst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Para cobrar se requiere Autorización Expresa de AN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870120" y="157320"/>
            <a:ext cx="703872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égimen de Asignaciones Famili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620640" y="2525760"/>
            <a:ext cx="1468440" cy="190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901216</dc:creator>
  <dc:description/>
  <dc:language>en-US</dc:language>
  <cp:lastModifiedBy>CPCEACABA</cp:lastModifiedBy>
  <dcterms:modified xsi:type="dcterms:W3CDTF">2009-03-13T11:55:55Z</dcterms:modified>
  <cp:revision>14</cp:revision>
  <dc:subject/>
  <dc:title>El trabajador deberá:</dc:title>
</cp:coreProperties>
</file>