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FBB-FDB6-4F36-9FCC-3BE597F1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2B0-D0DE-4BE4-816D-AE371ED4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34B-0D16-4E58-B828-F51A6653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6CB-CE02-42B4-B25B-75D41C9A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DA1-1C85-404B-8059-5FCB6CFE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A55-28E7-4FE0-B64E-60391A2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8C7-65FD-4E82-BB98-B97E664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47EC-34E5-4A79-8144-165A9C7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6DF2-B744-4D73-B9A7-8EAD152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57F7-729F-486B-9CCC-F18410E0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74E-F398-4CB2-AD48-4DAE89A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2F7-74BD-425B-A685-DD8550B5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08A-4FBC-4278-9396-9E9B4F65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223-2F70-40CB-8EE8-7C41F24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0DF-4B8B-4AEE-9E5D-AB10854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461-4B14-4A50-A48F-05457021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1B8-0FCF-4982-B95C-C730B20D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F43-51F0-429C-8488-5AD9904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C46-7692-48BD-B14F-CBB63717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BE9-5A6C-48B7-A347-4691B47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772-CA55-41AF-9EB1-0BFC574A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EDE-6A47-4914-BEA8-8199D18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2EA-2895-4C57-8442-4268764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E38-A807-41BF-BBFF-F7769D6B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3F18-94F0-4082-B2D8-FD692F6B490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85800"/>
            <a:ext cx="8314920" cy="1052640"/>
            <a:chOff x="0" y="685800"/>
            <a:chExt cx="8314920" cy="1052640"/>
          </a:xfrm>
        </p:grpSpPr>
        <p:grpSp>
          <p:nvGrpSpPr>
            <p:cNvPr id="6" name=""/>
            <p:cNvGrpSpPr/>
            <p:nvPr/>
          </p:nvGrpSpPr>
          <p:grpSpPr>
            <a:xfrm>
              <a:off x="267840" y="793800"/>
              <a:ext cx="655920" cy="474840"/>
              <a:chOff x="267840" y="793800"/>
              <a:chExt cx="655920" cy="474840"/>
            </a:xfrm>
          </p:grpSpPr>
          <p:sp>
            <p:nvSpPr>
              <p:cNvPr id="7" name=""/>
              <p:cNvSpPr/>
              <p:nvPr/>
            </p:nvSpPr>
            <p:spPr>
              <a:xfrm>
                <a:off x="267840" y="793800"/>
                <a:ext cx="403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21000" y="793800"/>
                <a:ext cx="30276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2320" y="1216080"/>
              <a:ext cx="680760" cy="474840"/>
              <a:chOff x="382320" y="1216080"/>
              <a:chExt cx="680760" cy="474840"/>
            </a:xfrm>
          </p:grpSpPr>
          <p:sp>
            <p:nvSpPr>
              <p:cNvPr id="10" name=""/>
              <p:cNvSpPr/>
              <p:nvPr/>
            </p:nvSpPr>
            <p:spPr>
              <a:xfrm>
                <a:off x="382320" y="1216080"/>
                <a:ext cx="389160" cy="474840"/>
              </a:xfrm>
              <a:prstGeom prst="rect">
                <a:avLst/>
              </a:prstGeom>
              <a:solidFill>
                <a:srgbClr val="9ec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22520" y="1216080"/>
                <a:ext cx="34056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ece3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1143000"/>
              <a:ext cx="517320" cy="4222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86080" y="685800"/>
              <a:ext cx="2916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291600" y="1508040"/>
              <a:ext cx="80233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D156-7E01-4AD1-9E4E-E4353675BA7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240" y="2421000"/>
            <a:ext cx="8316360" cy="1052280"/>
            <a:chOff x="111240" y="2421000"/>
            <a:chExt cx="8316360" cy="1052280"/>
          </a:xfrm>
        </p:grpSpPr>
        <p:grpSp>
          <p:nvGrpSpPr>
            <p:cNvPr id="56" name=""/>
            <p:cNvGrpSpPr/>
            <p:nvPr/>
          </p:nvGrpSpPr>
          <p:grpSpPr>
            <a:xfrm>
              <a:off x="379080" y="2528640"/>
              <a:ext cx="656280" cy="474480"/>
              <a:chOff x="379080" y="2528640"/>
              <a:chExt cx="656280" cy="474480"/>
            </a:xfrm>
          </p:grpSpPr>
          <p:sp>
            <p:nvSpPr>
              <p:cNvPr id="57" name=""/>
              <p:cNvSpPr/>
              <p:nvPr/>
            </p:nvSpPr>
            <p:spPr>
              <a:xfrm>
                <a:off x="379080" y="2528640"/>
                <a:ext cx="4039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2600" y="2528640"/>
                <a:ext cx="30276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93560" y="2950920"/>
              <a:ext cx="680760" cy="474480"/>
              <a:chOff x="493560" y="2950920"/>
              <a:chExt cx="680760" cy="474480"/>
            </a:xfrm>
          </p:grpSpPr>
          <p:sp>
            <p:nvSpPr>
              <p:cNvPr id="60" name=""/>
              <p:cNvSpPr/>
              <p:nvPr/>
            </p:nvSpPr>
            <p:spPr>
              <a:xfrm>
                <a:off x="493560" y="2950920"/>
                <a:ext cx="389160" cy="474480"/>
              </a:xfrm>
              <a:prstGeom prst="rect">
                <a:avLst/>
              </a:prstGeom>
              <a:solidFill>
                <a:srgbClr val="9ec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33760" y="2950920"/>
                <a:ext cx="34056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ece3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11240" y="2877840"/>
              <a:ext cx="517320" cy="421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7320" y="2421000"/>
              <a:ext cx="2916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02840" y="3242160"/>
              <a:ext cx="802476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3809520"/>
            <a:ext cx="81360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NSPARENCIA Y RENDICIÓN DE CUEN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NTROL INTERNO Y PREVENCIÓN DEL FRAUD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PREVENCIÓN Y DETECCIÓN DEL FRAUDE EN L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ASOCIACIONES CIVILES Y FUND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xpositor: Dr. (CP) Oscar Eduardo M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scar@geint.com.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260280"/>
            <a:ext cx="633744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ejo Profesional de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la Ciudad Autónoma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"/>
              </a:rPr>
              <a:t>COMISIÓN ACADÉMICA DE ACT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"/>
              </a:rPr>
              <a:t>PROFESIONAL EN ENTIDADES SIN FINES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Tahoma"/>
              </a:rPr>
              <a:t>SUBCOMISIÓN DE ASOCIACIONES CIVILES Y FU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ahoma"/>
              </a:rPr>
              <a:t>Ciclo de Charlas – Debate 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ahoma"/>
              </a:rPr>
              <a:t>Asociaciones Civiles y Fun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ª REUNIÓN – JULIO 12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5443560"/>
            <a:ext cx="12636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raude extern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cturación de bienes o servicios no entre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brefactu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eneficiarios de los progra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giversación de información para acceder a benef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63452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ipos de Frau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EN DETRIMENTO DE LA ENT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eptación de coimas, soborn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propiación de dinero o bienes y manipulación de regist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cultación o falsificación de datos, registros o hech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EN BENEFICIO DE LA ENT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os de coimas, soborn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premeditadas e irregulares realizadas entre partes relacionad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rrores u omisiones inten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vasión fis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5" dur="1" fill="hold"/>
                                  <p:tgtEl>
                                    <p:spTgt spid="12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2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12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12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raude en beneficio de la ent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isión de información engañosa para atraer do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tilización de figuras inapropiadas para reducir costos (voluntariado) u obtener beneficios (exencio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brevaloración de la capacidad de la institución para cumplir con sus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indebido de la información recibida de do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  <a:ea typeface="Arial"/>
              </a:rPr>
              <a:t>¿Prevenir o detectar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osible prevenir la totalidad de los casos de fra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políticas y procedimientos pueden prevenir la concreción exitosa de algunas vari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 tiempo, un delincuente puede encontrar la manera de cometer fraude en perjuicio de la e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esquema integral de prevención involucra costos que difícilmente puedan ser afron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  <a:ea typeface="Arial"/>
              </a:rPr>
              <a:t>¿Prevenir o detectar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lución adecu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enir la ocurrencia de la mayor cantidad de esquemas de fraude y abuso que sea posible, considerando las restricciones de recursos (humanos, técnicos y económicos) que posee la ent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arrollar los procedimientos que permitan detectar, en un lapso razonable de tiempo, los casos de fraude y abuso ocurridos a pesar del esquema de preve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56840"/>
            <a:ext cx="7415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¿Por qué ocurren los fraude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Inten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Necesidad / Mot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Oportunidad de cometer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Racionalizació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Ocultamiento del hech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1319040" indent="-86184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Tahom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FRAUDE / ABUS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15772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Manejo del riesgo de fraude</a:t>
            </a:r>
            <a:br>
              <a:rPr sz="4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(Risk management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los riesgos potenciales de fraude y abuso, tanto de origen interno com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blecer políticas y procedimientos con el objeto de prevenir y detectar fraudes y abu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ns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ción de seguros u otros medios para transferir el riesgo financiero asociado con el frau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ablecer el nivel de nivel de exposición financiera que la entidad está dispuesta a acep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Modelo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trol interno sobre áreas / ciclos específ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stemas no financie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ortamiento de ejecutivos y dire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Control intern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Áreas / ciclos específic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gistración de ingr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branzas y otros ingresos de fo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ras y pagos a prove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os desembol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 de remuner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 de subsid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ciliación periódica de cu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Control intern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bjetivos a alcanz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inimizar las oportunidades reales o potenciales para que se cometan fraudes o abu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dentificar a la brevedad la ocurrencia de un hecho fraudul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ficultar la posibilidad de ocultar la ocurrencia de fraude o ab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Preguntas para los responsables de la gestión administrativa de las institu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9350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Existen irregularidades en la institución en la que me desempe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Están dadas las posibilidades para que ocurran actos fraudul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Qué hago para evitar los posibles frau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Qué acciones debo tomar ante actos de fra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Sistemas no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líticas de captación, capacitación, retención y promoción de recursos hum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stemas de tecnolog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guridad fí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stemas de comun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líticas de segu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mportamiento de </a:t>
            </a:r>
            <a:br>
              <a:rPr sz="3600"/>
            </a:b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jecutivos y directiv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acciones de ejecutivos y directivos tiene una influencia directa en el comportamiento de la organ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ner especial atención en la gestión administrativa de la ent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ener como objetivo la evaluación financiera de un área, sector o de la organización como un 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2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¿Cómo se Combate el Fraud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916280"/>
            <a:ext cx="7467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Asegurar el funcionamiento de los sistemas de control inter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Aumentar el control en las áreas de mayor riesg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iminar la tolerancia cuando se detectan actos ilícit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Aplicar rigurosamente las sanciones previs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ancionar convenientemente las faltas meno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Pronta resolución de las situaciones detectad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Adoptar medidas para impedir su repeti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¿Cómo se detecta el Fraude?</a:t>
            </a:r>
            <a:br>
              <a:rPr sz="3600"/>
            </a:b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Fuente: Association of Certified Fraud Examiners (2006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nuncias: 34,4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or accidente: 28,7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troles internos: 19,7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ía interna: 16,4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ía externa: 14,8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tros: 4,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3809520"/>
            <a:ext cx="81360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NSPARENCIA Y RENDICIÓN DE CUEN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NTROL INTERNO Y PREVENCIÓN DEL FRAUD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PREVENCIÓN Y DETECCIÓN DEL FRAUDE EN L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ASOCIACIONES CIVILES Y FUND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xpositor: Dr. (CP) Oscar Eduardo M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scar@geint.com.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33744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ejo Profesional de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la Ciudad Autónoma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"/>
              </a:rPr>
              <a:t>COMISIÓN ACADÉMICA DE ACT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"/>
              </a:rPr>
              <a:t>PROFESIONAL EN ENTIDADES SIN FINES DE LU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Tahoma"/>
              </a:rPr>
              <a:t>SUBCOMISIÓN DE ASOCIACIONES CIVILES Y FU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ahoma"/>
              </a:rPr>
              <a:t>Ciclo de Charlas – Debate so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ahoma"/>
              </a:rPr>
              <a:t>Asociaciones Civiles y Fun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ª REUNIÓN – JULIO 12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67640" y="5443560"/>
            <a:ext cx="12636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04920"/>
            <a:ext cx="77929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¿Qué es el fraud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4580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Una acción deshonesta, realizada en forma intencional por personas vinculadas con una institución, con el objeto de obtener un beneficio directo o indirecto para sus aut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Vulnerabilidad del Tercer Secto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 de confia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excesivo por parte del fundador, del responsable ejecutivo o de los principales benefac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lta de incorporación de individuos con experiencia en la gestión institu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ncia de transacciones no recípro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adecuada asignación de recursos a la función administr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otenciales auto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mpleados, ejecutivos y dire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olu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mpresas que tercerizan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on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eneficiarios de sus progra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stadísticas</a:t>
            </a:r>
            <a:br>
              <a:rPr sz="3600"/>
            </a:b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Fuente: Association of Certified Fraud Examiners (2006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íctimas de fraude, por tipo de organ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añías privadas: 36.8% (USD 210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añías públicas: 31.7% (USD 200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ministración pública: 17.6% (USD 100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idades sin fines de lucro: 13.9% (USD 100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stadísticas</a:t>
            </a:r>
            <a:br>
              <a:rPr sz="3600"/>
            </a:b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Fuente: Association of Certified Fraud Examiners (2006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42176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usados en las ESF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rrupción: 29,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cturas apócrifas: 28,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integro de gastos falsos: 28,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ulteración de cheques: 24,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urt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nero, antes de ser registrado: 22,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nero, después de ser registrado: 17,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tros bienes materiales o inmateriales: 14,3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iquidación y pago de sueldos: 12,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lances falsos: 5,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ferencias bancarias: 5,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eración de registraciones: 0,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Tipos de frau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terno (fraude ocupacion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etido por integrantes de la institución, en cualquiera de sus nive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ter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etido por proveedores, beneficiarios de sus programas o competi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raude intern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ropiación indebida de bie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 esquema que incluya el hurto o el uso inapropiado de los bienes de la instit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rrup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 esquema en el que una persona utiliza su influencia al realizar una transacción para obtener un beneficio indebido contrario a los intereses de la instit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lances fal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lsificación de los estados contables de la institución para hacerla aparecer más o menos re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3:43:07Z</dcterms:created>
  <dc:creator>OSCAR EDUARDO MARY</dc:creator>
  <dc:description/>
  <dc:language>en-US</dc:language>
  <cp:lastModifiedBy>C.P.C.E.C.A.B.A</cp:lastModifiedBy>
  <dcterms:modified xsi:type="dcterms:W3CDTF">2007-07-18T18:37:53Z</dcterms:modified>
  <cp:revision>48</cp:revision>
  <dc:subject/>
  <dc:title>Administración de las Instituciones Diocesanas</dc:title>
</cp:coreProperties>
</file>