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17CB-7BC3-463E-98A2-BA9D295E3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F6C6-E17F-491D-ACD1-5EEA3DE3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6EF3-BF00-443D-A17E-EBD373F49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F08C-5545-4A63-8B16-749742242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95EB-35A3-4823-A348-FB83C5B58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3EEE-568B-42B7-804F-DB1C33CB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7FBA-1C53-4E66-A344-183E9638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97472-5E9A-40D3-8082-EE5ADCE4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15EBE-5C4F-406E-9AB5-CC77350D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983CD-E8CF-41EE-9544-5A9F23B1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D0DB-7689-4EE6-82E4-A3F1C50C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B29D-B237-41AA-98CB-600304F4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8E434-EF03-4567-BD8D-38A007BD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0CBD-74D2-4617-B7B8-422C2DFF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5866-9833-418D-B6B9-00E51EFF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C6F3-31E5-4DF7-B6EC-F6728A053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56892-FA7E-4586-9C05-5E7381380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25E5-2F07-4D24-AD2F-E97647BE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4F74-1F17-4B22-83A7-FFD2B265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64B8-9EE1-49A5-A5DB-A6887AA5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8E8E-1BC7-4EF2-B950-AC600AC0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D8B2-988E-4990-ABE1-E15CE8A8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D91F-2A49-4C4A-9719-1476B87B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133E-9235-4F0B-BC5A-88969264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A767-14D5-4BBE-9A44-AF91BEC6CE0A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6845-6E6D-4C7F-9618-D6E9B4EE7B51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90720" y="2743200"/>
            <a:ext cx="779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 baseline="30000">
                <a:solidFill>
                  <a:srgbClr val="000000"/>
                </a:solidFill>
                <a:latin typeface="Times New Roman"/>
              </a:rPr>
              <a:t>Asociaciones Civiles y Fundacion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560" y="61722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Julio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962520"/>
            <a:ext cx="7620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600" spc="-1" strike="noStrike" baseline="10000">
                <a:solidFill>
                  <a:srgbClr val="000000"/>
                </a:solidFill>
                <a:latin typeface="Tahoma"/>
              </a:rPr>
              <a:t>Control Intern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333399"/>
                </a:solidFill>
                <a:latin typeface="Tahoma"/>
              </a:rPr>
              <a:t>Articulo 378</a:t>
            </a:r>
            <a:br>
              <a:rPr sz="4800"/>
            </a:br>
            <a:r>
              <a:rPr b="0" lang="es-MX" sz="2800" spc="-1" strike="noStrike">
                <a:solidFill>
                  <a:srgbClr val="333399"/>
                </a:solidFill>
                <a:latin typeface="Tahoma"/>
              </a:rPr>
              <a:t>Sancion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2017440"/>
            <a:ext cx="7961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l incumplimiento de lo dispuesto en los articulos anteriores como asi tambien el llevado irregular de los libros y registraciones y el impedimento u obstruccion al acceso a los mismos y a la documentacion social por parte de los asociados y en su caso a integrantes de los organos de administracion y fiscalizacion, haran pasibles a los responsables de la sancion de multa prevista en el articulo 14, inciso c), de la ley N° 22.315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99"/>
                </a:solidFill>
                <a:latin typeface="Tahoma"/>
              </a:rPr>
              <a:t>Ley 22.315 Regimen de la IGJ</a:t>
            </a:r>
            <a:br>
              <a:rPr sz="3600"/>
            </a:br>
            <a:r>
              <a:rPr b="1" lang="es-MX" sz="2000" spc="-1" strike="noStrike">
                <a:solidFill>
                  <a:srgbClr val="333399"/>
                </a:solidFill>
                <a:latin typeface="Tahoma"/>
              </a:rPr>
              <a:t>(31/10/1980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Art. 14 inciso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Las AC y F son pasibles de las siguientes sancione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a) Apercibimiento; b) Apercibimiento con publicacion a cargo del infractor; c) Multa (actualizada semestralmente por el P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Decreto Reglamentario 1493/82 (13/12/198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Art 34 y 35 El cobro judicial de las multas y su intereses tramita por el procedimiento de ejecucion fiscal. Los intereses resarcitorios se liquidan según lo previsto por el art. 42 de la Ley 11.68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333399"/>
                </a:solidFill>
                <a:latin typeface="Tahoma"/>
              </a:rPr>
              <a:t>Bibliografia consulta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Auditoria aplicada” – Enrique Fowler Newton – Ediciones Macch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Auditoria en accion para PYMES” – Pablo David Senderovich – Editorial La Le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Manual de Asociaciones civiles y fundaciones” – Joaquin Conte – Editorial La Le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Responsabilidad del profesional en ciencias economicas” – William Leslie Chapman – Ediciones Macch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Control Interno” – Ruben Oscar Rusenas – Editorial La Le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Nuevas normas de la Inspeccion General de Justicia” – Resolucion IGJ 7/2005 con la modificaciones de la Resolucion (IGJ) 10/2005 – Editorial Errep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00200" y="289548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333399"/>
                </a:solidFill>
                <a:latin typeface="Tahoma"/>
              </a:rPr>
              <a:t>Dr. C.P. Jorge Mick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4341600"/>
            <a:ext cx="693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imes New Roman"/>
              </a:rPr>
              <a:t>Agradece su atenc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76212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333399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rograma de organización y conjunto de metodos y procedimientos coordinados y adoptados por un ente para salvaguardar sus bien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William L. Chapm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junto de elementos, normas y procedimientos destinados a lograr a traves de una efectiva planificacion ejecucion y control, el ejercicio eficiente de la gestion para el logro de los fines de la organizació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. Fowler Newt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99"/>
                </a:solidFill>
                <a:latin typeface="Tahoma"/>
              </a:rPr>
              <a:t>Comparacion del concepto respecto de la auditoria extern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Informe del Auditor (Parte pertinent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es-MX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s-MX" sz="3200" spc="-1" strike="noStrike">
                <a:solidFill>
                  <a:srgbClr val="000000"/>
                </a:solidFill>
                <a:latin typeface="Tahoma"/>
              </a:rPr>
              <a:t>Alcance de la Auditoria:..... Una auditoria incluye examinar sobre bases selectivas los elementos de juicio que respaldan la informacion expuesta en los estados contables y no tiene por objeto detectar delitos o irregularidades intencionales..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333399"/>
                </a:solidFill>
                <a:latin typeface="Tahoma"/>
              </a:rPr>
              <a:t>Conceptos Gener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s funcion y responsabilidad de la Direccion del ente su instalacion o implementacion, la vigilancia de su funcionamiento en forma correcta o eficiente, el detectar los desfasajes de lo que fue predeterminado y, por ultimo, el adaptar al tiempo y circunstncias las politicas, normas y procedimientos que componen dicho sistem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s-MX" sz="2800" spc="-1" strike="noStrike">
                <a:solidFill>
                  <a:srgbClr val="000000"/>
                </a:solidFill>
                <a:latin typeface="Tahoma"/>
              </a:rPr>
              <a:t>Dr. Ruben Oscar Rusen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333399"/>
                </a:solidFill>
                <a:latin typeface="Tahoma"/>
              </a:rPr>
              <a:t>Pautas Basic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3200" spc="-1" strike="noStrike" u="sng">
                <a:solidFill>
                  <a:srgbClr val="000000"/>
                </a:solidFill>
                <a:uFillTx/>
                <a:latin typeface="Tahoma"/>
              </a:rPr>
              <a:t>Separacion de funciones y responsabilida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MX" sz="2800" spc="-1" strike="noStrike">
                <a:solidFill>
                  <a:srgbClr val="333399"/>
                </a:solidFill>
                <a:latin typeface="Tahoma"/>
              </a:rPr>
              <a:t>Ningun individuo de la organización debe realizar – al mismo tiempo – las funciones de: “manejo”, “registro” y “custodia” de bienes, ni siquiera dos de ellas. Cada una de esas funciones las debe realizar una persona distinta, para que exista “oposicion de intereses”, y, por lo tanto, un control mutu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333399"/>
                </a:solidFill>
                <a:latin typeface="Tahoma"/>
              </a:rPr>
              <a:t>Limites del C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Tahoma"/>
              </a:rPr>
              <a:t>Adecuada relacion costo – beneficio del contro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Tahoma"/>
              </a:rPr>
              <a:t>Los controles estaran orientados hacia transacciones operativas de carácter repetitivo y no hacia operaciones excepcionales o unicas, las cuales deben ser controladas mediante medios mas profundos y creados al efe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Tahoma"/>
              </a:rPr>
              <a:t>Atender los errores intencionales, que provocan los seres humanos debido y proveniente de diferentes causas (olvido, cansancio, distraccion, etc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Tahoma"/>
              </a:rPr>
              <a:t>Atender los errores intencionales que provocan fraudes, robos, desfalco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Tahoma"/>
              </a:rPr>
              <a:t>Por colusion se pueden evadir todos los controles y la oposicion de intereses entre la par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85600" y="0"/>
            <a:ext cx="8258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333399"/>
                </a:solidFill>
                <a:latin typeface="Tahoma"/>
              </a:rPr>
              <a:t>Evaluacion del control interno</a:t>
            </a:r>
            <a:br>
              <a:rPr sz="4000"/>
            </a:br>
            <a:r>
              <a:rPr b="0" lang="es-MX" sz="3600" spc="-1" strike="noStrike">
                <a:solidFill>
                  <a:srgbClr val="333399"/>
                </a:solidFill>
                <a:latin typeface="Tahoma"/>
              </a:rPr>
              <a:t>Desarrollo de cuestionario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94920" y="17524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Aspectos generales de la organiz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aja y Banc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redi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uentas a pag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Inversi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Bienes de u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Bienes Intangi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Remuneraciones y cargas soci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revisi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Disposicioes legales y estatutari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rocesamiento electronico de informac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333399"/>
                </a:solidFill>
                <a:latin typeface="Tahoma"/>
              </a:rPr>
              <a:t>Fiscalizacion interna</a:t>
            </a:r>
            <a:br>
              <a:rPr sz="4400"/>
            </a:br>
            <a:r>
              <a:rPr b="1" lang="es-MX" sz="4400" spc="-1" strike="noStrike">
                <a:solidFill>
                  <a:srgbClr val="333399"/>
                </a:solidFill>
                <a:latin typeface="Tahoma"/>
              </a:rPr>
              <a:t>Revisores de cuent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38188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Examinar los libros y documetos de la asociacion por lo menos cada tres meses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Asistir a las sesiones de la comision directiva cuando lo estime convenient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Fiscalizar la administracion, comprobando frecuentemente el estado de la caja y la existencia de los titulos y valores de toda especie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Verificar el cumplimiento de las leyes, estatutos y reglamentos, en especial en lo referente a los derechos de los socios y las condiciones en que se otorgan los beneficios sociales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Dictaminar sobre la memoria, inventario, balance general y cuenta de gastos y recursos presentada por la comision directiva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Convocar asamblea ordinaria cuando omitiere hacerlo la comision directiva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Solicitar la convocatoria de  asamblea extraordinaria cuando lo juzgue necesario, poniendo los antecedentes que fundamenten su pedido en conocimiento de la Inspeccion General de Justicia cuando se negara a acceder a ello la comision directiva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Vigilar las operaciones de liquidacion de la asociacion. El organo de fiscalizacion cuidara de ejercer sus funciones de modo que no entorpezca la regularidad de la dministracion social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Es de sabia practica que los revisores de cuentas dictaminen con alto sentido asociativo y cabal conocimiento de los problemas o asuntos de Asociacion, y sugiriendo o proponiendo las mejoras que a su juicio fueren aconsejables para el progreso de la entidad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333399"/>
                </a:solidFill>
                <a:latin typeface="Tahoma"/>
              </a:rPr>
              <a:t>Resolucion IGJ 7/200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2590560"/>
            <a:ext cx="7772400" cy="29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Arts. 344 a 451 Asociaciones Civiles y Fund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Arts. 372 a 377 Libros y registracion con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Art. 378 San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5T19:42:04Z</dcterms:created>
  <dc:creator>jmicko</dc:creator>
  <dc:description/>
  <dc:language>en-US</dc:language>
  <cp:lastModifiedBy>C.P.C.E.C.A.B.A</cp:lastModifiedBy>
  <cp:lastPrinted>2006-07-13T19:29:35Z</cp:lastPrinted>
  <dcterms:modified xsi:type="dcterms:W3CDTF">2007-07-18T18:37:38Z</dcterms:modified>
  <cp:revision>49</cp:revision>
  <dc:subject/>
  <dc:title>ASPECTOS CONTABLES</dc:title>
</cp:coreProperties>
</file>