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C24-D011-4FAE-856C-3CEBF0A4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967-DE58-47CD-8218-DF238F5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859-44A2-4F2E-B2E6-528CDA4A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D7F-2F7B-4373-8C24-9B28200C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219-40DC-4C1E-819E-84A5D29C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9B6-C87E-4993-8223-FF267751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F6B-7945-48F3-8D6F-3E9120C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0D9-F9DF-4A6F-98F3-5B41F56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996-6BC9-4810-A95B-968D3DD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5C4-4AAF-43D7-A4F6-AAAB97D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BD1-17A3-4571-8F81-76490B1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982-B4BE-4838-A350-E6AA11FE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232-4616-4365-8FC3-571617BA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GOCIACIÓN Y MEDIAC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 LA GESTIÓN DE ADMINISTRADO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PROPIEDAD HORIZO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CEDIMIENTO NO ADVERSA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ORMAL   ESTRUCTU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CESO COMUNI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ISTENCIA DE TERCERO IM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 NEUTRAL Y CONFID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 DE LA MED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EXIBILIDAD, AGILIDAD, CELE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OPERACIÓN Y RESP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FID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UCIDO COS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MINUCIÓN COSTO E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A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UNA NUEV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Arial"/>
              </a:rPr>
              <a:t>Centro de Mediac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iamonte 1461, 3º Piso Fr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0066"/>
              </a:buClr>
              <a:buSzPct val="14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5 382-92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buClr>
                <a:srgbClr val="3333ff"/>
              </a:buClr>
              <a:buSzPct val="110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millan_mediacion@consejo.org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901"/>
              </a:spcBef>
              <a:buClr>
                <a:srgbClr val="3333ff"/>
              </a:buClr>
              <a:buSzPct val="110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ro_mediacion@consejo.org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ww.consejo.org.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GRACIAS PO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SU ATENCIÓ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SIBLES CONFLI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)ADMINISTRADOR UNI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1) ADMINISTRADOR Y S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2) PERSONAL EN RELACIÓN DE DEP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1) EMPLEADOS DEL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2)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3) REUNIONES. CONSEJO. ASAMBL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4) VECINOS DEL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5)ÓRGANOS DE  GOBIERNO. MCBA. AF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) COOPROPIETARIOS. SOCIOS 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BLEMA. CUESTIÓN. MATERIA DE DISCU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O FRENTE A SITUACIÓN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SATISFACCIÓN. DESACU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OLUCIÓN DE CONFLI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5280" y="3137040"/>
            <a:ext cx="8208720" cy="2124000"/>
            <a:chOff x="395280" y="3137040"/>
            <a:chExt cx="8208720" cy="2124000"/>
          </a:xfrm>
        </p:grpSpPr>
        <p:cxnSp>
          <p:nvCxnSpPr>
            <p:cNvPr id="48" name="_s11276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43920" y="3310560"/>
              <a:ext cx="229320" cy="2116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1274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3327480" y="3310200"/>
              <a:ext cx="229320" cy="2117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1270"/>
            <p:cNvSpPr/>
            <p:nvPr/>
          </p:nvSpPr>
          <p:spPr>
            <a:xfrm>
              <a:off x="1640880" y="3137040"/>
              <a:ext cx="5719680" cy="111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1271"/>
            <p:cNvSpPr/>
            <p:nvPr/>
          </p:nvSpPr>
          <p:spPr>
            <a:xfrm>
              <a:off x="395280" y="4483440"/>
              <a:ext cx="3977280" cy="777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Arial"/>
                </a:rPr>
                <a:t>FACILIT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1273"/>
            <p:cNvSpPr/>
            <p:nvPr/>
          </p:nvSpPr>
          <p:spPr>
            <a:xfrm>
              <a:off x="4627080" y="4483440"/>
              <a:ext cx="3976920" cy="777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000" spc="-1" strike="noStrike">
                  <a:solidFill>
                    <a:srgbClr val="000000"/>
                  </a:solidFill>
                  <a:latin typeface="Arial"/>
                </a:rPr>
                <a:t>MEDI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UERDO DE PARTES (REL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TISFACER INTER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DE NEGO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) NEGOCIACIÓN DISTRIBU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MPET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NAR-P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) NEGOCIACIÓN INTEG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OOPER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ANAR- GA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IOS EN LA NEGOC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CIÓN EFIC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DE PARTES (EMPAT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R 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CIBIR PODER O LIDERAZ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IL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 COMUNIC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UIA EL DIÁLOGO EN FORMA NEU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IENE EL INTERCAMBIO DE INFORMACIÓN FOCALIZANDO A LOS OBJETIVOS FIJ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RACTERÍSTICAS FACILITAD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RCERO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UIA AL DIÁLOGO FOCALIZADO A LOS OBJETIVOS PRO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AL SERVICIO DEL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TOMA DECISIONES. ACTÚA COMO LA MEMORIA DEL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2:40:58Z</dcterms:created>
  <dc:creator>carlos</dc:creator>
  <dc:description/>
  <dc:language>en-US</dc:language>
  <cp:lastModifiedBy>C.P.C.E.C.A.B.A.</cp:lastModifiedBy>
  <dcterms:modified xsi:type="dcterms:W3CDTF">2006-12-04T20:41:04Z</dcterms:modified>
  <cp:revision>15</cp:revision>
  <dc:subject/>
  <dc:title>Diapositiva 1</dc:title>
</cp:coreProperties>
</file>