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6F7-66F5-4113-B543-015F4478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F34-F968-485B-8006-1DFBE95E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603-B936-4F35-A4C8-5F31E9E5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AFF-C2D0-4E06-8691-43EEC54E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C63-9DE4-4210-8AA4-50C7050C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54E-700D-4770-A11B-BFA10856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ADA-702A-4627-B3D7-4E1F82EB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DA8-899F-4753-AC3D-8E02D610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607-4195-443C-8D43-E9613187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C10-FE3B-4244-A065-0D3DEC8D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B86-E441-48FB-9694-82C9E34E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805-0597-4D15-99D0-0ACC7487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95"/>
            </a:gs>
            <a:gs pos="50000">
              <a:srgbClr val="ffffcc"/>
            </a:gs>
            <a:gs pos="100000">
              <a:srgbClr val="bab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B613-D1ED-4A19-868A-F438E28E8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95"/>
            </a:gs>
            <a:gs pos="50000">
              <a:srgbClr val="ffffcc"/>
            </a:gs>
            <a:gs pos="100000">
              <a:srgbClr val="bab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2840" y="5408640"/>
            <a:ext cx="2355480" cy="45972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IEMB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1295280"/>
            <a:ext cx="8610480" cy="2819520"/>
            <a:chOff x="304920" y="1295280"/>
            <a:chExt cx="8610480" cy="2819520"/>
          </a:xfrm>
        </p:grpSpPr>
        <p:sp>
          <p:nvSpPr>
            <p:cNvPr id="43" name=""/>
            <p:cNvSpPr/>
            <p:nvPr/>
          </p:nvSpPr>
          <p:spPr>
            <a:xfrm>
              <a:off x="304920" y="1295280"/>
              <a:ext cx="8610480" cy="2819520"/>
            </a:xfrm>
            <a:prstGeom prst="rect">
              <a:avLst/>
            </a:prstGeom>
            <a:gradFill rotWithShape="0">
              <a:gsLst>
                <a:gs pos="0">
                  <a:srgbClr val="218585"/>
                </a:gs>
                <a:gs pos="50000">
                  <a:srgbClr val="33cccc"/>
                </a:gs>
                <a:gs pos="100000">
                  <a:srgbClr val="21858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IDEICOMISOS  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NMOBILIARIO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7200" y="3886200"/>
              <a:ext cx="8381880" cy="152280"/>
            </a:xfrm>
            <a:prstGeom prst="rect">
              <a:avLst/>
            </a:prstGeom>
            <a:solidFill>
              <a:srgbClr val="ff66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" y="1371600"/>
              <a:ext cx="8381880" cy="152280"/>
            </a:xfrm>
            <a:prstGeom prst="rect">
              <a:avLst/>
            </a:prstGeom>
            <a:solidFill>
              <a:srgbClr val="ff66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95"/>
            </a:gs>
            <a:gs pos="50000">
              <a:srgbClr val="ffffcc"/>
            </a:gs>
            <a:gs pos="100000">
              <a:srgbClr val="bab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gradFill rotWithShape="0">
            <a:gsLst>
              <a:gs pos="0">
                <a:srgbClr val="218585"/>
              </a:gs>
              <a:gs pos="50000">
                <a:srgbClr val="33cccc"/>
              </a:gs>
              <a:gs pos="100000">
                <a:srgbClr val="2185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142280"/>
            <a:ext cx="7619760" cy="5814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spcBef>
                <a:spcPts val="2001"/>
              </a:spcBef>
              <a:buClr>
                <a:srgbClr val="ff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CTAMEN 18/06 (DAT, 16/3/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14400" y="2493360"/>
            <a:ext cx="6858000" cy="2489040"/>
            <a:chOff x="914400" y="2493360"/>
            <a:chExt cx="6858000" cy="2489040"/>
          </a:xfrm>
        </p:grpSpPr>
        <p:sp>
          <p:nvSpPr>
            <p:cNvPr id="108" name=""/>
            <p:cNvSpPr/>
            <p:nvPr/>
          </p:nvSpPr>
          <p:spPr>
            <a:xfrm>
              <a:off x="914400" y="2493360"/>
              <a:ext cx="6858000" cy="248904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DEICOMISO QUE CONSTRUYE Y ADJUDICA A LOS FUDICIA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.V.A.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RAVADO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O EMPRESA COSTRUCT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365760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66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95"/>
            </a:gs>
            <a:gs pos="50000">
              <a:srgbClr val="ffffcc"/>
            </a:gs>
            <a:gs pos="100000">
              <a:srgbClr val="bab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380880"/>
            <a:ext cx="8610480" cy="6172200"/>
          </a:xfrm>
          <a:prstGeom prst="rect">
            <a:avLst/>
          </a:prstGeom>
          <a:gradFill rotWithShape="0">
            <a:gsLst>
              <a:gs pos="0">
                <a:srgbClr val="218585"/>
              </a:gs>
              <a:gs pos="50000">
                <a:srgbClr val="33cccc"/>
              </a:gs>
              <a:gs pos="100000">
                <a:srgbClr val="21858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70680"/>
            <a:ext cx="2514600" cy="43524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DUCI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2253960"/>
            <a:ext cx="2438640" cy="33768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DEICOMI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1066320"/>
            <a:ext cx="2209680" cy="33768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1596240"/>
            <a:ext cx="2133360" cy="38628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DUC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3732840"/>
            <a:ext cx="1295280" cy="49608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342680"/>
            <a:ext cx="327672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4907520"/>
            <a:ext cx="1371600" cy="49608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580920"/>
            <a:ext cx="2590920" cy="33768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4038120"/>
            <a:ext cx="2590920" cy="33768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855680"/>
            <a:ext cx="2590920" cy="33768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 GARANT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5365440"/>
            <a:ext cx="2971800" cy="33768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 ADMINIS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16002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66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198400">
            <a:off x="5486400" y="1218960"/>
            <a:ext cx="838080" cy="180720"/>
          </a:xfrm>
          <a:prstGeom prst="rightArrow">
            <a:avLst>
              <a:gd name="adj1" fmla="val 50000"/>
              <a:gd name="adj2" fmla="val 115936"/>
            </a:avLst>
          </a:prstGeom>
          <a:solidFill>
            <a:srgbClr val="ff66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203600">
            <a:off x="5486400" y="2180880"/>
            <a:ext cx="838080" cy="181080"/>
          </a:xfrm>
          <a:prstGeom prst="rightArrow">
            <a:avLst>
              <a:gd name="adj1" fmla="val 50000"/>
              <a:gd name="adj2" fmla="val 115706"/>
            </a:avLst>
          </a:prstGeom>
          <a:solidFill>
            <a:srgbClr val="ff66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4832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0198400">
            <a:off x="3016080" y="3890520"/>
            <a:ext cx="838440" cy="333360"/>
          </a:xfrm>
          <a:prstGeom prst="rightArrow">
            <a:avLst>
              <a:gd name="adj1" fmla="val 50000"/>
              <a:gd name="adj2" fmla="val 62878"/>
            </a:avLst>
          </a:prstGeom>
          <a:solidFill>
            <a:srgbClr val="ff66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203600">
            <a:off x="2971800" y="4950000"/>
            <a:ext cx="838080" cy="309240"/>
          </a:xfrm>
          <a:prstGeom prst="rightArrow">
            <a:avLst>
              <a:gd name="adj1" fmla="val 50000"/>
              <a:gd name="adj2" fmla="val 67753"/>
            </a:avLst>
          </a:prstGeom>
          <a:solidFill>
            <a:srgbClr val="ff66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6133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95"/>
            </a:gs>
            <a:gs pos="50000">
              <a:srgbClr val="ffffcc"/>
            </a:gs>
            <a:gs pos="100000">
              <a:srgbClr val="bab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04920"/>
            <a:ext cx="8534520" cy="6172200"/>
          </a:xfrm>
          <a:prstGeom prst="rect">
            <a:avLst/>
          </a:prstGeom>
          <a:gradFill rotWithShape="0">
            <a:gsLst>
              <a:gs pos="0">
                <a:srgbClr val="218585"/>
              </a:gs>
              <a:gs pos="50000">
                <a:srgbClr val="33cccc"/>
              </a:gs>
              <a:gs pos="100000">
                <a:srgbClr val="2185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56480"/>
            <a:ext cx="64767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DEICOMISOS NO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33520" y="1132560"/>
            <a:ext cx="8229600" cy="1606680"/>
            <a:chOff x="533520" y="1132560"/>
            <a:chExt cx="8229600" cy="1606680"/>
          </a:xfrm>
        </p:grpSpPr>
        <p:sp>
          <p:nvSpPr>
            <p:cNvPr id="68" name=""/>
            <p:cNvSpPr/>
            <p:nvPr/>
          </p:nvSpPr>
          <p:spPr>
            <a:xfrm>
              <a:off x="533520" y="1132560"/>
              <a:ext cx="8229600" cy="16066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90440" indent="-190440">
                <a:spcBef>
                  <a:spcPts val="1250"/>
                </a:spcBef>
                <a:buClr>
                  <a:srgbClr val="ff6699"/>
                </a:buClr>
                <a:buSzPct val="12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DE GARANTÍA          INEXISTENCIA DE GESTIÓN EMPRES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O SE INSCRIBEN EN LA DGI (Dict. 19/03 DA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IMPUESTO A LA GCIA. MÍNIMA PRESUNTA (Dict. 17/04 D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66880" y="118116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66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3044160"/>
            <a:ext cx="8229600" cy="984240"/>
            <a:chOff x="533520" y="3044160"/>
            <a:chExt cx="8229600" cy="984240"/>
          </a:xfrm>
        </p:grpSpPr>
        <p:sp>
          <p:nvSpPr>
            <p:cNvPr id="71" name=""/>
            <p:cNvSpPr/>
            <p:nvPr/>
          </p:nvSpPr>
          <p:spPr>
            <a:xfrm>
              <a:off x="533520" y="3044160"/>
              <a:ext cx="8229600" cy="98424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90440" indent="-190440">
                <a:spcBef>
                  <a:spcPts val="1250"/>
                </a:spcBef>
                <a:buClr>
                  <a:srgbClr val="ff6699"/>
                </a:buClr>
                <a:buSzPct val="12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 ADMINISTRACIÓN             GESTIÓN EMPRESARIA CON   OBJETIVOS ECONÓMI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33920" y="3086280"/>
              <a:ext cx="533160" cy="304560"/>
            </a:xfrm>
            <a:prstGeom prst="rightArrow">
              <a:avLst>
                <a:gd name="adj1" fmla="val 50000"/>
                <a:gd name="adj2" fmla="val 43765"/>
              </a:avLst>
            </a:prstGeom>
            <a:solidFill>
              <a:srgbClr val="ff66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33520" y="4257000"/>
            <a:ext cx="8229600" cy="19159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62120" indent="-3812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TAMIENTO FISC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381240">
              <a:lnSpc>
                <a:spcPct val="70000"/>
              </a:lnSpc>
              <a:spcBef>
                <a:spcPts val="1001"/>
              </a:spcBef>
              <a:buClr>
                <a:srgbClr val="ff66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UESTO A LAS GANA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381240">
              <a:lnSpc>
                <a:spcPct val="70000"/>
              </a:lnSpc>
              <a:spcBef>
                <a:spcPts val="1001"/>
              </a:spcBef>
              <a:buClr>
                <a:srgbClr val="ff66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. A LA GANANCIA MÍNIMA PRESU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381240">
              <a:lnSpc>
                <a:spcPct val="70000"/>
              </a:lnSpc>
              <a:spcBef>
                <a:spcPts val="1001"/>
              </a:spcBef>
              <a:buClr>
                <a:srgbClr val="ff66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. SOBRE LOS BIENES PERS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381240">
              <a:lnSpc>
                <a:spcPct val="70000"/>
              </a:lnSpc>
              <a:spcBef>
                <a:spcPts val="1001"/>
              </a:spcBef>
              <a:buClr>
                <a:srgbClr val="ff66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. AL VALOR AGRE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381240">
              <a:lnSpc>
                <a:spcPct val="70000"/>
              </a:lnSpc>
              <a:spcBef>
                <a:spcPts val="1001"/>
              </a:spcBef>
              <a:buClr>
                <a:srgbClr val="ff66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. A LA TRANSF. DE IN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95"/>
            </a:gs>
            <a:gs pos="50000">
              <a:srgbClr val="ffffcc"/>
            </a:gs>
            <a:gs pos="100000">
              <a:srgbClr val="bab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gradFill rotWithShape="0">
            <a:gsLst>
              <a:gs pos="0">
                <a:srgbClr val="218585"/>
              </a:gs>
              <a:gs pos="50000">
                <a:srgbClr val="33cccc"/>
              </a:gs>
              <a:gs pos="100000">
                <a:srgbClr val="2185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770400"/>
            <a:ext cx="7619760" cy="1323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spcBef>
                <a:spcPts val="2001"/>
              </a:spcBef>
              <a:buClr>
                <a:srgbClr val="ff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CTAMEN 17/04 (DAT, 24/2/0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2001"/>
              </a:spcBef>
              <a:buClr>
                <a:srgbClr val="ff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CTAMEN 60/05 (DAT, 23/9/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14400" y="2939040"/>
            <a:ext cx="7010280" cy="1945440"/>
            <a:chOff x="914400" y="2939040"/>
            <a:chExt cx="7010280" cy="1945440"/>
          </a:xfrm>
        </p:grpSpPr>
        <p:sp>
          <p:nvSpPr>
            <p:cNvPr id="77" name=""/>
            <p:cNvSpPr/>
            <p:nvPr/>
          </p:nvSpPr>
          <p:spPr>
            <a:xfrm>
              <a:off x="914400" y="2939040"/>
              <a:ext cx="7010280" cy="194544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76280"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DEICOMISO EN GARANTÍ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.G.M.P.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RAV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.B.B.P.P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NO ALCANZ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29000" y="38098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66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29000" y="4495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66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95"/>
            </a:gs>
            <a:gs pos="50000">
              <a:srgbClr val="ffffcc"/>
            </a:gs>
            <a:gs pos="100000">
              <a:srgbClr val="bab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gradFill rotWithShape="0">
            <a:gsLst>
              <a:gs pos="0">
                <a:srgbClr val="218585"/>
              </a:gs>
              <a:gs pos="50000">
                <a:srgbClr val="33cccc"/>
              </a:gs>
              <a:gs pos="100000">
                <a:srgbClr val="2185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142280"/>
            <a:ext cx="7619760" cy="5814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spcBef>
                <a:spcPts val="2001"/>
              </a:spcBef>
              <a:buClr>
                <a:srgbClr val="ff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CTAMEN 15/06 (DAT, 22/2/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14400" y="2666520"/>
            <a:ext cx="6858000" cy="1723320"/>
            <a:chOff x="914400" y="2666520"/>
            <a:chExt cx="6858000" cy="1723320"/>
          </a:xfrm>
        </p:grpSpPr>
        <p:sp>
          <p:nvSpPr>
            <p:cNvPr id="83" name=""/>
            <p:cNvSpPr/>
            <p:nvPr/>
          </p:nvSpPr>
          <p:spPr>
            <a:xfrm>
              <a:off x="914400" y="2666520"/>
              <a:ext cx="6858000" cy="17233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DEICOMISO DE GARANTÍA  DE “CONSORCIO AL COSTO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.G.M.P.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RAV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29000" y="396252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ff66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95"/>
            </a:gs>
            <a:gs pos="50000">
              <a:srgbClr val="ffffcc"/>
            </a:gs>
            <a:gs pos="100000">
              <a:srgbClr val="bab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gradFill rotWithShape="0">
            <a:gsLst>
              <a:gs pos="0">
                <a:srgbClr val="218585"/>
              </a:gs>
              <a:gs pos="50000">
                <a:srgbClr val="33cccc"/>
              </a:gs>
              <a:gs pos="100000">
                <a:srgbClr val="2185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142280"/>
            <a:ext cx="7619760" cy="5814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spcBef>
                <a:spcPts val="2001"/>
              </a:spcBef>
              <a:buClr>
                <a:srgbClr val="ff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CTAMEN 13/06 (DAT, 7/2/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883240"/>
            <a:ext cx="6858000" cy="128844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O I.G.M.P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O PAGO A CUENTA EN 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95"/>
            </a:gs>
            <a:gs pos="50000">
              <a:srgbClr val="ffffcc"/>
            </a:gs>
            <a:gs pos="100000">
              <a:srgbClr val="bab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gradFill rotWithShape="0">
            <a:gsLst>
              <a:gs pos="0">
                <a:srgbClr val="218585"/>
              </a:gs>
              <a:gs pos="50000">
                <a:srgbClr val="33cccc"/>
              </a:gs>
              <a:gs pos="100000">
                <a:srgbClr val="2185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140480"/>
            <a:ext cx="7619760" cy="5814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spcBef>
                <a:spcPts val="2001"/>
              </a:spcBef>
              <a:buClr>
                <a:srgbClr val="ff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CTAMEN 3/05 (DAT, 17/10/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4400" y="2281680"/>
            <a:ext cx="7010280" cy="3259800"/>
            <a:chOff x="914400" y="2281680"/>
            <a:chExt cx="7010280" cy="3259800"/>
          </a:xfrm>
        </p:grpSpPr>
        <p:sp>
          <p:nvSpPr>
            <p:cNvPr id="91" name=""/>
            <p:cNvSpPr/>
            <p:nvPr/>
          </p:nvSpPr>
          <p:spPr>
            <a:xfrm>
              <a:off x="914400" y="2281680"/>
              <a:ext cx="7010280" cy="325980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76280"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ENTA DE LOTES + ACCI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REALIDAD ECONÓMIC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.V.A.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RAV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.G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419112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ff66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62520" y="487692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ff66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95"/>
            </a:gs>
            <a:gs pos="50000">
              <a:srgbClr val="ffffcc"/>
            </a:gs>
            <a:gs pos="100000">
              <a:srgbClr val="bab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380880"/>
            <a:ext cx="8534160" cy="6172200"/>
          </a:xfrm>
          <a:prstGeom prst="rect">
            <a:avLst/>
          </a:prstGeom>
          <a:gradFill rotWithShape="0">
            <a:gsLst>
              <a:gs pos="0">
                <a:srgbClr val="218585"/>
              </a:gs>
              <a:gs pos="50000">
                <a:srgbClr val="33cccc"/>
              </a:gs>
              <a:gs pos="100000">
                <a:srgbClr val="2185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140480"/>
            <a:ext cx="7619760" cy="5814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spcBef>
                <a:spcPts val="2001"/>
              </a:spcBef>
              <a:buClr>
                <a:srgbClr val="ff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CTAMEN 55/05 (DAT, 26/9/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14400" y="2194920"/>
            <a:ext cx="7010280" cy="3423960"/>
            <a:chOff x="914400" y="2194920"/>
            <a:chExt cx="7010280" cy="3423960"/>
          </a:xfrm>
        </p:grpSpPr>
        <p:sp>
          <p:nvSpPr>
            <p:cNvPr id="97" name=""/>
            <p:cNvSpPr/>
            <p:nvPr/>
          </p:nvSpPr>
          <p:spPr>
            <a:xfrm>
              <a:off x="914400" y="2194920"/>
              <a:ext cx="7010280" cy="342396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5400"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400"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TRANSFERENCIA DE INMUEBLE A FIDEICOMISO CON POSTERIOR ADJUDICACIÓN DE BIE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400"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CARÁCTER ONEROS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400" algn="just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A LA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 TRANSF.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 INM            GRAV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400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I.G.                            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29200" y="4572000"/>
              <a:ext cx="838080" cy="304920"/>
            </a:xfrm>
            <a:prstGeom prst="rightArrow">
              <a:avLst>
                <a:gd name="adj1" fmla="val 50000"/>
                <a:gd name="adj2" fmla="val 68713"/>
              </a:avLst>
            </a:prstGeom>
            <a:solidFill>
              <a:srgbClr val="ff66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9200" y="5181480"/>
              <a:ext cx="838080" cy="304920"/>
            </a:xfrm>
            <a:prstGeom prst="rightArrow">
              <a:avLst>
                <a:gd name="adj1" fmla="val 50000"/>
                <a:gd name="adj2" fmla="val 68713"/>
              </a:avLst>
            </a:prstGeom>
            <a:solidFill>
              <a:srgbClr val="ff66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a95"/>
            </a:gs>
            <a:gs pos="50000">
              <a:srgbClr val="ffffcc"/>
            </a:gs>
            <a:gs pos="100000">
              <a:srgbClr val="bab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gradFill rotWithShape="0">
            <a:gsLst>
              <a:gs pos="0">
                <a:srgbClr val="218585"/>
              </a:gs>
              <a:gs pos="50000">
                <a:srgbClr val="33cccc"/>
              </a:gs>
              <a:gs pos="100000">
                <a:srgbClr val="2185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142280"/>
            <a:ext cx="7619760" cy="5814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spcBef>
                <a:spcPts val="2001"/>
              </a:spcBef>
              <a:buClr>
                <a:srgbClr val="ff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CTAMEN 16/06 (DAT, 28/2/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14400" y="2493360"/>
            <a:ext cx="6858000" cy="2489040"/>
            <a:chOff x="914400" y="2493360"/>
            <a:chExt cx="6858000" cy="2489040"/>
          </a:xfrm>
        </p:grpSpPr>
        <p:sp>
          <p:nvSpPr>
            <p:cNvPr id="103" name=""/>
            <p:cNvSpPr/>
            <p:nvPr/>
          </p:nvSpPr>
          <p:spPr>
            <a:xfrm>
              <a:off x="914400" y="2493360"/>
              <a:ext cx="6858000" cy="248904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DEICOMISO QUE CONSTRUYE Y ADJUDICA A LOS FUDICIA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.V.A.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RAVADO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O EMPRESA COSTRUCT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6720" y="365760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66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20:11:39Z</dcterms:created>
  <dc:creator>Peña, Freytes &amp; Asociados</dc:creator>
  <dc:description/>
  <dc:language>en-US</dc:language>
  <cp:lastModifiedBy>Miriam</cp:lastModifiedBy>
  <cp:lastPrinted>2004-05-26T19:07:27Z</cp:lastPrinted>
  <dcterms:modified xsi:type="dcterms:W3CDTF">2006-11-21T16:14:11Z</dcterms:modified>
  <cp:revision>62</cp:revision>
  <dc:subject/>
  <dc:title>Sin título de diapositiva</dc:title>
</cp:coreProperties>
</file>