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19925" cy="12052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A636-643F-4C9D-B990-50CC6899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93B-F8C0-48EE-B455-A133081C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388-1E8F-4D77-BE65-CD0E2CE1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700-BDD2-452F-B0E0-E076292E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84A-C956-412C-86C0-A60A0915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37B-4490-4C8F-AABE-EE935972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03F-3708-44B1-9A24-CEDC30B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5C2-F386-4802-8670-0E5C2A2B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AA5-CFA8-4CE7-B139-09102BFE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A57-CEE1-49CC-88EA-499ADDB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2E6-EA9A-4E58-9A47-F87127C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B2A-E749-4AD7-A31B-A0A4D6E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CDBE-2DC4-483B-9E95-5A94DD4B6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066680"/>
            <a:ext cx="7239240" cy="3657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447920"/>
            <a:ext cx="647712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Arial Black"/>
              </a:rPr>
              <a:t>CLUBES DE CA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Arial Black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Arial Black"/>
              </a:rPr>
              <a:t>BARRIOS CER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627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ra. María del Pilar Hernánd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2920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PCECA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588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unión del 21/11/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838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FUNCIONAMIENTO DEL 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9810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ISTINTAS FORMAS JURÍD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048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orcios (Régimen Ley 135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ciedades Anó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5029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ones Civiles y S.A. sin fines 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9144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INCIDENCIA DE LOS DISTINTOS IM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3657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895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 mínima pres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4419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s. Pers. – Acc. y Par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IMPUESTO A LOS B. PERSONALES (A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828800"/>
            <a:ext cx="8001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ANTECEDENTES LEG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y 23966 (ley de bienes pers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y 25585 (imp. s/ las acciones en cabeza socie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. 988/2003 (det. los Responsables Sustit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. 1497/2003 (normas complementa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a Externa nº 5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105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INCIDENCIA SOBRE LAS INSTITUCION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715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IMPLEMENTACIO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00"/>
                </a:solidFill>
                <a:latin typeface="Arial"/>
              </a:rPr>
              <a:t>EXPE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81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TRATAMIENT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2590920"/>
            <a:ext cx="5791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EYES DE FO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y 13512 (Propiedad Horizo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ódigo Civil : Servidumbre Pre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fr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830840"/>
            <a:ext cx="5790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EYES PROVIN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9404/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27/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1905120"/>
            <a:ext cx="4648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inarias y extraordin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914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971800"/>
            <a:ext cx="4648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um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9625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por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4724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nets depor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1600200"/>
            <a:ext cx="678204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y 135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égimen Decreto 9404/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EXIGIBILIDAD EXPE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PROCEDIMIENTO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143000"/>
            <a:ext cx="33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º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1752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centual de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438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 porcen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048120"/>
            <a:ext cx="33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órmulas polinóm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886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DATOS PARA LIQU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648320"/>
            <a:ext cx="33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 pag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143000" y="228600"/>
          <a:ext cx="670572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28600"/>
                    <a:ext cx="6705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523880" y="685800"/>
          <a:ext cx="624852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685800"/>
                    <a:ext cx="6248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600200" y="1600200"/>
          <a:ext cx="5867280" cy="2362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5867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6858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5909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IMPORTANCIA D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505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SPECTO ECON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4267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imiento num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5029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gnitud de fo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5791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52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CONCEPTUALIZACIÓN DE LOS M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057400" y="304920"/>
          <a:ext cx="5334120" cy="655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04920"/>
                    <a:ext cx="533412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990720"/>
            <a:ext cx="83822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00"/>
                </a:solidFill>
                <a:latin typeface="Arial"/>
              </a:rPr>
              <a:t>PROBLEMAS REGISTRACION CO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or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38098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ones civ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45720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ciedades Anó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057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lances y liquidaciones de expe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133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ación de puesto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8954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ción 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6576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ón con el e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419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lanc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990720"/>
            <a:ext cx="83822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00"/>
                </a:solidFill>
                <a:latin typeface="Arial"/>
              </a:rPr>
              <a:t>ASPEC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304920"/>
            <a:ext cx="9144000" cy="78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IBLIOGRAFIA  RECOMEND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HERNÁNDEZ, MARÍA DEL PILAR: “Countries Barrios Cerrados y otros emprendimientos” - Editorial la Ley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COLMAN LERNER, HORACIO: “ Countries y barrios cerrados: lo que el comprador debe sabe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ACQUARONE, MARIS T.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Las nuevas urbanizaciones y aspectos del tiempo compartido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Ley 1351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Codigo Civil (art 2506- 2507y 2663 – 2673 – 2807 y 2808 – 2970 y 297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ecreto 2489/63 (Bs. As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Ley 8912/77 (Bs. As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ecreto 9404/87 (Bs. As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ec. 27/98 (Bs. As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ec. 1727/2002 (Bs. As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ec. 947/2004 (Bs. As.)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María del Pilar Hernández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Countries y Barrios Cerrados: Encuadre Legal”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  Revista Enfoques Oct 2005 – Editorial La 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DE REINA TARTIERE: “ Las denominadas nuevas formas de dominio: revisión conceptual y perspectivas futuras” Editorial El Derecho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Codigo Civil (art 2970 – 3022 y 3023 –  2807- 2883 y 28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María del Pilar Hernández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Countries y Barrios Cerrados. Las expensas: consideraciones puntuales”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  Revista Enfoques Agosto  2004 – Editorial La 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María del Pilar Hernández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Countries y Barrios Cerrados. Incidencia del impuesto sobre los Bienes Personales aplicable a Acciones y Participaciones”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  Revista Impuestos Noviembre  2005 – Editorial La 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María del Pilar Hernández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Countries y Barrios Cerrados. Temas puntuales”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  Revista Enfoques Diciembre 2003 – Editorial La 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María del Pilar Hernández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Countries y Barrios Cerrados. Balance Social: algunas aproximaciones”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  Revista Enfoques Enero 2006 – Editorial La 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Capital Social: Elemento insustituible para el progreso de la Nación”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IDEA Nov. 2001 -</a:t>
            </a:r>
            <a:r>
              <a:rPr b="0" lang="es-ES_tradnl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El Balance Social: un enfoque integral”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 IDEA Nov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minución prestaciones por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752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o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514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dad comercial, educación, salud, transporte, espar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6576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vienda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9760" y="304920"/>
            <a:ext cx="48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tación servicios de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4956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FUND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nueva filosofía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85800"/>
            <a:ext cx="83822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Arial"/>
              </a:rPr>
              <a:t>ENCUADRE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21337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EY 13512 PROPIEDAD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3352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echo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LEGISLACION DE FONDO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886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echos reales : numero clau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743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ISPOSICIONES DEL CO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4197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MINIO Y 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5029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FR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55627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DU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6095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PROYECTOS DE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UENOS 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905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2489/63 (reglamentario ley 135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335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LEGISLACION PROVI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4382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y 8912 de 1977 (Uso de sue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2971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9404/87 (reglamentario Clubes de Cam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505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. 74/97 (Barrios Cerr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0384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27/98 (ratificatorio anteri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5720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1727/2002 (Descentralización aprobación a Municip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4864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947/2004 (mod. 2489/6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6858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ANTA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219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963/85 (reglamentario ley 135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807/90 (valuación terreno y mej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2096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nza 144/98 Mun. de F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6668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nza 271/98  Mun. de Rold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962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nza 8606/91 (Urbanización Residencial Espe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3429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RD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029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IO 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5562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 3464/97 (Régimen de Consorcio Parcel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914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NEUQU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5238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reto 313/82 (Adopta art 64/69 del Dec 8912/77 Bs. A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505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ncuadramiento por PH está expresamente den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895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UC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724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51814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y 5602 d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6858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00"/>
                </a:solidFill>
                <a:latin typeface="Arial"/>
              </a:rPr>
              <a:t>ASPECTOS  IMPOS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752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DESARROLLO DEL 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6668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ISTINTAS FORMAS JURÍD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égimen Ley 135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11480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267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* P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* Comb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715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égimen Decreto 9404/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429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racterísticas: Lotes y espacios com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500"/>
                            </p:stCondLst>
                            <p:childTnLst>
                              <p:par>
                                <p:cTn id="3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9144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INCIDENCIA DE LOS DISTINTOS IM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581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419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s. Pers. – Acc. y pa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743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 mínima pres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05:47Z</dcterms:created>
  <dc:creator>JonMMx 2000</dc:creator>
  <dc:description/>
  <dc:language>en-US</dc:language>
  <cp:lastModifiedBy>C.P.C.E.C.A.B.A.</cp:lastModifiedBy>
  <dcterms:modified xsi:type="dcterms:W3CDTF">2006-11-22T20:41:09Z</dcterms:modified>
  <cp:revision>102</cp:revision>
  <dc:subject/>
  <dc:title>Sin título de diapositiva</dc:title>
</cp:coreProperties>
</file>