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920" y="40568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56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616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792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616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796A-7210-4983-925E-A03BDCBAF9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7920" y="1585440"/>
            <a:ext cx="83948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97EF-5530-4E48-891D-D625BEC43B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83948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54D3-E09E-4449-98B0-E23094EC27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1298-9096-4074-85B7-1C197C866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EF06-3ACD-40F1-8EC9-98557121E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839160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0F4E-97B2-4E5F-803B-CA945149C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310-62A7-4E68-AB7C-9C7CBAB3D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7920" y="1585440"/>
            <a:ext cx="83948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56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9DAA-5D26-43B1-BE79-238B246BD8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A84E-D5FA-4B7A-9719-BA372AE201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920" y="40568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FD90-559D-40DB-9052-8C6717B192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56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3E7B-826E-4056-B3BE-F1A1AD94C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616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5854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792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616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4056840"/>
            <a:ext cx="270288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3F00-E37C-4C14-97A9-B4DEF4969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83948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68280" y="358560"/>
            <a:ext cx="839160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560" y="40568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792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560" y="1585440"/>
            <a:ext cx="40964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7920" y="4056840"/>
            <a:ext cx="839484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1585440"/>
            <a:ext cx="839484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11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1100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11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11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11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11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11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63600" y="374760"/>
            <a:ext cx="1800000" cy="361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FE6-6698-4A57-B7B9-6809324C34B4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9960" y="6267600"/>
            <a:ext cx="428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Auditorí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onsultorí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orporate Fin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9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550"/>
              </a:spcAft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5" marL="95256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6" marL="95256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7120" y="1638360"/>
            <a:ext cx="8383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Implementación de las regulaciones sobre control interno</a:t>
            </a:r>
            <a:r>
              <a:rPr b="0" lang="en-GB" sz="7200" spc="-1" strike="noStrike">
                <a:solidFill>
                  <a:srgbClr val="9cd1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9960" y="5954760"/>
            <a:ext cx="1800360" cy="36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8280" y="3843360"/>
            <a:ext cx="5399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viembre,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960" y="6267600"/>
            <a:ext cx="428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Auditorí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onsultorí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orporate Financ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3280" y="2111400"/>
            <a:ext cx="3616560" cy="3666960"/>
          </a:xfrm>
          <a:prstGeom prst="rect">
            <a:avLst/>
          </a:prstGeom>
          <a:solidFill>
            <a:srgbClr val="ddd2b5">
              <a:alpha val="31000"/>
            </a:srgbClr>
          </a:solidFill>
          <a:ln cap="rnd" w="1260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Modelo de control interno a utilizar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009880" y="1057320"/>
            <a:ext cx="52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66"/>
                </a:solidFill>
                <a:uFillTx/>
                <a:latin typeface="Verdana"/>
              </a:rPr>
              <a:t>C</a:t>
            </a:r>
            <a:r>
              <a:rPr b="1" lang="es-AR" sz="1400" spc="-1" strike="noStrike">
                <a:solidFill>
                  <a:srgbClr val="000066"/>
                </a:solidFill>
                <a:latin typeface="Verdana"/>
              </a:rPr>
              <a:t>OMMITTEE </a:t>
            </a:r>
            <a:r>
              <a:rPr b="0" lang="es-AR" sz="1600" spc="-1" strike="noStrike" u="sng">
                <a:solidFill>
                  <a:srgbClr val="000066"/>
                </a:solidFill>
                <a:uFillTx/>
                <a:latin typeface="Verdana"/>
              </a:rPr>
              <a:t>O</a:t>
            </a:r>
            <a:r>
              <a:rPr b="1" lang="es-AR" sz="1400" spc="-1" strike="noStrike">
                <a:solidFill>
                  <a:srgbClr val="000066"/>
                </a:solidFill>
                <a:latin typeface="Verdana"/>
              </a:rPr>
              <a:t>F </a:t>
            </a:r>
            <a:r>
              <a:rPr b="0" lang="es-AR" sz="1600" spc="-1" strike="noStrike" u="sng">
                <a:solidFill>
                  <a:srgbClr val="000066"/>
                </a:solidFill>
                <a:uFillTx/>
                <a:latin typeface="Verdana"/>
              </a:rPr>
              <a:t>S</a:t>
            </a:r>
            <a:r>
              <a:rPr b="1" lang="es-AR" sz="1400" spc="-1" strike="noStrike">
                <a:solidFill>
                  <a:srgbClr val="000066"/>
                </a:solidFill>
                <a:latin typeface="Verdana"/>
              </a:rPr>
              <a:t>PONSORING </a:t>
            </a:r>
            <a:r>
              <a:rPr b="0" lang="es-AR" sz="1600" spc="-1" strike="noStrike" u="sng">
                <a:solidFill>
                  <a:srgbClr val="000066"/>
                </a:solidFill>
                <a:uFillTx/>
                <a:latin typeface="Verdana"/>
              </a:rPr>
              <a:t>O</a:t>
            </a:r>
            <a:r>
              <a:rPr b="1" lang="es-AR" sz="1400" spc="-1" strike="noStrike">
                <a:solidFill>
                  <a:srgbClr val="000066"/>
                </a:solidFill>
                <a:latin typeface="Verdana"/>
              </a:rPr>
              <a:t>RGANIZATION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935000"/>
            <a:ext cx="3391200" cy="3664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27520" y="5092560"/>
            <a:ext cx="3282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Conjunto de circunstancias que enmarcan el accionar de una entidad.</a:t>
            </a:r>
            <a:r>
              <a:rPr b="0" lang="es-AR" sz="1600" spc="-1" strike="noStrike" baseline="30000">
                <a:solidFill>
                  <a:srgbClr val="091d5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02320" y="4532400"/>
            <a:ext cx="34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Identifica y limita los riesgos que afectan las actividades de las organizaciones.</a:t>
            </a:r>
            <a:r>
              <a:rPr b="0" lang="es-AR" sz="1600" spc="-1" strike="noStrike" baseline="30000">
                <a:solidFill>
                  <a:srgbClr val="091d5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91240" y="3811680"/>
            <a:ext cx="3298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Previenen y neutralizan los</a:t>
            </a:r>
            <a:r>
              <a:rPr b="1" i="1" lang="es-AR" sz="1600" spc="-1" strike="noStrike">
                <a:solidFill>
                  <a:srgbClr val="091d5d"/>
                </a:solidFill>
                <a:latin typeface="Verdana"/>
              </a:rPr>
              <a:t> </a:t>
            </a: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riesgos.</a:t>
            </a:r>
            <a:r>
              <a:rPr b="0" lang="es-AR" sz="1600" spc="-1" strike="noStrike" baseline="30000">
                <a:solidFill>
                  <a:srgbClr val="091d5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8280" y="3305160"/>
            <a:ext cx="32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Capta, procesa y transmite información relevante para el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3840" y="2670120"/>
            <a:ext cx="32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 baseline="30000">
                <a:solidFill>
                  <a:srgbClr val="091d5d"/>
                </a:solidFill>
                <a:latin typeface="Verdana"/>
              </a:rPr>
              <a:t>Asegura que el control interno funcione a través de evaluaciones continu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360240" y="2854440"/>
            <a:ext cx="13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360240" y="3486240"/>
            <a:ext cx="13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60240" y="4103640"/>
            <a:ext cx="13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471024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348000" y="52894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3120" y="2568600"/>
            <a:ext cx="3418200" cy="530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3120" y="3200400"/>
            <a:ext cx="3418200" cy="530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13120" y="3811680"/>
            <a:ext cx="3418200" cy="530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3120" y="4435560"/>
            <a:ext cx="3418200" cy="530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5024520"/>
            <a:ext cx="3418200" cy="530280"/>
          </a:xfrm>
          <a:prstGeom prst="rect">
            <a:avLst/>
          </a:prstGeom>
          <a:noFill/>
          <a:ln w="9360">
            <a:solidFill>
              <a:srgbClr val="091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40120" y="2230560"/>
            <a:ext cx="35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 u="sng" baseline="30000">
                <a:solidFill>
                  <a:srgbClr val="091d5d"/>
                </a:solidFill>
                <a:uFillTx/>
                <a:latin typeface="Verdana"/>
              </a:rPr>
              <a:t>5 Componentes del control inte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1560" y="5608800"/>
            <a:ext cx="1942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91d5d"/>
                </a:solidFill>
                <a:latin typeface="Arial"/>
              </a:rPr>
              <a:t>© 1992 by the American Institute of Certified Public Accountants, Inc. Reprinted with permission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y ejecución del plan anual de control interno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41240" y="1389240"/>
            <a:ext cx="8458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6680" y="1504800"/>
            <a:ext cx="8300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92000"/>
              </a:lnSpc>
              <a:spcAft>
                <a:spcPts val="9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1. Identificar los riesgos vinculados a procesos y contro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6680" y="2503440"/>
            <a:ext cx="8394480" cy="754200"/>
            <a:chOff x="436680" y="2503440"/>
            <a:chExt cx="8394480" cy="754200"/>
          </a:xfrm>
        </p:grpSpPr>
        <p:sp>
          <p:nvSpPr>
            <p:cNvPr id="161" name=""/>
            <p:cNvSpPr/>
            <p:nvPr/>
          </p:nvSpPr>
          <p:spPr>
            <a:xfrm>
              <a:off x="436680" y="2503440"/>
              <a:ext cx="83944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2. Elaboración del Plan Anual de Control Interno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36680" y="3502080"/>
            <a:ext cx="8461080" cy="753840"/>
            <a:chOff x="436680" y="3502080"/>
            <a:chExt cx="8461080" cy="753840"/>
          </a:xfrm>
        </p:grpSpPr>
        <p:sp>
          <p:nvSpPr>
            <p:cNvPr id="163" name=""/>
            <p:cNvSpPr/>
            <p:nvPr/>
          </p:nvSpPr>
          <p:spPr>
            <a:xfrm>
              <a:off x="436680" y="3502080"/>
              <a:ext cx="84610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3. Evaluación del cumplimiento de los proceso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6680" y="4500720"/>
            <a:ext cx="81439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9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4. Evaluación del funcionamiento de los contro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36680" y="5499000"/>
            <a:ext cx="7400880" cy="754200"/>
            <a:chOff x="436680" y="5499000"/>
            <a:chExt cx="7400880" cy="754200"/>
          </a:xfrm>
        </p:grpSpPr>
        <p:sp>
          <p:nvSpPr>
            <p:cNvPr id="166" name=""/>
            <p:cNvSpPr/>
            <p:nvPr/>
          </p:nvSpPr>
          <p:spPr>
            <a:xfrm>
              <a:off x="436680" y="5499000"/>
              <a:ext cx="7400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5. Elaborar el informe sobre el procedimiento evaluado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800" y="1606680"/>
            <a:ext cx="3587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1. Identificar los riesgos vinc. a procesos y contr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5120" y="2503440"/>
            <a:ext cx="3454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436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00680" y="163980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1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Elaborar una matriz de ponderación de riesg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Identificar los controles críticos y sus característic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Matriz de factores de riesg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560" y="1297080"/>
          <a:ext cx="801864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1297080"/>
                    <a:ext cx="80186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valuar controles crítico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4760" y="1247760"/>
            <a:ext cx="8975880" cy="5089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407360" y="4359240"/>
            <a:ext cx="1473120" cy="635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07120" y="3309840"/>
            <a:ext cx="1222200" cy="635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024600" y="4378320"/>
            <a:ext cx="1074600" cy="60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800" y="1568520"/>
            <a:ext cx="3587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riesgos  vinc. a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440" y="2503440"/>
            <a:ext cx="3454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52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00680" y="253512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2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Determinación de los procesos a evalu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Determinación de los controles a evalu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Determinación del cronograma de tareas a desarroll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800" y="1568520"/>
            <a:ext cx="3587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riesgos  vinc. a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5120" y="2503440"/>
            <a:ext cx="3454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176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00680" y="352584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3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Consiste en efectuar el recorrido crítico o “walkthrough” de una transa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800" y="1568520"/>
            <a:ext cx="3587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riesgos  vinc. a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5120" y="2503440"/>
            <a:ext cx="3454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" y="3502080"/>
            <a:ext cx="3643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00680" y="450360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3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Considerar el alcance de las pruebas en función al tipo de controles a prob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Alcance de las pruebas para evaluar controle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622440" y="1790640"/>
            <a:ext cx="810396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ts val="2900"/>
              </a:lnSpc>
              <a:spcAft>
                <a:spcPts val="45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ts val="2900"/>
              </a:lnSpc>
              <a:spcAft>
                <a:spcPts val="45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58920" y="1508040"/>
          <a:ext cx="8375040" cy="4454280"/>
        </p:xfrm>
        <a:graphic>
          <a:graphicData uri="http://schemas.openxmlformats.org/drawingml/2006/table">
            <a:tbl>
              <a:tblPr/>
              <a:tblGrid>
                <a:gridCol w="2790360"/>
                <a:gridCol w="2794320"/>
                <a:gridCol w="2790360"/>
              </a:tblGrid>
              <a:tr h="92664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Naturaleza del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Frequencia del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Muestra mínima suger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404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uchas veces al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46332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Di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46368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Sema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46368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ens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46368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Trimest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 trimest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46332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M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745920">
                <a:tc>
                  <a:txBody>
                    <a:bodyPr lIns="90000" rIns="90000" tIns="0" bIns="0" anchor="ctr">
                      <a:noAutofit/>
                    </a:bodyPr>
                    <a:p>
                      <a:pPr marL="190440" indent="-190440" algn="ctr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Automát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marL="190440" indent="-190440">
                        <a:lnSpc>
                          <a:spcPts val="29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Se efectúa una prueba sobre el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1d5d"/>
                      </a:solidFill>
                    </a:lnL>
                    <a:lnR w="5760">
                      <a:solidFill>
                        <a:srgbClr val="091d5d"/>
                      </a:solidFill>
                    </a:lnR>
                    <a:lnT w="5760">
                      <a:solidFill>
                        <a:srgbClr val="091d5d"/>
                      </a:solidFill>
                    </a:lnT>
                    <a:lnB w="5760">
                      <a:solidFill>
                        <a:srgbClr val="091d5d"/>
                      </a:solidFill>
                    </a:lnB>
                    <a:solidFill>
                      <a:srgbClr val="ded3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rrores tolerables en las prueba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622440" y="1790640"/>
            <a:ext cx="810396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ts val="2900"/>
              </a:lnSpc>
              <a:spcAft>
                <a:spcPts val="45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ts val="2900"/>
              </a:lnSpc>
              <a:spcAft>
                <a:spcPts val="45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68280" y="1585800"/>
          <a:ext cx="4164120" cy="4146840"/>
        </p:xfrm>
        <a:graphic>
          <a:graphicData uri="http://schemas.openxmlformats.org/drawingml/2006/table">
            <a:tbl>
              <a:tblPr/>
              <a:tblGrid>
                <a:gridCol w="2098800"/>
                <a:gridCol w="2065320"/>
              </a:tblGrid>
              <a:tr h="571680"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Altamente efe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Error máximo toler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Mues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11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77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811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92520" y="1584360"/>
          <a:ext cx="4230720" cy="4146480"/>
        </p:xfrm>
        <a:graphic>
          <a:graphicData uri="http://schemas.openxmlformats.org/drawingml/2006/table">
            <a:tbl>
              <a:tblPr/>
              <a:tblGrid>
                <a:gridCol w="2131920"/>
                <a:gridCol w="2098800"/>
              </a:tblGrid>
              <a:tr h="571320"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Efe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Error máximo toler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Mues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11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77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  <a:tr h="811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91d5d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3b6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Nueva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 normativa – Tareas a implementa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6960" y="3165120"/>
            <a:ext cx="73486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ct val="192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Confección del Plan Anual de Control Interno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25480" y="1803240"/>
            <a:ext cx="8458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61840" y="1795320"/>
            <a:ext cx="7215480" cy="754200"/>
            <a:chOff x="861840" y="1795320"/>
            <a:chExt cx="7215480" cy="754200"/>
          </a:xfrm>
        </p:grpSpPr>
        <p:sp>
          <p:nvSpPr>
            <p:cNvPr id="88" name=""/>
            <p:cNvSpPr/>
            <p:nvPr/>
          </p:nvSpPr>
          <p:spPr>
            <a:xfrm>
              <a:off x="861840" y="1795320"/>
              <a:ext cx="72154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92000"/>
                </a:lnSpc>
                <a:spcAft>
                  <a:spcPts val="1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Verdana"/>
                </a:rPr>
                <a:t>Elaboración de normas sobre procedimiento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41320" y="4573440"/>
            <a:ext cx="7286760" cy="662040"/>
            <a:chOff x="841320" y="4573440"/>
            <a:chExt cx="7286760" cy="662040"/>
          </a:xfrm>
        </p:grpSpPr>
        <p:sp>
          <p:nvSpPr>
            <p:cNvPr id="90" name=""/>
            <p:cNvSpPr/>
            <p:nvPr/>
          </p:nvSpPr>
          <p:spPr>
            <a:xfrm>
              <a:off x="841320" y="4573440"/>
              <a:ext cx="72867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 marL="178920" indent="-178920">
                <a:lnSpc>
                  <a:spcPct val="192000"/>
                </a:lnSpc>
                <a:spcAft>
                  <a:spcPts val="1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a9a9a9"/>
                  </a:solidFill>
                  <a:latin typeface="Verdana"/>
                </a:rPr>
                <a:t>Definición de la estructura de control intern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8920" indent="-178920">
                <a:lnSpc>
                  <a:spcPct val="192000"/>
                </a:lnSpc>
                <a:spcAft>
                  <a:spcPts val="11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.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Conclusiones sobre la efectividad de los controle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95440" y="1125360"/>
            <a:ext cx="7097760" cy="4024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9240" y="1979640"/>
            <a:ext cx="7040520" cy="444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1" name=""/>
          <p:cNvSpPr/>
          <p:nvPr/>
        </p:nvSpPr>
        <p:spPr>
          <a:xfrm>
            <a:off x="3916440" y="7261200"/>
            <a:ext cx="190440" cy="198360"/>
          </a:xfrm>
          <a:prstGeom prst="ellipse">
            <a:avLst/>
          </a:prstGeom>
          <a:solidFill>
            <a:srgbClr val="091d5d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9cd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l plan anual de control interno 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800" y="1568520"/>
            <a:ext cx="3587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riesgos  vinc. a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120" y="2503440"/>
            <a:ext cx="3454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960" y="3502080"/>
            <a:ext cx="3643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00680" y="5504040"/>
            <a:ext cx="450720" cy="502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3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Se determinan las conclusiones sobre el diseñ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Se determinan las conclusiones sobre las deficiencias detectadas y su impac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Resume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99960" y="5954760"/>
            <a:ext cx="180036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937F-BBC3-4734-AEDB-10E075645D05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Resumen de la implementación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2139840"/>
            <a:ext cx="3587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riesgos  vinc. a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7040" y="2989440"/>
            <a:ext cx="3454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2. Elaborar el plan anual de control int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0920" y="3859200"/>
            <a:ext cx="3643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3. Evaluar el cumplimiento de los proce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4686480"/>
            <a:ext cx="3186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4. Evaluar el funcionamiento de los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2360" y="5499000"/>
            <a:ext cx="3186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Elaborar el informe sobre el procedimiento evalu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480" y="193212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1720" y="2111400"/>
            <a:ext cx="2633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procesos alcanz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0800" y="2975040"/>
            <a:ext cx="3614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Seleccionar una transacción representativa de cada proce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720" y="3873600"/>
            <a:ext cx="3643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3. Efectuar el camino crítico o “walkthrough” de la transa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467208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4. Confeccionar una matriz de riesg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520" y="5527800"/>
            <a:ext cx="3186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5. Confeccionar la norma sobr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55440" y="1328760"/>
            <a:ext cx="256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baseline="30000">
                <a:solidFill>
                  <a:srgbClr val="ffffff"/>
                </a:solidFill>
                <a:latin typeface="Verdana"/>
              </a:rPr>
              <a:t>Elaborar manuales d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2500" spc="-1" strike="noStrike" baseline="30000">
                <a:solidFill>
                  <a:srgbClr val="ffffff"/>
                </a:solidFill>
                <a:latin typeface="Verdana"/>
              </a:rPr>
              <a:t>procedimientos y contro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44440" y="1382760"/>
            <a:ext cx="2125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baseline="30000">
                <a:solidFill>
                  <a:srgbClr val="ffffff"/>
                </a:solidFill>
                <a:latin typeface="Verdana"/>
              </a:rPr>
              <a:t>Elaborar y ejecutar el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baseline="30000">
                <a:solidFill>
                  <a:srgbClr val="ffffff"/>
                </a:solidFill>
                <a:latin typeface="Verdana"/>
              </a:rPr>
              <a:t>plan de control intern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71880" y="3478320"/>
            <a:ext cx="795240" cy="1512720"/>
          </a:xfrm>
          <a:prstGeom prst="line">
            <a:avLst/>
          </a:prstGeom>
          <a:ln w="28440">
            <a:solidFill>
              <a:srgbClr val="091d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laboración de las normas sobre procedimientos y control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DEAF-4B5E-4817-BB5A-C328EE27FDE5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 las normas sobre procedimientos y controles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6680" y="1389240"/>
            <a:ext cx="8762760" cy="869760"/>
            <a:chOff x="436680" y="1389240"/>
            <a:chExt cx="8762760" cy="869760"/>
          </a:xfrm>
        </p:grpSpPr>
        <p:sp>
          <p:nvSpPr>
            <p:cNvPr id="95" name=""/>
            <p:cNvSpPr/>
            <p:nvPr/>
          </p:nvSpPr>
          <p:spPr>
            <a:xfrm>
              <a:off x="741240" y="1389240"/>
              <a:ext cx="8458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6680" y="1504800"/>
              <a:ext cx="8300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9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1. Identificar los procesos alcanzado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6680" y="2503440"/>
            <a:ext cx="8394480" cy="754200"/>
            <a:chOff x="436680" y="2503440"/>
            <a:chExt cx="8394480" cy="754200"/>
          </a:xfrm>
        </p:grpSpPr>
        <p:sp>
          <p:nvSpPr>
            <p:cNvPr id="98" name=""/>
            <p:cNvSpPr/>
            <p:nvPr/>
          </p:nvSpPr>
          <p:spPr>
            <a:xfrm>
              <a:off x="436680" y="2503440"/>
              <a:ext cx="83944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2. Seleccionar una transacción representativa de cada proceso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36680" y="3502080"/>
            <a:ext cx="8461080" cy="753840"/>
            <a:chOff x="436680" y="3502080"/>
            <a:chExt cx="8461080" cy="753840"/>
          </a:xfrm>
        </p:grpSpPr>
        <p:sp>
          <p:nvSpPr>
            <p:cNvPr id="100" name=""/>
            <p:cNvSpPr/>
            <p:nvPr/>
          </p:nvSpPr>
          <p:spPr>
            <a:xfrm>
              <a:off x="436680" y="3502080"/>
              <a:ext cx="84610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3. Efectuar el camino crítico o “walkthrough” de la transacció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36680" y="4500720"/>
            <a:ext cx="81439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9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4. Confeccionar una matriz de riesgos y contro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36680" y="5499000"/>
            <a:ext cx="7400880" cy="754200"/>
            <a:chOff x="436680" y="5499000"/>
            <a:chExt cx="7400880" cy="754200"/>
          </a:xfrm>
        </p:grpSpPr>
        <p:sp>
          <p:nvSpPr>
            <p:cNvPr id="103" name=""/>
            <p:cNvSpPr/>
            <p:nvPr/>
          </p:nvSpPr>
          <p:spPr>
            <a:xfrm>
              <a:off x="436680" y="5499000"/>
              <a:ext cx="7400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90440" indent="-190440">
                <a:lnSpc>
                  <a:spcPct val="142000"/>
                </a:lnSpc>
                <a:spcAft>
                  <a:spcPts val="9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Verdana"/>
                </a:rPr>
                <a:t>5. Elaborar la norma sobre procedimientos y controle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 normas sobre procedimientos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2056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800" y="1568520"/>
            <a:ext cx="2633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procesos alcanz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120" y="2503440"/>
            <a:ext cx="3614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Seleccionar una transacción representativa de cada proce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176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3. Efectuar el camino crítico o “walkthrough” de la transa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800" y="4500720"/>
            <a:ext cx="3186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Confeccionar una matriz de riesg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800" y="5499000"/>
            <a:ext cx="3186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Confeccionar la norma sobr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00680" y="352584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3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Identificación de riesgos y actividad de control efectua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Responsables de la ejecu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Evidencia de los controles efectu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Evaluación del diseño del proceso y potenciales erro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Frecuencia del control (diario, mensual, etc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 normas sobre procedimientos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4460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840" y="1568520"/>
            <a:ext cx="26334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procesos alcanz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8040" y="2503440"/>
            <a:ext cx="3614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Seleccionar una transacción representativa de cada proce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84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fectuar el camino crítico o “walkthrough” de la transa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840" y="4500720"/>
            <a:ext cx="3186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4. Confeccionar una matriz d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840" y="5499000"/>
            <a:ext cx="3186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5. Confeccionar la norma sobr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68880" y="2944800"/>
            <a:ext cx="4735440" cy="311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1" name=""/>
          <p:cNvSpPr/>
          <p:nvPr/>
        </p:nvSpPr>
        <p:spPr>
          <a:xfrm>
            <a:off x="3987720" y="4554360"/>
            <a:ext cx="4510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 normas sobre procedimientos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laboración de la matriz de riesgos y controle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1803240"/>
            <a:ext cx="8458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760" y="1235160"/>
            <a:ext cx="8975880" cy="5089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Elaboración de normas sobre procedimientos</a:t>
            </a:r>
            <a:br>
              <a:rPr sz="2400"/>
            </a:b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Esquema de trabajo sugerido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4600" y="1389240"/>
            <a:ext cx="364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840" y="1568520"/>
            <a:ext cx="26334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1. Identificar los procesos alcanz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2503440"/>
            <a:ext cx="36147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2. Seleccionar una transacción representativa de cada proce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840" y="3502080"/>
            <a:ext cx="3643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3. Efectuar el camino crítico o “walkthrough” de la transa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840" y="4500720"/>
            <a:ext cx="3186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Verdana"/>
              </a:rPr>
              <a:t>4. Confeccionar una matriz d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840" y="5499000"/>
            <a:ext cx="3186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5. Confeccionar la norma sobre procesos y contro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00680" y="5506920"/>
            <a:ext cx="45072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e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2400" y="1701720"/>
            <a:ext cx="38894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4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5. Tareas involucra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Identificación actividad de control efectua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Responsables de la ejecu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Evidencia de los controles efectu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Frecuencia del control (diario, mensual, etc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42000"/>
              </a:lnSpc>
              <a:spcAft>
                <a:spcPts val="737"/>
              </a:spcAft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Elaboración y ejecución del Plan Anual de Control Interno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5267-3BE9-404B-82FE-2592EF726F18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2:36:33Z</dcterms:created>
  <dc:creator>L Moure</dc:creator>
  <dc:description/>
  <dc:language>en-US</dc:language>
  <cp:lastModifiedBy>CONT</cp:lastModifiedBy>
  <cp:lastPrinted>2003-08-11T14:00:49Z</cp:lastPrinted>
  <dcterms:modified xsi:type="dcterms:W3CDTF">2006-11-22T18:59:13Z</dcterms:modified>
  <cp:revision>753</cp:revision>
  <dc:subject>22-11-06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