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907588" cy="6858000"/>
  <p:notesSz cx="7077075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523C-A567-472A-8D54-C661BF915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1E52-15FA-49F2-9D79-561DF038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8787-7E10-4154-A552-4C520EB2C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DA37-6FD4-48F6-9872-B892556F9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3EBE-240E-420A-B033-73099594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4A43-9A90-41FE-AB27-883D4133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4306-5EDA-4D95-AEAE-22BED09E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A992-E0C3-4021-80F7-51F8047E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95000" y="274680"/>
            <a:ext cx="89154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D442-16F0-48F3-8AFA-35E53D36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1208-390D-4916-A580-94A50C67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28CF-9D4B-4461-984C-358584BF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1A8D-3F5F-460D-BFCE-90510BC3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7960" y="6381720"/>
            <a:ext cx="8890200" cy="287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40A2-39C9-45F3-A906-F51C119F6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202440" y="6308640"/>
            <a:ext cx="2808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6356520" y="6381720"/>
            <a:ext cx="2495520" cy="235080"/>
            <a:chOff x="6356520" y="6381720"/>
            <a:chExt cx="2495520" cy="235080"/>
          </a:xfrm>
        </p:grpSpPr>
        <p:sp>
          <p:nvSpPr>
            <p:cNvPr id="8" name=""/>
            <p:cNvSpPr/>
            <p:nvPr/>
          </p:nvSpPr>
          <p:spPr>
            <a:xfrm>
              <a:off x="6356520" y="6384600"/>
              <a:ext cx="240840" cy="228240"/>
            </a:xfrm>
            <a:custGeom>
              <a:avLst/>
              <a:gdLst/>
              <a:ahLst/>
              <a:rect l="l" t="t" r="r" b="b"/>
              <a:pathLst>
                <a:path w="1884" h="1925">
                  <a:moveTo>
                    <a:pt x="0" y="0"/>
                  </a:moveTo>
                  <a:lnTo>
                    <a:pt x="411" y="0"/>
                  </a:lnTo>
                  <a:lnTo>
                    <a:pt x="944" y="1563"/>
                  </a:lnTo>
                  <a:lnTo>
                    <a:pt x="1487" y="0"/>
                  </a:lnTo>
                  <a:lnTo>
                    <a:pt x="1884" y="0"/>
                  </a:lnTo>
                  <a:lnTo>
                    <a:pt x="1884" y="1925"/>
                  </a:lnTo>
                  <a:lnTo>
                    <a:pt x="1607" y="1925"/>
                  </a:lnTo>
                  <a:lnTo>
                    <a:pt x="1607" y="261"/>
                  </a:lnTo>
                  <a:lnTo>
                    <a:pt x="1037" y="1925"/>
                  </a:lnTo>
                  <a:lnTo>
                    <a:pt x="803" y="1925"/>
                  </a:lnTo>
                  <a:lnTo>
                    <a:pt x="238" y="261"/>
                  </a:lnTo>
                  <a:lnTo>
                    <a:pt x="232" y="1925"/>
                  </a:lnTo>
                  <a:lnTo>
                    <a:pt x="0" y="19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634440" y="6383880"/>
              <a:ext cx="128520" cy="92880"/>
            </a:xfrm>
            <a:custGeom>
              <a:avLst/>
              <a:gdLst/>
              <a:ahLst/>
              <a:rect l="l" t="t" r="r" b="b"/>
              <a:pathLst>
                <a:path w="1006" h="785">
                  <a:moveTo>
                    <a:pt x="0" y="0"/>
                  </a:moveTo>
                  <a:lnTo>
                    <a:pt x="645" y="0"/>
                  </a:lnTo>
                  <a:lnTo>
                    <a:pt x="687" y="6"/>
                  </a:lnTo>
                  <a:lnTo>
                    <a:pt x="726" y="16"/>
                  </a:lnTo>
                  <a:lnTo>
                    <a:pt x="764" y="29"/>
                  </a:lnTo>
                  <a:lnTo>
                    <a:pt x="800" y="44"/>
                  </a:lnTo>
                  <a:lnTo>
                    <a:pt x="831" y="62"/>
                  </a:lnTo>
                  <a:lnTo>
                    <a:pt x="861" y="83"/>
                  </a:lnTo>
                  <a:lnTo>
                    <a:pt x="887" y="106"/>
                  </a:lnTo>
                  <a:lnTo>
                    <a:pt x="912" y="131"/>
                  </a:lnTo>
                  <a:lnTo>
                    <a:pt x="933" y="158"/>
                  </a:lnTo>
                  <a:lnTo>
                    <a:pt x="951" y="186"/>
                  </a:lnTo>
                  <a:lnTo>
                    <a:pt x="967" y="217"/>
                  </a:lnTo>
                  <a:lnTo>
                    <a:pt x="980" y="247"/>
                  </a:lnTo>
                  <a:lnTo>
                    <a:pt x="991" y="279"/>
                  </a:lnTo>
                  <a:lnTo>
                    <a:pt x="998" y="312"/>
                  </a:lnTo>
                  <a:lnTo>
                    <a:pt x="1003" y="346"/>
                  </a:lnTo>
                  <a:lnTo>
                    <a:pt x="1006" y="379"/>
                  </a:lnTo>
                  <a:lnTo>
                    <a:pt x="1005" y="413"/>
                  </a:lnTo>
                  <a:lnTo>
                    <a:pt x="1002" y="447"/>
                  </a:lnTo>
                  <a:lnTo>
                    <a:pt x="996" y="480"/>
                  </a:lnTo>
                  <a:lnTo>
                    <a:pt x="987" y="513"/>
                  </a:lnTo>
                  <a:lnTo>
                    <a:pt x="975" y="544"/>
                  </a:lnTo>
                  <a:lnTo>
                    <a:pt x="961" y="576"/>
                  </a:lnTo>
                  <a:lnTo>
                    <a:pt x="944" y="605"/>
                  </a:lnTo>
                  <a:lnTo>
                    <a:pt x="924" y="633"/>
                  </a:lnTo>
                  <a:lnTo>
                    <a:pt x="901" y="660"/>
                  </a:lnTo>
                  <a:lnTo>
                    <a:pt x="875" y="686"/>
                  </a:lnTo>
                  <a:lnTo>
                    <a:pt x="847" y="709"/>
                  </a:lnTo>
                  <a:lnTo>
                    <a:pt x="817" y="729"/>
                  </a:lnTo>
                  <a:lnTo>
                    <a:pt x="783" y="748"/>
                  </a:lnTo>
                  <a:lnTo>
                    <a:pt x="746" y="763"/>
                  </a:lnTo>
                  <a:lnTo>
                    <a:pt x="706" y="776"/>
                  </a:lnTo>
                  <a:lnTo>
                    <a:pt x="663" y="785"/>
                  </a:lnTo>
                  <a:lnTo>
                    <a:pt x="0" y="7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66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634440" y="6383880"/>
              <a:ext cx="128520" cy="92880"/>
            </a:xfrm>
            <a:custGeom>
              <a:avLst/>
              <a:gdLst/>
              <a:ahLst/>
              <a:rect l="l" t="t" r="r" b="b"/>
              <a:pathLst>
                <a:path w="1006" h="785">
                  <a:moveTo>
                    <a:pt x="0" y="0"/>
                  </a:moveTo>
                  <a:lnTo>
                    <a:pt x="645" y="0"/>
                  </a:lnTo>
                  <a:lnTo>
                    <a:pt x="687" y="6"/>
                  </a:lnTo>
                  <a:lnTo>
                    <a:pt x="726" y="16"/>
                  </a:lnTo>
                  <a:lnTo>
                    <a:pt x="764" y="29"/>
                  </a:lnTo>
                  <a:lnTo>
                    <a:pt x="800" y="44"/>
                  </a:lnTo>
                  <a:lnTo>
                    <a:pt x="831" y="62"/>
                  </a:lnTo>
                  <a:lnTo>
                    <a:pt x="861" y="83"/>
                  </a:lnTo>
                  <a:lnTo>
                    <a:pt x="887" y="106"/>
                  </a:lnTo>
                  <a:lnTo>
                    <a:pt x="912" y="131"/>
                  </a:lnTo>
                  <a:lnTo>
                    <a:pt x="933" y="158"/>
                  </a:lnTo>
                  <a:lnTo>
                    <a:pt x="951" y="186"/>
                  </a:lnTo>
                  <a:lnTo>
                    <a:pt x="967" y="217"/>
                  </a:lnTo>
                  <a:lnTo>
                    <a:pt x="980" y="247"/>
                  </a:lnTo>
                  <a:lnTo>
                    <a:pt x="991" y="279"/>
                  </a:lnTo>
                  <a:lnTo>
                    <a:pt x="998" y="312"/>
                  </a:lnTo>
                  <a:lnTo>
                    <a:pt x="1003" y="346"/>
                  </a:lnTo>
                  <a:lnTo>
                    <a:pt x="1006" y="379"/>
                  </a:lnTo>
                  <a:lnTo>
                    <a:pt x="1005" y="413"/>
                  </a:lnTo>
                  <a:lnTo>
                    <a:pt x="1002" y="447"/>
                  </a:lnTo>
                  <a:lnTo>
                    <a:pt x="996" y="480"/>
                  </a:lnTo>
                  <a:lnTo>
                    <a:pt x="987" y="513"/>
                  </a:lnTo>
                  <a:lnTo>
                    <a:pt x="975" y="544"/>
                  </a:lnTo>
                  <a:lnTo>
                    <a:pt x="961" y="576"/>
                  </a:lnTo>
                  <a:lnTo>
                    <a:pt x="944" y="605"/>
                  </a:lnTo>
                  <a:lnTo>
                    <a:pt x="924" y="633"/>
                  </a:lnTo>
                  <a:lnTo>
                    <a:pt x="901" y="660"/>
                  </a:lnTo>
                  <a:lnTo>
                    <a:pt x="875" y="686"/>
                  </a:lnTo>
                  <a:lnTo>
                    <a:pt x="847" y="709"/>
                  </a:lnTo>
                  <a:lnTo>
                    <a:pt x="817" y="729"/>
                  </a:lnTo>
                  <a:lnTo>
                    <a:pt x="783" y="748"/>
                  </a:lnTo>
                  <a:lnTo>
                    <a:pt x="746" y="763"/>
                  </a:lnTo>
                  <a:lnTo>
                    <a:pt x="706" y="776"/>
                  </a:lnTo>
                  <a:lnTo>
                    <a:pt x="663" y="785"/>
                  </a:lnTo>
                  <a:lnTo>
                    <a:pt x="0" y="78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466c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634440" y="6510240"/>
              <a:ext cx="139680" cy="101160"/>
            </a:xfrm>
            <a:custGeom>
              <a:avLst/>
              <a:gdLst/>
              <a:ahLst/>
              <a:rect l="l" t="t" r="r" b="b"/>
              <a:pathLst>
                <a:path w="1095" h="854">
                  <a:moveTo>
                    <a:pt x="0" y="0"/>
                  </a:moveTo>
                  <a:lnTo>
                    <a:pt x="697" y="0"/>
                  </a:lnTo>
                  <a:lnTo>
                    <a:pt x="745" y="6"/>
                  </a:lnTo>
                  <a:lnTo>
                    <a:pt x="789" y="17"/>
                  </a:lnTo>
                  <a:lnTo>
                    <a:pt x="830" y="31"/>
                  </a:lnTo>
                  <a:lnTo>
                    <a:pt x="869" y="48"/>
                  </a:lnTo>
                  <a:lnTo>
                    <a:pt x="903" y="68"/>
                  </a:lnTo>
                  <a:lnTo>
                    <a:pt x="936" y="90"/>
                  </a:lnTo>
                  <a:lnTo>
                    <a:pt x="966" y="116"/>
                  </a:lnTo>
                  <a:lnTo>
                    <a:pt x="992" y="143"/>
                  </a:lnTo>
                  <a:lnTo>
                    <a:pt x="1016" y="172"/>
                  </a:lnTo>
                  <a:lnTo>
                    <a:pt x="1035" y="204"/>
                  </a:lnTo>
                  <a:lnTo>
                    <a:pt x="1053" y="235"/>
                  </a:lnTo>
                  <a:lnTo>
                    <a:pt x="1067" y="269"/>
                  </a:lnTo>
                  <a:lnTo>
                    <a:pt x="1079" y="305"/>
                  </a:lnTo>
                  <a:lnTo>
                    <a:pt x="1086" y="340"/>
                  </a:lnTo>
                  <a:lnTo>
                    <a:pt x="1092" y="375"/>
                  </a:lnTo>
                  <a:lnTo>
                    <a:pt x="1095" y="412"/>
                  </a:lnTo>
                  <a:lnTo>
                    <a:pt x="1094" y="450"/>
                  </a:lnTo>
                  <a:lnTo>
                    <a:pt x="1090" y="485"/>
                  </a:lnTo>
                  <a:lnTo>
                    <a:pt x="1083" y="521"/>
                  </a:lnTo>
                  <a:lnTo>
                    <a:pt x="1073" y="557"/>
                  </a:lnTo>
                  <a:lnTo>
                    <a:pt x="1061" y="592"/>
                  </a:lnTo>
                  <a:lnTo>
                    <a:pt x="1045" y="626"/>
                  </a:lnTo>
                  <a:lnTo>
                    <a:pt x="1025" y="658"/>
                  </a:lnTo>
                  <a:lnTo>
                    <a:pt x="1003" y="690"/>
                  </a:lnTo>
                  <a:lnTo>
                    <a:pt x="979" y="719"/>
                  </a:lnTo>
                  <a:lnTo>
                    <a:pt x="951" y="746"/>
                  </a:lnTo>
                  <a:lnTo>
                    <a:pt x="919" y="771"/>
                  </a:lnTo>
                  <a:lnTo>
                    <a:pt x="886" y="793"/>
                  </a:lnTo>
                  <a:lnTo>
                    <a:pt x="848" y="813"/>
                  </a:lnTo>
                  <a:lnTo>
                    <a:pt x="808" y="830"/>
                  </a:lnTo>
                  <a:lnTo>
                    <a:pt x="765" y="844"/>
                  </a:lnTo>
                  <a:lnTo>
                    <a:pt x="719" y="854"/>
                  </a:lnTo>
                  <a:lnTo>
                    <a:pt x="0" y="8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66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634440" y="6510240"/>
              <a:ext cx="139680" cy="101160"/>
            </a:xfrm>
            <a:custGeom>
              <a:avLst/>
              <a:gdLst/>
              <a:ahLst/>
              <a:rect l="l" t="t" r="r" b="b"/>
              <a:pathLst>
                <a:path w="1095" h="854">
                  <a:moveTo>
                    <a:pt x="0" y="0"/>
                  </a:moveTo>
                  <a:lnTo>
                    <a:pt x="697" y="0"/>
                  </a:lnTo>
                  <a:lnTo>
                    <a:pt x="745" y="6"/>
                  </a:lnTo>
                  <a:lnTo>
                    <a:pt x="789" y="17"/>
                  </a:lnTo>
                  <a:lnTo>
                    <a:pt x="830" y="31"/>
                  </a:lnTo>
                  <a:lnTo>
                    <a:pt x="869" y="48"/>
                  </a:lnTo>
                  <a:lnTo>
                    <a:pt x="903" y="68"/>
                  </a:lnTo>
                  <a:lnTo>
                    <a:pt x="936" y="90"/>
                  </a:lnTo>
                  <a:lnTo>
                    <a:pt x="966" y="116"/>
                  </a:lnTo>
                  <a:lnTo>
                    <a:pt x="992" y="143"/>
                  </a:lnTo>
                  <a:lnTo>
                    <a:pt x="1016" y="172"/>
                  </a:lnTo>
                  <a:lnTo>
                    <a:pt x="1035" y="204"/>
                  </a:lnTo>
                  <a:lnTo>
                    <a:pt x="1053" y="235"/>
                  </a:lnTo>
                  <a:lnTo>
                    <a:pt x="1067" y="269"/>
                  </a:lnTo>
                  <a:lnTo>
                    <a:pt x="1079" y="305"/>
                  </a:lnTo>
                  <a:lnTo>
                    <a:pt x="1086" y="340"/>
                  </a:lnTo>
                  <a:lnTo>
                    <a:pt x="1092" y="375"/>
                  </a:lnTo>
                  <a:lnTo>
                    <a:pt x="1095" y="412"/>
                  </a:lnTo>
                  <a:lnTo>
                    <a:pt x="1094" y="450"/>
                  </a:lnTo>
                  <a:lnTo>
                    <a:pt x="1090" y="485"/>
                  </a:lnTo>
                  <a:lnTo>
                    <a:pt x="1083" y="521"/>
                  </a:lnTo>
                  <a:lnTo>
                    <a:pt x="1073" y="557"/>
                  </a:lnTo>
                  <a:lnTo>
                    <a:pt x="1061" y="592"/>
                  </a:lnTo>
                  <a:lnTo>
                    <a:pt x="1045" y="626"/>
                  </a:lnTo>
                  <a:lnTo>
                    <a:pt x="1025" y="658"/>
                  </a:lnTo>
                  <a:lnTo>
                    <a:pt x="1003" y="690"/>
                  </a:lnTo>
                  <a:lnTo>
                    <a:pt x="979" y="719"/>
                  </a:lnTo>
                  <a:lnTo>
                    <a:pt x="951" y="746"/>
                  </a:lnTo>
                  <a:lnTo>
                    <a:pt x="919" y="771"/>
                  </a:lnTo>
                  <a:lnTo>
                    <a:pt x="886" y="793"/>
                  </a:lnTo>
                  <a:lnTo>
                    <a:pt x="848" y="813"/>
                  </a:lnTo>
                  <a:lnTo>
                    <a:pt x="808" y="830"/>
                  </a:lnTo>
                  <a:lnTo>
                    <a:pt x="765" y="844"/>
                  </a:lnTo>
                  <a:lnTo>
                    <a:pt x="719" y="854"/>
                  </a:lnTo>
                  <a:lnTo>
                    <a:pt x="0" y="85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466c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939360" y="6495840"/>
              <a:ext cx="1912680" cy="4680"/>
            </a:xfrm>
            <a:prstGeom prst="rect">
              <a:avLst/>
            </a:prstGeom>
            <a:solidFill>
              <a:srgbClr val="8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44680" y="6392160"/>
              <a:ext cx="5040" cy="224640"/>
            </a:xfrm>
            <a:prstGeom prst="rect">
              <a:avLst/>
            </a:prstGeom>
            <a:solidFill>
              <a:srgbClr val="8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969240" y="6381720"/>
              <a:ext cx="1842840" cy="104040"/>
            </a:xfrm>
            <a:custGeom>
              <a:avLst/>
              <a:gdLst/>
              <a:ahLst/>
              <a:rect l="l" t="t" r="r" b="b"/>
              <a:pathLst>
                <a:path w="14415" h="882">
                  <a:moveTo>
                    <a:pt x="0" y="12"/>
                  </a:moveTo>
                  <a:lnTo>
                    <a:pt x="125" y="12"/>
                  </a:lnTo>
                  <a:lnTo>
                    <a:pt x="335" y="639"/>
                  </a:lnTo>
                  <a:lnTo>
                    <a:pt x="547" y="12"/>
                  </a:lnTo>
                  <a:lnTo>
                    <a:pt x="672" y="12"/>
                  </a:lnTo>
                  <a:lnTo>
                    <a:pt x="672" y="750"/>
                  </a:lnTo>
                  <a:lnTo>
                    <a:pt x="596" y="750"/>
                  </a:lnTo>
                  <a:lnTo>
                    <a:pt x="596" y="101"/>
                  </a:lnTo>
                  <a:lnTo>
                    <a:pt x="377" y="750"/>
                  </a:lnTo>
                  <a:lnTo>
                    <a:pt x="295" y="750"/>
                  </a:lnTo>
                  <a:lnTo>
                    <a:pt x="76" y="101"/>
                  </a:lnTo>
                  <a:lnTo>
                    <a:pt x="75" y="750"/>
                  </a:lnTo>
                  <a:lnTo>
                    <a:pt x="0" y="750"/>
                  </a:lnTo>
                  <a:lnTo>
                    <a:pt x="0" y="12"/>
                  </a:lnTo>
                  <a:close/>
                  <a:moveTo>
                    <a:pt x="1007" y="12"/>
                  </a:moveTo>
                  <a:lnTo>
                    <a:pt x="1109" y="12"/>
                  </a:lnTo>
                  <a:lnTo>
                    <a:pt x="1348" y="750"/>
                  </a:lnTo>
                  <a:lnTo>
                    <a:pt x="1264" y="750"/>
                  </a:lnTo>
                  <a:lnTo>
                    <a:pt x="1190" y="522"/>
                  </a:lnTo>
                  <a:lnTo>
                    <a:pt x="927" y="522"/>
                  </a:lnTo>
                  <a:lnTo>
                    <a:pt x="855" y="750"/>
                  </a:lnTo>
                  <a:lnTo>
                    <a:pt x="771" y="750"/>
                  </a:lnTo>
                  <a:lnTo>
                    <a:pt x="1007" y="12"/>
                  </a:lnTo>
                  <a:close/>
                  <a:moveTo>
                    <a:pt x="950" y="453"/>
                  </a:moveTo>
                  <a:lnTo>
                    <a:pt x="1167" y="453"/>
                  </a:lnTo>
                  <a:lnTo>
                    <a:pt x="1060" y="88"/>
                  </a:lnTo>
                  <a:lnTo>
                    <a:pt x="950" y="453"/>
                  </a:lnTo>
                  <a:close/>
                  <a:moveTo>
                    <a:pt x="1449" y="12"/>
                  </a:moveTo>
                  <a:lnTo>
                    <a:pt x="1632" y="12"/>
                  </a:lnTo>
                  <a:lnTo>
                    <a:pt x="1660" y="12"/>
                  </a:lnTo>
                  <a:lnTo>
                    <a:pt x="1686" y="15"/>
                  </a:lnTo>
                  <a:lnTo>
                    <a:pt x="1710" y="18"/>
                  </a:lnTo>
                  <a:lnTo>
                    <a:pt x="1733" y="23"/>
                  </a:lnTo>
                  <a:lnTo>
                    <a:pt x="1754" y="30"/>
                  </a:lnTo>
                  <a:lnTo>
                    <a:pt x="1773" y="38"/>
                  </a:lnTo>
                  <a:lnTo>
                    <a:pt x="1791" y="47"/>
                  </a:lnTo>
                  <a:lnTo>
                    <a:pt x="1806" y="58"/>
                  </a:lnTo>
                  <a:lnTo>
                    <a:pt x="1821" y="72"/>
                  </a:lnTo>
                  <a:lnTo>
                    <a:pt x="1833" y="85"/>
                  </a:lnTo>
                  <a:lnTo>
                    <a:pt x="1844" y="100"/>
                  </a:lnTo>
                  <a:lnTo>
                    <a:pt x="1853" y="117"/>
                  </a:lnTo>
                  <a:lnTo>
                    <a:pt x="1859" y="135"/>
                  </a:lnTo>
                  <a:lnTo>
                    <a:pt x="1864" y="155"/>
                  </a:lnTo>
                  <a:lnTo>
                    <a:pt x="1866" y="175"/>
                  </a:lnTo>
                  <a:lnTo>
                    <a:pt x="1867" y="199"/>
                  </a:lnTo>
                  <a:lnTo>
                    <a:pt x="1866" y="219"/>
                  </a:lnTo>
                  <a:lnTo>
                    <a:pt x="1865" y="239"/>
                  </a:lnTo>
                  <a:lnTo>
                    <a:pt x="1861" y="258"/>
                  </a:lnTo>
                  <a:lnTo>
                    <a:pt x="1856" y="274"/>
                  </a:lnTo>
                  <a:lnTo>
                    <a:pt x="1852" y="290"/>
                  </a:lnTo>
                  <a:lnTo>
                    <a:pt x="1844" y="303"/>
                  </a:lnTo>
                  <a:lnTo>
                    <a:pt x="1836" y="315"/>
                  </a:lnTo>
                  <a:lnTo>
                    <a:pt x="1826" y="326"/>
                  </a:lnTo>
                  <a:lnTo>
                    <a:pt x="1815" y="336"/>
                  </a:lnTo>
                  <a:lnTo>
                    <a:pt x="1803" y="345"/>
                  </a:lnTo>
                  <a:lnTo>
                    <a:pt x="1791" y="353"/>
                  </a:lnTo>
                  <a:lnTo>
                    <a:pt x="1777" y="360"/>
                  </a:lnTo>
                  <a:lnTo>
                    <a:pt x="1764" y="367"/>
                  </a:lnTo>
                  <a:lnTo>
                    <a:pt x="1749" y="373"/>
                  </a:lnTo>
                  <a:lnTo>
                    <a:pt x="1733" y="379"/>
                  </a:lnTo>
                  <a:lnTo>
                    <a:pt x="1717" y="382"/>
                  </a:lnTo>
                  <a:lnTo>
                    <a:pt x="1733" y="388"/>
                  </a:lnTo>
                  <a:lnTo>
                    <a:pt x="1749" y="393"/>
                  </a:lnTo>
                  <a:lnTo>
                    <a:pt x="1763" y="399"/>
                  </a:lnTo>
                  <a:lnTo>
                    <a:pt x="1775" y="407"/>
                  </a:lnTo>
                  <a:lnTo>
                    <a:pt x="1784" y="413"/>
                  </a:lnTo>
                  <a:lnTo>
                    <a:pt x="1794" y="421"/>
                  </a:lnTo>
                  <a:lnTo>
                    <a:pt x="1802" y="429"/>
                  </a:lnTo>
                  <a:lnTo>
                    <a:pt x="1808" y="437"/>
                  </a:lnTo>
                  <a:lnTo>
                    <a:pt x="1814" y="447"/>
                  </a:lnTo>
                  <a:lnTo>
                    <a:pt x="1819" y="458"/>
                  </a:lnTo>
                  <a:lnTo>
                    <a:pt x="1824" y="470"/>
                  </a:lnTo>
                  <a:lnTo>
                    <a:pt x="1828" y="482"/>
                  </a:lnTo>
                  <a:lnTo>
                    <a:pt x="1837" y="513"/>
                  </a:lnTo>
                  <a:lnTo>
                    <a:pt x="1844" y="548"/>
                  </a:lnTo>
                  <a:lnTo>
                    <a:pt x="1888" y="750"/>
                  </a:lnTo>
                  <a:lnTo>
                    <a:pt x="1804" y="750"/>
                  </a:lnTo>
                  <a:lnTo>
                    <a:pt x="1767" y="580"/>
                  </a:lnTo>
                  <a:lnTo>
                    <a:pt x="1763" y="559"/>
                  </a:lnTo>
                  <a:lnTo>
                    <a:pt x="1758" y="539"/>
                  </a:lnTo>
                  <a:lnTo>
                    <a:pt x="1753" y="521"/>
                  </a:lnTo>
                  <a:lnTo>
                    <a:pt x="1747" y="505"/>
                  </a:lnTo>
                  <a:lnTo>
                    <a:pt x="1741" y="491"/>
                  </a:lnTo>
                  <a:lnTo>
                    <a:pt x="1733" y="477"/>
                  </a:lnTo>
                  <a:lnTo>
                    <a:pt x="1726" y="466"/>
                  </a:lnTo>
                  <a:lnTo>
                    <a:pt x="1719" y="457"/>
                  </a:lnTo>
                  <a:lnTo>
                    <a:pt x="1710" y="448"/>
                  </a:lnTo>
                  <a:lnTo>
                    <a:pt x="1700" y="441"/>
                  </a:lnTo>
                  <a:lnTo>
                    <a:pt x="1689" y="435"/>
                  </a:lnTo>
                  <a:lnTo>
                    <a:pt x="1676" y="430"/>
                  </a:lnTo>
                  <a:lnTo>
                    <a:pt x="1661" y="426"/>
                  </a:lnTo>
                  <a:lnTo>
                    <a:pt x="1645" y="424"/>
                  </a:lnTo>
                  <a:lnTo>
                    <a:pt x="1628" y="423"/>
                  </a:lnTo>
                  <a:lnTo>
                    <a:pt x="1609" y="421"/>
                  </a:lnTo>
                  <a:lnTo>
                    <a:pt x="1532" y="421"/>
                  </a:lnTo>
                  <a:lnTo>
                    <a:pt x="1532" y="750"/>
                  </a:lnTo>
                  <a:lnTo>
                    <a:pt x="1449" y="750"/>
                  </a:lnTo>
                  <a:lnTo>
                    <a:pt x="1449" y="12"/>
                  </a:lnTo>
                  <a:close/>
                  <a:moveTo>
                    <a:pt x="1532" y="352"/>
                  </a:moveTo>
                  <a:lnTo>
                    <a:pt x="1578" y="352"/>
                  </a:lnTo>
                  <a:lnTo>
                    <a:pt x="1600" y="352"/>
                  </a:lnTo>
                  <a:lnTo>
                    <a:pt x="1622" y="350"/>
                  </a:lnTo>
                  <a:lnTo>
                    <a:pt x="1642" y="347"/>
                  </a:lnTo>
                  <a:lnTo>
                    <a:pt x="1661" y="345"/>
                  </a:lnTo>
                  <a:lnTo>
                    <a:pt x="1680" y="340"/>
                  </a:lnTo>
                  <a:lnTo>
                    <a:pt x="1697" y="335"/>
                  </a:lnTo>
                  <a:lnTo>
                    <a:pt x="1712" y="329"/>
                  </a:lnTo>
                  <a:lnTo>
                    <a:pt x="1727" y="321"/>
                  </a:lnTo>
                  <a:lnTo>
                    <a:pt x="1741" y="313"/>
                  </a:lnTo>
                  <a:lnTo>
                    <a:pt x="1752" y="303"/>
                  </a:lnTo>
                  <a:lnTo>
                    <a:pt x="1761" y="291"/>
                  </a:lnTo>
                  <a:lnTo>
                    <a:pt x="1770" y="278"/>
                  </a:lnTo>
                  <a:lnTo>
                    <a:pt x="1776" y="262"/>
                  </a:lnTo>
                  <a:lnTo>
                    <a:pt x="1781" y="245"/>
                  </a:lnTo>
                  <a:lnTo>
                    <a:pt x="1783" y="227"/>
                  </a:lnTo>
                  <a:lnTo>
                    <a:pt x="1783" y="207"/>
                  </a:lnTo>
                  <a:lnTo>
                    <a:pt x="1783" y="186"/>
                  </a:lnTo>
                  <a:lnTo>
                    <a:pt x="1781" y="169"/>
                  </a:lnTo>
                  <a:lnTo>
                    <a:pt x="1777" y="153"/>
                  </a:lnTo>
                  <a:lnTo>
                    <a:pt x="1771" y="139"/>
                  </a:lnTo>
                  <a:lnTo>
                    <a:pt x="1765" y="128"/>
                  </a:lnTo>
                  <a:lnTo>
                    <a:pt x="1756" y="117"/>
                  </a:lnTo>
                  <a:lnTo>
                    <a:pt x="1745" y="110"/>
                  </a:lnTo>
                  <a:lnTo>
                    <a:pt x="1734" y="102"/>
                  </a:lnTo>
                  <a:lnTo>
                    <a:pt x="1721" y="97"/>
                  </a:lnTo>
                  <a:lnTo>
                    <a:pt x="1708" y="94"/>
                  </a:lnTo>
                  <a:lnTo>
                    <a:pt x="1692" y="90"/>
                  </a:lnTo>
                  <a:lnTo>
                    <a:pt x="1675" y="86"/>
                  </a:lnTo>
                  <a:lnTo>
                    <a:pt x="1656" y="84"/>
                  </a:lnTo>
                  <a:lnTo>
                    <a:pt x="1637" y="83"/>
                  </a:lnTo>
                  <a:lnTo>
                    <a:pt x="1616" y="82"/>
                  </a:lnTo>
                  <a:lnTo>
                    <a:pt x="1594" y="82"/>
                  </a:lnTo>
                  <a:lnTo>
                    <a:pt x="1532" y="82"/>
                  </a:lnTo>
                  <a:lnTo>
                    <a:pt x="1532" y="352"/>
                  </a:lnTo>
                  <a:close/>
                  <a:moveTo>
                    <a:pt x="2179" y="12"/>
                  </a:moveTo>
                  <a:lnTo>
                    <a:pt x="2280" y="12"/>
                  </a:lnTo>
                  <a:lnTo>
                    <a:pt x="2519" y="750"/>
                  </a:lnTo>
                  <a:lnTo>
                    <a:pt x="2435" y="750"/>
                  </a:lnTo>
                  <a:lnTo>
                    <a:pt x="2362" y="522"/>
                  </a:lnTo>
                  <a:lnTo>
                    <a:pt x="2098" y="522"/>
                  </a:lnTo>
                  <a:lnTo>
                    <a:pt x="2026" y="750"/>
                  </a:lnTo>
                  <a:lnTo>
                    <a:pt x="1942" y="750"/>
                  </a:lnTo>
                  <a:lnTo>
                    <a:pt x="2179" y="12"/>
                  </a:lnTo>
                  <a:close/>
                  <a:moveTo>
                    <a:pt x="2121" y="453"/>
                  </a:moveTo>
                  <a:lnTo>
                    <a:pt x="2338" y="453"/>
                  </a:lnTo>
                  <a:lnTo>
                    <a:pt x="2231" y="88"/>
                  </a:lnTo>
                  <a:lnTo>
                    <a:pt x="2121" y="453"/>
                  </a:lnTo>
                  <a:close/>
                  <a:moveTo>
                    <a:pt x="2853" y="351"/>
                  </a:moveTo>
                  <a:lnTo>
                    <a:pt x="2890" y="373"/>
                  </a:lnTo>
                  <a:lnTo>
                    <a:pt x="2922" y="393"/>
                  </a:lnTo>
                  <a:lnTo>
                    <a:pt x="2936" y="404"/>
                  </a:lnTo>
                  <a:lnTo>
                    <a:pt x="2948" y="414"/>
                  </a:lnTo>
                  <a:lnTo>
                    <a:pt x="2961" y="425"/>
                  </a:lnTo>
                  <a:lnTo>
                    <a:pt x="2970" y="435"/>
                  </a:lnTo>
                  <a:lnTo>
                    <a:pt x="2980" y="446"/>
                  </a:lnTo>
                  <a:lnTo>
                    <a:pt x="2987" y="458"/>
                  </a:lnTo>
                  <a:lnTo>
                    <a:pt x="2995" y="471"/>
                  </a:lnTo>
                  <a:lnTo>
                    <a:pt x="3000" y="485"/>
                  </a:lnTo>
                  <a:lnTo>
                    <a:pt x="3004" y="501"/>
                  </a:lnTo>
                  <a:lnTo>
                    <a:pt x="3007" y="518"/>
                  </a:lnTo>
                  <a:lnTo>
                    <a:pt x="3009" y="535"/>
                  </a:lnTo>
                  <a:lnTo>
                    <a:pt x="3009" y="554"/>
                  </a:lnTo>
                  <a:lnTo>
                    <a:pt x="3008" y="580"/>
                  </a:lnTo>
                  <a:lnTo>
                    <a:pt x="3004" y="604"/>
                  </a:lnTo>
                  <a:lnTo>
                    <a:pt x="3002" y="616"/>
                  </a:lnTo>
                  <a:lnTo>
                    <a:pt x="3000" y="627"/>
                  </a:lnTo>
                  <a:lnTo>
                    <a:pt x="2996" y="638"/>
                  </a:lnTo>
                  <a:lnTo>
                    <a:pt x="2991" y="648"/>
                  </a:lnTo>
                  <a:lnTo>
                    <a:pt x="2986" y="658"/>
                  </a:lnTo>
                  <a:lnTo>
                    <a:pt x="2981" y="666"/>
                  </a:lnTo>
                  <a:lnTo>
                    <a:pt x="2975" y="675"/>
                  </a:lnTo>
                  <a:lnTo>
                    <a:pt x="2969" y="683"/>
                  </a:lnTo>
                  <a:lnTo>
                    <a:pt x="2962" y="692"/>
                  </a:lnTo>
                  <a:lnTo>
                    <a:pt x="2953" y="699"/>
                  </a:lnTo>
                  <a:lnTo>
                    <a:pt x="2946" y="705"/>
                  </a:lnTo>
                  <a:lnTo>
                    <a:pt x="2936" y="712"/>
                  </a:lnTo>
                  <a:lnTo>
                    <a:pt x="2918" y="723"/>
                  </a:lnTo>
                  <a:lnTo>
                    <a:pt x="2897" y="734"/>
                  </a:lnTo>
                  <a:lnTo>
                    <a:pt x="2876" y="743"/>
                  </a:lnTo>
                  <a:lnTo>
                    <a:pt x="2853" y="749"/>
                  </a:lnTo>
                  <a:lnTo>
                    <a:pt x="2829" y="755"/>
                  </a:lnTo>
                  <a:lnTo>
                    <a:pt x="2804" y="759"/>
                  </a:lnTo>
                  <a:lnTo>
                    <a:pt x="2778" y="761"/>
                  </a:lnTo>
                  <a:lnTo>
                    <a:pt x="2749" y="761"/>
                  </a:lnTo>
                  <a:lnTo>
                    <a:pt x="2718" y="761"/>
                  </a:lnTo>
                  <a:lnTo>
                    <a:pt x="2686" y="759"/>
                  </a:lnTo>
                  <a:lnTo>
                    <a:pt x="2654" y="755"/>
                  </a:lnTo>
                  <a:lnTo>
                    <a:pt x="2620" y="749"/>
                  </a:lnTo>
                  <a:lnTo>
                    <a:pt x="2604" y="745"/>
                  </a:lnTo>
                  <a:lnTo>
                    <a:pt x="2592" y="742"/>
                  </a:lnTo>
                  <a:lnTo>
                    <a:pt x="2584" y="740"/>
                  </a:lnTo>
                  <a:lnTo>
                    <a:pt x="2579" y="739"/>
                  </a:lnTo>
                  <a:lnTo>
                    <a:pt x="2579" y="654"/>
                  </a:lnTo>
                  <a:lnTo>
                    <a:pt x="2603" y="662"/>
                  </a:lnTo>
                  <a:lnTo>
                    <a:pt x="2626" y="671"/>
                  </a:lnTo>
                  <a:lnTo>
                    <a:pt x="2649" y="677"/>
                  </a:lnTo>
                  <a:lnTo>
                    <a:pt x="2671" y="682"/>
                  </a:lnTo>
                  <a:lnTo>
                    <a:pt x="2693" y="687"/>
                  </a:lnTo>
                  <a:lnTo>
                    <a:pt x="2715" y="689"/>
                  </a:lnTo>
                  <a:lnTo>
                    <a:pt x="2737" y="692"/>
                  </a:lnTo>
                  <a:lnTo>
                    <a:pt x="2759" y="692"/>
                  </a:lnTo>
                  <a:lnTo>
                    <a:pt x="2776" y="692"/>
                  </a:lnTo>
                  <a:lnTo>
                    <a:pt x="2792" y="690"/>
                  </a:lnTo>
                  <a:lnTo>
                    <a:pt x="2808" y="688"/>
                  </a:lnTo>
                  <a:lnTo>
                    <a:pt x="2823" y="684"/>
                  </a:lnTo>
                  <a:lnTo>
                    <a:pt x="2837" y="680"/>
                  </a:lnTo>
                  <a:lnTo>
                    <a:pt x="2850" y="673"/>
                  </a:lnTo>
                  <a:lnTo>
                    <a:pt x="2863" y="667"/>
                  </a:lnTo>
                  <a:lnTo>
                    <a:pt x="2874" y="659"/>
                  </a:lnTo>
                  <a:lnTo>
                    <a:pt x="2885" y="650"/>
                  </a:lnTo>
                  <a:lnTo>
                    <a:pt x="2893" y="641"/>
                  </a:lnTo>
                  <a:lnTo>
                    <a:pt x="2901" y="631"/>
                  </a:lnTo>
                  <a:lnTo>
                    <a:pt x="2907" y="619"/>
                  </a:lnTo>
                  <a:lnTo>
                    <a:pt x="2912" y="608"/>
                  </a:lnTo>
                  <a:lnTo>
                    <a:pt x="2915" y="594"/>
                  </a:lnTo>
                  <a:lnTo>
                    <a:pt x="2918" y="581"/>
                  </a:lnTo>
                  <a:lnTo>
                    <a:pt x="2918" y="566"/>
                  </a:lnTo>
                  <a:lnTo>
                    <a:pt x="2918" y="553"/>
                  </a:lnTo>
                  <a:lnTo>
                    <a:pt x="2917" y="539"/>
                  </a:lnTo>
                  <a:lnTo>
                    <a:pt x="2914" y="529"/>
                  </a:lnTo>
                  <a:lnTo>
                    <a:pt x="2911" y="518"/>
                  </a:lnTo>
                  <a:lnTo>
                    <a:pt x="2907" y="507"/>
                  </a:lnTo>
                  <a:lnTo>
                    <a:pt x="2902" y="498"/>
                  </a:lnTo>
                  <a:lnTo>
                    <a:pt x="2896" y="490"/>
                  </a:lnTo>
                  <a:lnTo>
                    <a:pt x="2889" y="482"/>
                  </a:lnTo>
                  <a:lnTo>
                    <a:pt x="2871" y="468"/>
                  </a:lnTo>
                  <a:lnTo>
                    <a:pt x="2851" y="452"/>
                  </a:lnTo>
                  <a:lnTo>
                    <a:pt x="2825" y="435"/>
                  </a:lnTo>
                  <a:lnTo>
                    <a:pt x="2795" y="418"/>
                  </a:lnTo>
                  <a:lnTo>
                    <a:pt x="2730" y="381"/>
                  </a:lnTo>
                  <a:lnTo>
                    <a:pt x="2692" y="358"/>
                  </a:lnTo>
                  <a:lnTo>
                    <a:pt x="2659" y="337"/>
                  </a:lnTo>
                  <a:lnTo>
                    <a:pt x="2631" y="318"/>
                  </a:lnTo>
                  <a:lnTo>
                    <a:pt x="2609" y="300"/>
                  </a:lnTo>
                  <a:lnTo>
                    <a:pt x="2601" y="290"/>
                  </a:lnTo>
                  <a:lnTo>
                    <a:pt x="2592" y="279"/>
                  </a:lnTo>
                  <a:lnTo>
                    <a:pt x="2586" y="267"/>
                  </a:lnTo>
                  <a:lnTo>
                    <a:pt x="2580" y="253"/>
                  </a:lnTo>
                  <a:lnTo>
                    <a:pt x="2576" y="240"/>
                  </a:lnTo>
                  <a:lnTo>
                    <a:pt x="2573" y="224"/>
                  </a:lnTo>
                  <a:lnTo>
                    <a:pt x="2571" y="207"/>
                  </a:lnTo>
                  <a:lnTo>
                    <a:pt x="2570" y="189"/>
                  </a:lnTo>
                  <a:lnTo>
                    <a:pt x="2571" y="167"/>
                  </a:lnTo>
                  <a:lnTo>
                    <a:pt x="2574" y="146"/>
                  </a:lnTo>
                  <a:lnTo>
                    <a:pt x="2580" y="127"/>
                  </a:lnTo>
                  <a:lnTo>
                    <a:pt x="2587" y="108"/>
                  </a:lnTo>
                  <a:lnTo>
                    <a:pt x="2591" y="100"/>
                  </a:lnTo>
                  <a:lnTo>
                    <a:pt x="2596" y="91"/>
                  </a:lnTo>
                  <a:lnTo>
                    <a:pt x="2602" y="83"/>
                  </a:lnTo>
                  <a:lnTo>
                    <a:pt x="2607" y="76"/>
                  </a:lnTo>
                  <a:lnTo>
                    <a:pt x="2620" y="62"/>
                  </a:lnTo>
                  <a:lnTo>
                    <a:pt x="2636" y="49"/>
                  </a:lnTo>
                  <a:lnTo>
                    <a:pt x="2653" y="38"/>
                  </a:lnTo>
                  <a:lnTo>
                    <a:pt x="2671" y="27"/>
                  </a:lnTo>
                  <a:lnTo>
                    <a:pt x="2691" y="19"/>
                  </a:lnTo>
                  <a:lnTo>
                    <a:pt x="2712" y="12"/>
                  </a:lnTo>
                  <a:lnTo>
                    <a:pt x="2734" y="7"/>
                  </a:lnTo>
                  <a:lnTo>
                    <a:pt x="2758" y="4"/>
                  </a:lnTo>
                  <a:lnTo>
                    <a:pt x="2782" y="1"/>
                  </a:lnTo>
                  <a:lnTo>
                    <a:pt x="2808" y="0"/>
                  </a:lnTo>
                  <a:lnTo>
                    <a:pt x="2826" y="0"/>
                  </a:lnTo>
                  <a:lnTo>
                    <a:pt x="2843" y="1"/>
                  </a:lnTo>
                  <a:lnTo>
                    <a:pt x="2859" y="2"/>
                  </a:lnTo>
                  <a:lnTo>
                    <a:pt x="2874" y="4"/>
                  </a:lnTo>
                  <a:lnTo>
                    <a:pt x="2891" y="6"/>
                  </a:lnTo>
                  <a:lnTo>
                    <a:pt x="2911" y="10"/>
                  </a:lnTo>
                  <a:lnTo>
                    <a:pt x="2935" y="13"/>
                  </a:lnTo>
                  <a:lnTo>
                    <a:pt x="2963" y="19"/>
                  </a:lnTo>
                  <a:lnTo>
                    <a:pt x="2963" y="101"/>
                  </a:lnTo>
                  <a:lnTo>
                    <a:pt x="2943" y="95"/>
                  </a:lnTo>
                  <a:lnTo>
                    <a:pt x="2924" y="88"/>
                  </a:lnTo>
                  <a:lnTo>
                    <a:pt x="2903" y="83"/>
                  </a:lnTo>
                  <a:lnTo>
                    <a:pt x="2882" y="78"/>
                  </a:lnTo>
                  <a:lnTo>
                    <a:pt x="2861" y="74"/>
                  </a:lnTo>
                  <a:lnTo>
                    <a:pt x="2840" y="72"/>
                  </a:lnTo>
                  <a:lnTo>
                    <a:pt x="2820" y="71"/>
                  </a:lnTo>
                  <a:lnTo>
                    <a:pt x="2801" y="69"/>
                  </a:lnTo>
                  <a:lnTo>
                    <a:pt x="2785" y="69"/>
                  </a:lnTo>
                  <a:lnTo>
                    <a:pt x="2770" y="72"/>
                  </a:lnTo>
                  <a:lnTo>
                    <a:pt x="2756" y="74"/>
                  </a:lnTo>
                  <a:lnTo>
                    <a:pt x="2743" y="77"/>
                  </a:lnTo>
                  <a:lnTo>
                    <a:pt x="2731" y="82"/>
                  </a:lnTo>
                  <a:lnTo>
                    <a:pt x="2719" y="86"/>
                  </a:lnTo>
                  <a:lnTo>
                    <a:pt x="2708" y="93"/>
                  </a:lnTo>
                  <a:lnTo>
                    <a:pt x="2698" y="100"/>
                  </a:lnTo>
                  <a:lnTo>
                    <a:pt x="2690" y="107"/>
                  </a:lnTo>
                  <a:lnTo>
                    <a:pt x="2682" y="116"/>
                  </a:lnTo>
                  <a:lnTo>
                    <a:pt x="2676" y="125"/>
                  </a:lnTo>
                  <a:lnTo>
                    <a:pt x="2670" y="135"/>
                  </a:lnTo>
                  <a:lnTo>
                    <a:pt x="2667" y="146"/>
                  </a:lnTo>
                  <a:lnTo>
                    <a:pt x="2664" y="157"/>
                  </a:lnTo>
                  <a:lnTo>
                    <a:pt x="2662" y="169"/>
                  </a:lnTo>
                  <a:lnTo>
                    <a:pt x="2662" y="181"/>
                  </a:lnTo>
                  <a:lnTo>
                    <a:pt x="2662" y="194"/>
                  </a:lnTo>
                  <a:lnTo>
                    <a:pt x="2664" y="206"/>
                  </a:lnTo>
                  <a:lnTo>
                    <a:pt x="2668" y="217"/>
                  </a:lnTo>
                  <a:lnTo>
                    <a:pt x="2671" y="227"/>
                  </a:lnTo>
                  <a:lnTo>
                    <a:pt x="2678" y="236"/>
                  </a:lnTo>
                  <a:lnTo>
                    <a:pt x="2685" y="246"/>
                  </a:lnTo>
                  <a:lnTo>
                    <a:pt x="2693" y="255"/>
                  </a:lnTo>
                  <a:lnTo>
                    <a:pt x="2703" y="262"/>
                  </a:lnTo>
                  <a:lnTo>
                    <a:pt x="2725" y="276"/>
                  </a:lnTo>
                  <a:lnTo>
                    <a:pt x="2745" y="290"/>
                  </a:lnTo>
                  <a:lnTo>
                    <a:pt x="2765" y="302"/>
                  </a:lnTo>
                  <a:lnTo>
                    <a:pt x="2785" y="313"/>
                  </a:lnTo>
                  <a:lnTo>
                    <a:pt x="2853" y="351"/>
                  </a:lnTo>
                  <a:close/>
                  <a:moveTo>
                    <a:pt x="3578" y="717"/>
                  </a:moveTo>
                  <a:lnTo>
                    <a:pt x="3551" y="728"/>
                  </a:lnTo>
                  <a:lnTo>
                    <a:pt x="3527" y="738"/>
                  </a:lnTo>
                  <a:lnTo>
                    <a:pt x="3505" y="745"/>
                  </a:lnTo>
                  <a:lnTo>
                    <a:pt x="3486" y="751"/>
                  </a:lnTo>
                  <a:lnTo>
                    <a:pt x="3468" y="756"/>
                  </a:lnTo>
                  <a:lnTo>
                    <a:pt x="3444" y="759"/>
                  </a:lnTo>
                  <a:lnTo>
                    <a:pt x="3416" y="761"/>
                  </a:lnTo>
                  <a:lnTo>
                    <a:pt x="3383" y="761"/>
                  </a:lnTo>
                  <a:lnTo>
                    <a:pt x="3363" y="761"/>
                  </a:lnTo>
                  <a:lnTo>
                    <a:pt x="3345" y="760"/>
                  </a:lnTo>
                  <a:lnTo>
                    <a:pt x="3328" y="757"/>
                  </a:lnTo>
                  <a:lnTo>
                    <a:pt x="3311" y="755"/>
                  </a:lnTo>
                  <a:lnTo>
                    <a:pt x="3295" y="750"/>
                  </a:lnTo>
                  <a:lnTo>
                    <a:pt x="3280" y="745"/>
                  </a:lnTo>
                  <a:lnTo>
                    <a:pt x="3266" y="739"/>
                  </a:lnTo>
                  <a:lnTo>
                    <a:pt x="3251" y="733"/>
                  </a:lnTo>
                  <a:lnTo>
                    <a:pt x="3237" y="725"/>
                  </a:lnTo>
                  <a:lnTo>
                    <a:pt x="3225" y="716"/>
                  </a:lnTo>
                  <a:lnTo>
                    <a:pt x="3213" y="706"/>
                  </a:lnTo>
                  <a:lnTo>
                    <a:pt x="3202" y="697"/>
                  </a:lnTo>
                  <a:lnTo>
                    <a:pt x="3191" y="686"/>
                  </a:lnTo>
                  <a:lnTo>
                    <a:pt x="3181" y="672"/>
                  </a:lnTo>
                  <a:lnTo>
                    <a:pt x="3173" y="660"/>
                  </a:lnTo>
                  <a:lnTo>
                    <a:pt x="3164" y="645"/>
                  </a:lnTo>
                  <a:lnTo>
                    <a:pt x="3156" y="631"/>
                  </a:lnTo>
                  <a:lnTo>
                    <a:pt x="3148" y="616"/>
                  </a:lnTo>
                  <a:lnTo>
                    <a:pt x="3141" y="600"/>
                  </a:lnTo>
                  <a:lnTo>
                    <a:pt x="3135" y="585"/>
                  </a:lnTo>
                  <a:lnTo>
                    <a:pt x="3124" y="552"/>
                  </a:lnTo>
                  <a:lnTo>
                    <a:pt x="3114" y="518"/>
                  </a:lnTo>
                  <a:lnTo>
                    <a:pt x="3108" y="482"/>
                  </a:lnTo>
                  <a:lnTo>
                    <a:pt x="3102" y="446"/>
                  </a:lnTo>
                  <a:lnTo>
                    <a:pt x="3100" y="407"/>
                  </a:lnTo>
                  <a:lnTo>
                    <a:pt x="3098" y="367"/>
                  </a:lnTo>
                  <a:lnTo>
                    <a:pt x="3100" y="328"/>
                  </a:lnTo>
                  <a:lnTo>
                    <a:pt x="3102" y="290"/>
                  </a:lnTo>
                  <a:lnTo>
                    <a:pt x="3107" y="255"/>
                  </a:lnTo>
                  <a:lnTo>
                    <a:pt x="3114" y="220"/>
                  </a:lnTo>
                  <a:lnTo>
                    <a:pt x="3119" y="203"/>
                  </a:lnTo>
                  <a:lnTo>
                    <a:pt x="3124" y="188"/>
                  </a:lnTo>
                  <a:lnTo>
                    <a:pt x="3129" y="173"/>
                  </a:lnTo>
                  <a:lnTo>
                    <a:pt x="3135" y="158"/>
                  </a:lnTo>
                  <a:lnTo>
                    <a:pt x="3141" y="144"/>
                  </a:lnTo>
                  <a:lnTo>
                    <a:pt x="3148" y="129"/>
                  </a:lnTo>
                  <a:lnTo>
                    <a:pt x="3156" y="116"/>
                  </a:lnTo>
                  <a:lnTo>
                    <a:pt x="3163" y="102"/>
                  </a:lnTo>
                  <a:lnTo>
                    <a:pt x="3172" y="90"/>
                  </a:lnTo>
                  <a:lnTo>
                    <a:pt x="3180" y="79"/>
                  </a:lnTo>
                  <a:lnTo>
                    <a:pt x="3190" y="68"/>
                  </a:lnTo>
                  <a:lnTo>
                    <a:pt x="3201" y="57"/>
                  </a:lnTo>
                  <a:lnTo>
                    <a:pt x="3212" y="49"/>
                  </a:lnTo>
                  <a:lnTo>
                    <a:pt x="3224" y="40"/>
                  </a:lnTo>
                  <a:lnTo>
                    <a:pt x="3236" y="33"/>
                  </a:lnTo>
                  <a:lnTo>
                    <a:pt x="3250" y="26"/>
                  </a:lnTo>
                  <a:lnTo>
                    <a:pt x="3263" y="19"/>
                  </a:lnTo>
                  <a:lnTo>
                    <a:pt x="3277" y="15"/>
                  </a:lnTo>
                  <a:lnTo>
                    <a:pt x="3292" y="10"/>
                  </a:lnTo>
                  <a:lnTo>
                    <a:pt x="3308" y="6"/>
                  </a:lnTo>
                  <a:lnTo>
                    <a:pt x="3324" y="4"/>
                  </a:lnTo>
                  <a:lnTo>
                    <a:pt x="3341" y="1"/>
                  </a:lnTo>
                  <a:lnTo>
                    <a:pt x="3358" y="0"/>
                  </a:lnTo>
                  <a:lnTo>
                    <a:pt x="3377" y="0"/>
                  </a:lnTo>
                  <a:lnTo>
                    <a:pt x="3403" y="1"/>
                  </a:lnTo>
                  <a:lnTo>
                    <a:pt x="3428" y="4"/>
                  </a:lnTo>
                  <a:lnTo>
                    <a:pt x="3451" y="9"/>
                  </a:lnTo>
                  <a:lnTo>
                    <a:pt x="3473" y="15"/>
                  </a:lnTo>
                  <a:lnTo>
                    <a:pt x="3494" y="23"/>
                  </a:lnTo>
                  <a:lnTo>
                    <a:pt x="3512" y="33"/>
                  </a:lnTo>
                  <a:lnTo>
                    <a:pt x="3530" y="45"/>
                  </a:lnTo>
                  <a:lnTo>
                    <a:pt x="3546" y="60"/>
                  </a:lnTo>
                  <a:lnTo>
                    <a:pt x="3560" y="74"/>
                  </a:lnTo>
                  <a:lnTo>
                    <a:pt x="3572" y="91"/>
                  </a:lnTo>
                  <a:lnTo>
                    <a:pt x="3583" y="108"/>
                  </a:lnTo>
                  <a:lnTo>
                    <a:pt x="3591" y="128"/>
                  </a:lnTo>
                  <a:lnTo>
                    <a:pt x="3597" y="147"/>
                  </a:lnTo>
                  <a:lnTo>
                    <a:pt x="3602" y="168"/>
                  </a:lnTo>
                  <a:lnTo>
                    <a:pt x="3606" y="190"/>
                  </a:lnTo>
                  <a:lnTo>
                    <a:pt x="3606" y="213"/>
                  </a:lnTo>
                  <a:lnTo>
                    <a:pt x="3512" y="213"/>
                  </a:lnTo>
                  <a:lnTo>
                    <a:pt x="3512" y="197"/>
                  </a:lnTo>
                  <a:lnTo>
                    <a:pt x="3510" y="183"/>
                  </a:lnTo>
                  <a:lnTo>
                    <a:pt x="3507" y="168"/>
                  </a:lnTo>
                  <a:lnTo>
                    <a:pt x="3503" y="155"/>
                  </a:lnTo>
                  <a:lnTo>
                    <a:pt x="3499" y="142"/>
                  </a:lnTo>
                  <a:lnTo>
                    <a:pt x="3492" y="130"/>
                  </a:lnTo>
                  <a:lnTo>
                    <a:pt x="3485" y="119"/>
                  </a:lnTo>
                  <a:lnTo>
                    <a:pt x="3477" y="110"/>
                  </a:lnTo>
                  <a:lnTo>
                    <a:pt x="3467" y="100"/>
                  </a:lnTo>
                  <a:lnTo>
                    <a:pt x="3457" y="91"/>
                  </a:lnTo>
                  <a:lnTo>
                    <a:pt x="3446" y="85"/>
                  </a:lnTo>
                  <a:lnTo>
                    <a:pt x="3434" y="79"/>
                  </a:lnTo>
                  <a:lnTo>
                    <a:pt x="3422" y="76"/>
                  </a:lnTo>
                  <a:lnTo>
                    <a:pt x="3407" y="72"/>
                  </a:lnTo>
                  <a:lnTo>
                    <a:pt x="3392" y="71"/>
                  </a:lnTo>
                  <a:lnTo>
                    <a:pt x="3377" y="69"/>
                  </a:lnTo>
                  <a:lnTo>
                    <a:pt x="3364" y="69"/>
                  </a:lnTo>
                  <a:lnTo>
                    <a:pt x="3351" y="71"/>
                  </a:lnTo>
                  <a:lnTo>
                    <a:pt x="3340" y="73"/>
                  </a:lnTo>
                  <a:lnTo>
                    <a:pt x="3328" y="76"/>
                  </a:lnTo>
                  <a:lnTo>
                    <a:pt x="3317" y="78"/>
                  </a:lnTo>
                  <a:lnTo>
                    <a:pt x="3307" y="82"/>
                  </a:lnTo>
                  <a:lnTo>
                    <a:pt x="3297" y="86"/>
                  </a:lnTo>
                  <a:lnTo>
                    <a:pt x="3288" y="91"/>
                  </a:lnTo>
                  <a:lnTo>
                    <a:pt x="3278" y="96"/>
                  </a:lnTo>
                  <a:lnTo>
                    <a:pt x="3270" y="104"/>
                  </a:lnTo>
                  <a:lnTo>
                    <a:pt x="3262" y="111"/>
                  </a:lnTo>
                  <a:lnTo>
                    <a:pt x="3255" y="118"/>
                  </a:lnTo>
                  <a:lnTo>
                    <a:pt x="3247" y="127"/>
                  </a:lnTo>
                  <a:lnTo>
                    <a:pt x="3241" y="135"/>
                  </a:lnTo>
                  <a:lnTo>
                    <a:pt x="3235" y="145"/>
                  </a:lnTo>
                  <a:lnTo>
                    <a:pt x="3230" y="156"/>
                  </a:lnTo>
                  <a:lnTo>
                    <a:pt x="3220" y="178"/>
                  </a:lnTo>
                  <a:lnTo>
                    <a:pt x="3212" y="201"/>
                  </a:lnTo>
                  <a:lnTo>
                    <a:pt x="3206" y="227"/>
                  </a:lnTo>
                  <a:lnTo>
                    <a:pt x="3200" y="252"/>
                  </a:lnTo>
                  <a:lnTo>
                    <a:pt x="3195" y="280"/>
                  </a:lnTo>
                  <a:lnTo>
                    <a:pt x="3192" y="309"/>
                  </a:lnTo>
                  <a:lnTo>
                    <a:pt x="3190" y="340"/>
                  </a:lnTo>
                  <a:lnTo>
                    <a:pt x="3190" y="371"/>
                  </a:lnTo>
                  <a:lnTo>
                    <a:pt x="3190" y="412"/>
                  </a:lnTo>
                  <a:lnTo>
                    <a:pt x="3194" y="449"/>
                  </a:lnTo>
                  <a:lnTo>
                    <a:pt x="3198" y="483"/>
                  </a:lnTo>
                  <a:lnTo>
                    <a:pt x="3205" y="515"/>
                  </a:lnTo>
                  <a:lnTo>
                    <a:pt x="3208" y="531"/>
                  </a:lnTo>
                  <a:lnTo>
                    <a:pt x="3213" y="544"/>
                  </a:lnTo>
                  <a:lnTo>
                    <a:pt x="3218" y="558"/>
                  </a:lnTo>
                  <a:lnTo>
                    <a:pt x="3223" y="571"/>
                  </a:lnTo>
                  <a:lnTo>
                    <a:pt x="3229" y="583"/>
                  </a:lnTo>
                  <a:lnTo>
                    <a:pt x="3235" y="594"/>
                  </a:lnTo>
                  <a:lnTo>
                    <a:pt x="3241" y="605"/>
                  </a:lnTo>
                  <a:lnTo>
                    <a:pt x="3248" y="615"/>
                  </a:lnTo>
                  <a:lnTo>
                    <a:pt x="3257" y="625"/>
                  </a:lnTo>
                  <a:lnTo>
                    <a:pt x="3264" y="633"/>
                  </a:lnTo>
                  <a:lnTo>
                    <a:pt x="3273" y="642"/>
                  </a:lnTo>
                  <a:lnTo>
                    <a:pt x="3281" y="649"/>
                  </a:lnTo>
                  <a:lnTo>
                    <a:pt x="3290" y="655"/>
                  </a:lnTo>
                  <a:lnTo>
                    <a:pt x="3298" y="662"/>
                  </a:lnTo>
                  <a:lnTo>
                    <a:pt x="3308" y="667"/>
                  </a:lnTo>
                  <a:lnTo>
                    <a:pt x="3317" y="673"/>
                  </a:lnTo>
                  <a:lnTo>
                    <a:pt x="3327" y="677"/>
                  </a:lnTo>
                  <a:lnTo>
                    <a:pt x="3336" y="681"/>
                  </a:lnTo>
                  <a:lnTo>
                    <a:pt x="3347" y="684"/>
                  </a:lnTo>
                  <a:lnTo>
                    <a:pt x="3358" y="687"/>
                  </a:lnTo>
                  <a:lnTo>
                    <a:pt x="3368" y="689"/>
                  </a:lnTo>
                  <a:lnTo>
                    <a:pt x="3380" y="690"/>
                  </a:lnTo>
                  <a:lnTo>
                    <a:pt x="3391" y="692"/>
                  </a:lnTo>
                  <a:lnTo>
                    <a:pt x="3402" y="692"/>
                  </a:lnTo>
                  <a:lnTo>
                    <a:pt x="3418" y="692"/>
                  </a:lnTo>
                  <a:lnTo>
                    <a:pt x="3431" y="690"/>
                  </a:lnTo>
                  <a:lnTo>
                    <a:pt x="3446" y="689"/>
                  </a:lnTo>
                  <a:lnTo>
                    <a:pt x="3458" y="688"/>
                  </a:lnTo>
                  <a:lnTo>
                    <a:pt x="3471" y="686"/>
                  </a:lnTo>
                  <a:lnTo>
                    <a:pt x="3483" y="682"/>
                  </a:lnTo>
                  <a:lnTo>
                    <a:pt x="3494" y="678"/>
                  </a:lnTo>
                  <a:lnTo>
                    <a:pt x="3505" y="673"/>
                  </a:lnTo>
                  <a:lnTo>
                    <a:pt x="3524" y="665"/>
                  </a:lnTo>
                  <a:lnTo>
                    <a:pt x="3544" y="654"/>
                  </a:lnTo>
                  <a:lnTo>
                    <a:pt x="3561" y="643"/>
                  </a:lnTo>
                  <a:lnTo>
                    <a:pt x="3578" y="631"/>
                  </a:lnTo>
                  <a:lnTo>
                    <a:pt x="3578" y="717"/>
                  </a:lnTo>
                  <a:close/>
                  <a:moveTo>
                    <a:pt x="3865" y="12"/>
                  </a:moveTo>
                  <a:lnTo>
                    <a:pt x="3966" y="12"/>
                  </a:lnTo>
                  <a:lnTo>
                    <a:pt x="4205" y="750"/>
                  </a:lnTo>
                  <a:lnTo>
                    <a:pt x="4122" y="750"/>
                  </a:lnTo>
                  <a:lnTo>
                    <a:pt x="4048" y="522"/>
                  </a:lnTo>
                  <a:lnTo>
                    <a:pt x="3784" y="522"/>
                  </a:lnTo>
                  <a:lnTo>
                    <a:pt x="3712" y="750"/>
                  </a:lnTo>
                  <a:lnTo>
                    <a:pt x="3629" y="750"/>
                  </a:lnTo>
                  <a:lnTo>
                    <a:pt x="3865" y="12"/>
                  </a:lnTo>
                  <a:close/>
                  <a:moveTo>
                    <a:pt x="3807" y="453"/>
                  </a:moveTo>
                  <a:lnTo>
                    <a:pt x="4024" y="453"/>
                  </a:lnTo>
                  <a:lnTo>
                    <a:pt x="3917" y="88"/>
                  </a:lnTo>
                  <a:lnTo>
                    <a:pt x="3807" y="453"/>
                  </a:lnTo>
                  <a:close/>
                  <a:moveTo>
                    <a:pt x="4288" y="643"/>
                  </a:moveTo>
                  <a:lnTo>
                    <a:pt x="4383" y="643"/>
                  </a:lnTo>
                  <a:lnTo>
                    <a:pt x="4345" y="882"/>
                  </a:lnTo>
                  <a:lnTo>
                    <a:pt x="4273" y="882"/>
                  </a:lnTo>
                  <a:lnTo>
                    <a:pt x="4288" y="643"/>
                  </a:lnTo>
                  <a:close/>
                  <a:moveTo>
                    <a:pt x="4802" y="12"/>
                  </a:moveTo>
                  <a:lnTo>
                    <a:pt x="4998" y="12"/>
                  </a:lnTo>
                  <a:lnTo>
                    <a:pt x="5021" y="12"/>
                  </a:lnTo>
                  <a:lnTo>
                    <a:pt x="5042" y="15"/>
                  </a:lnTo>
                  <a:lnTo>
                    <a:pt x="5061" y="18"/>
                  </a:lnTo>
                  <a:lnTo>
                    <a:pt x="5081" y="23"/>
                  </a:lnTo>
                  <a:lnTo>
                    <a:pt x="5099" y="30"/>
                  </a:lnTo>
                  <a:lnTo>
                    <a:pt x="5115" y="38"/>
                  </a:lnTo>
                  <a:lnTo>
                    <a:pt x="5131" y="47"/>
                  </a:lnTo>
                  <a:lnTo>
                    <a:pt x="5144" y="58"/>
                  </a:lnTo>
                  <a:lnTo>
                    <a:pt x="5158" y="71"/>
                  </a:lnTo>
                  <a:lnTo>
                    <a:pt x="5169" y="85"/>
                  </a:lnTo>
                  <a:lnTo>
                    <a:pt x="5179" y="100"/>
                  </a:lnTo>
                  <a:lnTo>
                    <a:pt x="5186" y="116"/>
                  </a:lnTo>
                  <a:lnTo>
                    <a:pt x="5192" y="134"/>
                  </a:lnTo>
                  <a:lnTo>
                    <a:pt x="5196" y="152"/>
                  </a:lnTo>
                  <a:lnTo>
                    <a:pt x="5199" y="173"/>
                  </a:lnTo>
                  <a:lnTo>
                    <a:pt x="5199" y="194"/>
                  </a:lnTo>
                  <a:lnTo>
                    <a:pt x="5199" y="213"/>
                  </a:lnTo>
                  <a:lnTo>
                    <a:pt x="5197" y="231"/>
                  </a:lnTo>
                  <a:lnTo>
                    <a:pt x="5194" y="247"/>
                  </a:lnTo>
                  <a:lnTo>
                    <a:pt x="5191" y="263"/>
                  </a:lnTo>
                  <a:lnTo>
                    <a:pt x="5186" y="276"/>
                  </a:lnTo>
                  <a:lnTo>
                    <a:pt x="5179" y="289"/>
                  </a:lnTo>
                  <a:lnTo>
                    <a:pt x="5171" y="300"/>
                  </a:lnTo>
                  <a:lnTo>
                    <a:pt x="5163" y="309"/>
                  </a:lnTo>
                  <a:lnTo>
                    <a:pt x="5144" y="325"/>
                  </a:lnTo>
                  <a:lnTo>
                    <a:pt x="5127" y="339"/>
                  </a:lnTo>
                  <a:lnTo>
                    <a:pt x="5118" y="345"/>
                  </a:lnTo>
                  <a:lnTo>
                    <a:pt x="5109" y="350"/>
                  </a:lnTo>
                  <a:lnTo>
                    <a:pt x="5100" y="353"/>
                  </a:lnTo>
                  <a:lnTo>
                    <a:pt x="5092" y="357"/>
                  </a:lnTo>
                  <a:lnTo>
                    <a:pt x="5107" y="362"/>
                  </a:lnTo>
                  <a:lnTo>
                    <a:pt x="5121" y="368"/>
                  </a:lnTo>
                  <a:lnTo>
                    <a:pt x="5135" y="374"/>
                  </a:lnTo>
                  <a:lnTo>
                    <a:pt x="5147" y="380"/>
                  </a:lnTo>
                  <a:lnTo>
                    <a:pt x="5160" y="387"/>
                  </a:lnTo>
                  <a:lnTo>
                    <a:pt x="5171" y="396"/>
                  </a:lnTo>
                  <a:lnTo>
                    <a:pt x="5182" y="404"/>
                  </a:lnTo>
                  <a:lnTo>
                    <a:pt x="5193" y="414"/>
                  </a:lnTo>
                  <a:lnTo>
                    <a:pt x="5203" y="425"/>
                  </a:lnTo>
                  <a:lnTo>
                    <a:pt x="5211" y="438"/>
                  </a:lnTo>
                  <a:lnTo>
                    <a:pt x="5218" y="452"/>
                  </a:lnTo>
                  <a:lnTo>
                    <a:pt x="5224" y="469"/>
                  </a:lnTo>
                  <a:lnTo>
                    <a:pt x="5229" y="486"/>
                  </a:lnTo>
                  <a:lnTo>
                    <a:pt x="5231" y="505"/>
                  </a:lnTo>
                  <a:lnTo>
                    <a:pt x="5233" y="527"/>
                  </a:lnTo>
                  <a:lnTo>
                    <a:pt x="5233" y="550"/>
                  </a:lnTo>
                  <a:lnTo>
                    <a:pt x="5232" y="576"/>
                  </a:lnTo>
                  <a:lnTo>
                    <a:pt x="5230" y="599"/>
                  </a:lnTo>
                  <a:lnTo>
                    <a:pt x="5227" y="611"/>
                  </a:lnTo>
                  <a:lnTo>
                    <a:pt x="5225" y="621"/>
                  </a:lnTo>
                  <a:lnTo>
                    <a:pt x="5221" y="632"/>
                  </a:lnTo>
                  <a:lnTo>
                    <a:pt x="5218" y="642"/>
                  </a:lnTo>
                  <a:lnTo>
                    <a:pt x="5213" y="652"/>
                  </a:lnTo>
                  <a:lnTo>
                    <a:pt x="5208" y="660"/>
                  </a:lnTo>
                  <a:lnTo>
                    <a:pt x="5203" y="669"/>
                  </a:lnTo>
                  <a:lnTo>
                    <a:pt x="5197" y="676"/>
                  </a:lnTo>
                  <a:lnTo>
                    <a:pt x="5189" y="684"/>
                  </a:lnTo>
                  <a:lnTo>
                    <a:pt x="5183" y="690"/>
                  </a:lnTo>
                  <a:lnTo>
                    <a:pt x="5175" y="698"/>
                  </a:lnTo>
                  <a:lnTo>
                    <a:pt x="5168" y="704"/>
                  </a:lnTo>
                  <a:lnTo>
                    <a:pt x="5150" y="715"/>
                  </a:lnTo>
                  <a:lnTo>
                    <a:pt x="5132" y="723"/>
                  </a:lnTo>
                  <a:lnTo>
                    <a:pt x="5113" y="732"/>
                  </a:lnTo>
                  <a:lnTo>
                    <a:pt x="5092" y="738"/>
                  </a:lnTo>
                  <a:lnTo>
                    <a:pt x="5070" y="743"/>
                  </a:lnTo>
                  <a:lnTo>
                    <a:pt x="5047" y="747"/>
                  </a:lnTo>
                  <a:lnTo>
                    <a:pt x="5024" y="749"/>
                  </a:lnTo>
                  <a:lnTo>
                    <a:pt x="4998" y="750"/>
                  </a:lnTo>
                  <a:lnTo>
                    <a:pt x="4802" y="750"/>
                  </a:lnTo>
                  <a:lnTo>
                    <a:pt x="4802" y="12"/>
                  </a:lnTo>
                  <a:close/>
                  <a:moveTo>
                    <a:pt x="4886" y="330"/>
                  </a:moveTo>
                  <a:lnTo>
                    <a:pt x="4958" y="330"/>
                  </a:lnTo>
                  <a:lnTo>
                    <a:pt x="4977" y="330"/>
                  </a:lnTo>
                  <a:lnTo>
                    <a:pt x="4997" y="329"/>
                  </a:lnTo>
                  <a:lnTo>
                    <a:pt x="5014" y="326"/>
                  </a:lnTo>
                  <a:lnTo>
                    <a:pt x="5030" y="323"/>
                  </a:lnTo>
                  <a:lnTo>
                    <a:pt x="5044" y="318"/>
                  </a:lnTo>
                  <a:lnTo>
                    <a:pt x="5057" y="312"/>
                  </a:lnTo>
                  <a:lnTo>
                    <a:pt x="5069" y="306"/>
                  </a:lnTo>
                  <a:lnTo>
                    <a:pt x="5078" y="298"/>
                  </a:lnTo>
                  <a:lnTo>
                    <a:pt x="5087" y="290"/>
                  </a:lnTo>
                  <a:lnTo>
                    <a:pt x="5094" y="280"/>
                  </a:lnTo>
                  <a:lnTo>
                    <a:pt x="5102" y="269"/>
                  </a:lnTo>
                  <a:lnTo>
                    <a:pt x="5107" y="257"/>
                  </a:lnTo>
                  <a:lnTo>
                    <a:pt x="5110" y="244"/>
                  </a:lnTo>
                  <a:lnTo>
                    <a:pt x="5114" y="230"/>
                  </a:lnTo>
                  <a:lnTo>
                    <a:pt x="5115" y="216"/>
                  </a:lnTo>
                  <a:lnTo>
                    <a:pt x="5116" y="199"/>
                  </a:lnTo>
                  <a:lnTo>
                    <a:pt x="5115" y="181"/>
                  </a:lnTo>
                  <a:lnTo>
                    <a:pt x="5114" y="166"/>
                  </a:lnTo>
                  <a:lnTo>
                    <a:pt x="5110" y="152"/>
                  </a:lnTo>
                  <a:lnTo>
                    <a:pt x="5105" y="140"/>
                  </a:lnTo>
                  <a:lnTo>
                    <a:pt x="5099" y="128"/>
                  </a:lnTo>
                  <a:lnTo>
                    <a:pt x="5092" y="119"/>
                  </a:lnTo>
                  <a:lnTo>
                    <a:pt x="5083" y="111"/>
                  </a:lnTo>
                  <a:lnTo>
                    <a:pt x="5074" y="105"/>
                  </a:lnTo>
                  <a:lnTo>
                    <a:pt x="5063" y="99"/>
                  </a:lnTo>
                  <a:lnTo>
                    <a:pt x="5050" y="94"/>
                  </a:lnTo>
                  <a:lnTo>
                    <a:pt x="5038" y="90"/>
                  </a:lnTo>
                  <a:lnTo>
                    <a:pt x="5026" y="86"/>
                  </a:lnTo>
                  <a:lnTo>
                    <a:pt x="5013" y="84"/>
                  </a:lnTo>
                  <a:lnTo>
                    <a:pt x="4998" y="83"/>
                  </a:lnTo>
                  <a:lnTo>
                    <a:pt x="4985" y="82"/>
                  </a:lnTo>
                  <a:lnTo>
                    <a:pt x="4969" y="82"/>
                  </a:lnTo>
                  <a:lnTo>
                    <a:pt x="4886" y="82"/>
                  </a:lnTo>
                  <a:lnTo>
                    <a:pt x="4886" y="330"/>
                  </a:lnTo>
                  <a:close/>
                  <a:moveTo>
                    <a:pt x="4886" y="681"/>
                  </a:moveTo>
                  <a:lnTo>
                    <a:pt x="4982" y="681"/>
                  </a:lnTo>
                  <a:lnTo>
                    <a:pt x="4998" y="680"/>
                  </a:lnTo>
                  <a:lnTo>
                    <a:pt x="5013" y="678"/>
                  </a:lnTo>
                  <a:lnTo>
                    <a:pt x="5027" y="677"/>
                  </a:lnTo>
                  <a:lnTo>
                    <a:pt x="5042" y="673"/>
                  </a:lnTo>
                  <a:lnTo>
                    <a:pt x="5057" y="670"/>
                  </a:lnTo>
                  <a:lnTo>
                    <a:pt x="5070" y="666"/>
                  </a:lnTo>
                  <a:lnTo>
                    <a:pt x="5083" y="661"/>
                  </a:lnTo>
                  <a:lnTo>
                    <a:pt x="5097" y="655"/>
                  </a:lnTo>
                  <a:lnTo>
                    <a:pt x="5104" y="652"/>
                  </a:lnTo>
                  <a:lnTo>
                    <a:pt x="5110" y="648"/>
                  </a:lnTo>
                  <a:lnTo>
                    <a:pt x="5115" y="643"/>
                  </a:lnTo>
                  <a:lnTo>
                    <a:pt x="5120" y="638"/>
                  </a:lnTo>
                  <a:lnTo>
                    <a:pt x="5125" y="632"/>
                  </a:lnTo>
                  <a:lnTo>
                    <a:pt x="5130" y="627"/>
                  </a:lnTo>
                  <a:lnTo>
                    <a:pt x="5133" y="620"/>
                  </a:lnTo>
                  <a:lnTo>
                    <a:pt x="5137" y="614"/>
                  </a:lnTo>
                  <a:lnTo>
                    <a:pt x="5143" y="598"/>
                  </a:lnTo>
                  <a:lnTo>
                    <a:pt x="5147" y="581"/>
                  </a:lnTo>
                  <a:lnTo>
                    <a:pt x="5149" y="563"/>
                  </a:lnTo>
                  <a:lnTo>
                    <a:pt x="5150" y="542"/>
                  </a:lnTo>
                  <a:lnTo>
                    <a:pt x="5149" y="525"/>
                  </a:lnTo>
                  <a:lnTo>
                    <a:pt x="5148" y="510"/>
                  </a:lnTo>
                  <a:lnTo>
                    <a:pt x="5144" y="496"/>
                  </a:lnTo>
                  <a:lnTo>
                    <a:pt x="5139" y="482"/>
                  </a:lnTo>
                  <a:lnTo>
                    <a:pt x="5133" y="470"/>
                  </a:lnTo>
                  <a:lnTo>
                    <a:pt x="5126" y="458"/>
                  </a:lnTo>
                  <a:lnTo>
                    <a:pt x="5116" y="447"/>
                  </a:lnTo>
                  <a:lnTo>
                    <a:pt x="5107" y="437"/>
                  </a:lnTo>
                  <a:lnTo>
                    <a:pt x="5094" y="429"/>
                  </a:lnTo>
                  <a:lnTo>
                    <a:pt x="5082" y="421"/>
                  </a:lnTo>
                  <a:lnTo>
                    <a:pt x="5070" y="415"/>
                  </a:lnTo>
                  <a:lnTo>
                    <a:pt x="5055" y="409"/>
                  </a:lnTo>
                  <a:lnTo>
                    <a:pt x="5041" y="406"/>
                  </a:lnTo>
                  <a:lnTo>
                    <a:pt x="5025" y="402"/>
                  </a:lnTo>
                  <a:lnTo>
                    <a:pt x="5009" y="401"/>
                  </a:lnTo>
                  <a:lnTo>
                    <a:pt x="4992" y="401"/>
                  </a:lnTo>
                  <a:lnTo>
                    <a:pt x="4886" y="401"/>
                  </a:lnTo>
                  <a:lnTo>
                    <a:pt x="4886" y="681"/>
                  </a:lnTo>
                  <a:close/>
                  <a:moveTo>
                    <a:pt x="5377" y="12"/>
                  </a:moveTo>
                  <a:lnTo>
                    <a:pt x="5735" y="12"/>
                  </a:lnTo>
                  <a:lnTo>
                    <a:pt x="5735" y="82"/>
                  </a:lnTo>
                  <a:lnTo>
                    <a:pt x="5462" y="82"/>
                  </a:lnTo>
                  <a:lnTo>
                    <a:pt x="5462" y="329"/>
                  </a:lnTo>
                  <a:lnTo>
                    <a:pt x="5723" y="329"/>
                  </a:lnTo>
                  <a:lnTo>
                    <a:pt x="5723" y="398"/>
                  </a:lnTo>
                  <a:lnTo>
                    <a:pt x="5462" y="398"/>
                  </a:lnTo>
                  <a:lnTo>
                    <a:pt x="5462" y="681"/>
                  </a:lnTo>
                  <a:lnTo>
                    <a:pt x="5745" y="681"/>
                  </a:lnTo>
                  <a:lnTo>
                    <a:pt x="5745" y="750"/>
                  </a:lnTo>
                  <a:lnTo>
                    <a:pt x="5377" y="750"/>
                  </a:lnTo>
                  <a:lnTo>
                    <a:pt x="5377" y="12"/>
                  </a:lnTo>
                  <a:close/>
                  <a:moveTo>
                    <a:pt x="5874" y="12"/>
                  </a:moveTo>
                  <a:lnTo>
                    <a:pt x="6057" y="12"/>
                  </a:lnTo>
                  <a:lnTo>
                    <a:pt x="6085" y="12"/>
                  </a:lnTo>
                  <a:lnTo>
                    <a:pt x="6111" y="15"/>
                  </a:lnTo>
                  <a:lnTo>
                    <a:pt x="6135" y="18"/>
                  </a:lnTo>
                  <a:lnTo>
                    <a:pt x="6158" y="23"/>
                  </a:lnTo>
                  <a:lnTo>
                    <a:pt x="6179" y="30"/>
                  </a:lnTo>
                  <a:lnTo>
                    <a:pt x="6198" y="38"/>
                  </a:lnTo>
                  <a:lnTo>
                    <a:pt x="6216" y="47"/>
                  </a:lnTo>
                  <a:lnTo>
                    <a:pt x="6231" y="58"/>
                  </a:lnTo>
                  <a:lnTo>
                    <a:pt x="6246" y="72"/>
                  </a:lnTo>
                  <a:lnTo>
                    <a:pt x="6258" y="85"/>
                  </a:lnTo>
                  <a:lnTo>
                    <a:pt x="6269" y="100"/>
                  </a:lnTo>
                  <a:lnTo>
                    <a:pt x="6278" y="117"/>
                  </a:lnTo>
                  <a:lnTo>
                    <a:pt x="6284" y="135"/>
                  </a:lnTo>
                  <a:lnTo>
                    <a:pt x="6289" y="155"/>
                  </a:lnTo>
                  <a:lnTo>
                    <a:pt x="6291" y="175"/>
                  </a:lnTo>
                  <a:lnTo>
                    <a:pt x="6292" y="199"/>
                  </a:lnTo>
                  <a:lnTo>
                    <a:pt x="6291" y="219"/>
                  </a:lnTo>
                  <a:lnTo>
                    <a:pt x="6290" y="239"/>
                  </a:lnTo>
                  <a:lnTo>
                    <a:pt x="6286" y="258"/>
                  </a:lnTo>
                  <a:lnTo>
                    <a:pt x="6281" y="274"/>
                  </a:lnTo>
                  <a:lnTo>
                    <a:pt x="6277" y="290"/>
                  </a:lnTo>
                  <a:lnTo>
                    <a:pt x="6269" y="303"/>
                  </a:lnTo>
                  <a:lnTo>
                    <a:pt x="6261" y="315"/>
                  </a:lnTo>
                  <a:lnTo>
                    <a:pt x="6251" y="326"/>
                  </a:lnTo>
                  <a:lnTo>
                    <a:pt x="6240" y="336"/>
                  </a:lnTo>
                  <a:lnTo>
                    <a:pt x="6228" y="345"/>
                  </a:lnTo>
                  <a:lnTo>
                    <a:pt x="6216" y="353"/>
                  </a:lnTo>
                  <a:lnTo>
                    <a:pt x="6202" y="360"/>
                  </a:lnTo>
                  <a:lnTo>
                    <a:pt x="6189" y="367"/>
                  </a:lnTo>
                  <a:lnTo>
                    <a:pt x="6174" y="373"/>
                  </a:lnTo>
                  <a:lnTo>
                    <a:pt x="6158" y="379"/>
                  </a:lnTo>
                  <a:lnTo>
                    <a:pt x="6142" y="382"/>
                  </a:lnTo>
                  <a:lnTo>
                    <a:pt x="6159" y="388"/>
                  </a:lnTo>
                  <a:lnTo>
                    <a:pt x="6174" y="393"/>
                  </a:lnTo>
                  <a:lnTo>
                    <a:pt x="6187" y="399"/>
                  </a:lnTo>
                  <a:lnTo>
                    <a:pt x="6200" y="407"/>
                  </a:lnTo>
                  <a:lnTo>
                    <a:pt x="6209" y="413"/>
                  </a:lnTo>
                  <a:lnTo>
                    <a:pt x="6219" y="421"/>
                  </a:lnTo>
                  <a:lnTo>
                    <a:pt x="6226" y="429"/>
                  </a:lnTo>
                  <a:lnTo>
                    <a:pt x="6233" y="437"/>
                  </a:lnTo>
                  <a:lnTo>
                    <a:pt x="6239" y="447"/>
                  </a:lnTo>
                  <a:lnTo>
                    <a:pt x="6244" y="458"/>
                  </a:lnTo>
                  <a:lnTo>
                    <a:pt x="6248" y="470"/>
                  </a:lnTo>
                  <a:lnTo>
                    <a:pt x="6253" y="482"/>
                  </a:lnTo>
                  <a:lnTo>
                    <a:pt x="6262" y="513"/>
                  </a:lnTo>
                  <a:lnTo>
                    <a:pt x="6270" y="548"/>
                  </a:lnTo>
                  <a:lnTo>
                    <a:pt x="6313" y="750"/>
                  </a:lnTo>
                  <a:lnTo>
                    <a:pt x="6229" y="750"/>
                  </a:lnTo>
                  <a:lnTo>
                    <a:pt x="6192" y="580"/>
                  </a:lnTo>
                  <a:lnTo>
                    <a:pt x="6187" y="559"/>
                  </a:lnTo>
                  <a:lnTo>
                    <a:pt x="6183" y="539"/>
                  </a:lnTo>
                  <a:lnTo>
                    <a:pt x="6178" y="521"/>
                  </a:lnTo>
                  <a:lnTo>
                    <a:pt x="6172" y="505"/>
                  </a:lnTo>
                  <a:lnTo>
                    <a:pt x="6165" y="491"/>
                  </a:lnTo>
                  <a:lnTo>
                    <a:pt x="6158" y="477"/>
                  </a:lnTo>
                  <a:lnTo>
                    <a:pt x="6151" y="466"/>
                  </a:lnTo>
                  <a:lnTo>
                    <a:pt x="6144" y="457"/>
                  </a:lnTo>
                  <a:lnTo>
                    <a:pt x="6136" y="448"/>
                  </a:lnTo>
                  <a:lnTo>
                    <a:pt x="6125" y="441"/>
                  </a:lnTo>
                  <a:lnTo>
                    <a:pt x="6114" y="435"/>
                  </a:lnTo>
                  <a:lnTo>
                    <a:pt x="6101" y="430"/>
                  </a:lnTo>
                  <a:lnTo>
                    <a:pt x="6086" y="426"/>
                  </a:lnTo>
                  <a:lnTo>
                    <a:pt x="6070" y="424"/>
                  </a:lnTo>
                  <a:lnTo>
                    <a:pt x="6053" y="423"/>
                  </a:lnTo>
                  <a:lnTo>
                    <a:pt x="6034" y="421"/>
                  </a:lnTo>
                  <a:lnTo>
                    <a:pt x="5957" y="421"/>
                  </a:lnTo>
                  <a:lnTo>
                    <a:pt x="5957" y="750"/>
                  </a:lnTo>
                  <a:lnTo>
                    <a:pt x="5874" y="750"/>
                  </a:lnTo>
                  <a:lnTo>
                    <a:pt x="5874" y="12"/>
                  </a:lnTo>
                  <a:close/>
                  <a:moveTo>
                    <a:pt x="5957" y="352"/>
                  </a:moveTo>
                  <a:lnTo>
                    <a:pt x="6003" y="352"/>
                  </a:lnTo>
                  <a:lnTo>
                    <a:pt x="6025" y="352"/>
                  </a:lnTo>
                  <a:lnTo>
                    <a:pt x="6047" y="350"/>
                  </a:lnTo>
                  <a:lnTo>
                    <a:pt x="6067" y="347"/>
                  </a:lnTo>
                  <a:lnTo>
                    <a:pt x="6086" y="345"/>
                  </a:lnTo>
                  <a:lnTo>
                    <a:pt x="6104" y="340"/>
                  </a:lnTo>
                  <a:lnTo>
                    <a:pt x="6122" y="335"/>
                  </a:lnTo>
                  <a:lnTo>
                    <a:pt x="6137" y="329"/>
                  </a:lnTo>
                  <a:lnTo>
                    <a:pt x="6152" y="321"/>
                  </a:lnTo>
                  <a:lnTo>
                    <a:pt x="6165" y="313"/>
                  </a:lnTo>
                  <a:lnTo>
                    <a:pt x="6176" y="303"/>
                  </a:lnTo>
                  <a:lnTo>
                    <a:pt x="6186" y="291"/>
                  </a:lnTo>
                  <a:lnTo>
                    <a:pt x="6195" y="278"/>
                  </a:lnTo>
                  <a:lnTo>
                    <a:pt x="6201" y="262"/>
                  </a:lnTo>
                  <a:lnTo>
                    <a:pt x="6206" y="245"/>
                  </a:lnTo>
                  <a:lnTo>
                    <a:pt x="6208" y="227"/>
                  </a:lnTo>
                  <a:lnTo>
                    <a:pt x="6209" y="207"/>
                  </a:lnTo>
                  <a:lnTo>
                    <a:pt x="6208" y="186"/>
                  </a:lnTo>
                  <a:lnTo>
                    <a:pt x="6206" y="169"/>
                  </a:lnTo>
                  <a:lnTo>
                    <a:pt x="6202" y="153"/>
                  </a:lnTo>
                  <a:lnTo>
                    <a:pt x="6196" y="139"/>
                  </a:lnTo>
                  <a:lnTo>
                    <a:pt x="6190" y="128"/>
                  </a:lnTo>
                  <a:lnTo>
                    <a:pt x="6181" y="117"/>
                  </a:lnTo>
                  <a:lnTo>
                    <a:pt x="6172" y="110"/>
                  </a:lnTo>
                  <a:lnTo>
                    <a:pt x="6159" y="102"/>
                  </a:lnTo>
                  <a:lnTo>
                    <a:pt x="6146" y="97"/>
                  </a:lnTo>
                  <a:lnTo>
                    <a:pt x="6133" y="94"/>
                  </a:lnTo>
                  <a:lnTo>
                    <a:pt x="6117" y="90"/>
                  </a:lnTo>
                  <a:lnTo>
                    <a:pt x="6100" y="86"/>
                  </a:lnTo>
                  <a:lnTo>
                    <a:pt x="6081" y="84"/>
                  </a:lnTo>
                  <a:lnTo>
                    <a:pt x="6062" y="83"/>
                  </a:lnTo>
                  <a:lnTo>
                    <a:pt x="6041" y="82"/>
                  </a:lnTo>
                  <a:lnTo>
                    <a:pt x="6019" y="82"/>
                  </a:lnTo>
                  <a:lnTo>
                    <a:pt x="5957" y="82"/>
                  </a:lnTo>
                  <a:lnTo>
                    <a:pt x="5957" y="352"/>
                  </a:lnTo>
                  <a:close/>
                  <a:moveTo>
                    <a:pt x="6455" y="12"/>
                  </a:moveTo>
                  <a:lnTo>
                    <a:pt x="6538" y="12"/>
                  </a:lnTo>
                  <a:lnTo>
                    <a:pt x="6538" y="750"/>
                  </a:lnTo>
                  <a:lnTo>
                    <a:pt x="6455" y="750"/>
                  </a:lnTo>
                  <a:lnTo>
                    <a:pt x="6455" y="12"/>
                  </a:lnTo>
                  <a:close/>
                  <a:moveTo>
                    <a:pt x="6960" y="351"/>
                  </a:moveTo>
                  <a:lnTo>
                    <a:pt x="6996" y="373"/>
                  </a:lnTo>
                  <a:lnTo>
                    <a:pt x="7028" y="393"/>
                  </a:lnTo>
                  <a:lnTo>
                    <a:pt x="7043" y="404"/>
                  </a:lnTo>
                  <a:lnTo>
                    <a:pt x="7055" y="414"/>
                  </a:lnTo>
                  <a:lnTo>
                    <a:pt x="7067" y="425"/>
                  </a:lnTo>
                  <a:lnTo>
                    <a:pt x="7077" y="435"/>
                  </a:lnTo>
                  <a:lnTo>
                    <a:pt x="7087" y="446"/>
                  </a:lnTo>
                  <a:lnTo>
                    <a:pt x="7094" y="458"/>
                  </a:lnTo>
                  <a:lnTo>
                    <a:pt x="7101" y="471"/>
                  </a:lnTo>
                  <a:lnTo>
                    <a:pt x="7106" y="485"/>
                  </a:lnTo>
                  <a:lnTo>
                    <a:pt x="7111" y="501"/>
                  </a:lnTo>
                  <a:lnTo>
                    <a:pt x="7113" y="518"/>
                  </a:lnTo>
                  <a:lnTo>
                    <a:pt x="7116" y="535"/>
                  </a:lnTo>
                  <a:lnTo>
                    <a:pt x="7116" y="554"/>
                  </a:lnTo>
                  <a:lnTo>
                    <a:pt x="7115" y="580"/>
                  </a:lnTo>
                  <a:lnTo>
                    <a:pt x="7112" y="604"/>
                  </a:lnTo>
                  <a:lnTo>
                    <a:pt x="7110" y="616"/>
                  </a:lnTo>
                  <a:lnTo>
                    <a:pt x="7106" y="627"/>
                  </a:lnTo>
                  <a:lnTo>
                    <a:pt x="7102" y="638"/>
                  </a:lnTo>
                  <a:lnTo>
                    <a:pt x="7098" y="648"/>
                  </a:lnTo>
                  <a:lnTo>
                    <a:pt x="7093" y="658"/>
                  </a:lnTo>
                  <a:lnTo>
                    <a:pt x="7088" y="666"/>
                  </a:lnTo>
                  <a:lnTo>
                    <a:pt x="7082" y="675"/>
                  </a:lnTo>
                  <a:lnTo>
                    <a:pt x="7076" y="683"/>
                  </a:lnTo>
                  <a:lnTo>
                    <a:pt x="7068" y="692"/>
                  </a:lnTo>
                  <a:lnTo>
                    <a:pt x="7061" y="699"/>
                  </a:lnTo>
                  <a:lnTo>
                    <a:pt x="7052" y="705"/>
                  </a:lnTo>
                  <a:lnTo>
                    <a:pt x="7044" y="712"/>
                  </a:lnTo>
                  <a:lnTo>
                    <a:pt x="7024" y="723"/>
                  </a:lnTo>
                  <a:lnTo>
                    <a:pt x="7005" y="734"/>
                  </a:lnTo>
                  <a:lnTo>
                    <a:pt x="6983" y="743"/>
                  </a:lnTo>
                  <a:lnTo>
                    <a:pt x="6960" y="749"/>
                  </a:lnTo>
                  <a:lnTo>
                    <a:pt x="6937" y="755"/>
                  </a:lnTo>
                  <a:lnTo>
                    <a:pt x="6911" y="759"/>
                  </a:lnTo>
                  <a:lnTo>
                    <a:pt x="6884" y="761"/>
                  </a:lnTo>
                  <a:lnTo>
                    <a:pt x="6856" y="761"/>
                  </a:lnTo>
                  <a:lnTo>
                    <a:pt x="6826" y="761"/>
                  </a:lnTo>
                  <a:lnTo>
                    <a:pt x="6794" y="759"/>
                  </a:lnTo>
                  <a:lnTo>
                    <a:pt x="6761" y="755"/>
                  </a:lnTo>
                  <a:lnTo>
                    <a:pt x="6728" y="749"/>
                  </a:lnTo>
                  <a:lnTo>
                    <a:pt x="6712" y="745"/>
                  </a:lnTo>
                  <a:lnTo>
                    <a:pt x="6700" y="742"/>
                  </a:lnTo>
                  <a:lnTo>
                    <a:pt x="6690" y="740"/>
                  </a:lnTo>
                  <a:lnTo>
                    <a:pt x="6685" y="739"/>
                  </a:lnTo>
                  <a:lnTo>
                    <a:pt x="6685" y="654"/>
                  </a:lnTo>
                  <a:lnTo>
                    <a:pt x="6710" y="662"/>
                  </a:lnTo>
                  <a:lnTo>
                    <a:pt x="6734" y="671"/>
                  </a:lnTo>
                  <a:lnTo>
                    <a:pt x="6756" y="677"/>
                  </a:lnTo>
                  <a:lnTo>
                    <a:pt x="6778" y="682"/>
                  </a:lnTo>
                  <a:lnTo>
                    <a:pt x="6800" y="687"/>
                  </a:lnTo>
                  <a:lnTo>
                    <a:pt x="6822" y="689"/>
                  </a:lnTo>
                  <a:lnTo>
                    <a:pt x="6844" y="692"/>
                  </a:lnTo>
                  <a:lnTo>
                    <a:pt x="6866" y="692"/>
                  </a:lnTo>
                  <a:lnTo>
                    <a:pt x="6883" y="692"/>
                  </a:lnTo>
                  <a:lnTo>
                    <a:pt x="6900" y="690"/>
                  </a:lnTo>
                  <a:lnTo>
                    <a:pt x="6915" y="688"/>
                  </a:lnTo>
                  <a:lnTo>
                    <a:pt x="6929" y="684"/>
                  </a:lnTo>
                  <a:lnTo>
                    <a:pt x="6944" y="680"/>
                  </a:lnTo>
                  <a:lnTo>
                    <a:pt x="6957" y="673"/>
                  </a:lnTo>
                  <a:lnTo>
                    <a:pt x="6969" y="667"/>
                  </a:lnTo>
                  <a:lnTo>
                    <a:pt x="6980" y="659"/>
                  </a:lnTo>
                  <a:lnTo>
                    <a:pt x="6991" y="650"/>
                  </a:lnTo>
                  <a:lnTo>
                    <a:pt x="7000" y="641"/>
                  </a:lnTo>
                  <a:lnTo>
                    <a:pt x="7007" y="631"/>
                  </a:lnTo>
                  <a:lnTo>
                    <a:pt x="7015" y="619"/>
                  </a:lnTo>
                  <a:lnTo>
                    <a:pt x="7019" y="608"/>
                  </a:lnTo>
                  <a:lnTo>
                    <a:pt x="7022" y="594"/>
                  </a:lnTo>
                  <a:lnTo>
                    <a:pt x="7024" y="581"/>
                  </a:lnTo>
                  <a:lnTo>
                    <a:pt x="7026" y="566"/>
                  </a:lnTo>
                  <a:lnTo>
                    <a:pt x="7024" y="553"/>
                  </a:lnTo>
                  <a:lnTo>
                    <a:pt x="7023" y="539"/>
                  </a:lnTo>
                  <a:lnTo>
                    <a:pt x="7021" y="529"/>
                  </a:lnTo>
                  <a:lnTo>
                    <a:pt x="7018" y="518"/>
                  </a:lnTo>
                  <a:lnTo>
                    <a:pt x="7013" y="507"/>
                  </a:lnTo>
                  <a:lnTo>
                    <a:pt x="7009" y="498"/>
                  </a:lnTo>
                  <a:lnTo>
                    <a:pt x="7002" y="490"/>
                  </a:lnTo>
                  <a:lnTo>
                    <a:pt x="6996" y="482"/>
                  </a:lnTo>
                  <a:lnTo>
                    <a:pt x="6979" y="468"/>
                  </a:lnTo>
                  <a:lnTo>
                    <a:pt x="6957" y="452"/>
                  </a:lnTo>
                  <a:lnTo>
                    <a:pt x="6932" y="435"/>
                  </a:lnTo>
                  <a:lnTo>
                    <a:pt x="6902" y="418"/>
                  </a:lnTo>
                  <a:lnTo>
                    <a:pt x="6836" y="381"/>
                  </a:lnTo>
                  <a:lnTo>
                    <a:pt x="6799" y="358"/>
                  </a:lnTo>
                  <a:lnTo>
                    <a:pt x="6766" y="337"/>
                  </a:lnTo>
                  <a:lnTo>
                    <a:pt x="6739" y="318"/>
                  </a:lnTo>
                  <a:lnTo>
                    <a:pt x="6716" y="300"/>
                  </a:lnTo>
                  <a:lnTo>
                    <a:pt x="6707" y="290"/>
                  </a:lnTo>
                  <a:lnTo>
                    <a:pt x="6699" y="279"/>
                  </a:lnTo>
                  <a:lnTo>
                    <a:pt x="6693" y="267"/>
                  </a:lnTo>
                  <a:lnTo>
                    <a:pt x="6686" y="253"/>
                  </a:lnTo>
                  <a:lnTo>
                    <a:pt x="6683" y="240"/>
                  </a:lnTo>
                  <a:lnTo>
                    <a:pt x="6679" y="224"/>
                  </a:lnTo>
                  <a:lnTo>
                    <a:pt x="6678" y="207"/>
                  </a:lnTo>
                  <a:lnTo>
                    <a:pt x="6677" y="189"/>
                  </a:lnTo>
                  <a:lnTo>
                    <a:pt x="6678" y="167"/>
                  </a:lnTo>
                  <a:lnTo>
                    <a:pt x="6682" y="146"/>
                  </a:lnTo>
                  <a:lnTo>
                    <a:pt x="6686" y="127"/>
                  </a:lnTo>
                  <a:lnTo>
                    <a:pt x="6694" y="108"/>
                  </a:lnTo>
                  <a:lnTo>
                    <a:pt x="6697" y="100"/>
                  </a:lnTo>
                  <a:lnTo>
                    <a:pt x="6702" y="91"/>
                  </a:lnTo>
                  <a:lnTo>
                    <a:pt x="6708" y="83"/>
                  </a:lnTo>
                  <a:lnTo>
                    <a:pt x="6714" y="76"/>
                  </a:lnTo>
                  <a:lnTo>
                    <a:pt x="6728" y="62"/>
                  </a:lnTo>
                  <a:lnTo>
                    <a:pt x="6743" y="49"/>
                  </a:lnTo>
                  <a:lnTo>
                    <a:pt x="6760" y="38"/>
                  </a:lnTo>
                  <a:lnTo>
                    <a:pt x="6778" y="27"/>
                  </a:lnTo>
                  <a:lnTo>
                    <a:pt x="6797" y="19"/>
                  </a:lnTo>
                  <a:lnTo>
                    <a:pt x="6819" y="12"/>
                  </a:lnTo>
                  <a:lnTo>
                    <a:pt x="6841" y="7"/>
                  </a:lnTo>
                  <a:lnTo>
                    <a:pt x="6865" y="4"/>
                  </a:lnTo>
                  <a:lnTo>
                    <a:pt x="6889" y="1"/>
                  </a:lnTo>
                  <a:lnTo>
                    <a:pt x="6915" y="0"/>
                  </a:lnTo>
                  <a:lnTo>
                    <a:pt x="6933" y="0"/>
                  </a:lnTo>
                  <a:lnTo>
                    <a:pt x="6950" y="1"/>
                  </a:lnTo>
                  <a:lnTo>
                    <a:pt x="6966" y="2"/>
                  </a:lnTo>
                  <a:lnTo>
                    <a:pt x="6982" y="4"/>
                  </a:lnTo>
                  <a:lnTo>
                    <a:pt x="6998" y="6"/>
                  </a:lnTo>
                  <a:lnTo>
                    <a:pt x="7018" y="10"/>
                  </a:lnTo>
                  <a:lnTo>
                    <a:pt x="7041" y="13"/>
                  </a:lnTo>
                  <a:lnTo>
                    <a:pt x="7070" y="19"/>
                  </a:lnTo>
                  <a:lnTo>
                    <a:pt x="7070" y="101"/>
                  </a:lnTo>
                  <a:lnTo>
                    <a:pt x="7050" y="95"/>
                  </a:lnTo>
                  <a:lnTo>
                    <a:pt x="7030" y="88"/>
                  </a:lnTo>
                  <a:lnTo>
                    <a:pt x="7011" y="83"/>
                  </a:lnTo>
                  <a:lnTo>
                    <a:pt x="6989" y="78"/>
                  </a:lnTo>
                  <a:lnTo>
                    <a:pt x="6967" y="74"/>
                  </a:lnTo>
                  <a:lnTo>
                    <a:pt x="6946" y="72"/>
                  </a:lnTo>
                  <a:lnTo>
                    <a:pt x="6927" y="71"/>
                  </a:lnTo>
                  <a:lnTo>
                    <a:pt x="6907" y="69"/>
                  </a:lnTo>
                  <a:lnTo>
                    <a:pt x="6891" y="69"/>
                  </a:lnTo>
                  <a:lnTo>
                    <a:pt x="6877" y="72"/>
                  </a:lnTo>
                  <a:lnTo>
                    <a:pt x="6863" y="74"/>
                  </a:lnTo>
                  <a:lnTo>
                    <a:pt x="6850" y="77"/>
                  </a:lnTo>
                  <a:lnTo>
                    <a:pt x="6838" y="82"/>
                  </a:lnTo>
                  <a:lnTo>
                    <a:pt x="6826" y="86"/>
                  </a:lnTo>
                  <a:lnTo>
                    <a:pt x="6816" y="93"/>
                  </a:lnTo>
                  <a:lnTo>
                    <a:pt x="6806" y="100"/>
                  </a:lnTo>
                  <a:lnTo>
                    <a:pt x="6796" y="107"/>
                  </a:lnTo>
                  <a:lnTo>
                    <a:pt x="6789" y="116"/>
                  </a:lnTo>
                  <a:lnTo>
                    <a:pt x="6783" y="125"/>
                  </a:lnTo>
                  <a:lnTo>
                    <a:pt x="6778" y="135"/>
                  </a:lnTo>
                  <a:lnTo>
                    <a:pt x="6773" y="146"/>
                  </a:lnTo>
                  <a:lnTo>
                    <a:pt x="6771" y="157"/>
                  </a:lnTo>
                  <a:lnTo>
                    <a:pt x="6768" y="169"/>
                  </a:lnTo>
                  <a:lnTo>
                    <a:pt x="6768" y="181"/>
                  </a:lnTo>
                  <a:lnTo>
                    <a:pt x="6768" y="194"/>
                  </a:lnTo>
                  <a:lnTo>
                    <a:pt x="6771" y="206"/>
                  </a:lnTo>
                  <a:lnTo>
                    <a:pt x="6774" y="217"/>
                  </a:lnTo>
                  <a:lnTo>
                    <a:pt x="6779" y="227"/>
                  </a:lnTo>
                  <a:lnTo>
                    <a:pt x="6785" y="236"/>
                  </a:lnTo>
                  <a:lnTo>
                    <a:pt x="6791" y="246"/>
                  </a:lnTo>
                  <a:lnTo>
                    <a:pt x="6801" y="255"/>
                  </a:lnTo>
                  <a:lnTo>
                    <a:pt x="6811" y="262"/>
                  </a:lnTo>
                  <a:lnTo>
                    <a:pt x="6832" y="276"/>
                  </a:lnTo>
                  <a:lnTo>
                    <a:pt x="6852" y="290"/>
                  </a:lnTo>
                  <a:lnTo>
                    <a:pt x="6872" y="302"/>
                  </a:lnTo>
                  <a:lnTo>
                    <a:pt x="6891" y="313"/>
                  </a:lnTo>
                  <a:lnTo>
                    <a:pt x="6960" y="351"/>
                  </a:lnTo>
                  <a:close/>
                  <a:moveTo>
                    <a:pt x="7476" y="351"/>
                  </a:moveTo>
                  <a:lnTo>
                    <a:pt x="7512" y="373"/>
                  </a:lnTo>
                  <a:lnTo>
                    <a:pt x="7544" y="393"/>
                  </a:lnTo>
                  <a:lnTo>
                    <a:pt x="7558" y="404"/>
                  </a:lnTo>
                  <a:lnTo>
                    <a:pt x="7571" y="414"/>
                  </a:lnTo>
                  <a:lnTo>
                    <a:pt x="7582" y="425"/>
                  </a:lnTo>
                  <a:lnTo>
                    <a:pt x="7593" y="435"/>
                  </a:lnTo>
                  <a:lnTo>
                    <a:pt x="7601" y="446"/>
                  </a:lnTo>
                  <a:lnTo>
                    <a:pt x="7610" y="458"/>
                  </a:lnTo>
                  <a:lnTo>
                    <a:pt x="7616" y="471"/>
                  </a:lnTo>
                  <a:lnTo>
                    <a:pt x="7622" y="485"/>
                  </a:lnTo>
                  <a:lnTo>
                    <a:pt x="7626" y="501"/>
                  </a:lnTo>
                  <a:lnTo>
                    <a:pt x="7629" y="518"/>
                  </a:lnTo>
                  <a:lnTo>
                    <a:pt x="7631" y="535"/>
                  </a:lnTo>
                  <a:lnTo>
                    <a:pt x="7632" y="554"/>
                  </a:lnTo>
                  <a:lnTo>
                    <a:pt x="7631" y="580"/>
                  </a:lnTo>
                  <a:lnTo>
                    <a:pt x="7627" y="604"/>
                  </a:lnTo>
                  <a:lnTo>
                    <a:pt x="7625" y="616"/>
                  </a:lnTo>
                  <a:lnTo>
                    <a:pt x="7621" y="627"/>
                  </a:lnTo>
                  <a:lnTo>
                    <a:pt x="7617" y="638"/>
                  </a:lnTo>
                  <a:lnTo>
                    <a:pt x="7614" y="648"/>
                  </a:lnTo>
                  <a:lnTo>
                    <a:pt x="7609" y="658"/>
                  </a:lnTo>
                  <a:lnTo>
                    <a:pt x="7603" y="666"/>
                  </a:lnTo>
                  <a:lnTo>
                    <a:pt x="7598" y="675"/>
                  </a:lnTo>
                  <a:lnTo>
                    <a:pt x="7590" y="683"/>
                  </a:lnTo>
                  <a:lnTo>
                    <a:pt x="7583" y="692"/>
                  </a:lnTo>
                  <a:lnTo>
                    <a:pt x="7576" y="699"/>
                  </a:lnTo>
                  <a:lnTo>
                    <a:pt x="7567" y="705"/>
                  </a:lnTo>
                  <a:lnTo>
                    <a:pt x="7559" y="712"/>
                  </a:lnTo>
                  <a:lnTo>
                    <a:pt x="7540" y="723"/>
                  </a:lnTo>
                  <a:lnTo>
                    <a:pt x="7520" y="734"/>
                  </a:lnTo>
                  <a:lnTo>
                    <a:pt x="7498" y="743"/>
                  </a:lnTo>
                  <a:lnTo>
                    <a:pt x="7476" y="749"/>
                  </a:lnTo>
                  <a:lnTo>
                    <a:pt x="7451" y="755"/>
                  </a:lnTo>
                  <a:lnTo>
                    <a:pt x="7426" y="759"/>
                  </a:lnTo>
                  <a:lnTo>
                    <a:pt x="7399" y="761"/>
                  </a:lnTo>
                  <a:lnTo>
                    <a:pt x="7371" y="761"/>
                  </a:lnTo>
                  <a:lnTo>
                    <a:pt x="7340" y="761"/>
                  </a:lnTo>
                  <a:lnTo>
                    <a:pt x="7309" y="759"/>
                  </a:lnTo>
                  <a:lnTo>
                    <a:pt x="7276" y="755"/>
                  </a:lnTo>
                  <a:lnTo>
                    <a:pt x="7243" y="749"/>
                  </a:lnTo>
                  <a:lnTo>
                    <a:pt x="7227" y="745"/>
                  </a:lnTo>
                  <a:lnTo>
                    <a:pt x="7215" y="742"/>
                  </a:lnTo>
                  <a:lnTo>
                    <a:pt x="7206" y="740"/>
                  </a:lnTo>
                  <a:lnTo>
                    <a:pt x="7201" y="739"/>
                  </a:lnTo>
                  <a:lnTo>
                    <a:pt x="7201" y="654"/>
                  </a:lnTo>
                  <a:lnTo>
                    <a:pt x="7226" y="662"/>
                  </a:lnTo>
                  <a:lnTo>
                    <a:pt x="7249" y="671"/>
                  </a:lnTo>
                  <a:lnTo>
                    <a:pt x="7272" y="677"/>
                  </a:lnTo>
                  <a:lnTo>
                    <a:pt x="7294" y="682"/>
                  </a:lnTo>
                  <a:lnTo>
                    <a:pt x="7316" y="687"/>
                  </a:lnTo>
                  <a:lnTo>
                    <a:pt x="7337" y="689"/>
                  </a:lnTo>
                  <a:lnTo>
                    <a:pt x="7359" y="692"/>
                  </a:lnTo>
                  <a:lnTo>
                    <a:pt x="7381" y="692"/>
                  </a:lnTo>
                  <a:lnTo>
                    <a:pt x="7398" y="692"/>
                  </a:lnTo>
                  <a:lnTo>
                    <a:pt x="7415" y="690"/>
                  </a:lnTo>
                  <a:lnTo>
                    <a:pt x="7431" y="688"/>
                  </a:lnTo>
                  <a:lnTo>
                    <a:pt x="7445" y="684"/>
                  </a:lnTo>
                  <a:lnTo>
                    <a:pt x="7459" y="680"/>
                  </a:lnTo>
                  <a:lnTo>
                    <a:pt x="7472" y="673"/>
                  </a:lnTo>
                  <a:lnTo>
                    <a:pt x="7484" y="667"/>
                  </a:lnTo>
                  <a:lnTo>
                    <a:pt x="7497" y="659"/>
                  </a:lnTo>
                  <a:lnTo>
                    <a:pt x="7506" y="650"/>
                  </a:lnTo>
                  <a:lnTo>
                    <a:pt x="7516" y="641"/>
                  </a:lnTo>
                  <a:lnTo>
                    <a:pt x="7523" y="631"/>
                  </a:lnTo>
                  <a:lnTo>
                    <a:pt x="7529" y="619"/>
                  </a:lnTo>
                  <a:lnTo>
                    <a:pt x="7534" y="608"/>
                  </a:lnTo>
                  <a:lnTo>
                    <a:pt x="7538" y="594"/>
                  </a:lnTo>
                  <a:lnTo>
                    <a:pt x="7540" y="581"/>
                  </a:lnTo>
                  <a:lnTo>
                    <a:pt x="7540" y="566"/>
                  </a:lnTo>
                  <a:lnTo>
                    <a:pt x="7540" y="553"/>
                  </a:lnTo>
                  <a:lnTo>
                    <a:pt x="7539" y="539"/>
                  </a:lnTo>
                  <a:lnTo>
                    <a:pt x="7537" y="529"/>
                  </a:lnTo>
                  <a:lnTo>
                    <a:pt x="7533" y="518"/>
                  </a:lnTo>
                  <a:lnTo>
                    <a:pt x="7529" y="507"/>
                  </a:lnTo>
                  <a:lnTo>
                    <a:pt x="7525" y="498"/>
                  </a:lnTo>
                  <a:lnTo>
                    <a:pt x="7518" y="490"/>
                  </a:lnTo>
                  <a:lnTo>
                    <a:pt x="7511" y="482"/>
                  </a:lnTo>
                  <a:lnTo>
                    <a:pt x="7494" y="468"/>
                  </a:lnTo>
                  <a:lnTo>
                    <a:pt x="7473" y="452"/>
                  </a:lnTo>
                  <a:lnTo>
                    <a:pt x="7448" y="435"/>
                  </a:lnTo>
                  <a:lnTo>
                    <a:pt x="7417" y="418"/>
                  </a:lnTo>
                  <a:lnTo>
                    <a:pt x="7353" y="381"/>
                  </a:lnTo>
                  <a:lnTo>
                    <a:pt x="7314" y="358"/>
                  </a:lnTo>
                  <a:lnTo>
                    <a:pt x="7282" y="337"/>
                  </a:lnTo>
                  <a:lnTo>
                    <a:pt x="7254" y="318"/>
                  </a:lnTo>
                  <a:lnTo>
                    <a:pt x="7232" y="300"/>
                  </a:lnTo>
                  <a:lnTo>
                    <a:pt x="7222" y="290"/>
                  </a:lnTo>
                  <a:lnTo>
                    <a:pt x="7215" y="279"/>
                  </a:lnTo>
                  <a:lnTo>
                    <a:pt x="7207" y="267"/>
                  </a:lnTo>
                  <a:lnTo>
                    <a:pt x="7202" y="253"/>
                  </a:lnTo>
                  <a:lnTo>
                    <a:pt x="7198" y="240"/>
                  </a:lnTo>
                  <a:lnTo>
                    <a:pt x="7195" y="224"/>
                  </a:lnTo>
                  <a:lnTo>
                    <a:pt x="7193" y="207"/>
                  </a:lnTo>
                  <a:lnTo>
                    <a:pt x="7193" y="189"/>
                  </a:lnTo>
                  <a:lnTo>
                    <a:pt x="7194" y="167"/>
                  </a:lnTo>
                  <a:lnTo>
                    <a:pt x="7196" y="146"/>
                  </a:lnTo>
                  <a:lnTo>
                    <a:pt x="7201" y="127"/>
                  </a:lnTo>
                  <a:lnTo>
                    <a:pt x="7209" y="108"/>
                  </a:lnTo>
                  <a:lnTo>
                    <a:pt x="7213" y="100"/>
                  </a:lnTo>
                  <a:lnTo>
                    <a:pt x="7218" y="91"/>
                  </a:lnTo>
                  <a:lnTo>
                    <a:pt x="7223" y="83"/>
                  </a:lnTo>
                  <a:lnTo>
                    <a:pt x="7229" y="76"/>
                  </a:lnTo>
                  <a:lnTo>
                    <a:pt x="7243" y="62"/>
                  </a:lnTo>
                  <a:lnTo>
                    <a:pt x="7259" y="49"/>
                  </a:lnTo>
                  <a:lnTo>
                    <a:pt x="7276" y="38"/>
                  </a:lnTo>
                  <a:lnTo>
                    <a:pt x="7294" y="27"/>
                  </a:lnTo>
                  <a:lnTo>
                    <a:pt x="7314" y="19"/>
                  </a:lnTo>
                  <a:lnTo>
                    <a:pt x="7334" y="12"/>
                  </a:lnTo>
                  <a:lnTo>
                    <a:pt x="7356" y="7"/>
                  </a:lnTo>
                  <a:lnTo>
                    <a:pt x="7379" y="4"/>
                  </a:lnTo>
                  <a:lnTo>
                    <a:pt x="7404" y="1"/>
                  </a:lnTo>
                  <a:lnTo>
                    <a:pt x="7431" y="0"/>
                  </a:lnTo>
                  <a:lnTo>
                    <a:pt x="7449" y="0"/>
                  </a:lnTo>
                  <a:lnTo>
                    <a:pt x="7466" y="1"/>
                  </a:lnTo>
                  <a:lnTo>
                    <a:pt x="7482" y="2"/>
                  </a:lnTo>
                  <a:lnTo>
                    <a:pt x="7497" y="4"/>
                  </a:lnTo>
                  <a:lnTo>
                    <a:pt x="7514" y="6"/>
                  </a:lnTo>
                  <a:lnTo>
                    <a:pt x="7533" y="10"/>
                  </a:lnTo>
                  <a:lnTo>
                    <a:pt x="7558" y="13"/>
                  </a:lnTo>
                  <a:lnTo>
                    <a:pt x="7584" y="19"/>
                  </a:lnTo>
                  <a:lnTo>
                    <a:pt x="7584" y="101"/>
                  </a:lnTo>
                  <a:lnTo>
                    <a:pt x="7566" y="95"/>
                  </a:lnTo>
                  <a:lnTo>
                    <a:pt x="7547" y="88"/>
                  </a:lnTo>
                  <a:lnTo>
                    <a:pt x="7526" y="83"/>
                  </a:lnTo>
                  <a:lnTo>
                    <a:pt x="7504" y="78"/>
                  </a:lnTo>
                  <a:lnTo>
                    <a:pt x="7483" y="74"/>
                  </a:lnTo>
                  <a:lnTo>
                    <a:pt x="7462" y="72"/>
                  </a:lnTo>
                  <a:lnTo>
                    <a:pt x="7442" y="71"/>
                  </a:lnTo>
                  <a:lnTo>
                    <a:pt x="7423" y="69"/>
                  </a:lnTo>
                  <a:lnTo>
                    <a:pt x="7407" y="69"/>
                  </a:lnTo>
                  <a:lnTo>
                    <a:pt x="7393" y="72"/>
                  </a:lnTo>
                  <a:lnTo>
                    <a:pt x="7378" y="74"/>
                  </a:lnTo>
                  <a:lnTo>
                    <a:pt x="7365" y="77"/>
                  </a:lnTo>
                  <a:lnTo>
                    <a:pt x="7353" y="82"/>
                  </a:lnTo>
                  <a:lnTo>
                    <a:pt x="7342" y="86"/>
                  </a:lnTo>
                  <a:lnTo>
                    <a:pt x="7331" y="93"/>
                  </a:lnTo>
                  <a:lnTo>
                    <a:pt x="7321" y="100"/>
                  </a:lnTo>
                  <a:lnTo>
                    <a:pt x="7312" y="107"/>
                  </a:lnTo>
                  <a:lnTo>
                    <a:pt x="7305" y="116"/>
                  </a:lnTo>
                  <a:lnTo>
                    <a:pt x="7298" y="125"/>
                  </a:lnTo>
                  <a:lnTo>
                    <a:pt x="7293" y="135"/>
                  </a:lnTo>
                  <a:lnTo>
                    <a:pt x="7289" y="146"/>
                  </a:lnTo>
                  <a:lnTo>
                    <a:pt x="7285" y="157"/>
                  </a:lnTo>
                  <a:lnTo>
                    <a:pt x="7284" y="169"/>
                  </a:lnTo>
                  <a:lnTo>
                    <a:pt x="7283" y="181"/>
                  </a:lnTo>
                  <a:lnTo>
                    <a:pt x="7284" y="194"/>
                  </a:lnTo>
                  <a:lnTo>
                    <a:pt x="7287" y="206"/>
                  </a:lnTo>
                  <a:lnTo>
                    <a:pt x="7289" y="217"/>
                  </a:lnTo>
                  <a:lnTo>
                    <a:pt x="7294" y="227"/>
                  </a:lnTo>
                  <a:lnTo>
                    <a:pt x="7300" y="236"/>
                  </a:lnTo>
                  <a:lnTo>
                    <a:pt x="7307" y="246"/>
                  </a:lnTo>
                  <a:lnTo>
                    <a:pt x="7316" y="255"/>
                  </a:lnTo>
                  <a:lnTo>
                    <a:pt x="7326" y="262"/>
                  </a:lnTo>
                  <a:lnTo>
                    <a:pt x="7346" y="276"/>
                  </a:lnTo>
                  <a:lnTo>
                    <a:pt x="7367" y="290"/>
                  </a:lnTo>
                  <a:lnTo>
                    <a:pt x="7387" y="302"/>
                  </a:lnTo>
                  <a:lnTo>
                    <a:pt x="7406" y="313"/>
                  </a:lnTo>
                  <a:lnTo>
                    <a:pt x="7476" y="351"/>
                  </a:lnTo>
                  <a:close/>
                  <a:moveTo>
                    <a:pt x="7721" y="380"/>
                  </a:moveTo>
                  <a:lnTo>
                    <a:pt x="7721" y="340"/>
                  </a:lnTo>
                  <a:lnTo>
                    <a:pt x="7725" y="301"/>
                  </a:lnTo>
                  <a:lnTo>
                    <a:pt x="7728" y="264"/>
                  </a:lnTo>
                  <a:lnTo>
                    <a:pt x="7736" y="229"/>
                  </a:lnTo>
                  <a:lnTo>
                    <a:pt x="7743" y="196"/>
                  </a:lnTo>
                  <a:lnTo>
                    <a:pt x="7754" y="164"/>
                  </a:lnTo>
                  <a:lnTo>
                    <a:pt x="7765" y="135"/>
                  </a:lnTo>
                  <a:lnTo>
                    <a:pt x="7780" y="107"/>
                  </a:lnTo>
                  <a:lnTo>
                    <a:pt x="7787" y="94"/>
                  </a:lnTo>
                  <a:lnTo>
                    <a:pt x="7795" y="82"/>
                  </a:lnTo>
                  <a:lnTo>
                    <a:pt x="7804" y="71"/>
                  </a:lnTo>
                  <a:lnTo>
                    <a:pt x="7814" y="60"/>
                  </a:lnTo>
                  <a:lnTo>
                    <a:pt x="7825" y="51"/>
                  </a:lnTo>
                  <a:lnTo>
                    <a:pt x="7836" y="41"/>
                  </a:lnTo>
                  <a:lnTo>
                    <a:pt x="7847" y="34"/>
                  </a:lnTo>
                  <a:lnTo>
                    <a:pt x="7860" y="27"/>
                  </a:lnTo>
                  <a:lnTo>
                    <a:pt x="7872" y="21"/>
                  </a:lnTo>
                  <a:lnTo>
                    <a:pt x="7887" y="15"/>
                  </a:lnTo>
                  <a:lnTo>
                    <a:pt x="7902" y="11"/>
                  </a:lnTo>
                  <a:lnTo>
                    <a:pt x="7916" y="6"/>
                  </a:lnTo>
                  <a:lnTo>
                    <a:pt x="7932" y="4"/>
                  </a:lnTo>
                  <a:lnTo>
                    <a:pt x="7949" y="1"/>
                  </a:lnTo>
                  <a:lnTo>
                    <a:pt x="7966" y="0"/>
                  </a:lnTo>
                  <a:lnTo>
                    <a:pt x="7985" y="0"/>
                  </a:lnTo>
                  <a:lnTo>
                    <a:pt x="8002" y="0"/>
                  </a:lnTo>
                  <a:lnTo>
                    <a:pt x="8019" y="1"/>
                  </a:lnTo>
                  <a:lnTo>
                    <a:pt x="8036" y="4"/>
                  </a:lnTo>
                  <a:lnTo>
                    <a:pt x="8052" y="7"/>
                  </a:lnTo>
                  <a:lnTo>
                    <a:pt x="8066" y="11"/>
                  </a:lnTo>
                  <a:lnTo>
                    <a:pt x="8081" y="15"/>
                  </a:lnTo>
                  <a:lnTo>
                    <a:pt x="8094" y="21"/>
                  </a:lnTo>
                  <a:lnTo>
                    <a:pt x="8108" y="27"/>
                  </a:lnTo>
                  <a:lnTo>
                    <a:pt x="8120" y="34"/>
                  </a:lnTo>
                  <a:lnTo>
                    <a:pt x="8131" y="41"/>
                  </a:lnTo>
                  <a:lnTo>
                    <a:pt x="8143" y="51"/>
                  </a:lnTo>
                  <a:lnTo>
                    <a:pt x="8153" y="61"/>
                  </a:lnTo>
                  <a:lnTo>
                    <a:pt x="8163" y="71"/>
                  </a:lnTo>
                  <a:lnTo>
                    <a:pt x="8171" y="83"/>
                  </a:lnTo>
                  <a:lnTo>
                    <a:pt x="8180" y="95"/>
                  </a:lnTo>
                  <a:lnTo>
                    <a:pt x="8188" y="107"/>
                  </a:lnTo>
                  <a:lnTo>
                    <a:pt x="8202" y="135"/>
                  </a:lnTo>
                  <a:lnTo>
                    <a:pt x="8214" y="164"/>
                  </a:lnTo>
                  <a:lnTo>
                    <a:pt x="8224" y="196"/>
                  </a:lnTo>
                  <a:lnTo>
                    <a:pt x="8232" y="229"/>
                  </a:lnTo>
                  <a:lnTo>
                    <a:pt x="8238" y="264"/>
                  </a:lnTo>
                  <a:lnTo>
                    <a:pt x="8243" y="301"/>
                  </a:lnTo>
                  <a:lnTo>
                    <a:pt x="8246" y="340"/>
                  </a:lnTo>
                  <a:lnTo>
                    <a:pt x="8247" y="380"/>
                  </a:lnTo>
                  <a:lnTo>
                    <a:pt x="8246" y="420"/>
                  </a:lnTo>
                  <a:lnTo>
                    <a:pt x="8243" y="459"/>
                  </a:lnTo>
                  <a:lnTo>
                    <a:pt x="8238" y="496"/>
                  </a:lnTo>
                  <a:lnTo>
                    <a:pt x="8232" y="531"/>
                  </a:lnTo>
                  <a:lnTo>
                    <a:pt x="8224" y="565"/>
                  </a:lnTo>
                  <a:lnTo>
                    <a:pt x="8214" y="596"/>
                  </a:lnTo>
                  <a:lnTo>
                    <a:pt x="8202" y="626"/>
                  </a:lnTo>
                  <a:lnTo>
                    <a:pt x="8188" y="654"/>
                  </a:lnTo>
                  <a:lnTo>
                    <a:pt x="8181" y="667"/>
                  </a:lnTo>
                  <a:lnTo>
                    <a:pt x="8172" y="680"/>
                  </a:lnTo>
                  <a:lnTo>
                    <a:pt x="8164" y="690"/>
                  </a:lnTo>
                  <a:lnTo>
                    <a:pt x="8154" y="701"/>
                  </a:lnTo>
                  <a:lnTo>
                    <a:pt x="8143" y="711"/>
                  </a:lnTo>
                  <a:lnTo>
                    <a:pt x="8132" y="720"/>
                  </a:lnTo>
                  <a:lnTo>
                    <a:pt x="8120" y="727"/>
                  </a:lnTo>
                  <a:lnTo>
                    <a:pt x="8108" y="734"/>
                  </a:lnTo>
                  <a:lnTo>
                    <a:pt x="8096" y="742"/>
                  </a:lnTo>
                  <a:lnTo>
                    <a:pt x="8081" y="747"/>
                  </a:lnTo>
                  <a:lnTo>
                    <a:pt x="8066" y="751"/>
                  </a:lnTo>
                  <a:lnTo>
                    <a:pt x="8052" y="755"/>
                  </a:lnTo>
                  <a:lnTo>
                    <a:pt x="8036" y="757"/>
                  </a:lnTo>
                  <a:lnTo>
                    <a:pt x="8019" y="760"/>
                  </a:lnTo>
                  <a:lnTo>
                    <a:pt x="8002" y="761"/>
                  </a:lnTo>
                  <a:lnTo>
                    <a:pt x="7985" y="761"/>
                  </a:lnTo>
                  <a:lnTo>
                    <a:pt x="7966" y="761"/>
                  </a:lnTo>
                  <a:lnTo>
                    <a:pt x="7949" y="760"/>
                  </a:lnTo>
                  <a:lnTo>
                    <a:pt x="7933" y="757"/>
                  </a:lnTo>
                  <a:lnTo>
                    <a:pt x="7917" y="755"/>
                  </a:lnTo>
                  <a:lnTo>
                    <a:pt x="7902" y="751"/>
                  </a:lnTo>
                  <a:lnTo>
                    <a:pt x="7888" y="747"/>
                  </a:lnTo>
                  <a:lnTo>
                    <a:pt x="7873" y="740"/>
                  </a:lnTo>
                  <a:lnTo>
                    <a:pt x="7861" y="734"/>
                  </a:lnTo>
                  <a:lnTo>
                    <a:pt x="7848" y="727"/>
                  </a:lnTo>
                  <a:lnTo>
                    <a:pt x="7837" y="720"/>
                  </a:lnTo>
                  <a:lnTo>
                    <a:pt x="7826" y="710"/>
                  </a:lnTo>
                  <a:lnTo>
                    <a:pt x="7815" y="700"/>
                  </a:lnTo>
                  <a:lnTo>
                    <a:pt x="7805" y="690"/>
                  </a:lnTo>
                  <a:lnTo>
                    <a:pt x="7797" y="678"/>
                  </a:lnTo>
                  <a:lnTo>
                    <a:pt x="7788" y="666"/>
                  </a:lnTo>
                  <a:lnTo>
                    <a:pt x="7780" y="653"/>
                  </a:lnTo>
                  <a:lnTo>
                    <a:pt x="7766" y="625"/>
                  </a:lnTo>
                  <a:lnTo>
                    <a:pt x="7754" y="596"/>
                  </a:lnTo>
                  <a:lnTo>
                    <a:pt x="7744" y="564"/>
                  </a:lnTo>
                  <a:lnTo>
                    <a:pt x="7736" y="531"/>
                  </a:lnTo>
                  <a:lnTo>
                    <a:pt x="7730" y="496"/>
                  </a:lnTo>
                  <a:lnTo>
                    <a:pt x="7725" y="459"/>
                  </a:lnTo>
                  <a:lnTo>
                    <a:pt x="7721" y="420"/>
                  </a:lnTo>
                  <a:lnTo>
                    <a:pt x="7721" y="380"/>
                  </a:lnTo>
                  <a:close/>
                  <a:moveTo>
                    <a:pt x="7985" y="692"/>
                  </a:moveTo>
                  <a:lnTo>
                    <a:pt x="7997" y="692"/>
                  </a:lnTo>
                  <a:lnTo>
                    <a:pt x="8008" y="690"/>
                  </a:lnTo>
                  <a:lnTo>
                    <a:pt x="8019" y="689"/>
                  </a:lnTo>
                  <a:lnTo>
                    <a:pt x="8030" y="687"/>
                  </a:lnTo>
                  <a:lnTo>
                    <a:pt x="8039" y="683"/>
                  </a:lnTo>
                  <a:lnTo>
                    <a:pt x="8049" y="680"/>
                  </a:lnTo>
                  <a:lnTo>
                    <a:pt x="8059" y="675"/>
                  </a:lnTo>
                  <a:lnTo>
                    <a:pt x="8067" y="670"/>
                  </a:lnTo>
                  <a:lnTo>
                    <a:pt x="8076" y="664"/>
                  </a:lnTo>
                  <a:lnTo>
                    <a:pt x="8083" y="656"/>
                  </a:lnTo>
                  <a:lnTo>
                    <a:pt x="8091" y="649"/>
                  </a:lnTo>
                  <a:lnTo>
                    <a:pt x="8097" y="641"/>
                  </a:lnTo>
                  <a:lnTo>
                    <a:pt x="8103" y="632"/>
                  </a:lnTo>
                  <a:lnTo>
                    <a:pt x="8109" y="622"/>
                  </a:lnTo>
                  <a:lnTo>
                    <a:pt x="8114" y="611"/>
                  </a:lnTo>
                  <a:lnTo>
                    <a:pt x="8119" y="600"/>
                  </a:lnTo>
                  <a:lnTo>
                    <a:pt x="8127" y="577"/>
                  </a:lnTo>
                  <a:lnTo>
                    <a:pt x="8135" y="553"/>
                  </a:lnTo>
                  <a:lnTo>
                    <a:pt x="8142" y="526"/>
                  </a:lnTo>
                  <a:lnTo>
                    <a:pt x="8147" y="499"/>
                  </a:lnTo>
                  <a:lnTo>
                    <a:pt x="8150" y="471"/>
                  </a:lnTo>
                  <a:lnTo>
                    <a:pt x="8153" y="442"/>
                  </a:lnTo>
                  <a:lnTo>
                    <a:pt x="8155" y="410"/>
                  </a:lnTo>
                  <a:lnTo>
                    <a:pt x="8155" y="379"/>
                  </a:lnTo>
                  <a:lnTo>
                    <a:pt x="8155" y="337"/>
                  </a:lnTo>
                  <a:lnTo>
                    <a:pt x="8153" y="300"/>
                  </a:lnTo>
                  <a:lnTo>
                    <a:pt x="8149" y="264"/>
                  </a:lnTo>
                  <a:lnTo>
                    <a:pt x="8144" y="233"/>
                  </a:lnTo>
                  <a:lnTo>
                    <a:pt x="8137" y="205"/>
                  </a:lnTo>
                  <a:lnTo>
                    <a:pt x="8130" y="179"/>
                  </a:lnTo>
                  <a:lnTo>
                    <a:pt x="8125" y="168"/>
                  </a:lnTo>
                  <a:lnTo>
                    <a:pt x="8120" y="157"/>
                  </a:lnTo>
                  <a:lnTo>
                    <a:pt x="8115" y="147"/>
                  </a:lnTo>
                  <a:lnTo>
                    <a:pt x="8109" y="139"/>
                  </a:lnTo>
                  <a:lnTo>
                    <a:pt x="8097" y="122"/>
                  </a:lnTo>
                  <a:lnTo>
                    <a:pt x="8083" y="108"/>
                  </a:lnTo>
                  <a:lnTo>
                    <a:pt x="8070" y="96"/>
                  </a:lnTo>
                  <a:lnTo>
                    <a:pt x="8054" y="86"/>
                  </a:lnTo>
                  <a:lnTo>
                    <a:pt x="8038" y="79"/>
                  </a:lnTo>
                  <a:lnTo>
                    <a:pt x="8021" y="74"/>
                  </a:lnTo>
                  <a:lnTo>
                    <a:pt x="8003" y="71"/>
                  </a:lnTo>
                  <a:lnTo>
                    <a:pt x="7985" y="69"/>
                  </a:lnTo>
                  <a:lnTo>
                    <a:pt x="7972" y="69"/>
                  </a:lnTo>
                  <a:lnTo>
                    <a:pt x="7960" y="71"/>
                  </a:lnTo>
                  <a:lnTo>
                    <a:pt x="7949" y="73"/>
                  </a:lnTo>
                  <a:lnTo>
                    <a:pt x="7938" y="76"/>
                  </a:lnTo>
                  <a:lnTo>
                    <a:pt x="7928" y="78"/>
                  </a:lnTo>
                  <a:lnTo>
                    <a:pt x="7919" y="83"/>
                  </a:lnTo>
                  <a:lnTo>
                    <a:pt x="7909" y="86"/>
                  </a:lnTo>
                  <a:lnTo>
                    <a:pt x="7900" y="93"/>
                  </a:lnTo>
                  <a:lnTo>
                    <a:pt x="7892" y="99"/>
                  </a:lnTo>
                  <a:lnTo>
                    <a:pt x="7884" y="105"/>
                  </a:lnTo>
                  <a:lnTo>
                    <a:pt x="7877" y="112"/>
                  </a:lnTo>
                  <a:lnTo>
                    <a:pt x="7870" y="121"/>
                  </a:lnTo>
                  <a:lnTo>
                    <a:pt x="7864" y="129"/>
                  </a:lnTo>
                  <a:lnTo>
                    <a:pt x="7858" y="139"/>
                  </a:lnTo>
                  <a:lnTo>
                    <a:pt x="7853" y="149"/>
                  </a:lnTo>
                  <a:lnTo>
                    <a:pt x="7848" y="160"/>
                  </a:lnTo>
                  <a:lnTo>
                    <a:pt x="7839" y="183"/>
                  </a:lnTo>
                  <a:lnTo>
                    <a:pt x="7832" y="207"/>
                  </a:lnTo>
                  <a:lnTo>
                    <a:pt x="7826" y="233"/>
                  </a:lnTo>
                  <a:lnTo>
                    <a:pt x="7821" y="259"/>
                  </a:lnTo>
                  <a:lnTo>
                    <a:pt x="7817" y="287"/>
                  </a:lnTo>
                  <a:lnTo>
                    <a:pt x="7814" y="317"/>
                  </a:lnTo>
                  <a:lnTo>
                    <a:pt x="7812" y="347"/>
                  </a:lnTo>
                  <a:lnTo>
                    <a:pt x="7811" y="379"/>
                  </a:lnTo>
                  <a:lnTo>
                    <a:pt x="7812" y="420"/>
                  </a:lnTo>
                  <a:lnTo>
                    <a:pt x="7815" y="458"/>
                  </a:lnTo>
                  <a:lnTo>
                    <a:pt x="7819" y="493"/>
                  </a:lnTo>
                  <a:lnTo>
                    <a:pt x="7823" y="526"/>
                  </a:lnTo>
                  <a:lnTo>
                    <a:pt x="7830" y="554"/>
                  </a:lnTo>
                  <a:lnTo>
                    <a:pt x="7838" y="580"/>
                  </a:lnTo>
                  <a:lnTo>
                    <a:pt x="7843" y="592"/>
                  </a:lnTo>
                  <a:lnTo>
                    <a:pt x="7848" y="603"/>
                  </a:lnTo>
                  <a:lnTo>
                    <a:pt x="7853" y="613"/>
                  </a:lnTo>
                  <a:lnTo>
                    <a:pt x="7859" y="621"/>
                  </a:lnTo>
                  <a:lnTo>
                    <a:pt x="7871" y="638"/>
                  </a:lnTo>
                  <a:lnTo>
                    <a:pt x="7884" y="653"/>
                  </a:lnTo>
                  <a:lnTo>
                    <a:pt x="7899" y="665"/>
                  </a:lnTo>
                  <a:lnTo>
                    <a:pt x="7914" y="675"/>
                  </a:lnTo>
                  <a:lnTo>
                    <a:pt x="7930" y="682"/>
                  </a:lnTo>
                  <a:lnTo>
                    <a:pt x="7947" y="688"/>
                  </a:lnTo>
                  <a:lnTo>
                    <a:pt x="7965" y="690"/>
                  </a:lnTo>
                  <a:lnTo>
                    <a:pt x="7985" y="692"/>
                  </a:lnTo>
                  <a:close/>
                  <a:moveTo>
                    <a:pt x="8907" y="374"/>
                  </a:moveTo>
                  <a:lnTo>
                    <a:pt x="9037" y="570"/>
                  </a:lnTo>
                  <a:lnTo>
                    <a:pt x="9048" y="555"/>
                  </a:lnTo>
                  <a:lnTo>
                    <a:pt x="9058" y="539"/>
                  </a:lnTo>
                  <a:lnTo>
                    <a:pt x="9067" y="526"/>
                  </a:lnTo>
                  <a:lnTo>
                    <a:pt x="9074" y="513"/>
                  </a:lnTo>
                  <a:lnTo>
                    <a:pt x="9081" y="499"/>
                  </a:lnTo>
                  <a:lnTo>
                    <a:pt x="9086" y="486"/>
                  </a:lnTo>
                  <a:lnTo>
                    <a:pt x="9091" y="474"/>
                  </a:lnTo>
                  <a:lnTo>
                    <a:pt x="9093" y="463"/>
                  </a:lnTo>
                  <a:lnTo>
                    <a:pt x="9100" y="442"/>
                  </a:lnTo>
                  <a:lnTo>
                    <a:pt x="9104" y="429"/>
                  </a:lnTo>
                  <a:lnTo>
                    <a:pt x="9107" y="424"/>
                  </a:lnTo>
                  <a:lnTo>
                    <a:pt x="9109" y="420"/>
                  </a:lnTo>
                  <a:lnTo>
                    <a:pt x="9112" y="418"/>
                  </a:lnTo>
                  <a:lnTo>
                    <a:pt x="9114" y="416"/>
                  </a:lnTo>
                  <a:lnTo>
                    <a:pt x="9169" y="416"/>
                  </a:lnTo>
                  <a:lnTo>
                    <a:pt x="9174" y="418"/>
                  </a:lnTo>
                  <a:lnTo>
                    <a:pt x="9178" y="419"/>
                  </a:lnTo>
                  <a:lnTo>
                    <a:pt x="9179" y="421"/>
                  </a:lnTo>
                  <a:lnTo>
                    <a:pt x="9180" y="425"/>
                  </a:lnTo>
                  <a:lnTo>
                    <a:pt x="9178" y="434"/>
                  </a:lnTo>
                  <a:lnTo>
                    <a:pt x="9172" y="454"/>
                  </a:lnTo>
                  <a:lnTo>
                    <a:pt x="9168" y="468"/>
                  </a:lnTo>
                  <a:lnTo>
                    <a:pt x="9164" y="480"/>
                  </a:lnTo>
                  <a:lnTo>
                    <a:pt x="9159" y="492"/>
                  </a:lnTo>
                  <a:lnTo>
                    <a:pt x="9156" y="503"/>
                  </a:lnTo>
                  <a:lnTo>
                    <a:pt x="9151" y="514"/>
                  </a:lnTo>
                  <a:lnTo>
                    <a:pt x="9144" y="527"/>
                  </a:lnTo>
                  <a:lnTo>
                    <a:pt x="9136" y="543"/>
                  </a:lnTo>
                  <a:lnTo>
                    <a:pt x="9126" y="559"/>
                  </a:lnTo>
                  <a:lnTo>
                    <a:pt x="9115" y="577"/>
                  </a:lnTo>
                  <a:lnTo>
                    <a:pt x="9103" y="594"/>
                  </a:lnTo>
                  <a:lnTo>
                    <a:pt x="9091" y="611"/>
                  </a:lnTo>
                  <a:lnTo>
                    <a:pt x="9076" y="628"/>
                  </a:lnTo>
                  <a:lnTo>
                    <a:pt x="9129" y="706"/>
                  </a:lnTo>
                  <a:lnTo>
                    <a:pt x="9130" y="709"/>
                  </a:lnTo>
                  <a:lnTo>
                    <a:pt x="9131" y="711"/>
                  </a:lnTo>
                  <a:lnTo>
                    <a:pt x="9131" y="715"/>
                  </a:lnTo>
                  <a:lnTo>
                    <a:pt x="9133" y="716"/>
                  </a:lnTo>
                  <a:lnTo>
                    <a:pt x="9129" y="723"/>
                  </a:lnTo>
                  <a:lnTo>
                    <a:pt x="9125" y="727"/>
                  </a:lnTo>
                  <a:lnTo>
                    <a:pt x="9081" y="757"/>
                  </a:lnTo>
                  <a:lnTo>
                    <a:pt x="9073" y="757"/>
                  </a:lnTo>
                  <a:lnTo>
                    <a:pt x="9069" y="757"/>
                  </a:lnTo>
                  <a:lnTo>
                    <a:pt x="9065" y="755"/>
                  </a:lnTo>
                  <a:lnTo>
                    <a:pt x="9063" y="754"/>
                  </a:lnTo>
                  <a:lnTo>
                    <a:pt x="9061" y="750"/>
                  </a:lnTo>
                  <a:lnTo>
                    <a:pt x="9018" y="682"/>
                  </a:lnTo>
                  <a:lnTo>
                    <a:pt x="8990" y="703"/>
                  </a:lnTo>
                  <a:lnTo>
                    <a:pt x="8963" y="720"/>
                  </a:lnTo>
                  <a:lnTo>
                    <a:pt x="8950" y="727"/>
                  </a:lnTo>
                  <a:lnTo>
                    <a:pt x="8936" y="734"/>
                  </a:lnTo>
                  <a:lnTo>
                    <a:pt x="8923" y="739"/>
                  </a:lnTo>
                  <a:lnTo>
                    <a:pt x="8909" y="744"/>
                  </a:lnTo>
                  <a:lnTo>
                    <a:pt x="8896" y="749"/>
                  </a:lnTo>
                  <a:lnTo>
                    <a:pt x="8882" y="753"/>
                  </a:lnTo>
                  <a:lnTo>
                    <a:pt x="8869" y="756"/>
                  </a:lnTo>
                  <a:lnTo>
                    <a:pt x="8854" y="759"/>
                  </a:lnTo>
                  <a:lnTo>
                    <a:pt x="8825" y="761"/>
                  </a:lnTo>
                  <a:lnTo>
                    <a:pt x="8795" y="762"/>
                  </a:lnTo>
                  <a:lnTo>
                    <a:pt x="8773" y="762"/>
                  </a:lnTo>
                  <a:lnTo>
                    <a:pt x="8753" y="760"/>
                  </a:lnTo>
                  <a:lnTo>
                    <a:pt x="8735" y="756"/>
                  </a:lnTo>
                  <a:lnTo>
                    <a:pt x="8718" y="751"/>
                  </a:lnTo>
                  <a:lnTo>
                    <a:pt x="8701" y="745"/>
                  </a:lnTo>
                  <a:lnTo>
                    <a:pt x="8686" y="738"/>
                  </a:lnTo>
                  <a:lnTo>
                    <a:pt x="8673" y="729"/>
                  </a:lnTo>
                  <a:lnTo>
                    <a:pt x="8659" y="720"/>
                  </a:lnTo>
                  <a:lnTo>
                    <a:pt x="8648" y="708"/>
                  </a:lnTo>
                  <a:lnTo>
                    <a:pt x="8638" y="695"/>
                  </a:lnTo>
                  <a:lnTo>
                    <a:pt x="8631" y="682"/>
                  </a:lnTo>
                  <a:lnTo>
                    <a:pt x="8624" y="667"/>
                  </a:lnTo>
                  <a:lnTo>
                    <a:pt x="8619" y="650"/>
                  </a:lnTo>
                  <a:lnTo>
                    <a:pt x="8615" y="633"/>
                  </a:lnTo>
                  <a:lnTo>
                    <a:pt x="8613" y="615"/>
                  </a:lnTo>
                  <a:lnTo>
                    <a:pt x="8612" y="596"/>
                  </a:lnTo>
                  <a:lnTo>
                    <a:pt x="8613" y="576"/>
                  </a:lnTo>
                  <a:lnTo>
                    <a:pt x="8615" y="558"/>
                  </a:lnTo>
                  <a:lnTo>
                    <a:pt x="8618" y="539"/>
                  </a:lnTo>
                  <a:lnTo>
                    <a:pt x="8623" y="521"/>
                  </a:lnTo>
                  <a:lnTo>
                    <a:pt x="8629" y="505"/>
                  </a:lnTo>
                  <a:lnTo>
                    <a:pt x="8636" y="490"/>
                  </a:lnTo>
                  <a:lnTo>
                    <a:pt x="8645" y="474"/>
                  </a:lnTo>
                  <a:lnTo>
                    <a:pt x="8656" y="460"/>
                  </a:lnTo>
                  <a:lnTo>
                    <a:pt x="8666" y="446"/>
                  </a:lnTo>
                  <a:lnTo>
                    <a:pt x="8680" y="432"/>
                  </a:lnTo>
                  <a:lnTo>
                    <a:pt x="8695" y="419"/>
                  </a:lnTo>
                  <a:lnTo>
                    <a:pt x="8712" y="406"/>
                  </a:lnTo>
                  <a:lnTo>
                    <a:pt x="8731" y="392"/>
                  </a:lnTo>
                  <a:lnTo>
                    <a:pt x="8751" y="379"/>
                  </a:lnTo>
                  <a:lnTo>
                    <a:pt x="8774" y="365"/>
                  </a:lnTo>
                  <a:lnTo>
                    <a:pt x="8797" y="353"/>
                  </a:lnTo>
                  <a:lnTo>
                    <a:pt x="8781" y="326"/>
                  </a:lnTo>
                  <a:lnTo>
                    <a:pt x="8767" y="303"/>
                  </a:lnTo>
                  <a:lnTo>
                    <a:pt x="8756" y="283"/>
                  </a:lnTo>
                  <a:lnTo>
                    <a:pt x="8748" y="265"/>
                  </a:lnTo>
                  <a:lnTo>
                    <a:pt x="8742" y="248"/>
                  </a:lnTo>
                  <a:lnTo>
                    <a:pt x="8738" y="231"/>
                  </a:lnTo>
                  <a:lnTo>
                    <a:pt x="8736" y="214"/>
                  </a:lnTo>
                  <a:lnTo>
                    <a:pt x="8735" y="196"/>
                  </a:lnTo>
                  <a:lnTo>
                    <a:pt x="8736" y="175"/>
                  </a:lnTo>
                  <a:lnTo>
                    <a:pt x="8738" y="157"/>
                  </a:lnTo>
                  <a:lnTo>
                    <a:pt x="8743" y="139"/>
                  </a:lnTo>
                  <a:lnTo>
                    <a:pt x="8749" y="122"/>
                  </a:lnTo>
                  <a:lnTo>
                    <a:pt x="8758" y="106"/>
                  </a:lnTo>
                  <a:lnTo>
                    <a:pt x="8769" y="90"/>
                  </a:lnTo>
                  <a:lnTo>
                    <a:pt x="8780" y="76"/>
                  </a:lnTo>
                  <a:lnTo>
                    <a:pt x="8795" y="62"/>
                  </a:lnTo>
                  <a:lnTo>
                    <a:pt x="8809" y="50"/>
                  </a:lnTo>
                  <a:lnTo>
                    <a:pt x="8826" y="39"/>
                  </a:lnTo>
                  <a:lnTo>
                    <a:pt x="8843" y="30"/>
                  </a:lnTo>
                  <a:lnTo>
                    <a:pt x="8862" y="23"/>
                  </a:lnTo>
                  <a:lnTo>
                    <a:pt x="8881" y="17"/>
                  </a:lnTo>
                  <a:lnTo>
                    <a:pt x="8902" y="13"/>
                  </a:lnTo>
                  <a:lnTo>
                    <a:pt x="8924" y="11"/>
                  </a:lnTo>
                  <a:lnTo>
                    <a:pt x="8946" y="10"/>
                  </a:lnTo>
                  <a:lnTo>
                    <a:pt x="8963" y="10"/>
                  </a:lnTo>
                  <a:lnTo>
                    <a:pt x="8979" y="12"/>
                  </a:lnTo>
                  <a:lnTo>
                    <a:pt x="8993" y="15"/>
                  </a:lnTo>
                  <a:lnTo>
                    <a:pt x="9008" y="19"/>
                  </a:lnTo>
                  <a:lnTo>
                    <a:pt x="9022" y="24"/>
                  </a:lnTo>
                  <a:lnTo>
                    <a:pt x="9034" y="30"/>
                  </a:lnTo>
                  <a:lnTo>
                    <a:pt x="9046" y="39"/>
                  </a:lnTo>
                  <a:lnTo>
                    <a:pt x="9056" y="47"/>
                  </a:lnTo>
                  <a:lnTo>
                    <a:pt x="9065" y="57"/>
                  </a:lnTo>
                  <a:lnTo>
                    <a:pt x="9074" y="68"/>
                  </a:lnTo>
                  <a:lnTo>
                    <a:pt x="9081" y="80"/>
                  </a:lnTo>
                  <a:lnTo>
                    <a:pt x="9087" y="93"/>
                  </a:lnTo>
                  <a:lnTo>
                    <a:pt x="9091" y="105"/>
                  </a:lnTo>
                  <a:lnTo>
                    <a:pt x="9095" y="119"/>
                  </a:lnTo>
                  <a:lnTo>
                    <a:pt x="9097" y="134"/>
                  </a:lnTo>
                  <a:lnTo>
                    <a:pt x="9097" y="150"/>
                  </a:lnTo>
                  <a:lnTo>
                    <a:pt x="9097" y="167"/>
                  </a:lnTo>
                  <a:lnTo>
                    <a:pt x="9095" y="183"/>
                  </a:lnTo>
                  <a:lnTo>
                    <a:pt x="9091" y="199"/>
                  </a:lnTo>
                  <a:lnTo>
                    <a:pt x="9086" y="213"/>
                  </a:lnTo>
                  <a:lnTo>
                    <a:pt x="9080" y="228"/>
                  </a:lnTo>
                  <a:lnTo>
                    <a:pt x="9073" y="242"/>
                  </a:lnTo>
                  <a:lnTo>
                    <a:pt x="9064" y="256"/>
                  </a:lnTo>
                  <a:lnTo>
                    <a:pt x="9053" y="268"/>
                  </a:lnTo>
                  <a:lnTo>
                    <a:pt x="9041" y="281"/>
                  </a:lnTo>
                  <a:lnTo>
                    <a:pt x="9028" y="295"/>
                  </a:lnTo>
                  <a:lnTo>
                    <a:pt x="9012" y="307"/>
                  </a:lnTo>
                  <a:lnTo>
                    <a:pt x="8995" y="320"/>
                  </a:lnTo>
                  <a:lnTo>
                    <a:pt x="8975" y="334"/>
                  </a:lnTo>
                  <a:lnTo>
                    <a:pt x="8954" y="347"/>
                  </a:lnTo>
                  <a:lnTo>
                    <a:pt x="8931" y="360"/>
                  </a:lnTo>
                  <a:lnTo>
                    <a:pt x="8907" y="374"/>
                  </a:lnTo>
                  <a:close/>
                  <a:moveTo>
                    <a:pt x="8870" y="319"/>
                  </a:moveTo>
                  <a:lnTo>
                    <a:pt x="8909" y="295"/>
                  </a:lnTo>
                  <a:lnTo>
                    <a:pt x="8942" y="273"/>
                  </a:lnTo>
                  <a:lnTo>
                    <a:pt x="8956" y="263"/>
                  </a:lnTo>
                  <a:lnTo>
                    <a:pt x="8968" y="253"/>
                  </a:lnTo>
                  <a:lnTo>
                    <a:pt x="8979" y="244"/>
                  </a:lnTo>
                  <a:lnTo>
                    <a:pt x="8987" y="235"/>
                  </a:lnTo>
                  <a:lnTo>
                    <a:pt x="8995" y="227"/>
                  </a:lnTo>
                  <a:lnTo>
                    <a:pt x="9001" y="218"/>
                  </a:lnTo>
                  <a:lnTo>
                    <a:pt x="9006" y="208"/>
                  </a:lnTo>
                  <a:lnTo>
                    <a:pt x="9011" y="199"/>
                  </a:lnTo>
                  <a:lnTo>
                    <a:pt x="9014" y="188"/>
                  </a:lnTo>
                  <a:lnTo>
                    <a:pt x="9017" y="178"/>
                  </a:lnTo>
                  <a:lnTo>
                    <a:pt x="9018" y="167"/>
                  </a:lnTo>
                  <a:lnTo>
                    <a:pt x="9018" y="155"/>
                  </a:lnTo>
                  <a:lnTo>
                    <a:pt x="9018" y="146"/>
                  </a:lnTo>
                  <a:lnTo>
                    <a:pt x="9017" y="136"/>
                  </a:lnTo>
                  <a:lnTo>
                    <a:pt x="9015" y="129"/>
                  </a:lnTo>
                  <a:lnTo>
                    <a:pt x="9013" y="121"/>
                  </a:lnTo>
                  <a:lnTo>
                    <a:pt x="9009" y="113"/>
                  </a:lnTo>
                  <a:lnTo>
                    <a:pt x="9006" y="106"/>
                  </a:lnTo>
                  <a:lnTo>
                    <a:pt x="9001" y="100"/>
                  </a:lnTo>
                  <a:lnTo>
                    <a:pt x="8996" y="94"/>
                  </a:lnTo>
                  <a:lnTo>
                    <a:pt x="8990" y="89"/>
                  </a:lnTo>
                  <a:lnTo>
                    <a:pt x="8984" y="84"/>
                  </a:lnTo>
                  <a:lnTo>
                    <a:pt x="8976" y="80"/>
                  </a:lnTo>
                  <a:lnTo>
                    <a:pt x="8969" y="77"/>
                  </a:lnTo>
                  <a:lnTo>
                    <a:pt x="8961" y="74"/>
                  </a:lnTo>
                  <a:lnTo>
                    <a:pt x="8952" y="73"/>
                  </a:lnTo>
                  <a:lnTo>
                    <a:pt x="8943" y="72"/>
                  </a:lnTo>
                  <a:lnTo>
                    <a:pt x="8934" y="72"/>
                  </a:lnTo>
                  <a:lnTo>
                    <a:pt x="8921" y="72"/>
                  </a:lnTo>
                  <a:lnTo>
                    <a:pt x="8909" y="74"/>
                  </a:lnTo>
                  <a:lnTo>
                    <a:pt x="8898" y="77"/>
                  </a:lnTo>
                  <a:lnTo>
                    <a:pt x="8887" y="80"/>
                  </a:lnTo>
                  <a:lnTo>
                    <a:pt x="8878" y="85"/>
                  </a:lnTo>
                  <a:lnTo>
                    <a:pt x="8868" y="90"/>
                  </a:lnTo>
                  <a:lnTo>
                    <a:pt x="8858" y="97"/>
                  </a:lnTo>
                  <a:lnTo>
                    <a:pt x="8849" y="106"/>
                  </a:lnTo>
                  <a:lnTo>
                    <a:pt x="8841" y="114"/>
                  </a:lnTo>
                  <a:lnTo>
                    <a:pt x="8835" y="123"/>
                  </a:lnTo>
                  <a:lnTo>
                    <a:pt x="8829" y="133"/>
                  </a:lnTo>
                  <a:lnTo>
                    <a:pt x="8824" y="144"/>
                  </a:lnTo>
                  <a:lnTo>
                    <a:pt x="8820" y="153"/>
                  </a:lnTo>
                  <a:lnTo>
                    <a:pt x="8818" y="166"/>
                  </a:lnTo>
                  <a:lnTo>
                    <a:pt x="8817" y="177"/>
                  </a:lnTo>
                  <a:lnTo>
                    <a:pt x="8815" y="189"/>
                  </a:lnTo>
                  <a:lnTo>
                    <a:pt x="8817" y="202"/>
                  </a:lnTo>
                  <a:lnTo>
                    <a:pt x="8818" y="216"/>
                  </a:lnTo>
                  <a:lnTo>
                    <a:pt x="8821" y="228"/>
                  </a:lnTo>
                  <a:lnTo>
                    <a:pt x="8825" y="239"/>
                  </a:lnTo>
                  <a:lnTo>
                    <a:pt x="8831" y="253"/>
                  </a:lnTo>
                  <a:lnTo>
                    <a:pt x="8841" y="270"/>
                  </a:lnTo>
                  <a:lnTo>
                    <a:pt x="8854" y="292"/>
                  </a:lnTo>
                  <a:lnTo>
                    <a:pt x="8870" y="319"/>
                  </a:lnTo>
                  <a:close/>
                  <a:moveTo>
                    <a:pt x="8834" y="409"/>
                  </a:moveTo>
                  <a:lnTo>
                    <a:pt x="8815" y="420"/>
                  </a:lnTo>
                  <a:lnTo>
                    <a:pt x="8798" y="430"/>
                  </a:lnTo>
                  <a:lnTo>
                    <a:pt x="8782" y="440"/>
                  </a:lnTo>
                  <a:lnTo>
                    <a:pt x="8768" y="451"/>
                  </a:lnTo>
                  <a:lnTo>
                    <a:pt x="8754" y="460"/>
                  </a:lnTo>
                  <a:lnTo>
                    <a:pt x="8743" y="471"/>
                  </a:lnTo>
                  <a:lnTo>
                    <a:pt x="8732" y="481"/>
                  </a:lnTo>
                  <a:lnTo>
                    <a:pt x="8724" y="491"/>
                  </a:lnTo>
                  <a:lnTo>
                    <a:pt x="8717" y="502"/>
                  </a:lnTo>
                  <a:lnTo>
                    <a:pt x="8709" y="513"/>
                  </a:lnTo>
                  <a:lnTo>
                    <a:pt x="8704" y="524"/>
                  </a:lnTo>
                  <a:lnTo>
                    <a:pt x="8699" y="535"/>
                  </a:lnTo>
                  <a:lnTo>
                    <a:pt x="8696" y="547"/>
                  </a:lnTo>
                  <a:lnTo>
                    <a:pt x="8693" y="560"/>
                  </a:lnTo>
                  <a:lnTo>
                    <a:pt x="8692" y="572"/>
                  </a:lnTo>
                  <a:lnTo>
                    <a:pt x="8691" y="586"/>
                  </a:lnTo>
                  <a:lnTo>
                    <a:pt x="8692" y="599"/>
                  </a:lnTo>
                  <a:lnTo>
                    <a:pt x="8693" y="610"/>
                  </a:lnTo>
                  <a:lnTo>
                    <a:pt x="8696" y="621"/>
                  </a:lnTo>
                  <a:lnTo>
                    <a:pt x="8699" y="632"/>
                  </a:lnTo>
                  <a:lnTo>
                    <a:pt x="8703" y="642"/>
                  </a:lnTo>
                  <a:lnTo>
                    <a:pt x="8709" y="650"/>
                  </a:lnTo>
                  <a:lnTo>
                    <a:pt x="8715" y="659"/>
                  </a:lnTo>
                  <a:lnTo>
                    <a:pt x="8723" y="666"/>
                  </a:lnTo>
                  <a:lnTo>
                    <a:pt x="8731" y="673"/>
                  </a:lnTo>
                  <a:lnTo>
                    <a:pt x="8740" y="680"/>
                  </a:lnTo>
                  <a:lnTo>
                    <a:pt x="8749" y="684"/>
                  </a:lnTo>
                  <a:lnTo>
                    <a:pt x="8759" y="688"/>
                  </a:lnTo>
                  <a:lnTo>
                    <a:pt x="8770" y="692"/>
                  </a:lnTo>
                  <a:lnTo>
                    <a:pt x="8782" y="694"/>
                  </a:lnTo>
                  <a:lnTo>
                    <a:pt x="8795" y="695"/>
                  </a:lnTo>
                  <a:lnTo>
                    <a:pt x="8808" y="695"/>
                  </a:lnTo>
                  <a:lnTo>
                    <a:pt x="8831" y="694"/>
                  </a:lnTo>
                  <a:lnTo>
                    <a:pt x="8854" y="692"/>
                  </a:lnTo>
                  <a:lnTo>
                    <a:pt x="8875" y="687"/>
                  </a:lnTo>
                  <a:lnTo>
                    <a:pt x="8896" y="680"/>
                  </a:lnTo>
                  <a:lnTo>
                    <a:pt x="8915" y="670"/>
                  </a:lnTo>
                  <a:lnTo>
                    <a:pt x="8936" y="658"/>
                  </a:lnTo>
                  <a:lnTo>
                    <a:pt x="8958" y="643"/>
                  </a:lnTo>
                  <a:lnTo>
                    <a:pt x="8980" y="625"/>
                  </a:lnTo>
                  <a:lnTo>
                    <a:pt x="8834" y="409"/>
                  </a:lnTo>
                  <a:close/>
                  <a:moveTo>
                    <a:pt x="9734" y="12"/>
                  </a:moveTo>
                  <a:lnTo>
                    <a:pt x="9835" y="12"/>
                  </a:lnTo>
                  <a:lnTo>
                    <a:pt x="10074" y="750"/>
                  </a:lnTo>
                  <a:lnTo>
                    <a:pt x="9991" y="750"/>
                  </a:lnTo>
                  <a:lnTo>
                    <a:pt x="9917" y="522"/>
                  </a:lnTo>
                  <a:lnTo>
                    <a:pt x="9653" y="522"/>
                  </a:lnTo>
                  <a:lnTo>
                    <a:pt x="9581" y="750"/>
                  </a:lnTo>
                  <a:lnTo>
                    <a:pt x="9499" y="750"/>
                  </a:lnTo>
                  <a:lnTo>
                    <a:pt x="9734" y="12"/>
                  </a:lnTo>
                  <a:close/>
                  <a:moveTo>
                    <a:pt x="9677" y="453"/>
                  </a:moveTo>
                  <a:lnTo>
                    <a:pt x="9894" y="453"/>
                  </a:lnTo>
                  <a:lnTo>
                    <a:pt x="9786" y="88"/>
                  </a:lnTo>
                  <a:lnTo>
                    <a:pt x="9677" y="453"/>
                  </a:lnTo>
                  <a:close/>
                  <a:moveTo>
                    <a:pt x="10409" y="351"/>
                  </a:moveTo>
                  <a:lnTo>
                    <a:pt x="10445" y="373"/>
                  </a:lnTo>
                  <a:lnTo>
                    <a:pt x="10477" y="393"/>
                  </a:lnTo>
                  <a:lnTo>
                    <a:pt x="10492" y="404"/>
                  </a:lnTo>
                  <a:lnTo>
                    <a:pt x="10504" y="414"/>
                  </a:lnTo>
                  <a:lnTo>
                    <a:pt x="10516" y="425"/>
                  </a:lnTo>
                  <a:lnTo>
                    <a:pt x="10526" y="435"/>
                  </a:lnTo>
                  <a:lnTo>
                    <a:pt x="10536" y="446"/>
                  </a:lnTo>
                  <a:lnTo>
                    <a:pt x="10543" y="458"/>
                  </a:lnTo>
                  <a:lnTo>
                    <a:pt x="10550" y="471"/>
                  </a:lnTo>
                  <a:lnTo>
                    <a:pt x="10555" y="485"/>
                  </a:lnTo>
                  <a:lnTo>
                    <a:pt x="10560" y="501"/>
                  </a:lnTo>
                  <a:lnTo>
                    <a:pt x="10562" y="518"/>
                  </a:lnTo>
                  <a:lnTo>
                    <a:pt x="10565" y="535"/>
                  </a:lnTo>
                  <a:lnTo>
                    <a:pt x="10565" y="554"/>
                  </a:lnTo>
                  <a:lnTo>
                    <a:pt x="10564" y="580"/>
                  </a:lnTo>
                  <a:lnTo>
                    <a:pt x="10561" y="604"/>
                  </a:lnTo>
                  <a:lnTo>
                    <a:pt x="10559" y="616"/>
                  </a:lnTo>
                  <a:lnTo>
                    <a:pt x="10555" y="627"/>
                  </a:lnTo>
                  <a:lnTo>
                    <a:pt x="10551" y="638"/>
                  </a:lnTo>
                  <a:lnTo>
                    <a:pt x="10547" y="648"/>
                  </a:lnTo>
                  <a:lnTo>
                    <a:pt x="10543" y="658"/>
                  </a:lnTo>
                  <a:lnTo>
                    <a:pt x="10537" y="666"/>
                  </a:lnTo>
                  <a:lnTo>
                    <a:pt x="10531" y="675"/>
                  </a:lnTo>
                  <a:lnTo>
                    <a:pt x="10525" y="683"/>
                  </a:lnTo>
                  <a:lnTo>
                    <a:pt x="10517" y="692"/>
                  </a:lnTo>
                  <a:lnTo>
                    <a:pt x="10510" y="699"/>
                  </a:lnTo>
                  <a:lnTo>
                    <a:pt x="10501" y="705"/>
                  </a:lnTo>
                  <a:lnTo>
                    <a:pt x="10493" y="712"/>
                  </a:lnTo>
                  <a:lnTo>
                    <a:pt x="10473" y="723"/>
                  </a:lnTo>
                  <a:lnTo>
                    <a:pt x="10454" y="734"/>
                  </a:lnTo>
                  <a:lnTo>
                    <a:pt x="10432" y="743"/>
                  </a:lnTo>
                  <a:lnTo>
                    <a:pt x="10409" y="749"/>
                  </a:lnTo>
                  <a:lnTo>
                    <a:pt x="10385" y="755"/>
                  </a:lnTo>
                  <a:lnTo>
                    <a:pt x="10360" y="759"/>
                  </a:lnTo>
                  <a:lnTo>
                    <a:pt x="10333" y="761"/>
                  </a:lnTo>
                  <a:lnTo>
                    <a:pt x="10305" y="761"/>
                  </a:lnTo>
                  <a:lnTo>
                    <a:pt x="10274" y="761"/>
                  </a:lnTo>
                  <a:lnTo>
                    <a:pt x="10243" y="759"/>
                  </a:lnTo>
                  <a:lnTo>
                    <a:pt x="10210" y="755"/>
                  </a:lnTo>
                  <a:lnTo>
                    <a:pt x="10177" y="749"/>
                  </a:lnTo>
                  <a:lnTo>
                    <a:pt x="10161" y="745"/>
                  </a:lnTo>
                  <a:lnTo>
                    <a:pt x="10149" y="742"/>
                  </a:lnTo>
                  <a:lnTo>
                    <a:pt x="10139" y="740"/>
                  </a:lnTo>
                  <a:lnTo>
                    <a:pt x="10134" y="739"/>
                  </a:lnTo>
                  <a:lnTo>
                    <a:pt x="10134" y="654"/>
                  </a:lnTo>
                  <a:lnTo>
                    <a:pt x="10159" y="662"/>
                  </a:lnTo>
                  <a:lnTo>
                    <a:pt x="10183" y="671"/>
                  </a:lnTo>
                  <a:lnTo>
                    <a:pt x="10205" y="677"/>
                  </a:lnTo>
                  <a:lnTo>
                    <a:pt x="10227" y="682"/>
                  </a:lnTo>
                  <a:lnTo>
                    <a:pt x="10249" y="687"/>
                  </a:lnTo>
                  <a:lnTo>
                    <a:pt x="10271" y="689"/>
                  </a:lnTo>
                  <a:lnTo>
                    <a:pt x="10293" y="692"/>
                  </a:lnTo>
                  <a:lnTo>
                    <a:pt x="10315" y="692"/>
                  </a:lnTo>
                  <a:lnTo>
                    <a:pt x="10332" y="692"/>
                  </a:lnTo>
                  <a:lnTo>
                    <a:pt x="10349" y="690"/>
                  </a:lnTo>
                  <a:lnTo>
                    <a:pt x="10364" y="688"/>
                  </a:lnTo>
                  <a:lnTo>
                    <a:pt x="10378" y="684"/>
                  </a:lnTo>
                  <a:lnTo>
                    <a:pt x="10393" y="680"/>
                  </a:lnTo>
                  <a:lnTo>
                    <a:pt x="10406" y="673"/>
                  </a:lnTo>
                  <a:lnTo>
                    <a:pt x="10418" y="667"/>
                  </a:lnTo>
                  <a:lnTo>
                    <a:pt x="10429" y="659"/>
                  </a:lnTo>
                  <a:lnTo>
                    <a:pt x="10440" y="650"/>
                  </a:lnTo>
                  <a:lnTo>
                    <a:pt x="10449" y="641"/>
                  </a:lnTo>
                  <a:lnTo>
                    <a:pt x="10457" y="631"/>
                  </a:lnTo>
                  <a:lnTo>
                    <a:pt x="10464" y="619"/>
                  </a:lnTo>
                  <a:lnTo>
                    <a:pt x="10468" y="608"/>
                  </a:lnTo>
                  <a:lnTo>
                    <a:pt x="10471" y="594"/>
                  </a:lnTo>
                  <a:lnTo>
                    <a:pt x="10473" y="581"/>
                  </a:lnTo>
                  <a:lnTo>
                    <a:pt x="10475" y="566"/>
                  </a:lnTo>
                  <a:lnTo>
                    <a:pt x="10473" y="553"/>
                  </a:lnTo>
                  <a:lnTo>
                    <a:pt x="10472" y="539"/>
                  </a:lnTo>
                  <a:lnTo>
                    <a:pt x="10470" y="529"/>
                  </a:lnTo>
                  <a:lnTo>
                    <a:pt x="10467" y="518"/>
                  </a:lnTo>
                  <a:lnTo>
                    <a:pt x="10462" y="507"/>
                  </a:lnTo>
                  <a:lnTo>
                    <a:pt x="10457" y="498"/>
                  </a:lnTo>
                  <a:lnTo>
                    <a:pt x="10451" y="490"/>
                  </a:lnTo>
                  <a:lnTo>
                    <a:pt x="10445" y="482"/>
                  </a:lnTo>
                  <a:lnTo>
                    <a:pt x="10428" y="468"/>
                  </a:lnTo>
                  <a:lnTo>
                    <a:pt x="10406" y="452"/>
                  </a:lnTo>
                  <a:lnTo>
                    <a:pt x="10381" y="435"/>
                  </a:lnTo>
                  <a:lnTo>
                    <a:pt x="10351" y="418"/>
                  </a:lnTo>
                  <a:lnTo>
                    <a:pt x="10285" y="381"/>
                  </a:lnTo>
                  <a:lnTo>
                    <a:pt x="10248" y="358"/>
                  </a:lnTo>
                  <a:lnTo>
                    <a:pt x="10215" y="337"/>
                  </a:lnTo>
                  <a:lnTo>
                    <a:pt x="10188" y="318"/>
                  </a:lnTo>
                  <a:lnTo>
                    <a:pt x="10165" y="300"/>
                  </a:lnTo>
                  <a:lnTo>
                    <a:pt x="10156" y="290"/>
                  </a:lnTo>
                  <a:lnTo>
                    <a:pt x="10148" y="279"/>
                  </a:lnTo>
                  <a:lnTo>
                    <a:pt x="10141" y="267"/>
                  </a:lnTo>
                  <a:lnTo>
                    <a:pt x="10135" y="253"/>
                  </a:lnTo>
                  <a:lnTo>
                    <a:pt x="10132" y="240"/>
                  </a:lnTo>
                  <a:lnTo>
                    <a:pt x="10128" y="224"/>
                  </a:lnTo>
                  <a:lnTo>
                    <a:pt x="10127" y="207"/>
                  </a:lnTo>
                  <a:lnTo>
                    <a:pt x="10126" y="189"/>
                  </a:lnTo>
                  <a:lnTo>
                    <a:pt x="10127" y="167"/>
                  </a:lnTo>
                  <a:lnTo>
                    <a:pt x="10130" y="146"/>
                  </a:lnTo>
                  <a:lnTo>
                    <a:pt x="10135" y="127"/>
                  </a:lnTo>
                  <a:lnTo>
                    <a:pt x="10143" y="108"/>
                  </a:lnTo>
                  <a:lnTo>
                    <a:pt x="10146" y="100"/>
                  </a:lnTo>
                  <a:lnTo>
                    <a:pt x="10151" y="91"/>
                  </a:lnTo>
                  <a:lnTo>
                    <a:pt x="10157" y="83"/>
                  </a:lnTo>
                  <a:lnTo>
                    <a:pt x="10163" y="76"/>
                  </a:lnTo>
                  <a:lnTo>
                    <a:pt x="10177" y="62"/>
                  </a:lnTo>
                  <a:lnTo>
                    <a:pt x="10191" y="49"/>
                  </a:lnTo>
                  <a:lnTo>
                    <a:pt x="10209" y="38"/>
                  </a:lnTo>
                  <a:lnTo>
                    <a:pt x="10227" y="27"/>
                  </a:lnTo>
                  <a:lnTo>
                    <a:pt x="10246" y="19"/>
                  </a:lnTo>
                  <a:lnTo>
                    <a:pt x="10268" y="12"/>
                  </a:lnTo>
                  <a:lnTo>
                    <a:pt x="10290" y="7"/>
                  </a:lnTo>
                  <a:lnTo>
                    <a:pt x="10313" y="4"/>
                  </a:lnTo>
                  <a:lnTo>
                    <a:pt x="10338" y="1"/>
                  </a:lnTo>
                  <a:lnTo>
                    <a:pt x="10364" y="0"/>
                  </a:lnTo>
                  <a:lnTo>
                    <a:pt x="10382" y="0"/>
                  </a:lnTo>
                  <a:lnTo>
                    <a:pt x="10399" y="1"/>
                  </a:lnTo>
                  <a:lnTo>
                    <a:pt x="10415" y="2"/>
                  </a:lnTo>
                  <a:lnTo>
                    <a:pt x="10431" y="4"/>
                  </a:lnTo>
                  <a:lnTo>
                    <a:pt x="10446" y="6"/>
                  </a:lnTo>
                  <a:lnTo>
                    <a:pt x="10467" y="10"/>
                  </a:lnTo>
                  <a:lnTo>
                    <a:pt x="10490" y="13"/>
                  </a:lnTo>
                  <a:lnTo>
                    <a:pt x="10518" y="19"/>
                  </a:lnTo>
                  <a:lnTo>
                    <a:pt x="10518" y="101"/>
                  </a:lnTo>
                  <a:lnTo>
                    <a:pt x="10499" y="95"/>
                  </a:lnTo>
                  <a:lnTo>
                    <a:pt x="10479" y="88"/>
                  </a:lnTo>
                  <a:lnTo>
                    <a:pt x="10460" y="83"/>
                  </a:lnTo>
                  <a:lnTo>
                    <a:pt x="10438" y="78"/>
                  </a:lnTo>
                  <a:lnTo>
                    <a:pt x="10416" y="74"/>
                  </a:lnTo>
                  <a:lnTo>
                    <a:pt x="10395" y="72"/>
                  </a:lnTo>
                  <a:lnTo>
                    <a:pt x="10376" y="71"/>
                  </a:lnTo>
                  <a:lnTo>
                    <a:pt x="10356" y="69"/>
                  </a:lnTo>
                  <a:lnTo>
                    <a:pt x="10340" y="69"/>
                  </a:lnTo>
                  <a:lnTo>
                    <a:pt x="10326" y="72"/>
                  </a:lnTo>
                  <a:lnTo>
                    <a:pt x="10312" y="74"/>
                  </a:lnTo>
                  <a:lnTo>
                    <a:pt x="10299" y="77"/>
                  </a:lnTo>
                  <a:lnTo>
                    <a:pt x="10287" y="82"/>
                  </a:lnTo>
                  <a:lnTo>
                    <a:pt x="10274" y="86"/>
                  </a:lnTo>
                  <a:lnTo>
                    <a:pt x="10265" y="93"/>
                  </a:lnTo>
                  <a:lnTo>
                    <a:pt x="10255" y="100"/>
                  </a:lnTo>
                  <a:lnTo>
                    <a:pt x="10246" y="107"/>
                  </a:lnTo>
                  <a:lnTo>
                    <a:pt x="10238" y="116"/>
                  </a:lnTo>
                  <a:lnTo>
                    <a:pt x="10232" y="125"/>
                  </a:lnTo>
                  <a:lnTo>
                    <a:pt x="10227" y="135"/>
                  </a:lnTo>
                  <a:lnTo>
                    <a:pt x="10222" y="146"/>
                  </a:lnTo>
                  <a:lnTo>
                    <a:pt x="10220" y="157"/>
                  </a:lnTo>
                  <a:lnTo>
                    <a:pt x="10217" y="169"/>
                  </a:lnTo>
                  <a:lnTo>
                    <a:pt x="10217" y="181"/>
                  </a:lnTo>
                  <a:lnTo>
                    <a:pt x="10218" y="194"/>
                  </a:lnTo>
                  <a:lnTo>
                    <a:pt x="10220" y="206"/>
                  </a:lnTo>
                  <a:lnTo>
                    <a:pt x="10223" y="217"/>
                  </a:lnTo>
                  <a:lnTo>
                    <a:pt x="10228" y="227"/>
                  </a:lnTo>
                  <a:lnTo>
                    <a:pt x="10234" y="236"/>
                  </a:lnTo>
                  <a:lnTo>
                    <a:pt x="10240" y="246"/>
                  </a:lnTo>
                  <a:lnTo>
                    <a:pt x="10250" y="255"/>
                  </a:lnTo>
                  <a:lnTo>
                    <a:pt x="10260" y="262"/>
                  </a:lnTo>
                  <a:lnTo>
                    <a:pt x="10281" y="276"/>
                  </a:lnTo>
                  <a:lnTo>
                    <a:pt x="10301" y="290"/>
                  </a:lnTo>
                  <a:lnTo>
                    <a:pt x="10321" y="302"/>
                  </a:lnTo>
                  <a:lnTo>
                    <a:pt x="10340" y="313"/>
                  </a:lnTo>
                  <a:lnTo>
                    <a:pt x="10409" y="351"/>
                  </a:lnTo>
                  <a:close/>
                  <a:moveTo>
                    <a:pt x="10654" y="380"/>
                  </a:moveTo>
                  <a:lnTo>
                    <a:pt x="10655" y="340"/>
                  </a:lnTo>
                  <a:lnTo>
                    <a:pt x="10658" y="301"/>
                  </a:lnTo>
                  <a:lnTo>
                    <a:pt x="10662" y="264"/>
                  </a:lnTo>
                  <a:lnTo>
                    <a:pt x="10669" y="229"/>
                  </a:lnTo>
                  <a:lnTo>
                    <a:pt x="10677" y="196"/>
                  </a:lnTo>
                  <a:lnTo>
                    <a:pt x="10687" y="164"/>
                  </a:lnTo>
                  <a:lnTo>
                    <a:pt x="10699" y="135"/>
                  </a:lnTo>
                  <a:lnTo>
                    <a:pt x="10712" y="107"/>
                  </a:lnTo>
                  <a:lnTo>
                    <a:pt x="10720" y="94"/>
                  </a:lnTo>
                  <a:lnTo>
                    <a:pt x="10728" y="82"/>
                  </a:lnTo>
                  <a:lnTo>
                    <a:pt x="10738" y="71"/>
                  </a:lnTo>
                  <a:lnTo>
                    <a:pt x="10748" y="60"/>
                  </a:lnTo>
                  <a:lnTo>
                    <a:pt x="10758" y="51"/>
                  </a:lnTo>
                  <a:lnTo>
                    <a:pt x="10769" y="41"/>
                  </a:lnTo>
                  <a:lnTo>
                    <a:pt x="10781" y="34"/>
                  </a:lnTo>
                  <a:lnTo>
                    <a:pt x="10793" y="27"/>
                  </a:lnTo>
                  <a:lnTo>
                    <a:pt x="10806" y="21"/>
                  </a:lnTo>
                  <a:lnTo>
                    <a:pt x="10820" y="15"/>
                  </a:lnTo>
                  <a:lnTo>
                    <a:pt x="10834" y="11"/>
                  </a:lnTo>
                  <a:lnTo>
                    <a:pt x="10850" y="6"/>
                  </a:lnTo>
                  <a:lnTo>
                    <a:pt x="10866" y="4"/>
                  </a:lnTo>
                  <a:lnTo>
                    <a:pt x="10882" y="1"/>
                  </a:lnTo>
                  <a:lnTo>
                    <a:pt x="10900" y="0"/>
                  </a:lnTo>
                  <a:lnTo>
                    <a:pt x="10917" y="0"/>
                  </a:lnTo>
                  <a:lnTo>
                    <a:pt x="10936" y="0"/>
                  </a:lnTo>
                  <a:lnTo>
                    <a:pt x="10953" y="1"/>
                  </a:lnTo>
                  <a:lnTo>
                    <a:pt x="10969" y="4"/>
                  </a:lnTo>
                  <a:lnTo>
                    <a:pt x="10984" y="7"/>
                  </a:lnTo>
                  <a:lnTo>
                    <a:pt x="11000" y="11"/>
                  </a:lnTo>
                  <a:lnTo>
                    <a:pt x="11014" y="15"/>
                  </a:lnTo>
                  <a:lnTo>
                    <a:pt x="11028" y="21"/>
                  </a:lnTo>
                  <a:lnTo>
                    <a:pt x="11041" y="27"/>
                  </a:lnTo>
                  <a:lnTo>
                    <a:pt x="11053" y="34"/>
                  </a:lnTo>
                  <a:lnTo>
                    <a:pt x="11065" y="41"/>
                  </a:lnTo>
                  <a:lnTo>
                    <a:pt x="11076" y="51"/>
                  </a:lnTo>
                  <a:lnTo>
                    <a:pt x="11087" y="61"/>
                  </a:lnTo>
                  <a:lnTo>
                    <a:pt x="11097" y="71"/>
                  </a:lnTo>
                  <a:lnTo>
                    <a:pt x="11105" y="83"/>
                  </a:lnTo>
                  <a:lnTo>
                    <a:pt x="11114" y="95"/>
                  </a:lnTo>
                  <a:lnTo>
                    <a:pt x="11121" y="107"/>
                  </a:lnTo>
                  <a:lnTo>
                    <a:pt x="11136" y="135"/>
                  </a:lnTo>
                  <a:lnTo>
                    <a:pt x="11147" y="164"/>
                  </a:lnTo>
                  <a:lnTo>
                    <a:pt x="11158" y="196"/>
                  </a:lnTo>
                  <a:lnTo>
                    <a:pt x="11165" y="229"/>
                  </a:lnTo>
                  <a:lnTo>
                    <a:pt x="11172" y="264"/>
                  </a:lnTo>
                  <a:lnTo>
                    <a:pt x="11177" y="301"/>
                  </a:lnTo>
                  <a:lnTo>
                    <a:pt x="11180" y="340"/>
                  </a:lnTo>
                  <a:lnTo>
                    <a:pt x="11181" y="380"/>
                  </a:lnTo>
                  <a:lnTo>
                    <a:pt x="11180" y="420"/>
                  </a:lnTo>
                  <a:lnTo>
                    <a:pt x="11177" y="459"/>
                  </a:lnTo>
                  <a:lnTo>
                    <a:pt x="11172" y="496"/>
                  </a:lnTo>
                  <a:lnTo>
                    <a:pt x="11166" y="531"/>
                  </a:lnTo>
                  <a:lnTo>
                    <a:pt x="11158" y="565"/>
                  </a:lnTo>
                  <a:lnTo>
                    <a:pt x="11148" y="596"/>
                  </a:lnTo>
                  <a:lnTo>
                    <a:pt x="11136" y="626"/>
                  </a:lnTo>
                  <a:lnTo>
                    <a:pt x="11122" y="654"/>
                  </a:lnTo>
                  <a:lnTo>
                    <a:pt x="11114" y="667"/>
                  </a:lnTo>
                  <a:lnTo>
                    <a:pt x="11106" y="680"/>
                  </a:lnTo>
                  <a:lnTo>
                    <a:pt x="11097" y="690"/>
                  </a:lnTo>
                  <a:lnTo>
                    <a:pt x="11087" y="701"/>
                  </a:lnTo>
                  <a:lnTo>
                    <a:pt x="11077" y="711"/>
                  </a:lnTo>
                  <a:lnTo>
                    <a:pt x="11066" y="720"/>
                  </a:lnTo>
                  <a:lnTo>
                    <a:pt x="11054" y="727"/>
                  </a:lnTo>
                  <a:lnTo>
                    <a:pt x="11042" y="734"/>
                  </a:lnTo>
                  <a:lnTo>
                    <a:pt x="11028" y="742"/>
                  </a:lnTo>
                  <a:lnTo>
                    <a:pt x="11015" y="747"/>
                  </a:lnTo>
                  <a:lnTo>
                    <a:pt x="11000" y="751"/>
                  </a:lnTo>
                  <a:lnTo>
                    <a:pt x="10986" y="755"/>
                  </a:lnTo>
                  <a:lnTo>
                    <a:pt x="10970" y="757"/>
                  </a:lnTo>
                  <a:lnTo>
                    <a:pt x="10953" y="760"/>
                  </a:lnTo>
                  <a:lnTo>
                    <a:pt x="10936" y="761"/>
                  </a:lnTo>
                  <a:lnTo>
                    <a:pt x="10917" y="761"/>
                  </a:lnTo>
                  <a:lnTo>
                    <a:pt x="10900" y="761"/>
                  </a:lnTo>
                  <a:lnTo>
                    <a:pt x="10883" y="760"/>
                  </a:lnTo>
                  <a:lnTo>
                    <a:pt x="10866" y="757"/>
                  </a:lnTo>
                  <a:lnTo>
                    <a:pt x="10850" y="755"/>
                  </a:lnTo>
                  <a:lnTo>
                    <a:pt x="10836" y="751"/>
                  </a:lnTo>
                  <a:lnTo>
                    <a:pt x="10821" y="747"/>
                  </a:lnTo>
                  <a:lnTo>
                    <a:pt x="10808" y="740"/>
                  </a:lnTo>
                  <a:lnTo>
                    <a:pt x="10794" y="734"/>
                  </a:lnTo>
                  <a:lnTo>
                    <a:pt x="10782" y="727"/>
                  </a:lnTo>
                  <a:lnTo>
                    <a:pt x="10770" y="720"/>
                  </a:lnTo>
                  <a:lnTo>
                    <a:pt x="10759" y="710"/>
                  </a:lnTo>
                  <a:lnTo>
                    <a:pt x="10749" y="700"/>
                  </a:lnTo>
                  <a:lnTo>
                    <a:pt x="10739" y="690"/>
                  </a:lnTo>
                  <a:lnTo>
                    <a:pt x="10730" y="678"/>
                  </a:lnTo>
                  <a:lnTo>
                    <a:pt x="10721" y="666"/>
                  </a:lnTo>
                  <a:lnTo>
                    <a:pt x="10714" y="653"/>
                  </a:lnTo>
                  <a:lnTo>
                    <a:pt x="10700" y="625"/>
                  </a:lnTo>
                  <a:lnTo>
                    <a:pt x="10688" y="596"/>
                  </a:lnTo>
                  <a:lnTo>
                    <a:pt x="10677" y="564"/>
                  </a:lnTo>
                  <a:lnTo>
                    <a:pt x="10669" y="531"/>
                  </a:lnTo>
                  <a:lnTo>
                    <a:pt x="10662" y="496"/>
                  </a:lnTo>
                  <a:lnTo>
                    <a:pt x="10658" y="459"/>
                  </a:lnTo>
                  <a:lnTo>
                    <a:pt x="10655" y="420"/>
                  </a:lnTo>
                  <a:lnTo>
                    <a:pt x="10654" y="380"/>
                  </a:lnTo>
                  <a:close/>
                  <a:moveTo>
                    <a:pt x="10917" y="692"/>
                  </a:moveTo>
                  <a:lnTo>
                    <a:pt x="10930" y="692"/>
                  </a:lnTo>
                  <a:lnTo>
                    <a:pt x="10942" y="690"/>
                  </a:lnTo>
                  <a:lnTo>
                    <a:pt x="10953" y="689"/>
                  </a:lnTo>
                  <a:lnTo>
                    <a:pt x="10964" y="687"/>
                  </a:lnTo>
                  <a:lnTo>
                    <a:pt x="10974" y="683"/>
                  </a:lnTo>
                  <a:lnTo>
                    <a:pt x="10983" y="680"/>
                  </a:lnTo>
                  <a:lnTo>
                    <a:pt x="10992" y="675"/>
                  </a:lnTo>
                  <a:lnTo>
                    <a:pt x="11000" y="670"/>
                  </a:lnTo>
                  <a:lnTo>
                    <a:pt x="11009" y="664"/>
                  </a:lnTo>
                  <a:lnTo>
                    <a:pt x="11016" y="656"/>
                  </a:lnTo>
                  <a:lnTo>
                    <a:pt x="11024" y="649"/>
                  </a:lnTo>
                  <a:lnTo>
                    <a:pt x="11031" y="641"/>
                  </a:lnTo>
                  <a:lnTo>
                    <a:pt x="11037" y="632"/>
                  </a:lnTo>
                  <a:lnTo>
                    <a:pt x="11043" y="622"/>
                  </a:lnTo>
                  <a:lnTo>
                    <a:pt x="11048" y="611"/>
                  </a:lnTo>
                  <a:lnTo>
                    <a:pt x="11053" y="600"/>
                  </a:lnTo>
                  <a:lnTo>
                    <a:pt x="11061" y="577"/>
                  </a:lnTo>
                  <a:lnTo>
                    <a:pt x="11069" y="553"/>
                  </a:lnTo>
                  <a:lnTo>
                    <a:pt x="11075" y="526"/>
                  </a:lnTo>
                  <a:lnTo>
                    <a:pt x="11080" y="499"/>
                  </a:lnTo>
                  <a:lnTo>
                    <a:pt x="11085" y="471"/>
                  </a:lnTo>
                  <a:lnTo>
                    <a:pt x="11087" y="442"/>
                  </a:lnTo>
                  <a:lnTo>
                    <a:pt x="11088" y="410"/>
                  </a:lnTo>
                  <a:lnTo>
                    <a:pt x="11089" y="379"/>
                  </a:lnTo>
                  <a:lnTo>
                    <a:pt x="11088" y="337"/>
                  </a:lnTo>
                  <a:lnTo>
                    <a:pt x="11086" y="300"/>
                  </a:lnTo>
                  <a:lnTo>
                    <a:pt x="11082" y="264"/>
                  </a:lnTo>
                  <a:lnTo>
                    <a:pt x="11077" y="233"/>
                  </a:lnTo>
                  <a:lnTo>
                    <a:pt x="11071" y="205"/>
                  </a:lnTo>
                  <a:lnTo>
                    <a:pt x="11063" y="179"/>
                  </a:lnTo>
                  <a:lnTo>
                    <a:pt x="11059" y="168"/>
                  </a:lnTo>
                  <a:lnTo>
                    <a:pt x="11054" y="157"/>
                  </a:lnTo>
                  <a:lnTo>
                    <a:pt x="11048" y="147"/>
                  </a:lnTo>
                  <a:lnTo>
                    <a:pt x="11043" y="139"/>
                  </a:lnTo>
                  <a:lnTo>
                    <a:pt x="11031" y="122"/>
                  </a:lnTo>
                  <a:lnTo>
                    <a:pt x="11017" y="108"/>
                  </a:lnTo>
                  <a:lnTo>
                    <a:pt x="11003" y="96"/>
                  </a:lnTo>
                  <a:lnTo>
                    <a:pt x="10988" y="86"/>
                  </a:lnTo>
                  <a:lnTo>
                    <a:pt x="10972" y="79"/>
                  </a:lnTo>
                  <a:lnTo>
                    <a:pt x="10955" y="74"/>
                  </a:lnTo>
                  <a:lnTo>
                    <a:pt x="10937" y="71"/>
                  </a:lnTo>
                  <a:lnTo>
                    <a:pt x="10917" y="69"/>
                  </a:lnTo>
                  <a:lnTo>
                    <a:pt x="10905" y="69"/>
                  </a:lnTo>
                  <a:lnTo>
                    <a:pt x="10894" y="71"/>
                  </a:lnTo>
                  <a:lnTo>
                    <a:pt x="10883" y="73"/>
                  </a:lnTo>
                  <a:lnTo>
                    <a:pt x="10872" y="76"/>
                  </a:lnTo>
                  <a:lnTo>
                    <a:pt x="10861" y="78"/>
                  </a:lnTo>
                  <a:lnTo>
                    <a:pt x="10852" y="83"/>
                  </a:lnTo>
                  <a:lnTo>
                    <a:pt x="10843" y="86"/>
                  </a:lnTo>
                  <a:lnTo>
                    <a:pt x="10834" y="93"/>
                  </a:lnTo>
                  <a:lnTo>
                    <a:pt x="10826" y="99"/>
                  </a:lnTo>
                  <a:lnTo>
                    <a:pt x="10817" y="105"/>
                  </a:lnTo>
                  <a:lnTo>
                    <a:pt x="10811" y="112"/>
                  </a:lnTo>
                  <a:lnTo>
                    <a:pt x="10804" y="121"/>
                  </a:lnTo>
                  <a:lnTo>
                    <a:pt x="10798" y="129"/>
                  </a:lnTo>
                  <a:lnTo>
                    <a:pt x="10792" y="139"/>
                  </a:lnTo>
                  <a:lnTo>
                    <a:pt x="10787" y="149"/>
                  </a:lnTo>
                  <a:lnTo>
                    <a:pt x="10782" y="160"/>
                  </a:lnTo>
                  <a:lnTo>
                    <a:pt x="10773" y="183"/>
                  </a:lnTo>
                  <a:lnTo>
                    <a:pt x="10766" y="207"/>
                  </a:lnTo>
                  <a:lnTo>
                    <a:pt x="10760" y="233"/>
                  </a:lnTo>
                  <a:lnTo>
                    <a:pt x="10754" y="259"/>
                  </a:lnTo>
                  <a:lnTo>
                    <a:pt x="10750" y="287"/>
                  </a:lnTo>
                  <a:lnTo>
                    <a:pt x="10748" y="317"/>
                  </a:lnTo>
                  <a:lnTo>
                    <a:pt x="10745" y="347"/>
                  </a:lnTo>
                  <a:lnTo>
                    <a:pt x="10745" y="379"/>
                  </a:lnTo>
                  <a:lnTo>
                    <a:pt x="10747" y="420"/>
                  </a:lnTo>
                  <a:lnTo>
                    <a:pt x="10748" y="458"/>
                  </a:lnTo>
                  <a:lnTo>
                    <a:pt x="10751" y="493"/>
                  </a:lnTo>
                  <a:lnTo>
                    <a:pt x="10758" y="526"/>
                  </a:lnTo>
                  <a:lnTo>
                    <a:pt x="10764" y="554"/>
                  </a:lnTo>
                  <a:lnTo>
                    <a:pt x="10772" y="580"/>
                  </a:lnTo>
                  <a:lnTo>
                    <a:pt x="10776" y="592"/>
                  </a:lnTo>
                  <a:lnTo>
                    <a:pt x="10782" y="603"/>
                  </a:lnTo>
                  <a:lnTo>
                    <a:pt x="10787" y="613"/>
                  </a:lnTo>
                  <a:lnTo>
                    <a:pt x="10793" y="621"/>
                  </a:lnTo>
                  <a:lnTo>
                    <a:pt x="10805" y="638"/>
                  </a:lnTo>
                  <a:lnTo>
                    <a:pt x="10819" y="653"/>
                  </a:lnTo>
                  <a:lnTo>
                    <a:pt x="10832" y="665"/>
                  </a:lnTo>
                  <a:lnTo>
                    <a:pt x="10848" y="675"/>
                  </a:lnTo>
                  <a:lnTo>
                    <a:pt x="10864" y="682"/>
                  </a:lnTo>
                  <a:lnTo>
                    <a:pt x="10881" y="688"/>
                  </a:lnTo>
                  <a:lnTo>
                    <a:pt x="10899" y="690"/>
                  </a:lnTo>
                  <a:lnTo>
                    <a:pt x="10917" y="692"/>
                  </a:lnTo>
                  <a:close/>
                  <a:moveTo>
                    <a:pt x="11770" y="717"/>
                  </a:moveTo>
                  <a:lnTo>
                    <a:pt x="11742" y="728"/>
                  </a:lnTo>
                  <a:lnTo>
                    <a:pt x="11718" y="738"/>
                  </a:lnTo>
                  <a:lnTo>
                    <a:pt x="11697" y="745"/>
                  </a:lnTo>
                  <a:lnTo>
                    <a:pt x="11677" y="751"/>
                  </a:lnTo>
                  <a:lnTo>
                    <a:pt x="11659" y="756"/>
                  </a:lnTo>
                  <a:lnTo>
                    <a:pt x="11635" y="759"/>
                  </a:lnTo>
                  <a:lnTo>
                    <a:pt x="11607" y="761"/>
                  </a:lnTo>
                  <a:lnTo>
                    <a:pt x="11574" y="761"/>
                  </a:lnTo>
                  <a:lnTo>
                    <a:pt x="11554" y="761"/>
                  </a:lnTo>
                  <a:lnTo>
                    <a:pt x="11537" y="760"/>
                  </a:lnTo>
                  <a:lnTo>
                    <a:pt x="11519" y="757"/>
                  </a:lnTo>
                  <a:lnTo>
                    <a:pt x="11503" y="755"/>
                  </a:lnTo>
                  <a:lnTo>
                    <a:pt x="11486" y="750"/>
                  </a:lnTo>
                  <a:lnTo>
                    <a:pt x="11471" y="745"/>
                  </a:lnTo>
                  <a:lnTo>
                    <a:pt x="11457" y="739"/>
                  </a:lnTo>
                  <a:lnTo>
                    <a:pt x="11442" y="733"/>
                  </a:lnTo>
                  <a:lnTo>
                    <a:pt x="11429" y="725"/>
                  </a:lnTo>
                  <a:lnTo>
                    <a:pt x="11416" y="716"/>
                  </a:lnTo>
                  <a:lnTo>
                    <a:pt x="11404" y="706"/>
                  </a:lnTo>
                  <a:lnTo>
                    <a:pt x="11393" y="697"/>
                  </a:lnTo>
                  <a:lnTo>
                    <a:pt x="11382" y="686"/>
                  </a:lnTo>
                  <a:lnTo>
                    <a:pt x="11372" y="672"/>
                  </a:lnTo>
                  <a:lnTo>
                    <a:pt x="11364" y="660"/>
                  </a:lnTo>
                  <a:lnTo>
                    <a:pt x="11355" y="645"/>
                  </a:lnTo>
                  <a:lnTo>
                    <a:pt x="11347" y="631"/>
                  </a:lnTo>
                  <a:lnTo>
                    <a:pt x="11340" y="616"/>
                  </a:lnTo>
                  <a:lnTo>
                    <a:pt x="11332" y="600"/>
                  </a:lnTo>
                  <a:lnTo>
                    <a:pt x="11326" y="585"/>
                  </a:lnTo>
                  <a:lnTo>
                    <a:pt x="11315" y="552"/>
                  </a:lnTo>
                  <a:lnTo>
                    <a:pt x="11305" y="518"/>
                  </a:lnTo>
                  <a:lnTo>
                    <a:pt x="11299" y="482"/>
                  </a:lnTo>
                  <a:lnTo>
                    <a:pt x="11293" y="446"/>
                  </a:lnTo>
                  <a:lnTo>
                    <a:pt x="11291" y="407"/>
                  </a:lnTo>
                  <a:lnTo>
                    <a:pt x="11289" y="367"/>
                  </a:lnTo>
                  <a:lnTo>
                    <a:pt x="11291" y="328"/>
                  </a:lnTo>
                  <a:lnTo>
                    <a:pt x="11293" y="290"/>
                  </a:lnTo>
                  <a:lnTo>
                    <a:pt x="11299" y="255"/>
                  </a:lnTo>
                  <a:lnTo>
                    <a:pt x="11305" y="220"/>
                  </a:lnTo>
                  <a:lnTo>
                    <a:pt x="11310" y="203"/>
                  </a:lnTo>
                  <a:lnTo>
                    <a:pt x="11315" y="188"/>
                  </a:lnTo>
                  <a:lnTo>
                    <a:pt x="11320" y="173"/>
                  </a:lnTo>
                  <a:lnTo>
                    <a:pt x="11326" y="158"/>
                  </a:lnTo>
                  <a:lnTo>
                    <a:pt x="11332" y="144"/>
                  </a:lnTo>
                  <a:lnTo>
                    <a:pt x="11340" y="129"/>
                  </a:lnTo>
                  <a:lnTo>
                    <a:pt x="11347" y="116"/>
                  </a:lnTo>
                  <a:lnTo>
                    <a:pt x="11354" y="102"/>
                  </a:lnTo>
                  <a:lnTo>
                    <a:pt x="11363" y="90"/>
                  </a:lnTo>
                  <a:lnTo>
                    <a:pt x="11372" y="79"/>
                  </a:lnTo>
                  <a:lnTo>
                    <a:pt x="11382" y="68"/>
                  </a:lnTo>
                  <a:lnTo>
                    <a:pt x="11392" y="57"/>
                  </a:lnTo>
                  <a:lnTo>
                    <a:pt x="11403" y="49"/>
                  </a:lnTo>
                  <a:lnTo>
                    <a:pt x="11415" y="40"/>
                  </a:lnTo>
                  <a:lnTo>
                    <a:pt x="11427" y="33"/>
                  </a:lnTo>
                  <a:lnTo>
                    <a:pt x="11441" y="26"/>
                  </a:lnTo>
                  <a:lnTo>
                    <a:pt x="11454" y="19"/>
                  </a:lnTo>
                  <a:lnTo>
                    <a:pt x="11469" y="15"/>
                  </a:lnTo>
                  <a:lnTo>
                    <a:pt x="11483" y="10"/>
                  </a:lnTo>
                  <a:lnTo>
                    <a:pt x="11499" y="6"/>
                  </a:lnTo>
                  <a:lnTo>
                    <a:pt x="11515" y="4"/>
                  </a:lnTo>
                  <a:lnTo>
                    <a:pt x="11532" y="1"/>
                  </a:lnTo>
                  <a:lnTo>
                    <a:pt x="11549" y="0"/>
                  </a:lnTo>
                  <a:lnTo>
                    <a:pt x="11568" y="0"/>
                  </a:lnTo>
                  <a:lnTo>
                    <a:pt x="11594" y="1"/>
                  </a:lnTo>
                  <a:lnTo>
                    <a:pt x="11619" y="4"/>
                  </a:lnTo>
                  <a:lnTo>
                    <a:pt x="11642" y="9"/>
                  </a:lnTo>
                  <a:lnTo>
                    <a:pt x="11664" y="15"/>
                  </a:lnTo>
                  <a:lnTo>
                    <a:pt x="11685" y="23"/>
                  </a:lnTo>
                  <a:lnTo>
                    <a:pt x="11704" y="33"/>
                  </a:lnTo>
                  <a:lnTo>
                    <a:pt x="11721" y="45"/>
                  </a:lnTo>
                  <a:lnTo>
                    <a:pt x="11737" y="60"/>
                  </a:lnTo>
                  <a:lnTo>
                    <a:pt x="11751" y="74"/>
                  </a:lnTo>
                  <a:lnTo>
                    <a:pt x="11763" y="91"/>
                  </a:lnTo>
                  <a:lnTo>
                    <a:pt x="11774" y="108"/>
                  </a:lnTo>
                  <a:lnTo>
                    <a:pt x="11782" y="128"/>
                  </a:lnTo>
                  <a:lnTo>
                    <a:pt x="11788" y="147"/>
                  </a:lnTo>
                  <a:lnTo>
                    <a:pt x="11793" y="168"/>
                  </a:lnTo>
                  <a:lnTo>
                    <a:pt x="11797" y="190"/>
                  </a:lnTo>
                  <a:lnTo>
                    <a:pt x="11797" y="213"/>
                  </a:lnTo>
                  <a:lnTo>
                    <a:pt x="11703" y="213"/>
                  </a:lnTo>
                  <a:lnTo>
                    <a:pt x="11703" y="197"/>
                  </a:lnTo>
                  <a:lnTo>
                    <a:pt x="11701" y="183"/>
                  </a:lnTo>
                  <a:lnTo>
                    <a:pt x="11698" y="168"/>
                  </a:lnTo>
                  <a:lnTo>
                    <a:pt x="11695" y="155"/>
                  </a:lnTo>
                  <a:lnTo>
                    <a:pt x="11690" y="142"/>
                  </a:lnTo>
                  <a:lnTo>
                    <a:pt x="11684" y="130"/>
                  </a:lnTo>
                  <a:lnTo>
                    <a:pt x="11676" y="119"/>
                  </a:lnTo>
                  <a:lnTo>
                    <a:pt x="11668" y="110"/>
                  </a:lnTo>
                  <a:lnTo>
                    <a:pt x="11659" y="100"/>
                  </a:lnTo>
                  <a:lnTo>
                    <a:pt x="11648" y="91"/>
                  </a:lnTo>
                  <a:lnTo>
                    <a:pt x="11637" y="85"/>
                  </a:lnTo>
                  <a:lnTo>
                    <a:pt x="11625" y="79"/>
                  </a:lnTo>
                  <a:lnTo>
                    <a:pt x="11613" y="76"/>
                  </a:lnTo>
                  <a:lnTo>
                    <a:pt x="11598" y="72"/>
                  </a:lnTo>
                  <a:lnTo>
                    <a:pt x="11584" y="71"/>
                  </a:lnTo>
                  <a:lnTo>
                    <a:pt x="11568" y="69"/>
                  </a:lnTo>
                  <a:lnTo>
                    <a:pt x="11555" y="69"/>
                  </a:lnTo>
                  <a:lnTo>
                    <a:pt x="11543" y="71"/>
                  </a:lnTo>
                  <a:lnTo>
                    <a:pt x="11531" y="73"/>
                  </a:lnTo>
                  <a:lnTo>
                    <a:pt x="11519" y="76"/>
                  </a:lnTo>
                  <a:lnTo>
                    <a:pt x="11508" y="78"/>
                  </a:lnTo>
                  <a:lnTo>
                    <a:pt x="11498" y="82"/>
                  </a:lnTo>
                  <a:lnTo>
                    <a:pt x="11488" y="86"/>
                  </a:lnTo>
                  <a:lnTo>
                    <a:pt x="11479" y="91"/>
                  </a:lnTo>
                  <a:lnTo>
                    <a:pt x="11470" y="96"/>
                  </a:lnTo>
                  <a:lnTo>
                    <a:pt x="11462" y="104"/>
                  </a:lnTo>
                  <a:lnTo>
                    <a:pt x="11453" y="111"/>
                  </a:lnTo>
                  <a:lnTo>
                    <a:pt x="11446" y="118"/>
                  </a:lnTo>
                  <a:lnTo>
                    <a:pt x="11440" y="127"/>
                  </a:lnTo>
                  <a:lnTo>
                    <a:pt x="11432" y="135"/>
                  </a:lnTo>
                  <a:lnTo>
                    <a:pt x="11426" y="145"/>
                  </a:lnTo>
                  <a:lnTo>
                    <a:pt x="11421" y="156"/>
                  </a:lnTo>
                  <a:lnTo>
                    <a:pt x="11411" y="178"/>
                  </a:lnTo>
                  <a:lnTo>
                    <a:pt x="11404" y="201"/>
                  </a:lnTo>
                  <a:lnTo>
                    <a:pt x="11397" y="227"/>
                  </a:lnTo>
                  <a:lnTo>
                    <a:pt x="11391" y="252"/>
                  </a:lnTo>
                  <a:lnTo>
                    <a:pt x="11386" y="280"/>
                  </a:lnTo>
                  <a:lnTo>
                    <a:pt x="11383" y="309"/>
                  </a:lnTo>
                  <a:lnTo>
                    <a:pt x="11381" y="340"/>
                  </a:lnTo>
                  <a:lnTo>
                    <a:pt x="11381" y="371"/>
                  </a:lnTo>
                  <a:lnTo>
                    <a:pt x="11382" y="412"/>
                  </a:lnTo>
                  <a:lnTo>
                    <a:pt x="11385" y="449"/>
                  </a:lnTo>
                  <a:lnTo>
                    <a:pt x="11390" y="483"/>
                  </a:lnTo>
                  <a:lnTo>
                    <a:pt x="11396" y="515"/>
                  </a:lnTo>
                  <a:lnTo>
                    <a:pt x="11399" y="531"/>
                  </a:lnTo>
                  <a:lnTo>
                    <a:pt x="11404" y="544"/>
                  </a:lnTo>
                  <a:lnTo>
                    <a:pt x="11409" y="558"/>
                  </a:lnTo>
                  <a:lnTo>
                    <a:pt x="11414" y="571"/>
                  </a:lnTo>
                  <a:lnTo>
                    <a:pt x="11420" y="583"/>
                  </a:lnTo>
                  <a:lnTo>
                    <a:pt x="11426" y="594"/>
                  </a:lnTo>
                  <a:lnTo>
                    <a:pt x="11433" y="605"/>
                  </a:lnTo>
                  <a:lnTo>
                    <a:pt x="11441" y="615"/>
                  </a:lnTo>
                  <a:lnTo>
                    <a:pt x="11448" y="625"/>
                  </a:lnTo>
                  <a:lnTo>
                    <a:pt x="11455" y="633"/>
                  </a:lnTo>
                  <a:lnTo>
                    <a:pt x="11464" y="642"/>
                  </a:lnTo>
                  <a:lnTo>
                    <a:pt x="11472" y="649"/>
                  </a:lnTo>
                  <a:lnTo>
                    <a:pt x="11481" y="655"/>
                  </a:lnTo>
                  <a:lnTo>
                    <a:pt x="11490" y="662"/>
                  </a:lnTo>
                  <a:lnTo>
                    <a:pt x="11499" y="667"/>
                  </a:lnTo>
                  <a:lnTo>
                    <a:pt x="11508" y="673"/>
                  </a:lnTo>
                  <a:lnTo>
                    <a:pt x="11518" y="677"/>
                  </a:lnTo>
                  <a:lnTo>
                    <a:pt x="11529" y="681"/>
                  </a:lnTo>
                  <a:lnTo>
                    <a:pt x="11538" y="684"/>
                  </a:lnTo>
                  <a:lnTo>
                    <a:pt x="11549" y="687"/>
                  </a:lnTo>
                  <a:lnTo>
                    <a:pt x="11560" y="689"/>
                  </a:lnTo>
                  <a:lnTo>
                    <a:pt x="11571" y="690"/>
                  </a:lnTo>
                  <a:lnTo>
                    <a:pt x="11582" y="692"/>
                  </a:lnTo>
                  <a:lnTo>
                    <a:pt x="11594" y="692"/>
                  </a:lnTo>
                  <a:lnTo>
                    <a:pt x="11609" y="692"/>
                  </a:lnTo>
                  <a:lnTo>
                    <a:pt x="11624" y="690"/>
                  </a:lnTo>
                  <a:lnTo>
                    <a:pt x="11637" y="689"/>
                  </a:lnTo>
                  <a:lnTo>
                    <a:pt x="11649" y="688"/>
                  </a:lnTo>
                  <a:lnTo>
                    <a:pt x="11663" y="686"/>
                  </a:lnTo>
                  <a:lnTo>
                    <a:pt x="11674" y="682"/>
                  </a:lnTo>
                  <a:lnTo>
                    <a:pt x="11685" y="678"/>
                  </a:lnTo>
                  <a:lnTo>
                    <a:pt x="11696" y="673"/>
                  </a:lnTo>
                  <a:lnTo>
                    <a:pt x="11715" y="665"/>
                  </a:lnTo>
                  <a:lnTo>
                    <a:pt x="11735" y="654"/>
                  </a:lnTo>
                  <a:lnTo>
                    <a:pt x="11753" y="643"/>
                  </a:lnTo>
                  <a:lnTo>
                    <a:pt x="11770" y="631"/>
                  </a:lnTo>
                  <a:lnTo>
                    <a:pt x="11770" y="717"/>
                  </a:lnTo>
                  <a:close/>
                  <a:moveTo>
                    <a:pt x="11907" y="12"/>
                  </a:moveTo>
                  <a:lnTo>
                    <a:pt x="11990" y="12"/>
                  </a:lnTo>
                  <a:lnTo>
                    <a:pt x="11990" y="750"/>
                  </a:lnTo>
                  <a:lnTo>
                    <a:pt x="11907" y="750"/>
                  </a:lnTo>
                  <a:lnTo>
                    <a:pt x="11907" y="12"/>
                  </a:lnTo>
                  <a:close/>
                  <a:moveTo>
                    <a:pt x="12333" y="12"/>
                  </a:moveTo>
                  <a:lnTo>
                    <a:pt x="12435" y="12"/>
                  </a:lnTo>
                  <a:lnTo>
                    <a:pt x="12674" y="750"/>
                  </a:lnTo>
                  <a:lnTo>
                    <a:pt x="12590" y="750"/>
                  </a:lnTo>
                  <a:lnTo>
                    <a:pt x="12517" y="522"/>
                  </a:lnTo>
                  <a:lnTo>
                    <a:pt x="12253" y="522"/>
                  </a:lnTo>
                  <a:lnTo>
                    <a:pt x="12181" y="750"/>
                  </a:lnTo>
                  <a:lnTo>
                    <a:pt x="12097" y="750"/>
                  </a:lnTo>
                  <a:lnTo>
                    <a:pt x="12333" y="12"/>
                  </a:lnTo>
                  <a:close/>
                  <a:moveTo>
                    <a:pt x="12276" y="453"/>
                  </a:moveTo>
                  <a:lnTo>
                    <a:pt x="12494" y="453"/>
                  </a:lnTo>
                  <a:lnTo>
                    <a:pt x="12386" y="88"/>
                  </a:lnTo>
                  <a:lnTo>
                    <a:pt x="12276" y="453"/>
                  </a:lnTo>
                  <a:close/>
                  <a:moveTo>
                    <a:pt x="12774" y="12"/>
                  </a:moveTo>
                  <a:lnTo>
                    <a:pt x="12940" y="12"/>
                  </a:lnTo>
                  <a:lnTo>
                    <a:pt x="12961" y="12"/>
                  </a:lnTo>
                  <a:lnTo>
                    <a:pt x="12979" y="13"/>
                  </a:lnTo>
                  <a:lnTo>
                    <a:pt x="12999" y="15"/>
                  </a:lnTo>
                  <a:lnTo>
                    <a:pt x="13016" y="17"/>
                  </a:lnTo>
                  <a:lnTo>
                    <a:pt x="13033" y="21"/>
                  </a:lnTo>
                  <a:lnTo>
                    <a:pt x="13049" y="24"/>
                  </a:lnTo>
                  <a:lnTo>
                    <a:pt x="13065" y="29"/>
                  </a:lnTo>
                  <a:lnTo>
                    <a:pt x="13079" y="35"/>
                  </a:lnTo>
                  <a:lnTo>
                    <a:pt x="13094" y="41"/>
                  </a:lnTo>
                  <a:lnTo>
                    <a:pt x="13107" y="47"/>
                  </a:lnTo>
                  <a:lnTo>
                    <a:pt x="13121" y="55"/>
                  </a:lnTo>
                  <a:lnTo>
                    <a:pt x="13132" y="63"/>
                  </a:lnTo>
                  <a:lnTo>
                    <a:pt x="13144" y="73"/>
                  </a:lnTo>
                  <a:lnTo>
                    <a:pt x="13154" y="83"/>
                  </a:lnTo>
                  <a:lnTo>
                    <a:pt x="13165" y="93"/>
                  </a:lnTo>
                  <a:lnTo>
                    <a:pt x="13173" y="104"/>
                  </a:lnTo>
                  <a:lnTo>
                    <a:pt x="13182" y="116"/>
                  </a:lnTo>
                  <a:lnTo>
                    <a:pt x="13190" y="128"/>
                  </a:lnTo>
                  <a:lnTo>
                    <a:pt x="13198" y="141"/>
                  </a:lnTo>
                  <a:lnTo>
                    <a:pt x="13204" y="156"/>
                  </a:lnTo>
                  <a:lnTo>
                    <a:pt x="13211" y="170"/>
                  </a:lnTo>
                  <a:lnTo>
                    <a:pt x="13216" y="185"/>
                  </a:lnTo>
                  <a:lnTo>
                    <a:pt x="13222" y="202"/>
                  </a:lnTo>
                  <a:lnTo>
                    <a:pt x="13226" y="218"/>
                  </a:lnTo>
                  <a:lnTo>
                    <a:pt x="13231" y="236"/>
                  </a:lnTo>
                  <a:lnTo>
                    <a:pt x="13234" y="255"/>
                  </a:lnTo>
                  <a:lnTo>
                    <a:pt x="13237" y="273"/>
                  </a:lnTo>
                  <a:lnTo>
                    <a:pt x="13239" y="293"/>
                  </a:lnTo>
                  <a:lnTo>
                    <a:pt x="13243" y="335"/>
                  </a:lnTo>
                  <a:lnTo>
                    <a:pt x="13244" y="379"/>
                  </a:lnTo>
                  <a:lnTo>
                    <a:pt x="13244" y="406"/>
                  </a:lnTo>
                  <a:lnTo>
                    <a:pt x="13243" y="432"/>
                  </a:lnTo>
                  <a:lnTo>
                    <a:pt x="13240" y="457"/>
                  </a:lnTo>
                  <a:lnTo>
                    <a:pt x="13239" y="481"/>
                  </a:lnTo>
                  <a:lnTo>
                    <a:pt x="13235" y="503"/>
                  </a:lnTo>
                  <a:lnTo>
                    <a:pt x="13232" y="525"/>
                  </a:lnTo>
                  <a:lnTo>
                    <a:pt x="13227" y="546"/>
                  </a:lnTo>
                  <a:lnTo>
                    <a:pt x="13222" y="564"/>
                  </a:lnTo>
                  <a:lnTo>
                    <a:pt x="13216" y="582"/>
                  </a:lnTo>
                  <a:lnTo>
                    <a:pt x="13210" y="599"/>
                  </a:lnTo>
                  <a:lnTo>
                    <a:pt x="13202" y="615"/>
                  </a:lnTo>
                  <a:lnTo>
                    <a:pt x="13195" y="630"/>
                  </a:lnTo>
                  <a:lnTo>
                    <a:pt x="13187" y="643"/>
                  </a:lnTo>
                  <a:lnTo>
                    <a:pt x="13178" y="655"/>
                  </a:lnTo>
                  <a:lnTo>
                    <a:pt x="13167" y="666"/>
                  </a:lnTo>
                  <a:lnTo>
                    <a:pt x="13157" y="676"/>
                  </a:lnTo>
                  <a:lnTo>
                    <a:pt x="13146" y="684"/>
                  </a:lnTo>
                  <a:lnTo>
                    <a:pt x="13134" y="693"/>
                  </a:lnTo>
                  <a:lnTo>
                    <a:pt x="13122" y="701"/>
                  </a:lnTo>
                  <a:lnTo>
                    <a:pt x="13110" y="708"/>
                  </a:lnTo>
                  <a:lnTo>
                    <a:pt x="13096" y="715"/>
                  </a:lnTo>
                  <a:lnTo>
                    <a:pt x="13082" y="721"/>
                  </a:lnTo>
                  <a:lnTo>
                    <a:pt x="13068" y="727"/>
                  </a:lnTo>
                  <a:lnTo>
                    <a:pt x="13052" y="732"/>
                  </a:lnTo>
                  <a:lnTo>
                    <a:pt x="13038" y="736"/>
                  </a:lnTo>
                  <a:lnTo>
                    <a:pt x="13022" y="739"/>
                  </a:lnTo>
                  <a:lnTo>
                    <a:pt x="13005" y="743"/>
                  </a:lnTo>
                  <a:lnTo>
                    <a:pt x="12988" y="745"/>
                  </a:lnTo>
                  <a:lnTo>
                    <a:pt x="12971" y="748"/>
                  </a:lnTo>
                  <a:lnTo>
                    <a:pt x="12952" y="749"/>
                  </a:lnTo>
                  <a:lnTo>
                    <a:pt x="12933" y="750"/>
                  </a:lnTo>
                  <a:lnTo>
                    <a:pt x="12915" y="750"/>
                  </a:lnTo>
                  <a:lnTo>
                    <a:pt x="12774" y="750"/>
                  </a:lnTo>
                  <a:lnTo>
                    <a:pt x="12774" y="12"/>
                  </a:lnTo>
                  <a:close/>
                  <a:moveTo>
                    <a:pt x="12858" y="681"/>
                  </a:moveTo>
                  <a:lnTo>
                    <a:pt x="12915" y="681"/>
                  </a:lnTo>
                  <a:lnTo>
                    <a:pt x="12944" y="680"/>
                  </a:lnTo>
                  <a:lnTo>
                    <a:pt x="12971" y="677"/>
                  </a:lnTo>
                  <a:lnTo>
                    <a:pt x="12996" y="672"/>
                  </a:lnTo>
                  <a:lnTo>
                    <a:pt x="13019" y="665"/>
                  </a:lnTo>
                  <a:lnTo>
                    <a:pt x="13030" y="661"/>
                  </a:lnTo>
                  <a:lnTo>
                    <a:pt x="13041" y="656"/>
                  </a:lnTo>
                  <a:lnTo>
                    <a:pt x="13051" y="652"/>
                  </a:lnTo>
                  <a:lnTo>
                    <a:pt x="13061" y="647"/>
                  </a:lnTo>
                  <a:lnTo>
                    <a:pt x="13069" y="641"/>
                  </a:lnTo>
                  <a:lnTo>
                    <a:pt x="13078" y="634"/>
                  </a:lnTo>
                  <a:lnTo>
                    <a:pt x="13087" y="627"/>
                  </a:lnTo>
                  <a:lnTo>
                    <a:pt x="13094" y="620"/>
                  </a:lnTo>
                  <a:lnTo>
                    <a:pt x="13101" y="613"/>
                  </a:lnTo>
                  <a:lnTo>
                    <a:pt x="13107" y="603"/>
                  </a:lnTo>
                  <a:lnTo>
                    <a:pt x="13113" y="593"/>
                  </a:lnTo>
                  <a:lnTo>
                    <a:pt x="13119" y="582"/>
                  </a:lnTo>
                  <a:lnTo>
                    <a:pt x="13126" y="571"/>
                  </a:lnTo>
                  <a:lnTo>
                    <a:pt x="13129" y="558"/>
                  </a:lnTo>
                  <a:lnTo>
                    <a:pt x="13134" y="544"/>
                  </a:lnTo>
                  <a:lnTo>
                    <a:pt x="13138" y="530"/>
                  </a:lnTo>
                  <a:lnTo>
                    <a:pt x="13145" y="498"/>
                  </a:lnTo>
                  <a:lnTo>
                    <a:pt x="13149" y="463"/>
                  </a:lnTo>
                  <a:lnTo>
                    <a:pt x="13152" y="423"/>
                  </a:lnTo>
                  <a:lnTo>
                    <a:pt x="13152" y="380"/>
                  </a:lnTo>
                  <a:lnTo>
                    <a:pt x="13152" y="336"/>
                  </a:lnTo>
                  <a:lnTo>
                    <a:pt x="13149" y="296"/>
                  </a:lnTo>
                  <a:lnTo>
                    <a:pt x="13146" y="278"/>
                  </a:lnTo>
                  <a:lnTo>
                    <a:pt x="13144" y="261"/>
                  </a:lnTo>
                  <a:lnTo>
                    <a:pt x="13141" y="244"/>
                  </a:lnTo>
                  <a:lnTo>
                    <a:pt x="13138" y="228"/>
                  </a:lnTo>
                  <a:lnTo>
                    <a:pt x="13133" y="213"/>
                  </a:lnTo>
                  <a:lnTo>
                    <a:pt x="13129" y="200"/>
                  </a:lnTo>
                  <a:lnTo>
                    <a:pt x="13124" y="188"/>
                  </a:lnTo>
                  <a:lnTo>
                    <a:pt x="13118" y="175"/>
                  </a:lnTo>
                  <a:lnTo>
                    <a:pt x="13112" y="166"/>
                  </a:lnTo>
                  <a:lnTo>
                    <a:pt x="13106" y="156"/>
                  </a:lnTo>
                  <a:lnTo>
                    <a:pt x="13099" y="147"/>
                  </a:lnTo>
                  <a:lnTo>
                    <a:pt x="13091" y="139"/>
                  </a:lnTo>
                  <a:lnTo>
                    <a:pt x="13084" y="132"/>
                  </a:lnTo>
                  <a:lnTo>
                    <a:pt x="13076" y="125"/>
                  </a:lnTo>
                  <a:lnTo>
                    <a:pt x="13067" y="119"/>
                  </a:lnTo>
                  <a:lnTo>
                    <a:pt x="13057" y="113"/>
                  </a:lnTo>
                  <a:lnTo>
                    <a:pt x="13037" y="104"/>
                  </a:lnTo>
                  <a:lnTo>
                    <a:pt x="13015" y="96"/>
                  </a:lnTo>
                  <a:lnTo>
                    <a:pt x="12990" y="89"/>
                  </a:lnTo>
                  <a:lnTo>
                    <a:pt x="12965" y="85"/>
                  </a:lnTo>
                  <a:lnTo>
                    <a:pt x="12935" y="82"/>
                  </a:lnTo>
                  <a:lnTo>
                    <a:pt x="12905" y="82"/>
                  </a:lnTo>
                  <a:lnTo>
                    <a:pt x="12858" y="82"/>
                  </a:lnTo>
                  <a:lnTo>
                    <a:pt x="12858" y="681"/>
                  </a:lnTo>
                  <a:close/>
                  <a:moveTo>
                    <a:pt x="13354" y="380"/>
                  </a:moveTo>
                  <a:lnTo>
                    <a:pt x="13354" y="340"/>
                  </a:lnTo>
                  <a:lnTo>
                    <a:pt x="13357" y="301"/>
                  </a:lnTo>
                  <a:lnTo>
                    <a:pt x="13361" y="264"/>
                  </a:lnTo>
                  <a:lnTo>
                    <a:pt x="13368" y="229"/>
                  </a:lnTo>
                  <a:lnTo>
                    <a:pt x="13376" y="196"/>
                  </a:lnTo>
                  <a:lnTo>
                    <a:pt x="13385" y="164"/>
                  </a:lnTo>
                  <a:lnTo>
                    <a:pt x="13398" y="135"/>
                  </a:lnTo>
                  <a:lnTo>
                    <a:pt x="13411" y="107"/>
                  </a:lnTo>
                  <a:lnTo>
                    <a:pt x="13420" y="94"/>
                  </a:lnTo>
                  <a:lnTo>
                    <a:pt x="13428" y="82"/>
                  </a:lnTo>
                  <a:lnTo>
                    <a:pt x="13437" y="71"/>
                  </a:lnTo>
                  <a:lnTo>
                    <a:pt x="13446" y="60"/>
                  </a:lnTo>
                  <a:lnTo>
                    <a:pt x="13456" y="51"/>
                  </a:lnTo>
                  <a:lnTo>
                    <a:pt x="13468" y="41"/>
                  </a:lnTo>
                  <a:lnTo>
                    <a:pt x="13479" y="34"/>
                  </a:lnTo>
                  <a:lnTo>
                    <a:pt x="13492" y="27"/>
                  </a:lnTo>
                  <a:lnTo>
                    <a:pt x="13505" y="21"/>
                  </a:lnTo>
                  <a:lnTo>
                    <a:pt x="13520" y="15"/>
                  </a:lnTo>
                  <a:lnTo>
                    <a:pt x="13533" y="11"/>
                  </a:lnTo>
                  <a:lnTo>
                    <a:pt x="13549" y="6"/>
                  </a:lnTo>
                  <a:lnTo>
                    <a:pt x="13565" y="4"/>
                  </a:lnTo>
                  <a:lnTo>
                    <a:pt x="13582" y="1"/>
                  </a:lnTo>
                  <a:lnTo>
                    <a:pt x="13599" y="0"/>
                  </a:lnTo>
                  <a:lnTo>
                    <a:pt x="13617" y="0"/>
                  </a:lnTo>
                  <a:lnTo>
                    <a:pt x="13634" y="0"/>
                  </a:lnTo>
                  <a:lnTo>
                    <a:pt x="13651" y="1"/>
                  </a:lnTo>
                  <a:lnTo>
                    <a:pt x="13668" y="4"/>
                  </a:lnTo>
                  <a:lnTo>
                    <a:pt x="13684" y="7"/>
                  </a:lnTo>
                  <a:lnTo>
                    <a:pt x="13699" y="11"/>
                  </a:lnTo>
                  <a:lnTo>
                    <a:pt x="13714" y="15"/>
                  </a:lnTo>
                  <a:lnTo>
                    <a:pt x="13727" y="21"/>
                  </a:lnTo>
                  <a:lnTo>
                    <a:pt x="13740" y="27"/>
                  </a:lnTo>
                  <a:lnTo>
                    <a:pt x="13753" y="34"/>
                  </a:lnTo>
                  <a:lnTo>
                    <a:pt x="13764" y="41"/>
                  </a:lnTo>
                  <a:lnTo>
                    <a:pt x="13775" y="51"/>
                  </a:lnTo>
                  <a:lnTo>
                    <a:pt x="13786" y="61"/>
                  </a:lnTo>
                  <a:lnTo>
                    <a:pt x="13795" y="71"/>
                  </a:lnTo>
                  <a:lnTo>
                    <a:pt x="13804" y="83"/>
                  </a:lnTo>
                  <a:lnTo>
                    <a:pt x="13812" y="95"/>
                  </a:lnTo>
                  <a:lnTo>
                    <a:pt x="13820" y="107"/>
                  </a:lnTo>
                  <a:lnTo>
                    <a:pt x="13834" y="135"/>
                  </a:lnTo>
                  <a:lnTo>
                    <a:pt x="13847" y="164"/>
                  </a:lnTo>
                  <a:lnTo>
                    <a:pt x="13856" y="196"/>
                  </a:lnTo>
                  <a:lnTo>
                    <a:pt x="13865" y="229"/>
                  </a:lnTo>
                  <a:lnTo>
                    <a:pt x="13871" y="264"/>
                  </a:lnTo>
                  <a:lnTo>
                    <a:pt x="13876" y="301"/>
                  </a:lnTo>
                  <a:lnTo>
                    <a:pt x="13878" y="340"/>
                  </a:lnTo>
                  <a:lnTo>
                    <a:pt x="13880" y="380"/>
                  </a:lnTo>
                  <a:lnTo>
                    <a:pt x="13878" y="420"/>
                  </a:lnTo>
                  <a:lnTo>
                    <a:pt x="13876" y="459"/>
                  </a:lnTo>
                  <a:lnTo>
                    <a:pt x="13871" y="496"/>
                  </a:lnTo>
                  <a:lnTo>
                    <a:pt x="13865" y="531"/>
                  </a:lnTo>
                  <a:lnTo>
                    <a:pt x="13856" y="565"/>
                  </a:lnTo>
                  <a:lnTo>
                    <a:pt x="13847" y="596"/>
                  </a:lnTo>
                  <a:lnTo>
                    <a:pt x="13834" y="626"/>
                  </a:lnTo>
                  <a:lnTo>
                    <a:pt x="13821" y="654"/>
                  </a:lnTo>
                  <a:lnTo>
                    <a:pt x="13814" y="667"/>
                  </a:lnTo>
                  <a:lnTo>
                    <a:pt x="13805" y="680"/>
                  </a:lnTo>
                  <a:lnTo>
                    <a:pt x="13795" y="690"/>
                  </a:lnTo>
                  <a:lnTo>
                    <a:pt x="13786" y="701"/>
                  </a:lnTo>
                  <a:lnTo>
                    <a:pt x="13776" y="711"/>
                  </a:lnTo>
                  <a:lnTo>
                    <a:pt x="13765" y="720"/>
                  </a:lnTo>
                  <a:lnTo>
                    <a:pt x="13753" y="727"/>
                  </a:lnTo>
                  <a:lnTo>
                    <a:pt x="13740" y="734"/>
                  </a:lnTo>
                  <a:lnTo>
                    <a:pt x="13727" y="742"/>
                  </a:lnTo>
                  <a:lnTo>
                    <a:pt x="13714" y="747"/>
                  </a:lnTo>
                  <a:lnTo>
                    <a:pt x="13699" y="751"/>
                  </a:lnTo>
                  <a:lnTo>
                    <a:pt x="13684" y="755"/>
                  </a:lnTo>
                  <a:lnTo>
                    <a:pt x="13668" y="757"/>
                  </a:lnTo>
                  <a:lnTo>
                    <a:pt x="13651" y="760"/>
                  </a:lnTo>
                  <a:lnTo>
                    <a:pt x="13634" y="761"/>
                  </a:lnTo>
                  <a:lnTo>
                    <a:pt x="13617" y="761"/>
                  </a:lnTo>
                  <a:lnTo>
                    <a:pt x="13599" y="761"/>
                  </a:lnTo>
                  <a:lnTo>
                    <a:pt x="13582" y="760"/>
                  </a:lnTo>
                  <a:lnTo>
                    <a:pt x="13566" y="757"/>
                  </a:lnTo>
                  <a:lnTo>
                    <a:pt x="13550" y="755"/>
                  </a:lnTo>
                  <a:lnTo>
                    <a:pt x="13534" y="751"/>
                  </a:lnTo>
                  <a:lnTo>
                    <a:pt x="13520" y="747"/>
                  </a:lnTo>
                  <a:lnTo>
                    <a:pt x="13506" y="740"/>
                  </a:lnTo>
                  <a:lnTo>
                    <a:pt x="13494" y="734"/>
                  </a:lnTo>
                  <a:lnTo>
                    <a:pt x="13481" y="727"/>
                  </a:lnTo>
                  <a:lnTo>
                    <a:pt x="13470" y="720"/>
                  </a:lnTo>
                  <a:lnTo>
                    <a:pt x="13459" y="710"/>
                  </a:lnTo>
                  <a:lnTo>
                    <a:pt x="13448" y="700"/>
                  </a:lnTo>
                  <a:lnTo>
                    <a:pt x="13438" y="690"/>
                  </a:lnTo>
                  <a:lnTo>
                    <a:pt x="13429" y="678"/>
                  </a:lnTo>
                  <a:lnTo>
                    <a:pt x="13421" y="666"/>
                  </a:lnTo>
                  <a:lnTo>
                    <a:pt x="13412" y="653"/>
                  </a:lnTo>
                  <a:lnTo>
                    <a:pt x="13399" y="625"/>
                  </a:lnTo>
                  <a:lnTo>
                    <a:pt x="13387" y="596"/>
                  </a:lnTo>
                  <a:lnTo>
                    <a:pt x="13377" y="564"/>
                  </a:lnTo>
                  <a:lnTo>
                    <a:pt x="13368" y="531"/>
                  </a:lnTo>
                  <a:lnTo>
                    <a:pt x="13361" y="496"/>
                  </a:lnTo>
                  <a:lnTo>
                    <a:pt x="13357" y="459"/>
                  </a:lnTo>
                  <a:lnTo>
                    <a:pt x="13354" y="420"/>
                  </a:lnTo>
                  <a:lnTo>
                    <a:pt x="13354" y="380"/>
                  </a:lnTo>
                  <a:close/>
                  <a:moveTo>
                    <a:pt x="13617" y="692"/>
                  </a:moveTo>
                  <a:lnTo>
                    <a:pt x="13629" y="692"/>
                  </a:lnTo>
                  <a:lnTo>
                    <a:pt x="13640" y="690"/>
                  </a:lnTo>
                  <a:lnTo>
                    <a:pt x="13651" y="689"/>
                  </a:lnTo>
                  <a:lnTo>
                    <a:pt x="13662" y="687"/>
                  </a:lnTo>
                  <a:lnTo>
                    <a:pt x="13672" y="683"/>
                  </a:lnTo>
                  <a:lnTo>
                    <a:pt x="13682" y="680"/>
                  </a:lnTo>
                  <a:lnTo>
                    <a:pt x="13692" y="675"/>
                  </a:lnTo>
                  <a:lnTo>
                    <a:pt x="13700" y="670"/>
                  </a:lnTo>
                  <a:lnTo>
                    <a:pt x="13708" y="664"/>
                  </a:lnTo>
                  <a:lnTo>
                    <a:pt x="13716" y="656"/>
                  </a:lnTo>
                  <a:lnTo>
                    <a:pt x="13723" y="649"/>
                  </a:lnTo>
                  <a:lnTo>
                    <a:pt x="13729" y="641"/>
                  </a:lnTo>
                  <a:lnTo>
                    <a:pt x="13736" y="632"/>
                  </a:lnTo>
                  <a:lnTo>
                    <a:pt x="13742" y="622"/>
                  </a:lnTo>
                  <a:lnTo>
                    <a:pt x="13747" y="611"/>
                  </a:lnTo>
                  <a:lnTo>
                    <a:pt x="13751" y="600"/>
                  </a:lnTo>
                  <a:lnTo>
                    <a:pt x="13760" y="577"/>
                  </a:lnTo>
                  <a:lnTo>
                    <a:pt x="13767" y="553"/>
                  </a:lnTo>
                  <a:lnTo>
                    <a:pt x="13773" y="526"/>
                  </a:lnTo>
                  <a:lnTo>
                    <a:pt x="13780" y="499"/>
                  </a:lnTo>
                  <a:lnTo>
                    <a:pt x="13783" y="471"/>
                  </a:lnTo>
                  <a:lnTo>
                    <a:pt x="13786" y="442"/>
                  </a:lnTo>
                  <a:lnTo>
                    <a:pt x="13788" y="410"/>
                  </a:lnTo>
                  <a:lnTo>
                    <a:pt x="13788" y="379"/>
                  </a:lnTo>
                  <a:lnTo>
                    <a:pt x="13788" y="337"/>
                  </a:lnTo>
                  <a:lnTo>
                    <a:pt x="13786" y="300"/>
                  </a:lnTo>
                  <a:lnTo>
                    <a:pt x="13782" y="264"/>
                  </a:lnTo>
                  <a:lnTo>
                    <a:pt x="13777" y="233"/>
                  </a:lnTo>
                  <a:lnTo>
                    <a:pt x="13770" y="205"/>
                  </a:lnTo>
                  <a:lnTo>
                    <a:pt x="13762" y="179"/>
                  </a:lnTo>
                  <a:lnTo>
                    <a:pt x="13758" y="168"/>
                  </a:lnTo>
                  <a:lnTo>
                    <a:pt x="13753" y="157"/>
                  </a:lnTo>
                  <a:lnTo>
                    <a:pt x="13748" y="147"/>
                  </a:lnTo>
                  <a:lnTo>
                    <a:pt x="13742" y="139"/>
                  </a:lnTo>
                  <a:lnTo>
                    <a:pt x="13729" y="122"/>
                  </a:lnTo>
                  <a:lnTo>
                    <a:pt x="13716" y="108"/>
                  </a:lnTo>
                  <a:lnTo>
                    <a:pt x="13703" y="96"/>
                  </a:lnTo>
                  <a:lnTo>
                    <a:pt x="13687" y="86"/>
                  </a:lnTo>
                  <a:lnTo>
                    <a:pt x="13671" y="79"/>
                  </a:lnTo>
                  <a:lnTo>
                    <a:pt x="13654" y="74"/>
                  </a:lnTo>
                  <a:lnTo>
                    <a:pt x="13636" y="71"/>
                  </a:lnTo>
                  <a:lnTo>
                    <a:pt x="13617" y="69"/>
                  </a:lnTo>
                  <a:lnTo>
                    <a:pt x="13605" y="69"/>
                  </a:lnTo>
                  <a:lnTo>
                    <a:pt x="13593" y="71"/>
                  </a:lnTo>
                  <a:lnTo>
                    <a:pt x="13582" y="73"/>
                  </a:lnTo>
                  <a:lnTo>
                    <a:pt x="13571" y="76"/>
                  </a:lnTo>
                  <a:lnTo>
                    <a:pt x="13561" y="78"/>
                  </a:lnTo>
                  <a:lnTo>
                    <a:pt x="13551" y="83"/>
                  </a:lnTo>
                  <a:lnTo>
                    <a:pt x="13542" y="86"/>
                  </a:lnTo>
                  <a:lnTo>
                    <a:pt x="13533" y="93"/>
                  </a:lnTo>
                  <a:lnTo>
                    <a:pt x="13525" y="99"/>
                  </a:lnTo>
                  <a:lnTo>
                    <a:pt x="13517" y="105"/>
                  </a:lnTo>
                  <a:lnTo>
                    <a:pt x="13510" y="112"/>
                  </a:lnTo>
                  <a:lnTo>
                    <a:pt x="13503" y="121"/>
                  </a:lnTo>
                  <a:lnTo>
                    <a:pt x="13496" y="129"/>
                  </a:lnTo>
                  <a:lnTo>
                    <a:pt x="13490" y="139"/>
                  </a:lnTo>
                  <a:lnTo>
                    <a:pt x="13485" y="149"/>
                  </a:lnTo>
                  <a:lnTo>
                    <a:pt x="13481" y="160"/>
                  </a:lnTo>
                  <a:lnTo>
                    <a:pt x="13472" y="183"/>
                  </a:lnTo>
                  <a:lnTo>
                    <a:pt x="13465" y="207"/>
                  </a:lnTo>
                  <a:lnTo>
                    <a:pt x="13459" y="233"/>
                  </a:lnTo>
                  <a:lnTo>
                    <a:pt x="13454" y="259"/>
                  </a:lnTo>
                  <a:lnTo>
                    <a:pt x="13449" y="287"/>
                  </a:lnTo>
                  <a:lnTo>
                    <a:pt x="13446" y="317"/>
                  </a:lnTo>
                  <a:lnTo>
                    <a:pt x="13445" y="347"/>
                  </a:lnTo>
                  <a:lnTo>
                    <a:pt x="13444" y="379"/>
                  </a:lnTo>
                  <a:lnTo>
                    <a:pt x="13445" y="420"/>
                  </a:lnTo>
                  <a:lnTo>
                    <a:pt x="13448" y="458"/>
                  </a:lnTo>
                  <a:lnTo>
                    <a:pt x="13451" y="493"/>
                  </a:lnTo>
                  <a:lnTo>
                    <a:pt x="13456" y="526"/>
                  </a:lnTo>
                  <a:lnTo>
                    <a:pt x="13462" y="554"/>
                  </a:lnTo>
                  <a:lnTo>
                    <a:pt x="13471" y="580"/>
                  </a:lnTo>
                  <a:lnTo>
                    <a:pt x="13476" y="592"/>
                  </a:lnTo>
                  <a:lnTo>
                    <a:pt x="13481" y="603"/>
                  </a:lnTo>
                  <a:lnTo>
                    <a:pt x="13485" y="613"/>
                  </a:lnTo>
                  <a:lnTo>
                    <a:pt x="13492" y="621"/>
                  </a:lnTo>
                  <a:lnTo>
                    <a:pt x="13504" y="638"/>
                  </a:lnTo>
                  <a:lnTo>
                    <a:pt x="13517" y="653"/>
                  </a:lnTo>
                  <a:lnTo>
                    <a:pt x="13531" y="665"/>
                  </a:lnTo>
                  <a:lnTo>
                    <a:pt x="13546" y="675"/>
                  </a:lnTo>
                  <a:lnTo>
                    <a:pt x="13562" y="682"/>
                  </a:lnTo>
                  <a:lnTo>
                    <a:pt x="13579" y="688"/>
                  </a:lnTo>
                  <a:lnTo>
                    <a:pt x="13598" y="690"/>
                  </a:lnTo>
                  <a:lnTo>
                    <a:pt x="13617" y="692"/>
                  </a:lnTo>
                  <a:close/>
                  <a:moveTo>
                    <a:pt x="14259" y="351"/>
                  </a:moveTo>
                  <a:lnTo>
                    <a:pt x="14296" y="373"/>
                  </a:lnTo>
                  <a:lnTo>
                    <a:pt x="14327" y="393"/>
                  </a:lnTo>
                  <a:lnTo>
                    <a:pt x="14341" y="404"/>
                  </a:lnTo>
                  <a:lnTo>
                    <a:pt x="14354" y="414"/>
                  </a:lnTo>
                  <a:lnTo>
                    <a:pt x="14365" y="425"/>
                  </a:lnTo>
                  <a:lnTo>
                    <a:pt x="14376" y="435"/>
                  </a:lnTo>
                  <a:lnTo>
                    <a:pt x="14385" y="446"/>
                  </a:lnTo>
                  <a:lnTo>
                    <a:pt x="14393" y="458"/>
                  </a:lnTo>
                  <a:lnTo>
                    <a:pt x="14399" y="471"/>
                  </a:lnTo>
                  <a:lnTo>
                    <a:pt x="14405" y="485"/>
                  </a:lnTo>
                  <a:lnTo>
                    <a:pt x="14409" y="501"/>
                  </a:lnTo>
                  <a:lnTo>
                    <a:pt x="14413" y="518"/>
                  </a:lnTo>
                  <a:lnTo>
                    <a:pt x="14414" y="535"/>
                  </a:lnTo>
                  <a:lnTo>
                    <a:pt x="14415" y="554"/>
                  </a:lnTo>
                  <a:lnTo>
                    <a:pt x="14414" y="580"/>
                  </a:lnTo>
                  <a:lnTo>
                    <a:pt x="14410" y="604"/>
                  </a:lnTo>
                  <a:lnTo>
                    <a:pt x="14408" y="616"/>
                  </a:lnTo>
                  <a:lnTo>
                    <a:pt x="14404" y="627"/>
                  </a:lnTo>
                  <a:lnTo>
                    <a:pt x="14400" y="638"/>
                  </a:lnTo>
                  <a:lnTo>
                    <a:pt x="14397" y="648"/>
                  </a:lnTo>
                  <a:lnTo>
                    <a:pt x="14392" y="658"/>
                  </a:lnTo>
                  <a:lnTo>
                    <a:pt x="14387" y="666"/>
                  </a:lnTo>
                  <a:lnTo>
                    <a:pt x="14381" y="675"/>
                  </a:lnTo>
                  <a:lnTo>
                    <a:pt x="14374" y="683"/>
                  </a:lnTo>
                  <a:lnTo>
                    <a:pt x="14366" y="692"/>
                  </a:lnTo>
                  <a:lnTo>
                    <a:pt x="14359" y="699"/>
                  </a:lnTo>
                  <a:lnTo>
                    <a:pt x="14350" y="705"/>
                  </a:lnTo>
                  <a:lnTo>
                    <a:pt x="14342" y="712"/>
                  </a:lnTo>
                  <a:lnTo>
                    <a:pt x="14324" y="723"/>
                  </a:lnTo>
                  <a:lnTo>
                    <a:pt x="14303" y="734"/>
                  </a:lnTo>
                  <a:lnTo>
                    <a:pt x="14282" y="743"/>
                  </a:lnTo>
                  <a:lnTo>
                    <a:pt x="14259" y="749"/>
                  </a:lnTo>
                  <a:lnTo>
                    <a:pt x="14235" y="755"/>
                  </a:lnTo>
                  <a:lnTo>
                    <a:pt x="14209" y="759"/>
                  </a:lnTo>
                  <a:lnTo>
                    <a:pt x="14182" y="761"/>
                  </a:lnTo>
                  <a:lnTo>
                    <a:pt x="14154" y="761"/>
                  </a:lnTo>
                  <a:lnTo>
                    <a:pt x="14124" y="761"/>
                  </a:lnTo>
                  <a:lnTo>
                    <a:pt x="14092" y="759"/>
                  </a:lnTo>
                  <a:lnTo>
                    <a:pt x="14059" y="755"/>
                  </a:lnTo>
                  <a:lnTo>
                    <a:pt x="14026" y="749"/>
                  </a:lnTo>
                  <a:lnTo>
                    <a:pt x="14010" y="745"/>
                  </a:lnTo>
                  <a:lnTo>
                    <a:pt x="13998" y="742"/>
                  </a:lnTo>
                  <a:lnTo>
                    <a:pt x="13989" y="740"/>
                  </a:lnTo>
                  <a:lnTo>
                    <a:pt x="13984" y="739"/>
                  </a:lnTo>
                  <a:lnTo>
                    <a:pt x="13984" y="654"/>
                  </a:lnTo>
                  <a:lnTo>
                    <a:pt x="14009" y="662"/>
                  </a:lnTo>
                  <a:lnTo>
                    <a:pt x="14032" y="671"/>
                  </a:lnTo>
                  <a:lnTo>
                    <a:pt x="14055" y="677"/>
                  </a:lnTo>
                  <a:lnTo>
                    <a:pt x="14077" y="682"/>
                  </a:lnTo>
                  <a:lnTo>
                    <a:pt x="14099" y="687"/>
                  </a:lnTo>
                  <a:lnTo>
                    <a:pt x="14121" y="689"/>
                  </a:lnTo>
                  <a:lnTo>
                    <a:pt x="14142" y="692"/>
                  </a:lnTo>
                  <a:lnTo>
                    <a:pt x="14164" y="692"/>
                  </a:lnTo>
                  <a:lnTo>
                    <a:pt x="14182" y="692"/>
                  </a:lnTo>
                  <a:lnTo>
                    <a:pt x="14198" y="690"/>
                  </a:lnTo>
                  <a:lnTo>
                    <a:pt x="14214" y="688"/>
                  </a:lnTo>
                  <a:lnTo>
                    <a:pt x="14228" y="684"/>
                  </a:lnTo>
                  <a:lnTo>
                    <a:pt x="14242" y="680"/>
                  </a:lnTo>
                  <a:lnTo>
                    <a:pt x="14255" y="673"/>
                  </a:lnTo>
                  <a:lnTo>
                    <a:pt x="14268" y="667"/>
                  </a:lnTo>
                  <a:lnTo>
                    <a:pt x="14280" y="659"/>
                  </a:lnTo>
                  <a:lnTo>
                    <a:pt x="14289" y="650"/>
                  </a:lnTo>
                  <a:lnTo>
                    <a:pt x="14299" y="641"/>
                  </a:lnTo>
                  <a:lnTo>
                    <a:pt x="14307" y="631"/>
                  </a:lnTo>
                  <a:lnTo>
                    <a:pt x="14313" y="619"/>
                  </a:lnTo>
                  <a:lnTo>
                    <a:pt x="14318" y="608"/>
                  </a:lnTo>
                  <a:lnTo>
                    <a:pt x="14321" y="594"/>
                  </a:lnTo>
                  <a:lnTo>
                    <a:pt x="14324" y="581"/>
                  </a:lnTo>
                  <a:lnTo>
                    <a:pt x="14324" y="566"/>
                  </a:lnTo>
                  <a:lnTo>
                    <a:pt x="14324" y="553"/>
                  </a:lnTo>
                  <a:lnTo>
                    <a:pt x="14322" y="539"/>
                  </a:lnTo>
                  <a:lnTo>
                    <a:pt x="14320" y="529"/>
                  </a:lnTo>
                  <a:lnTo>
                    <a:pt x="14316" y="518"/>
                  </a:lnTo>
                  <a:lnTo>
                    <a:pt x="14313" y="507"/>
                  </a:lnTo>
                  <a:lnTo>
                    <a:pt x="14308" y="498"/>
                  </a:lnTo>
                  <a:lnTo>
                    <a:pt x="14302" y="490"/>
                  </a:lnTo>
                  <a:lnTo>
                    <a:pt x="14294" y="482"/>
                  </a:lnTo>
                  <a:lnTo>
                    <a:pt x="14277" y="468"/>
                  </a:lnTo>
                  <a:lnTo>
                    <a:pt x="14257" y="452"/>
                  </a:lnTo>
                  <a:lnTo>
                    <a:pt x="14231" y="435"/>
                  </a:lnTo>
                  <a:lnTo>
                    <a:pt x="14200" y="418"/>
                  </a:lnTo>
                  <a:lnTo>
                    <a:pt x="14136" y="381"/>
                  </a:lnTo>
                  <a:lnTo>
                    <a:pt x="14097" y="358"/>
                  </a:lnTo>
                  <a:lnTo>
                    <a:pt x="14065" y="337"/>
                  </a:lnTo>
                  <a:lnTo>
                    <a:pt x="14037" y="318"/>
                  </a:lnTo>
                  <a:lnTo>
                    <a:pt x="14015" y="300"/>
                  </a:lnTo>
                  <a:lnTo>
                    <a:pt x="14005" y="290"/>
                  </a:lnTo>
                  <a:lnTo>
                    <a:pt x="13998" y="279"/>
                  </a:lnTo>
                  <a:lnTo>
                    <a:pt x="13991" y="267"/>
                  </a:lnTo>
                  <a:lnTo>
                    <a:pt x="13986" y="253"/>
                  </a:lnTo>
                  <a:lnTo>
                    <a:pt x="13981" y="240"/>
                  </a:lnTo>
                  <a:lnTo>
                    <a:pt x="13978" y="224"/>
                  </a:lnTo>
                  <a:lnTo>
                    <a:pt x="13976" y="207"/>
                  </a:lnTo>
                  <a:lnTo>
                    <a:pt x="13976" y="189"/>
                  </a:lnTo>
                  <a:lnTo>
                    <a:pt x="13977" y="167"/>
                  </a:lnTo>
                  <a:lnTo>
                    <a:pt x="13980" y="146"/>
                  </a:lnTo>
                  <a:lnTo>
                    <a:pt x="13984" y="127"/>
                  </a:lnTo>
                  <a:lnTo>
                    <a:pt x="13992" y="108"/>
                  </a:lnTo>
                  <a:lnTo>
                    <a:pt x="13997" y="100"/>
                  </a:lnTo>
                  <a:lnTo>
                    <a:pt x="14002" y="91"/>
                  </a:lnTo>
                  <a:lnTo>
                    <a:pt x="14006" y="83"/>
                  </a:lnTo>
                  <a:lnTo>
                    <a:pt x="14013" y="76"/>
                  </a:lnTo>
                  <a:lnTo>
                    <a:pt x="14026" y="62"/>
                  </a:lnTo>
                  <a:lnTo>
                    <a:pt x="14042" y="49"/>
                  </a:lnTo>
                  <a:lnTo>
                    <a:pt x="14059" y="38"/>
                  </a:lnTo>
                  <a:lnTo>
                    <a:pt x="14077" y="27"/>
                  </a:lnTo>
                  <a:lnTo>
                    <a:pt x="14097" y="19"/>
                  </a:lnTo>
                  <a:lnTo>
                    <a:pt x="14117" y="12"/>
                  </a:lnTo>
                  <a:lnTo>
                    <a:pt x="14139" y="7"/>
                  </a:lnTo>
                  <a:lnTo>
                    <a:pt x="14163" y="4"/>
                  </a:lnTo>
                  <a:lnTo>
                    <a:pt x="14188" y="1"/>
                  </a:lnTo>
                  <a:lnTo>
                    <a:pt x="14214" y="0"/>
                  </a:lnTo>
                  <a:lnTo>
                    <a:pt x="14232" y="0"/>
                  </a:lnTo>
                  <a:lnTo>
                    <a:pt x="14249" y="1"/>
                  </a:lnTo>
                  <a:lnTo>
                    <a:pt x="14265" y="2"/>
                  </a:lnTo>
                  <a:lnTo>
                    <a:pt x="14280" y="4"/>
                  </a:lnTo>
                  <a:lnTo>
                    <a:pt x="14297" y="6"/>
                  </a:lnTo>
                  <a:lnTo>
                    <a:pt x="14316" y="10"/>
                  </a:lnTo>
                  <a:lnTo>
                    <a:pt x="14341" y="13"/>
                  </a:lnTo>
                  <a:lnTo>
                    <a:pt x="14368" y="19"/>
                  </a:lnTo>
                  <a:lnTo>
                    <a:pt x="14368" y="101"/>
                  </a:lnTo>
                  <a:lnTo>
                    <a:pt x="14349" y="95"/>
                  </a:lnTo>
                  <a:lnTo>
                    <a:pt x="14330" y="88"/>
                  </a:lnTo>
                  <a:lnTo>
                    <a:pt x="14309" y="83"/>
                  </a:lnTo>
                  <a:lnTo>
                    <a:pt x="14287" y="78"/>
                  </a:lnTo>
                  <a:lnTo>
                    <a:pt x="14266" y="74"/>
                  </a:lnTo>
                  <a:lnTo>
                    <a:pt x="14246" y="72"/>
                  </a:lnTo>
                  <a:lnTo>
                    <a:pt x="14225" y="71"/>
                  </a:lnTo>
                  <a:lnTo>
                    <a:pt x="14207" y="69"/>
                  </a:lnTo>
                  <a:lnTo>
                    <a:pt x="14191" y="69"/>
                  </a:lnTo>
                  <a:lnTo>
                    <a:pt x="14176" y="72"/>
                  </a:lnTo>
                  <a:lnTo>
                    <a:pt x="14161" y="74"/>
                  </a:lnTo>
                  <a:lnTo>
                    <a:pt x="14148" y="77"/>
                  </a:lnTo>
                  <a:lnTo>
                    <a:pt x="14136" y="82"/>
                  </a:lnTo>
                  <a:lnTo>
                    <a:pt x="14125" y="86"/>
                  </a:lnTo>
                  <a:lnTo>
                    <a:pt x="14114" y="93"/>
                  </a:lnTo>
                  <a:lnTo>
                    <a:pt x="14104" y="100"/>
                  </a:lnTo>
                  <a:lnTo>
                    <a:pt x="14095" y="107"/>
                  </a:lnTo>
                  <a:lnTo>
                    <a:pt x="14088" y="116"/>
                  </a:lnTo>
                  <a:lnTo>
                    <a:pt x="14081" y="125"/>
                  </a:lnTo>
                  <a:lnTo>
                    <a:pt x="14076" y="135"/>
                  </a:lnTo>
                  <a:lnTo>
                    <a:pt x="14072" y="146"/>
                  </a:lnTo>
                  <a:lnTo>
                    <a:pt x="14069" y="157"/>
                  </a:lnTo>
                  <a:lnTo>
                    <a:pt x="14067" y="169"/>
                  </a:lnTo>
                  <a:lnTo>
                    <a:pt x="14066" y="181"/>
                  </a:lnTo>
                  <a:lnTo>
                    <a:pt x="14067" y="194"/>
                  </a:lnTo>
                  <a:lnTo>
                    <a:pt x="14070" y="206"/>
                  </a:lnTo>
                  <a:lnTo>
                    <a:pt x="14072" y="217"/>
                  </a:lnTo>
                  <a:lnTo>
                    <a:pt x="14077" y="227"/>
                  </a:lnTo>
                  <a:lnTo>
                    <a:pt x="14083" y="236"/>
                  </a:lnTo>
                  <a:lnTo>
                    <a:pt x="14091" y="246"/>
                  </a:lnTo>
                  <a:lnTo>
                    <a:pt x="14099" y="255"/>
                  </a:lnTo>
                  <a:lnTo>
                    <a:pt x="14109" y="262"/>
                  </a:lnTo>
                  <a:lnTo>
                    <a:pt x="14130" y="276"/>
                  </a:lnTo>
                  <a:lnTo>
                    <a:pt x="14150" y="290"/>
                  </a:lnTo>
                  <a:lnTo>
                    <a:pt x="14170" y="302"/>
                  </a:lnTo>
                  <a:lnTo>
                    <a:pt x="14189" y="313"/>
                  </a:lnTo>
                  <a:lnTo>
                    <a:pt x="14259" y="351"/>
                  </a:lnTo>
                  <a:close/>
                </a:path>
              </a:pathLst>
            </a:custGeom>
            <a:solidFill>
              <a:srgbClr val="8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338960" y="6523200"/>
              <a:ext cx="1069200" cy="90360"/>
            </a:xfrm>
            <a:custGeom>
              <a:avLst/>
              <a:gdLst/>
              <a:ahLst/>
              <a:rect l="l" t="t" r="r" b="b"/>
              <a:pathLst>
                <a:path w="8364" h="762">
                  <a:moveTo>
                    <a:pt x="481" y="717"/>
                  </a:moveTo>
                  <a:lnTo>
                    <a:pt x="453" y="728"/>
                  </a:lnTo>
                  <a:lnTo>
                    <a:pt x="428" y="738"/>
                  </a:lnTo>
                  <a:lnTo>
                    <a:pt x="407" y="745"/>
                  </a:lnTo>
                  <a:lnTo>
                    <a:pt x="389" y="751"/>
                  </a:lnTo>
                  <a:lnTo>
                    <a:pt x="370" y="756"/>
                  </a:lnTo>
                  <a:lnTo>
                    <a:pt x="346" y="759"/>
                  </a:lnTo>
                  <a:lnTo>
                    <a:pt x="317" y="761"/>
                  </a:lnTo>
                  <a:lnTo>
                    <a:pt x="284" y="762"/>
                  </a:lnTo>
                  <a:lnTo>
                    <a:pt x="266" y="761"/>
                  </a:lnTo>
                  <a:lnTo>
                    <a:pt x="248" y="760"/>
                  </a:lnTo>
                  <a:lnTo>
                    <a:pt x="231" y="757"/>
                  </a:lnTo>
                  <a:lnTo>
                    <a:pt x="214" y="755"/>
                  </a:lnTo>
                  <a:lnTo>
                    <a:pt x="198" y="750"/>
                  </a:lnTo>
                  <a:lnTo>
                    <a:pt x="182" y="745"/>
                  </a:lnTo>
                  <a:lnTo>
                    <a:pt x="167" y="739"/>
                  </a:lnTo>
                  <a:lnTo>
                    <a:pt x="154" y="733"/>
                  </a:lnTo>
                  <a:lnTo>
                    <a:pt x="140" y="724"/>
                  </a:lnTo>
                  <a:lnTo>
                    <a:pt x="127" y="716"/>
                  </a:lnTo>
                  <a:lnTo>
                    <a:pt x="116" y="706"/>
                  </a:lnTo>
                  <a:lnTo>
                    <a:pt x="104" y="696"/>
                  </a:lnTo>
                  <a:lnTo>
                    <a:pt x="94" y="685"/>
                  </a:lnTo>
                  <a:lnTo>
                    <a:pt x="84" y="673"/>
                  </a:lnTo>
                  <a:lnTo>
                    <a:pt x="74" y="660"/>
                  </a:lnTo>
                  <a:lnTo>
                    <a:pt x="66" y="645"/>
                  </a:lnTo>
                  <a:lnTo>
                    <a:pt x="59" y="631"/>
                  </a:lnTo>
                  <a:lnTo>
                    <a:pt x="50" y="616"/>
                  </a:lnTo>
                  <a:lnTo>
                    <a:pt x="44" y="600"/>
                  </a:lnTo>
                  <a:lnTo>
                    <a:pt x="38" y="584"/>
                  </a:lnTo>
                  <a:lnTo>
                    <a:pt x="26" y="552"/>
                  </a:lnTo>
                  <a:lnTo>
                    <a:pt x="17" y="517"/>
                  </a:lnTo>
                  <a:lnTo>
                    <a:pt x="10" y="482"/>
                  </a:lnTo>
                  <a:lnTo>
                    <a:pt x="5" y="446"/>
                  </a:lnTo>
                  <a:lnTo>
                    <a:pt x="1" y="407"/>
                  </a:lnTo>
                  <a:lnTo>
                    <a:pt x="0" y="366"/>
                  </a:lnTo>
                  <a:lnTo>
                    <a:pt x="1" y="327"/>
                  </a:lnTo>
                  <a:lnTo>
                    <a:pt x="5" y="290"/>
                  </a:lnTo>
                  <a:lnTo>
                    <a:pt x="10" y="254"/>
                  </a:lnTo>
                  <a:lnTo>
                    <a:pt x="17" y="220"/>
                  </a:lnTo>
                  <a:lnTo>
                    <a:pt x="21" y="203"/>
                  </a:lnTo>
                  <a:lnTo>
                    <a:pt x="26" y="187"/>
                  </a:lnTo>
                  <a:lnTo>
                    <a:pt x="32" y="173"/>
                  </a:lnTo>
                  <a:lnTo>
                    <a:pt x="37" y="158"/>
                  </a:lnTo>
                  <a:lnTo>
                    <a:pt x="44" y="144"/>
                  </a:lnTo>
                  <a:lnTo>
                    <a:pt x="50" y="129"/>
                  </a:lnTo>
                  <a:lnTo>
                    <a:pt x="57" y="116"/>
                  </a:lnTo>
                  <a:lnTo>
                    <a:pt x="66" y="102"/>
                  </a:lnTo>
                  <a:lnTo>
                    <a:pt x="73" y="90"/>
                  </a:lnTo>
                  <a:lnTo>
                    <a:pt x="83" y="79"/>
                  </a:lnTo>
                  <a:lnTo>
                    <a:pt x="93" y="68"/>
                  </a:lnTo>
                  <a:lnTo>
                    <a:pt x="102" y="57"/>
                  </a:lnTo>
                  <a:lnTo>
                    <a:pt x="115" y="49"/>
                  </a:lnTo>
                  <a:lnTo>
                    <a:pt x="126" y="40"/>
                  </a:lnTo>
                  <a:lnTo>
                    <a:pt x="138" y="33"/>
                  </a:lnTo>
                  <a:lnTo>
                    <a:pt x="151" y="25"/>
                  </a:lnTo>
                  <a:lnTo>
                    <a:pt x="165" y="19"/>
                  </a:lnTo>
                  <a:lnTo>
                    <a:pt x="179" y="14"/>
                  </a:lnTo>
                  <a:lnTo>
                    <a:pt x="194" y="10"/>
                  </a:lnTo>
                  <a:lnTo>
                    <a:pt x="210" y="6"/>
                  </a:lnTo>
                  <a:lnTo>
                    <a:pt x="226" y="4"/>
                  </a:lnTo>
                  <a:lnTo>
                    <a:pt x="243" y="1"/>
                  </a:lnTo>
                  <a:lnTo>
                    <a:pt x="261" y="0"/>
                  </a:lnTo>
                  <a:lnTo>
                    <a:pt x="279" y="0"/>
                  </a:lnTo>
                  <a:lnTo>
                    <a:pt x="305" y="1"/>
                  </a:lnTo>
                  <a:lnTo>
                    <a:pt x="331" y="4"/>
                  </a:lnTo>
                  <a:lnTo>
                    <a:pt x="354" y="8"/>
                  </a:lnTo>
                  <a:lnTo>
                    <a:pt x="376" y="14"/>
                  </a:lnTo>
                  <a:lnTo>
                    <a:pt x="395" y="23"/>
                  </a:lnTo>
                  <a:lnTo>
                    <a:pt x="415" y="33"/>
                  </a:lnTo>
                  <a:lnTo>
                    <a:pt x="432" y="45"/>
                  </a:lnTo>
                  <a:lnTo>
                    <a:pt x="448" y="60"/>
                  </a:lnTo>
                  <a:lnTo>
                    <a:pt x="462" y="74"/>
                  </a:lnTo>
                  <a:lnTo>
                    <a:pt x="475" y="91"/>
                  </a:lnTo>
                  <a:lnTo>
                    <a:pt x="484" y="108"/>
                  </a:lnTo>
                  <a:lnTo>
                    <a:pt x="493" y="128"/>
                  </a:lnTo>
                  <a:lnTo>
                    <a:pt x="500" y="147"/>
                  </a:lnTo>
                  <a:lnTo>
                    <a:pt x="505" y="168"/>
                  </a:lnTo>
                  <a:lnTo>
                    <a:pt x="508" y="190"/>
                  </a:lnTo>
                  <a:lnTo>
                    <a:pt x="509" y="213"/>
                  </a:lnTo>
                  <a:lnTo>
                    <a:pt x="414" y="213"/>
                  </a:lnTo>
                  <a:lnTo>
                    <a:pt x="414" y="197"/>
                  </a:lnTo>
                  <a:lnTo>
                    <a:pt x="412" y="183"/>
                  </a:lnTo>
                  <a:lnTo>
                    <a:pt x="409" y="168"/>
                  </a:lnTo>
                  <a:lnTo>
                    <a:pt x="405" y="155"/>
                  </a:lnTo>
                  <a:lnTo>
                    <a:pt x="400" y="142"/>
                  </a:lnTo>
                  <a:lnTo>
                    <a:pt x="394" y="130"/>
                  </a:lnTo>
                  <a:lnTo>
                    <a:pt x="387" y="119"/>
                  </a:lnTo>
                  <a:lnTo>
                    <a:pt x="378" y="109"/>
                  </a:lnTo>
                  <a:lnTo>
                    <a:pt x="370" y="100"/>
                  </a:lnTo>
                  <a:lnTo>
                    <a:pt x="360" y="91"/>
                  </a:lnTo>
                  <a:lnTo>
                    <a:pt x="348" y="85"/>
                  </a:lnTo>
                  <a:lnTo>
                    <a:pt x="337" y="79"/>
                  </a:lnTo>
                  <a:lnTo>
                    <a:pt x="323" y="75"/>
                  </a:lnTo>
                  <a:lnTo>
                    <a:pt x="310" y="72"/>
                  </a:lnTo>
                  <a:lnTo>
                    <a:pt x="295" y="71"/>
                  </a:lnTo>
                  <a:lnTo>
                    <a:pt x="279" y="69"/>
                  </a:lnTo>
                  <a:lnTo>
                    <a:pt x="266" y="69"/>
                  </a:lnTo>
                  <a:lnTo>
                    <a:pt x="254" y="71"/>
                  </a:lnTo>
                  <a:lnTo>
                    <a:pt x="242" y="73"/>
                  </a:lnTo>
                  <a:lnTo>
                    <a:pt x="231" y="75"/>
                  </a:lnTo>
                  <a:lnTo>
                    <a:pt x="220" y="78"/>
                  </a:lnTo>
                  <a:lnTo>
                    <a:pt x="209" y="81"/>
                  </a:lnTo>
                  <a:lnTo>
                    <a:pt x="199" y="86"/>
                  </a:lnTo>
                  <a:lnTo>
                    <a:pt x="189" y="91"/>
                  </a:lnTo>
                  <a:lnTo>
                    <a:pt x="181" y="97"/>
                  </a:lnTo>
                  <a:lnTo>
                    <a:pt x="172" y="103"/>
                  </a:lnTo>
                  <a:lnTo>
                    <a:pt x="165" y="111"/>
                  </a:lnTo>
                  <a:lnTo>
                    <a:pt x="157" y="118"/>
                  </a:lnTo>
                  <a:lnTo>
                    <a:pt x="150" y="127"/>
                  </a:lnTo>
                  <a:lnTo>
                    <a:pt x="144" y="135"/>
                  </a:lnTo>
                  <a:lnTo>
                    <a:pt x="138" y="145"/>
                  </a:lnTo>
                  <a:lnTo>
                    <a:pt x="132" y="156"/>
                  </a:lnTo>
                  <a:lnTo>
                    <a:pt x="123" y="178"/>
                  </a:lnTo>
                  <a:lnTo>
                    <a:pt x="115" y="201"/>
                  </a:lnTo>
                  <a:lnTo>
                    <a:pt x="107" y="226"/>
                  </a:lnTo>
                  <a:lnTo>
                    <a:pt x="101" y="252"/>
                  </a:lnTo>
                  <a:lnTo>
                    <a:pt x="98" y="280"/>
                  </a:lnTo>
                  <a:lnTo>
                    <a:pt x="94" y="309"/>
                  </a:lnTo>
                  <a:lnTo>
                    <a:pt x="93" y="340"/>
                  </a:lnTo>
                  <a:lnTo>
                    <a:pt x="92" y="371"/>
                  </a:lnTo>
                  <a:lnTo>
                    <a:pt x="93" y="411"/>
                  </a:lnTo>
                  <a:lnTo>
                    <a:pt x="95" y="449"/>
                  </a:lnTo>
                  <a:lnTo>
                    <a:pt x="100" y="483"/>
                  </a:lnTo>
                  <a:lnTo>
                    <a:pt x="106" y="515"/>
                  </a:lnTo>
                  <a:lnTo>
                    <a:pt x="111" y="531"/>
                  </a:lnTo>
                  <a:lnTo>
                    <a:pt x="115" y="544"/>
                  </a:lnTo>
                  <a:lnTo>
                    <a:pt x="120" y="558"/>
                  </a:lnTo>
                  <a:lnTo>
                    <a:pt x="126" y="571"/>
                  </a:lnTo>
                  <a:lnTo>
                    <a:pt x="131" y="583"/>
                  </a:lnTo>
                  <a:lnTo>
                    <a:pt x="137" y="594"/>
                  </a:lnTo>
                  <a:lnTo>
                    <a:pt x="144" y="605"/>
                  </a:lnTo>
                  <a:lnTo>
                    <a:pt x="151" y="615"/>
                  </a:lnTo>
                  <a:lnTo>
                    <a:pt x="159" y="625"/>
                  </a:lnTo>
                  <a:lnTo>
                    <a:pt x="166" y="633"/>
                  </a:lnTo>
                  <a:lnTo>
                    <a:pt x="174" y="642"/>
                  </a:lnTo>
                  <a:lnTo>
                    <a:pt x="183" y="649"/>
                  </a:lnTo>
                  <a:lnTo>
                    <a:pt x="192" y="656"/>
                  </a:lnTo>
                  <a:lnTo>
                    <a:pt x="200" y="662"/>
                  </a:lnTo>
                  <a:lnTo>
                    <a:pt x="210" y="667"/>
                  </a:lnTo>
                  <a:lnTo>
                    <a:pt x="220" y="673"/>
                  </a:lnTo>
                  <a:lnTo>
                    <a:pt x="229" y="677"/>
                  </a:lnTo>
                  <a:lnTo>
                    <a:pt x="239" y="682"/>
                  </a:lnTo>
                  <a:lnTo>
                    <a:pt x="249" y="684"/>
                  </a:lnTo>
                  <a:lnTo>
                    <a:pt x="260" y="687"/>
                  </a:lnTo>
                  <a:lnTo>
                    <a:pt x="271" y="689"/>
                  </a:lnTo>
                  <a:lnTo>
                    <a:pt x="282" y="690"/>
                  </a:lnTo>
                  <a:lnTo>
                    <a:pt x="293" y="692"/>
                  </a:lnTo>
                  <a:lnTo>
                    <a:pt x="305" y="692"/>
                  </a:lnTo>
                  <a:lnTo>
                    <a:pt x="320" y="692"/>
                  </a:lnTo>
                  <a:lnTo>
                    <a:pt x="334" y="690"/>
                  </a:lnTo>
                  <a:lnTo>
                    <a:pt x="348" y="689"/>
                  </a:lnTo>
                  <a:lnTo>
                    <a:pt x="361" y="688"/>
                  </a:lnTo>
                  <a:lnTo>
                    <a:pt x="373" y="685"/>
                  </a:lnTo>
                  <a:lnTo>
                    <a:pt x="386" y="682"/>
                  </a:lnTo>
                  <a:lnTo>
                    <a:pt x="397" y="678"/>
                  </a:lnTo>
                  <a:lnTo>
                    <a:pt x="406" y="673"/>
                  </a:lnTo>
                  <a:lnTo>
                    <a:pt x="427" y="665"/>
                  </a:lnTo>
                  <a:lnTo>
                    <a:pt x="445" y="654"/>
                  </a:lnTo>
                  <a:lnTo>
                    <a:pt x="464" y="643"/>
                  </a:lnTo>
                  <a:lnTo>
                    <a:pt x="481" y="631"/>
                  </a:lnTo>
                  <a:lnTo>
                    <a:pt x="481" y="717"/>
                  </a:lnTo>
                  <a:close/>
                  <a:moveTo>
                    <a:pt x="571" y="497"/>
                  </a:moveTo>
                  <a:lnTo>
                    <a:pt x="571" y="466"/>
                  </a:lnTo>
                  <a:lnTo>
                    <a:pt x="573" y="438"/>
                  </a:lnTo>
                  <a:lnTo>
                    <a:pt x="577" y="413"/>
                  </a:lnTo>
                  <a:lnTo>
                    <a:pt x="583" y="387"/>
                  </a:lnTo>
                  <a:lnTo>
                    <a:pt x="590" y="364"/>
                  </a:lnTo>
                  <a:lnTo>
                    <a:pt x="599" y="342"/>
                  </a:lnTo>
                  <a:lnTo>
                    <a:pt x="609" y="321"/>
                  </a:lnTo>
                  <a:lnTo>
                    <a:pt x="621" y="302"/>
                  </a:lnTo>
                  <a:lnTo>
                    <a:pt x="627" y="293"/>
                  </a:lnTo>
                  <a:lnTo>
                    <a:pt x="634" y="285"/>
                  </a:lnTo>
                  <a:lnTo>
                    <a:pt x="642" y="278"/>
                  </a:lnTo>
                  <a:lnTo>
                    <a:pt x="650" y="270"/>
                  </a:lnTo>
                  <a:lnTo>
                    <a:pt x="658" y="264"/>
                  </a:lnTo>
                  <a:lnTo>
                    <a:pt x="666" y="258"/>
                  </a:lnTo>
                  <a:lnTo>
                    <a:pt x="676" y="252"/>
                  </a:lnTo>
                  <a:lnTo>
                    <a:pt x="686" y="247"/>
                  </a:lnTo>
                  <a:lnTo>
                    <a:pt x="695" y="243"/>
                  </a:lnTo>
                  <a:lnTo>
                    <a:pt x="706" y="240"/>
                  </a:lnTo>
                  <a:lnTo>
                    <a:pt x="717" y="236"/>
                  </a:lnTo>
                  <a:lnTo>
                    <a:pt x="728" y="234"/>
                  </a:lnTo>
                  <a:lnTo>
                    <a:pt x="753" y="230"/>
                  </a:lnTo>
                  <a:lnTo>
                    <a:pt x="778" y="229"/>
                  </a:lnTo>
                  <a:lnTo>
                    <a:pt x="792" y="229"/>
                  </a:lnTo>
                  <a:lnTo>
                    <a:pt x="804" y="230"/>
                  </a:lnTo>
                  <a:lnTo>
                    <a:pt x="816" y="231"/>
                  </a:lnTo>
                  <a:lnTo>
                    <a:pt x="828" y="234"/>
                  </a:lnTo>
                  <a:lnTo>
                    <a:pt x="839" y="236"/>
                  </a:lnTo>
                  <a:lnTo>
                    <a:pt x="850" y="240"/>
                  </a:lnTo>
                  <a:lnTo>
                    <a:pt x="861" y="243"/>
                  </a:lnTo>
                  <a:lnTo>
                    <a:pt x="871" y="247"/>
                  </a:lnTo>
                  <a:lnTo>
                    <a:pt x="881" y="252"/>
                  </a:lnTo>
                  <a:lnTo>
                    <a:pt x="891" y="258"/>
                  </a:lnTo>
                  <a:lnTo>
                    <a:pt x="899" y="264"/>
                  </a:lnTo>
                  <a:lnTo>
                    <a:pt x="908" y="270"/>
                  </a:lnTo>
                  <a:lnTo>
                    <a:pt x="916" y="278"/>
                  </a:lnTo>
                  <a:lnTo>
                    <a:pt x="924" y="285"/>
                  </a:lnTo>
                  <a:lnTo>
                    <a:pt x="931" y="293"/>
                  </a:lnTo>
                  <a:lnTo>
                    <a:pt x="937" y="303"/>
                  </a:lnTo>
                  <a:lnTo>
                    <a:pt x="949" y="321"/>
                  </a:lnTo>
                  <a:lnTo>
                    <a:pt x="959" y="342"/>
                  </a:lnTo>
                  <a:lnTo>
                    <a:pt x="969" y="364"/>
                  </a:lnTo>
                  <a:lnTo>
                    <a:pt x="976" y="388"/>
                  </a:lnTo>
                  <a:lnTo>
                    <a:pt x="981" y="413"/>
                  </a:lnTo>
                  <a:lnTo>
                    <a:pt x="986" y="439"/>
                  </a:lnTo>
                  <a:lnTo>
                    <a:pt x="988" y="468"/>
                  </a:lnTo>
                  <a:lnTo>
                    <a:pt x="988" y="497"/>
                  </a:lnTo>
                  <a:lnTo>
                    <a:pt x="988" y="526"/>
                  </a:lnTo>
                  <a:lnTo>
                    <a:pt x="986" y="553"/>
                  </a:lnTo>
                  <a:lnTo>
                    <a:pt x="981" y="580"/>
                  </a:lnTo>
                  <a:lnTo>
                    <a:pt x="976" y="604"/>
                  </a:lnTo>
                  <a:lnTo>
                    <a:pt x="969" y="628"/>
                  </a:lnTo>
                  <a:lnTo>
                    <a:pt x="959" y="650"/>
                  </a:lnTo>
                  <a:lnTo>
                    <a:pt x="949" y="670"/>
                  </a:lnTo>
                  <a:lnTo>
                    <a:pt x="937" y="689"/>
                  </a:lnTo>
                  <a:lnTo>
                    <a:pt x="931" y="698"/>
                  </a:lnTo>
                  <a:lnTo>
                    <a:pt x="924" y="706"/>
                  </a:lnTo>
                  <a:lnTo>
                    <a:pt x="916" y="713"/>
                  </a:lnTo>
                  <a:lnTo>
                    <a:pt x="908" y="721"/>
                  </a:lnTo>
                  <a:lnTo>
                    <a:pt x="899" y="727"/>
                  </a:lnTo>
                  <a:lnTo>
                    <a:pt x="891" y="733"/>
                  </a:lnTo>
                  <a:lnTo>
                    <a:pt x="881" y="739"/>
                  </a:lnTo>
                  <a:lnTo>
                    <a:pt x="871" y="744"/>
                  </a:lnTo>
                  <a:lnTo>
                    <a:pt x="861" y="748"/>
                  </a:lnTo>
                  <a:lnTo>
                    <a:pt x="850" y="751"/>
                  </a:lnTo>
                  <a:lnTo>
                    <a:pt x="839" y="755"/>
                  </a:lnTo>
                  <a:lnTo>
                    <a:pt x="828" y="757"/>
                  </a:lnTo>
                  <a:lnTo>
                    <a:pt x="804" y="761"/>
                  </a:lnTo>
                  <a:lnTo>
                    <a:pt x="778" y="762"/>
                  </a:lnTo>
                  <a:lnTo>
                    <a:pt x="765" y="761"/>
                  </a:lnTo>
                  <a:lnTo>
                    <a:pt x="753" y="761"/>
                  </a:lnTo>
                  <a:lnTo>
                    <a:pt x="741" y="759"/>
                  </a:lnTo>
                  <a:lnTo>
                    <a:pt x="728" y="757"/>
                  </a:lnTo>
                  <a:lnTo>
                    <a:pt x="717" y="755"/>
                  </a:lnTo>
                  <a:lnTo>
                    <a:pt x="706" y="751"/>
                  </a:lnTo>
                  <a:lnTo>
                    <a:pt x="697" y="748"/>
                  </a:lnTo>
                  <a:lnTo>
                    <a:pt x="686" y="743"/>
                  </a:lnTo>
                  <a:lnTo>
                    <a:pt x="677" y="739"/>
                  </a:lnTo>
                  <a:lnTo>
                    <a:pt x="667" y="733"/>
                  </a:lnTo>
                  <a:lnTo>
                    <a:pt x="659" y="727"/>
                  </a:lnTo>
                  <a:lnTo>
                    <a:pt x="650" y="721"/>
                  </a:lnTo>
                  <a:lnTo>
                    <a:pt x="643" y="713"/>
                  </a:lnTo>
                  <a:lnTo>
                    <a:pt x="636" y="705"/>
                  </a:lnTo>
                  <a:lnTo>
                    <a:pt x="628" y="698"/>
                  </a:lnTo>
                  <a:lnTo>
                    <a:pt x="621" y="688"/>
                  </a:lnTo>
                  <a:lnTo>
                    <a:pt x="610" y="670"/>
                  </a:lnTo>
                  <a:lnTo>
                    <a:pt x="599" y="649"/>
                  </a:lnTo>
                  <a:lnTo>
                    <a:pt x="590" y="627"/>
                  </a:lnTo>
                  <a:lnTo>
                    <a:pt x="583" y="604"/>
                  </a:lnTo>
                  <a:lnTo>
                    <a:pt x="578" y="580"/>
                  </a:lnTo>
                  <a:lnTo>
                    <a:pt x="573" y="553"/>
                  </a:lnTo>
                  <a:lnTo>
                    <a:pt x="571" y="525"/>
                  </a:lnTo>
                  <a:lnTo>
                    <a:pt x="571" y="497"/>
                  </a:lnTo>
                  <a:close/>
                  <a:moveTo>
                    <a:pt x="778" y="700"/>
                  </a:moveTo>
                  <a:lnTo>
                    <a:pt x="793" y="700"/>
                  </a:lnTo>
                  <a:lnTo>
                    <a:pt x="808" y="698"/>
                  </a:lnTo>
                  <a:lnTo>
                    <a:pt x="820" y="693"/>
                  </a:lnTo>
                  <a:lnTo>
                    <a:pt x="832" y="687"/>
                  </a:lnTo>
                  <a:lnTo>
                    <a:pt x="844" y="679"/>
                  </a:lnTo>
                  <a:lnTo>
                    <a:pt x="854" y="671"/>
                  </a:lnTo>
                  <a:lnTo>
                    <a:pt x="864" y="659"/>
                  </a:lnTo>
                  <a:lnTo>
                    <a:pt x="872" y="647"/>
                  </a:lnTo>
                  <a:lnTo>
                    <a:pt x="880" y="632"/>
                  </a:lnTo>
                  <a:lnTo>
                    <a:pt x="887" y="617"/>
                  </a:lnTo>
                  <a:lnTo>
                    <a:pt x="892" y="600"/>
                  </a:lnTo>
                  <a:lnTo>
                    <a:pt x="897" y="582"/>
                  </a:lnTo>
                  <a:lnTo>
                    <a:pt x="900" y="562"/>
                  </a:lnTo>
                  <a:lnTo>
                    <a:pt x="903" y="542"/>
                  </a:lnTo>
                  <a:lnTo>
                    <a:pt x="904" y="519"/>
                  </a:lnTo>
                  <a:lnTo>
                    <a:pt x="905" y="496"/>
                  </a:lnTo>
                  <a:lnTo>
                    <a:pt x="904" y="471"/>
                  </a:lnTo>
                  <a:lnTo>
                    <a:pt x="903" y="449"/>
                  </a:lnTo>
                  <a:lnTo>
                    <a:pt x="900" y="427"/>
                  </a:lnTo>
                  <a:lnTo>
                    <a:pt x="897" y="408"/>
                  </a:lnTo>
                  <a:lnTo>
                    <a:pt x="893" y="390"/>
                  </a:lnTo>
                  <a:lnTo>
                    <a:pt x="887" y="373"/>
                  </a:lnTo>
                  <a:lnTo>
                    <a:pt x="881" y="358"/>
                  </a:lnTo>
                  <a:lnTo>
                    <a:pt x="874" y="343"/>
                  </a:lnTo>
                  <a:lnTo>
                    <a:pt x="865" y="331"/>
                  </a:lnTo>
                  <a:lnTo>
                    <a:pt x="855" y="320"/>
                  </a:lnTo>
                  <a:lnTo>
                    <a:pt x="845" y="310"/>
                  </a:lnTo>
                  <a:lnTo>
                    <a:pt x="833" y="303"/>
                  </a:lnTo>
                  <a:lnTo>
                    <a:pt x="821" y="297"/>
                  </a:lnTo>
                  <a:lnTo>
                    <a:pt x="808" y="293"/>
                  </a:lnTo>
                  <a:lnTo>
                    <a:pt x="794" y="291"/>
                  </a:lnTo>
                  <a:lnTo>
                    <a:pt x="778" y="290"/>
                  </a:lnTo>
                  <a:lnTo>
                    <a:pt x="764" y="291"/>
                  </a:lnTo>
                  <a:lnTo>
                    <a:pt x="750" y="293"/>
                  </a:lnTo>
                  <a:lnTo>
                    <a:pt x="737" y="297"/>
                  </a:lnTo>
                  <a:lnTo>
                    <a:pt x="725" y="303"/>
                  </a:lnTo>
                  <a:lnTo>
                    <a:pt x="714" y="310"/>
                  </a:lnTo>
                  <a:lnTo>
                    <a:pt x="704" y="320"/>
                  </a:lnTo>
                  <a:lnTo>
                    <a:pt x="694" y="331"/>
                  </a:lnTo>
                  <a:lnTo>
                    <a:pt x="686" y="343"/>
                  </a:lnTo>
                  <a:lnTo>
                    <a:pt x="678" y="358"/>
                  </a:lnTo>
                  <a:lnTo>
                    <a:pt x="672" y="373"/>
                  </a:lnTo>
                  <a:lnTo>
                    <a:pt x="666" y="390"/>
                  </a:lnTo>
                  <a:lnTo>
                    <a:pt x="662" y="408"/>
                  </a:lnTo>
                  <a:lnTo>
                    <a:pt x="659" y="427"/>
                  </a:lnTo>
                  <a:lnTo>
                    <a:pt x="656" y="449"/>
                  </a:lnTo>
                  <a:lnTo>
                    <a:pt x="655" y="471"/>
                  </a:lnTo>
                  <a:lnTo>
                    <a:pt x="654" y="496"/>
                  </a:lnTo>
                  <a:lnTo>
                    <a:pt x="655" y="519"/>
                  </a:lnTo>
                  <a:lnTo>
                    <a:pt x="656" y="542"/>
                  </a:lnTo>
                  <a:lnTo>
                    <a:pt x="659" y="562"/>
                  </a:lnTo>
                  <a:lnTo>
                    <a:pt x="662" y="582"/>
                  </a:lnTo>
                  <a:lnTo>
                    <a:pt x="666" y="600"/>
                  </a:lnTo>
                  <a:lnTo>
                    <a:pt x="672" y="617"/>
                  </a:lnTo>
                  <a:lnTo>
                    <a:pt x="678" y="632"/>
                  </a:lnTo>
                  <a:lnTo>
                    <a:pt x="686" y="647"/>
                  </a:lnTo>
                  <a:lnTo>
                    <a:pt x="694" y="659"/>
                  </a:lnTo>
                  <a:lnTo>
                    <a:pt x="704" y="671"/>
                  </a:lnTo>
                  <a:lnTo>
                    <a:pt x="714" y="679"/>
                  </a:lnTo>
                  <a:lnTo>
                    <a:pt x="725" y="687"/>
                  </a:lnTo>
                  <a:lnTo>
                    <a:pt x="737" y="693"/>
                  </a:lnTo>
                  <a:lnTo>
                    <a:pt x="750" y="698"/>
                  </a:lnTo>
                  <a:lnTo>
                    <a:pt x="764" y="700"/>
                  </a:lnTo>
                  <a:lnTo>
                    <a:pt x="778" y="700"/>
                  </a:lnTo>
                  <a:close/>
                  <a:moveTo>
                    <a:pt x="1122" y="241"/>
                  </a:moveTo>
                  <a:lnTo>
                    <a:pt x="1196" y="241"/>
                  </a:lnTo>
                  <a:lnTo>
                    <a:pt x="1196" y="358"/>
                  </a:lnTo>
                  <a:lnTo>
                    <a:pt x="1207" y="332"/>
                  </a:lnTo>
                  <a:lnTo>
                    <a:pt x="1220" y="308"/>
                  </a:lnTo>
                  <a:lnTo>
                    <a:pt x="1233" y="286"/>
                  </a:lnTo>
                  <a:lnTo>
                    <a:pt x="1249" y="267"/>
                  </a:lnTo>
                  <a:lnTo>
                    <a:pt x="1259" y="258"/>
                  </a:lnTo>
                  <a:lnTo>
                    <a:pt x="1269" y="250"/>
                  </a:lnTo>
                  <a:lnTo>
                    <a:pt x="1281" y="243"/>
                  </a:lnTo>
                  <a:lnTo>
                    <a:pt x="1293" y="239"/>
                  </a:lnTo>
                  <a:lnTo>
                    <a:pt x="1308" y="234"/>
                  </a:lnTo>
                  <a:lnTo>
                    <a:pt x="1322" y="231"/>
                  </a:lnTo>
                  <a:lnTo>
                    <a:pt x="1340" y="230"/>
                  </a:lnTo>
                  <a:lnTo>
                    <a:pt x="1357" y="229"/>
                  </a:lnTo>
                  <a:lnTo>
                    <a:pt x="1371" y="230"/>
                  </a:lnTo>
                  <a:lnTo>
                    <a:pt x="1386" y="231"/>
                  </a:lnTo>
                  <a:lnTo>
                    <a:pt x="1399" y="235"/>
                  </a:lnTo>
                  <a:lnTo>
                    <a:pt x="1412" y="240"/>
                  </a:lnTo>
                  <a:lnTo>
                    <a:pt x="1423" y="247"/>
                  </a:lnTo>
                  <a:lnTo>
                    <a:pt x="1434" y="254"/>
                  </a:lnTo>
                  <a:lnTo>
                    <a:pt x="1443" y="264"/>
                  </a:lnTo>
                  <a:lnTo>
                    <a:pt x="1453" y="274"/>
                  </a:lnTo>
                  <a:lnTo>
                    <a:pt x="1462" y="286"/>
                  </a:lnTo>
                  <a:lnTo>
                    <a:pt x="1468" y="298"/>
                  </a:lnTo>
                  <a:lnTo>
                    <a:pt x="1474" y="312"/>
                  </a:lnTo>
                  <a:lnTo>
                    <a:pt x="1479" y="325"/>
                  </a:lnTo>
                  <a:lnTo>
                    <a:pt x="1482" y="340"/>
                  </a:lnTo>
                  <a:lnTo>
                    <a:pt x="1486" y="354"/>
                  </a:lnTo>
                  <a:lnTo>
                    <a:pt x="1487" y="370"/>
                  </a:lnTo>
                  <a:lnTo>
                    <a:pt x="1487" y="386"/>
                  </a:lnTo>
                  <a:lnTo>
                    <a:pt x="1487" y="750"/>
                  </a:lnTo>
                  <a:lnTo>
                    <a:pt x="1415" y="750"/>
                  </a:lnTo>
                  <a:lnTo>
                    <a:pt x="1415" y="468"/>
                  </a:lnTo>
                  <a:lnTo>
                    <a:pt x="1414" y="426"/>
                  </a:lnTo>
                  <a:lnTo>
                    <a:pt x="1412" y="392"/>
                  </a:lnTo>
                  <a:lnTo>
                    <a:pt x="1408" y="363"/>
                  </a:lnTo>
                  <a:lnTo>
                    <a:pt x="1403" y="341"/>
                  </a:lnTo>
                  <a:lnTo>
                    <a:pt x="1399" y="331"/>
                  </a:lnTo>
                  <a:lnTo>
                    <a:pt x="1394" y="324"/>
                  </a:lnTo>
                  <a:lnTo>
                    <a:pt x="1388" y="316"/>
                  </a:lnTo>
                  <a:lnTo>
                    <a:pt x="1381" y="312"/>
                  </a:lnTo>
                  <a:lnTo>
                    <a:pt x="1373" y="307"/>
                  </a:lnTo>
                  <a:lnTo>
                    <a:pt x="1363" y="304"/>
                  </a:lnTo>
                  <a:lnTo>
                    <a:pt x="1352" y="302"/>
                  </a:lnTo>
                  <a:lnTo>
                    <a:pt x="1340" y="302"/>
                  </a:lnTo>
                  <a:lnTo>
                    <a:pt x="1332" y="302"/>
                  </a:lnTo>
                  <a:lnTo>
                    <a:pt x="1324" y="303"/>
                  </a:lnTo>
                  <a:lnTo>
                    <a:pt x="1316" y="304"/>
                  </a:lnTo>
                  <a:lnTo>
                    <a:pt x="1309" y="307"/>
                  </a:lnTo>
                  <a:lnTo>
                    <a:pt x="1302" y="309"/>
                  </a:lnTo>
                  <a:lnTo>
                    <a:pt x="1294" y="313"/>
                  </a:lnTo>
                  <a:lnTo>
                    <a:pt x="1287" y="316"/>
                  </a:lnTo>
                  <a:lnTo>
                    <a:pt x="1281" y="321"/>
                  </a:lnTo>
                  <a:lnTo>
                    <a:pt x="1268" y="332"/>
                  </a:lnTo>
                  <a:lnTo>
                    <a:pt x="1257" y="346"/>
                  </a:lnTo>
                  <a:lnTo>
                    <a:pt x="1246" y="362"/>
                  </a:lnTo>
                  <a:lnTo>
                    <a:pt x="1235" y="380"/>
                  </a:lnTo>
                  <a:lnTo>
                    <a:pt x="1226" y="401"/>
                  </a:lnTo>
                  <a:lnTo>
                    <a:pt x="1218" y="420"/>
                  </a:lnTo>
                  <a:lnTo>
                    <a:pt x="1210" y="439"/>
                  </a:lnTo>
                  <a:lnTo>
                    <a:pt x="1205" y="459"/>
                  </a:lnTo>
                  <a:lnTo>
                    <a:pt x="1200" y="480"/>
                  </a:lnTo>
                  <a:lnTo>
                    <a:pt x="1198" y="499"/>
                  </a:lnTo>
                  <a:lnTo>
                    <a:pt x="1196" y="520"/>
                  </a:lnTo>
                  <a:lnTo>
                    <a:pt x="1196" y="541"/>
                  </a:lnTo>
                  <a:lnTo>
                    <a:pt x="1196" y="750"/>
                  </a:lnTo>
                  <a:lnTo>
                    <a:pt x="1122" y="750"/>
                  </a:lnTo>
                  <a:lnTo>
                    <a:pt x="1122" y="241"/>
                  </a:lnTo>
                  <a:close/>
                  <a:moveTo>
                    <a:pt x="1900" y="756"/>
                  </a:moveTo>
                  <a:lnTo>
                    <a:pt x="1885" y="759"/>
                  </a:lnTo>
                  <a:lnTo>
                    <a:pt x="1873" y="760"/>
                  </a:lnTo>
                  <a:lnTo>
                    <a:pt x="1863" y="761"/>
                  </a:lnTo>
                  <a:lnTo>
                    <a:pt x="1856" y="761"/>
                  </a:lnTo>
                  <a:lnTo>
                    <a:pt x="1843" y="761"/>
                  </a:lnTo>
                  <a:lnTo>
                    <a:pt x="1835" y="762"/>
                  </a:lnTo>
                  <a:lnTo>
                    <a:pt x="1817" y="761"/>
                  </a:lnTo>
                  <a:lnTo>
                    <a:pt x="1800" y="760"/>
                  </a:lnTo>
                  <a:lnTo>
                    <a:pt x="1784" y="757"/>
                  </a:lnTo>
                  <a:lnTo>
                    <a:pt x="1769" y="754"/>
                  </a:lnTo>
                  <a:lnTo>
                    <a:pt x="1756" y="750"/>
                  </a:lnTo>
                  <a:lnTo>
                    <a:pt x="1745" y="744"/>
                  </a:lnTo>
                  <a:lnTo>
                    <a:pt x="1735" y="738"/>
                  </a:lnTo>
                  <a:lnTo>
                    <a:pt x="1725" y="731"/>
                  </a:lnTo>
                  <a:lnTo>
                    <a:pt x="1718" y="722"/>
                  </a:lnTo>
                  <a:lnTo>
                    <a:pt x="1712" y="712"/>
                  </a:lnTo>
                  <a:lnTo>
                    <a:pt x="1706" y="703"/>
                  </a:lnTo>
                  <a:lnTo>
                    <a:pt x="1702" y="690"/>
                  </a:lnTo>
                  <a:lnTo>
                    <a:pt x="1698" y="677"/>
                  </a:lnTo>
                  <a:lnTo>
                    <a:pt x="1696" y="662"/>
                  </a:lnTo>
                  <a:lnTo>
                    <a:pt x="1693" y="647"/>
                  </a:lnTo>
                  <a:lnTo>
                    <a:pt x="1693" y="629"/>
                  </a:lnTo>
                  <a:lnTo>
                    <a:pt x="1693" y="302"/>
                  </a:lnTo>
                  <a:lnTo>
                    <a:pt x="1610" y="302"/>
                  </a:lnTo>
                  <a:lnTo>
                    <a:pt x="1610" y="241"/>
                  </a:lnTo>
                  <a:lnTo>
                    <a:pt x="1693" y="241"/>
                  </a:lnTo>
                  <a:lnTo>
                    <a:pt x="1693" y="122"/>
                  </a:lnTo>
                  <a:lnTo>
                    <a:pt x="1767" y="75"/>
                  </a:lnTo>
                  <a:lnTo>
                    <a:pt x="1767" y="241"/>
                  </a:lnTo>
                  <a:lnTo>
                    <a:pt x="1903" y="241"/>
                  </a:lnTo>
                  <a:lnTo>
                    <a:pt x="1903" y="302"/>
                  </a:lnTo>
                  <a:lnTo>
                    <a:pt x="1767" y="302"/>
                  </a:lnTo>
                  <a:lnTo>
                    <a:pt x="1767" y="615"/>
                  </a:lnTo>
                  <a:lnTo>
                    <a:pt x="1768" y="632"/>
                  </a:lnTo>
                  <a:lnTo>
                    <a:pt x="1770" y="648"/>
                  </a:lnTo>
                  <a:lnTo>
                    <a:pt x="1775" y="662"/>
                  </a:lnTo>
                  <a:lnTo>
                    <a:pt x="1782" y="676"/>
                  </a:lnTo>
                  <a:lnTo>
                    <a:pt x="1787" y="682"/>
                  </a:lnTo>
                  <a:lnTo>
                    <a:pt x="1793" y="687"/>
                  </a:lnTo>
                  <a:lnTo>
                    <a:pt x="1800" y="690"/>
                  </a:lnTo>
                  <a:lnTo>
                    <a:pt x="1808" y="694"/>
                  </a:lnTo>
                  <a:lnTo>
                    <a:pt x="1817" y="698"/>
                  </a:lnTo>
                  <a:lnTo>
                    <a:pt x="1826" y="699"/>
                  </a:lnTo>
                  <a:lnTo>
                    <a:pt x="1837" y="700"/>
                  </a:lnTo>
                  <a:lnTo>
                    <a:pt x="1850" y="700"/>
                  </a:lnTo>
                  <a:lnTo>
                    <a:pt x="1867" y="700"/>
                  </a:lnTo>
                  <a:lnTo>
                    <a:pt x="1880" y="696"/>
                  </a:lnTo>
                  <a:lnTo>
                    <a:pt x="1891" y="694"/>
                  </a:lnTo>
                  <a:lnTo>
                    <a:pt x="1900" y="692"/>
                  </a:lnTo>
                  <a:lnTo>
                    <a:pt x="1900" y="756"/>
                  </a:lnTo>
                  <a:close/>
                  <a:moveTo>
                    <a:pt x="2270" y="683"/>
                  </a:moveTo>
                  <a:lnTo>
                    <a:pt x="2261" y="695"/>
                  </a:lnTo>
                  <a:lnTo>
                    <a:pt x="2247" y="709"/>
                  </a:lnTo>
                  <a:lnTo>
                    <a:pt x="2231" y="722"/>
                  </a:lnTo>
                  <a:lnTo>
                    <a:pt x="2213" y="735"/>
                  </a:lnTo>
                  <a:lnTo>
                    <a:pt x="2202" y="742"/>
                  </a:lnTo>
                  <a:lnTo>
                    <a:pt x="2191" y="746"/>
                  </a:lnTo>
                  <a:lnTo>
                    <a:pt x="2180" y="751"/>
                  </a:lnTo>
                  <a:lnTo>
                    <a:pt x="2167" y="755"/>
                  </a:lnTo>
                  <a:lnTo>
                    <a:pt x="2155" y="759"/>
                  </a:lnTo>
                  <a:lnTo>
                    <a:pt x="2141" y="760"/>
                  </a:lnTo>
                  <a:lnTo>
                    <a:pt x="2126" y="761"/>
                  </a:lnTo>
                  <a:lnTo>
                    <a:pt x="2112" y="762"/>
                  </a:lnTo>
                  <a:lnTo>
                    <a:pt x="2096" y="761"/>
                  </a:lnTo>
                  <a:lnTo>
                    <a:pt x="2081" y="760"/>
                  </a:lnTo>
                  <a:lnTo>
                    <a:pt x="2068" y="756"/>
                  </a:lnTo>
                  <a:lnTo>
                    <a:pt x="2054" y="752"/>
                  </a:lnTo>
                  <a:lnTo>
                    <a:pt x="2042" y="748"/>
                  </a:lnTo>
                  <a:lnTo>
                    <a:pt x="2031" y="740"/>
                  </a:lnTo>
                  <a:lnTo>
                    <a:pt x="2020" y="733"/>
                  </a:lnTo>
                  <a:lnTo>
                    <a:pt x="2011" y="724"/>
                  </a:lnTo>
                  <a:lnTo>
                    <a:pt x="2002" y="715"/>
                  </a:lnTo>
                  <a:lnTo>
                    <a:pt x="1995" y="704"/>
                  </a:lnTo>
                  <a:lnTo>
                    <a:pt x="1989" y="692"/>
                  </a:lnTo>
                  <a:lnTo>
                    <a:pt x="1984" y="679"/>
                  </a:lnTo>
                  <a:lnTo>
                    <a:pt x="1979" y="666"/>
                  </a:lnTo>
                  <a:lnTo>
                    <a:pt x="1976" y="651"/>
                  </a:lnTo>
                  <a:lnTo>
                    <a:pt x="1975" y="636"/>
                  </a:lnTo>
                  <a:lnTo>
                    <a:pt x="1974" y="620"/>
                  </a:lnTo>
                  <a:lnTo>
                    <a:pt x="1974" y="610"/>
                  </a:lnTo>
                  <a:lnTo>
                    <a:pt x="1975" y="600"/>
                  </a:lnTo>
                  <a:lnTo>
                    <a:pt x="1976" y="591"/>
                  </a:lnTo>
                  <a:lnTo>
                    <a:pt x="1979" y="582"/>
                  </a:lnTo>
                  <a:lnTo>
                    <a:pt x="1983" y="573"/>
                  </a:lnTo>
                  <a:lnTo>
                    <a:pt x="1985" y="566"/>
                  </a:lnTo>
                  <a:lnTo>
                    <a:pt x="1990" y="558"/>
                  </a:lnTo>
                  <a:lnTo>
                    <a:pt x="1995" y="550"/>
                  </a:lnTo>
                  <a:lnTo>
                    <a:pt x="2000" y="543"/>
                  </a:lnTo>
                  <a:lnTo>
                    <a:pt x="2006" y="536"/>
                  </a:lnTo>
                  <a:lnTo>
                    <a:pt x="2012" y="530"/>
                  </a:lnTo>
                  <a:lnTo>
                    <a:pt x="2019" y="522"/>
                  </a:lnTo>
                  <a:lnTo>
                    <a:pt x="2035" y="511"/>
                  </a:lnTo>
                  <a:lnTo>
                    <a:pt x="2054" y="500"/>
                  </a:lnTo>
                  <a:lnTo>
                    <a:pt x="2074" y="492"/>
                  </a:lnTo>
                  <a:lnTo>
                    <a:pt x="2095" y="483"/>
                  </a:lnTo>
                  <a:lnTo>
                    <a:pt x="2114" y="476"/>
                  </a:lnTo>
                  <a:lnTo>
                    <a:pt x="2135" y="471"/>
                  </a:lnTo>
                  <a:lnTo>
                    <a:pt x="2156" y="466"/>
                  </a:lnTo>
                  <a:lnTo>
                    <a:pt x="2176" y="464"/>
                  </a:lnTo>
                  <a:lnTo>
                    <a:pt x="2198" y="461"/>
                  </a:lnTo>
                  <a:lnTo>
                    <a:pt x="2219" y="461"/>
                  </a:lnTo>
                  <a:lnTo>
                    <a:pt x="2233" y="461"/>
                  </a:lnTo>
                  <a:lnTo>
                    <a:pt x="2241" y="461"/>
                  </a:lnTo>
                  <a:lnTo>
                    <a:pt x="2251" y="460"/>
                  </a:lnTo>
                  <a:lnTo>
                    <a:pt x="2261" y="459"/>
                  </a:lnTo>
                  <a:lnTo>
                    <a:pt x="2270" y="458"/>
                  </a:lnTo>
                  <a:lnTo>
                    <a:pt x="2270" y="435"/>
                  </a:lnTo>
                  <a:lnTo>
                    <a:pt x="2270" y="424"/>
                  </a:lnTo>
                  <a:lnTo>
                    <a:pt x="2269" y="414"/>
                  </a:lnTo>
                  <a:lnTo>
                    <a:pt x="2269" y="404"/>
                  </a:lnTo>
                  <a:lnTo>
                    <a:pt x="2269" y="394"/>
                  </a:lnTo>
                  <a:lnTo>
                    <a:pt x="2269" y="385"/>
                  </a:lnTo>
                  <a:lnTo>
                    <a:pt x="2268" y="374"/>
                  </a:lnTo>
                  <a:lnTo>
                    <a:pt x="2266" y="362"/>
                  </a:lnTo>
                  <a:lnTo>
                    <a:pt x="2263" y="348"/>
                  </a:lnTo>
                  <a:lnTo>
                    <a:pt x="2262" y="342"/>
                  </a:lnTo>
                  <a:lnTo>
                    <a:pt x="2259" y="335"/>
                  </a:lnTo>
                  <a:lnTo>
                    <a:pt x="2257" y="330"/>
                  </a:lnTo>
                  <a:lnTo>
                    <a:pt x="2253" y="324"/>
                  </a:lnTo>
                  <a:lnTo>
                    <a:pt x="2248" y="319"/>
                  </a:lnTo>
                  <a:lnTo>
                    <a:pt x="2244" y="314"/>
                  </a:lnTo>
                  <a:lnTo>
                    <a:pt x="2239" y="309"/>
                  </a:lnTo>
                  <a:lnTo>
                    <a:pt x="2233" y="306"/>
                  </a:lnTo>
                  <a:lnTo>
                    <a:pt x="2219" y="298"/>
                  </a:lnTo>
                  <a:lnTo>
                    <a:pt x="2205" y="293"/>
                  </a:lnTo>
                  <a:lnTo>
                    <a:pt x="2189" y="291"/>
                  </a:lnTo>
                  <a:lnTo>
                    <a:pt x="2173" y="290"/>
                  </a:lnTo>
                  <a:lnTo>
                    <a:pt x="2159" y="290"/>
                  </a:lnTo>
                  <a:lnTo>
                    <a:pt x="2146" y="291"/>
                  </a:lnTo>
                  <a:lnTo>
                    <a:pt x="2135" y="293"/>
                  </a:lnTo>
                  <a:lnTo>
                    <a:pt x="2125" y="296"/>
                  </a:lnTo>
                  <a:lnTo>
                    <a:pt x="2115" y="298"/>
                  </a:lnTo>
                  <a:lnTo>
                    <a:pt x="2107" y="302"/>
                  </a:lnTo>
                  <a:lnTo>
                    <a:pt x="2101" y="307"/>
                  </a:lnTo>
                  <a:lnTo>
                    <a:pt x="2095" y="313"/>
                  </a:lnTo>
                  <a:lnTo>
                    <a:pt x="2090" y="318"/>
                  </a:lnTo>
                  <a:lnTo>
                    <a:pt x="2085" y="325"/>
                  </a:lnTo>
                  <a:lnTo>
                    <a:pt x="2080" y="331"/>
                  </a:lnTo>
                  <a:lnTo>
                    <a:pt x="2076" y="338"/>
                  </a:lnTo>
                  <a:lnTo>
                    <a:pt x="2074" y="346"/>
                  </a:lnTo>
                  <a:lnTo>
                    <a:pt x="2072" y="354"/>
                  </a:lnTo>
                  <a:lnTo>
                    <a:pt x="2069" y="363"/>
                  </a:lnTo>
                  <a:lnTo>
                    <a:pt x="2068" y="371"/>
                  </a:lnTo>
                  <a:lnTo>
                    <a:pt x="1986" y="371"/>
                  </a:lnTo>
                  <a:lnTo>
                    <a:pt x="1986" y="357"/>
                  </a:lnTo>
                  <a:lnTo>
                    <a:pt x="1989" y="343"/>
                  </a:lnTo>
                  <a:lnTo>
                    <a:pt x="1992" y="330"/>
                  </a:lnTo>
                  <a:lnTo>
                    <a:pt x="1997" y="318"/>
                  </a:lnTo>
                  <a:lnTo>
                    <a:pt x="2003" y="306"/>
                  </a:lnTo>
                  <a:lnTo>
                    <a:pt x="2011" y="293"/>
                  </a:lnTo>
                  <a:lnTo>
                    <a:pt x="2019" y="282"/>
                  </a:lnTo>
                  <a:lnTo>
                    <a:pt x="2029" y="271"/>
                  </a:lnTo>
                  <a:lnTo>
                    <a:pt x="2041" y="262"/>
                  </a:lnTo>
                  <a:lnTo>
                    <a:pt x="2054" y="253"/>
                  </a:lnTo>
                  <a:lnTo>
                    <a:pt x="2069" y="246"/>
                  </a:lnTo>
                  <a:lnTo>
                    <a:pt x="2086" y="240"/>
                  </a:lnTo>
                  <a:lnTo>
                    <a:pt x="2105" y="235"/>
                  </a:lnTo>
                  <a:lnTo>
                    <a:pt x="2124" y="231"/>
                  </a:lnTo>
                  <a:lnTo>
                    <a:pt x="2146" y="230"/>
                  </a:lnTo>
                  <a:lnTo>
                    <a:pt x="2169" y="229"/>
                  </a:lnTo>
                  <a:lnTo>
                    <a:pt x="2194" y="230"/>
                  </a:lnTo>
                  <a:lnTo>
                    <a:pt x="2217" y="232"/>
                  </a:lnTo>
                  <a:lnTo>
                    <a:pt x="2237" y="236"/>
                  </a:lnTo>
                  <a:lnTo>
                    <a:pt x="2256" y="241"/>
                  </a:lnTo>
                  <a:lnTo>
                    <a:pt x="2272" y="248"/>
                  </a:lnTo>
                  <a:lnTo>
                    <a:pt x="2285" y="256"/>
                  </a:lnTo>
                  <a:lnTo>
                    <a:pt x="2291" y="260"/>
                  </a:lnTo>
                  <a:lnTo>
                    <a:pt x="2297" y="265"/>
                  </a:lnTo>
                  <a:lnTo>
                    <a:pt x="2302" y="271"/>
                  </a:lnTo>
                  <a:lnTo>
                    <a:pt x="2307" y="278"/>
                  </a:lnTo>
                  <a:lnTo>
                    <a:pt x="2314" y="290"/>
                  </a:lnTo>
                  <a:lnTo>
                    <a:pt x="2322" y="302"/>
                  </a:lnTo>
                  <a:lnTo>
                    <a:pt x="2328" y="315"/>
                  </a:lnTo>
                  <a:lnTo>
                    <a:pt x="2333" y="330"/>
                  </a:lnTo>
                  <a:lnTo>
                    <a:pt x="2336" y="345"/>
                  </a:lnTo>
                  <a:lnTo>
                    <a:pt x="2339" y="360"/>
                  </a:lnTo>
                  <a:lnTo>
                    <a:pt x="2340" y="376"/>
                  </a:lnTo>
                  <a:lnTo>
                    <a:pt x="2341" y="392"/>
                  </a:lnTo>
                  <a:lnTo>
                    <a:pt x="2341" y="750"/>
                  </a:lnTo>
                  <a:lnTo>
                    <a:pt x="2270" y="750"/>
                  </a:lnTo>
                  <a:lnTo>
                    <a:pt x="2270" y="683"/>
                  </a:lnTo>
                  <a:close/>
                  <a:moveTo>
                    <a:pt x="2227" y="519"/>
                  </a:moveTo>
                  <a:lnTo>
                    <a:pt x="2213" y="519"/>
                  </a:lnTo>
                  <a:lnTo>
                    <a:pt x="2198" y="520"/>
                  </a:lnTo>
                  <a:lnTo>
                    <a:pt x="2184" y="522"/>
                  </a:lnTo>
                  <a:lnTo>
                    <a:pt x="2170" y="525"/>
                  </a:lnTo>
                  <a:lnTo>
                    <a:pt x="2156" y="528"/>
                  </a:lnTo>
                  <a:lnTo>
                    <a:pt x="2142" y="533"/>
                  </a:lnTo>
                  <a:lnTo>
                    <a:pt x="2128" y="538"/>
                  </a:lnTo>
                  <a:lnTo>
                    <a:pt x="2114" y="544"/>
                  </a:lnTo>
                  <a:lnTo>
                    <a:pt x="2101" y="552"/>
                  </a:lnTo>
                  <a:lnTo>
                    <a:pt x="2090" y="559"/>
                  </a:lnTo>
                  <a:lnTo>
                    <a:pt x="2080" y="569"/>
                  </a:lnTo>
                  <a:lnTo>
                    <a:pt x="2072" y="578"/>
                  </a:lnTo>
                  <a:lnTo>
                    <a:pt x="2065" y="589"/>
                  </a:lnTo>
                  <a:lnTo>
                    <a:pt x="2062" y="600"/>
                  </a:lnTo>
                  <a:lnTo>
                    <a:pt x="2058" y="614"/>
                  </a:lnTo>
                  <a:lnTo>
                    <a:pt x="2058" y="627"/>
                  </a:lnTo>
                  <a:lnTo>
                    <a:pt x="2058" y="636"/>
                  </a:lnTo>
                  <a:lnTo>
                    <a:pt x="2059" y="643"/>
                  </a:lnTo>
                  <a:lnTo>
                    <a:pt x="2061" y="650"/>
                  </a:lnTo>
                  <a:lnTo>
                    <a:pt x="2063" y="657"/>
                  </a:lnTo>
                  <a:lnTo>
                    <a:pt x="2065" y="664"/>
                  </a:lnTo>
                  <a:lnTo>
                    <a:pt x="2069" y="670"/>
                  </a:lnTo>
                  <a:lnTo>
                    <a:pt x="2074" y="676"/>
                  </a:lnTo>
                  <a:lnTo>
                    <a:pt x="2079" y="681"/>
                  </a:lnTo>
                  <a:lnTo>
                    <a:pt x="2084" y="685"/>
                  </a:lnTo>
                  <a:lnTo>
                    <a:pt x="2090" y="689"/>
                  </a:lnTo>
                  <a:lnTo>
                    <a:pt x="2096" y="693"/>
                  </a:lnTo>
                  <a:lnTo>
                    <a:pt x="2102" y="695"/>
                  </a:lnTo>
                  <a:lnTo>
                    <a:pt x="2109" y="698"/>
                  </a:lnTo>
                  <a:lnTo>
                    <a:pt x="2115" y="699"/>
                  </a:lnTo>
                  <a:lnTo>
                    <a:pt x="2123" y="700"/>
                  </a:lnTo>
                  <a:lnTo>
                    <a:pt x="2130" y="700"/>
                  </a:lnTo>
                  <a:lnTo>
                    <a:pt x="2140" y="700"/>
                  </a:lnTo>
                  <a:lnTo>
                    <a:pt x="2148" y="699"/>
                  </a:lnTo>
                  <a:lnTo>
                    <a:pt x="2157" y="698"/>
                  </a:lnTo>
                  <a:lnTo>
                    <a:pt x="2167" y="695"/>
                  </a:lnTo>
                  <a:lnTo>
                    <a:pt x="2175" y="693"/>
                  </a:lnTo>
                  <a:lnTo>
                    <a:pt x="2184" y="689"/>
                  </a:lnTo>
                  <a:lnTo>
                    <a:pt x="2192" y="684"/>
                  </a:lnTo>
                  <a:lnTo>
                    <a:pt x="2201" y="679"/>
                  </a:lnTo>
                  <a:lnTo>
                    <a:pt x="2208" y="675"/>
                  </a:lnTo>
                  <a:lnTo>
                    <a:pt x="2216" y="668"/>
                  </a:lnTo>
                  <a:lnTo>
                    <a:pt x="2223" y="662"/>
                  </a:lnTo>
                  <a:lnTo>
                    <a:pt x="2229" y="656"/>
                  </a:lnTo>
                  <a:lnTo>
                    <a:pt x="2235" y="650"/>
                  </a:lnTo>
                  <a:lnTo>
                    <a:pt x="2240" y="643"/>
                  </a:lnTo>
                  <a:lnTo>
                    <a:pt x="2244" y="636"/>
                  </a:lnTo>
                  <a:lnTo>
                    <a:pt x="2247" y="628"/>
                  </a:lnTo>
                  <a:lnTo>
                    <a:pt x="2253" y="614"/>
                  </a:lnTo>
                  <a:lnTo>
                    <a:pt x="2259" y="600"/>
                  </a:lnTo>
                  <a:lnTo>
                    <a:pt x="2263" y="588"/>
                  </a:lnTo>
                  <a:lnTo>
                    <a:pt x="2266" y="577"/>
                  </a:lnTo>
                  <a:lnTo>
                    <a:pt x="2268" y="566"/>
                  </a:lnTo>
                  <a:lnTo>
                    <a:pt x="2269" y="553"/>
                  </a:lnTo>
                  <a:lnTo>
                    <a:pt x="2269" y="537"/>
                  </a:lnTo>
                  <a:lnTo>
                    <a:pt x="2270" y="519"/>
                  </a:lnTo>
                  <a:lnTo>
                    <a:pt x="2227" y="519"/>
                  </a:lnTo>
                  <a:close/>
                  <a:moveTo>
                    <a:pt x="2783" y="664"/>
                  </a:moveTo>
                  <a:lnTo>
                    <a:pt x="2779" y="672"/>
                  </a:lnTo>
                  <a:lnTo>
                    <a:pt x="2776" y="681"/>
                  </a:lnTo>
                  <a:lnTo>
                    <a:pt x="2771" y="689"/>
                  </a:lnTo>
                  <a:lnTo>
                    <a:pt x="2765" y="698"/>
                  </a:lnTo>
                  <a:lnTo>
                    <a:pt x="2752" y="713"/>
                  </a:lnTo>
                  <a:lnTo>
                    <a:pt x="2736" y="731"/>
                  </a:lnTo>
                  <a:lnTo>
                    <a:pt x="2727" y="738"/>
                  </a:lnTo>
                  <a:lnTo>
                    <a:pt x="2718" y="744"/>
                  </a:lnTo>
                  <a:lnTo>
                    <a:pt x="2707" y="749"/>
                  </a:lnTo>
                  <a:lnTo>
                    <a:pt x="2697" y="754"/>
                  </a:lnTo>
                  <a:lnTo>
                    <a:pt x="2685" y="757"/>
                  </a:lnTo>
                  <a:lnTo>
                    <a:pt x="2674" y="760"/>
                  </a:lnTo>
                  <a:lnTo>
                    <a:pt x="2661" y="761"/>
                  </a:lnTo>
                  <a:lnTo>
                    <a:pt x="2649" y="762"/>
                  </a:lnTo>
                  <a:lnTo>
                    <a:pt x="2627" y="761"/>
                  </a:lnTo>
                  <a:lnTo>
                    <a:pt x="2606" y="757"/>
                  </a:lnTo>
                  <a:lnTo>
                    <a:pt x="2597" y="755"/>
                  </a:lnTo>
                  <a:lnTo>
                    <a:pt x="2588" y="752"/>
                  </a:lnTo>
                  <a:lnTo>
                    <a:pt x="2579" y="749"/>
                  </a:lnTo>
                  <a:lnTo>
                    <a:pt x="2571" y="744"/>
                  </a:lnTo>
                  <a:lnTo>
                    <a:pt x="2563" y="740"/>
                  </a:lnTo>
                  <a:lnTo>
                    <a:pt x="2555" y="734"/>
                  </a:lnTo>
                  <a:lnTo>
                    <a:pt x="2547" y="729"/>
                  </a:lnTo>
                  <a:lnTo>
                    <a:pt x="2540" y="723"/>
                  </a:lnTo>
                  <a:lnTo>
                    <a:pt x="2534" y="716"/>
                  </a:lnTo>
                  <a:lnTo>
                    <a:pt x="2528" y="709"/>
                  </a:lnTo>
                  <a:lnTo>
                    <a:pt x="2522" y="701"/>
                  </a:lnTo>
                  <a:lnTo>
                    <a:pt x="2517" y="693"/>
                  </a:lnTo>
                  <a:lnTo>
                    <a:pt x="2506" y="675"/>
                  </a:lnTo>
                  <a:lnTo>
                    <a:pt x="2497" y="655"/>
                  </a:lnTo>
                  <a:lnTo>
                    <a:pt x="2490" y="633"/>
                  </a:lnTo>
                  <a:lnTo>
                    <a:pt x="2484" y="610"/>
                  </a:lnTo>
                  <a:lnTo>
                    <a:pt x="2479" y="584"/>
                  </a:lnTo>
                  <a:lnTo>
                    <a:pt x="2477" y="558"/>
                  </a:lnTo>
                  <a:lnTo>
                    <a:pt x="2474" y="530"/>
                  </a:lnTo>
                  <a:lnTo>
                    <a:pt x="2473" y="499"/>
                  </a:lnTo>
                  <a:lnTo>
                    <a:pt x="2474" y="471"/>
                  </a:lnTo>
                  <a:lnTo>
                    <a:pt x="2477" y="446"/>
                  </a:lnTo>
                  <a:lnTo>
                    <a:pt x="2479" y="419"/>
                  </a:lnTo>
                  <a:lnTo>
                    <a:pt x="2484" y="394"/>
                  </a:lnTo>
                  <a:lnTo>
                    <a:pt x="2490" y="371"/>
                  </a:lnTo>
                  <a:lnTo>
                    <a:pt x="2497" y="349"/>
                  </a:lnTo>
                  <a:lnTo>
                    <a:pt x="2506" y="327"/>
                  </a:lnTo>
                  <a:lnTo>
                    <a:pt x="2517" y="308"/>
                  </a:lnTo>
                  <a:lnTo>
                    <a:pt x="2522" y="298"/>
                  </a:lnTo>
                  <a:lnTo>
                    <a:pt x="2528" y="288"/>
                  </a:lnTo>
                  <a:lnTo>
                    <a:pt x="2534" y="281"/>
                  </a:lnTo>
                  <a:lnTo>
                    <a:pt x="2540" y="273"/>
                  </a:lnTo>
                  <a:lnTo>
                    <a:pt x="2547" y="267"/>
                  </a:lnTo>
                  <a:lnTo>
                    <a:pt x="2555" y="259"/>
                  </a:lnTo>
                  <a:lnTo>
                    <a:pt x="2562" y="253"/>
                  </a:lnTo>
                  <a:lnTo>
                    <a:pt x="2571" y="248"/>
                  </a:lnTo>
                  <a:lnTo>
                    <a:pt x="2579" y="243"/>
                  </a:lnTo>
                  <a:lnTo>
                    <a:pt x="2588" y="240"/>
                  </a:lnTo>
                  <a:lnTo>
                    <a:pt x="2596" y="236"/>
                  </a:lnTo>
                  <a:lnTo>
                    <a:pt x="2606" y="234"/>
                  </a:lnTo>
                  <a:lnTo>
                    <a:pt x="2616" y="231"/>
                  </a:lnTo>
                  <a:lnTo>
                    <a:pt x="2625" y="230"/>
                  </a:lnTo>
                  <a:lnTo>
                    <a:pt x="2636" y="229"/>
                  </a:lnTo>
                  <a:lnTo>
                    <a:pt x="2647" y="229"/>
                  </a:lnTo>
                  <a:lnTo>
                    <a:pt x="2662" y="229"/>
                  </a:lnTo>
                  <a:lnTo>
                    <a:pt x="2675" y="231"/>
                  </a:lnTo>
                  <a:lnTo>
                    <a:pt x="2688" y="232"/>
                  </a:lnTo>
                  <a:lnTo>
                    <a:pt x="2700" y="236"/>
                  </a:lnTo>
                  <a:lnTo>
                    <a:pt x="2711" y="240"/>
                  </a:lnTo>
                  <a:lnTo>
                    <a:pt x="2721" y="245"/>
                  </a:lnTo>
                  <a:lnTo>
                    <a:pt x="2729" y="251"/>
                  </a:lnTo>
                  <a:lnTo>
                    <a:pt x="2736" y="257"/>
                  </a:lnTo>
                  <a:lnTo>
                    <a:pt x="2751" y="271"/>
                  </a:lnTo>
                  <a:lnTo>
                    <a:pt x="2763" y="288"/>
                  </a:lnTo>
                  <a:lnTo>
                    <a:pt x="2773" y="306"/>
                  </a:lnTo>
                  <a:lnTo>
                    <a:pt x="2780" y="324"/>
                  </a:lnTo>
                  <a:lnTo>
                    <a:pt x="2783" y="12"/>
                  </a:lnTo>
                  <a:lnTo>
                    <a:pt x="2856" y="12"/>
                  </a:lnTo>
                  <a:lnTo>
                    <a:pt x="2856" y="750"/>
                  </a:lnTo>
                  <a:lnTo>
                    <a:pt x="2783" y="750"/>
                  </a:lnTo>
                  <a:lnTo>
                    <a:pt x="2783" y="664"/>
                  </a:lnTo>
                  <a:close/>
                  <a:moveTo>
                    <a:pt x="2663" y="700"/>
                  </a:moveTo>
                  <a:lnTo>
                    <a:pt x="2677" y="700"/>
                  </a:lnTo>
                  <a:lnTo>
                    <a:pt x="2690" y="696"/>
                  </a:lnTo>
                  <a:lnTo>
                    <a:pt x="2702" y="692"/>
                  </a:lnTo>
                  <a:lnTo>
                    <a:pt x="2713" y="684"/>
                  </a:lnTo>
                  <a:lnTo>
                    <a:pt x="2724" y="676"/>
                  </a:lnTo>
                  <a:lnTo>
                    <a:pt x="2734" y="665"/>
                  </a:lnTo>
                  <a:lnTo>
                    <a:pt x="2744" y="651"/>
                  </a:lnTo>
                  <a:lnTo>
                    <a:pt x="2751" y="637"/>
                  </a:lnTo>
                  <a:lnTo>
                    <a:pt x="2758" y="621"/>
                  </a:lnTo>
                  <a:lnTo>
                    <a:pt x="2766" y="604"/>
                  </a:lnTo>
                  <a:lnTo>
                    <a:pt x="2771" y="588"/>
                  </a:lnTo>
                  <a:lnTo>
                    <a:pt x="2776" y="570"/>
                  </a:lnTo>
                  <a:lnTo>
                    <a:pt x="2779" y="553"/>
                  </a:lnTo>
                  <a:lnTo>
                    <a:pt x="2782" y="534"/>
                  </a:lnTo>
                  <a:lnTo>
                    <a:pt x="2783" y="516"/>
                  </a:lnTo>
                  <a:lnTo>
                    <a:pt x="2783" y="498"/>
                  </a:lnTo>
                  <a:lnTo>
                    <a:pt x="2783" y="475"/>
                  </a:lnTo>
                  <a:lnTo>
                    <a:pt x="2782" y="454"/>
                  </a:lnTo>
                  <a:lnTo>
                    <a:pt x="2779" y="435"/>
                  </a:lnTo>
                  <a:lnTo>
                    <a:pt x="2776" y="415"/>
                  </a:lnTo>
                  <a:lnTo>
                    <a:pt x="2771" y="397"/>
                  </a:lnTo>
                  <a:lnTo>
                    <a:pt x="2766" y="380"/>
                  </a:lnTo>
                  <a:lnTo>
                    <a:pt x="2760" y="364"/>
                  </a:lnTo>
                  <a:lnTo>
                    <a:pt x="2752" y="348"/>
                  </a:lnTo>
                  <a:lnTo>
                    <a:pt x="2744" y="335"/>
                  </a:lnTo>
                  <a:lnTo>
                    <a:pt x="2735" y="323"/>
                  </a:lnTo>
                  <a:lnTo>
                    <a:pt x="2725" y="313"/>
                  </a:lnTo>
                  <a:lnTo>
                    <a:pt x="2715" y="304"/>
                  </a:lnTo>
                  <a:lnTo>
                    <a:pt x="2704" y="298"/>
                  </a:lnTo>
                  <a:lnTo>
                    <a:pt x="2691" y="293"/>
                  </a:lnTo>
                  <a:lnTo>
                    <a:pt x="2679" y="291"/>
                  </a:lnTo>
                  <a:lnTo>
                    <a:pt x="2666" y="290"/>
                  </a:lnTo>
                  <a:lnTo>
                    <a:pt x="2651" y="291"/>
                  </a:lnTo>
                  <a:lnTo>
                    <a:pt x="2638" y="293"/>
                  </a:lnTo>
                  <a:lnTo>
                    <a:pt x="2625" y="298"/>
                  </a:lnTo>
                  <a:lnTo>
                    <a:pt x="2614" y="306"/>
                  </a:lnTo>
                  <a:lnTo>
                    <a:pt x="2605" y="314"/>
                  </a:lnTo>
                  <a:lnTo>
                    <a:pt x="2595" y="325"/>
                  </a:lnTo>
                  <a:lnTo>
                    <a:pt x="2588" y="338"/>
                  </a:lnTo>
                  <a:lnTo>
                    <a:pt x="2582" y="353"/>
                  </a:lnTo>
                  <a:lnTo>
                    <a:pt x="2575" y="369"/>
                  </a:lnTo>
                  <a:lnTo>
                    <a:pt x="2571" y="387"/>
                  </a:lnTo>
                  <a:lnTo>
                    <a:pt x="2567" y="405"/>
                  </a:lnTo>
                  <a:lnTo>
                    <a:pt x="2563" y="425"/>
                  </a:lnTo>
                  <a:lnTo>
                    <a:pt x="2561" y="446"/>
                  </a:lnTo>
                  <a:lnTo>
                    <a:pt x="2558" y="468"/>
                  </a:lnTo>
                  <a:lnTo>
                    <a:pt x="2557" y="489"/>
                  </a:lnTo>
                  <a:lnTo>
                    <a:pt x="2557" y="514"/>
                  </a:lnTo>
                  <a:lnTo>
                    <a:pt x="2557" y="532"/>
                  </a:lnTo>
                  <a:lnTo>
                    <a:pt x="2558" y="550"/>
                  </a:lnTo>
                  <a:lnTo>
                    <a:pt x="2560" y="567"/>
                  </a:lnTo>
                  <a:lnTo>
                    <a:pt x="2562" y="583"/>
                  </a:lnTo>
                  <a:lnTo>
                    <a:pt x="2566" y="600"/>
                  </a:lnTo>
                  <a:lnTo>
                    <a:pt x="2569" y="615"/>
                  </a:lnTo>
                  <a:lnTo>
                    <a:pt x="2573" y="631"/>
                  </a:lnTo>
                  <a:lnTo>
                    <a:pt x="2578" y="644"/>
                  </a:lnTo>
                  <a:lnTo>
                    <a:pt x="2584" y="657"/>
                  </a:lnTo>
                  <a:lnTo>
                    <a:pt x="2591" y="670"/>
                  </a:lnTo>
                  <a:lnTo>
                    <a:pt x="2600" y="678"/>
                  </a:lnTo>
                  <a:lnTo>
                    <a:pt x="2610" y="687"/>
                  </a:lnTo>
                  <a:lnTo>
                    <a:pt x="2621" y="693"/>
                  </a:lnTo>
                  <a:lnTo>
                    <a:pt x="2634" y="698"/>
                  </a:lnTo>
                  <a:lnTo>
                    <a:pt x="2647" y="700"/>
                  </a:lnTo>
                  <a:lnTo>
                    <a:pt x="2663" y="700"/>
                  </a:lnTo>
                  <a:close/>
                  <a:moveTo>
                    <a:pt x="2990" y="497"/>
                  </a:moveTo>
                  <a:lnTo>
                    <a:pt x="2990" y="466"/>
                  </a:lnTo>
                  <a:lnTo>
                    <a:pt x="2993" y="438"/>
                  </a:lnTo>
                  <a:lnTo>
                    <a:pt x="2998" y="413"/>
                  </a:lnTo>
                  <a:lnTo>
                    <a:pt x="3002" y="387"/>
                  </a:lnTo>
                  <a:lnTo>
                    <a:pt x="3010" y="364"/>
                  </a:lnTo>
                  <a:lnTo>
                    <a:pt x="3018" y="342"/>
                  </a:lnTo>
                  <a:lnTo>
                    <a:pt x="3028" y="321"/>
                  </a:lnTo>
                  <a:lnTo>
                    <a:pt x="3040" y="302"/>
                  </a:lnTo>
                  <a:lnTo>
                    <a:pt x="3046" y="293"/>
                  </a:lnTo>
                  <a:lnTo>
                    <a:pt x="3054" y="285"/>
                  </a:lnTo>
                  <a:lnTo>
                    <a:pt x="3061" y="278"/>
                  </a:lnTo>
                  <a:lnTo>
                    <a:pt x="3070" y="270"/>
                  </a:lnTo>
                  <a:lnTo>
                    <a:pt x="3077" y="264"/>
                  </a:lnTo>
                  <a:lnTo>
                    <a:pt x="3085" y="258"/>
                  </a:lnTo>
                  <a:lnTo>
                    <a:pt x="3095" y="252"/>
                  </a:lnTo>
                  <a:lnTo>
                    <a:pt x="3105" y="247"/>
                  </a:lnTo>
                  <a:lnTo>
                    <a:pt x="3115" y="243"/>
                  </a:lnTo>
                  <a:lnTo>
                    <a:pt x="3126" y="240"/>
                  </a:lnTo>
                  <a:lnTo>
                    <a:pt x="3137" y="236"/>
                  </a:lnTo>
                  <a:lnTo>
                    <a:pt x="3148" y="234"/>
                  </a:lnTo>
                  <a:lnTo>
                    <a:pt x="3172" y="230"/>
                  </a:lnTo>
                  <a:lnTo>
                    <a:pt x="3198" y="229"/>
                  </a:lnTo>
                  <a:lnTo>
                    <a:pt x="3211" y="229"/>
                  </a:lnTo>
                  <a:lnTo>
                    <a:pt x="3223" y="230"/>
                  </a:lnTo>
                  <a:lnTo>
                    <a:pt x="3235" y="231"/>
                  </a:lnTo>
                  <a:lnTo>
                    <a:pt x="3248" y="234"/>
                  </a:lnTo>
                  <a:lnTo>
                    <a:pt x="3260" y="236"/>
                  </a:lnTo>
                  <a:lnTo>
                    <a:pt x="3271" y="240"/>
                  </a:lnTo>
                  <a:lnTo>
                    <a:pt x="3281" y="243"/>
                  </a:lnTo>
                  <a:lnTo>
                    <a:pt x="3292" y="247"/>
                  </a:lnTo>
                  <a:lnTo>
                    <a:pt x="3300" y="252"/>
                  </a:lnTo>
                  <a:lnTo>
                    <a:pt x="3310" y="258"/>
                  </a:lnTo>
                  <a:lnTo>
                    <a:pt x="3318" y="264"/>
                  </a:lnTo>
                  <a:lnTo>
                    <a:pt x="3327" y="270"/>
                  </a:lnTo>
                  <a:lnTo>
                    <a:pt x="3335" y="278"/>
                  </a:lnTo>
                  <a:lnTo>
                    <a:pt x="3343" y="285"/>
                  </a:lnTo>
                  <a:lnTo>
                    <a:pt x="3350" y="293"/>
                  </a:lnTo>
                  <a:lnTo>
                    <a:pt x="3356" y="303"/>
                  </a:lnTo>
                  <a:lnTo>
                    <a:pt x="3368" y="321"/>
                  </a:lnTo>
                  <a:lnTo>
                    <a:pt x="3379" y="342"/>
                  </a:lnTo>
                  <a:lnTo>
                    <a:pt x="3388" y="364"/>
                  </a:lnTo>
                  <a:lnTo>
                    <a:pt x="3395" y="388"/>
                  </a:lnTo>
                  <a:lnTo>
                    <a:pt x="3400" y="413"/>
                  </a:lnTo>
                  <a:lnTo>
                    <a:pt x="3405" y="439"/>
                  </a:lnTo>
                  <a:lnTo>
                    <a:pt x="3407" y="468"/>
                  </a:lnTo>
                  <a:lnTo>
                    <a:pt x="3407" y="497"/>
                  </a:lnTo>
                  <a:lnTo>
                    <a:pt x="3407" y="526"/>
                  </a:lnTo>
                  <a:lnTo>
                    <a:pt x="3405" y="553"/>
                  </a:lnTo>
                  <a:lnTo>
                    <a:pt x="3400" y="580"/>
                  </a:lnTo>
                  <a:lnTo>
                    <a:pt x="3395" y="604"/>
                  </a:lnTo>
                  <a:lnTo>
                    <a:pt x="3388" y="628"/>
                  </a:lnTo>
                  <a:lnTo>
                    <a:pt x="3379" y="650"/>
                  </a:lnTo>
                  <a:lnTo>
                    <a:pt x="3368" y="670"/>
                  </a:lnTo>
                  <a:lnTo>
                    <a:pt x="3356" y="689"/>
                  </a:lnTo>
                  <a:lnTo>
                    <a:pt x="3350" y="698"/>
                  </a:lnTo>
                  <a:lnTo>
                    <a:pt x="3343" y="706"/>
                  </a:lnTo>
                  <a:lnTo>
                    <a:pt x="3335" y="713"/>
                  </a:lnTo>
                  <a:lnTo>
                    <a:pt x="3327" y="721"/>
                  </a:lnTo>
                  <a:lnTo>
                    <a:pt x="3318" y="727"/>
                  </a:lnTo>
                  <a:lnTo>
                    <a:pt x="3310" y="733"/>
                  </a:lnTo>
                  <a:lnTo>
                    <a:pt x="3300" y="739"/>
                  </a:lnTo>
                  <a:lnTo>
                    <a:pt x="3292" y="744"/>
                  </a:lnTo>
                  <a:lnTo>
                    <a:pt x="3281" y="748"/>
                  </a:lnTo>
                  <a:lnTo>
                    <a:pt x="3271" y="751"/>
                  </a:lnTo>
                  <a:lnTo>
                    <a:pt x="3260" y="755"/>
                  </a:lnTo>
                  <a:lnTo>
                    <a:pt x="3248" y="757"/>
                  </a:lnTo>
                  <a:lnTo>
                    <a:pt x="3223" y="761"/>
                  </a:lnTo>
                  <a:lnTo>
                    <a:pt x="3198" y="762"/>
                  </a:lnTo>
                  <a:lnTo>
                    <a:pt x="3184" y="761"/>
                  </a:lnTo>
                  <a:lnTo>
                    <a:pt x="3172" y="761"/>
                  </a:lnTo>
                  <a:lnTo>
                    <a:pt x="3160" y="759"/>
                  </a:lnTo>
                  <a:lnTo>
                    <a:pt x="3148" y="757"/>
                  </a:lnTo>
                  <a:lnTo>
                    <a:pt x="3137" y="755"/>
                  </a:lnTo>
                  <a:lnTo>
                    <a:pt x="3126" y="751"/>
                  </a:lnTo>
                  <a:lnTo>
                    <a:pt x="3116" y="748"/>
                  </a:lnTo>
                  <a:lnTo>
                    <a:pt x="3105" y="743"/>
                  </a:lnTo>
                  <a:lnTo>
                    <a:pt x="3096" y="739"/>
                  </a:lnTo>
                  <a:lnTo>
                    <a:pt x="3087" y="733"/>
                  </a:lnTo>
                  <a:lnTo>
                    <a:pt x="3078" y="727"/>
                  </a:lnTo>
                  <a:lnTo>
                    <a:pt x="3070" y="721"/>
                  </a:lnTo>
                  <a:lnTo>
                    <a:pt x="3062" y="713"/>
                  </a:lnTo>
                  <a:lnTo>
                    <a:pt x="3055" y="705"/>
                  </a:lnTo>
                  <a:lnTo>
                    <a:pt x="3048" y="698"/>
                  </a:lnTo>
                  <a:lnTo>
                    <a:pt x="3040" y="688"/>
                  </a:lnTo>
                  <a:lnTo>
                    <a:pt x="3029" y="670"/>
                  </a:lnTo>
                  <a:lnTo>
                    <a:pt x="3018" y="649"/>
                  </a:lnTo>
                  <a:lnTo>
                    <a:pt x="3010" y="627"/>
                  </a:lnTo>
                  <a:lnTo>
                    <a:pt x="3002" y="604"/>
                  </a:lnTo>
                  <a:lnTo>
                    <a:pt x="2998" y="580"/>
                  </a:lnTo>
                  <a:lnTo>
                    <a:pt x="2993" y="553"/>
                  </a:lnTo>
                  <a:lnTo>
                    <a:pt x="2990" y="525"/>
                  </a:lnTo>
                  <a:lnTo>
                    <a:pt x="2990" y="497"/>
                  </a:lnTo>
                  <a:close/>
                  <a:moveTo>
                    <a:pt x="3198" y="700"/>
                  </a:moveTo>
                  <a:lnTo>
                    <a:pt x="3212" y="700"/>
                  </a:lnTo>
                  <a:lnTo>
                    <a:pt x="3227" y="698"/>
                  </a:lnTo>
                  <a:lnTo>
                    <a:pt x="3239" y="693"/>
                  </a:lnTo>
                  <a:lnTo>
                    <a:pt x="3251" y="687"/>
                  </a:lnTo>
                  <a:lnTo>
                    <a:pt x="3264" y="679"/>
                  </a:lnTo>
                  <a:lnTo>
                    <a:pt x="3273" y="671"/>
                  </a:lnTo>
                  <a:lnTo>
                    <a:pt x="3283" y="659"/>
                  </a:lnTo>
                  <a:lnTo>
                    <a:pt x="3292" y="647"/>
                  </a:lnTo>
                  <a:lnTo>
                    <a:pt x="3299" y="632"/>
                  </a:lnTo>
                  <a:lnTo>
                    <a:pt x="3306" y="617"/>
                  </a:lnTo>
                  <a:lnTo>
                    <a:pt x="3311" y="600"/>
                  </a:lnTo>
                  <a:lnTo>
                    <a:pt x="3316" y="582"/>
                  </a:lnTo>
                  <a:lnTo>
                    <a:pt x="3320" y="562"/>
                  </a:lnTo>
                  <a:lnTo>
                    <a:pt x="3322" y="542"/>
                  </a:lnTo>
                  <a:lnTo>
                    <a:pt x="3323" y="519"/>
                  </a:lnTo>
                  <a:lnTo>
                    <a:pt x="3325" y="496"/>
                  </a:lnTo>
                  <a:lnTo>
                    <a:pt x="3323" y="471"/>
                  </a:lnTo>
                  <a:lnTo>
                    <a:pt x="3322" y="449"/>
                  </a:lnTo>
                  <a:lnTo>
                    <a:pt x="3320" y="427"/>
                  </a:lnTo>
                  <a:lnTo>
                    <a:pt x="3316" y="408"/>
                  </a:lnTo>
                  <a:lnTo>
                    <a:pt x="3312" y="390"/>
                  </a:lnTo>
                  <a:lnTo>
                    <a:pt x="3306" y="373"/>
                  </a:lnTo>
                  <a:lnTo>
                    <a:pt x="3300" y="358"/>
                  </a:lnTo>
                  <a:lnTo>
                    <a:pt x="3293" y="343"/>
                  </a:lnTo>
                  <a:lnTo>
                    <a:pt x="3284" y="331"/>
                  </a:lnTo>
                  <a:lnTo>
                    <a:pt x="3274" y="320"/>
                  </a:lnTo>
                  <a:lnTo>
                    <a:pt x="3265" y="310"/>
                  </a:lnTo>
                  <a:lnTo>
                    <a:pt x="3253" y="303"/>
                  </a:lnTo>
                  <a:lnTo>
                    <a:pt x="3240" y="297"/>
                  </a:lnTo>
                  <a:lnTo>
                    <a:pt x="3227" y="293"/>
                  </a:lnTo>
                  <a:lnTo>
                    <a:pt x="3213" y="291"/>
                  </a:lnTo>
                  <a:lnTo>
                    <a:pt x="3198" y="290"/>
                  </a:lnTo>
                  <a:lnTo>
                    <a:pt x="3183" y="291"/>
                  </a:lnTo>
                  <a:lnTo>
                    <a:pt x="3170" y="293"/>
                  </a:lnTo>
                  <a:lnTo>
                    <a:pt x="3156" y="297"/>
                  </a:lnTo>
                  <a:lnTo>
                    <a:pt x="3144" y="303"/>
                  </a:lnTo>
                  <a:lnTo>
                    <a:pt x="3133" y="310"/>
                  </a:lnTo>
                  <a:lnTo>
                    <a:pt x="3123" y="320"/>
                  </a:lnTo>
                  <a:lnTo>
                    <a:pt x="3113" y="331"/>
                  </a:lnTo>
                  <a:lnTo>
                    <a:pt x="3105" y="343"/>
                  </a:lnTo>
                  <a:lnTo>
                    <a:pt x="3098" y="358"/>
                  </a:lnTo>
                  <a:lnTo>
                    <a:pt x="3091" y="373"/>
                  </a:lnTo>
                  <a:lnTo>
                    <a:pt x="3085" y="390"/>
                  </a:lnTo>
                  <a:lnTo>
                    <a:pt x="3082" y="408"/>
                  </a:lnTo>
                  <a:lnTo>
                    <a:pt x="3078" y="427"/>
                  </a:lnTo>
                  <a:lnTo>
                    <a:pt x="3076" y="449"/>
                  </a:lnTo>
                  <a:lnTo>
                    <a:pt x="3074" y="471"/>
                  </a:lnTo>
                  <a:lnTo>
                    <a:pt x="3073" y="496"/>
                  </a:lnTo>
                  <a:lnTo>
                    <a:pt x="3074" y="519"/>
                  </a:lnTo>
                  <a:lnTo>
                    <a:pt x="3076" y="542"/>
                  </a:lnTo>
                  <a:lnTo>
                    <a:pt x="3078" y="562"/>
                  </a:lnTo>
                  <a:lnTo>
                    <a:pt x="3082" y="582"/>
                  </a:lnTo>
                  <a:lnTo>
                    <a:pt x="3085" y="600"/>
                  </a:lnTo>
                  <a:lnTo>
                    <a:pt x="3091" y="617"/>
                  </a:lnTo>
                  <a:lnTo>
                    <a:pt x="3098" y="632"/>
                  </a:lnTo>
                  <a:lnTo>
                    <a:pt x="3105" y="647"/>
                  </a:lnTo>
                  <a:lnTo>
                    <a:pt x="3113" y="659"/>
                  </a:lnTo>
                  <a:lnTo>
                    <a:pt x="3123" y="671"/>
                  </a:lnTo>
                  <a:lnTo>
                    <a:pt x="3133" y="679"/>
                  </a:lnTo>
                  <a:lnTo>
                    <a:pt x="3144" y="687"/>
                  </a:lnTo>
                  <a:lnTo>
                    <a:pt x="3156" y="693"/>
                  </a:lnTo>
                  <a:lnTo>
                    <a:pt x="3170" y="698"/>
                  </a:lnTo>
                  <a:lnTo>
                    <a:pt x="3183" y="700"/>
                  </a:lnTo>
                  <a:lnTo>
                    <a:pt x="3198" y="700"/>
                  </a:lnTo>
                  <a:close/>
                  <a:moveTo>
                    <a:pt x="3542" y="241"/>
                  </a:moveTo>
                  <a:lnTo>
                    <a:pt x="3615" y="241"/>
                  </a:lnTo>
                  <a:lnTo>
                    <a:pt x="3615" y="340"/>
                  </a:lnTo>
                  <a:lnTo>
                    <a:pt x="3622" y="325"/>
                  </a:lnTo>
                  <a:lnTo>
                    <a:pt x="3630" y="312"/>
                  </a:lnTo>
                  <a:lnTo>
                    <a:pt x="3638" y="301"/>
                  </a:lnTo>
                  <a:lnTo>
                    <a:pt x="3647" y="290"/>
                  </a:lnTo>
                  <a:lnTo>
                    <a:pt x="3656" y="279"/>
                  </a:lnTo>
                  <a:lnTo>
                    <a:pt x="3666" y="270"/>
                  </a:lnTo>
                  <a:lnTo>
                    <a:pt x="3676" y="262"/>
                  </a:lnTo>
                  <a:lnTo>
                    <a:pt x="3687" y="256"/>
                  </a:lnTo>
                  <a:lnTo>
                    <a:pt x="3698" y="250"/>
                  </a:lnTo>
                  <a:lnTo>
                    <a:pt x="3709" y="243"/>
                  </a:lnTo>
                  <a:lnTo>
                    <a:pt x="3721" y="239"/>
                  </a:lnTo>
                  <a:lnTo>
                    <a:pt x="3733" y="235"/>
                  </a:lnTo>
                  <a:lnTo>
                    <a:pt x="3745" y="232"/>
                  </a:lnTo>
                  <a:lnTo>
                    <a:pt x="3759" y="230"/>
                  </a:lnTo>
                  <a:lnTo>
                    <a:pt x="3772" y="229"/>
                  </a:lnTo>
                  <a:lnTo>
                    <a:pt x="3787" y="229"/>
                  </a:lnTo>
                  <a:lnTo>
                    <a:pt x="3787" y="307"/>
                  </a:lnTo>
                  <a:lnTo>
                    <a:pt x="3766" y="308"/>
                  </a:lnTo>
                  <a:lnTo>
                    <a:pt x="3748" y="310"/>
                  </a:lnTo>
                  <a:lnTo>
                    <a:pt x="3730" y="315"/>
                  </a:lnTo>
                  <a:lnTo>
                    <a:pt x="3712" y="323"/>
                  </a:lnTo>
                  <a:lnTo>
                    <a:pt x="3697" y="331"/>
                  </a:lnTo>
                  <a:lnTo>
                    <a:pt x="3683" y="342"/>
                  </a:lnTo>
                  <a:lnTo>
                    <a:pt x="3670" y="355"/>
                  </a:lnTo>
                  <a:lnTo>
                    <a:pt x="3659" y="370"/>
                  </a:lnTo>
                  <a:lnTo>
                    <a:pt x="3648" y="386"/>
                  </a:lnTo>
                  <a:lnTo>
                    <a:pt x="3639" y="404"/>
                  </a:lnTo>
                  <a:lnTo>
                    <a:pt x="3632" y="422"/>
                  </a:lnTo>
                  <a:lnTo>
                    <a:pt x="3626" y="443"/>
                  </a:lnTo>
                  <a:lnTo>
                    <a:pt x="3621" y="465"/>
                  </a:lnTo>
                  <a:lnTo>
                    <a:pt x="3617" y="488"/>
                  </a:lnTo>
                  <a:lnTo>
                    <a:pt x="3615" y="513"/>
                  </a:lnTo>
                  <a:lnTo>
                    <a:pt x="3615" y="539"/>
                  </a:lnTo>
                  <a:lnTo>
                    <a:pt x="3615" y="750"/>
                  </a:lnTo>
                  <a:lnTo>
                    <a:pt x="3542" y="750"/>
                  </a:lnTo>
                  <a:lnTo>
                    <a:pt x="3542" y="241"/>
                  </a:lnTo>
                  <a:close/>
                  <a:moveTo>
                    <a:pt x="4210" y="746"/>
                  </a:moveTo>
                  <a:lnTo>
                    <a:pt x="4185" y="754"/>
                  </a:lnTo>
                  <a:lnTo>
                    <a:pt x="4157" y="757"/>
                  </a:lnTo>
                  <a:lnTo>
                    <a:pt x="4126" y="761"/>
                  </a:lnTo>
                  <a:lnTo>
                    <a:pt x="4093" y="762"/>
                  </a:lnTo>
                  <a:lnTo>
                    <a:pt x="4064" y="761"/>
                  </a:lnTo>
                  <a:lnTo>
                    <a:pt x="4037" y="757"/>
                  </a:lnTo>
                  <a:lnTo>
                    <a:pt x="4024" y="755"/>
                  </a:lnTo>
                  <a:lnTo>
                    <a:pt x="4011" y="751"/>
                  </a:lnTo>
                  <a:lnTo>
                    <a:pt x="3999" y="748"/>
                  </a:lnTo>
                  <a:lnTo>
                    <a:pt x="3987" y="744"/>
                  </a:lnTo>
                  <a:lnTo>
                    <a:pt x="3976" y="739"/>
                  </a:lnTo>
                  <a:lnTo>
                    <a:pt x="3965" y="734"/>
                  </a:lnTo>
                  <a:lnTo>
                    <a:pt x="3955" y="728"/>
                  </a:lnTo>
                  <a:lnTo>
                    <a:pt x="3944" y="721"/>
                  </a:lnTo>
                  <a:lnTo>
                    <a:pt x="3936" y="715"/>
                  </a:lnTo>
                  <a:lnTo>
                    <a:pt x="3926" y="706"/>
                  </a:lnTo>
                  <a:lnTo>
                    <a:pt x="3917" y="699"/>
                  </a:lnTo>
                  <a:lnTo>
                    <a:pt x="3909" y="690"/>
                  </a:lnTo>
                  <a:lnTo>
                    <a:pt x="3902" y="681"/>
                  </a:lnTo>
                  <a:lnTo>
                    <a:pt x="3894" y="671"/>
                  </a:lnTo>
                  <a:lnTo>
                    <a:pt x="3887" y="661"/>
                  </a:lnTo>
                  <a:lnTo>
                    <a:pt x="3881" y="650"/>
                  </a:lnTo>
                  <a:lnTo>
                    <a:pt x="3875" y="638"/>
                  </a:lnTo>
                  <a:lnTo>
                    <a:pt x="3870" y="627"/>
                  </a:lnTo>
                  <a:lnTo>
                    <a:pt x="3865" y="614"/>
                  </a:lnTo>
                  <a:lnTo>
                    <a:pt x="3861" y="601"/>
                  </a:lnTo>
                  <a:lnTo>
                    <a:pt x="3854" y="573"/>
                  </a:lnTo>
                  <a:lnTo>
                    <a:pt x="3849" y="544"/>
                  </a:lnTo>
                  <a:lnTo>
                    <a:pt x="3845" y="513"/>
                  </a:lnTo>
                  <a:lnTo>
                    <a:pt x="3845" y="478"/>
                  </a:lnTo>
                  <a:lnTo>
                    <a:pt x="3845" y="449"/>
                  </a:lnTo>
                  <a:lnTo>
                    <a:pt x="3848" y="422"/>
                  </a:lnTo>
                  <a:lnTo>
                    <a:pt x="3852" y="397"/>
                  </a:lnTo>
                  <a:lnTo>
                    <a:pt x="3858" y="374"/>
                  </a:lnTo>
                  <a:lnTo>
                    <a:pt x="3864" y="352"/>
                  </a:lnTo>
                  <a:lnTo>
                    <a:pt x="3872" y="331"/>
                  </a:lnTo>
                  <a:lnTo>
                    <a:pt x="3882" y="312"/>
                  </a:lnTo>
                  <a:lnTo>
                    <a:pt x="3894" y="295"/>
                  </a:lnTo>
                  <a:lnTo>
                    <a:pt x="3900" y="287"/>
                  </a:lnTo>
                  <a:lnTo>
                    <a:pt x="3908" y="279"/>
                  </a:lnTo>
                  <a:lnTo>
                    <a:pt x="3915" y="273"/>
                  </a:lnTo>
                  <a:lnTo>
                    <a:pt x="3922" y="265"/>
                  </a:lnTo>
                  <a:lnTo>
                    <a:pt x="3930" y="260"/>
                  </a:lnTo>
                  <a:lnTo>
                    <a:pt x="3938" y="254"/>
                  </a:lnTo>
                  <a:lnTo>
                    <a:pt x="3947" y="250"/>
                  </a:lnTo>
                  <a:lnTo>
                    <a:pt x="3956" y="246"/>
                  </a:lnTo>
                  <a:lnTo>
                    <a:pt x="3976" y="239"/>
                  </a:lnTo>
                  <a:lnTo>
                    <a:pt x="3997" y="232"/>
                  </a:lnTo>
                  <a:lnTo>
                    <a:pt x="4020" y="230"/>
                  </a:lnTo>
                  <a:lnTo>
                    <a:pt x="4044" y="229"/>
                  </a:lnTo>
                  <a:lnTo>
                    <a:pt x="4065" y="230"/>
                  </a:lnTo>
                  <a:lnTo>
                    <a:pt x="4085" y="232"/>
                  </a:lnTo>
                  <a:lnTo>
                    <a:pt x="4104" y="236"/>
                  </a:lnTo>
                  <a:lnTo>
                    <a:pt x="4121" y="242"/>
                  </a:lnTo>
                  <a:lnTo>
                    <a:pt x="4137" y="250"/>
                  </a:lnTo>
                  <a:lnTo>
                    <a:pt x="4152" y="259"/>
                  </a:lnTo>
                  <a:lnTo>
                    <a:pt x="4165" y="269"/>
                  </a:lnTo>
                  <a:lnTo>
                    <a:pt x="4176" y="282"/>
                  </a:lnTo>
                  <a:lnTo>
                    <a:pt x="4187" y="296"/>
                  </a:lnTo>
                  <a:lnTo>
                    <a:pt x="4197" y="310"/>
                  </a:lnTo>
                  <a:lnTo>
                    <a:pt x="4204" y="326"/>
                  </a:lnTo>
                  <a:lnTo>
                    <a:pt x="4210" y="343"/>
                  </a:lnTo>
                  <a:lnTo>
                    <a:pt x="4215" y="362"/>
                  </a:lnTo>
                  <a:lnTo>
                    <a:pt x="4219" y="381"/>
                  </a:lnTo>
                  <a:lnTo>
                    <a:pt x="4221" y="401"/>
                  </a:lnTo>
                  <a:lnTo>
                    <a:pt x="4222" y="422"/>
                  </a:lnTo>
                  <a:lnTo>
                    <a:pt x="4222" y="447"/>
                  </a:lnTo>
                  <a:lnTo>
                    <a:pt x="3928" y="447"/>
                  </a:lnTo>
                  <a:lnTo>
                    <a:pt x="3928" y="477"/>
                  </a:lnTo>
                  <a:lnTo>
                    <a:pt x="3930" y="497"/>
                  </a:lnTo>
                  <a:lnTo>
                    <a:pt x="3931" y="516"/>
                  </a:lnTo>
                  <a:lnTo>
                    <a:pt x="3935" y="536"/>
                  </a:lnTo>
                  <a:lnTo>
                    <a:pt x="3939" y="554"/>
                  </a:lnTo>
                  <a:lnTo>
                    <a:pt x="3944" y="573"/>
                  </a:lnTo>
                  <a:lnTo>
                    <a:pt x="3952" y="592"/>
                  </a:lnTo>
                  <a:lnTo>
                    <a:pt x="3960" y="610"/>
                  </a:lnTo>
                  <a:lnTo>
                    <a:pt x="3970" y="628"/>
                  </a:lnTo>
                  <a:lnTo>
                    <a:pt x="3976" y="637"/>
                  </a:lnTo>
                  <a:lnTo>
                    <a:pt x="3982" y="645"/>
                  </a:lnTo>
                  <a:lnTo>
                    <a:pt x="3988" y="653"/>
                  </a:lnTo>
                  <a:lnTo>
                    <a:pt x="3994" y="660"/>
                  </a:lnTo>
                  <a:lnTo>
                    <a:pt x="4002" y="666"/>
                  </a:lnTo>
                  <a:lnTo>
                    <a:pt x="4009" y="672"/>
                  </a:lnTo>
                  <a:lnTo>
                    <a:pt x="4017" y="678"/>
                  </a:lnTo>
                  <a:lnTo>
                    <a:pt x="4026" y="683"/>
                  </a:lnTo>
                  <a:lnTo>
                    <a:pt x="4035" y="687"/>
                  </a:lnTo>
                  <a:lnTo>
                    <a:pt x="4044" y="690"/>
                  </a:lnTo>
                  <a:lnTo>
                    <a:pt x="4054" y="694"/>
                  </a:lnTo>
                  <a:lnTo>
                    <a:pt x="4064" y="696"/>
                  </a:lnTo>
                  <a:lnTo>
                    <a:pt x="4086" y="700"/>
                  </a:lnTo>
                  <a:lnTo>
                    <a:pt x="4109" y="700"/>
                  </a:lnTo>
                  <a:lnTo>
                    <a:pt x="4128" y="700"/>
                  </a:lnTo>
                  <a:lnTo>
                    <a:pt x="4144" y="700"/>
                  </a:lnTo>
                  <a:lnTo>
                    <a:pt x="4159" y="698"/>
                  </a:lnTo>
                  <a:lnTo>
                    <a:pt x="4171" y="696"/>
                  </a:lnTo>
                  <a:lnTo>
                    <a:pt x="4185" y="693"/>
                  </a:lnTo>
                  <a:lnTo>
                    <a:pt x="4194" y="690"/>
                  </a:lnTo>
                  <a:lnTo>
                    <a:pt x="4203" y="688"/>
                  </a:lnTo>
                  <a:lnTo>
                    <a:pt x="4210" y="687"/>
                  </a:lnTo>
                  <a:lnTo>
                    <a:pt x="4210" y="746"/>
                  </a:lnTo>
                  <a:close/>
                  <a:moveTo>
                    <a:pt x="4138" y="386"/>
                  </a:moveTo>
                  <a:lnTo>
                    <a:pt x="4138" y="377"/>
                  </a:lnTo>
                  <a:lnTo>
                    <a:pt x="4137" y="369"/>
                  </a:lnTo>
                  <a:lnTo>
                    <a:pt x="4135" y="360"/>
                  </a:lnTo>
                  <a:lnTo>
                    <a:pt x="4132" y="353"/>
                  </a:lnTo>
                  <a:lnTo>
                    <a:pt x="4130" y="345"/>
                  </a:lnTo>
                  <a:lnTo>
                    <a:pt x="4125" y="336"/>
                  </a:lnTo>
                  <a:lnTo>
                    <a:pt x="4120" y="329"/>
                  </a:lnTo>
                  <a:lnTo>
                    <a:pt x="4115" y="321"/>
                  </a:lnTo>
                  <a:lnTo>
                    <a:pt x="4109" y="314"/>
                  </a:lnTo>
                  <a:lnTo>
                    <a:pt x="4102" y="307"/>
                  </a:lnTo>
                  <a:lnTo>
                    <a:pt x="4093" y="302"/>
                  </a:lnTo>
                  <a:lnTo>
                    <a:pt x="4085" y="297"/>
                  </a:lnTo>
                  <a:lnTo>
                    <a:pt x="4075" y="295"/>
                  </a:lnTo>
                  <a:lnTo>
                    <a:pt x="4065" y="292"/>
                  </a:lnTo>
                  <a:lnTo>
                    <a:pt x="4053" y="291"/>
                  </a:lnTo>
                  <a:lnTo>
                    <a:pt x="4041" y="290"/>
                  </a:lnTo>
                  <a:lnTo>
                    <a:pt x="4028" y="291"/>
                  </a:lnTo>
                  <a:lnTo>
                    <a:pt x="4017" y="292"/>
                  </a:lnTo>
                  <a:lnTo>
                    <a:pt x="4006" y="295"/>
                  </a:lnTo>
                  <a:lnTo>
                    <a:pt x="3997" y="297"/>
                  </a:lnTo>
                  <a:lnTo>
                    <a:pt x="3988" y="302"/>
                  </a:lnTo>
                  <a:lnTo>
                    <a:pt x="3980" y="307"/>
                  </a:lnTo>
                  <a:lnTo>
                    <a:pt x="3972" y="313"/>
                  </a:lnTo>
                  <a:lnTo>
                    <a:pt x="3965" y="320"/>
                  </a:lnTo>
                  <a:lnTo>
                    <a:pt x="3954" y="336"/>
                  </a:lnTo>
                  <a:lnTo>
                    <a:pt x="3945" y="352"/>
                  </a:lnTo>
                  <a:lnTo>
                    <a:pt x="3938" y="369"/>
                  </a:lnTo>
                  <a:lnTo>
                    <a:pt x="3933" y="386"/>
                  </a:lnTo>
                  <a:lnTo>
                    <a:pt x="4138" y="386"/>
                  </a:lnTo>
                  <a:close/>
                  <a:moveTo>
                    <a:pt x="4516" y="463"/>
                  </a:moveTo>
                  <a:lnTo>
                    <a:pt x="4545" y="477"/>
                  </a:lnTo>
                  <a:lnTo>
                    <a:pt x="4568" y="492"/>
                  </a:lnTo>
                  <a:lnTo>
                    <a:pt x="4588" y="506"/>
                  </a:lnTo>
                  <a:lnTo>
                    <a:pt x="4606" y="521"/>
                  </a:lnTo>
                  <a:lnTo>
                    <a:pt x="4613" y="528"/>
                  </a:lnTo>
                  <a:lnTo>
                    <a:pt x="4619" y="537"/>
                  </a:lnTo>
                  <a:lnTo>
                    <a:pt x="4624" y="547"/>
                  </a:lnTo>
                  <a:lnTo>
                    <a:pt x="4627" y="558"/>
                  </a:lnTo>
                  <a:lnTo>
                    <a:pt x="4631" y="569"/>
                  </a:lnTo>
                  <a:lnTo>
                    <a:pt x="4634" y="581"/>
                  </a:lnTo>
                  <a:lnTo>
                    <a:pt x="4635" y="594"/>
                  </a:lnTo>
                  <a:lnTo>
                    <a:pt x="4636" y="608"/>
                  </a:lnTo>
                  <a:lnTo>
                    <a:pt x="4635" y="626"/>
                  </a:lnTo>
                  <a:lnTo>
                    <a:pt x="4632" y="643"/>
                  </a:lnTo>
                  <a:lnTo>
                    <a:pt x="4629" y="660"/>
                  </a:lnTo>
                  <a:lnTo>
                    <a:pt x="4624" y="675"/>
                  </a:lnTo>
                  <a:lnTo>
                    <a:pt x="4616" y="688"/>
                  </a:lnTo>
                  <a:lnTo>
                    <a:pt x="4608" y="701"/>
                  </a:lnTo>
                  <a:lnTo>
                    <a:pt x="4598" y="712"/>
                  </a:lnTo>
                  <a:lnTo>
                    <a:pt x="4587" y="722"/>
                  </a:lnTo>
                  <a:lnTo>
                    <a:pt x="4574" y="732"/>
                  </a:lnTo>
                  <a:lnTo>
                    <a:pt x="4559" y="739"/>
                  </a:lnTo>
                  <a:lnTo>
                    <a:pt x="4545" y="746"/>
                  </a:lnTo>
                  <a:lnTo>
                    <a:pt x="4527" y="752"/>
                  </a:lnTo>
                  <a:lnTo>
                    <a:pt x="4509" y="756"/>
                  </a:lnTo>
                  <a:lnTo>
                    <a:pt x="4490" y="760"/>
                  </a:lnTo>
                  <a:lnTo>
                    <a:pt x="4469" y="761"/>
                  </a:lnTo>
                  <a:lnTo>
                    <a:pt x="4447" y="762"/>
                  </a:lnTo>
                  <a:lnTo>
                    <a:pt x="4425" y="761"/>
                  </a:lnTo>
                  <a:lnTo>
                    <a:pt x="4405" y="760"/>
                  </a:lnTo>
                  <a:lnTo>
                    <a:pt x="4387" y="759"/>
                  </a:lnTo>
                  <a:lnTo>
                    <a:pt x="4371" y="756"/>
                  </a:lnTo>
                  <a:lnTo>
                    <a:pt x="4355" y="752"/>
                  </a:lnTo>
                  <a:lnTo>
                    <a:pt x="4341" y="749"/>
                  </a:lnTo>
                  <a:lnTo>
                    <a:pt x="4325" y="745"/>
                  </a:lnTo>
                  <a:lnTo>
                    <a:pt x="4309" y="740"/>
                  </a:lnTo>
                  <a:lnTo>
                    <a:pt x="4309" y="673"/>
                  </a:lnTo>
                  <a:lnTo>
                    <a:pt x="4329" y="681"/>
                  </a:lnTo>
                  <a:lnTo>
                    <a:pt x="4348" y="685"/>
                  </a:lnTo>
                  <a:lnTo>
                    <a:pt x="4365" y="690"/>
                  </a:lnTo>
                  <a:lnTo>
                    <a:pt x="4381" y="694"/>
                  </a:lnTo>
                  <a:lnTo>
                    <a:pt x="4396" y="696"/>
                  </a:lnTo>
                  <a:lnTo>
                    <a:pt x="4410" y="699"/>
                  </a:lnTo>
                  <a:lnTo>
                    <a:pt x="4425" y="700"/>
                  </a:lnTo>
                  <a:lnTo>
                    <a:pt x="4440" y="700"/>
                  </a:lnTo>
                  <a:lnTo>
                    <a:pt x="4453" y="700"/>
                  </a:lnTo>
                  <a:lnTo>
                    <a:pt x="4466" y="699"/>
                  </a:lnTo>
                  <a:lnTo>
                    <a:pt x="4479" y="698"/>
                  </a:lnTo>
                  <a:lnTo>
                    <a:pt x="4491" y="695"/>
                  </a:lnTo>
                  <a:lnTo>
                    <a:pt x="4502" y="693"/>
                  </a:lnTo>
                  <a:lnTo>
                    <a:pt x="4512" y="689"/>
                  </a:lnTo>
                  <a:lnTo>
                    <a:pt x="4521" y="685"/>
                  </a:lnTo>
                  <a:lnTo>
                    <a:pt x="4530" y="681"/>
                  </a:lnTo>
                  <a:lnTo>
                    <a:pt x="4537" y="676"/>
                  </a:lnTo>
                  <a:lnTo>
                    <a:pt x="4545" y="670"/>
                  </a:lnTo>
                  <a:lnTo>
                    <a:pt x="4549" y="662"/>
                  </a:lnTo>
                  <a:lnTo>
                    <a:pt x="4554" y="655"/>
                  </a:lnTo>
                  <a:lnTo>
                    <a:pt x="4558" y="648"/>
                  </a:lnTo>
                  <a:lnTo>
                    <a:pt x="4560" y="638"/>
                  </a:lnTo>
                  <a:lnTo>
                    <a:pt x="4563" y="628"/>
                  </a:lnTo>
                  <a:lnTo>
                    <a:pt x="4563" y="619"/>
                  </a:lnTo>
                  <a:lnTo>
                    <a:pt x="4562" y="605"/>
                  </a:lnTo>
                  <a:lnTo>
                    <a:pt x="4559" y="594"/>
                  </a:lnTo>
                  <a:lnTo>
                    <a:pt x="4554" y="584"/>
                  </a:lnTo>
                  <a:lnTo>
                    <a:pt x="4548" y="577"/>
                  </a:lnTo>
                  <a:lnTo>
                    <a:pt x="4538" y="567"/>
                  </a:lnTo>
                  <a:lnTo>
                    <a:pt x="4521" y="556"/>
                  </a:lnTo>
                  <a:lnTo>
                    <a:pt x="4499" y="543"/>
                  </a:lnTo>
                  <a:lnTo>
                    <a:pt x="4470" y="526"/>
                  </a:lnTo>
                  <a:lnTo>
                    <a:pt x="4425" y="502"/>
                  </a:lnTo>
                  <a:lnTo>
                    <a:pt x="4396" y="485"/>
                  </a:lnTo>
                  <a:lnTo>
                    <a:pt x="4372" y="469"/>
                  </a:lnTo>
                  <a:lnTo>
                    <a:pt x="4352" y="455"/>
                  </a:lnTo>
                  <a:lnTo>
                    <a:pt x="4336" y="442"/>
                  </a:lnTo>
                  <a:lnTo>
                    <a:pt x="4330" y="436"/>
                  </a:lnTo>
                  <a:lnTo>
                    <a:pt x="4324" y="429"/>
                  </a:lnTo>
                  <a:lnTo>
                    <a:pt x="4320" y="420"/>
                  </a:lnTo>
                  <a:lnTo>
                    <a:pt x="4315" y="410"/>
                  </a:lnTo>
                  <a:lnTo>
                    <a:pt x="4313" y="401"/>
                  </a:lnTo>
                  <a:lnTo>
                    <a:pt x="4310" y="390"/>
                  </a:lnTo>
                  <a:lnTo>
                    <a:pt x="4309" y="377"/>
                  </a:lnTo>
                  <a:lnTo>
                    <a:pt x="4309" y="364"/>
                  </a:lnTo>
                  <a:lnTo>
                    <a:pt x="4309" y="348"/>
                  </a:lnTo>
                  <a:lnTo>
                    <a:pt x="4311" y="334"/>
                  </a:lnTo>
                  <a:lnTo>
                    <a:pt x="4315" y="320"/>
                  </a:lnTo>
                  <a:lnTo>
                    <a:pt x="4320" y="308"/>
                  </a:lnTo>
                  <a:lnTo>
                    <a:pt x="4326" y="296"/>
                  </a:lnTo>
                  <a:lnTo>
                    <a:pt x="4335" y="285"/>
                  </a:lnTo>
                  <a:lnTo>
                    <a:pt x="4343" y="274"/>
                  </a:lnTo>
                  <a:lnTo>
                    <a:pt x="4354" y="264"/>
                  </a:lnTo>
                  <a:lnTo>
                    <a:pt x="4365" y="257"/>
                  </a:lnTo>
                  <a:lnTo>
                    <a:pt x="4379" y="250"/>
                  </a:lnTo>
                  <a:lnTo>
                    <a:pt x="4393" y="243"/>
                  </a:lnTo>
                  <a:lnTo>
                    <a:pt x="4409" y="237"/>
                  </a:lnTo>
                  <a:lnTo>
                    <a:pt x="4426" y="234"/>
                  </a:lnTo>
                  <a:lnTo>
                    <a:pt x="4443" y="231"/>
                  </a:lnTo>
                  <a:lnTo>
                    <a:pt x="4463" y="230"/>
                  </a:lnTo>
                  <a:lnTo>
                    <a:pt x="4484" y="229"/>
                  </a:lnTo>
                  <a:lnTo>
                    <a:pt x="4501" y="229"/>
                  </a:lnTo>
                  <a:lnTo>
                    <a:pt x="4515" y="230"/>
                  </a:lnTo>
                  <a:lnTo>
                    <a:pt x="4529" y="231"/>
                  </a:lnTo>
                  <a:lnTo>
                    <a:pt x="4540" y="232"/>
                  </a:lnTo>
                  <a:lnTo>
                    <a:pt x="4551" y="235"/>
                  </a:lnTo>
                  <a:lnTo>
                    <a:pt x="4565" y="237"/>
                  </a:lnTo>
                  <a:lnTo>
                    <a:pt x="4584" y="241"/>
                  </a:lnTo>
                  <a:lnTo>
                    <a:pt x="4603" y="246"/>
                  </a:lnTo>
                  <a:lnTo>
                    <a:pt x="4603" y="313"/>
                  </a:lnTo>
                  <a:lnTo>
                    <a:pt x="4590" y="308"/>
                  </a:lnTo>
                  <a:lnTo>
                    <a:pt x="4574" y="304"/>
                  </a:lnTo>
                  <a:lnTo>
                    <a:pt x="4558" y="299"/>
                  </a:lnTo>
                  <a:lnTo>
                    <a:pt x="4542" y="296"/>
                  </a:lnTo>
                  <a:lnTo>
                    <a:pt x="4526" y="293"/>
                  </a:lnTo>
                  <a:lnTo>
                    <a:pt x="4510" y="291"/>
                  </a:lnTo>
                  <a:lnTo>
                    <a:pt x="4497" y="290"/>
                  </a:lnTo>
                  <a:lnTo>
                    <a:pt x="4485" y="290"/>
                  </a:lnTo>
                  <a:lnTo>
                    <a:pt x="4474" y="290"/>
                  </a:lnTo>
                  <a:lnTo>
                    <a:pt x="4463" y="291"/>
                  </a:lnTo>
                  <a:lnTo>
                    <a:pt x="4453" y="292"/>
                  </a:lnTo>
                  <a:lnTo>
                    <a:pt x="4443" y="295"/>
                  </a:lnTo>
                  <a:lnTo>
                    <a:pt x="4433" y="297"/>
                  </a:lnTo>
                  <a:lnTo>
                    <a:pt x="4425" y="301"/>
                  </a:lnTo>
                  <a:lnTo>
                    <a:pt x="4418" y="304"/>
                  </a:lnTo>
                  <a:lnTo>
                    <a:pt x="4410" y="308"/>
                  </a:lnTo>
                  <a:lnTo>
                    <a:pt x="4403" y="313"/>
                  </a:lnTo>
                  <a:lnTo>
                    <a:pt x="4398" y="319"/>
                  </a:lnTo>
                  <a:lnTo>
                    <a:pt x="4393" y="324"/>
                  </a:lnTo>
                  <a:lnTo>
                    <a:pt x="4388" y="330"/>
                  </a:lnTo>
                  <a:lnTo>
                    <a:pt x="4386" y="336"/>
                  </a:lnTo>
                  <a:lnTo>
                    <a:pt x="4383" y="342"/>
                  </a:lnTo>
                  <a:lnTo>
                    <a:pt x="4382" y="349"/>
                  </a:lnTo>
                  <a:lnTo>
                    <a:pt x="4382" y="357"/>
                  </a:lnTo>
                  <a:lnTo>
                    <a:pt x="4382" y="364"/>
                  </a:lnTo>
                  <a:lnTo>
                    <a:pt x="4385" y="371"/>
                  </a:lnTo>
                  <a:lnTo>
                    <a:pt x="4387" y="379"/>
                  </a:lnTo>
                  <a:lnTo>
                    <a:pt x="4391" y="385"/>
                  </a:lnTo>
                  <a:lnTo>
                    <a:pt x="4397" y="391"/>
                  </a:lnTo>
                  <a:lnTo>
                    <a:pt x="4403" y="397"/>
                  </a:lnTo>
                  <a:lnTo>
                    <a:pt x="4412" y="403"/>
                  </a:lnTo>
                  <a:lnTo>
                    <a:pt x="4420" y="408"/>
                  </a:lnTo>
                  <a:lnTo>
                    <a:pt x="4438" y="418"/>
                  </a:lnTo>
                  <a:lnTo>
                    <a:pt x="4453" y="426"/>
                  </a:lnTo>
                  <a:lnTo>
                    <a:pt x="4465" y="432"/>
                  </a:lnTo>
                  <a:lnTo>
                    <a:pt x="4474" y="436"/>
                  </a:lnTo>
                  <a:lnTo>
                    <a:pt x="4516" y="463"/>
                  </a:lnTo>
                  <a:close/>
                  <a:moveTo>
                    <a:pt x="5034" y="12"/>
                  </a:moveTo>
                  <a:lnTo>
                    <a:pt x="5206" y="12"/>
                  </a:lnTo>
                  <a:lnTo>
                    <a:pt x="5228" y="12"/>
                  </a:lnTo>
                  <a:lnTo>
                    <a:pt x="5248" y="14"/>
                  </a:lnTo>
                  <a:lnTo>
                    <a:pt x="5269" y="17"/>
                  </a:lnTo>
                  <a:lnTo>
                    <a:pt x="5289" y="21"/>
                  </a:lnTo>
                  <a:lnTo>
                    <a:pt x="5309" y="27"/>
                  </a:lnTo>
                  <a:lnTo>
                    <a:pt x="5329" y="33"/>
                  </a:lnTo>
                  <a:lnTo>
                    <a:pt x="5347" y="40"/>
                  </a:lnTo>
                  <a:lnTo>
                    <a:pt x="5367" y="49"/>
                  </a:lnTo>
                  <a:lnTo>
                    <a:pt x="5375" y="53"/>
                  </a:lnTo>
                  <a:lnTo>
                    <a:pt x="5384" y="60"/>
                  </a:lnTo>
                  <a:lnTo>
                    <a:pt x="5391" y="66"/>
                  </a:lnTo>
                  <a:lnTo>
                    <a:pt x="5399" y="73"/>
                  </a:lnTo>
                  <a:lnTo>
                    <a:pt x="5406" y="80"/>
                  </a:lnTo>
                  <a:lnTo>
                    <a:pt x="5412" y="90"/>
                  </a:lnTo>
                  <a:lnTo>
                    <a:pt x="5417" y="99"/>
                  </a:lnTo>
                  <a:lnTo>
                    <a:pt x="5422" y="109"/>
                  </a:lnTo>
                  <a:lnTo>
                    <a:pt x="5427" y="119"/>
                  </a:lnTo>
                  <a:lnTo>
                    <a:pt x="5430" y="131"/>
                  </a:lnTo>
                  <a:lnTo>
                    <a:pt x="5433" y="144"/>
                  </a:lnTo>
                  <a:lnTo>
                    <a:pt x="5435" y="157"/>
                  </a:lnTo>
                  <a:lnTo>
                    <a:pt x="5438" y="170"/>
                  </a:lnTo>
                  <a:lnTo>
                    <a:pt x="5439" y="185"/>
                  </a:lnTo>
                  <a:lnTo>
                    <a:pt x="5440" y="200"/>
                  </a:lnTo>
                  <a:lnTo>
                    <a:pt x="5440" y="215"/>
                  </a:lnTo>
                  <a:lnTo>
                    <a:pt x="5439" y="242"/>
                  </a:lnTo>
                  <a:lnTo>
                    <a:pt x="5436" y="265"/>
                  </a:lnTo>
                  <a:lnTo>
                    <a:pt x="5431" y="287"/>
                  </a:lnTo>
                  <a:lnTo>
                    <a:pt x="5424" y="308"/>
                  </a:lnTo>
                  <a:lnTo>
                    <a:pt x="5420" y="318"/>
                  </a:lnTo>
                  <a:lnTo>
                    <a:pt x="5416" y="326"/>
                  </a:lnTo>
                  <a:lnTo>
                    <a:pt x="5411" y="335"/>
                  </a:lnTo>
                  <a:lnTo>
                    <a:pt x="5405" y="343"/>
                  </a:lnTo>
                  <a:lnTo>
                    <a:pt x="5399" y="351"/>
                  </a:lnTo>
                  <a:lnTo>
                    <a:pt x="5392" y="358"/>
                  </a:lnTo>
                  <a:lnTo>
                    <a:pt x="5385" y="365"/>
                  </a:lnTo>
                  <a:lnTo>
                    <a:pt x="5377" y="371"/>
                  </a:lnTo>
                  <a:lnTo>
                    <a:pt x="5361" y="382"/>
                  </a:lnTo>
                  <a:lnTo>
                    <a:pt x="5342" y="393"/>
                  </a:lnTo>
                  <a:lnTo>
                    <a:pt x="5323" y="402"/>
                  </a:lnTo>
                  <a:lnTo>
                    <a:pt x="5302" y="408"/>
                  </a:lnTo>
                  <a:lnTo>
                    <a:pt x="5280" y="414"/>
                  </a:lnTo>
                  <a:lnTo>
                    <a:pt x="5257" y="418"/>
                  </a:lnTo>
                  <a:lnTo>
                    <a:pt x="5233" y="420"/>
                  </a:lnTo>
                  <a:lnTo>
                    <a:pt x="5206" y="420"/>
                  </a:lnTo>
                  <a:lnTo>
                    <a:pt x="5118" y="420"/>
                  </a:lnTo>
                  <a:lnTo>
                    <a:pt x="5118" y="750"/>
                  </a:lnTo>
                  <a:lnTo>
                    <a:pt x="5034" y="750"/>
                  </a:lnTo>
                  <a:lnTo>
                    <a:pt x="5034" y="12"/>
                  </a:lnTo>
                  <a:close/>
                  <a:moveTo>
                    <a:pt x="5118" y="351"/>
                  </a:moveTo>
                  <a:lnTo>
                    <a:pt x="5208" y="351"/>
                  </a:lnTo>
                  <a:lnTo>
                    <a:pt x="5226" y="351"/>
                  </a:lnTo>
                  <a:lnTo>
                    <a:pt x="5244" y="348"/>
                  </a:lnTo>
                  <a:lnTo>
                    <a:pt x="5259" y="346"/>
                  </a:lnTo>
                  <a:lnTo>
                    <a:pt x="5274" y="342"/>
                  </a:lnTo>
                  <a:lnTo>
                    <a:pt x="5287" y="337"/>
                  </a:lnTo>
                  <a:lnTo>
                    <a:pt x="5300" y="331"/>
                  </a:lnTo>
                  <a:lnTo>
                    <a:pt x="5311" y="325"/>
                  </a:lnTo>
                  <a:lnTo>
                    <a:pt x="5320" y="316"/>
                  </a:lnTo>
                  <a:lnTo>
                    <a:pt x="5329" y="308"/>
                  </a:lnTo>
                  <a:lnTo>
                    <a:pt x="5336" y="297"/>
                  </a:lnTo>
                  <a:lnTo>
                    <a:pt x="5342" y="286"/>
                  </a:lnTo>
                  <a:lnTo>
                    <a:pt x="5347" y="275"/>
                  </a:lnTo>
                  <a:lnTo>
                    <a:pt x="5352" y="262"/>
                  </a:lnTo>
                  <a:lnTo>
                    <a:pt x="5355" y="248"/>
                  </a:lnTo>
                  <a:lnTo>
                    <a:pt x="5356" y="232"/>
                  </a:lnTo>
                  <a:lnTo>
                    <a:pt x="5357" y="217"/>
                  </a:lnTo>
                  <a:lnTo>
                    <a:pt x="5356" y="196"/>
                  </a:lnTo>
                  <a:lnTo>
                    <a:pt x="5353" y="176"/>
                  </a:lnTo>
                  <a:lnTo>
                    <a:pt x="5350" y="159"/>
                  </a:lnTo>
                  <a:lnTo>
                    <a:pt x="5345" y="145"/>
                  </a:lnTo>
                  <a:lnTo>
                    <a:pt x="5338" y="131"/>
                  </a:lnTo>
                  <a:lnTo>
                    <a:pt x="5329" y="120"/>
                  </a:lnTo>
                  <a:lnTo>
                    <a:pt x="5324" y="116"/>
                  </a:lnTo>
                  <a:lnTo>
                    <a:pt x="5319" y="112"/>
                  </a:lnTo>
                  <a:lnTo>
                    <a:pt x="5314" y="108"/>
                  </a:lnTo>
                  <a:lnTo>
                    <a:pt x="5308" y="105"/>
                  </a:lnTo>
                  <a:lnTo>
                    <a:pt x="5295" y="100"/>
                  </a:lnTo>
                  <a:lnTo>
                    <a:pt x="5283" y="95"/>
                  </a:lnTo>
                  <a:lnTo>
                    <a:pt x="5268" y="90"/>
                  </a:lnTo>
                  <a:lnTo>
                    <a:pt x="5253" y="88"/>
                  </a:lnTo>
                  <a:lnTo>
                    <a:pt x="5237" y="85"/>
                  </a:lnTo>
                  <a:lnTo>
                    <a:pt x="5222" y="83"/>
                  </a:lnTo>
                  <a:lnTo>
                    <a:pt x="5205" y="81"/>
                  </a:lnTo>
                  <a:lnTo>
                    <a:pt x="5187" y="81"/>
                  </a:lnTo>
                  <a:lnTo>
                    <a:pt x="5118" y="81"/>
                  </a:lnTo>
                  <a:lnTo>
                    <a:pt x="5118" y="351"/>
                  </a:lnTo>
                  <a:close/>
                  <a:moveTo>
                    <a:pt x="5832" y="632"/>
                  </a:moveTo>
                  <a:lnTo>
                    <a:pt x="5827" y="645"/>
                  </a:lnTo>
                  <a:lnTo>
                    <a:pt x="5821" y="657"/>
                  </a:lnTo>
                  <a:lnTo>
                    <a:pt x="5815" y="670"/>
                  </a:lnTo>
                  <a:lnTo>
                    <a:pt x="5808" y="682"/>
                  </a:lnTo>
                  <a:lnTo>
                    <a:pt x="5801" y="693"/>
                  </a:lnTo>
                  <a:lnTo>
                    <a:pt x="5794" y="704"/>
                  </a:lnTo>
                  <a:lnTo>
                    <a:pt x="5786" y="713"/>
                  </a:lnTo>
                  <a:lnTo>
                    <a:pt x="5778" y="723"/>
                  </a:lnTo>
                  <a:lnTo>
                    <a:pt x="5769" y="733"/>
                  </a:lnTo>
                  <a:lnTo>
                    <a:pt x="5758" y="740"/>
                  </a:lnTo>
                  <a:lnTo>
                    <a:pt x="5747" y="746"/>
                  </a:lnTo>
                  <a:lnTo>
                    <a:pt x="5734" y="752"/>
                  </a:lnTo>
                  <a:lnTo>
                    <a:pt x="5721" y="756"/>
                  </a:lnTo>
                  <a:lnTo>
                    <a:pt x="5705" y="760"/>
                  </a:lnTo>
                  <a:lnTo>
                    <a:pt x="5689" y="761"/>
                  </a:lnTo>
                  <a:lnTo>
                    <a:pt x="5671" y="762"/>
                  </a:lnTo>
                  <a:lnTo>
                    <a:pt x="5655" y="761"/>
                  </a:lnTo>
                  <a:lnTo>
                    <a:pt x="5641" y="759"/>
                  </a:lnTo>
                  <a:lnTo>
                    <a:pt x="5628" y="755"/>
                  </a:lnTo>
                  <a:lnTo>
                    <a:pt x="5614" y="750"/>
                  </a:lnTo>
                  <a:lnTo>
                    <a:pt x="5603" y="744"/>
                  </a:lnTo>
                  <a:lnTo>
                    <a:pt x="5592" y="737"/>
                  </a:lnTo>
                  <a:lnTo>
                    <a:pt x="5583" y="727"/>
                  </a:lnTo>
                  <a:lnTo>
                    <a:pt x="5574" y="717"/>
                  </a:lnTo>
                  <a:lnTo>
                    <a:pt x="5566" y="705"/>
                  </a:lnTo>
                  <a:lnTo>
                    <a:pt x="5558" y="693"/>
                  </a:lnTo>
                  <a:lnTo>
                    <a:pt x="5553" y="679"/>
                  </a:lnTo>
                  <a:lnTo>
                    <a:pt x="5549" y="666"/>
                  </a:lnTo>
                  <a:lnTo>
                    <a:pt x="5545" y="651"/>
                  </a:lnTo>
                  <a:lnTo>
                    <a:pt x="5542" y="637"/>
                  </a:lnTo>
                  <a:lnTo>
                    <a:pt x="5540" y="621"/>
                  </a:lnTo>
                  <a:lnTo>
                    <a:pt x="5540" y="604"/>
                  </a:lnTo>
                  <a:lnTo>
                    <a:pt x="5540" y="241"/>
                  </a:lnTo>
                  <a:lnTo>
                    <a:pt x="5613" y="241"/>
                  </a:lnTo>
                  <a:lnTo>
                    <a:pt x="5613" y="524"/>
                  </a:lnTo>
                  <a:lnTo>
                    <a:pt x="5613" y="564"/>
                  </a:lnTo>
                  <a:lnTo>
                    <a:pt x="5616" y="599"/>
                  </a:lnTo>
                  <a:lnTo>
                    <a:pt x="5617" y="614"/>
                  </a:lnTo>
                  <a:lnTo>
                    <a:pt x="5619" y="627"/>
                  </a:lnTo>
                  <a:lnTo>
                    <a:pt x="5622" y="639"/>
                  </a:lnTo>
                  <a:lnTo>
                    <a:pt x="5624" y="650"/>
                  </a:lnTo>
                  <a:lnTo>
                    <a:pt x="5628" y="659"/>
                  </a:lnTo>
                  <a:lnTo>
                    <a:pt x="5633" y="667"/>
                  </a:lnTo>
                  <a:lnTo>
                    <a:pt x="5639" y="673"/>
                  </a:lnTo>
                  <a:lnTo>
                    <a:pt x="5646" y="679"/>
                  </a:lnTo>
                  <a:lnTo>
                    <a:pt x="5655" y="683"/>
                  </a:lnTo>
                  <a:lnTo>
                    <a:pt x="5664" y="687"/>
                  </a:lnTo>
                  <a:lnTo>
                    <a:pt x="5675" y="688"/>
                  </a:lnTo>
                  <a:lnTo>
                    <a:pt x="5688" y="689"/>
                  </a:lnTo>
                  <a:lnTo>
                    <a:pt x="5696" y="689"/>
                  </a:lnTo>
                  <a:lnTo>
                    <a:pt x="5704" y="688"/>
                  </a:lnTo>
                  <a:lnTo>
                    <a:pt x="5712" y="687"/>
                  </a:lnTo>
                  <a:lnTo>
                    <a:pt x="5719" y="684"/>
                  </a:lnTo>
                  <a:lnTo>
                    <a:pt x="5727" y="682"/>
                  </a:lnTo>
                  <a:lnTo>
                    <a:pt x="5734" y="678"/>
                  </a:lnTo>
                  <a:lnTo>
                    <a:pt x="5740" y="675"/>
                  </a:lnTo>
                  <a:lnTo>
                    <a:pt x="5747" y="670"/>
                  </a:lnTo>
                  <a:lnTo>
                    <a:pt x="5760" y="659"/>
                  </a:lnTo>
                  <a:lnTo>
                    <a:pt x="5772" y="645"/>
                  </a:lnTo>
                  <a:lnTo>
                    <a:pt x="5783" y="629"/>
                  </a:lnTo>
                  <a:lnTo>
                    <a:pt x="5793" y="611"/>
                  </a:lnTo>
                  <a:lnTo>
                    <a:pt x="5802" y="592"/>
                  </a:lnTo>
                  <a:lnTo>
                    <a:pt x="5810" y="572"/>
                  </a:lnTo>
                  <a:lnTo>
                    <a:pt x="5816" y="553"/>
                  </a:lnTo>
                  <a:lnTo>
                    <a:pt x="5822" y="532"/>
                  </a:lnTo>
                  <a:lnTo>
                    <a:pt x="5826" y="513"/>
                  </a:lnTo>
                  <a:lnTo>
                    <a:pt x="5829" y="492"/>
                  </a:lnTo>
                  <a:lnTo>
                    <a:pt x="5830" y="471"/>
                  </a:lnTo>
                  <a:lnTo>
                    <a:pt x="5832" y="450"/>
                  </a:lnTo>
                  <a:lnTo>
                    <a:pt x="5832" y="241"/>
                  </a:lnTo>
                  <a:lnTo>
                    <a:pt x="5905" y="241"/>
                  </a:lnTo>
                  <a:lnTo>
                    <a:pt x="5905" y="750"/>
                  </a:lnTo>
                  <a:lnTo>
                    <a:pt x="5832" y="750"/>
                  </a:lnTo>
                  <a:lnTo>
                    <a:pt x="5832" y="632"/>
                  </a:lnTo>
                  <a:close/>
                  <a:moveTo>
                    <a:pt x="5738" y="8"/>
                  </a:moveTo>
                  <a:lnTo>
                    <a:pt x="5832" y="8"/>
                  </a:lnTo>
                  <a:lnTo>
                    <a:pt x="5760" y="152"/>
                  </a:lnTo>
                  <a:lnTo>
                    <a:pt x="5693" y="152"/>
                  </a:lnTo>
                  <a:lnTo>
                    <a:pt x="5738" y="8"/>
                  </a:lnTo>
                  <a:close/>
                  <a:moveTo>
                    <a:pt x="6139" y="325"/>
                  </a:moveTo>
                  <a:lnTo>
                    <a:pt x="6143" y="316"/>
                  </a:lnTo>
                  <a:lnTo>
                    <a:pt x="6148" y="308"/>
                  </a:lnTo>
                  <a:lnTo>
                    <a:pt x="6152" y="299"/>
                  </a:lnTo>
                  <a:lnTo>
                    <a:pt x="6159" y="291"/>
                  </a:lnTo>
                  <a:lnTo>
                    <a:pt x="6172" y="275"/>
                  </a:lnTo>
                  <a:lnTo>
                    <a:pt x="6188" y="259"/>
                  </a:lnTo>
                  <a:lnTo>
                    <a:pt x="6196" y="252"/>
                  </a:lnTo>
                  <a:lnTo>
                    <a:pt x="6206" y="246"/>
                  </a:lnTo>
                  <a:lnTo>
                    <a:pt x="6217" y="241"/>
                  </a:lnTo>
                  <a:lnTo>
                    <a:pt x="6228" y="236"/>
                  </a:lnTo>
                  <a:lnTo>
                    <a:pt x="6240" y="234"/>
                  </a:lnTo>
                  <a:lnTo>
                    <a:pt x="6253" y="231"/>
                  </a:lnTo>
                  <a:lnTo>
                    <a:pt x="6266" y="229"/>
                  </a:lnTo>
                  <a:lnTo>
                    <a:pt x="6279" y="229"/>
                  </a:lnTo>
                  <a:lnTo>
                    <a:pt x="6292" y="229"/>
                  </a:lnTo>
                  <a:lnTo>
                    <a:pt x="6303" y="230"/>
                  </a:lnTo>
                  <a:lnTo>
                    <a:pt x="6314" y="231"/>
                  </a:lnTo>
                  <a:lnTo>
                    <a:pt x="6324" y="234"/>
                  </a:lnTo>
                  <a:lnTo>
                    <a:pt x="6334" y="236"/>
                  </a:lnTo>
                  <a:lnTo>
                    <a:pt x="6344" y="240"/>
                  </a:lnTo>
                  <a:lnTo>
                    <a:pt x="6354" y="243"/>
                  </a:lnTo>
                  <a:lnTo>
                    <a:pt x="6362" y="248"/>
                  </a:lnTo>
                  <a:lnTo>
                    <a:pt x="6371" y="253"/>
                  </a:lnTo>
                  <a:lnTo>
                    <a:pt x="6379" y="259"/>
                  </a:lnTo>
                  <a:lnTo>
                    <a:pt x="6387" y="267"/>
                  </a:lnTo>
                  <a:lnTo>
                    <a:pt x="6394" y="273"/>
                  </a:lnTo>
                  <a:lnTo>
                    <a:pt x="6400" y="281"/>
                  </a:lnTo>
                  <a:lnTo>
                    <a:pt x="6407" y="288"/>
                  </a:lnTo>
                  <a:lnTo>
                    <a:pt x="6414" y="298"/>
                  </a:lnTo>
                  <a:lnTo>
                    <a:pt x="6418" y="308"/>
                  </a:lnTo>
                  <a:lnTo>
                    <a:pt x="6428" y="327"/>
                  </a:lnTo>
                  <a:lnTo>
                    <a:pt x="6437" y="349"/>
                  </a:lnTo>
                  <a:lnTo>
                    <a:pt x="6444" y="371"/>
                  </a:lnTo>
                  <a:lnTo>
                    <a:pt x="6450" y="396"/>
                  </a:lnTo>
                  <a:lnTo>
                    <a:pt x="6455" y="420"/>
                  </a:lnTo>
                  <a:lnTo>
                    <a:pt x="6459" y="446"/>
                  </a:lnTo>
                  <a:lnTo>
                    <a:pt x="6461" y="472"/>
                  </a:lnTo>
                  <a:lnTo>
                    <a:pt x="6461" y="500"/>
                  </a:lnTo>
                  <a:lnTo>
                    <a:pt x="6461" y="530"/>
                  </a:lnTo>
                  <a:lnTo>
                    <a:pt x="6459" y="556"/>
                  </a:lnTo>
                  <a:lnTo>
                    <a:pt x="6454" y="582"/>
                  </a:lnTo>
                  <a:lnTo>
                    <a:pt x="6449" y="606"/>
                  </a:lnTo>
                  <a:lnTo>
                    <a:pt x="6442" y="629"/>
                  </a:lnTo>
                  <a:lnTo>
                    <a:pt x="6433" y="651"/>
                  </a:lnTo>
                  <a:lnTo>
                    <a:pt x="6423" y="671"/>
                  </a:lnTo>
                  <a:lnTo>
                    <a:pt x="6411" y="690"/>
                  </a:lnTo>
                  <a:lnTo>
                    <a:pt x="6405" y="699"/>
                  </a:lnTo>
                  <a:lnTo>
                    <a:pt x="6398" y="706"/>
                  </a:lnTo>
                  <a:lnTo>
                    <a:pt x="6390" y="715"/>
                  </a:lnTo>
                  <a:lnTo>
                    <a:pt x="6383" y="721"/>
                  </a:lnTo>
                  <a:lnTo>
                    <a:pt x="6375" y="728"/>
                  </a:lnTo>
                  <a:lnTo>
                    <a:pt x="6366" y="734"/>
                  </a:lnTo>
                  <a:lnTo>
                    <a:pt x="6357" y="739"/>
                  </a:lnTo>
                  <a:lnTo>
                    <a:pt x="6348" y="744"/>
                  </a:lnTo>
                  <a:lnTo>
                    <a:pt x="6338" y="748"/>
                  </a:lnTo>
                  <a:lnTo>
                    <a:pt x="6328" y="751"/>
                  </a:lnTo>
                  <a:lnTo>
                    <a:pt x="6317" y="755"/>
                  </a:lnTo>
                  <a:lnTo>
                    <a:pt x="6306" y="757"/>
                  </a:lnTo>
                  <a:lnTo>
                    <a:pt x="6282" y="761"/>
                  </a:lnTo>
                  <a:lnTo>
                    <a:pt x="6256" y="762"/>
                  </a:lnTo>
                  <a:lnTo>
                    <a:pt x="6228" y="761"/>
                  </a:lnTo>
                  <a:lnTo>
                    <a:pt x="6202" y="757"/>
                  </a:lnTo>
                  <a:lnTo>
                    <a:pt x="6190" y="755"/>
                  </a:lnTo>
                  <a:lnTo>
                    <a:pt x="6179" y="752"/>
                  </a:lnTo>
                  <a:lnTo>
                    <a:pt x="6168" y="749"/>
                  </a:lnTo>
                  <a:lnTo>
                    <a:pt x="6159" y="745"/>
                  </a:lnTo>
                  <a:lnTo>
                    <a:pt x="6149" y="740"/>
                  </a:lnTo>
                  <a:lnTo>
                    <a:pt x="6140" y="735"/>
                  </a:lnTo>
                  <a:lnTo>
                    <a:pt x="6133" y="729"/>
                  </a:lnTo>
                  <a:lnTo>
                    <a:pt x="6126" y="723"/>
                  </a:lnTo>
                  <a:lnTo>
                    <a:pt x="6118" y="717"/>
                  </a:lnTo>
                  <a:lnTo>
                    <a:pt x="6112" y="710"/>
                  </a:lnTo>
                  <a:lnTo>
                    <a:pt x="6106" y="703"/>
                  </a:lnTo>
                  <a:lnTo>
                    <a:pt x="6102" y="694"/>
                  </a:lnTo>
                  <a:lnTo>
                    <a:pt x="6094" y="677"/>
                  </a:lnTo>
                  <a:lnTo>
                    <a:pt x="6087" y="659"/>
                  </a:lnTo>
                  <a:lnTo>
                    <a:pt x="6080" y="640"/>
                  </a:lnTo>
                  <a:lnTo>
                    <a:pt x="6074" y="621"/>
                  </a:lnTo>
                  <a:lnTo>
                    <a:pt x="6071" y="601"/>
                  </a:lnTo>
                  <a:lnTo>
                    <a:pt x="6068" y="582"/>
                  </a:lnTo>
                  <a:lnTo>
                    <a:pt x="6067" y="561"/>
                  </a:lnTo>
                  <a:lnTo>
                    <a:pt x="6066" y="541"/>
                  </a:lnTo>
                  <a:lnTo>
                    <a:pt x="6066" y="12"/>
                  </a:lnTo>
                  <a:lnTo>
                    <a:pt x="6139" y="12"/>
                  </a:lnTo>
                  <a:lnTo>
                    <a:pt x="6139" y="325"/>
                  </a:lnTo>
                  <a:close/>
                  <a:moveTo>
                    <a:pt x="6255" y="700"/>
                  </a:moveTo>
                  <a:lnTo>
                    <a:pt x="6270" y="700"/>
                  </a:lnTo>
                  <a:lnTo>
                    <a:pt x="6284" y="696"/>
                  </a:lnTo>
                  <a:lnTo>
                    <a:pt x="6298" y="693"/>
                  </a:lnTo>
                  <a:lnTo>
                    <a:pt x="6310" y="685"/>
                  </a:lnTo>
                  <a:lnTo>
                    <a:pt x="6321" y="678"/>
                  </a:lnTo>
                  <a:lnTo>
                    <a:pt x="6331" y="667"/>
                  </a:lnTo>
                  <a:lnTo>
                    <a:pt x="6340" y="655"/>
                  </a:lnTo>
                  <a:lnTo>
                    <a:pt x="6348" y="642"/>
                  </a:lnTo>
                  <a:lnTo>
                    <a:pt x="6355" y="627"/>
                  </a:lnTo>
                  <a:lnTo>
                    <a:pt x="6361" y="611"/>
                  </a:lnTo>
                  <a:lnTo>
                    <a:pt x="6366" y="594"/>
                  </a:lnTo>
                  <a:lnTo>
                    <a:pt x="6371" y="577"/>
                  </a:lnTo>
                  <a:lnTo>
                    <a:pt x="6373" y="559"/>
                  </a:lnTo>
                  <a:lnTo>
                    <a:pt x="6376" y="539"/>
                  </a:lnTo>
                  <a:lnTo>
                    <a:pt x="6377" y="519"/>
                  </a:lnTo>
                  <a:lnTo>
                    <a:pt x="6378" y="498"/>
                  </a:lnTo>
                  <a:lnTo>
                    <a:pt x="6377" y="477"/>
                  </a:lnTo>
                  <a:lnTo>
                    <a:pt x="6376" y="457"/>
                  </a:lnTo>
                  <a:lnTo>
                    <a:pt x="6375" y="437"/>
                  </a:lnTo>
                  <a:lnTo>
                    <a:pt x="6371" y="419"/>
                  </a:lnTo>
                  <a:lnTo>
                    <a:pt x="6367" y="401"/>
                  </a:lnTo>
                  <a:lnTo>
                    <a:pt x="6364" y="383"/>
                  </a:lnTo>
                  <a:lnTo>
                    <a:pt x="6357" y="366"/>
                  </a:lnTo>
                  <a:lnTo>
                    <a:pt x="6351" y="351"/>
                  </a:lnTo>
                  <a:lnTo>
                    <a:pt x="6344" y="336"/>
                  </a:lnTo>
                  <a:lnTo>
                    <a:pt x="6337" y="324"/>
                  </a:lnTo>
                  <a:lnTo>
                    <a:pt x="6327" y="314"/>
                  </a:lnTo>
                  <a:lnTo>
                    <a:pt x="6317" y="306"/>
                  </a:lnTo>
                  <a:lnTo>
                    <a:pt x="6305" y="298"/>
                  </a:lnTo>
                  <a:lnTo>
                    <a:pt x="6293" y="293"/>
                  </a:lnTo>
                  <a:lnTo>
                    <a:pt x="6279" y="291"/>
                  </a:lnTo>
                  <a:lnTo>
                    <a:pt x="6265" y="290"/>
                  </a:lnTo>
                  <a:lnTo>
                    <a:pt x="6250" y="291"/>
                  </a:lnTo>
                  <a:lnTo>
                    <a:pt x="6235" y="295"/>
                  </a:lnTo>
                  <a:lnTo>
                    <a:pt x="6222" y="299"/>
                  </a:lnTo>
                  <a:lnTo>
                    <a:pt x="6210" y="307"/>
                  </a:lnTo>
                  <a:lnTo>
                    <a:pt x="6199" y="316"/>
                  </a:lnTo>
                  <a:lnTo>
                    <a:pt x="6188" y="329"/>
                  </a:lnTo>
                  <a:lnTo>
                    <a:pt x="6179" y="343"/>
                  </a:lnTo>
                  <a:lnTo>
                    <a:pt x="6171" y="359"/>
                  </a:lnTo>
                  <a:lnTo>
                    <a:pt x="6163" y="376"/>
                  </a:lnTo>
                  <a:lnTo>
                    <a:pt x="6156" y="394"/>
                  </a:lnTo>
                  <a:lnTo>
                    <a:pt x="6151" y="413"/>
                  </a:lnTo>
                  <a:lnTo>
                    <a:pt x="6146" y="432"/>
                  </a:lnTo>
                  <a:lnTo>
                    <a:pt x="6143" y="453"/>
                  </a:lnTo>
                  <a:lnTo>
                    <a:pt x="6140" y="472"/>
                  </a:lnTo>
                  <a:lnTo>
                    <a:pt x="6139" y="494"/>
                  </a:lnTo>
                  <a:lnTo>
                    <a:pt x="6139" y="515"/>
                  </a:lnTo>
                  <a:lnTo>
                    <a:pt x="6139" y="533"/>
                  </a:lnTo>
                  <a:lnTo>
                    <a:pt x="6140" y="550"/>
                  </a:lnTo>
                  <a:lnTo>
                    <a:pt x="6141" y="567"/>
                  </a:lnTo>
                  <a:lnTo>
                    <a:pt x="6144" y="583"/>
                  </a:lnTo>
                  <a:lnTo>
                    <a:pt x="6148" y="599"/>
                  </a:lnTo>
                  <a:lnTo>
                    <a:pt x="6151" y="615"/>
                  </a:lnTo>
                  <a:lnTo>
                    <a:pt x="6156" y="629"/>
                  </a:lnTo>
                  <a:lnTo>
                    <a:pt x="6161" y="644"/>
                  </a:lnTo>
                  <a:lnTo>
                    <a:pt x="6168" y="657"/>
                  </a:lnTo>
                  <a:lnTo>
                    <a:pt x="6176" y="668"/>
                  </a:lnTo>
                  <a:lnTo>
                    <a:pt x="6185" y="678"/>
                  </a:lnTo>
                  <a:lnTo>
                    <a:pt x="6196" y="687"/>
                  </a:lnTo>
                  <a:lnTo>
                    <a:pt x="6209" y="693"/>
                  </a:lnTo>
                  <a:lnTo>
                    <a:pt x="6222" y="698"/>
                  </a:lnTo>
                  <a:lnTo>
                    <a:pt x="6238" y="700"/>
                  </a:lnTo>
                  <a:lnTo>
                    <a:pt x="6255" y="700"/>
                  </a:lnTo>
                  <a:close/>
                  <a:moveTo>
                    <a:pt x="6601" y="12"/>
                  </a:moveTo>
                  <a:lnTo>
                    <a:pt x="6675" y="12"/>
                  </a:lnTo>
                  <a:lnTo>
                    <a:pt x="6675" y="750"/>
                  </a:lnTo>
                  <a:lnTo>
                    <a:pt x="6601" y="750"/>
                  </a:lnTo>
                  <a:lnTo>
                    <a:pt x="6601" y="12"/>
                  </a:lnTo>
                  <a:close/>
                  <a:moveTo>
                    <a:pt x="6860" y="241"/>
                  </a:moveTo>
                  <a:lnTo>
                    <a:pt x="6933" y="241"/>
                  </a:lnTo>
                  <a:lnTo>
                    <a:pt x="6933" y="750"/>
                  </a:lnTo>
                  <a:lnTo>
                    <a:pt x="6860" y="750"/>
                  </a:lnTo>
                  <a:lnTo>
                    <a:pt x="6860" y="241"/>
                  </a:lnTo>
                  <a:close/>
                  <a:moveTo>
                    <a:pt x="6848" y="12"/>
                  </a:moveTo>
                  <a:lnTo>
                    <a:pt x="6944" y="12"/>
                  </a:lnTo>
                  <a:lnTo>
                    <a:pt x="6944" y="108"/>
                  </a:lnTo>
                  <a:lnTo>
                    <a:pt x="6848" y="108"/>
                  </a:lnTo>
                  <a:lnTo>
                    <a:pt x="6848" y="12"/>
                  </a:lnTo>
                  <a:close/>
                  <a:moveTo>
                    <a:pt x="7444" y="748"/>
                  </a:moveTo>
                  <a:lnTo>
                    <a:pt x="7420" y="754"/>
                  </a:lnTo>
                  <a:lnTo>
                    <a:pt x="7394" y="759"/>
                  </a:lnTo>
                  <a:lnTo>
                    <a:pt x="7366" y="761"/>
                  </a:lnTo>
                  <a:lnTo>
                    <a:pt x="7338" y="762"/>
                  </a:lnTo>
                  <a:lnTo>
                    <a:pt x="7308" y="761"/>
                  </a:lnTo>
                  <a:lnTo>
                    <a:pt x="7279" y="757"/>
                  </a:lnTo>
                  <a:lnTo>
                    <a:pt x="7265" y="755"/>
                  </a:lnTo>
                  <a:lnTo>
                    <a:pt x="7253" y="751"/>
                  </a:lnTo>
                  <a:lnTo>
                    <a:pt x="7239" y="748"/>
                  </a:lnTo>
                  <a:lnTo>
                    <a:pt x="7227" y="744"/>
                  </a:lnTo>
                  <a:lnTo>
                    <a:pt x="7215" y="739"/>
                  </a:lnTo>
                  <a:lnTo>
                    <a:pt x="7204" y="734"/>
                  </a:lnTo>
                  <a:lnTo>
                    <a:pt x="7193" y="728"/>
                  </a:lnTo>
                  <a:lnTo>
                    <a:pt x="7182" y="722"/>
                  </a:lnTo>
                  <a:lnTo>
                    <a:pt x="7172" y="715"/>
                  </a:lnTo>
                  <a:lnTo>
                    <a:pt x="7163" y="707"/>
                  </a:lnTo>
                  <a:lnTo>
                    <a:pt x="7153" y="699"/>
                  </a:lnTo>
                  <a:lnTo>
                    <a:pt x="7144" y="690"/>
                  </a:lnTo>
                  <a:lnTo>
                    <a:pt x="7136" y="682"/>
                  </a:lnTo>
                  <a:lnTo>
                    <a:pt x="7128" y="672"/>
                  </a:lnTo>
                  <a:lnTo>
                    <a:pt x="7121" y="661"/>
                  </a:lnTo>
                  <a:lnTo>
                    <a:pt x="7114" y="651"/>
                  </a:lnTo>
                  <a:lnTo>
                    <a:pt x="7108" y="639"/>
                  </a:lnTo>
                  <a:lnTo>
                    <a:pt x="7103" y="628"/>
                  </a:lnTo>
                  <a:lnTo>
                    <a:pt x="7097" y="616"/>
                  </a:lnTo>
                  <a:lnTo>
                    <a:pt x="7093" y="603"/>
                  </a:lnTo>
                  <a:lnTo>
                    <a:pt x="7088" y="591"/>
                  </a:lnTo>
                  <a:lnTo>
                    <a:pt x="7085" y="576"/>
                  </a:lnTo>
                  <a:lnTo>
                    <a:pt x="7082" y="562"/>
                  </a:lnTo>
                  <a:lnTo>
                    <a:pt x="7080" y="548"/>
                  </a:lnTo>
                  <a:lnTo>
                    <a:pt x="7076" y="516"/>
                  </a:lnTo>
                  <a:lnTo>
                    <a:pt x="7075" y="483"/>
                  </a:lnTo>
                  <a:lnTo>
                    <a:pt x="7076" y="454"/>
                  </a:lnTo>
                  <a:lnTo>
                    <a:pt x="7078" y="426"/>
                  </a:lnTo>
                  <a:lnTo>
                    <a:pt x="7082" y="401"/>
                  </a:lnTo>
                  <a:lnTo>
                    <a:pt x="7088" y="376"/>
                  </a:lnTo>
                  <a:lnTo>
                    <a:pt x="7096" y="353"/>
                  </a:lnTo>
                  <a:lnTo>
                    <a:pt x="7104" y="332"/>
                  </a:lnTo>
                  <a:lnTo>
                    <a:pt x="7114" y="313"/>
                  </a:lnTo>
                  <a:lnTo>
                    <a:pt x="7126" y="296"/>
                  </a:lnTo>
                  <a:lnTo>
                    <a:pt x="7132" y="287"/>
                  </a:lnTo>
                  <a:lnTo>
                    <a:pt x="7139" y="280"/>
                  </a:lnTo>
                  <a:lnTo>
                    <a:pt x="7147" y="273"/>
                  </a:lnTo>
                  <a:lnTo>
                    <a:pt x="7154" y="267"/>
                  </a:lnTo>
                  <a:lnTo>
                    <a:pt x="7163" y="260"/>
                  </a:lnTo>
                  <a:lnTo>
                    <a:pt x="7171" y="256"/>
                  </a:lnTo>
                  <a:lnTo>
                    <a:pt x="7181" y="250"/>
                  </a:lnTo>
                  <a:lnTo>
                    <a:pt x="7191" y="246"/>
                  </a:lnTo>
                  <a:lnTo>
                    <a:pt x="7200" y="242"/>
                  </a:lnTo>
                  <a:lnTo>
                    <a:pt x="7210" y="239"/>
                  </a:lnTo>
                  <a:lnTo>
                    <a:pt x="7221" y="235"/>
                  </a:lnTo>
                  <a:lnTo>
                    <a:pt x="7233" y="232"/>
                  </a:lnTo>
                  <a:lnTo>
                    <a:pt x="7258" y="230"/>
                  </a:lnTo>
                  <a:lnTo>
                    <a:pt x="7283" y="229"/>
                  </a:lnTo>
                  <a:lnTo>
                    <a:pt x="7305" y="230"/>
                  </a:lnTo>
                  <a:lnTo>
                    <a:pt x="7327" y="231"/>
                  </a:lnTo>
                  <a:lnTo>
                    <a:pt x="7347" y="236"/>
                  </a:lnTo>
                  <a:lnTo>
                    <a:pt x="7364" y="241"/>
                  </a:lnTo>
                  <a:lnTo>
                    <a:pt x="7380" y="247"/>
                  </a:lnTo>
                  <a:lnTo>
                    <a:pt x="7394" y="256"/>
                  </a:lnTo>
                  <a:lnTo>
                    <a:pt x="7407" y="265"/>
                  </a:lnTo>
                  <a:lnTo>
                    <a:pt x="7418" y="276"/>
                  </a:lnTo>
                  <a:lnTo>
                    <a:pt x="7427" y="288"/>
                  </a:lnTo>
                  <a:lnTo>
                    <a:pt x="7435" y="302"/>
                  </a:lnTo>
                  <a:lnTo>
                    <a:pt x="7442" y="315"/>
                  </a:lnTo>
                  <a:lnTo>
                    <a:pt x="7448" y="330"/>
                  </a:lnTo>
                  <a:lnTo>
                    <a:pt x="7452" y="346"/>
                  </a:lnTo>
                  <a:lnTo>
                    <a:pt x="7455" y="362"/>
                  </a:lnTo>
                  <a:lnTo>
                    <a:pt x="7457" y="379"/>
                  </a:lnTo>
                  <a:lnTo>
                    <a:pt x="7458" y="396"/>
                  </a:lnTo>
                  <a:lnTo>
                    <a:pt x="7371" y="396"/>
                  </a:lnTo>
                  <a:lnTo>
                    <a:pt x="7371" y="385"/>
                  </a:lnTo>
                  <a:lnTo>
                    <a:pt x="7370" y="374"/>
                  </a:lnTo>
                  <a:lnTo>
                    <a:pt x="7368" y="363"/>
                  </a:lnTo>
                  <a:lnTo>
                    <a:pt x="7366" y="353"/>
                  </a:lnTo>
                  <a:lnTo>
                    <a:pt x="7363" y="343"/>
                  </a:lnTo>
                  <a:lnTo>
                    <a:pt x="7359" y="335"/>
                  </a:lnTo>
                  <a:lnTo>
                    <a:pt x="7355" y="327"/>
                  </a:lnTo>
                  <a:lnTo>
                    <a:pt x="7351" y="319"/>
                  </a:lnTo>
                  <a:lnTo>
                    <a:pt x="7344" y="313"/>
                  </a:lnTo>
                  <a:lnTo>
                    <a:pt x="7338" y="307"/>
                  </a:lnTo>
                  <a:lnTo>
                    <a:pt x="7331" y="302"/>
                  </a:lnTo>
                  <a:lnTo>
                    <a:pt x="7322" y="297"/>
                  </a:lnTo>
                  <a:lnTo>
                    <a:pt x="7313" y="295"/>
                  </a:lnTo>
                  <a:lnTo>
                    <a:pt x="7303" y="292"/>
                  </a:lnTo>
                  <a:lnTo>
                    <a:pt x="7292" y="291"/>
                  </a:lnTo>
                  <a:lnTo>
                    <a:pt x="7280" y="290"/>
                  </a:lnTo>
                  <a:lnTo>
                    <a:pt x="7265" y="291"/>
                  </a:lnTo>
                  <a:lnTo>
                    <a:pt x="7250" y="293"/>
                  </a:lnTo>
                  <a:lnTo>
                    <a:pt x="7237" y="297"/>
                  </a:lnTo>
                  <a:lnTo>
                    <a:pt x="7225" y="303"/>
                  </a:lnTo>
                  <a:lnTo>
                    <a:pt x="7214" y="310"/>
                  </a:lnTo>
                  <a:lnTo>
                    <a:pt x="7204" y="320"/>
                  </a:lnTo>
                  <a:lnTo>
                    <a:pt x="7196" y="331"/>
                  </a:lnTo>
                  <a:lnTo>
                    <a:pt x="7188" y="343"/>
                  </a:lnTo>
                  <a:lnTo>
                    <a:pt x="7181" y="358"/>
                  </a:lnTo>
                  <a:lnTo>
                    <a:pt x="7175" y="371"/>
                  </a:lnTo>
                  <a:lnTo>
                    <a:pt x="7170" y="387"/>
                  </a:lnTo>
                  <a:lnTo>
                    <a:pt x="7166" y="402"/>
                  </a:lnTo>
                  <a:lnTo>
                    <a:pt x="7163" y="418"/>
                  </a:lnTo>
                  <a:lnTo>
                    <a:pt x="7160" y="433"/>
                  </a:lnTo>
                  <a:lnTo>
                    <a:pt x="7159" y="450"/>
                  </a:lnTo>
                  <a:lnTo>
                    <a:pt x="7159" y="468"/>
                  </a:lnTo>
                  <a:lnTo>
                    <a:pt x="7159" y="491"/>
                  </a:lnTo>
                  <a:lnTo>
                    <a:pt x="7161" y="513"/>
                  </a:lnTo>
                  <a:lnTo>
                    <a:pt x="7165" y="534"/>
                  </a:lnTo>
                  <a:lnTo>
                    <a:pt x="7170" y="555"/>
                  </a:lnTo>
                  <a:lnTo>
                    <a:pt x="7176" y="576"/>
                  </a:lnTo>
                  <a:lnTo>
                    <a:pt x="7183" y="595"/>
                  </a:lnTo>
                  <a:lnTo>
                    <a:pt x="7193" y="614"/>
                  </a:lnTo>
                  <a:lnTo>
                    <a:pt x="7203" y="631"/>
                  </a:lnTo>
                  <a:lnTo>
                    <a:pt x="7209" y="639"/>
                  </a:lnTo>
                  <a:lnTo>
                    <a:pt x="7215" y="648"/>
                  </a:lnTo>
                  <a:lnTo>
                    <a:pt x="7222" y="655"/>
                  </a:lnTo>
                  <a:lnTo>
                    <a:pt x="7230" y="661"/>
                  </a:lnTo>
                  <a:lnTo>
                    <a:pt x="7238" y="667"/>
                  </a:lnTo>
                  <a:lnTo>
                    <a:pt x="7247" y="673"/>
                  </a:lnTo>
                  <a:lnTo>
                    <a:pt x="7255" y="678"/>
                  </a:lnTo>
                  <a:lnTo>
                    <a:pt x="7265" y="683"/>
                  </a:lnTo>
                  <a:lnTo>
                    <a:pt x="7275" y="688"/>
                  </a:lnTo>
                  <a:lnTo>
                    <a:pt x="7286" y="690"/>
                  </a:lnTo>
                  <a:lnTo>
                    <a:pt x="7297" y="694"/>
                  </a:lnTo>
                  <a:lnTo>
                    <a:pt x="7309" y="696"/>
                  </a:lnTo>
                  <a:lnTo>
                    <a:pt x="7335" y="700"/>
                  </a:lnTo>
                  <a:lnTo>
                    <a:pt x="7361" y="700"/>
                  </a:lnTo>
                  <a:lnTo>
                    <a:pt x="7374" y="700"/>
                  </a:lnTo>
                  <a:lnTo>
                    <a:pt x="7386" y="700"/>
                  </a:lnTo>
                  <a:lnTo>
                    <a:pt x="7396" y="700"/>
                  </a:lnTo>
                  <a:lnTo>
                    <a:pt x="7405" y="699"/>
                  </a:lnTo>
                  <a:lnTo>
                    <a:pt x="7414" y="698"/>
                  </a:lnTo>
                  <a:lnTo>
                    <a:pt x="7424" y="696"/>
                  </a:lnTo>
                  <a:lnTo>
                    <a:pt x="7433" y="693"/>
                  </a:lnTo>
                  <a:lnTo>
                    <a:pt x="7444" y="690"/>
                  </a:lnTo>
                  <a:lnTo>
                    <a:pt x="7444" y="748"/>
                  </a:lnTo>
                  <a:close/>
                  <a:moveTo>
                    <a:pt x="7532" y="497"/>
                  </a:moveTo>
                  <a:lnTo>
                    <a:pt x="7532" y="466"/>
                  </a:lnTo>
                  <a:lnTo>
                    <a:pt x="7535" y="438"/>
                  </a:lnTo>
                  <a:lnTo>
                    <a:pt x="7538" y="413"/>
                  </a:lnTo>
                  <a:lnTo>
                    <a:pt x="7544" y="387"/>
                  </a:lnTo>
                  <a:lnTo>
                    <a:pt x="7552" y="364"/>
                  </a:lnTo>
                  <a:lnTo>
                    <a:pt x="7560" y="342"/>
                  </a:lnTo>
                  <a:lnTo>
                    <a:pt x="7570" y="321"/>
                  </a:lnTo>
                  <a:lnTo>
                    <a:pt x="7582" y="302"/>
                  </a:lnTo>
                  <a:lnTo>
                    <a:pt x="7588" y="293"/>
                  </a:lnTo>
                  <a:lnTo>
                    <a:pt x="7596" y="285"/>
                  </a:lnTo>
                  <a:lnTo>
                    <a:pt x="7603" y="278"/>
                  </a:lnTo>
                  <a:lnTo>
                    <a:pt x="7610" y="270"/>
                  </a:lnTo>
                  <a:lnTo>
                    <a:pt x="7619" y="264"/>
                  </a:lnTo>
                  <a:lnTo>
                    <a:pt x="7627" y="258"/>
                  </a:lnTo>
                  <a:lnTo>
                    <a:pt x="7637" y="252"/>
                  </a:lnTo>
                  <a:lnTo>
                    <a:pt x="7647" y="247"/>
                  </a:lnTo>
                  <a:lnTo>
                    <a:pt x="7657" y="243"/>
                  </a:lnTo>
                  <a:lnTo>
                    <a:pt x="7668" y="240"/>
                  </a:lnTo>
                  <a:lnTo>
                    <a:pt x="7679" y="236"/>
                  </a:lnTo>
                  <a:lnTo>
                    <a:pt x="7690" y="234"/>
                  </a:lnTo>
                  <a:lnTo>
                    <a:pt x="7714" y="230"/>
                  </a:lnTo>
                  <a:lnTo>
                    <a:pt x="7740" y="229"/>
                  </a:lnTo>
                  <a:lnTo>
                    <a:pt x="7753" y="229"/>
                  </a:lnTo>
                  <a:lnTo>
                    <a:pt x="7765" y="230"/>
                  </a:lnTo>
                  <a:lnTo>
                    <a:pt x="7778" y="231"/>
                  </a:lnTo>
                  <a:lnTo>
                    <a:pt x="7790" y="234"/>
                  </a:lnTo>
                  <a:lnTo>
                    <a:pt x="7801" y="236"/>
                  </a:lnTo>
                  <a:lnTo>
                    <a:pt x="7812" y="240"/>
                  </a:lnTo>
                  <a:lnTo>
                    <a:pt x="7823" y="243"/>
                  </a:lnTo>
                  <a:lnTo>
                    <a:pt x="7832" y="247"/>
                  </a:lnTo>
                  <a:lnTo>
                    <a:pt x="7842" y="252"/>
                  </a:lnTo>
                  <a:lnTo>
                    <a:pt x="7852" y="258"/>
                  </a:lnTo>
                  <a:lnTo>
                    <a:pt x="7860" y="264"/>
                  </a:lnTo>
                  <a:lnTo>
                    <a:pt x="7869" y="270"/>
                  </a:lnTo>
                  <a:lnTo>
                    <a:pt x="7876" y="278"/>
                  </a:lnTo>
                  <a:lnTo>
                    <a:pt x="7885" y="285"/>
                  </a:lnTo>
                  <a:lnTo>
                    <a:pt x="7891" y="293"/>
                  </a:lnTo>
                  <a:lnTo>
                    <a:pt x="7898" y="303"/>
                  </a:lnTo>
                  <a:lnTo>
                    <a:pt x="7910" y="321"/>
                  </a:lnTo>
                  <a:lnTo>
                    <a:pt x="7920" y="342"/>
                  </a:lnTo>
                  <a:lnTo>
                    <a:pt x="7930" y="364"/>
                  </a:lnTo>
                  <a:lnTo>
                    <a:pt x="7937" y="388"/>
                  </a:lnTo>
                  <a:lnTo>
                    <a:pt x="7942" y="413"/>
                  </a:lnTo>
                  <a:lnTo>
                    <a:pt x="7946" y="439"/>
                  </a:lnTo>
                  <a:lnTo>
                    <a:pt x="7948" y="468"/>
                  </a:lnTo>
                  <a:lnTo>
                    <a:pt x="7950" y="497"/>
                  </a:lnTo>
                  <a:lnTo>
                    <a:pt x="7948" y="526"/>
                  </a:lnTo>
                  <a:lnTo>
                    <a:pt x="7946" y="553"/>
                  </a:lnTo>
                  <a:lnTo>
                    <a:pt x="7942" y="580"/>
                  </a:lnTo>
                  <a:lnTo>
                    <a:pt x="7937" y="604"/>
                  </a:lnTo>
                  <a:lnTo>
                    <a:pt x="7930" y="628"/>
                  </a:lnTo>
                  <a:lnTo>
                    <a:pt x="7920" y="650"/>
                  </a:lnTo>
                  <a:lnTo>
                    <a:pt x="7910" y="670"/>
                  </a:lnTo>
                  <a:lnTo>
                    <a:pt x="7898" y="689"/>
                  </a:lnTo>
                  <a:lnTo>
                    <a:pt x="7891" y="698"/>
                  </a:lnTo>
                  <a:lnTo>
                    <a:pt x="7885" y="706"/>
                  </a:lnTo>
                  <a:lnTo>
                    <a:pt x="7876" y="713"/>
                  </a:lnTo>
                  <a:lnTo>
                    <a:pt x="7869" y="721"/>
                  </a:lnTo>
                  <a:lnTo>
                    <a:pt x="7860" y="727"/>
                  </a:lnTo>
                  <a:lnTo>
                    <a:pt x="7852" y="733"/>
                  </a:lnTo>
                  <a:lnTo>
                    <a:pt x="7842" y="739"/>
                  </a:lnTo>
                  <a:lnTo>
                    <a:pt x="7832" y="744"/>
                  </a:lnTo>
                  <a:lnTo>
                    <a:pt x="7823" y="748"/>
                  </a:lnTo>
                  <a:lnTo>
                    <a:pt x="7812" y="751"/>
                  </a:lnTo>
                  <a:lnTo>
                    <a:pt x="7801" y="755"/>
                  </a:lnTo>
                  <a:lnTo>
                    <a:pt x="7790" y="757"/>
                  </a:lnTo>
                  <a:lnTo>
                    <a:pt x="7765" y="761"/>
                  </a:lnTo>
                  <a:lnTo>
                    <a:pt x="7740" y="762"/>
                  </a:lnTo>
                  <a:lnTo>
                    <a:pt x="7726" y="761"/>
                  </a:lnTo>
                  <a:lnTo>
                    <a:pt x="7714" y="761"/>
                  </a:lnTo>
                  <a:lnTo>
                    <a:pt x="7702" y="759"/>
                  </a:lnTo>
                  <a:lnTo>
                    <a:pt x="7690" y="757"/>
                  </a:lnTo>
                  <a:lnTo>
                    <a:pt x="7679" y="755"/>
                  </a:lnTo>
                  <a:lnTo>
                    <a:pt x="7668" y="751"/>
                  </a:lnTo>
                  <a:lnTo>
                    <a:pt x="7658" y="748"/>
                  </a:lnTo>
                  <a:lnTo>
                    <a:pt x="7647" y="743"/>
                  </a:lnTo>
                  <a:lnTo>
                    <a:pt x="7637" y="739"/>
                  </a:lnTo>
                  <a:lnTo>
                    <a:pt x="7629" y="733"/>
                  </a:lnTo>
                  <a:lnTo>
                    <a:pt x="7620" y="727"/>
                  </a:lnTo>
                  <a:lnTo>
                    <a:pt x="7612" y="721"/>
                  </a:lnTo>
                  <a:lnTo>
                    <a:pt x="7604" y="713"/>
                  </a:lnTo>
                  <a:lnTo>
                    <a:pt x="7596" y="705"/>
                  </a:lnTo>
                  <a:lnTo>
                    <a:pt x="7590" y="698"/>
                  </a:lnTo>
                  <a:lnTo>
                    <a:pt x="7582" y="688"/>
                  </a:lnTo>
                  <a:lnTo>
                    <a:pt x="7571" y="670"/>
                  </a:lnTo>
                  <a:lnTo>
                    <a:pt x="7560" y="649"/>
                  </a:lnTo>
                  <a:lnTo>
                    <a:pt x="7552" y="627"/>
                  </a:lnTo>
                  <a:lnTo>
                    <a:pt x="7544" y="604"/>
                  </a:lnTo>
                  <a:lnTo>
                    <a:pt x="7538" y="580"/>
                  </a:lnTo>
                  <a:lnTo>
                    <a:pt x="7535" y="553"/>
                  </a:lnTo>
                  <a:lnTo>
                    <a:pt x="7532" y="525"/>
                  </a:lnTo>
                  <a:lnTo>
                    <a:pt x="7532" y="497"/>
                  </a:lnTo>
                  <a:close/>
                  <a:moveTo>
                    <a:pt x="7740" y="700"/>
                  </a:moveTo>
                  <a:lnTo>
                    <a:pt x="7754" y="700"/>
                  </a:lnTo>
                  <a:lnTo>
                    <a:pt x="7769" y="698"/>
                  </a:lnTo>
                  <a:lnTo>
                    <a:pt x="7781" y="693"/>
                  </a:lnTo>
                  <a:lnTo>
                    <a:pt x="7793" y="687"/>
                  </a:lnTo>
                  <a:lnTo>
                    <a:pt x="7804" y="679"/>
                  </a:lnTo>
                  <a:lnTo>
                    <a:pt x="7815" y="671"/>
                  </a:lnTo>
                  <a:lnTo>
                    <a:pt x="7825" y="659"/>
                  </a:lnTo>
                  <a:lnTo>
                    <a:pt x="7834" y="647"/>
                  </a:lnTo>
                  <a:lnTo>
                    <a:pt x="7841" y="632"/>
                  </a:lnTo>
                  <a:lnTo>
                    <a:pt x="7848" y="617"/>
                  </a:lnTo>
                  <a:lnTo>
                    <a:pt x="7853" y="600"/>
                  </a:lnTo>
                  <a:lnTo>
                    <a:pt x="7858" y="582"/>
                  </a:lnTo>
                  <a:lnTo>
                    <a:pt x="7862" y="562"/>
                  </a:lnTo>
                  <a:lnTo>
                    <a:pt x="7864" y="542"/>
                  </a:lnTo>
                  <a:lnTo>
                    <a:pt x="7865" y="519"/>
                  </a:lnTo>
                  <a:lnTo>
                    <a:pt x="7867" y="496"/>
                  </a:lnTo>
                  <a:lnTo>
                    <a:pt x="7865" y="471"/>
                  </a:lnTo>
                  <a:lnTo>
                    <a:pt x="7864" y="449"/>
                  </a:lnTo>
                  <a:lnTo>
                    <a:pt x="7862" y="427"/>
                  </a:lnTo>
                  <a:lnTo>
                    <a:pt x="7858" y="408"/>
                  </a:lnTo>
                  <a:lnTo>
                    <a:pt x="7853" y="390"/>
                  </a:lnTo>
                  <a:lnTo>
                    <a:pt x="7848" y="373"/>
                  </a:lnTo>
                  <a:lnTo>
                    <a:pt x="7842" y="358"/>
                  </a:lnTo>
                  <a:lnTo>
                    <a:pt x="7835" y="343"/>
                  </a:lnTo>
                  <a:lnTo>
                    <a:pt x="7826" y="331"/>
                  </a:lnTo>
                  <a:lnTo>
                    <a:pt x="7817" y="320"/>
                  </a:lnTo>
                  <a:lnTo>
                    <a:pt x="7807" y="310"/>
                  </a:lnTo>
                  <a:lnTo>
                    <a:pt x="7795" y="303"/>
                  </a:lnTo>
                  <a:lnTo>
                    <a:pt x="7782" y="297"/>
                  </a:lnTo>
                  <a:lnTo>
                    <a:pt x="7769" y="293"/>
                  </a:lnTo>
                  <a:lnTo>
                    <a:pt x="7754" y="291"/>
                  </a:lnTo>
                  <a:lnTo>
                    <a:pt x="7740" y="290"/>
                  </a:lnTo>
                  <a:lnTo>
                    <a:pt x="7725" y="291"/>
                  </a:lnTo>
                  <a:lnTo>
                    <a:pt x="7710" y="293"/>
                  </a:lnTo>
                  <a:lnTo>
                    <a:pt x="7698" y="297"/>
                  </a:lnTo>
                  <a:lnTo>
                    <a:pt x="7686" y="303"/>
                  </a:lnTo>
                  <a:lnTo>
                    <a:pt x="7675" y="310"/>
                  </a:lnTo>
                  <a:lnTo>
                    <a:pt x="7664" y="320"/>
                  </a:lnTo>
                  <a:lnTo>
                    <a:pt x="7656" y="331"/>
                  </a:lnTo>
                  <a:lnTo>
                    <a:pt x="7647" y="343"/>
                  </a:lnTo>
                  <a:lnTo>
                    <a:pt x="7640" y="358"/>
                  </a:lnTo>
                  <a:lnTo>
                    <a:pt x="7634" y="373"/>
                  </a:lnTo>
                  <a:lnTo>
                    <a:pt x="7627" y="390"/>
                  </a:lnTo>
                  <a:lnTo>
                    <a:pt x="7624" y="408"/>
                  </a:lnTo>
                  <a:lnTo>
                    <a:pt x="7620" y="427"/>
                  </a:lnTo>
                  <a:lnTo>
                    <a:pt x="7618" y="449"/>
                  </a:lnTo>
                  <a:lnTo>
                    <a:pt x="7615" y="471"/>
                  </a:lnTo>
                  <a:lnTo>
                    <a:pt x="7615" y="496"/>
                  </a:lnTo>
                  <a:lnTo>
                    <a:pt x="7615" y="519"/>
                  </a:lnTo>
                  <a:lnTo>
                    <a:pt x="7618" y="542"/>
                  </a:lnTo>
                  <a:lnTo>
                    <a:pt x="7620" y="562"/>
                  </a:lnTo>
                  <a:lnTo>
                    <a:pt x="7624" y="582"/>
                  </a:lnTo>
                  <a:lnTo>
                    <a:pt x="7627" y="600"/>
                  </a:lnTo>
                  <a:lnTo>
                    <a:pt x="7634" y="617"/>
                  </a:lnTo>
                  <a:lnTo>
                    <a:pt x="7640" y="632"/>
                  </a:lnTo>
                  <a:lnTo>
                    <a:pt x="7647" y="647"/>
                  </a:lnTo>
                  <a:lnTo>
                    <a:pt x="7656" y="659"/>
                  </a:lnTo>
                  <a:lnTo>
                    <a:pt x="7664" y="671"/>
                  </a:lnTo>
                  <a:lnTo>
                    <a:pt x="7675" y="679"/>
                  </a:lnTo>
                  <a:lnTo>
                    <a:pt x="7686" y="687"/>
                  </a:lnTo>
                  <a:lnTo>
                    <a:pt x="7698" y="693"/>
                  </a:lnTo>
                  <a:lnTo>
                    <a:pt x="7710" y="698"/>
                  </a:lnTo>
                  <a:lnTo>
                    <a:pt x="7725" y="700"/>
                  </a:lnTo>
                  <a:lnTo>
                    <a:pt x="7740" y="700"/>
                  </a:lnTo>
                  <a:close/>
                  <a:moveTo>
                    <a:pt x="8245" y="463"/>
                  </a:moveTo>
                  <a:lnTo>
                    <a:pt x="8273" y="477"/>
                  </a:lnTo>
                  <a:lnTo>
                    <a:pt x="8296" y="492"/>
                  </a:lnTo>
                  <a:lnTo>
                    <a:pt x="8317" y="506"/>
                  </a:lnTo>
                  <a:lnTo>
                    <a:pt x="8334" y="521"/>
                  </a:lnTo>
                  <a:lnTo>
                    <a:pt x="8341" y="528"/>
                  </a:lnTo>
                  <a:lnTo>
                    <a:pt x="8347" y="537"/>
                  </a:lnTo>
                  <a:lnTo>
                    <a:pt x="8352" y="547"/>
                  </a:lnTo>
                  <a:lnTo>
                    <a:pt x="8357" y="558"/>
                  </a:lnTo>
                  <a:lnTo>
                    <a:pt x="8359" y="569"/>
                  </a:lnTo>
                  <a:lnTo>
                    <a:pt x="8362" y="581"/>
                  </a:lnTo>
                  <a:lnTo>
                    <a:pt x="8364" y="594"/>
                  </a:lnTo>
                  <a:lnTo>
                    <a:pt x="8364" y="608"/>
                  </a:lnTo>
                  <a:lnTo>
                    <a:pt x="8363" y="626"/>
                  </a:lnTo>
                  <a:lnTo>
                    <a:pt x="8361" y="643"/>
                  </a:lnTo>
                  <a:lnTo>
                    <a:pt x="8357" y="660"/>
                  </a:lnTo>
                  <a:lnTo>
                    <a:pt x="8352" y="675"/>
                  </a:lnTo>
                  <a:lnTo>
                    <a:pt x="8345" y="688"/>
                  </a:lnTo>
                  <a:lnTo>
                    <a:pt x="8336" y="701"/>
                  </a:lnTo>
                  <a:lnTo>
                    <a:pt x="8327" y="712"/>
                  </a:lnTo>
                  <a:lnTo>
                    <a:pt x="8316" y="722"/>
                  </a:lnTo>
                  <a:lnTo>
                    <a:pt x="8302" y="732"/>
                  </a:lnTo>
                  <a:lnTo>
                    <a:pt x="8289" y="739"/>
                  </a:lnTo>
                  <a:lnTo>
                    <a:pt x="8273" y="746"/>
                  </a:lnTo>
                  <a:lnTo>
                    <a:pt x="8256" y="752"/>
                  </a:lnTo>
                  <a:lnTo>
                    <a:pt x="8237" y="756"/>
                  </a:lnTo>
                  <a:lnTo>
                    <a:pt x="8218" y="760"/>
                  </a:lnTo>
                  <a:lnTo>
                    <a:pt x="8198" y="761"/>
                  </a:lnTo>
                  <a:lnTo>
                    <a:pt x="8176" y="762"/>
                  </a:lnTo>
                  <a:lnTo>
                    <a:pt x="8154" y="761"/>
                  </a:lnTo>
                  <a:lnTo>
                    <a:pt x="8134" y="760"/>
                  </a:lnTo>
                  <a:lnTo>
                    <a:pt x="8115" y="759"/>
                  </a:lnTo>
                  <a:lnTo>
                    <a:pt x="8100" y="756"/>
                  </a:lnTo>
                  <a:lnTo>
                    <a:pt x="8085" y="752"/>
                  </a:lnTo>
                  <a:lnTo>
                    <a:pt x="8069" y="749"/>
                  </a:lnTo>
                  <a:lnTo>
                    <a:pt x="8053" y="745"/>
                  </a:lnTo>
                  <a:lnTo>
                    <a:pt x="8037" y="740"/>
                  </a:lnTo>
                  <a:lnTo>
                    <a:pt x="8037" y="673"/>
                  </a:lnTo>
                  <a:lnTo>
                    <a:pt x="8058" y="681"/>
                  </a:lnTo>
                  <a:lnTo>
                    <a:pt x="8076" y="685"/>
                  </a:lnTo>
                  <a:lnTo>
                    <a:pt x="8093" y="690"/>
                  </a:lnTo>
                  <a:lnTo>
                    <a:pt x="8109" y="694"/>
                  </a:lnTo>
                  <a:lnTo>
                    <a:pt x="8124" y="696"/>
                  </a:lnTo>
                  <a:lnTo>
                    <a:pt x="8139" y="699"/>
                  </a:lnTo>
                  <a:lnTo>
                    <a:pt x="8153" y="700"/>
                  </a:lnTo>
                  <a:lnTo>
                    <a:pt x="8168" y="700"/>
                  </a:lnTo>
                  <a:lnTo>
                    <a:pt x="8183" y="700"/>
                  </a:lnTo>
                  <a:lnTo>
                    <a:pt x="8195" y="699"/>
                  </a:lnTo>
                  <a:lnTo>
                    <a:pt x="8208" y="698"/>
                  </a:lnTo>
                  <a:lnTo>
                    <a:pt x="8219" y="695"/>
                  </a:lnTo>
                  <a:lnTo>
                    <a:pt x="8230" y="693"/>
                  </a:lnTo>
                  <a:lnTo>
                    <a:pt x="8241" y="689"/>
                  </a:lnTo>
                  <a:lnTo>
                    <a:pt x="8250" y="685"/>
                  </a:lnTo>
                  <a:lnTo>
                    <a:pt x="8258" y="681"/>
                  </a:lnTo>
                  <a:lnTo>
                    <a:pt x="8267" y="676"/>
                  </a:lnTo>
                  <a:lnTo>
                    <a:pt x="8273" y="670"/>
                  </a:lnTo>
                  <a:lnTo>
                    <a:pt x="8279" y="662"/>
                  </a:lnTo>
                  <a:lnTo>
                    <a:pt x="8284" y="655"/>
                  </a:lnTo>
                  <a:lnTo>
                    <a:pt x="8286" y="648"/>
                  </a:lnTo>
                  <a:lnTo>
                    <a:pt x="8290" y="638"/>
                  </a:lnTo>
                  <a:lnTo>
                    <a:pt x="8291" y="628"/>
                  </a:lnTo>
                  <a:lnTo>
                    <a:pt x="8291" y="619"/>
                  </a:lnTo>
                  <a:lnTo>
                    <a:pt x="8290" y="605"/>
                  </a:lnTo>
                  <a:lnTo>
                    <a:pt x="8287" y="594"/>
                  </a:lnTo>
                  <a:lnTo>
                    <a:pt x="8284" y="584"/>
                  </a:lnTo>
                  <a:lnTo>
                    <a:pt x="8276" y="577"/>
                  </a:lnTo>
                  <a:lnTo>
                    <a:pt x="8267" y="567"/>
                  </a:lnTo>
                  <a:lnTo>
                    <a:pt x="8251" y="556"/>
                  </a:lnTo>
                  <a:lnTo>
                    <a:pt x="8228" y="543"/>
                  </a:lnTo>
                  <a:lnTo>
                    <a:pt x="8200" y="526"/>
                  </a:lnTo>
                  <a:lnTo>
                    <a:pt x="8153" y="502"/>
                  </a:lnTo>
                  <a:lnTo>
                    <a:pt x="8125" y="485"/>
                  </a:lnTo>
                  <a:lnTo>
                    <a:pt x="8101" y="469"/>
                  </a:lnTo>
                  <a:lnTo>
                    <a:pt x="8080" y="455"/>
                  </a:lnTo>
                  <a:lnTo>
                    <a:pt x="8064" y="442"/>
                  </a:lnTo>
                  <a:lnTo>
                    <a:pt x="8058" y="436"/>
                  </a:lnTo>
                  <a:lnTo>
                    <a:pt x="8053" y="429"/>
                  </a:lnTo>
                  <a:lnTo>
                    <a:pt x="8048" y="420"/>
                  </a:lnTo>
                  <a:lnTo>
                    <a:pt x="8045" y="410"/>
                  </a:lnTo>
                  <a:lnTo>
                    <a:pt x="8041" y="401"/>
                  </a:lnTo>
                  <a:lnTo>
                    <a:pt x="8039" y="390"/>
                  </a:lnTo>
                  <a:lnTo>
                    <a:pt x="8037" y="377"/>
                  </a:lnTo>
                  <a:lnTo>
                    <a:pt x="8037" y="364"/>
                  </a:lnTo>
                  <a:lnTo>
                    <a:pt x="8039" y="348"/>
                  </a:lnTo>
                  <a:lnTo>
                    <a:pt x="8040" y="334"/>
                  </a:lnTo>
                  <a:lnTo>
                    <a:pt x="8043" y="320"/>
                  </a:lnTo>
                  <a:lnTo>
                    <a:pt x="8048" y="308"/>
                  </a:lnTo>
                  <a:lnTo>
                    <a:pt x="8054" y="296"/>
                  </a:lnTo>
                  <a:lnTo>
                    <a:pt x="8063" y="285"/>
                  </a:lnTo>
                  <a:lnTo>
                    <a:pt x="8072" y="274"/>
                  </a:lnTo>
                  <a:lnTo>
                    <a:pt x="8083" y="264"/>
                  </a:lnTo>
                  <a:lnTo>
                    <a:pt x="8095" y="257"/>
                  </a:lnTo>
                  <a:lnTo>
                    <a:pt x="8107" y="250"/>
                  </a:lnTo>
                  <a:lnTo>
                    <a:pt x="8122" y="243"/>
                  </a:lnTo>
                  <a:lnTo>
                    <a:pt x="8137" y="237"/>
                  </a:lnTo>
                  <a:lnTo>
                    <a:pt x="8154" y="234"/>
                  </a:lnTo>
                  <a:lnTo>
                    <a:pt x="8173" y="231"/>
                  </a:lnTo>
                  <a:lnTo>
                    <a:pt x="8191" y="230"/>
                  </a:lnTo>
                  <a:lnTo>
                    <a:pt x="8212" y="229"/>
                  </a:lnTo>
                  <a:lnTo>
                    <a:pt x="8229" y="229"/>
                  </a:lnTo>
                  <a:lnTo>
                    <a:pt x="8244" y="230"/>
                  </a:lnTo>
                  <a:lnTo>
                    <a:pt x="8257" y="231"/>
                  </a:lnTo>
                  <a:lnTo>
                    <a:pt x="8268" y="232"/>
                  </a:lnTo>
                  <a:lnTo>
                    <a:pt x="8279" y="235"/>
                  </a:lnTo>
                  <a:lnTo>
                    <a:pt x="8294" y="237"/>
                  </a:lnTo>
                  <a:lnTo>
                    <a:pt x="8312" y="241"/>
                  </a:lnTo>
                  <a:lnTo>
                    <a:pt x="8333" y="246"/>
                  </a:lnTo>
                  <a:lnTo>
                    <a:pt x="8333" y="313"/>
                  </a:lnTo>
                  <a:lnTo>
                    <a:pt x="8318" y="308"/>
                  </a:lnTo>
                  <a:lnTo>
                    <a:pt x="8303" y="304"/>
                  </a:lnTo>
                  <a:lnTo>
                    <a:pt x="8287" y="299"/>
                  </a:lnTo>
                  <a:lnTo>
                    <a:pt x="8270" y="296"/>
                  </a:lnTo>
                  <a:lnTo>
                    <a:pt x="8255" y="293"/>
                  </a:lnTo>
                  <a:lnTo>
                    <a:pt x="8240" y="291"/>
                  </a:lnTo>
                  <a:lnTo>
                    <a:pt x="8225" y="290"/>
                  </a:lnTo>
                  <a:lnTo>
                    <a:pt x="8213" y="290"/>
                  </a:lnTo>
                  <a:lnTo>
                    <a:pt x="8202" y="290"/>
                  </a:lnTo>
                  <a:lnTo>
                    <a:pt x="8191" y="291"/>
                  </a:lnTo>
                  <a:lnTo>
                    <a:pt x="8181" y="292"/>
                  </a:lnTo>
                  <a:lnTo>
                    <a:pt x="8172" y="295"/>
                  </a:lnTo>
                  <a:lnTo>
                    <a:pt x="8163" y="297"/>
                  </a:lnTo>
                  <a:lnTo>
                    <a:pt x="8154" y="301"/>
                  </a:lnTo>
                  <a:lnTo>
                    <a:pt x="8146" y="304"/>
                  </a:lnTo>
                  <a:lnTo>
                    <a:pt x="8139" y="308"/>
                  </a:lnTo>
                  <a:lnTo>
                    <a:pt x="8133" y="313"/>
                  </a:lnTo>
                  <a:lnTo>
                    <a:pt x="8126" y="319"/>
                  </a:lnTo>
                  <a:lnTo>
                    <a:pt x="8122" y="324"/>
                  </a:lnTo>
                  <a:lnTo>
                    <a:pt x="8118" y="330"/>
                  </a:lnTo>
                  <a:lnTo>
                    <a:pt x="8114" y="336"/>
                  </a:lnTo>
                  <a:lnTo>
                    <a:pt x="8112" y="342"/>
                  </a:lnTo>
                  <a:lnTo>
                    <a:pt x="8111" y="349"/>
                  </a:lnTo>
                  <a:lnTo>
                    <a:pt x="8111" y="357"/>
                  </a:lnTo>
                  <a:lnTo>
                    <a:pt x="8111" y="364"/>
                  </a:lnTo>
                  <a:lnTo>
                    <a:pt x="8113" y="371"/>
                  </a:lnTo>
                  <a:lnTo>
                    <a:pt x="8115" y="379"/>
                  </a:lnTo>
                  <a:lnTo>
                    <a:pt x="8120" y="385"/>
                  </a:lnTo>
                  <a:lnTo>
                    <a:pt x="8125" y="391"/>
                  </a:lnTo>
                  <a:lnTo>
                    <a:pt x="8133" y="397"/>
                  </a:lnTo>
                  <a:lnTo>
                    <a:pt x="8140" y="403"/>
                  </a:lnTo>
                  <a:lnTo>
                    <a:pt x="8148" y="408"/>
                  </a:lnTo>
                  <a:lnTo>
                    <a:pt x="8167" y="418"/>
                  </a:lnTo>
                  <a:lnTo>
                    <a:pt x="8181" y="426"/>
                  </a:lnTo>
                  <a:lnTo>
                    <a:pt x="8194" y="432"/>
                  </a:lnTo>
                  <a:lnTo>
                    <a:pt x="8202" y="436"/>
                  </a:lnTo>
                  <a:lnTo>
                    <a:pt x="8245" y="463"/>
                  </a:lnTo>
                  <a:close/>
                </a:path>
              </a:pathLst>
            </a:custGeom>
            <a:solidFill>
              <a:srgbClr val="8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20880" y="1267920"/>
            <a:ext cx="6681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rmas sobre Procedimientos Administrativos y Controles Internos en Compañías de Seguros y AFJP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682880" y="5445000"/>
            <a:ext cx="291924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viembr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918560" y="692280"/>
            <a:ext cx="0" cy="53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onograma de Cumplimiento</a:t>
            </a:r>
            <a:br>
              <a:rPr sz="28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Res. SSN 31.231/06 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311040" y="1352520"/>
            <a:ext cx="3130560" cy="1657440"/>
            <a:chOff x="311040" y="1352520"/>
            <a:chExt cx="3130560" cy="1657440"/>
          </a:xfrm>
        </p:grpSpPr>
        <p:sp>
          <p:nvSpPr>
            <p:cNvPr id="336" name=""/>
            <p:cNvSpPr/>
            <p:nvPr/>
          </p:nvSpPr>
          <p:spPr>
            <a:xfrm>
              <a:off x="2759040" y="171288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1040" y="2217600"/>
              <a:ext cx="2448000" cy="792360"/>
            </a:xfrm>
            <a:custGeom>
              <a:avLst/>
              <a:gdLst>
                <a:gd name="textAreaLeft" fmla="*/ 0 w 2448000"/>
                <a:gd name="textAreaRight" fmla="*/ 2448360 w 2448000"/>
                <a:gd name="textAreaTop" fmla="*/ 0 h 792360"/>
                <a:gd name="textAreaBottom" fmla="*/ 79272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836" y="0"/>
                  </a:lnTo>
                  <a:lnTo>
                    <a:pt x="21600" y="10800"/>
                  </a:lnTo>
                  <a:lnTo>
                    <a:pt x="1983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Designació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Responsable Control Inter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Y Comité Control Inter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255760" y="1352520"/>
              <a:ext cx="118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30.09.06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2759040" y="1352520"/>
            <a:ext cx="2952720" cy="1657440"/>
            <a:chOff x="2759040" y="1352520"/>
            <a:chExt cx="2952720" cy="1657440"/>
          </a:xfrm>
        </p:grpSpPr>
        <p:sp>
          <p:nvSpPr>
            <p:cNvPr id="340" name=""/>
            <p:cNvSpPr/>
            <p:nvPr/>
          </p:nvSpPr>
          <p:spPr>
            <a:xfrm>
              <a:off x="2759040" y="2217600"/>
              <a:ext cx="2303640" cy="792360"/>
            </a:xfrm>
            <a:custGeom>
              <a:avLst/>
              <a:gdLst>
                <a:gd name="textAreaLeft" fmla="*/ 0 w 2303640"/>
                <a:gd name="textAreaRight" fmla="*/ 2304000 w 2303640"/>
                <a:gd name="textAreaTop" fmla="*/ 0 h 792360"/>
                <a:gd name="textAreaBottom" fmla="*/ 79272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854" y="0"/>
                  </a:lnTo>
                  <a:lnTo>
                    <a:pt x="21600" y="10800"/>
                  </a:lnTo>
                  <a:lnTo>
                    <a:pt x="1985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808080"/>
                  </a:solidFill>
                  <a:latin typeface="Arial"/>
                </a:rPr>
                <a:t>Aprobación Excepc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808080"/>
                  </a:solidFill>
                  <a:latin typeface="Arial"/>
                </a:rPr>
                <a:t>Programa Anu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808080"/>
                  </a:solidFill>
                  <a:latin typeface="Arial"/>
                </a:rPr>
                <a:t>de Control Interno (PACI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632480" y="1352520"/>
              <a:ext cx="107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15.12.0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64120" y="178452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064120" y="1352520"/>
            <a:ext cx="2698920" cy="1657440"/>
            <a:chOff x="5064120" y="1352520"/>
            <a:chExt cx="2698920" cy="1657440"/>
          </a:xfrm>
        </p:grpSpPr>
        <p:sp>
          <p:nvSpPr>
            <p:cNvPr id="344" name=""/>
            <p:cNvSpPr/>
            <p:nvPr/>
          </p:nvSpPr>
          <p:spPr>
            <a:xfrm>
              <a:off x="5064120" y="2217600"/>
              <a:ext cx="2016000" cy="792360"/>
            </a:xfrm>
            <a:custGeom>
              <a:avLst/>
              <a:gdLst>
                <a:gd name="textAreaLeft" fmla="*/ 0 w 2016000"/>
                <a:gd name="textAreaRight" fmla="*/ 2016360 w 2016000"/>
                <a:gd name="textAreaTop" fmla="*/ 0 h 792360"/>
                <a:gd name="textAreaBottom" fmla="*/ 79272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37" y="0"/>
                  </a:lnTo>
                  <a:lnTo>
                    <a:pt x="21600" y="10800"/>
                  </a:lnTo>
                  <a:lnTo>
                    <a:pt x="1893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808080"/>
                  </a:solidFill>
                  <a:latin typeface="Arial"/>
                </a:rPr>
                <a:t>Aprobación Parc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808080"/>
                  </a:solidFill>
                  <a:latin typeface="Arial"/>
                </a:rPr>
                <a:t>Procedimien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808080"/>
                  </a:solidFill>
                  <a:latin typeface="Arial"/>
                </a:rPr>
                <a:t>s/Com. SSN 132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539040" y="135252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31.12.06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115040" y="185724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7115040" y="1352520"/>
            <a:ext cx="2303640" cy="1657440"/>
            <a:chOff x="7115040" y="1352520"/>
            <a:chExt cx="2303640" cy="1657440"/>
          </a:xfrm>
        </p:grpSpPr>
        <p:sp>
          <p:nvSpPr>
            <p:cNvPr id="348" name=""/>
            <p:cNvSpPr/>
            <p:nvPr/>
          </p:nvSpPr>
          <p:spPr>
            <a:xfrm>
              <a:off x="7115040" y="2217600"/>
              <a:ext cx="2016360" cy="792360"/>
            </a:xfrm>
            <a:custGeom>
              <a:avLst/>
              <a:gdLst>
                <a:gd name="textAreaLeft" fmla="*/ 0 w 2016360"/>
                <a:gd name="textAreaRight" fmla="*/ 2016720 w 2016360"/>
                <a:gd name="textAreaTop" fmla="*/ 0 h 792360"/>
                <a:gd name="textAreaBottom" fmla="*/ 79272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37" y="0"/>
                  </a:lnTo>
                  <a:lnTo>
                    <a:pt x="21600" y="10800"/>
                  </a:lnTo>
                  <a:lnTo>
                    <a:pt x="1893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Aprobación To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Procedimien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Res. 31231/200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231040" y="1352520"/>
              <a:ext cx="11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31.03.07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131400" y="178452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0" y="1138320"/>
            <a:ext cx="1282680" cy="1010160"/>
          </a:xfrm>
          <a:prstGeom prst="downArrow">
            <a:avLst>
              <a:gd name="adj1" fmla="val 70741"/>
              <a:gd name="adj2" fmla="val 260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0000"/>
                </a:solidFill>
                <a:latin typeface="Arial"/>
              </a:rPr>
              <a:t>Ejercicios Iniciados a partir del 1/07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2938320" y="3081240"/>
            <a:ext cx="1584360" cy="1440000"/>
            <a:chOff x="2938320" y="3081240"/>
            <a:chExt cx="1584360" cy="1440000"/>
          </a:xfrm>
        </p:grpSpPr>
        <p:sp>
          <p:nvSpPr>
            <p:cNvPr id="353" name=""/>
            <p:cNvSpPr/>
            <p:nvPr/>
          </p:nvSpPr>
          <p:spPr>
            <a:xfrm rot="5400000">
              <a:off x="3586680" y="2937600"/>
              <a:ext cx="360360" cy="6476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938320" y="3514680"/>
              <a:ext cx="158436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barca el Período Semestral comprendido entre el  1/01/07 y el 30/06/0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4667400" y="3081240"/>
            <a:ext cx="2374920" cy="2535120"/>
            <a:chOff x="4667400" y="3081240"/>
            <a:chExt cx="2374920" cy="2535120"/>
          </a:xfrm>
        </p:grpSpPr>
        <p:sp>
          <p:nvSpPr>
            <p:cNvPr id="356" name=""/>
            <p:cNvSpPr/>
            <p:nvPr/>
          </p:nvSpPr>
          <p:spPr>
            <a:xfrm rot="5400000">
              <a:off x="5747040" y="2937600"/>
              <a:ext cx="360360" cy="6476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667400" y="3514680"/>
              <a:ext cx="2374920" cy="21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.9.5. Políticas de retención y suscripción de riesgo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.9.7. Políticas y procedimientos de inversione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.9.8. Siniestros; denuncias, registro, liquidación y pago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.9.9. Recepción y registro de mediaciones y demandas judiciale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.9.10. Juicios; registro, valuación y control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7042320" y="3081240"/>
            <a:ext cx="2592360" cy="3082680"/>
            <a:chOff x="7042320" y="3081240"/>
            <a:chExt cx="2592360" cy="3082680"/>
          </a:xfrm>
        </p:grpSpPr>
        <p:sp>
          <p:nvSpPr>
            <p:cNvPr id="359" name=""/>
            <p:cNvSpPr/>
            <p:nvPr/>
          </p:nvSpPr>
          <p:spPr>
            <a:xfrm rot="5400000">
              <a:off x="7834680" y="2937600"/>
              <a:ext cx="360360" cy="6476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42320" y="3514680"/>
              <a:ext cx="2592360" cy="26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.9.1. Recepción de propuestas de coberturas. Emisión y entrega de certificados de coberturas y póliza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.9.2. Suspensión de coberturas, rescisión y anulación de operacione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.9.3. Cobranzas y su imputación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99"/>
                  </a:solidFill>
                  <a:latin typeface="Arial"/>
                </a:rPr>
                <a:t>1.9.4.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Liquidación y pago de comisiones a intermediario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99"/>
                  </a:solidFill>
                  <a:latin typeface="Arial"/>
                </a:rPr>
                <a:t>1.9.6.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Tarifas; aprobación y aplicación de las misma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3801960" y="1569960"/>
            <a:ext cx="720720" cy="577800"/>
            <a:chOff x="3801960" y="1569960"/>
            <a:chExt cx="720720" cy="577800"/>
          </a:xfrm>
        </p:grpSpPr>
        <p:sp>
          <p:nvSpPr>
            <p:cNvPr id="362" name=""/>
            <p:cNvSpPr/>
            <p:nvPr/>
          </p:nvSpPr>
          <p:spPr>
            <a:xfrm>
              <a:off x="3801960" y="1569960"/>
              <a:ext cx="7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ff0000"/>
                  </a:solidFill>
                  <a:latin typeface="Arial"/>
                </a:rPr>
                <a:t>Ho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62320" y="18590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3225960" y="4522680"/>
            <a:ext cx="1079280" cy="1152720"/>
            <a:chOff x="3225960" y="4522680"/>
            <a:chExt cx="1079280" cy="1152720"/>
          </a:xfrm>
        </p:grpSpPr>
        <p:sp>
          <p:nvSpPr>
            <p:cNvPr id="365" name=""/>
            <p:cNvSpPr/>
            <p:nvPr/>
          </p:nvSpPr>
          <p:spPr>
            <a:xfrm rot="5400000">
              <a:off x="3584880" y="4379040"/>
              <a:ext cx="360360" cy="6476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225960" y="4954680"/>
              <a:ext cx="1079280" cy="720720"/>
            </a:xfrm>
            <a:prstGeom prst="flowChartDocumen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Acta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Director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560520" y="4221000"/>
            <a:ext cx="2087280" cy="1936800"/>
            <a:chOff x="560520" y="4221000"/>
            <a:chExt cx="2087280" cy="1936800"/>
          </a:xfrm>
        </p:grpSpPr>
        <p:sp>
          <p:nvSpPr>
            <p:cNvPr id="368" name=""/>
            <p:cNvSpPr/>
            <p:nvPr/>
          </p:nvSpPr>
          <p:spPr>
            <a:xfrm>
              <a:off x="560520" y="4221000"/>
              <a:ext cx="2087280" cy="1281240"/>
            </a:xfrm>
            <a:prstGeom prst="wedgeEllipseCallout">
              <a:avLst>
                <a:gd name="adj1" fmla="val -32967"/>
                <a:gd name="adj2" fmla="val 6462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* Nota dirigida a SSN firmada por el Presidente y el Director miembro del Comité de C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69" name=""/>
            <p:cNvGraphicFramePr/>
            <p:nvPr/>
          </p:nvGraphicFramePr>
          <p:xfrm>
            <a:off x="560520" y="5516640"/>
            <a:ext cx="323640" cy="641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7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0520" y="5516640"/>
                      <a:ext cx="323640" cy="64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88520" y="333360"/>
            <a:ext cx="89154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ón</a:t>
            </a:r>
            <a:br>
              <a:rPr sz="28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Res. SSN 31.231/06 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792520" y="1844640"/>
            <a:ext cx="1560240" cy="1234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s s/Procedimientos Administrativos y 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6105600" y="1989000"/>
            <a:ext cx="1008000" cy="1163520"/>
            <a:chOff x="6105600" y="1989000"/>
            <a:chExt cx="1008000" cy="1163520"/>
          </a:xfrm>
        </p:grpSpPr>
        <p:graphicFrame>
          <p:nvGraphicFramePr>
            <p:cNvPr id="374" name=""/>
            <p:cNvGraphicFramePr/>
            <p:nvPr/>
          </p:nvGraphicFramePr>
          <p:xfrm>
            <a:off x="6176880" y="2280960"/>
            <a:ext cx="936720" cy="871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7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76880" y="2280960"/>
                      <a:ext cx="936720" cy="87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6" name=""/>
            <p:cNvSpPr/>
            <p:nvPr/>
          </p:nvSpPr>
          <p:spPr>
            <a:xfrm>
              <a:off x="6105600" y="1989000"/>
              <a:ext cx="1008000" cy="39168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Director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8337600" y="1989000"/>
            <a:ext cx="1369800" cy="10148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gur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c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calización SS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272880" y="2997360"/>
            <a:ext cx="1370160" cy="1143000"/>
            <a:chOff x="272880" y="2997360"/>
            <a:chExt cx="1370160" cy="1143000"/>
          </a:xfrm>
        </p:grpSpPr>
        <p:sp>
          <p:nvSpPr>
            <p:cNvPr id="379" name=""/>
            <p:cNvSpPr/>
            <p:nvPr/>
          </p:nvSpPr>
          <p:spPr>
            <a:xfrm>
              <a:off x="272880" y="3498840"/>
              <a:ext cx="1370160" cy="641520"/>
            </a:xfrm>
            <a:prstGeom prst="flowChart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mplia Libertad p/ la Redacción de sus Norm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920880" y="2997360"/>
              <a:ext cx="1440" cy="50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272880" y="4148280"/>
            <a:ext cx="1369800" cy="1222560"/>
            <a:chOff x="272880" y="4148280"/>
            <a:chExt cx="1369800" cy="1222560"/>
          </a:xfrm>
        </p:grpSpPr>
        <p:sp>
          <p:nvSpPr>
            <p:cNvPr id="382" name=""/>
            <p:cNvSpPr/>
            <p:nvPr/>
          </p:nvSpPr>
          <p:spPr>
            <a:xfrm>
              <a:off x="272880" y="4364280"/>
              <a:ext cx="1369800" cy="1006560"/>
            </a:xfrm>
            <a:prstGeom prst="flowChart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gún Criterios y Prácticas Profesionales de CI generalmente aceptad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921960" y="41482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2793960" y="3068640"/>
            <a:ext cx="1370160" cy="708120"/>
            <a:chOff x="2793960" y="3068640"/>
            <a:chExt cx="1370160" cy="708120"/>
          </a:xfrm>
        </p:grpSpPr>
        <p:sp>
          <p:nvSpPr>
            <p:cNvPr id="385" name=""/>
            <p:cNvSpPr/>
            <p:nvPr/>
          </p:nvSpPr>
          <p:spPr>
            <a:xfrm>
              <a:off x="2793960" y="3500280"/>
              <a:ext cx="1370160" cy="276480"/>
            </a:xfrm>
            <a:prstGeom prst="flowChart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scrit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441600" y="30686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2720880" y="3718080"/>
            <a:ext cx="1513080" cy="1106640"/>
            <a:chOff x="2720880" y="3718080"/>
            <a:chExt cx="1513080" cy="1106640"/>
          </a:xfrm>
        </p:grpSpPr>
        <p:sp>
          <p:nvSpPr>
            <p:cNvPr id="388" name=""/>
            <p:cNvSpPr/>
            <p:nvPr/>
          </p:nvSpPr>
          <p:spPr>
            <a:xfrm>
              <a:off x="2720880" y="4365720"/>
              <a:ext cx="1513080" cy="459000"/>
            </a:xfrm>
            <a:prstGeom prst="flowChart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lementarias a la Resol. UIF 6/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441600" y="371808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5745240" y="3213000"/>
            <a:ext cx="1728720" cy="928800"/>
            <a:chOff x="5745240" y="3213000"/>
            <a:chExt cx="1728720" cy="928800"/>
          </a:xfrm>
        </p:grpSpPr>
        <p:sp>
          <p:nvSpPr>
            <p:cNvPr id="391" name=""/>
            <p:cNvSpPr/>
            <p:nvPr/>
          </p:nvSpPr>
          <p:spPr>
            <a:xfrm>
              <a:off x="5745240" y="3500280"/>
              <a:ext cx="1728720" cy="641520"/>
            </a:xfrm>
            <a:prstGeom prst="flowChart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ran en Vigencia a partir de la Aprobación del Director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6608880" y="3213000"/>
              <a:ext cx="144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1805760" y="2082960"/>
            <a:ext cx="843480" cy="480960"/>
            <a:chOff x="1805760" y="2082960"/>
            <a:chExt cx="843480" cy="480960"/>
          </a:xfrm>
        </p:grpSpPr>
        <p:sp>
          <p:nvSpPr>
            <p:cNvPr id="394" name=""/>
            <p:cNvSpPr/>
            <p:nvPr/>
          </p:nvSpPr>
          <p:spPr>
            <a:xfrm>
              <a:off x="1805760" y="2082960"/>
              <a:ext cx="72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rob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07920" y="2276640"/>
              <a:ext cx="841320" cy="287280"/>
            </a:xfrm>
            <a:prstGeom prst="rightArrow">
              <a:avLst>
                <a:gd name="adj1" fmla="val 50000"/>
                <a:gd name="adj2" fmla="val 73214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4413960" y="1866960"/>
            <a:ext cx="1311480" cy="1006560"/>
            <a:chOff x="4413960" y="1866960"/>
            <a:chExt cx="1311480" cy="1006560"/>
          </a:xfrm>
        </p:grpSpPr>
        <p:sp>
          <p:nvSpPr>
            <p:cNvPr id="397" name=""/>
            <p:cNvSpPr/>
            <p:nvPr/>
          </p:nvSpPr>
          <p:spPr>
            <a:xfrm>
              <a:off x="4413960" y="1866960"/>
              <a:ext cx="13114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j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abilid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 p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rmed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94400" y="2276640"/>
              <a:ext cx="950400" cy="287280"/>
            </a:xfrm>
            <a:prstGeom prst="rightArrow">
              <a:avLst>
                <a:gd name="adj1" fmla="val 50000"/>
                <a:gd name="adj2" fmla="val 82707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7109280" y="2082960"/>
            <a:ext cx="1078560" cy="480960"/>
            <a:chOff x="7109280" y="2082960"/>
            <a:chExt cx="1078560" cy="480960"/>
          </a:xfrm>
        </p:grpSpPr>
        <p:sp>
          <p:nvSpPr>
            <p:cNvPr id="400" name=""/>
            <p:cNvSpPr/>
            <p:nvPr/>
          </p:nvSpPr>
          <p:spPr>
            <a:xfrm>
              <a:off x="7109280" y="2082960"/>
              <a:ext cx="104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 Benefic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285680" y="2276640"/>
              <a:ext cx="902160" cy="287280"/>
            </a:xfrm>
            <a:prstGeom prst="rightArrow">
              <a:avLst>
                <a:gd name="adj1" fmla="val 50000"/>
                <a:gd name="adj2" fmla="val 78509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415800" y="1268280"/>
            <a:ext cx="1492200" cy="1655640"/>
            <a:chOff x="415800" y="1268280"/>
            <a:chExt cx="1492200" cy="1655640"/>
          </a:xfrm>
        </p:grpSpPr>
        <p:graphicFrame>
          <p:nvGraphicFramePr>
            <p:cNvPr id="403" name=""/>
            <p:cNvGraphicFramePr/>
            <p:nvPr/>
          </p:nvGraphicFramePr>
          <p:xfrm>
            <a:off x="488520" y="1773000"/>
            <a:ext cx="652680" cy="1008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8520" y="1773000"/>
                      <a:ext cx="652680" cy="100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5" name=""/>
            <p:cNvSpPr/>
            <p:nvPr/>
          </p:nvSpPr>
          <p:spPr>
            <a:xfrm>
              <a:off x="415800" y="1268280"/>
              <a:ext cx="1492200" cy="649800"/>
            </a:xfrm>
            <a:prstGeom prst="flowChartTerminator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eguradoras y Reasegurador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06" name=""/>
            <p:cNvGraphicFramePr/>
            <p:nvPr/>
          </p:nvGraphicFramePr>
          <p:xfrm>
            <a:off x="920520" y="1915920"/>
            <a:ext cx="652320" cy="100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0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0520" y="1915920"/>
                      <a:ext cx="652320" cy="100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2792160" y="4076280"/>
            <a:ext cx="4809960" cy="17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ego Maras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ww.mbasociados.com.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viembr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918560" y="692280"/>
            <a:ext cx="0" cy="53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60160" y="475920"/>
            <a:ext cx="8915400" cy="4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co Normativo Actual en AFJP’s y Segu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73240" y="1557360"/>
            <a:ext cx="6408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Resolución General Nº 2/98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– Normas Marco sobre Control Interno de las AFJ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Instrucción Nº 23/05 y sus modificatori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– Unifica y actualiz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宋体"/>
              </a:rPr>
              <a:t>la normativa existente en función de una visión integradora de control, en la que interactúan y se complementan las tareas de control interno y exter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04880" y="1557360"/>
            <a:ext cx="1152360" cy="2009160"/>
            <a:chOff x="704880" y="1557360"/>
            <a:chExt cx="1152360" cy="2009160"/>
          </a:xfrm>
        </p:grpSpPr>
        <p:pic>
          <p:nvPicPr>
            <p:cNvPr id="59" name="" descr=""/>
            <p:cNvPicPr/>
            <p:nvPr/>
          </p:nvPicPr>
          <p:blipFill>
            <a:blip r:embed="rId1"/>
            <a:srcRect l="0" t="0" r="55729" b="0"/>
            <a:stretch/>
          </p:blipFill>
          <p:spPr>
            <a:xfrm>
              <a:off x="704880" y="1557360"/>
              <a:ext cx="1152360" cy="164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704880" y="3198240"/>
              <a:ext cx="10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AFJ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04880" y="1557360"/>
              <a:ext cx="1152360" cy="194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704880" y="3789360"/>
            <a:ext cx="1152360" cy="2009160"/>
            <a:chOff x="704880" y="3789360"/>
            <a:chExt cx="1152360" cy="2009160"/>
          </a:xfrm>
        </p:grpSpPr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704880" y="3789360"/>
              <a:ext cx="1152360" cy="164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704880" y="5430240"/>
              <a:ext cx="10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S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04880" y="3789360"/>
              <a:ext cx="1152360" cy="194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2073240" y="393372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Resolución General Nº 31.231/06 y sus modificatori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– Normas sobre Procedimientos Administrativos y Controles Internos en entidades Aseguradoras y Reasegurado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ptos de las Normas Vigentes en AFJP’s y Segu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08280" y="4869000"/>
            <a:ext cx="129564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2. Progra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Anual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Inter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72040" y="4869000"/>
            <a:ext cx="129528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3. Informes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gistro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Actu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37240" y="4869000"/>
            <a:ext cx="129564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4. Papele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Trabaj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17600" y="1411200"/>
            <a:ext cx="5616720" cy="433440"/>
          </a:xfrm>
          <a:prstGeom prst="flowChartProcess">
            <a:avLst/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tructura Orgá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5168880" y="2205000"/>
            <a:ext cx="2736720" cy="1582920"/>
            <a:chOff x="5168880" y="2205000"/>
            <a:chExt cx="2736720" cy="1582920"/>
          </a:xfrm>
        </p:grpSpPr>
        <p:sp>
          <p:nvSpPr>
            <p:cNvPr id="73" name=""/>
            <p:cNvSpPr/>
            <p:nvPr/>
          </p:nvSpPr>
          <p:spPr>
            <a:xfrm>
              <a:off x="5168880" y="2205000"/>
              <a:ext cx="2736720" cy="5763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Respons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De Control Inter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960880" y="2995560"/>
              <a:ext cx="1224000" cy="792360"/>
            </a:xfrm>
            <a:prstGeom prst="flowChartDocument">
              <a:avLst/>
            </a:prstGeom>
            <a:solidFill>
              <a:srgbClr val="9999ff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form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214720" y="2205000"/>
            <a:ext cx="2736720" cy="1666800"/>
            <a:chOff x="2214720" y="2205000"/>
            <a:chExt cx="2736720" cy="1666800"/>
          </a:xfrm>
        </p:grpSpPr>
        <p:sp>
          <p:nvSpPr>
            <p:cNvPr id="76" name=""/>
            <p:cNvSpPr/>
            <p:nvPr/>
          </p:nvSpPr>
          <p:spPr>
            <a:xfrm>
              <a:off x="2214720" y="2205000"/>
              <a:ext cx="2736720" cy="5778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Comité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Control Inter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2359080" y="2995560"/>
              <a:ext cx="2448720" cy="876240"/>
              <a:chOff x="2359080" y="2995560"/>
              <a:chExt cx="2448720" cy="876240"/>
            </a:xfrm>
          </p:grpSpPr>
          <p:grpSp>
            <p:nvGrpSpPr>
              <p:cNvPr id="78" name=""/>
              <p:cNvGrpSpPr/>
              <p:nvPr/>
            </p:nvGrpSpPr>
            <p:grpSpPr>
              <a:xfrm>
                <a:off x="2359080" y="2995560"/>
                <a:ext cx="1550160" cy="876240"/>
                <a:chOff x="2359080" y="2995560"/>
                <a:chExt cx="1550160" cy="87624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2732400" y="3174480"/>
                  <a:ext cx="798840" cy="537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2359080" y="3692880"/>
                  <a:ext cx="459000" cy="1789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2904480" y="2995560"/>
                  <a:ext cx="459360" cy="178920"/>
                </a:xfrm>
                <a:prstGeom prst="ellipse">
                  <a:avLst/>
                </a:prstGeom>
                <a:solidFill>
                  <a:srgbClr val="ffbe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450240" y="3692880"/>
                  <a:ext cx="459000" cy="178920"/>
                </a:xfrm>
                <a:prstGeom prst="ellipse">
                  <a:avLst/>
                </a:prstGeom>
                <a:solidFill>
                  <a:srgbClr val="d8ebb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" name=""/>
              <p:cNvSpPr/>
              <p:nvPr/>
            </p:nvSpPr>
            <p:spPr>
              <a:xfrm>
                <a:off x="3511440" y="3068280"/>
                <a:ext cx="129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euniones Periódic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>
            <a:off x="2216160" y="4221000"/>
            <a:ext cx="5616720" cy="433440"/>
          </a:xfrm>
          <a:prstGeom prst="flowChartProcess">
            <a:avLst/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tructura Metodo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72880" y="1413000"/>
            <a:ext cx="1672920" cy="4608360"/>
            <a:chOff x="272880" y="1413000"/>
            <a:chExt cx="1672920" cy="4608360"/>
          </a:xfrm>
        </p:grpSpPr>
        <p:sp>
          <p:nvSpPr>
            <p:cNvPr id="86" name=""/>
            <p:cNvSpPr/>
            <p:nvPr/>
          </p:nvSpPr>
          <p:spPr>
            <a:xfrm>
              <a:off x="1049400" y="1844640"/>
              <a:ext cx="896400" cy="3745080"/>
            </a:xfrm>
            <a:custGeom>
              <a:avLst/>
              <a:gdLst>
                <a:gd name="textAreaLeft" fmla="*/ 0 w 896400"/>
                <a:gd name="textAreaRight" fmla="*/ 896760 w 896400"/>
                <a:gd name="textAreaTop" fmla="*/ 0 h 3745080"/>
                <a:gd name="textAreaBottom" fmla="*/ 3745440 h 374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2880" y="1413000"/>
              <a:ext cx="1374480" cy="4608360"/>
            </a:xfrm>
            <a:prstGeom prst="flowChartProcess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strucción SAFJP 23/0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sol. SSN 31.231/0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272880" y="3933720"/>
            <a:ext cx="1366920" cy="1008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44880" y="4869000"/>
            <a:ext cx="129528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Normas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rocedimien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010360" y="1413000"/>
            <a:ext cx="1702080" cy="4608360"/>
            <a:chOff x="8010360" y="1413000"/>
            <a:chExt cx="1702080" cy="4608360"/>
          </a:xfrm>
        </p:grpSpPr>
        <p:sp>
          <p:nvSpPr>
            <p:cNvPr id="91" name=""/>
            <p:cNvSpPr/>
            <p:nvPr/>
          </p:nvSpPr>
          <p:spPr>
            <a:xfrm rot="10800000">
              <a:off x="8010360" y="1844280"/>
              <a:ext cx="897120" cy="3745080"/>
            </a:xfrm>
            <a:custGeom>
              <a:avLst/>
              <a:gdLst>
                <a:gd name="textAreaLeft" fmla="*/ 0 w 897120"/>
                <a:gd name="textAreaRight" fmla="*/ 897480 w 897120"/>
                <a:gd name="textAreaTop" fmla="*/ 0 h 3745080"/>
                <a:gd name="textAreaBottom" fmla="*/ 3745440 h 374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37600" y="1413000"/>
              <a:ext cx="1374840" cy="4608360"/>
            </a:xfrm>
            <a:prstGeom prst="flowChartProcess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iste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ro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er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8520" y="404280"/>
            <a:ext cx="89154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ité de Control Interno</a:t>
            </a:r>
            <a:br>
              <a:rPr sz="2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s. SSN 31.231/06 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920880" y="1552680"/>
            <a:ext cx="1008000" cy="1163520"/>
            <a:chOff x="920880" y="1552680"/>
            <a:chExt cx="1008000" cy="1163520"/>
          </a:xfrm>
        </p:grpSpPr>
        <p:graphicFrame>
          <p:nvGraphicFramePr>
            <p:cNvPr id="95" name=""/>
            <p:cNvGraphicFramePr/>
            <p:nvPr/>
          </p:nvGraphicFramePr>
          <p:xfrm>
            <a:off x="992160" y="1844640"/>
            <a:ext cx="936720" cy="871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92160" y="1844640"/>
                      <a:ext cx="936720" cy="87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" name=""/>
            <p:cNvSpPr/>
            <p:nvPr/>
          </p:nvSpPr>
          <p:spPr>
            <a:xfrm>
              <a:off x="920880" y="1552680"/>
              <a:ext cx="1008000" cy="39168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Director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000160" y="1773360"/>
            <a:ext cx="1513080" cy="647640"/>
            <a:chOff x="2000160" y="1773360"/>
            <a:chExt cx="1513080" cy="647640"/>
          </a:xfrm>
        </p:grpSpPr>
        <p:sp>
          <p:nvSpPr>
            <p:cNvPr id="99" name=""/>
            <p:cNvSpPr/>
            <p:nvPr/>
          </p:nvSpPr>
          <p:spPr>
            <a:xfrm>
              <a:off x="2073240" y="1773360"/>
              <a:ext cx="1209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term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i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00160" y="2133720"/>
              <a:ext cx="1513080" cy="287280"/>
            </a:xfrm>
            <a:prstGeom prst="rightArrow">
              <a:avLst>
                <a:gd name="adj1" fmla="val 59120"/>
                <a:gd name="adj2" fmla="val 67811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297240" y="1771560"/>
            <a:ext cx="1550880" cy="1213200"/>
            <a:chOff x="3297240" y="1771560"/>
            <a:chExt cx="1550880" cy="1213200"/>
          </a:xfrm>
        </p:grpSpPr>
        <p:grpSp>
          <p:nvGrpSpPr>
            <p:cNvPr id="102" name=""/>
            <p:cNvGrpSpPr/>
            <p:nvPr/>
          </p:nvGrpSpPr>
          <p:grpSpPr>
            <a:xfrm>
              <a:off x="3297240" y="1771560"/>
              <a:ext cx="1550880" cy="876240"/>
              <a:chOff x="3297240" y="1771560"/>
              <a:chExt cx="1550880" cy="876240"/>
            </a:xfrm>
          </p:grpSpPr>
          <p:sp>
            <p:nvSpPr>
              <p:cNvPr id="103" name=""/>
              <p:cNvSpPr/>
              <p:nvPr/>
            </p:nvSpPr>
            <p:spPr>
              <a:xfrm>
                <a:off x="3670200" y="1951200"/>
                <a:ext cx="799920" cy="536400"/>
              </a:xfrm>
              <a:prstGeom prst="triangle">
                <a:avLst>
                  <a:gd name="adj" fmla="val 50000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97240" y="2468520"/>
                <a:ext cx="458640" cy="1792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843000" y="1771560"/>
                <a:ext cx="459000" cy="179640"/>
              </a:xfrm>
              <a:prstGeom prst="ellipse">
                <a:avLst/>
              </a:prstGeom>
              <a:solidFill>
                <a:srgbClr val="ffbe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89120" y="2468520"/>
                <a:ext cx="459000" cy="179280"/>
              </a:xfrm>
              <a:prstGeom prst="ellipse">
                <a:avLst/>
              </a:prstGeom>
              <a:solidFill>
                <a:srgbClr val="d8ebb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3440160" y="2708280"/>
              <a:ext cx="122400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ité de C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5745240" y="1916280"/>
            <a:ext cx="172872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78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ar el PACI al Directo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778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unirse por lo menos una vez al mes para considera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16880" y="2492280"/>
            <a:ext cx="19447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jecución del PACI 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es de CI elevados al Directo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00880" y="2492280"/>
            <a:ext cx="142920" cy="720720"/>
          </a:xfrm>
          <a:custGeom>
            <a:avLst/>
            <a:gdLst>
              <a:gd name="textAreaLeft" fmla="*/ 0 w 142920"/>
              <a:gd name="textAreaRight" fmla="*/ 51480 w 14292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297240" y="3068640"/>
            <a:ext cx="1657440" cy="1365480"/>
            <a:chOff x="3297240" y="3068640"/>
            <a:chExt cx="1657440" cy="1365480"/>
          </a:xfrm>
        </p:grpSpPr>
        <p:sp>
          <p:nvSpPr>
            <p:cNvPr id="112" name=""/>
            <p:cNvSpPr/>
            <p:nvPr/>
          </p:nvSpPr>
          <p:spPr>
            <a:xfrm>
              <a:off x="3297240" y="3427560"/>
              <a:ext cx="1657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 o más integrantes, 1 debe ser el Responsable de CI y otro 1 Director sin funciones ejecutiv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55040" y="30686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5816520" y="2995560"/>
            <a:ext cx="1224000" cy="1284480"/>
            <a:chOff x="5816520" y="2995560"/>
            <a:chExt cx="1224000" cy="1284480"/>
          </a:xfrm>
        </p:grpSpPr>
        <p:sp>
          <p:nvSpPr>
            <p:cNvPr id="115" name=""/>
            <p:cNvSpPr/>
            <p:nvPr/>
          </p:nvSpPr>
          <p:spPr>
            <a:xfrm>
              <a:off x="5816520" y="3500280"/>
              <a:ext cx="1224000" cy="779760"/>
            </a:xfrm>
            <a:prstGeom prst="flowChartDocumen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Acta por ca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Reunión en Libr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Actuaciones C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392880" y="299556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704880" y="4005360"/>
            <a:ext cx="2087640" cy="2152440"/>
            <a:chOff x="704880" y="4005360"/>
            <a:chExt cx="2087640" cy="2152440"/>
          </a:xfrm>
        </p:grpSpPr>
        <p:sp>
          <p:nvSpPr>
            <p:cNvPr id="118" name=""/>
            <p:cNvSpPr/>
            <p:nvPr/>
          </p:nvSpPr>
          <p:spPr>
            <a:xfrm>
              <a:off x="704880" y="4005360"/>
              <a:ext cx="2087640" cy="1496880"/>
            </a:xfrm>
            <a:prstGeom prst="wedgeEllipseCallout">
              <a:avLst>
                <a:gd name="adj1" fmla="val -39884"/>
                <a:gd name="adj2" fmla="val 6251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* Los auditores externos deben tomar conocimiento del PACI y dejar constancia en su Informe de CI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9" name=""/>
            <p:cNvGraphicFramePr/>
            <p:nvPr/>
          </p:nvGraphicFramePr>
          <p:xfrm>
            <a:off x="704880" y="5516640"/>
            <a:ext cx="324000" cy="641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04880" y="5516640"/>
                      <a:ext cx="324000" cy="64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1" name=""/>
          <p:cNvGrpSpPr/>
          <p:nvPr/>
        </p:nvGrpSpPr>
        <p:grpSpPr>
          <a:xfrm>
            <a:off x="4592520" y="1844640"/>
            <a:ext cx="1152720" cy="576360"/>
            <a:chOff x="4592520" y="1844640"/>
            <a:chExt cx="1152720" cy="576360"/>
          </a:xfrm>
        </p:grpSpPr>
        <p:sp>
          <p:nvSpPr>
            <p:cNvPr id="122" name=""/>
            <p:cNvSpPr/>
            <p:nvPr/>
          </p:nvSpPr>
          <p:spPr>
            <a:xfrm>
              <a:off x="4664520" y="1844640"/>
              <a:ext cx="886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uncio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92520" y="2133720"/>
              <a:ext cx="1152720" cy="287280"/>
            </a:xfrm>
            <a:prstGeom prst="rightArrow">
              <a:avLst>
                <a:gd name="adj1" fmla="val 59120"/>
                <a:gd name="adj2" fmla="val 51661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15800" y="189000"/>
            <a:ext cx="89949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able de Control Interno</a:t>
            </a:r>
            <a:br>
              <a:rPr sz="2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es. SSN 31.231/06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992160" y="1552680"/>
            <a:ext cx="1008000" cy="1163520"/>
            <a:chOff x="992160" y="1552680"/>
            <a:chExt cx="1008000" cy="1163520"/>
          </a:xfrm>
        </p:grpSpPr>
        <p:graphicFrame>
          <p:nvGraphicFramePr>
            <p:cNvPr id="126" name=""/>
            <p:cNvGraphicFramePr/>
            <p:nvPr/>
          </p:nvGraphicFramePr>
          <p:xfrm>
            <a:off x="1063800" y="1844640"/>
            <a:ext cx="936360" cy="871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3800" y="1844640"/>
                      <a:ext cx="936360" cy="87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8" name=""/>
            <p:cNvSpPr/>
            <p:nvPr/>
          </p:nvSpPr>
          <p:spPr>
            <a:xfrm>
              <a:off x="992160" y="1552680"/>
              <a:ext cx="1008000" cy="39168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Director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144880" y="1773360"/>
            <a:ext cx="1079280" cy="503280"/>
            <a:chOff x="2144880" y="1773360"/>
            <a:chExt cx="1079280" cy="503280"/>
          </a:xfrm>
        </p:grpSpPr>
        <p:sp>
          <p:nvSpPr>
            <p:cNvPr id="130" name=""/>
            <p:cNvSpPr/>
            <p:nvPr/>
          </p:nvSpPr>
          <p:spPr>
            <a:xfrm>
              <a:off x="2288520" y="17733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sig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44880" y="1989000"/>
              <a:ext cx="1079280" cy="287640"/>
            </a:xfrm>
            <a:prstGeom prst="rightArrow">
              <a:avLst>
                <a:gd name="adj1" fmla="val 50278"/>
                <a:gd name="adj2" fmla="val 67314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5457960" y="1341360"/>
            <a:ext cx="388764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7840" algn="just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eccionar el PA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aborar y suscribir los Informes de 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ner a través del Comité de CI mejoras y/o modificaciones de los procedimient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rvar los textos actualizados de los procedimientos, el Libro de Actuaciones de CI y los Papeles de Trabajo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317400" y="2565360"/>
            <a:ext cx="11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ciones 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88880" y="3357720"/>
            <a:ext cx="2016360" cy="2296440"/>
            <a:chOff x="488880" y="3357720"/>
            <a:chExt cx="2016360" cy="2296440"/>
          </a:xfrm>
        </p:grpSpPr>
        <p:sp>
          <p:nvSpPr>
            <p:cNvPr id="135" name=""/>
            <p:cNvSpPr/>
            <p:nvPr/>
          </p:nvSpPr>
          <p:spPr>
            <a:xfrm>
              <a:off x="488880" y="3357720"/>
              <a:ext cx="2016360" cy="1439640"/>
            </a:xfrm>
            <a:prstGeom prst="wedgeEllipseCallout">
              <a:avLst>
                <a:gd name="adj1" fmla="val -40541"/>
                <a:gd name="adj2" fmla="val 6697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*Todo reemplazo, del Resp. de CI, debe ser notificado a la SSN dentro de las 72hs de produci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6" name=""/>
            <p:cNvGraphicFramePr/>
            <p:nvPr/>
          </p:nvGraphicFramePr>
          <p:xfrm>
            <a:off x="488880" y="5013360"/>
            <a:ext cx="292320" cy="640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8880" y="5013360"/>
                      <a:ext cx="292320" cy="64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8" name=""/>
          <p:cNvGrpSpPr/>
          <p:nvPr/>
        </p:nvGrpSpPr>
        <p:grpSpPr>
          <a:xfrm>
            <a:off x="2144880" y="4365720"/>
            <a:ext cx="3960720" cy="1874880"/>
            <a:chOff x="2144880" y="4365720"/>
            <a:chExt cx="3960720" cy="1874880"/>
          </a:xfrm>
        </p:grpSpPr>
        <p:sp>
          <p:nvSpPr>
            <p:cNvPr id="139" name=""/>
            <p:cNvSpPr/>
            <p:nvPr/>
          </p:nvSpPr>
          <p:spPr>
            <a:xfrm>
              <a:off x="2144880" y="4869000"/>
              <a:ext cx="39607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65240" algn="just"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n socios, accionistas, directores, síndicos o administradores de la entidad, o de entes vinculados económicamente a ella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65240" algn="just"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 encuentren inhabilitados por SSN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65240" algn="just"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 desempeñen como auditor externo de la entidad o formen parte de la asociación profesional que ejerza esas funcione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00520" y="43657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0520" y="436572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649600" y="2852640"/>
            <a:ext cx="2303280" cy="1549440"/>
            <a:chOff x="2649600" y="2852640"/>
            <a:chExt cx="2303280" cy="1549440"/>
          </a:xfrm>
        </p:grpSpPr>
        <p:sp>
          <p:nvSpPr>
            <p:cNvPr id="143" name=""/>
            <p:cNvSpPr/>
            <p:nvPr/>
          </p:nvSpPr>
          <p:spPr>
            <a:xfrm>
              <a:off x="2649600" y="3213000"/>
              <a:ext cx="230328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seer conocimientos en materia aseguradora y contar con una experiencia mínima de un (1) año en el desempeño de tareas de control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01960" y="292572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73600" y="28526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3481200" y="1413000"/>
            <a:ext cx="803520" cy="1150920"/>
            <a:chOff x="3481200" y="1413000"/>
            <a:chExt cx="803520" cy="1150920"/>
          </a:xfrm>
        </p:grpSpPr>
        <p:sp>
          <p:nvSpPr>
            <p:cNvPr id="147" name=""/>
            <p:cNvSpPr/>
            <p:nvPr/>
          </p:nvSpPr>
          <p:spPr>
            <a:xfrm>
              <a:off x="3673440" y="2057760"/>
              <a:ext cx="611280" cy="506160"/>
            </a:xfrm>
            <a:custGeom>
              <a:avLst/>
              <a:gdLst/>
              <a:ahLst/>
              <a:rect l="l" t="t" r="r" b="b"/>
              <a:pathLst>
                <a:path w="1154" h="956">
                  <a:moveTo>
                    <a:pt x="577" y="0"/>
                  </a:moveTo>
                  <a:lnTo>
                    <a:pt x="635" y="2"/>
                  </a:lnTo>
                  <a:lnTo>
                    <a:pt x="694" y="10"/>
                  </a:lnTo>
                  <a:lnTo>
                    <a:pt x="748" y="21"/>
                  </a:lnTo>
                  <a:lnTo>
                    <a:pt x="801" y="37"/>
                  </a:lnTo>
                  <a:lnTo>
                    <a:pt x="852" y="57"/>
                  </a:lnTo>
                  <a:lnTo>
                    <a:pt x="899" y="81"/>
                  </a:lnTo>
                  <a:lnTo>
                    <a:pt x="944" y="109"/>
                  </a:lnTo>
                  <a:lnTo>
                    <a:pt x="986" y="140"/>
                  </a:lnTo>
                  <a:lnTo>
                    <a:pt x="1023" y="174"/>
                  </a:lnTo>
                  <a:lnTo>
                    <a:pt x="1056" y="210"/>
                  </a:lnTo>
                  <a:lnTo>
                    <a:pt x="1084" y="250"/>
                  </a:lnTo>
                  <a:lnTo>
                    <a:pt x="1109" y="292"/>
                  </a:lnTo>
                  <a:lnTo>
                    <a:pt x="1127" y="335"/>
                  </a:lnTo>
                  <a:lnTo>
                    <a:pt x="1142" y="381"/>
                  </a:lnTo>
                  <a:lnTo>
                    <a:pt x="1151" y="428"/>
                  </a:lnTo>
                  <a:lnTo>
                    <a:pt x="1154" y="477"/>
                  </a:lnTo>
                  <a:lnTo>
                    <a:pt x="1151" y="526"/>
                  </a:lnTo>
                  <a:lnTo>
                    <a:pt x="1142" y="574"/>
                  </a:lnTo>
                  <a:lnTo>
                    <a:pt x="1127" y="620"/>
                  </a:lnTo>
                  <a:lnTo>
                    <a:pt x="1109" y="664"/>
                  </a:lnTo>
                  <a:lnTo>
                    <a:pt x="1084" y="706"/>
                  </a:lnTo>
                  <a:lnTo>
                    <a:pt x="1056" y="746"/>
                  </a:lnTo>
                  <a:lnTo>
                    <a:pt x="1023" y="782"/>
                  </a:lnTo>
                  <a:lnTo>
                    <a:pt x="986" y="816"/>
                  </a:lnTo>
                  <a:lnTo>
                    <a:pt x="944" y="847"/>
                  </a:lnTo>
                  <a:lnTo>
                    <a:pt x="899" y="874"/>
                  </a:lnTo>
                  <a:lnTo>
                    <a:pt x="852" y="899"/>
                  </a:lnTo>
                  <a:lnTo>
                    <a:pt x="801" y="919"/>
                  </a:lnTo>
                  <a:lnTo>
                    <a:pt x="748" y="935"/>
                  </a:lnTo>
                  <a:lnTo>
                    <a:pt x="694" y="946"/>
                  </a:lnTo>
                  <a:lnTo>
                    <a:pt x="635" y="954"/>
                  </a:lnTo>
                  <a:lnTo>
                    <a:pt x="577" y="956"/>
                  </a:lnTo>
                  <a:lnTo>
                    <a:pt x="519" y="954"/>
                  </a:lnTo>
                  <a:lnTo>
                    <a:pt x="460" y="946"/>
                  </a:lnTo>
                  <a:lnTo>
                    <a:pt x="406" y="935"/>
                  </a:lnTo>
                  <a:lnTo>
                    <a:pt x="353" y="919"/>
                  </a:lnTo>
                  <a:lnTo>
                    <a:pt x="302" y="899"/>
                  </a:lnTo>
                  <a:lnTo>
                    <a:pt x="255" y="874"/>
                  </a:lnTo>
                  <a:lnTo>
                    <a:pt x="209" y="847"/>
                  </a:lnTo>
                  <a:lnTo>
                    <a:pt x="170" y="816"/>
                  </a:lnTo>
                  <a:lnTo>
                    <a:pt x="131" y="782"/>
                  </a:lnTo>
                  <a:lnTo>
                    <a:pt x="98" y="746"/>
                  </a:lnTo>
                  <a:lnTo>
                    <a:pt x="70" y="706"/>
                  </a:lnTo>
                  <a:lnTo>
                    <a:pt x="45" y="664"/>
                  </a:lnTo>
                  <a:lnTo>
                    <a:pt x="26" y="620"/>
                  </a:lnTo>
                  <a:lnTo>
                    <a:pt x="12" y="574"/>
                  </a:lnTo>
                  <a:lnTo>
                    <a:pt x="2" y="526"/>
                  </a:lnTo>
                  <a:lnTo>
                    <a:pt x="0" y="477"/>
                  </a:lnTo>
                  <a:lnTo>
                    <a:pt x="2" y="428"/>
                  </a:lnTo>
                  <a:lnTo>
                    <a:pt x="12" y="381"/>
                  </a:lnTo>
                  <a:lnTo>
                    <a:pt x="26" y="335"/>
                  </a:lnTo>
                  <a:lnTo>
                    <a:pt x="45" y="292"/>
                  </a:lnTo>
                  <a:lnTo>
                    <a:pt x="70" y="250"/>
                  </a:lnTo>
                  <a:lnTo>
                    <a:pt x="98" y="210"/>
                  </a:lnTo>
                  <a:lnTo>
                    <a:pt x="131" y="174"/>
                  </a:lnTo>
                  <a:lnTo>
                    <a:pt x="170" y="140"/>
                  </a:lnTo>
                  <a:lnTo>
                    <a:pt x="209" y="109"/>
                  </a:lnTo>
                  <a:lnTo>
                    <a:pt x="255" y="81"/>
                  </a:lnTo>
                  <a:lnTo>
                    <a:pt x="302" y="57"/>
                  </a:lnTo>
                  <a:lnTo>
                    <a:pt x="353" y="37"/>
                  </a:lnTo>
                  <a:lnTo>
                    <a:pt x="406" y="21"/>
                  </a:lnTo>
                  <a:lnTo>
                    <a:pt x="460" y="10"/>
                  </a:lnTo>
                  <a:lnTo>
                    <a:pt x="519" y="2"/>
                  </a:lnTo>
                  <a:lnTo>
                    <a:pt x="577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41760" y="1980000"/>
              <a:ext cx="453960" cy="503280"/>
            </a:xfrm>
            <a:custGeom>
              <a:avLst/>
              <a:gdLst/>
              <a:ahLst/>
              <a:rect l="l" t="t" r="r" b="b"/>
              <a:pathLst>
                <a:path w="859" h="949">
                  <a:moveTo>
                    <a:pt x="391" y="134"/>
                  </a:moveTo>
                  <a:lnTo>
                    <a:pt x="382" y="133"/>
                  </a:lnTo>
                  <a:lnTo>
                    <a:pt x="373" y="134"/>
                  </a:lnTo>
                  <a:lnTo>
                    <a:pt x="363" y="137"/>
                  </a:lnTo>
                  <a:lnTo>
                    <a:pt x="355" y="140"/>
                  </a:lnTo>
                  <a:lnTo>
                    <a:pt x="349" y="144"/>
                  </a:lnTo>
                  <a:lnTo>
                    <a:pt x="342" y="151"/>
                  </a:lnTo>
                  <a:lnTo>
                    <a:pt x="338" y="158"/>
                  </a:lnTo>
                  <a:lnTo>
                    <a:pt x="334" y="165"/>
                  </a:lnTo>
                  <a:lnTo>
                    <a:pt x="333" y="173"/>
                  </a:lnTo>
                  <a:lnTo>
                    <a:pt x="334" y="181"/>
                  </a:lnTo>
                  <a:lnTo>
                    <a:pt x="337" y="188"/>
                  </a:lnTo>
                  <a:lnTo>
                    <a:pt x="341" y="195"/>
                  </a:lnTo>
                  <a:lnTo>
                    <a:pt x="346" y="201"/>
                  </a:lnTo>
                  <a:lnTo>
                    <a:pt x="354" y="206"/>
                  </a:lnTo>
                  <a:lnTo>
                    <a:pt x="362" y="209"/>
                  </a:lnTo>
                  <a:lnTo>
                    <a:pt x="371" y="213"/>
                  </a:lnTo>
                  <a:lnTo>
                    <a:pt x="410" y="222"/>
                  </a:lnTo>
                  <a:lnTo>
                    <a:pt x="448" y="233"/>
                  </a:lnTo>
                  <a:lnTo>
                    <a:pt x="484" y="246"/>
                  </a:lnTo>
                  <a:lnTo>
                    <a:pt x="518" y="261"/>
                  </a:lnTo>
                  <a:lnTo>
                    <a:pt x="550" y="279"/>
                  </a:lnTo>
                  <a:lnTo>
                    <a:pt x="582" y="299"/>
                  </a:lnTo>
                  <a:lnTo>
                    <a:pt x="610" y="321"/>
                  </a:lnTo>
                  <a:lnTo>
                    <a:pt x="638" y="344"/>
                  </a:lnTo>
                  <a:lnTo>
                    <a:pt x="662" y="369"/>
                  </a:lnTo>
                  <a:lnTo>
                    <a:pt x="684" y="396"/>
                  </a:lnTo>
                  <a:lnTo>
                    <a:pt x="704" y="423"/>
                  </a:lnTo>
                  <a:lnTo>
                    <a:pt x="721" y="453"/>
                  </a:lnTo>
                  <a:lnTo>
                    <a:pt x="736" y="483"/>
                  </a:lnTo>
                  <a:lnTo>
                    <a:pt x="747" y="514"/>
                  </a:lnTo>
                  <a:lnTo>
                    <a:pt x="756" y="545"/>
                  </a:lnTo>
                  <a:lnTo>
                    <a:pt x="761" y="579"/>
                  </a:lnTo>
                  <a:lnTo>
                    <a:pt x="587" y="579"/>
                  </a:lnTo>
                  <a:lnTo>
                    <a:pt x="587" y="729"/>
                  </a:lnTo>
                  <a:lnTo>
                    <a:pt x="560" y="726"/>
                  </a:lnTo>
                  <a:lnTo>
                    <a:pt x="534" y="721"/>
                  </a:lnTo>
                  <a:lnTo>
                    <a:pt x="509" y="712"/>
                  </a:lnTo>
                  <a:lnTo>
                    <a:pt x="487" y="701"/>
                  </a:lnTo>
                  <a:lnTo>
                    <a:pt x="465" y="688"/>
                  </a:lnTo>
                  <a:lnTo>
                    <a:pt x="447" y="672"/>
                  </a:lnTo>
                  <a:lnTo>
                    <a:pt x="430" y="655"/>
                  </a:lnTo>
                  <a:lnTo>
                    <a:pt x="416" y="635"/>
                  </a:lnTo>
                  <a:lnTo>
                    <a:pt x="411" y="628"/>
                  </a:lnTo>
                  <a:lnTo>
                    <a:pt x="404" y="623"/>
                  </a:lnTo>
                  <a:lnTo>
                    <a:pt x="398" y="618"/>
                  </a:lnTo>
                  <a:lnTo>
                    <a:pt x="388" y="615"/>
                  </a:lnTo>
                  <a:lnTo>
                    <a:pt x="381" y="613"/>
                  </a:lnTo>
                  <a:lnTo>
                    <a:pt x="371" y="613"/>
                  </a:lnTo>
                  <a:lnTo>
                    <a:pt x="362" y="614"/>
                  </a:lnTo>
                  <a:lnTo>
                    <a:pt x="353" y="616"/>
                  </a:lnTo>
                  <a:lnTo>
                    <a:pt x="338" y="626"/>
                  </a:lnTo>
                  <a:lnTo>
                    <a:pt x="329" y="639"/>
                  </a:lnTo>
                  <a:lnTo>
                    <a:pt x="326" y="655"/>
                  </a:lnTo>
                  <a:lnTo>
                    <a:pt x="331" y="669"/>
                  </a:lnTo>
                  <a:lnTo>
                    <a:pt x="331" y="669"/>
                  </a:lnTo>
                  <a:lnTo>
                    <a:pt x="341" y="684"/>
                  </a:lnTo>
                  <a:lnTo>
                    <a:pt x="351" y="699"/>
                  </a:lnTo>
                  <a:lnTo>
                    <a:pt x="363" y="713"/>
                  </a:lnTo>
                  <a:lnTo>
                    <a:pt x="377" y="725"/>
                  </a:lnTo>
                  <a:lnTo>
                    <a:pt x="390" y="737"/>
                  </a:lnTo>
                  <a:lnTo>
                    <a:pt x="404" y="749"/>
                  </a:lnTo>
                  <a:lnTo>
                    <a:pt x="420" y="759"/>
                  </a:lnTo>
                  <a:lnTo>
                    <a:pt x="436" y="768"/>
                  </a:lnTo>
                  <a:lnTo>
                    <a:pt x="453" y="777"/>
                  </a:lnTo>
                  <a:lnTo>
                    <a:pt x="471" y="785"/>
                  </a:lnTo>
                  <a:lnTo>
                    <a:pt x="489" y="791"/>
                  </a:lnTo>
                  <a:lnTo>
                    <a:pt x="508" y="797"/>
                  </a:lnTo>
                  <a:lnTo>
                    <a:pt x="526" y="801"/>
                  </a:lnTo>
                  <a:lnTo>
                    <a:pt x="546" y="806"/>
                  </a:lnTo>
                  <a:lnTo>
                    <a:pt x="568" y="808"/>
                  </a:lnTo>
                  <a:lnTo>
                    <a:pt x="587" y="809"/>
                  </a:lnTo>
                  <a:lnTo>
                    <a:pt x="587" y="869"/>
                  </a:lnTo>
                  <a:lnTo>
                    <a:pt x="95" y="869"/>
                  </a:lnTo>
                  <a:lnTo>
                    <a:pt x="95" y="203"/>
                  </a:lnTo>
                  <a:lnTo>
                    <a:pt x="251" y="203"/>
                  </a:lnTo>
                  <a:lnTo>
                    <a:pt x="160" y="24"/>
                  </a:lnTo>
                  <a:lnTo>
                    <a:pt x="155" y="18"/>
                  </a:lnTo>
                  <a:lnTo>
                    <a:pt x="150" y="11"/>
                  </a:lnTo>
                  <a:lnTo>
                    <a:pt x="142" y="7"/>
                  </a:lnTo>
                  <a:lnTo>
                    <a:pt x="134" y="3"/>
                  </a:lnTo>
                  <a:lnTo>
                    <a:pt x="126" y="1"/>
                  </a:lnTo>
                  <a:lnTo>
                    <a:pt x="117" y="0"/>
                  </a:lnTo>
                  <a:lnTo>
                    <a:pt x="107" y="1"/>
                  </a:lnTo>
                  <a:lnTo>
                    <a:pt x="98" y="3"/>
                  </a:lnTo>
                  <a:lnTo>
                    <a:pt x="82" y="12"/>
                  </a:lnTo>
                  <a:lnTo>
                    <a:pt x="73" y="25"/>
                  </a:lnTo>
                  <a:lnTo>
                    <a:pt x="69" y="40"/>
                  </a:lnTo>
                  <a:lnTo>
                    <a:pt x="73" y="55"/>
                  </a:lnTo>
                  <a:lnTo>
                    <a:pt x="73" y="55"/>
                  </a:lnTo>
                  <a:lnTo>
                    <a:pt x="107" y="123"/>
                  </a:lnTo>
                  <a:lnTo>
                    <a:pt x="0" y="123"/>
                  </a:lnTo>
                  <a:lnTo>
                    <a:pt x="0" y="949"/>
                  </a:lnTo>
                  <a:lnTo>
                    <a:pt x="683" y="948"/>
                  </a:lnTo>
                  <a:lnTo>
                    <a:pt x="683" y="658"/>
                  </a:lnTo>
                  <a:lnTo>
                    <a:pt x="859" y="658"/>
                  </a:lnTo>
                  <a:lnTo>
                    <a:pt x="859" y="618"/>
                  </a:lnTo>
                  <a:lnTo>
                    <a:pt x="857" y="575"/>
                  </a:lnTo>
                  <a:lnTo>
                    <a:pt x="850" y="533"/>
                  </a:lnTo>
                  <a:lnTo>
                    <a:pt x="840" y="493"/>
                  </a:lnTo>
                  <a:lnTo>
                    <a:pt x="825" y="453"/>
                  </a:lnTo>
                  <a:lnTo>
                    <a:pt x="805" y="414"/>
                  </a:lnTo>
                  <a:lnTo>
                    <a:pt x="783" y="377"/>
                  </a:lnTo>
                  <a:lnTo>
                    <a:pt x="756" y="343"/>
                  </a:lnTo>
                  <a:lnTo>
                    <a:pt x="727" y="309"/>
                  </a:lnTo>
                  <a:lnTo>
                    <a:pt x="694" y="278"/>
                  </a:lnTo>
                  <a:lnTo>
                    <a:pt x="658" y="249"/>
                  </a:lnTo>
                  <a:lnTo>
                    <a:pt x="619" y="223"/>
                  </a:lnTo>
                  <a:lnTo>
                    <a:pt x="578" y="200"/>
                  </a:lnTo>
                  <a:lnTo>
                    <a:pt x="534" y="179"/>
                  </a:lnTo>
                  <a:lnTo>
                    <a:pt x="489" y="160"/>
                  </a:lnTo>
                  <a:lnTo>
                    <a:pt x="442" y="146"/>
                  </a:lnTo>
                  <a:lnTo>
                    <a:pt x="391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76760" y="1857600"/>
              <a:ext cx="39600" cy="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19520" y="1919520"/>
              <a:ext cx="152280" cy="103320"/>
            </a:xfrm>
            <a:custGeom>
              <a:avLst/>
              <a:gdLst/>
              <a:ahLst/>
              <a:rect l="l" t="t" r="r" b="b"/>
              <a:pathLst>
                <a:path w="288" h="196">
                  <a:moveTo>
                    <a:pt x="106" y="63"/>
                  </a:moveTo>
                  <a:lnTo>
                    <a:pt x="0" y="63"/>
                  </a:lnTo>
                  <a:lnTo>
                    <a:pt x="145" y="196"/>
                  </a:lnTo>
                  <a:lnTo>
                    <a:pt x="288" y="63"/>
                  </a:lnTo>
                  <a:lnTo>
                    <a:pt x="183" y="63"/>
                  </a:lnTo>
                  <a:lnTo>
                    <a:pt x="183" y="0"/>
                  </a:lnTo>
                  <a:lnTo>
                    <a:pt x="106" y="0"/>
                  </a:lnTo>
                  <a:lnTo>
                    <a:pt x="10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62200" y="1594080"/>
              <a:ext cx="195480" cy="58680"/>
            </a:xfrm>
            <a:custGeom>
              <a:avLst/>
              <a:gdLst/>
              <a:ahLst/>
              <a:rect l="l" t="t" r="r" b="b"/>
              <a:pathLst>
                <a:path w="369" h="110">
                  <a:moveTo>
                    <a:pt x="358" y="75"/>
                  </a:moveTo>
                  <a:lnTo>
                    <a:pt x="358" y="75"/>
                  </a:lnTo>
                  <a:lnTo>
                    <a:pt x="341" y="66"/>
                  </a:lnTo>
                  <a:lnTo>
                    <a:pt x="324" y="57"/>
                  </a:lnTo>
                  <a:lnTo>
                    <a:pt x="305" y="49"/>
                  </a:lnTo>
                  <a:lnTo>
                    <a:pt x="286" y="43"/>
                  </a:lnTo>
                  <a:lnTo>
                    <a:pt x="267" y="36"/>
                  </a:lnTo>
                  <a:lnTo>
                    <a:pt x="247" y="29"/>
                  </a:lnTo>
                  <a:lnTo>
                    <a:pt x="225" y="24"/>
                  </a:lnTo>
                  <a:lnTo>
                    <a:pt x="205" y="18"/>
                  </a:lnTo>
                  <a:lnTo>
                    <a:pt x="183" y="14"/>
                  </a:lnTo>
                  <a:lnTo>
                    <a:pt x="162" y="11"/>
                  </a:lnTo>
                  <a:lnTo>
                    <a:pt x="139" y="7"/>
                  </a:lnTo>
                  <a:lnTo>
                    <a:pt x="117" y="4"/>
                  </a:lnTo>
                  <a:lnTo>
                    <a:pt x="94" y="3"/>
                  </a:lnTo>
                  <a:lnTo>
                    <a:pt x="70" y="1"/>
                  </a:lnTo>
                  <a:lnTo>
                    <a:pt x="48" y="0"/>
                  </a:lnTo>
                  <a:lnTo>
                    <a:pt x="24" y="0"/>
                  </a:lnTo>
                  <a:lnTo>
                    <a:pt x="14" y="1"/>
                  </a:lnTo>
                  <a:lnTo>
                    <a:pt x="6" y="5"/>
                  </a:lnTo>
                  <a:lnTo>
                    <a:pt x="1" y="12"/>
                  </a:lnTo>
                  <a:lnTo>
                    <a:pt x="0" y="20"/>
                  </a:lnTo>
                  <a:lnTo>
                    <a:pt x="1" y="27"/>
                  </a:lnTo>
                  <a:lnTo>
                    <a:pt x="6" y="34"/>
                  </a:lnTo>
                  <a:lnTo>
                    <a:pt x="14" y="38"/>
                  </a:lnTo>
                  <a:lnTo>
                    <a:pt x="24" y="39"/>
                  </a:lnTo>
                  <a:lnTo>
                    <a:pt x="45" y="39"/>
                  </a:lnTo>
                  <a:lnTo>
                    <a:pt x="66" y="40"/>
                  </a:lnTo>
                  <a:lnTo>
                    <a:pt x="89" y="42"/>
                  </a:lnTo>
                  <a:lnTo>
                    <a:pt x="110" y="44"/>
                  </a:lnTo>
                  <a:lnTo>
                    <a:pt x="130" y="47"/>
                  </a:lnTo>
                  <a:lnTo>
                    <a:pt x="151" y="49"/>
                  </a:lnTo>
                  <a:lnTo>
                    <a:pt x="171" y="54"/>
                  </a:lnTo>
                  <a:lnTo>
                    <a:pt x="191" y="57"/>
                  </a:lnTo>
                  <a:lnTo>
                    <a:pt x="211" y="62"/>
                  </a:lnTo>
                  <a:lnTo>
                    <a:pt x="229" y="67"/>
                  </a:lnTo>
                  <a:lnTo>
                    <a:pt x="248" y="72"/>
                  </a:lnTo>
                  <a:lnTo>
                    <a:pt x="267" y="79"/>
                  </a:lnTo>
                  <a:lnTo>
                    <a:pt x="284" y="86"/>
                  </a:lnTo>
                  <a:lnTo>
                    <a:pt x="301" y="92"/>
                  </a:lnTo>
                  <a:lnTo>
                    <a:pt x="317" y="100"/>
                  </a:lnTo>
                  <a:lnTo>
                    <a:pt x="333" y="108"/>
                  </a:lnTo>
                  <a:lnTo>
                    <a:pt x="341" y="110"/>
                  </a:lnTo>
                  <a:lnTo>
                    <a:pt x="350" y="110"/>
                  </a:lnTo>
                  <a:lnTo>
                    <a:pt x="358" y="108"/>
                  </a:lnTo>
                  <a:lnTo>
                    <a:pt x="365" y="102"/>
                  </a:lnTo>
                  <a:lnTo>
                    <a:pt x="369" y="94"/>
                  </a:lnTo>
                  <a:lnTo>
                    <a:pt x="369" y="87"/>
                  </a:lnTo>
                  <a:lnTo>
                    <a:pt x="365" y="80"/>
                  </a:lnTo>
                  <a:lnTo>
                    <a:pt x="358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30760" y="1521000"/>
              <a:ext cx="198360" cy="58680"/>
            </a:xfrm>
            <a:custGeom>
              <a:avLst/>
              <a:gdLst/>
              <a:ahLst/>
              <a:rect l="l" t="t" r="r" b="b"/>
              <a:pathLst>
                <a:path w="375" h="113">
                  <a:moveTo>
                    <a:pt x="37" y="110"/>
                  </a:moveTo>
                  <a:lnTo>
                    <a:pt x="37" y="110"/>
                  </a:lnTo>
                  <a:lnTo>
                    <a:pt x="53" y="102"/>
                  </a:lnTo>
                  <a:lnTo>
                    <a:pt x="69" y="93"/>
                  </a:lnTo>
                  <a:lnTo>
                    <a:pt x="85" y="87"/>
                  </a:lnTo>
                  <a:lnTo>
                    <a:pt x="103" y="80"/>
                  </a:lnTo>
                  <a:lnTo>
                    <a:pt x="120" y="74"/>
                  </a:lnTo>
                  <a:lnTo>
                    <a:pt x="140" y="68"/>
                  </a:lnTo>
                  <a:lnTo>
                    <a:pt x="159" y="63"/>
                  </a:lnTo>
                  <a:lnTo>
                    <a:pt x="179" y="58"/>
                  </a:lnTo>
                  <a:lnTo>
                    <a:pt x="200" y="54"/>
                  </a:lnTo>
                  <a:lnTo>
                    <a:pt x="220" y="49"/>
                  </a:lnTo>
                  <a:lnTo>
                    <a:pt x="241" y="47"/>
                  </a:lnTo>
                  <a:lnTo>
                    <a:pt x="262" y="44"/>
                  </a:lnTo>
                  <a:lnTo>
                    <a:pt x="285" y="42"/>
                  </a:lnTo>
                  <a:lnTo>
                    <a:pt x="306" y="41"/>
                  </a:lnTo>
                  <a:lnTo>
                    <a:pt x="329" y="39"/>
                  </a:lnTo>
                  <a:lnTo>
                    <a:pt x="351" y="39"/>
                  </a:lnTo>
                  <a:lnTo>
                    <a:pt x="360" y="38"/>
                  </a:lnTo>
                  <a:lnTo>
                    <a:pt x="368" y="34"/>
                  </a:lnTo>
                  <a:lnTo>
                    <a:pt x="374" y="27"/>
                  </a:lnTo>
                  <a:lnTo>
                    <a:pt x="375" y="20"/>
                  </a:lnTo>
                  <a:lnTo>
                    <a:pt x="374" y="12"/>
                  </a:lnTo>
                  <a:lnTo>
                    <a:pt x="368" y="5"/>
                  </a:lnTo>
                  <a:lnTo>
                    <a:pt x="360" y="1"/>
                  </a:lnTo>
                  <a:lnTo>
                    <a:pt x="351" y="0"/>
                  </a:lnTo>
                  <a:lnTo>
                    <a:pt x="327" y="0"/>
                  </a:lnTo>
                  <a:lnTo>
                    <a:pt x="303" y="1"/>
                  </a:lnTo>
                  <a:lnTo>
                    <a:pt x="280" y="3"/>
                  </a:lnTo>
                  <a:lnTo>
                    <a:pt x="256" y="5"/>
                  </a:lnTo>
                  <a:lnTo>
                    <a:pt x="233" y="7"/>
                  </a:lnTo>
                  <a:lnTo>
                    <a:pt x="209" y="12"/>
                  </a:lnTo>
                  <a:lnTo>
                    <a:pt x="187" y="15"/>
                  </a:lnTo>
                  <a:lnTo>
                    <a:pt x="165" y="21"/>
                  </a:lnTo>
                  <a:lnTo>
                    <a:pt x="143" y="25"/>
                  </a:lnTo>
                  <a:lnTo>
                    <a:pt x="123" y="32"/>
                  </a:lnTo>
                  <a:lnTo>
                    <a:pt x="102" y="38"/>
                  </a:lnTo>
                  <a:lnTo>
                    <a:pt x="82" y="45"/>
                  </a:lnTo>
                  <a:lnTo>
                    <a:pt x="62" y="53"/>
                  </a:lnTo>
                  <a:lnTo>
                    <a:pt x="43" y="60"/>
                  </a:lnTo>
                  <a:lnTo>
                    <a:pt x="26" y="69"/>
                  </a:lnTo>
                  <a:lnTo>
                    <a:pt x="9" y="78"/>
                  </a:lnTo>
                  <a:lnTo>
                    <a:pt x="2" y="83"/>
                  </a:lnTo>
                  <a:lnTo>
                    <a:pt x="0" y="90"/>
                  </a:lnTo>
                  <a:lnTo>
                    <a:pt x="0" y="98"/>
                  </a:lnTo>
                  <a:lnTo>
                    <a:pt x="4" y="106"/>
                  </a:lnTo>
                  <a:lnTo>
                    <a:pt x="10" y="111"/>
                  </a:lnTo>
                  <a:lnTo>
                    <a:pt x="18" y="113"/>
                  </a:lnTo>
                  <a:lnTo>
                    <a:pt x="27" y="113"/>
                  </a:lnTo>
                  <a:lnTo>
                    <a:pt x="37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833640" y="1594080"/>
              <a:ext cx="195480" cy="58680"/>
            </a:xfrm>
            <a:custGeom>
              <a:avLst/>
              <a:gdLst/>
              <a:ahLst/>
              <a:rect l="l" t="t" r="r" b="b"/>
              <a:pathLst>
                <a:path w="369" h="110">
                  <a:moveTo>
                    <a:pt x="345" y="0"/>
                  </a:moveTo>
                  <a:lnTo>
                    <a:pt x="321" y="0"/>
                  </a:lnTo>
                  <a:lnTo>
                    <a:pt x="297" y="1"/>
                  </a:lnTo>
                  <a:lnTo>
                    <a:pt x="275" y="3"/>
                  </a:lnTo>
                  <a:lnTo>
                    <a:pt x="252" y="4"/>
                  </a:lnTo>
                  <a:lnTo>
                    <a:pt x="230" y="7"/>
                  </a:lnTo>
                  <a:lnTo>
                    <a:pt x="207" y="11"/>
                  </a:lnTo>
                  <a:lnTo>
                    <a:pt x="185" y="14"/>
                  </a:lnTo>
                  <a:lnTo>
                    <a:pt x="163" y="18"/>
                  </a:lnTo>
                  <a:lnTo>
                    <a:pt x="142" y="24"/>
                  </a:lnTo>
                  <a:lnTo>
                    <a:pt x="122" y="29"/>
                  </a:lnTo>
                  <a:lnTo>
                    <a:pt x="102" y="36"/>
                  </a:lnTo>
                  <a:lnTo>
                    <a:pt x="83" y="43"/>
                  </a:lnTo>
                  <a:lnTo>
                    <a:pt x="64" y="49"/>
                  </a:lnTo>
                  <a:lnTo>
                    <a:pt x="45" y="57"/>
                  </a:lnTo>
                  <a:lnTo>
                    <a:pt x="28" y="66"/>
                  </a:lnTo>
                  <a:lnTo>
                    <a:pt x="11" y="75"/>
                  </a:lnTo>
                  <a:lnTo>
                    <a:pt x="11" y="75"/>
                  </a:lnTo>
                  <a:lnTo>
                    <a:pt x="4" y="80"/>
                  </a:lnTo>
                  <a:lnTo>
                    <a:pt x="0" y="87"/>
                  </a:lnTo>
                  <a:lnTo>
                    <a:pt x="0" y="94"/>
                  </a:lnTo>
                  <a:lnTo>
                    <a:pt x="3" y="102"/>
                  </a:lnTo>
                  <a:lnTo>
                    <a:pt x="10" y="108"/>
                  </a:lnTo>
                  <a:lnTo>
                    <a:pt x="19" y="110"/>
                  </a:lnTo>
                  <a:lnTo>
                    <a:pt x="28" y="110"/>
                  </a:lnTo>
                  <a:lnTo>
                    <a:pt x="36" y="108"/>
                  </a:lnTo>
                  <a:lnTo>
                    <a:pt x="52" y="100"/>
                  </a:lnTo>
                  <a:lnTo>
                    <a:pt x="68" y="92"/>
                  </a:lnTo>
                  <a:lnTo>
                    <a:pt x="85" y="86"/>
                  </a:lnTo>
                  <a:lnTo>
                    <a:pt x="102" y="79"/>
                  </a:lnTo>
                  <a:lnTo>
                    <a:pt x="121" y="72"/>
                  </a:lnTo>
                  <a:lnTo>
                    <a:pt x="140" y="67"/>
                  </a:lnTo>
                  <a:lnTo>
                    <a:pt x="158" y="62"/>
                  </a:lnTo>
                  <a:lnTo>
                    <a:pt x="178" y="57"/>
                  </a:lnTo>
                  <a:lnTo>
                    <a:pt x="198" y="54"/>
                  </a:lnTo>
                  <a:lnTo>
                    <a:pt x="218" y="49"/>
                  </a:lnTo>
                  <a:lnTo>
                    <a:pt x="239" y="47"/>
                  </a:lnTo>
                  <a:lnTo>
                    <a:pt x="259" y="44"/>
                  </a:lnTo>
                  <a:lnTo>
                    <a:pt x="280" y="42"/>
                  </a:lnTo>
                  <a:lnTo>
                    <a:pt x="303" y="40"/>
                  </a:lnTo>
                  <a:lnTo>
                    <a:pt x="324" y="39"/>
                  </a:lnTo>
                  <a:lnTo>
                    <a:pt x="345" y="39"/>
                  </a:lnTo>
                  <a:lnTo>
                    <a:pt x="354" y="38"/>
                  </a:lnTo>
                  <a:lnTo>
                    <a:pt x="362" y="34"/>
                  </a:lnTo>
                  <a:lnTo>
                    <a:pt x="368" y="27"/>
                  </a:lnTo>
                  <a:lnTo>
                    <a:pt x="369" y="20"/>
                  </a:lnTo>
                  <a:lnTo>
                    <a:pt x="368" y="12"/>
                  </a:lnTo>
                  <a:lnTo>
                    <a:pt x="362" y="5"/>
                  </a:lnTo>
                  <a:lnTo>
                    <a:pt x="354" y="1"/>
                  </a:lnTo>
                  <a:lnTo>
                    <a:pt x="3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562200" y="1521000"/>
              <a:ext cx="198360" cy="58680"/>
            </a:xfrm>
            <a:custGeom>
              <a:avLst/>
              <a:gdLst/>
              <a:ahLst/>
              <a:rect l="l" t="t" r="r" b="b"/>
              <a:pathLst>
                <a:path w="375" h="113">
                  <a:moveTo>
                    <a:pt x="24" y="39"/>
                  </a:moveTo>
                  <a:lnTo>
                    <a:pt x="46" y="39"/>
                  </a:lnTo>
                  <a:lnTo>
                    <a:pt x="69" y="41"/>
                  </a:lnTo>
                  <a:lnTo>
                    <a:pt x="90" y="42"/>
                  </a:lnTo>
                  <a:lnTo>
                    <a:pt x="111" y="44"/>
                  </a:lnTo>
                  <a:lnTo>
                    <a:pt x="134" y="47"/>
                  </a:lnTo>
                  <a:lnTo>
                    <a:pt x="154" y="49"/>
                  </a:lnTo>
                  <a:lnTo>
                    <a:pt x="175" y="54"/>
                  </a:lnTo>
                  <a:lnTo>
                    <a:pt x="195" y="58"/>
                  </a:lnTo>
                  <a:lnTo>
                    <a:pt x="215" y="63"/>
                  </a:lnTo>
                  <a:lnTo>
                    <a:pt x="235" y="68"/>
                  </a:lnTo>
                  <a:lnTo>
                    <a:pt x="253" y="74"/>
                  </a:lnTo>
                  <a:lnTo>
                    <a:pt x="272" y="80"/>
                  </a:lnTo>
                  <a:lnTo>
                    <a:pt x="289" y="87"/>
                  </a:lnTo>
                  <a:lnTo>
                    <a:pt x="306" y="93"/>
                  </a:lnTo>
                  <a:lnTo>
                    <a:pt x="322" y="102"/>
                  </a:lnTo>
                  <a:lnTo>
                    <a:pt x="338" y="110"/>
                  </a:lnTo>
                  <a:lnTo>
                    <a:pt x="347" y="113"/>
                  </a:lnTo>
                  <a:lnTo>
                    <a:pt x="357" y="113"/>
                  </a:lnTo>
                  <a:lnTo>
                    <a:pt x="365" y="111"/>
                  </a:lnTo>
                  <a:lnTo>
                    <a:pt x="371" y="106"/>
                  </a:lnTo>
                  <a:lnTo>
                    <a:pt x="375" y="98"/>
                  </a:lnTo>
                  <a:lnTo>
                    <a:pt x="375" y="90"/>
                  </a:lnTo>
                  <a:lnTo>
                    <a:pt x="371" y="83"/>
                  </a:lnTo>
                  <a:lnTo>
                    <a:pt x="365" y="78"/>
                  </a:lnTo>
                  <a:lnTo>
                    <a:pt x="347" y="69"/>
                  </a:lnTo>
                  <a:lnTo>
                    <a:pt x="330" y="60"/>
                  </a:lnTo>
                  <a:lnTo>
                    <a:pt x="312" y="53"/>
                  </a:lnTo>
                  <a:lnTo>
                    <a:pt x="293" y="45"/>
                  </a:lnTo>
                  <a:lnTo>
                    <a:pt x="273" y="38"/>
                  </a:lnTo>
                  <a:lnTo>
                    <a:pt x="252" y="32"/>
                  </a:lnTo>
                  <a:lnTo>
                    <a:pt x="231" y="25"/>
                  </a:lnTo>
                  <a:lnTo>
                    <a:pt x="209" y="21"/>
                  </a:lnTo>
                  <a:lnTo>
                    <a:pt x="187" y="15"/>
                  </a:lnTo>
                  <a:lnTo>
                    <a:pt x="166" y="12"/>
                  </a:lnTo>
                  <a:lnTo>
                    <a:pt x="142" y="7"/>
                  </a:lnTo>
                  <a:lnTo>
                    <a:pt x="119" y="5"/>
                  </a:lnTo>
                  <a:lnTo>
                    <a:pt x="95" y="3"/>
                  </a:lnTo>
                  <a:lnTo>
                    <a:pt x="71" y="1"/>
                  </a:lnTo>
                  <a:lnTo>
                    <a:pt x="48" y="0"/>
                  </a:lnTo>
                  <a:lnTo>
                    <a:pt x="24" y="0"/>
                  </a:lnTo>
                  <a:lnTo>
                    <a:pt x="14" y="1"/>
                  </a:lnTo>
                  <a:lnTo>
                    <a:pt x="6" y="5"/>
                  </a:lnTo>
                  <a:lnTo>
                    <a:pt x="1" y="12"/>
                  </a:lnTo>
                  <a:lnTo>
                    <a:pt x="0" y="20"/>
                  </a:lnTo>
                  <a:lnTo>
                    <a:pt x="1" y="27"/>
                  </a:lnTo>
                  <a:lnTo>
                    <a:pt x="6" y="34"/>
                  </a:lnTo>
                  <a:lnTo>
                    <a:pt x="14" y="38"/>
                  </a:lnTo>
                  <a:lnTo>
                    <a:pt x="24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49560" y="1679760"/>
              <a:ext cx="38160" cy="42840"/>
            </a:xfrm>
            <a:custGeom>
              <a:avLst/>
              <a:gdLst/>
              <a:ahLst/>
              <a:rect l="l" t="t" r="r" b="b"/>
              <a:pathLst>
                <a:path w="72" h="79">
                  <a:moveTo>
                    <a:pt x="28" y="79"/>
                  </a:moveTo>
                  <a:lnTo>
                    <a:pt x="34" y="78"/>
                  </a:lnTo>
                  <a:lnTo>
                    <a:pt x="39" y="78"/>
                  </a:lnTo>
                  <a:lnTo>
                    <a:pt x="44" y="77"/>
                  </a:lnTo>
                  <a:lnTo>
                    <a:pt x="51" y="76"/>
                  </a:lnTo>
                  <a:lnTo>
                    <a:pt x="56" y="75"/>
                  </a:lnTo>
                  <a:lnTo>
                    <a:pt x="62" y="75"/>
                  </a:lnTo>
                  <a:lnTo>
                    <a:pt x="67" y="73"/>
                  </a:lnTo>
                  <a:lnTo>
                    <a:pt x="72" y="73"/>
                  </a:lnTo>
                  <a:lnTo>
                    <a:pt x="64" y="64"/>
                  </a:lnTo>
                  <a:lnTo>
                    <a:pt x="58" y="54"/>
                  </a:lnTo>
                  <a:lnTo>
                    <a:pt x="51" y="44"/>
                  </a:lnTo>
                  <a:lnTo>
                    <a:pt x="44" y="34"/>
                  </a:lnTo>
                  <a:lnTo>
                    <a:pt x="38" y="25"/>
                  </a:lnTo>
                  <a:lnTo>
                    <a:pt x="31" y="16"/>
                  </a:lnTo>
                  <a:lnTo>
                    <a:pt x="26" y="7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0" y="1"/>
                  </a:lnTo>
                  <a:lnTo>
                    <a:pt x="6" y="1"/>
                  </a:lnTo>
                  <a:lnTo>
                    <a:pt x="0" y="2"/>
                  </a:lnTo>
                  <a:lnTo>
                    <a:pt x="28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573360" y="1676520"/>
              <a:ext cx="36720" cy="42840"/>
            </a:xfrm>
            <a:custGeom>
              <a:avLst/>
              <a:gdLst/>
              <a:ahLst/>
              <a:rect l="l" t="t" r="r" b="b"/>
              <a:pathLst>
                <a:path w="69" h="80">
                  <a:moveTo>
                    <a:pt x="69" y="80"/>
                  </a:moveTo>
                  <a:lnTo>
                    <a:pt x="63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2" y="78"/>
                  </a:lnTo>
                  <a:lnTo>
                    <a:pt x="2" y="78"/>
                  </a:lnTo>
                  <a:lnTo>
                    <a:pt x="2" y="78"/>
                  </a:lnTo>
                  <a:lnTo>
                    <a:pt x="10" y="78"/>
                  </a:lnTo>
                  <a:lnTo>
                    <a:pt x="19" y="78"/>
                  </a:lnTo>
                  <a:lnTo>
                    <a:pt x="27" y="78"/>
                  </a:lnTo>
                  <a:lnTo>
                    <a:pt x="36" y="79"/>
                  </a:lnTo>
                  <a:lnTo>
                    <a:pt x="44" y="79"/>
                  </a:lnTo>
                  <a:lnTo>
                    <a:pt x="52" y="79"/>
                  </a:lnTo>
                  <a:lnTo>
                    <a:pt x="61" y="80"/>
                  </a:lnTo>
                  <a:lnTo>
                    <a:pt x="69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81200" y="1413000"/>
              <a:ext cx="635040" cy="374760"/>
            </a:xfrm>
            <a:custGeom>
              <a:avLst/>
              <a:gdLst/>
              <a:ahLst/>
              <a:rect l="l" t="t" r="r" b="b"/>
              <a:pathLst>
                <a:path w="1200" h="708">
                  <a:moveTo>
                    <a:pt x="1161" y="11"/>
                  </a:moveTo>
                  <a:lnTo>
                    <a:pt x="1144" y="9"/>
                  </a:lnTo>
                  <a:lnTo>
                    <a:pt x="1127" y="6"/>
                  </a:lnTo>
                  <a:lnTo>
                    <a:pt x="1109" y="4"/>
                  </a:lnTo>
                  <a:lnTo>
                    <a:pt x="1092" y="2"/>
                  </a:lnTo>
                  <a:lnTo>
                    <a:pt x="1074" y="1"/>
                  </a:lnTo>
                  <a:lnTo>
                    <a:pt x="1056" y="1"/>
                  </a:lnTo>
                  <a:lnTo>
                    <a:pt x="1038" y="0"/>
                  </a:lnTo>
                  <a:lnTo>
                    <a:pt x="1020" y="0"/>
                  </a:lnTo>
                  <a:lnTo>
                    <a:pt x="989" y="1"/>
                  </a:lnTo>
                  <a:lnTo>
                    <a:pt x="955" y="2"/>
                  </a:lnTo>
                  <a:lnTo>
                    <a:pt x="925" y="6"/>
                  </a:lnTo>
                  <a:lnTo>
                    <a:pt x="893" y="9"/>
                  </a:lnTo>
                  <a:lnTo>
                    <a:pt x="864" y="14"/>
                  </a:lnTo>
                  <a:lnTo>
                    <a:pt x="833" y="20"/>
                  </a:lnTo>
                  <a:lnTo>
                    <a:pt x="806" y="28"/>
                  </a:lnTo>
                  <a:lnTo>
                    <a:pt x="778" y="35"/>
                  </a:lnTo>
                  <a:lnTo>
                    <a:pt x="751" y="44"/>
                  </a:lnTo>
                  <a:lnTo>
                    <a:pt x="726" y="54"/>
                  </a:lnTo>
                  <a:lnTo>
                    <a:pt x="701" y="65"/>
                  </a:lnTo>
                  <a:lnTo>
                    <a:pt x="678" y="76"/>
                  </a:lnTo>
                  <a:lnTo>
                    <a:pt x="656" y="88"/>
                  </a:lnTo>
                  <a:lnTo>
                    <a:pt x="636" y="101"/>
                  </a:lnTo>
                  <a:lnTo>
                    <a:pt x="616" y="116"/>
                  </a:lnTo>
                  <a:lnTo>
                    <a:pt x="599" y="130"/>
                  </a:lnTo>
                  <a:lnTo>
                    <a:pt x="581" y="116"/>
                  </a:lnTo>
                  <a:lnTo>
                    <a:pt x="563" y="101"/>
                  </a:lnTo>
                  <a:lnTo>
                    <a:pt x="542" y="88"/>
                  </a:lnTo>
                  <a:lnTo>
                    <a:pt x="520" y="76"/>
                  </a:lnTo>
                  <a:lnTo>
                    <a:pt x="498" y="65"/>
                  </a:lnTo>
                  <a:lnTo>
                    <a:pt x="473" y="54"/>
                  </a:lnTo>
                  <a:lnTo>
                    <a:pt x="447" y="44"/>
                  </a:lnTo>
                  <a:lnTo>
                    <a:pt x="421" y="35"/>
                  </a:lnTo>
                  <a:lnTo>
                    <a:pt x="393" y="28"/>
                  </a:lnTo>
                  <a:lnTo>
                    <a:pt x="364" y="20"/>
                  </a:lnTo>
                  <a:lnTo>
                    <a:pt x="335" y="14"/>
                  </a:lnTo>
                  <a:lnTo>
                    <a:pt x="304" y="9"/>
                  </a:lnTo>
                  <a:lnTo>
                    <a:pt x="274" y="6"/>
                  </a:lnTo>
                  <a:lnTo>
                    <a:pt x="242" y="2"/>
                  </a:lnTo>
                  <a:lnTo>
                    <a:pt x="210" y="1"/>
                  </a:lnTo>
                  <a:lnTo>
                    <a:pt x="177" y="0"/>
                  </a:lnTo>
                  <a:lnTo>
                    <a:pt x="159" y="0"/>
                  </a:lnTo>
                  <a:lnTo>
                    <a:pt x="141" y="1"/>
                  </a:lnTo>
                  <a:lnTo>
                    <a:pt x="124" y="1"/>
                  </a:lnTo>
                  <a:lnTo>
                    <a:pt x="106" y="2"/>
                  </a:lnTo>
                  <a:lnTo>
                    <a:pt x="89" y="4"/>
                  </a:lnTo>
                  <a:lnTo>
                    <a:pt x="73" y="6"/>
                  </a:lnTo>
                  <a:lnTo>
                    <a:pt x="56" y="9"/>
                  </a:lnTo>
                  <a:lnTo>
                    <a:pt x="39" y="11"/>
                  </a:lnTo>
                  <a:lnTo>
                    <a:pt x="0" y="18"/>
                  </a:lnTo>
                  <a:lnTo>
                    <a:pt x="0" y="539"/>
                  </a:lnTo>
                  <a:lnTo>
                    <a:pt x="0" y="539"/>
                  </a:lnTo>
                  <a:lnTo>
                    <a:pt x="0" y="708"/>
                  </a:lnTo>
                  <a:lnTo>
                    <a:pt x="57" y="699"/>
                  </a:lnTo>
                  <a:lnTo>
                    <a:pt x="65" y="697"/>
                  </a:lnTo>
                  <a:lnTo>
                    <a:pt x="73" y="696"/>
                  </a:lnTo>
                  <a:lnTo>
                    <a:pt x="81" y="695"/>
                  </a:lnTo>
                  <a:lnTo>
                    <a:pt x="89" y="694"/>
                  </a:lnTo>
                  <a:lnTo>
                    <a:pt x="97" y="694"/>
                  </a:lnTo>
                  <a:lnTo>
                    <a:pt x="105" y="693"/>
                  </a:lnTo>
                  <a:lnTo>
                    <a:pt x="113" y="692"/>
                  </a:lnTo>
                  <a:lnTo>
                    <a:pt x="121" y="692"/>
                  </a:lnTo>
                  <a:lnTo>
                    <a:pt x="159" y="610"/>
                  </a:lnTo>
                  <a:lnTo>
                    <a:pt x="152" y="610"/>
                  </a:lnTo>
                  <a:lnTo>
                    <a:pt x="142" y="612"/>
                  </a:lnTo>
                  <a:lnTo>
                    <a:pt x="134" y="612"/>
                  </a:lnTo>
                  <a:lnTo>
                    <a:pt x="126" y="612"/>
                  </a:lnTo>
                  <a:lnTo>
                    <a:pt x="118" y="613"/>
                  </a:lnTo>
                  <a:lnTo>
                    <a:pt x="110" y="613"/>
                  </a:lnTo>
                  <a:lnTo>
                    <a:pt x="104" y="614"/>
                  </a:lnTo>
                  <a:lnTo>
                    <a:pt x="96" y="614"/>
                  </a:lnTo>
                  <a:lnTo>
                    <a:pt x="96" y="581"/>
                  </a:lnTo>
                  <a:lnTo>
                    <a:pt x="105" y="580"/>
                  </a:lnTo>
                  <a:lnTo>
                    <a:pt x="114" y="578"/>
                  </a:lnTo>
                  <a:lnTo>
                    <a:pt x="125" y="577"/>
                  </a:lnTo>
                  <a:lnTo>
                    <a:pt x="134" y="577"/>
                  </a:lnTo>
                  <a:lnTo>
                    <a:pt x="145" y="576"/>
                  </a:lnTo>
                  <a:lnTo>
                    <a:pt x="154" y="576"/>
                  </a:lnTo>
                  <a:lnTo>
                    <a:pt x="165" y="576"/>
                  </a:lnTo>
                  <a:lnTo>
                    <a:pt x="175" y="576"/>
                  </a:lnTo>
                  <a:lnTo>
                    <a:pt x="213" y="498"/>
                  </a:lnTo>
                  <a:lnTo>
                    <a:pt x="198" y="497"/>
                  </a:lnTo>
                  <a:lnTo>
                    <a:pt x="183" y="497"/>
                  </a:lnTo>
                  <a:lnTo>
                    <a:pt x="167" y="497"/>
                  </a:lnTo>
                  <a:lnTo>
                    <a:pt x="153" y="497"/>
                  </a:lnTo>
                  <a:lnTo>
                    <a:pt x="138" y="498"/>
                  </a:lnTo>
                  <a:lnTo>
                    <a:pt x="124" y="499"/>
                  </a:lnTo>
                  <a:lnTo>
                    <a:pt x="110" y="500"/>
                  </a:lnTo>
                  <a:lnTo>
                    <a:pt x="96" y="501"/>
                  </a:lnTo>
                  <a:lnTo>
                    <a:pt x="96" y="84"/>
                  </a:lnTo>
                  <a:lnTo>
                    <a:pt x="105" y="83"/>
                  </a:lnTo>
                  <a:lnTo>
                    <a:pt x="116" y="82"/>
                  </a:lnTo>
                  <a:lnTo>
                    <a:pt x="125" y="80"/>
                  </a:lnTo>
                  <a:lnTo>
                    <a:pt x="136" y="80"/>
                  </a:lnTo>
                  <a:lnTo>
                    <a:pt x="145" y="79"/>
                  </a:lnTo>
                  <a:lnTo>
                    <a:pt x="155" y="79"/>
                  </a:lnTo>
                  <a:lnTo>
                    <a:pt x="166" y="79"/>
                  </a:lnTo>
                  <a:lnTo>
                    <a:pt x="177" y="79"/>
                  </a:lnTo>
                  <a:lnTo>
                    <a:pt x="209" y="80"/>
                  </a:lnTo>
                  <a:lnTo>
                    <a:pt x="240" y="82"/>
                  </a:lnTo>
                  <a:lnTo>
                    <a:pt x="271" y="85"/>
                  </a:lnTo>
                  <a:lnTo>
                    <a:pt x="301" y="89"/>
                  </a:lnTo>
                  <a:lnTo>
                    <a:pt x="331" y="95"/>
                  </a:lnTo>
                  <a:lnTo>
                    <a:pt x="358" y="101"/>
                  </a:lnTo>
                  <a:lnTo>
                    <a:pt x="385" y="108"/>
                  </a:lnTo>
                  <a:lnTo>
                    <a:pt x="412" y="117"/>
                  </a:lnTo>
                  <a:lnTo>
                    <a:pt x="435" y="127"/>
                  </a:lnTo>
                  <a:lnTo>
                    <a:pt x="459" y="137"/>
                  </a:lnTo>
                  <a:lnTo>
                    <a:pt x="481" y="148"/>
                  </a:lnTo>
                  <a:lnTo>
                    <a:pt x="499" y="160"/>
                  </a:lnTo>
                  <a:lnTo>
                    <a:pt x="518" y="173"/>
                  </a:lnTo>
                  <a:lnTo>
                    <a:pt x="532" y="186"/>
                  </a:lnTo>
                  <a:lnTo>
                    <a:pt x="547" y="201"/>
                  </a:lnTo>
                  <a:lnTo>
                    <a:pt x="557" y="215"/>
                  </a:lnTo>
                  <a:lnTo>
                    <a:pt x="599" y="278"/>
                  </a:lnTo>
                  <a:lnTo>
                    <a:pt x="641" y="215"/>
                  </a:lnTo>
                  <a:lnTo>
                    <a:pt x="652" y="201"/>
                  </a:lnTo>
                  <a:lnTo>
                    <a:pt x="666" y="186"/>
                  </a:lnTo>
                  <a:lnTo>
                    <a:pt x="681" y="173"/>
                  </a:lnTo>
                  <a:lnTo>
                    <a:pt x="699" y="160"/>
                  </a:lnTo>
                  <a:lnTo>
                    <a:pt x="718" y="148"/>
                  </a:lnTo>
                  <a:lnTo>
                    <a:pt x="739" y="137"/>
                  </a:lnTo>
                  <a:lnTo>
                    <a:pt x="763" y="127"/>
                  </a:lnTo>
                  <a:lnTo>
                    <a:pt x="787" y="117"/>
                  </a:lnTo>
                  <a:lnTo>
                    <a:pt x="812" y="108"/>
                  </a:lnTo>
                  <a:lnTo>
                    <a:pt x="840" y="101"/>
                  </a:lnTo>
                  <a:lnTo>
                    <a:pt x="868" y="95"/>
                  </a:lnTo>
                  <a:lnTo>
                    <a:pt x="897" y="89"/>
                  </a:lnTo>
                  <a:lnTo>
                    <a:pt x="928" y="85"/>
                  </a:lnTo>
                  <a:lnTo>
                    <a:pt x="958" y="82"/>
                  </a:lnTo>
                  <a:lnTo>
                    <a:pt x="989" y="80"/>
                  </a:lnTo>
                  <a:lnTo>
                    <a:pt x="1020" y="79"/>
                  </a:lnTo>
                  <a:lnTo>
                    <a:pt x="1031" y="79"/>
                  </a:lnTo>
                  <a:lnTo>
                    <a:pt x="1042" y="79"/>
                  </a:lnTo>
                  <a:lnTo>
                    <a:pt x="1052" y="79"/>
                  </a:lnTo>
                  <a:lnTo>
                    <a:pt x="1063" y="80"/>
                  </a:lnTo>
                  <a:lnTo>
                    <a:pt x="1074" y="80"/>
                  </a:lnTo>
                  <a:lnTo>
                    <a:pt x="1084" y="82"/>
                  </a:lnTo>
                  <a:lnTo>
                    <a:pt x="1093" y="83"/>
                  </a:lnTo>
                  <a:lnTo>
                    <a:pt x="1104" y="84"/>
                  </a:lnTo>
                  <a:lnTo>
                    <a:pt x="1104" y="501"/>
                  </a:lnTo>
                  <a:lnTo>
                    <a:pt x="1093" y="500"/>
                  </a:lnTo>
                  <a:lnTo>
                    <a:pt x="1084" y="499"/>
                  </a:lnTo>
                  <a:lnTo>
                    <a:pt x="1074" y="498"/>
                  </a:lnTo>
                  <a:lnTo>
                    <a:pt x="1063" y="498"/>
                  </a:lnTo>
                  <a:lnTo>
                    <a:pt x="1052" y="497"/>
                  </a:lnTo>
                  <a:lnTo>
                    <a:pt x="1042" y="497"/>
                  </a:lnTo>
                  <a:lnTo>
                    <a:pt x="1031" y="497"/>
                  </a:lnTo>
                  <a:lnTo>
                    <a:pt x="1020" y="497"/>
                  </a:lnTo>
                  <a:lnTo>
                    <a:pt x="1006" y="497"/>
                  </a:lnTo>
                  <a:lnTo>
                    <a:pt x="991" y="497"/>
                  </a:lnTo>
                  <a:lnTo>
                    <a:pt x="977" y="498"/>
                  </a:lnTo>
                  <a:lnTo>
                    <a:pt x="962" y="499"/>
                  </a:lnTo>
                  <a:lnTo>
                    <a:pt x="948" y="500"/>
                  </a:lnTo>
                  <a:lnTo>
                    <a:pt x="933" y="501"/>
                  </a:lnTo>
                  <a:lnTo>
                    <a:pt x="920" y="502"/>
                  </a:lnTo>
                  <a:lnTo>
                    <a:pt x="905" y="505"/>
                  </a:lnTo>
                  <a:lnTo>
                    <a:pt x="912" y="512"/>
                  </a:lnTo>
                  <a:lnTo>
                    <a:pt x="917" y="521"/>
                  </a:lnTo>
                  <a:lnTo>
                    <a:pt x="924" y="530"/>
                  </a:lnTo>
                  <a:lnTo>
                    <a:pt x="930" y="539"/>
                  </a:lnTo>
                  <a:lnTo>
                    <a:pt x="937" y="549"/>
                  </a:lnTo>
                  <a:lnTo>
                    <a:pt x="944" y="559"/>
                  </a:lnTo>
                  <a:lnTo>
                    <a:pt x="950" y="569"/>
                  </a:lnTo>
                  <a:lnTo>
                    <a:pt x="958" y="578"/>
                  </a:lnTo>
                  <a:lnTo>
                    <a:pt x="977" y="577"/>
                  </a:lnTo>
                  <a:lnTo>
                    <a:pt x="994" y="576"/>
                  </a:lnTo>
                  <a:lnTo>
                    <a:pt x="1013" y="576"/>
                  </a:lnTo>
                  <a:lnTo>
                    <a:pt x="1031" y="576"/>
                  </a:lnTo>
                  <a:lnTo>
                    <a:pt x="1050" y="576"/>
                  </a:lnTo>
                  <a:lnTo>
                    <a:pt x="1068" y="577"/>
                  </a:lnTo>
                  <a:lnTo>
                    <a:pt x="1086" y="578"/>
                  </a:lnTo>
                  <a:lnTo>
                    <a:pt x="1104" y="581"/>
                  </a:lnTo>
                  <a:lnTo>
                    <a:pt x="1104" y="614"/>
                  </a:lnTo>
                  <a:lnTo>
                    <a:pt x="1093" y="613"/>
                  </a:lnTo>
                  <a:lnTo>
                    <a:pt x="1084" y="613"/>
                  </a:lnTo>
                  <a:lnTo>
                    <a:pt x="1074" y="612"/>
                  </a:lnTo>
                  <a:lnTo>
                    <a:pt x="1063" y="612"/>
                  </a:lnTo>
                  <a:lnTo>
                    <a:pt x="1052" y="610"/>
                  </a:lnTo>
                  <a:lnTo>
                    <a:pt x="1042" y="610"/>
                  </a:lnTo>
                  <a:lnTo>
                    <a:pt x="1031" y="610"/>
                  </a:lnTo>
                  <a:lnTo>
                    <a:pt x="1020" y="610"/>
                  </a:lnTo>
                  <a:lnTo>
                    <a:pt x="1011" y="610"/>
                  </a:lnTo>
                  <a:lnTo>
                    <a:pt x="1002" y="610"/>
                  </a:lnTo>
                  <a:lnTo>
                    <a:pt x="991" y="610"/>
                  </a:lnTo>
                  <a:lnTo>
                    <a:pt x="982" y="612"/>
                  </a:lnTo>
                  <a:lnTo>
                    <a:pt x="989" y="621"/>
                  </a:lnTo>
                  <a:lnTo>
                    <a:pt x="997" y="631"/>
                  </a:lnTo>
                  <a:lnTo>
                    <a:pt x="1003" y="641"/>
                  </a:lnTo>
                  <a:lnTo>
                    <a:pt x="1010" y="651"/>
                  </a:lnTo>
                  <a:lnTo>
                    <a:pt x="1017" y="661"/>
                  </a:lnTo>
                  <a:lnTo>
                    <a:pt x="1024" y="671"/>
                  </a:lnTo>
                  <a:lnTo>
                    <a:pt x="1031" y="680"/>
                  </a:lnTo>
                  <a:lnTo>
                    <a:pt x="1038" y="690"/>
                  </a:lnTo>
                  <a:lnTo>
                    <a:pt x="1051" y="690"/>
                  </a:lnTo>
                  <a:lnTo>
                    <a:pt x="1064" y="691"/>
                  </a:lnTo>
                  <a:lnTo>
                    <a:pt x="1078" y="692"/>
                  </a:lnTo>
                  <a:lnTo>
                    <a:pt x="1091" y="692"/>
                  </a:lnTo>
                  <a:lnTo>
                    <a:pt x="1104" y="694"/>
                  </a:lnTo>
                  <a:lnTo>
                    <a:pt x="1117" y="695"/>
                  </a:lnTo>
                  <a:lnTo>
                    <a:pt x="1131" y="696"/>
                  </a:lnTo>
                  <a:lnTo>
                    <a:pt x="1143" y="699"/>
                  </a:lnTo>
                  <a:lnTo>
                    <a:pt x="1200" y="708"/>
                  </a:lnTo>
                  <a:lnTo>
                    <a:pt x="1200" y="18"/>
                  </a:lnTo>
                  <a:lnTo>
                    <a:pt x="116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44920" y="1735560"/>
              <a:ext cx="69840" cy="44280"/>
            </a:xfrm>
            <a:custGeom>
              <a:avLst/>
              <a:gdLst/>
              <a:ahLst/>
              <a:rect l="l" t="t" r="r" b="b"/>
              <a:pathLst>
                <a:path w="131" h="83">
                  <a:moveTo>
                    <a:pt x="38" y="0"/>
                  </a:moveTo>
                  <a:lnTo>
                    <a:pt x="0" y="82"/>
                  </a:lnTo>
                  <a:lnTo>
                    <a:pt x="16" y="81"/>
                  </a:lnTo>
                  <a:lnTo>
                    <a:pt x="33" y="80"/>
                  </a:lnTo>
                  <a:lnTo>
                    <a:pt x="49" y="80"/>
                  </a:lnTo>
                  <a:lnTo>
                    <a:pt x="66" y="80"/>
                  </a:lnTo>
                  <a:lnTo>
                    <a:pt x="82" y="80"/>
                  </a:lnTo>
                  <a:lnTo>
                    <a:pt x="100" y="81"/>
                  </a:lnTo>
                  <a:lnTo>
                    <a:pt x="115" y="82"/>
                  </a:lnTo>
                  <a:lnTo>
                    <a:pt x="131" y="83"/>
                  </a:lnTo>
                  <a:lnTo>
                    <a:pt x="125" y="4"/>
                  </a:lnTo>
                  <a:lnTo>
                    <a:pt x="114" y="3"/>
                  </a:lnTo>
                  <a:lnTo>
                    <a:pt x="103" y="3"/>
                  </a:lnTo>
                  <a:lnTo>
                    <a:pt x="93" y="2"/>
                  </a:lnTo>
                  <a:lnTo>
                    <a:pt x="82" y="2"/>
                  </a:lnTo>
                  <a:lnTo>
                    <a:pt x="72" y="0"/>
                  </a:lnTo>
                  <a:lnTo>
                    <a:pt x="60" y="0"/>
                  </a:lnTo>
                  <a:lnTo>
                    <a:pt x="49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971880" y="1737000"/>
              <a:ext cx="58680" cy="42840"/>
            </a:xfrm>
            <a:custGeom>
              <a:avLst/>
              <a:gdLst/>
              <a:ahLst/>
              <a:rect l="l" t="t" r="r" b="b"/>
              <a:pathLst>
                <a:path w="112" h="80">
                  <a:moveTo>
                    <a:pt x="0" y="4"/>
                  </a:moveTo>
                  <a:lnTo>
                    <a:pt x="28" y="80"/>
                  </a:lnTo>
                  <a:lnTo>
                    <a:pt x="39" y="79"/>
                  </a:lnTo>
                  <a:lnTo>
                    <a:pt x="49" y="79"/>
                  </a:lnTo>
                  <a:lnTo>
                    <a:pt x="60" y="78"/>
                  </a:lnTo>
                  <a:lnTo>
                    <a:pt x="71" y="78"/>
                  </a:lnTo>
                  <a:lnTo>
                    <a:pt x="80" y="78"/>
                  </a:lnTo>
                  <a:lnTo>
                    <a:pt x="91" y="78"/>
                  </a:lnTo>
                  <a:lnTo>
                    <a:pt x="101" y="78"/>
                  </a:lnTo>
                  <a:lnTo>
                    <a:pt x="112" y="78"/>
                  </a:lnTo>
                  <a:lnTo>
                    <a:pt x="105" y="68"/>
                  </a:lnTo>
                  <a:lnTo>
                    <a:pt x="98" y="59"/>
                  </a:lnTo>
                  <a:lnTo>
                    <a:pt x="91" y="49"/>
                  </a:lnTo>
                  <a:lnTo>
                    <a:pt x="84" y="39"/>
                  </a:lnTo>
                  <a:lnTo>
                    <a:pt x="77" y="29"/>
                  </a:lnTo>
                  <a:lnTo>
                    <a:pt x="71" y="19"/>
                  </a:lnTo>
                  <a:lnTo>
                    <a:pt x="63" y="9"/>
                  </a:lnTo>
                  <a:lnTo>
                    <a:pt x="56" y="0"/>
                  </a:lnTo>
                  <a:lnTo>
                    <a:pt x="49" y="0"/>
                  </a:lnTo>
                  <a:lnTo>
                    <a:pt x="43" y="1"/>
                  </a:lnTo>
                  <a:lnTo>
                    <a:pt x="35" y="1"/>
                  </a:lnTo>
                  <a:lnTo>
                    <a:pt x="28" y="2"/>
                  </a:lnTo>
                  <a:lnTo>
                    <a:pt x="22" y="2"/>
                  </a:lnTo>
                  <a:lnTo>
                    <a:pt x="15" y="3"/>
                  </a:lnTo>
                  <a:lnTo>
                    <a:pt x="7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06840" y="1676520"/>
              <a:ext cx="379440" cy="158760"/>
            </a:xfrm>
            <a:custGeom>
              <a:avLst/>
              <a:gdLst/>
              <a:ahLst/>
              <a:rect l="l" t="t" r="r" b="b"/>
              <a:pathLst>
                <a:path w="716" h="298">
                  <a:moveTo>
                    <a:pt x="408" y="206"/>
                  </a:moveTo>
                  <a:lnTo>
                    <a:pt x="418" y="195"/>
                  </a:lnTo>
                  <a:lnTo>
                    <a:pt x="428" y="184"/>
                  </a:lnTo>
                  <a:lnTo>
                    <a:pt x="439" y="174"/>
                  </a:lnTo>
                  <a:lnTo>
                    <a:pt x="452" y="164"/>
                  </a:lnTo>
                  <a:lnTo>
                    <a:pt x="467" y="155"/>
                  </a:lnTo>
                  <a:lnTo>
                    <a:pt x="481" y="146"/>
                  </a:lnTo>
                  <a:lnTo>
                    <a:pt x="497" y="138"/>
                  </a:lnTo>
                  <a:lnTo>
                    <a:pt x="515" y="129"/>
                  </a:lnTo>
                  <a:lnTo>
                    <a:pt x="532" y="122"/>
                  </a:lnTo>
                  <a:lnTo>
                    <a:pt x="550" y="115"/>
                  </a:lnTo>
                  <a:lnTo>
                    <a:pt x="570" y="108"/>
                  </a:lnTo>
                  <a:lnTo>
                    <a:pt x="590" y="103"/>
                  </a:lnTo>
                  <a:lnTo>
                    <a:pt x="610" y="97"/>
                  </a:lnTo>
                  <a:lnTo>
                    <a:pt x="633" y="93"/>
                  </a:lnTo>
                  <a:lnTo>
                    <a:pt x="654" y="88"/>
                  </a:lnTo>
                  <a:lnTo>
                    <a:pt x="676" y="85"/>
                  </a:lnTo>
                  <a:lnTo>
                    <a:pt x="648" y="8"/>
                  </a:lnTo>
                  <a:lnTo>
                    <a:pt x="626" y="11"/>
                  </a:lnTo>
                  <a:lnTo>
                    <a:pt x="605" y="16"/>
                  </a:lnTo>
                  <a:lnTo>
                    <a:pt x="583" y="21"/>
                  </a:lnTo>
                  <a:lnTo>
                    <a:pt x="562" y="27"/>
                  </a:lnTo>
                  <a:lnTo>
                    <a:pt x="542" y="32"/>
                  </a:lnTo>
                  <a:lnTo>
                    <a:pt x="522" y="39"/>
                  </a:lnTo>
                  <a:lnTo>
                    <a:pt x="503" y="45"/>
                  </a:lnTo>
                  <a:lnTo>
                    <a:pt x="484" y="53"/>
                  </a:lnTo>
                  <a:lnTo>
                    <a:pt x="467" y="61"/>
                  </a:lnTo>
                  <a:lnTo>
                    <a:pt x="448" y="70"/>
                  </a:lnTo>
                  <a:lnTo>
                    <a:pt x="432" y="78"/>
                  </a:lnTo>
                  <a:lnTo>
                    <a:pt x="416" y="87"/>
                  </a:lnTo>
                  <a:lnTo>
                    <a:pt x="402" y="97"/>
                  </a:lnTo>
                  <a:lnTo>
                    <a:pt x="387" y="107"/>
                  </a:lnTo>
                  <a:lnTo>
                    <a:pt x="374" y="117"/>
                  </a:lnTo>
                  <a:lnTo>
                    <a:pt x="361" y="128"/>
                  </a:lnTo>
                  <a:lnTo>
                    <a:pt x="346" y="115"/>
                  </a:lnTo>
                  <a:lnTo>
                    <a:pt x="329" y="103"/>
                  </a:lnTo>
                  <a:lnTo>
                    <a:pt x="312" y="90"/>
                  </a:lnTo>
                  <a:lnTo>
                    <a:pt x="293" y="79"/>
                  </a:lnTo>
                  <a:lnTo>
                    <a:pt x="273" y="70"/>
                  </a:lnTo>
                  <a:lnTo>
                    <a:pt x="252" y="60"/>
                  </a:lnTo>
                  <a:lnTo>
                    <a:pt x="231" y="50"/>
                  </a:lnTo>
                  <a:lnTo>
                    <a:pt x="208" y="41"/>
                  </a:lnTo>
                  <a:lnTo>
                    <a:pt x="184" y="33"/>
                  </a:lnTo>
                  <a:lnTo>
                    <a:pt x="159" y="27"/>
                  </a:lnTo>
                  <a:lnTo>
                    <a:pt x="134" y="20"/>
                  </a:lnTo>
                  <a:lnTo>
                    <a:pt x="109" y="14"/>
                  </a:lnTo>
                  <a:lnTo>
                    <a:pt x="82" y="10"/>
                  </a:lnTo>
                  <a:lnTo>
                    <a:pt x="55" y="6"/>
                  </a:lnTo>
                  <a:lnTo>
                    <a:pt x="28" y="2"/>
                  </a:lnTo>
                  <a:lnTo>
                    <a:pt x="0" y="0"/>
                  </a:lnTo>
                  <a:lnTo>
                    <a:pt x="6" y="79"/>
                  </a:lnTo>
                  <a:lnTo>
                    <a:pt x="32" y="82"/>
                  </a:lnTo>
                  <a:lnTo>
                    <a:pt x="57" y="86"/>
                  </a:lnTo>
                  <a:lnTo>
                    <a:pt x="82" y="90"/>
                  </a:lnTo>
                  <a:lnTo>
                    <a:pt x="106" y="95"/>
                  </a:lnTo>
                  <a:lnTo>
                    <a:pt x="128" y="100"/>
                  </a:lnTo>
                  <a:lnTo>
                    <a:pt x="151" y="107"/>
                  </a:lnTo>
                  <a:lnTo>
                    <a:pt x="172" y="115"/>
                  </a:lnTo>
                  <a:lnTo>
                    <a:pt x="193" y="122"/>
                  </a:lnTo>
                  <a:lnTo>
                    <a:pt x="212" y="131"/>
                  </a:lnTo>
                  <a:lnTo>
                    <a:pt x="231" y="140"/>
                  </a:lnTo>
                  <a:lnTo>
                    <a:pt x="248" y="150"/>
                  </a:lnTo>
                  <a:lnTo>
                    <a:pt x="264" y="160"/>
                  </a:lnTo>
                  <a:lnTo>
                    <a:pt x="278" y="171"/>
                  </a:lnTo>
                  <a:lnTo>
                    <a:pt x="292" y="182"/>
                  </a:lnTo>
                  <a:lnTo>
                    <a:pt x="304" y="194"/>
                  </a:lnTo>
                  <a:lnTo>
                    <a:pt x="314" y="206"/>
                  </a:lnTo>
                  <a:lnTo>
                    <a:pt x="300" y="197"/>
                  </a:lnTo>
                  <a:lnTo>
                    <a:pt x="284" y="189"/>
                  </a:lnTo>
                  <a:lnTo>
                    <a:pt x="268" y="180"/>
                  </a:lnTo>
                  <a:lnTo>
                    <a:pt x="250" y="172"/>
                  </a:lnTo>
                  <a:lnTo>
                    <a:pt x="233" y="164"/>
                  </a:lnTo>
                  <a:lnTo>
                    <a:pt x="215" y="158"/>
                  </a:lnTo>
                  <a:lnTo>
                    <a:pt x="196" y="151"/>
                  </a:lnTo>
                  <a:lnTo>
                    <a:pt x="178" y="146"/>
                  </a:lnTo>
                  <a:lnTo>
                    <a:pt x="158" y="140"/>
                  </a:lnTo>
                  <a:lnTo>
                    <a:pt x="138" y="135"/>
                  </a:lnTo>
                  <a:lnTo>
                    <a:pt x="116" y="130"/>
                  </a:lnTo>
                  <a:lnTo>
                    <a:pt x="95" y="126"/>
                  </a:lnTo>
                  <a:lnTo>
                    <a:pt x="74" y="122"/>
                  </a:lnTo>
                  <a:lnTo>
                    <a:pt x="53" y="119"/>
                  </a:lnTo>
                  <a:lnTo>
                    <a:pt x="30" y="117"/>
                  </a:lnTo>
                  <a:lnTo>
                    <a:pt x="8" y="115"/>
                  </a:lnTo>
                  <a:lnTo>
                    <a:pt x="14" y="194"/>
                  </a:lnTo>
                  <a:lnTo>
                    <a:pt x="37" y="196"/>
                  </a:lnTo>
                  <a:lnTo>
                    <a:pt x="58" y="200"/>
                  </a:lnTo>
                  <a:lnTo>
                    <a:pt x="79" y="204"/>
                  </a:lnTo>
                  <a:lnTo>
                    <a:pt x="101" y="207"/>
                  </a:lnTo>
                  <a:lnTo>
                    <a:pt x="120" y="213"/>
                  </a:lnTo>
                  <a:lnTo>
                    <a:pt x="140" y="218"/>
                  </a:lnTo>
                  <a:lnTo>
                    <a:pt x="160" y="224"/>
                  </a:lnTo>
                  <a:lnTo>
                    <a:pt x="179" y="230"/>
                  </a:lnTo>
                  <a:lnTo>
                    <a:pt x="196" y="237"/>
                  </a:lnTo>
                  <a:lnTo>
                    <a:pt x="213" y="245"/>
                  </a:lnTo>
                  <a:lnTo>
                    <a:pt x="229" y="252"/>
                  </a:lnTo>
                  <a:lnTo>
                    <a:pt x="244" y="260"/>
                  </a:lnTo>
                  <a:lnTo>
                    <a:pt x="258" y="269"/>
                  </a:lnTo>
                  <a:lnTo>
                    <a:pt x="272" y="278"/>
                  </a:lnTo>
                  <a:lnTo>
                    <a:pt x="284" y="288"/>
                  </a:lnTo>
                  <a:lnTo>
                    <a:pt x="294" y="298"/>
                  </a:lnTo>
                  <a:lnTo>
                    <a:pt x="428" y="298"/>
                  </a:lnTo>
                  <a:lnTo>
                    <a:pt x="440" y="288"/>
                  </a:lnTo>
                  <a:lnTo>
                    <a:pt x="452" y="278"/>
                  </a:lnTo>
                  <a:lnTo>
                    <a:pt x="465" y="269"/>
                  </a:lnTo>
                  <a:lnTo>
                    <a:pt x="480" y="259"/>
                  </a:lnTo>
                  <a:lnTo>
                    <a:pt x="496" y="251"/>
                  </a:lnTo>
                  <a:lnTo>
                    <a:pt x="512" y="244"/>
                  </a:lnTo>
                  <a:lnTo>
                    <a:pt x="529" y="236"/>
                  </a:lnTo>
                  <a:lnTo>
                    <a:pt x="548" y="228"/>
                  </a:lnTo>
                  <a:lnTo>
                    <a:pt x="566" y="223"/>
                  </a:lnTo>
                  <a:lnTo>
                    <a:pt x="586" y="216"/>
                  </a:lnTo>
                  <a:lnTo>
                    <a:pt x="607" y="211"/>
                  </a:lnTo>
                  <a:lnTo>
                    <a:pt x="627" y="206"/>
                  </a:lnTo>
                  <a:lnTo>
                    <a:pt x="648" y="202"/>
                  </a:lnTo>
                  <a:lnTo>
                    <a:pt x="671" y="198"/>
                  </a:lnTo>
                  <a:lnTo>
                    <a:pt x="694" y="195"/>
                  </a:lnTo>
                  <a:lnTo>
                    <a:pt x="716" y="193"/>
                  </a:lnTo>
                  <a:lnTo>
                    <a:pt x="688" y="117"/>
                  </a:lnTo>
                  <a:lnTo>
                    <a:pt x="668" y="119"/>
                  </a:lnTo>
                  <a:lnTo>
                    <a:pt x="648" y="122"/>
                  </a:lnTo>
                  <a:lnTo>
                    <a:pt x="629" y="126"/>
                  </a:lnTo>
                  <a:lnTo>
                    <a:pt x="609" y="129"/>
                  </a:lnTo>
                  <a:lnTo>
                    <a:pt x="590" y="133"/>
                  </a:lnTo>
                  <a:lnTo>
                    <a:pt x="570" y="138"/>
                  </a:lnTo>
                  <a:lnTo>
                    <a:pt x="553" y="143"/>
                  </a:lnTo>
                  <a:lnTo>
                    <a:pt x="534" y="148"/>
                  </a:lnTo>
                  <a:lnTo>
                    <a:pt x="517" y="154"/>
                  </a:lnTo>
                  <a:lnTo>
                    <a:pt x="500" y="161"/>
                  </a:lnTo>
                  <a:lnTo>
                    <a:pt x="483" y="168"/>
                  </a:lnTo>
                  <a:lnTo>
                    <a:pt x="467" y="174"/>
                  </a:lnTo>
                  <a:lnTo>
                    <a:pt x="451" y="182"/>
                  </a:lnTo>
                  <a:lnTo>
                    <a:pt x="436" y="190"/>
                  </a:lnTo>
                  <a:lnTo>
                    <a:pt x="422" y="197"/>
                  </a:lnTo>
                  <a:lnTo>
                    <a:pt x="408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62520" y="2082960"/>
              <a:ext cx="220320" cy="184320"/>
            </a:xfrm>
            <a:custGeom>
              <a:avLst/>
              <a:gdLst/>
              <a:ahLst/>
              <a:rect l="l" t="t" r="r" b="b"/>
              <a:pathLst>
                <a:path w="417" h="346">
                  <a:moveTo>
                    <a:pt x="209" y="346"/>
                  </a:moveTo>
                  <a:lnTo>
                    <a:pt x="230" y="345"/>
                  </a:lnTo>
                  <a:lnTo>
                    <a:pt x="250" y="343"/>
                  </a:lnTo>
                  <a:lnTo>
                    <a:pt x="270" y="338"/>
                  </a:lnTo>
                  <a:lnTo>
                    <a:pt x="288" y="333"/>
                  </a:lnTo>
                  <a:lnTo>
                    <a:pt x="307" y="326"/>
                  </a:lnTo>
                  <a:lnTo>
                    <a:pt x="324" y="317"/>
                  </a:lnTo>
                  <a:lnTo>
                    <a:pt x="340" y="308"/>
                  </a:lnTo>
                  <a:lnTo>
                    <a:pt x="356" y="295"/>
                  </a:lnTo>
                  <a:lnTo>
                    <a:pt x="371" y="283"/>
                  </a:lnTo>
                  <a:lnTo>
                    <a:pt x="382" y="269"/>
                  </a:lnTo>
                  <a:lnTo>
                    <a:pt x="393" y="255"/>
                  </a:lnTo>
                  <a:lnTo>
                    <a:pt x="401" y="239"/>
                  </a:lnTo>
                  <a:lnTo>
                    <a:pt x="408" y="224"/>
                  </a:lnTo>
                  <a:lnTo>
                    <a:pt x="413" y="207"/>
                  </a:lnTo>
                  <a:lnTo>
                    <a:pt x="416" y="191"/>
                  </a:lnTo>
                  <a:lnTo>
                    <a:pt x="417" y="173"/>
                  </a:lnTo>
                  <a:lnTo>
                    <a:pt x="416" y="155"/>
                  </a:lnTo>
                  <a:lnTo>
                    <a:pt x="413" y="139"/>
                  </a:lnTo>
                  <a:lnTo>
                    <a:pt x="408" y="122"/>
                  </a:lnTo>
                  <a:lnTo>
                    <a:pt x="401" y="107"/>
                  </a:lnTo>
                  <a:lnTo>
                    <a:pt x="393" y="92"/>
                  </a:lnTo>
                  <a:lnTo>
                    <a:pt x="382" y="77"/>
                  </a:lnTo>
                  <a:lnTo>
                    <a:pt x="371" y="64"/>
                  </a:lnTo>
                  <a:lnTo>
                    <a:pt x="356" y="51"/>
                  </a:lnTo>
                  <a:lnTo>
                    <a:pt x="340" y="40"/>
                  </a:lnTo>
                  <a:lnTo>
                    <a:pt x="324" y="30"/>
                  </a:lnTo>
                  <a:lnTo>
                    <a:pt x="307" y="21"/>
                  </a:lnTo>
                  <a:lnTo>
                    <a:pt x="288" y="13"/>
                  </a:lnTo>
                  <a:lnTo>
                    <a:pt x="270" y="8"/>
                  </a:lnTo>
                  <a:lnTo>
                    <a:pt x="250" y="3"/>
                  </a:lnTo>
                  <a:lnTo>
                    <a:pt x="230" y="1"/>
                  </a:lnTo>
                  <a:lnTo>
                    <a:pt x="209" y="0"/>
                  </a:lnTo>
                  <a:lnTo>
                    <a:pt x="166" y="3"/>
                  </a:lnTo>
                  <a:lnTo>
                    <a:pt x="128" y="13"/>
                  </a:lnTo>
                  <a:lnTo>
                    <a:pt x="92" y="30"/>
                  </a:lnTo>
                  <a:lnTo>
                    <a:pt x="61" y="51"/>
                  </a:lnTo>
                  <a:lnTo>
                    <a:pt x="36" y="77"/>
                  </a:lnTo>
                  <a:lnTo>
                    <a:pt x="16" y="106"/>
                  </a:lnTo>
                  <a:lnTo>
                    <a:pt x="4" y="139"/>
                  </a:lnTo>
                  <a:lnTo>
                    <a:pt x="0" y="173"/>
                  </a:lnTo>
                  <a:lnTo>
                    <a:pt x="2" y="191"/>
                  </a:lnTo>
                  <a:lnTo>
                    <a:pt x="4" y="207"/>
                  </a:lnTo>
                  <a:lnTo>
                    <a:pt x="10" y="224"/>
                  </a:lnTo>
                  <a:lnTo>
                    <a:pt x="16" y="239"/>
                  </a:lnTo>
                  <a:lnTo>
                    <a:pt x="24" y="255"/>
                  </a:lnTo>
                  <a:lnTo>
                    <a:pt x="35" y="269"/>
                  </a:lnTo>
                  <a:lnTo>
                    <a:pt x="47" y="283"/>
                  </a:lnTo>
                  <a:lnTo>
                    <a:pt x="61" y="295"/>
                  </a:lnTo>
                  <a:lnTo>
                    <a:pt x="77" y="308"/>
                  </a:lnTo>
                  <a:lnTo>
                    <a:pt x="93" y="317"/>
                  </a:lnTo>
                  <a:lnTo>
                    <a:pt x="110" y="326"/>
                  </a:lnTo>
                  <a:lnTo>
                    <a:pt x="129" y="333"/>
                  </a:lnTo>
                  <a:lnTo>
                    <a:pt x="148" y="338"/>
                  </a:lnTo>
                  <a:lnTo>
                    <a:pt x="168" y="343"/>
                  </a:lnTo>
                  <a:lnTo>
                    <a:pt x="187" y="345"/>
                  </a:lnTo>
                  <a:lnTo>
                    <a:pt x="209" y="3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019400" y="2130840"/>
              <a:ext cx="106560" cy="88920"/>
            </a:xfrm>
            <a:custGeom>
              <a:avLst/>
              <a:gdLst/>
              <a:ahLst/>
              <a:rect l="l" t="t" r="r" b="b"/>
              <a:pathLst>
                <a:path w="201" h="168">
                  <a:moveTo>
                    <a:pt x="0" y="84"/>
                  </a:moveTo>
                  <a:lnTo>
                    <a:pt x="1" y="68"/>
                  </a:lnTo>
                  <a:lnTo>
                    <a:pt x="8" y="52"/>
                  </a:lnTo>
                  <a:lnTo>
                    <a:pt x="17" y="38"/>
                  </a:lnTo>
                  <a:lnTo>
                    <a:pt x="29" y="26"/>
                  </a:lnTo>
                  <a:lnTo>
                    <a:pt x="37" y="20"/>
                  </a:lnTo>
                  <a:lnTo>
                    <a:pt x="45" y="15"/>
                  </a:lnTo>
                  <a:lnTo>
                    <a:pt x="53" y="10"/>
                  </a:lnTo>
                  <a:lnTo>
                    <a:pt x="62" y="7"/>
                  </a:lnTo>
                  <a:lnTo>
                    <a:pt x="71" y="4"/>
                  </a:lnTo>
                  <a:lnTo>
                    <a:pt x="81" y="1"/>
                  </a:lnTo>
                  <a:lnTo>
                    <a:pt x="91" y="0"/>
                  </a:lnTo>
                  <a:lnTo>
                    <a:pt x="101" y="0"/>
                  </a:lnTo>
                  <a:lnTo>
                    <a:pt x="110" y="0"/>
                  </a:lnTo>
                  <a:lnTo>
                    <a:pt x="121" y="1"/>
                  </a:lnTo>
                  <a:lnTo>
                    <a:pt x="130" y="4"/>
                  </a:lnTo>
                  <a:lnTo>
                    <a:pt x="139" y="7"/>
                  </a:lnTo>
                  <a:lnTo>
                    <a:pt x="148" y="10"/>
                  </a:lnTo>
                  <a:lnTo>
                    <a:pt x="156" y="15"/>
                  </a:lnTo>
                  <a:lnTo>
                    <a:pt x="164" y="20"/>
                  </a:lnTo>
                  <a:lnTo>
                    <a:pt x="172" y="26"/>
                  </a:lnTo>
                  <a:lnTo>
                    <a:pt x="184" y="38"/>
                  </a:lnTo>
                  <a:lnTo>
                    <a:pt x="194" y="52"/>
                  </a:lnTo>
                  <a:lnTo>
                    <a:pt x="200" y="68"/>
                  </a:lnTo>
                  <a:lnTo>
                    <a:pt x="201" y="84"/>
                  </a:lnTo>
                  <a:lnTo>
                    <a:pt x="199" y="101"/>
                  </a:lnTo>
                  <a:lnTo>
                    <a:pt x="194" y="117"/>
                  </a:lnTo>
                  <a:lnTo>
                    <a:pt x="184" y="131"/>
                  </a:lnTo>
                  <a:lnTo>
                    <a:pt x="172" y="144"/>
                  </a:lnTo>
                  <a:lnTo>
                    <a:pt x="158" y="153"/>
                  </a:lnTo>
                  <a:lnTo>
                    <a:pt x="140" y="161"/>
                  </a:lnTo>
                  <a:lnTo>
                    <a:pt x="121" y="166"/>
                  </a:lnTo>
                  <a:lnTo>
                    <a:pt x="101" y="168"/>
                  </a:lnTo>
                  <a:lnTo>
                    <a:pt x="91" y="168"/>
                  </a:lnTo>
                  <a:lnTo>
                    <a:pt x="81" y="167"/>
                  </a:lnTo>
                  <a:lnTo>
                    <a:pt x="71" y="165"/>
                  </a:lnTo>
                  <a:lnTo>
                    <a:pt x="62" y="162"/>
                  </a:lnTo>
                  <a:lnTo>
                    <a:pt x="53" y="159"/>
                  </a:lnTo>
                  <a:lnTo>
                    <a:pt x="45" y="155"/>
                  </a:lnTo>
                  <a:lnTo>
                    <a:pt x="37" y="149"/>
                  </a:lnTo>
                  <a:lnTo>
                    <a:pt x="29" y="144"/>
                  </a:lnTo>
                  <a:lnTo>
                    <a:pt x="17" y="131"/>
                  </a:lnTo>
                  <a:lnTo>
                    <a:pt x="8" y="117"/>
                  </a:lnTo>
                  <a:lnTo>
                    <a:pt x="1" y="101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87560" y="2082960"/>
              <a:ext cx="220680" cy="184320"/>
            </a:xfrm>
            <a:custGeom>
              <a:avLst/>
              <a:gdLst/>
              <a:ahLst/>
              <a:rect l="l" t="t" r="r" b="b"/>
              <a:pathLst>
                <a:path w="417" h="346">
                  <a:moveTo>
                    <a:pt x="208" y="346"/>
                  </a:moveTo>
                  <a:lnTo>
                    <a:pt x="230" y="345"/>
                  </a:lnTo>
                  <a:lnTo>
                    <a:pt x="249" y="343"/>
                  </a:lnTo>
                  <a:lnTo>
                    <a:pt x="269" y="338"/>
                  </a:lnTo>
                  <a:lnTo>
                    <a:pt x="288" y="333"/>
                  </a:lnTo>
                  <a:lnTo>
                    <a:pt x="306" y="326"/>
                  </a:lnTo>
                  <a:lnTo>
                    <a:pt x="324" y="317"/>
                  </a:lnTo>
                  <a:lnTo>
                    <a:pt x="341" y="308"/>
                  </a:lnTo>
                  <a:lnTo>
                    <a:pt x="356" y="295"/>
                  </a:lnTo>
                  <a:lnTo>
                    <a:pt x="370" y="283"/>
                  </a:lnTo>
                  <a:lnTo>
                    <a:pt x="382" y="269"/>
                  </a:lnTo>
                  <a:lnTo>
                    <a:pt x="393" y="255"/>
                  </a:lnTo>
                  <a:lnTo>
                    <a:pt x="401" y="239"/>
                  </a:lnTo>
                  <a:lnTo>
                    <a:pt x="407" y="224"/>
                  </a:lnTo>
                  <a:lnTo>
                    <a:pt x="413" y="207"/>
                  </a:lnTo>
                  <a:lnTo>
                    <a:pt x="415" y="191"/>
                  </a:lnTo>
                  <a:lnTo>
                    <a:pt x="417" y="173"/>
                  </a:lnTo>
                  <a:lnTo>
                    <a:pt x="415" y="155"/>
                  </a:lnTo>
                  <a:lnTo>
                    <a:pt x="413" y="139"/>
                  </a:lnTo>
                  <a:lnTo>
                    <a:pt x="407" y="122"/>
                  </a:lnTo>
                  <a:lnTo>
                    <a:pt x="401" y="107"/>
                  </a:lnTo>
                  <a:lnTo>
                    <a:pt x="393" y="92"/>
                  </a:lnTo>
                  <a:lnTo>
                    <a:pt x="382" y="77"/>
                  </a:lnTo>
                  <a:lnTo>
                    <a:pt x="370" y="64"/>
                  </a:lnTo>
                  <a:lnTo>
                    <a:pt x="356" y="51"/>
                  </a:lnTo>
                  <a:lnTo>
                    <a:pt x="341" y="40"/>
                  </a:lnTo>
                  <a:lnTo>
                    <a:pt x="324" y="30"/>
                  </a:lnTo>
                  <a:lnTo>
                    <a:pt x="306" y="21"/>
                  </a:lnTo>
                  <a:lnTo>
                    <a:pt x="288" y="13"/>
                  </a:lnTo>
                  <a:lnTo>
                    <a:pt x="269" y="8"/>
                  </a:lnTo>
                  <a:lnTo>
                    <a:pt x="249" y="3"/>
                  </a:lnTo>
                  <a:lnTo>
                    <a:pt x="230" y="1"/>
                  </a:lnTo>
                  <a:lnTo>
                    <a:pt x="208" y="0"/>
                  </a:lnTo>
                  <a:lnTo>
                    <a:pt x="167" y="3"/>
                  </a:lnTo>
                  <a:lnTo>
                    <a:pt x="127" y="13"/>
                  </a:lnTo>
                  <a:lnTo>
                    <a:pt x="93" y="30"/>
                  </a:lnTo>
                  <a:lnTo>
                    <a:pt x="61" y="51"/>
                  </a:lnTo>
                  <a:lnTo>
                    <a:pt x="36" y="77"/>
                  </a:lnTo>
                  <a:lnTo>
                    <a:pt x="16" y="106"/>
                  </a:lnTo>
                  <a:lnTo>
                    <a:pt x="4" y="139"/>
                  </a:lnTo>
                  <a:lnTo>
                    <a:pt x="0" y="173"/>
                  </a:lnTo>
                  <a:lnTo>
                    <a:pt x="1" y="191"/>
                  </a:lnTo>
                  <a:lnTo>
                    <a:pt x="4" y="207"/>
                  </a:lnTo>
                  <a:lnTo>
                    <a:pt x="9" y="224"/>
                  </a:lnTo>
                  <a:lnTo>
                    <a:pt x="16" y="239"/>
                  </a:lnTo>
                  <a:lnTo>
                    <a:pt x="24" y="255"/>
                  </a:lnTo>
                  <a:lnTo>
                    <a:pt x="35" y="269"/>
                  </a:lnTo>
                  <a:lnTo>
                    <a:pt x="46" y="283"/>
                  </a:lnTo>
                  <a:lnTo>
                    <a:pt x="61" y="295"/>
                  </a:lnTo>
                  <a:lnTo>
                    <a:pt x="77" y="308"/>
                  </a:lnTo>
                  <a:lnTo>
                    <a:pt x="93" y="317"/>
                  </a:lnTo>
                  <a:lnTo>
                    <a:pt x="110" y="326"/>
                  </a:lnTo>
                  <a:lnTo>
                    <a:pt x="129" y="333"/>
                  </a:lnTo>
                  <a:lnTo>
                    <a:pt x="147" y="338"/>
                  </a:lnTo>
                  <a:lnTo>
                    <a:pt x="167" y="343"/>
                  </a:lnTo>
                  <a:lnTo>
                    <a:pt x="187" y="345"/>
                  </a:lnTo>
                  <a:lnTo>
                    <a:pt x="208" y="3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44800" y="2130840"/>
              <a:ext cx="106560" cy="88920"/>
            </a:xfrm>
            <a:custGeom>
              <a:avLst/>
              <a:gdLst/>
              <a:ahLst/>
              <a:rect l="l" t="t" r="r" b="b"/>
              <a:pathLst>
                <a:path w="202" h="168">
                  <a:moveTo>
                    <a:pt x="0" y="84"/>
                  </a:moveTo>
                  <a:lnTo>
                    <a:pt x="2" y="68"/>
                  </a:lnTo>
                  <a:lnTo>
                    <a:pt x="8" y="52"/>
                  </a:lnTo>
                  <a:lnTo>
                    <a:pt x="18" y="38"/>
                  </a:lnTo>
                  <a:lnTo>
                    <a:pt x="30" y="26"/>
                  </a:lnTo>
                  <a:lnTo>
                    <a:pt x="38" y="20"/>
                  </a:lnTo>
                  <a:lnTo>
                    <a:pt x="46" y="15"/>
                  </a:lnTo>
                  <a:lnTo>
                    <a:pt x="54" y="10"/>
                  </a:lnTo>
                  <a:lnTo>
                    <a:pt x="63" y="7"/>
                  </a:lnTo>
                  <a:lnTo>
                    <a:pt x="72" y="4"/>
                  </a:lnTo>
                  <a:lnTo>
                    <a:pt x="81" y="1"/>
                  </a:lnTo>
                  <a:lnTo>
                    <a:pt x="92" y="0"/>
                  </a:lnTo>
                  <a:lnTo>
                    <a:pt x="101" y="0"/>
                  </a:lnTo>
                  <a:lnTo>
                    <a:pt x="111" y="0"/>
                  </a:lnTo>
                  <a:lnTo>
                    <a:pt x="121" y="1"/>
                  </a:lnTo>
                  <a:lnTo>
                    <a:pt x="131" y="4"/>
                  </a:lnTo>
                  <a:lnTo>
                    <a:pt x="140" y="7"/>
                  </a:lnTo>
                  <a:lnTo>
                    <a:pt x="149" y="10"/>
                  </a:lnTo>
                  <a:lnTo>
                    <a:pt x="157" y="15"/>
                  </a:lnTo>
                  <a:lnTo>
                    <a:pt x="165" y="20"/>
                  </a:lnTo>
                  <a:lnTo>
                    <a:pt x="173" y="26"/>
                  </a:lnTo>
                  <a:lnTo>
                    <a:pt x="185" y="38"/>
                  </a:lnTo>
                  <a:lnTo>
                    <a:pt x="194" y="52"/>
                  </a:lnTo>
                  <a:lnTo>
                    <a:pt x="201" y="68"/>
                  </a:lnTo>
                  <a:lnTo>
                    <a:pt x="202" y="84"/>
                  </a:lnTo>
                  <a:lnTo>
                    <a:pt x="199" y="101"/>
                  </a:lnTo>
                  <a:lnTo>
                    <a:pt x="194" y="117"/>
                  </a:lnTo>
                  <a:lnTo>
                    <a:pt x="185" y="131"/>
                  </a:lnTo>
                  <a:lnTo>
                    <a:pt x="173" y="144"/>
                  </a:lnTo>
                  <a:lnTo>
                    <a:pt x="158" y="153"/>
                  </a:lnTo>
                  <a:lnTo>
                    <a:pt x="141" y="161"/>
                  </a:lnTo>
                  <a:lnTo>
                    <a:pt x="121" y="166"/>
                  </a:lnTo>
                  <a:lnTo>
                    <a:pt x="101" y="168"/>
                  </a:lnTo>
                  <a:lnTo>
                    <a:pt x="92" y="168"/>
                  </a:lnTo>
                  <a:lnTo>
                    <a:pt x="81" y="167"/>
                  </a:lnTo>
                  <a:lnTo>
                    <a:pt x="72" y="165"/>
                  </a:lnTo>
                  <a:lnTo>
                    <a:pt x="63" y="162"/>
                  </a:lnTo>
                  <a:lnTo>
                    <a:pt x="54" y="159"/>
                  </a:lnTo>
                  <a:lnTo>
                    <a:pt x="46" y="155"/>
                  </a:lnTo>
                  <a:lnTo>
                    <a:pt x="38" y="149"/>
                  </a:lnTo>
                  <a:lnTo>
                    <a:pt x="30" y="144"/>
                  </a:lnTo>
                  <a:lnTo>
                    <a:pt x="18" y="131"/>
                  </a:lnTo>
                  <a:lnTo>
                    <a:pt x="8" y="117"/>
                  </a:lnTo>
                  <a:lnTo>
                    <a:pt x="2" y="101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59360" y="2163960"/>
              <a:ext cx="28440" cy="23760"/>
            </a:xfrm>
            <a:custGeom>
              <a:avLst/>
              <a:gdLst/>
              <a:ahLst/>
              <a:rect l="l" t="t" r="r" b="b"/>
              <a:pathLst>
                <a:path w="56" h="45">
                  <a:moveTo>
                    <a:pt x="28" y="45"/>
                  </a:moveTo>
                  <a:lnTo>
                    <a:pt x="38" y="43"/>
                  </a:lnTo>
                  <a:lnTo>
                    <a:pt x="48" y="39"/>
                  </a:lnTo>
                  <a:lnTo>
                    <a:pt x="53" y="31"/>
                  </a:lnTo>
                  <a:lnTo>
                    <a:pt x="56" y="22"/>
                  </a:lnTo>
                  <a:lnTo>
                    <a:pt x="53" y="13"/>
                  </a:lnTo>
                  <a:lnTo>
                    <a:pt x="48" y="7"/>
                  </a:lnTo>
                  <a:lnTo>
                    <a:pt x="38" y="2"/>
                  </a:lnTo>
                  <a:lnTo>
                    <a:pt x="28" y="0"/>
                  </a:lnTo>
                  <a:lnTo>
                    <a:pt x="17" y="2"/>
                  </a:lnTo>
                  <a:lnTo>
                    <a:pt x="8" y="7"/>
                  </a:lnTo>
                  <a:lnTo>
                    <a:pt x="2" y="13"/>
                  </a:lnTo>
                  <a:lnTo>
                    <a:pt x="0" y="22"/>
                  </a:lnTo>
                  <a:lnTo>
                    <a:pt x="2" y="31"/>
                  </a:lnTo>
                  <a:lnTo>
                    <a:pt x="8" y="39"/>
                  </a:lnTo>
                  <a:lnTo>
                    <a:pt x="17" y="43"/>
                  </a:lnTo>
                  <a:lnTo>
                    <a:pt x="2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82960" y="2163960"/>
              <a:ext cx="30240" cy="23760"/>
            </a:xfrm>
            <a:custGeom>
              <a:avLst/>
              <a:gdLst/>
              <a:ahLst/>
              <a:rect l="l" t="t" r="r" b="b"/>
              <a:pathLst>
                <a:path w="56" h="45">
                  <a:moveTo>
                    <a:pt x="28" y="45"/>
                  </a:moveTo>
                  <a:lnTo>
                    <a:pt x="39" y="43"/>
                  </a:lnTo>
                  <a:lnTo>
                    <a:pt x="48" y="39"/>
                  </a:lnTo>
                  <a:lnTo>
                    <a:pt x="54" y="31"/>
                  </a:lnTo>
                  <a:lnTo>
                    <a:pt x="56" y="22"/>
                  </a:lnTo>
                  <a:lnTo>
                    <a:pt x="54" y="13"/>
                  </a:lnTo>
                  <a:lnTo>
                    <a:pt x="48" y="7"/>
                  </a:lnTo>
                  <a:lnTo>
                    <a:pt x="39" y="2"/>
                  </a:lnTo>
                  <a:lnTo>
                    <a:pt x="28" y="0"/>
                  </a:lnTo>
                  <a:lnTo>
                    <a:pt x="18" y="2"/>
                  </a:lnTo>
                  <a:lnTo>
                    <a:pt x="8" y="7"/>
                  </a:lnTo>
                  <a:lnTo>
                    <a:pt x="3" y="13"/>
                  </a:lnTo>
                  <a:lnTo>
                    <a:pt x="0" y="22"/>
                  </a:lnTo>
                  <a:lnTo>
                    <a:pt x="3" y="31"/>
                  </a:lnTo>
                  <a:lnTo>
                    <a:pt x="8" y="39"/>
                  </a:lnTo>
                  <a:lnTo>
                    <a:pt x="18" y="43"/>
                  </a:lnTo>
                  <a:lnTo>
                    <a:pt x="2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3152880" y="1052640"/>
            <a:ext cx="1368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able 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375800" y="1773360"/>
            <a:ext cx="1009080" cy="503280"/>
            <a:chOff x="4375800" y="1773360"/>
            <a:chExt cx="1009080" cy="503280"/>
          </a:xfrm>
        </p:grpSpPr>
        <p:sp>
          <p:nvSpPr>
            <p:cNvPr id="169" name=""/>
            <p:cNvSpPr/>
            <p:nvPr/>
          </p:nvSpPr>
          <p:spPr>
            <a:xfrm>
              <a:off x="4448160" y="1989000"/>
              <a:ext cx="936720" cy="287640"/>
            </a:xfrm>
            <a:prstGeom prst="rightArrow">
              <a:avLst>
                <a:gd name="adj1" fmla="val 50278"/>
                <a:gd name="adj2" fmla="val 63473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375800" y="1773360"/>
              <a:ext cx="886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uncio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6105600" y="3429000"/>
            <a:ext cx="3239280" cy="2952360"/>
            <a:chOff x="6105600" y="3429000"/>
            <a:chExt cx="3239280" cy="2952360"/>
          </a:xfrm>
        </p:grpSpPr>
        <p:sp>
          <p:nvSpPr>
            <p:cNvPr id="172" name=""/>
            <p:cNvSpPr/>
            <p:nvPr/>
          </p:nvSpPr>
          <p:spPr>
            <a:xfrm>
              <a:off x="6105600" y="3429000"/>
              <a:ext cx="3198240" cy="1892160"/>
            </a:xfrm>
            <a:prstGeom prst="wedgeEllipseCallout">
              <a:avLst>
                <a:gd name="adj1" fmla="val 39824"/>
                <a:gd name="adj2" fmla="val 7231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*El Resp. de CI, puede ser Externo si se cumplen conjuntamente 2 condiciones en el último ejercicio económico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PN &lt; $ 20 millo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Pmas + Recarg Netos de Anul. &lt; 18 millon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3" name=""/>
            <p:cNvGraphicFramePr/>
            <p:nvPr/>
          </p:nvGraphicFramePr>
          <p:xfrm>
            <a:off x="8976600" y="5649120"/>
            <a:ext cx="368280" cy="732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976600" y="5649120"/>
                      <a:ext cx="368280" cy="73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rmas y Procedimientos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es. SSN 31.231/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68520" y="1413000"/>
            <a:ext cx="31669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actadas en Castell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aboradas Interna o Externam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upadas en Manuales o Instru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93960" y="2565360"/>
            <a:ext cx="1297080" cy="504720"/>
          </a:xfrm>
          <a:prstGeom prst="downArrow">
            <a:avLst>
              <a:gd name="adj1" fmla="val 69889"/>
              <a:gd name="adj2" fmla="val 3308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rob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4520" y="1413000"/>
            <a:ext cx="1224000" cy="1225440"/>
            <a:chOff x="344520" y="1413000"/>
            <a:chExt cx="1224000" cy="1225440"/>
          </a:xfrm>
        </p:grpSpPr>
        <p:sp>
          <p:nvSpPr>
            <p:cNvPr id="179" name=""/>
            <p:cNvSpPr/>
            <p:nvPr/>
          </p:nvSpPr>
          <p:spPr>
            <a:xfrm>
              <a:off x="344520" y="1413000"/>
              <a:ext cx="1224000" cy="792000"/>
            </a:xfrm>
            <a:prstGeom prst="flowChartMulti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rmas 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cedimient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49240" y="1989000"/>
              <a:ext cx="503280" cy="576360"/>
            </a:xfrm>
            <a:prstGeom prst="flowChartMagneticTap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1800" y="2062080"/>
              <a:ext cx="503280" cy="576360"/>
            </a:xfrm>
            <a:prstGeom prst="flowChartMagneticTap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6032520" y="1628640"/>
            <a:ext cx="3168720" cy="12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ir Rutina Administrati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icar Contro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r disposiciones de la SS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icar los responsables de las tar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21240" y="1989000"/>
            <a:ext cx="1441440" cy="287640"/>
          </a:xfrm>
          <a:prstGeom prst="rightArrow">
            <a:avLst>
              <a:gd name="adj1" fmla="val 50278"/>
              <a:gd name="adj2" fmla="val 69531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569960" y="3141720"/>
            <a:ext cx="936720" cy="1092240"/>
            <a:chOff x="1569960" y="3141720"/>
            <a:chExt cx="936720" cy="1092240"/>
          </a:xfrm>
        </p:grpSpPr>
        <p:graphicFrame>
          <p:nvGraphicFramePr>
            <p:cNvPr id="185" name=""/>
            <p:cNvGraphicFramePr/>
            <p:nvPr/>
          </p:nvGraphicFramePr>
          <p:xfrm>
            <a:off x="1636560" y="3424320"/>
            <a:ext cx="870120" cy="809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36560" y="3424320"/>
                      <a:ext cx="870120" cy="80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7" name=""/>
            <p:cNvSpPr/>
            <p:nvPr/>
          </p:nvSpPr>
          <p:spPr>
            <a:xfrm>
              <a:off x="1569960" y="3141720"/>
              <a:ext cx="936720" cy="39168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Director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360520" y="3357720"/>
            <a:ext cx="1944720" cy="718920"/>
            <a:chOff x="2360520" y="3357720"/>
            <a:chExt cx="1944720" cy="718920"/>
          </a:xfrm>
        </p:grpSpPr>
        <p:sp>
          <p:nvSpPr>
            <p:cNvPr id="189" name=""/>
            <p:cNvSpPr/>
            <p:nvPr/>
          </p:nvSpPr>
          <p:spPr>
            <a:xfrm>
              <a:off x="2360520" y="3357720"/>
              <a:ext cx="1944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nscribir los lineamientos generale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936880" y="3789360"/>
              <a:ext cx="792000" cy="287280"/>
            </a:xfrm>
            <a:prstGeom prst="rightArrow">
              <a:avLst>
                <a:gd name="adj1" fmla="val 50000"/>
                <a:gd name="adj2" fmla="val 68922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4305240" y="3429000"/>
            <a:ext cx="1079640" cy="720720"/>
          </a:xfrm>
          <a:prstGeom prst="flowChartDocumen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Acta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irecto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6176880" y="2779560"/>
            <a:ext cx="2592360" cy="1630800"/>
            <a:chOff x="6176880" y="2779560"/>
            <a:chExt cx="2592360" cy="1630800"/>
          </a:xfrm>
        </p:grpSpPr>
        <p:sp>
          <p:nvSpPr>
            <p:cNvPr id="193" name=""/>
            <p:cNvSpPr/>
            <p:nvPr/>
          </p:nvSpPr>
          <p:spPr>
            <a:xfrm>
              <a:off x="7473960" y="277956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176880" y="3213000"/>
              <a:ext cx="2592360" cy="119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l texto completo se conservará en legajos encuadernados y foliado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rmados por el Presidente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pcionalmente en Registros Informáticos Inalterab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704880" y="4653000"/>
            <a:ext cx="3527280" cy="1720800"/>
            <a:chOff x="704880" y="4653000"/>
            <a:chExt cx="3527280" cy="1720800"/>
          </a:xfrm>
        </p:grpSpPr>
        <p:sp>
          <p:nvSpPr>
            <p:cNvPr id="196" name=""/>
            <p:cNvSpPr/>
            <p:nvPr/>
          </p:nvSpPr>
          <p:spPr>
            <a:xfrm>
              <a:off x="1208160" y="4653000"/>
              <a:ext cx="3024000" cy="1368360"/>
            </a:xfrm>
            <a:prstGeom prst="wedgeEllipseCallout">
              <a:avLst>
                <a:gd name="adj1" fmla="val -57138"/>
                <a:gd name="adj2" fmla="val 3596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 SSN puede observar los procedimientos cuando no se ajusten a las disposiciones legales o afecten derechos de los asegurado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7" name=""/>
            <p:cNvGraphicFramePr/>
            <p:nvPr/>
          </p:nvGraphicFramePr>
          <p:xfrm>
            <a:off x="704880" y="5732640"/>
            <a:ext cx="324000" cy="641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04880" y="5732640"/>
                      <a:ext cx="324000" cy="64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00160" y="259920"/>
            <a:ext cx="943272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a Anual de Control Interno (PACI)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es. SSN 31.231/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08160" y="3645000"/>
            <a:ext cx="863640" cy="7920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fección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yec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90680" y="1052640"/>
            <a:ext cx="6193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 el programa de trabajo para la revisión de los circuitos y procedimientos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de acuerdo con las normas y metodología de control interno generalmente aceptad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92160" y="1125360"/>
            <a:ext cx="1152720" cy="792360"/>
          </a:xfrm>
          <a:prstGeom prst="flowChartDocumen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56040" y="3645000"/>
            <a:ext cx="863640" cy="7920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l Proyec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903920" y="3645000"/>
            <a:ext cx="863640" cy="7920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rob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l PAC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753240" y="3645000"/>
            <a:ext cx="863640" cy="7920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jecu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08160" y="4724280"/>
            <a:ext cx="5976720" cy="360360"/>
          </a:xfrm>
          <a:prstGeom prst="rightArrow">
            <a:avLst>
              <a:gd name="adj1" fmla="val 86759"/>
              <a:gd name="adj2" fmla="val 38469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jercicio X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720880" y="2565360"/>
            <a:ext cx="1550880" cy="876240"/>
            <a:chOff x="2720880" y="2565360"/>
            <a:chExt cx="1550880" cy="876240"/>
          </a:xfrm>
        </p:grpSpPr>
        <p:sp>
          <p:nvSpPr>
            <p:cNvPr id="208" name=""/>
            <p:cNvSpPr/>
            <p:nvPr/>
          </p:nvSpPr>
          <p:spPr>
            <a:xfrm>
              <a:off x="3093840" y="2745000"/>
              <a:ext cx="799920" cy="53640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20880" y="3262320"/>
              <a:ext cx="458640" cy="1792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266640" y="2565360"/>
              <a:ext cx="459000" cy="1796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812760" y="3262320"/>
              <a:ext cx="459000" cy="17928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865600" y="220500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ité de 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249200" y="2565360"/>
            <a:ext cx="803520" cy="1004400"/>
            <a:chOff x="1249200" y="2565360"/>
            <a:chExt cx="803520" cy="1004400"/>
          </a:xfrm>
        </p:grpSpPr>
        <p:sp>
          <p:nvSpPr>
            <p:cNvPr id="214" name=""/>
            <p:cNvSpPr/>
            <p:nvPr/>
          </p:nvSpPr>
          <p:spPr>
            <a:xfrm>
              <a:off x="1441440" y="3128040"/>
              <a:ext cx="611280" cy="441720"/>
            </a:xfrm>
            <a:custGeom>
              <a:avLst/>
              <a:gdLst/>
              <a:ahLst/>
              <a:rect l="l" t="t" r="r" b="b"/>
              <a:pathLst>
                <a:path w="1154" h="956">
                  <a:moveTo>
                    <a:pt x="577" y="0"/>
                  </a:moveTo>
                  <a:lnTo>
                    <a:pt x="635" y="2"/>
                  </a:lnTo>
                  <a:lnTo>
                    <a:pt x="694" y="10"/>
                  </a:lnTo>
                  <a:lnTo>
                    <a:pt x="748" y="21"/>
                  </a:lnTo>
                  <a:lnTo>
                    <a:pt x="801" y="37"/>
                  </a:lnTo>
                  <a:lnTo>
                    <a:pt x="852" y="57"/>
                  </a:lnTo>
                  <a:lnTo>
                    <a:pt x="899" y="81"/>
                  </a:lnTo>
                  <a:lnTo>
                    <a:pt x="944" y="109"/>
                  </a:lnTo>
                  <a:lnTo>
                    <a:pt x="986" y="140"/>
                  </a:lnTo>
                  <a:lnTo>
                    <a:pt x="1023" y="174"/>
                  </a:lnTo>
                  <a:lnTo>
                    <a:pt x="1056" y="210"/>
                  </a:lnTo>
                  <a:lnTo>
                    <a:pt x="1084" y="250"/>
                  </a:lnTo>
                  <a:lnTo>
                    <a:pt x="1109" y="292"/>
                  </a:lnTo>
                  <a:lnTo>
                    <a:pt x="1127" y="335"/>
                  </a:lnTo>
                  <a:lnTo>
                    <a:pt x="1142" y="381"/>
                  </a:lnTo>
                  <a:lnTo>
                    <a:pt x="1151" y="428"/>
                  </a:lnTo>
                  <a:lnTo>
                    <a:pt x="1154" y="477"/>
                  </a:lnTo>
                  <a:lnTo>
                    <a:pt x="1151" y="526"/>
                  </a:lnTo>
                  <a:lnTo>
                    <a:pt x="1142" y="574"/>
                  </a:lnTo>
                  <a:lnTo>
                    <a:pt x="1127" y="620"/>
                  </a:lnTo>
                  <a:lnTo>
                    <a:pt x="1109" y="664"/>
                  </a:lnTo>
                  <a:lnTo>
                    <a:pt x="1084" y="706"/>
                  </a:lnTo>
                  <a:lnTo>
                    <a:pt x="1056" y="746"/>
                  </a:lnTo>
                  <a:lnTo>
                    <a:pt x="1023" y="782"/>
                  </a:lnTo>
                  <a:lnTo>
                    <a:pt x="986" y="816"/>
                  </a:lnTo>
                  <a:lnTo>
                    <a:pt x="944" y="847"/>
                  </a:lnTo>
                  <a:lnTo>
                    <a:pt x="899" y="874"/>
                  </a:lnTo>
                  <a:lnTo>
                    <a:pt x="852" y="899"/>
                  </a:lnTo>
                  <a:lnTo>
                    <a:pt x="801" y="919"/>
                  </a:lnTo>
                  <a:lnTo>
                    <a:pt x="748" y="935"/>
                  </a:lnTo>
                  <a:lnTo>
                    <a:pt x="694" y="946"/>
                  </a:lnTo>
                  <a:lnTo>
                    <a:pt x="635" y="954"/>
                  </a:lnTo>
                  <a:lnTo>
                    <a:pt x="577" y="956"/>
                  </a:lnTo>
                  <a:lnTo>
                    <a:pt x="519" y="954"/>
                  </a:lnTo>
                  <a:lnTo>
                    <a:pt x="460" y="946"/>
                  </a:lnTo>
                  <a:lnTo>
                    <a:pt x="406" y="935"/>
                  </a:lnTo>
                  <a:lnTo>
                    <a:pt x="353" y="919"/>
                  </a:lnTo>
                  <a:lnTo>
                    <a:pt x="302" y="899"/>
                  </a:lnTo>
                  <a:lnTo>
                    <a:pt x="255" y="874"/>
                  </a:lnTo>
                  <a:lnTo>
                    <a:pt x="209" y="847"/>
                  </a:lnTo>
                  <a:lnTo>
                    <a:pt x="170" y="816"/>
                  </a:lnTo>
                  <a:lnTo>
                    <a:pt x="131" y="782"/>
                  </a:lnTo>
                  <a:lnTo>
                    <a:pt x="98" y="746"/>
                  </a:lnTo>
                  <a:lnTo>
                    <a:pt x="70" y="706"/>
                  </a:lnTo>
                  <a:lnTo>
                    <a:pt x="45" y="664"/>
                  </a:lnTo>
                  <a:lnTo>
                    <a:pt x="26" y="620"/>
                  </a:lnTo>
                  <a:lnTo>
                    <a:pt x="12" y="574"/>
                  </a:lnTo>
                  <a:lnTo>
                    <a:pt x="2" y="526"/>
                  </a:lnTo>
                  <a:lnTo>
                    <a:pt x="0" y="477"/>
                  </a:lnTo>
                  <a:lnTo>
                    <a:pt x="2" y="428"/>
                  </a:lnTo>
                  <a:lnTo>
                    <a:pt x="12" y="381"/>
                  </a:lnTo>
                  <a:lnTo>
                    <a:pt x="26" y="335"/>
                  </a:lnTo>
                  <a:lnTo>
                    <a:pt x="45" y="292"/>
                  </a:lnTo>
                  <a:lnTo>
                    <a:pt x="70" y="250"/>
                  </a:lnTo>
                  <a:lnTo>
                    <a:pt x="98" y="210"/>
                  </a:lnTo>
                  <a:lnTo>
                    <a:pt x="131" y="174"/>
                  </a:lnTo>
                  <a:lnTo>
                    <a:pt x="170" y="140"/>
                  </a:lnTo>
                  <a:lnTo>
                    <a:pt x="209" y="109"/>
                  </a:lnTo>
                  <a:lnTo>
                    <a:pt x="255" y="81"/>
                  </a:lnTo>
                  <a:lnTo>
                    <a:pt x="302" y="57"/>
                  </a:lnTo>
                  <a:lnTo>
                    <a:pt x="353" y="37"/>
                  </a:lnTo>
                  <a:lnTo>
                    <a:pt x="406" y="21"/>
                  </a:lnTo>
                  <a:lnTo>
                    <a:pt x="460" y="10"/>
                  </a:lnTo>
                  <a:lnTo>
                    <a:pt x="519" y="2"/>
                  </a:lnTo>
                  <a:lnTo>
                    <a:pt x="577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09760" y="3060360"/>
              <a:ext cx="453960" cy="439200"/>
            </a:xfrm>
            <a:custGeom>
              <a:avLst/>
              <a:gdLst/>
              <a:ahLst/>
              <a:rect l="l" t="t" r="r" b="b"/>
              <a:pathLst>
                <a:path w="859" h="949">
                  <a:moveTo>
                    <a:pt x="391" y="134"/>
                  </a:moveTo>
                  <a:lnTo>
                    <a:pt x="382" y="133"/>
                  </a:lnTo>
                  <a:lnTo>
                    <a:pt x="373" y="134"/>
                  </a:lnTo>
                  <a:lnTo>
                    <a:pt x="363" y="137"/>
                  </a:lnTo>
                  <a:lnTo>
                    <a:pt x="355" y="140"/>
                  </a:lnTo>
                  <a:lnTo>
                    <a:pt x="349" y="144"/>
                  </a:lnTo>
                  <a:lnTo>
                    <a:pt x="342" y="151"/>
                  </a:lnTo>
                  <a:lnTo>
                    <a:pt x="338" y="158"/>
                  </a:lnTo>
                  <a:lnTo>
                    <a:pt x="334" y="165"/>
                  </a:lnTo>
                  <a:lnTo>
                    <a:pt x="333" y="173"/>
                  </a:lnTo>
                  <a:lnTo>
                    <a:pt x="334" y="181"/>
                  </a:lnTo>
                  <a:lnTo>
                    <a:pt x="337" y="188"/>
                  </a:lnTo>
                  <a:lnTo>
                    <a:pt x="341" y="195"/>
                  </a:lnTo>
                  <a:lnTo>
                    <a:pt x="346" y="201"/>
                  </a:lnTo>
                  <a:lnTo>
                    <a:pt x="354" y="206"/>
                  </a:lnTo>
                  <a:lnTo>
                    <a:pt x="362" y="209"/>
                  </a:lnTo>
                  <a:lnTo>
                    <a:pt x="371" y="213"/>
                  </a:lnTo>
                  <a:lnTo>
                    <a:pt x="410" y="222"/>
                  </a:lnTo>
                  <a:lnTo>
                    <a:pt x="448" y="233"/>
                  </a:lnTo>
                  <a:lnTo>
                    <a:pt x="484" y="246"/>
                  </a:lnTo>
                  <a:lnTo>
                    <a:pt x="518" y="261"/>
                  </a:lnTo>
                  <a:lnTo>
                    <a:pt x="550" y="279"/>
                  </a:lnTo>
                  <a:lnTo>
                    <a:pt x="582" y="299"/>
                  </a:lnTo>
                  <a:lnTo>
                    <a:pt x="610" y="321"/>
                  </a:lnTo>
                  <a:lnTo>
                    <a:pt x="638" y="344"/>
                  </a:lnTo>
                  <a:lnTo>
                    <a:pt x="662" y="369"/>
                  </a:lnTo>
                  <a:lnTo>
                    <a:pt x="684" y="396"/>
                  </a:lnTo>
                  <a:lnTo>
                    <a:pt x="704" y="423"/>
                  </a:lnTo>
                  <a:lnTo>
                    <a:pt x="721" y="453"/>
                  </a:lnTo>
                  <a:lnTo>
                    <a:pt x="736" y="483"/>
                  </a:lnTo>
                  <a:lnTo>
                    <a:pt x="747" y="514"/>
                  </a:lnTo>
                  <a:lnTo>
                    <a:pt x="756" y="545"/>
                  </a:lnTo>
                  <a:lnTo>
                    <a:pt x="761" y="579"/>
                  </a:lnTo>
                  <a:lnTo>
                    <a:pt x="587" y="579"/>
                  </a:lnTo>
                  <a:lnTo>
                    <a:pt x="587" y="729"/>
                  </a:lnTo>
                  <a:lnTo>
                    <a:pt x="560" y="726"/>
                  </a:lnTo>
                  <a:lnTo>
                    <a:pt x="534" y="721"/>
                  </a:lnTo>
                  <a:lnTo>
                    <a:pt x="509" y="712"/>
                  </a:lnTo>
                  <a:lnTo>
                    <a:pt x="487" y="701"/>
                  </a:lnTo>
                  <a:lnTo>
                    <a:pt x="465" y="688"/>
                  </a:lnTo>
                  <a:lnTo>
                    <a:pt x="447" y="672"/>
                  </a:lnTo>
                  <a:lnTo>
                    <a:pt x="430" y="655"/>
                  </a:lnTo>
                  <a:lnTo>
                    <a:pt x="416" y="635"/>
                  </a:lnTo>
                  <a:lnTo>
                    <a:pt x="411" y="628"/>
                  </a:lnTo>
                  <a:lnTo>
                    <a:pt x="404" y="623"/>
                  </a:lnTo>
                  <a:lnTo>
                    <a:pt x="398" y="618"/>
                  </a:lnTo>
                  <a:lnTo>
                    <a:pt x="388" y="615"/>
                  </a:lnTo>
                  <a:lnTo>
                    <a:pt x="381" y="613"/>
                  </a:lnTo>
                  <a:lnTo>
                    <a:pt x="371" y="613"/>
                  </a:lnTo>
                  <a:lnTo>
                    <a:pt x="362" y="614"/>
                  </a:lnTo>
                  <a:lnTo>
                    <a:pt x="353" y="616"/>
                  </a:lnTo>
                  <a:lnTo>
                    <a:pt x="338" y="626"/>
                  </a:lnTo>
                  <a:lnTo>
                    <a:pt x="329" y="639"/>
                  </a:lnTo>
                  <a:lnTo>
                    <a:pt x="326" y="655"/>
                  </a:lnTo>
                  <a:lnTo>
                    <a:pt x="331" y="669"/>
                  </a:lnTo>
                  <a:lnTo>
                    <a:pt x="331" y="669"/>
                  </a:lnTo>
                  <a:lnTo>
                    <a:pt x="341" y="684"/>
                  </a:lnTo>
                  <a:lnTo>
                    <a:pt x="351" y="699"/>
                  </a:lnTo>
                  <a:lnTo>
                    <a:pt x="363" y="713"/>
                  </a:lnTo>
                  <a:lnTo>
                    <a:pt x="377" y="725"/>
                  </a:lnTo>
                  <a:lnTo>
                    <a:pt x="390" y="737"/>
                  </a:lnTo>
                  <a:lnTo>
                    <a:pt x="404" y="749"/>
                  </a:lnTo>
                  <a:lnTo>
                    <a:pt x="420" y="759"/>
                  </a:lnTo>
                  <a:lnTo>
                    <a:pt x="436" y="768"/>
                  </a:lnTo>
                  <a:lnTo>
                    <a:pt x="453" y="777"/>
                  </a:lnTo>
                  <a:lnTo>
                    <a:pt x="471" y="785"/>
                  </a:lnTo>
                  <a:lnTo>
                    <a:pt x="489" y="791"/>
                  </a:lnTo>
                  <a:lnTo>
                    <a:pt x="508" y="797"/>
                  </a:lnTo>
                  <a:lnTo>
                    <a:pt x="526" y="801"/>
                  </a:lnTo>
                  <a:lnTo>
                    <a:pt x="546" y="806"/>
                  </a:lnTo>
                  <a:lnTo>
                    <a:pt x="568" y="808"/>
                  </a:lnTo>
                  <a:lnTo>
                    <a:pt x="587" y="809"/>
                  </a:lnTo>
                  <a:lnTo>
                    <a:pt x="587" y="869"/>
                  </a:lnTo>
                  <a:lnTo>
                    <a:pt x="95" y="869"/>
                  </a:lnTo>
                  <a:lnTo>
                    <a:pt x="95" y="203"/>
                  </a:lnTo>
                  <a:lnTo>
                    <a:pt x="251" y="203"/>
                  </a:lnTo>
                  <a:lnTo>
                    <a:pt x="160" y="24"/>
                  </a:lnTo>
                  <a:lnTo>
                    <a:pt x="155" y="18"/>
                  </a:lnTo>
                  <a:lnTo>
                    <a:pt x="150" y="11"/>
                  </a:lnTo>
                  <a:lnTo>
                    <a:pt x="142" y="7"/>
                  </a:lnTo>
                  <a:lnTo>
                    <a:pt x="134" y="3"/>
                  </a:lnTo>
                  <a:lnTo>
                    <a:pt x="126" y="1"/>
                  </a:lnTo>
                  <a:lnTo>
                    <a:pt x="117" y="0"/>
                  </a:lnTo>
                  <a:lnTo>
                    <a:pt x="107" y="1"/>
                  </a:lnTo>
                  <a:lnTo>
                    <a:pt x="98" y="3"/>
                  </a:lnTo>
                  <a:lnTo>
                    <a:pt x="82" y="12"/>
                  </a:lnTo>
                  <a:lnTo>
                    <a:pt x="73" y="25"/>
                  </a:lnTo>
                  <a:lnTo>
                    <a:pt x="69" y="40"/>
                  </a:lnTo>
                  <a:lnTo>
                    <a:pt x="73" y="55"/>
                  </a:lnTo>
                  <a:lnTo>
                    <a:pt x="73" y="55"/>
                  </a:lnTo>
                  <a:lnTo>
                    <a:pt x="107" y="123"/>
                  </a:lnTo>
                  <a:lnTo>
                    <a:pt x="0" y="123"/>
                  </a:lnTo>
                  <a:lnTo>
                    <a:pt x="0" y="949"/>
                  </a:lnTo>
                  <a:lnTo>
                    <a:pt x="683" y="948"/>
                  </a:lnTo>
                  <a:lnTo>
                    <a:pt x="683" y="658"/>
                  </a:lnTo>
                  <a:lnTo>
                    <a:pt x="859" y="658"/>
                  </a:lnTo>
                  <a:lnTo>
                    <a:pt x="859" y="618"/>
                  </a:lnTo>
                  <a:lnTo>
                    <a:pt x="857" y="575"/>
                  </a:lnTo>
                  <a:lnTo>
                    <a:pt x="850" y="533"/>
                  </a:lnTo>
                  <a:lnTo>
                    <a:pt x="840" y="493"/>
                  </a:lnTo>
                  <a:lnTo>
                    <a:pt x="825" y="453"/>
                  </a:lnTo>
                  <a:lnTo>
                    <a:pt x="805" y="414"/>
                  </a:lnTo>
                  <a:lnTo>
                    <a:pt x="783" y="377"/>
                  </a:lnTo>
                  <a:lnTo>
                    <a:pt x="756" y="343"/>
                  </a:lnTo>
                  <a:lnTo>
                    <a:pt x="727" y="309"/>
                  </a:lnTo>
                  <a:lnTo>
                    <a:pt x="694" y="278"/>
                  </a:lnTo>
                  <a:lnTo>
                    <a:pt x="658" y="249"/>
                  </a:lnTo>
                  <a:lnTo>
                    <a:pt x="619" y="223"/>
                  </a:lnTo>
                  <a:lnTo>
                    <a:pt x="578" y="200"/>
                  </a:lnTo>
                  <a:lnTo>
                    <a:pt x="534" y="179"/>
                  </a:lnTo>
                  <a:lnTo>
                    <a:pt x="489" y="160"/>
                  </a:lnTo>
                  <a:lnTo>
                    <a:pt x="442" y="146"/>
                  </a:lnTo>
                  <a:lnTo>
                    <a:pt x="391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44760" y="2953440"/>
              <a:ext cx="39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487520" y="3007440"/>
              <a:ext cx="152280" cy="90000"/>
            </a:xfrm>
            <a:custGeom>
              <a:avLst/>
              <a:gdLst/>
              <a:ahLst/>
              <a:rect l="l" t="t" r="r" b="b"/>
              <a:pathLst>
                <a:path w="288" h="196">
                  <a:moveTo>
                    <a:pt x="106" y="63"/>
                  </a:moveTo>
                  <a:lnTo>
                    <a:pt x="0" y="63"/>
                  </a:lnTo>
                  <a:lnTo>
                    <a:pt x="145" y="196"/>
                  </a:lnTo>
                  <a:lnTo>
                    <a:pt x="288" y="63"/>
                  </a:lnTo>
                  <a:lnTo>
                    <a:pt x="183" y="63"/>
                  </a:lnTo>
                  <a:lnTo>
                    <a:pt x="183" y="0"/>
                  </a:lnTo>
                  <a:lnTo>
                    <a:pt x="106" y="0"/>
                  </a:lnTo>
                  <a:lnTo>
                    <a:pt x="10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30200" y="2723400"/>
              <a:ext cx="195480" cy="51120"/>
            </a:xfrm>
            <a:custGeom>
              <a:avLst/>
              <a:gdLst/>
              <a:ahLst/>
              <a:rect l="l" t="t" r="r" b="b"/>
              <a:pathLst>
                <a:path w="369" h="110">
                  <a:moveTo>
                    <a:pt x="358" y="75"/>
                  </a:moveTo>
                  <a:lnTo>
                    <a:pt x="358" y="75"/>
                  </a:lnTo>
                  <a:lnTo>
                    <a:pt x="341" y="66"/>
                  </a:lnTo>
                  <a:lnTo>
                    <a:pt x="324" y="57"/>
                  </a:lnTo>
                  <a:lnTo>
                    <a:pt x="305" y="49"/>
                  </a:lnTo>
                  <a:lnTo>
                    <a:pt x="286" y="43"/>
                  </a:lnTo>
                  <a:lnTo>
                    <a:pt x="267" y="36"/>
                  </a:lnTo>
                  <a:lnTo>
                    <a:pt x="247" y="29"/>
                  </a:lnTo>
                  <a:lnTo>
                    <a:pt x="225" y="24"/>
                  </a:lnTo>
                  <a:lnTo>
                    <a:pt x="205" y="18"/>
                  </a:lnTo>
                  <a:lnTo>
                    <a:pt x="183" y="14"/>
                  </a:lnTo>
                  <a:lnTo>
                    <a:pt x="162" y="11"/>
                  </a:lnTo>
                  <a:lnTo>
                    <a:pt x="139" y="7"/>
                  </a:lnTo>
                  <a:lnTo>
                    <a:pt x="117" y="4"/>
                  </a:lnTo>
                  <a:lnTo>
                    <a:pt x="94" y="3"/>
                  </a:lnTo>
                  <a:lnTo>
                    <a:pt x="70" y="1"/>
                  </a:lnTo>
                  <a:lnTo>
                    <a:pt x="48" y="0"/>
                  </a:lnTo>
                  <a:lnTo>
                    <a:pt x="24" y="0"/>
                  </a:lnTo>
                  <a:lnTo>
                    <a:pt x="14" y="1"/>
                  </a:lnTo>
                  <a:lnTo>
                    <a:pt x="6" y="5"/>
                  </a:lnTo>
                  <a:lnTo>
                    <a:pt x="1" y="12"/>
                  </a:lnTo>
                  <a:lnTo>
                    <a:pt x="0" y="20"/>
                  </a:lnTo>
                  <a:lnTo>
                    <a:pt x="1" y="27"/>
                  </a:lnTo>
                  <a:lnTo>
                    <a:pt x="6" y="34"/>
                  </a:lnTo>
                  <a:lnTo>
                    <a:pt x="14" y="38"/>
                  </a:lnTo>
                  <a:lnTo>
                    <a:pt x="24" y="39"/>
                  </a:lnTo>
                  <a:lnTo>
                    <a:pt x="45" y="39"/>
                  </a:lnTo>
                  <a:lnTo>
                    <a:pt x="66" y="40"/>
                  </a:lnTo>
                  <a:lnTo>
                    <a:pt x="89" y="42"/>
                  </a:lnTo>
                  <a:lnTo>
                    <a:pt x="110" y="44"/>
                  </a:lnTo>
                  <a:lnTo>
                    <a:pt x="130" y="47"/>
                  </a:lnTo>
                  <a:lnTo>
                    <a:pt x="151" y="49"/>
                  </a:lnTo>
                  <a:lnTo>
                    <a:pt x="171" y="54"/>
                  </a:lnTo>
                  <a:lnTo>
                    <a:pt x="191" y="57"/>
                  </a:lnTo>
                  <a:lnTo>
                    <a:pt x="211" y="62"/>
                  </a:lnTo>
                  <a:lnTo>
                    <a:pt x="229" y="67"/>
                  </a:lnTo>
                  <a:lnTo>
                    <a:pt x="248" y="72"/>
                  </a:lnTo>
                  <a:lnTo>
                    <a:pt x="267" y="79"/>
                  </a:lnTo>
                  <a:lnTo>
                    <a:pt x="284" y="86"/>
                  </a:lnTo>
                  <a:lnTo>
                    <a:pt x="301" y="92"/>
                  </a:lnTo>
                  <a:lnTo>
                    <a:pt x="317" y="100"/>
                  </a:lnTo>
                  <a:lnTo>
                    <a:pt x="333" y="108"/>
                  </a:lnTo>
                  <a:lnTo>
                    <a:pt x="341" y="110"/>
                  </a:lnTo>
                  <a:lnTo>
                    <a:pt x="350" y="110"/>
                  </a:lnTo>
                  <a:lnTo>
                    <a:pt x="358" y="108"/>
                  </a:lnTo>
                  <a:lnTo>
                    <a:pt x="365" y="102"/>
                  </a:lnTo>
                  <a:lnTo>
                    <a:pt x="369" y="94"/>
                  </a:lnTo>
                  <a:lnTo>
                    <a:pt x="369" y="87"/>
                  </a:lnTo>
                  <a:lnTo>
                    <a:pt x="365" y="80"/>
                  </a:lnTo>
                  <a:lnTo>
                    <a:pt x="358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98760" y="2659320"/>
              <a:ext cx="198360" cy="51120"/>
            </a:xfrm>
            <a:custGeom>
              <a:avLst/>
              <a:gdLst/>
              <a:ahLst/>
              <a:rect l="l" t="t" r="r" b="b"/>
              <a:pathLst>
                <a:path w="375" h="113">
                  <a:moveTo>
                    <a:pt x="37" y="110"/>
                  </a:moveTo>
                  <a:lnTo>
                    <a:pt x="37" y="110"/>
                  </a:lnTo>
                  <a:lnTo>
                    <a:pt x="53" y="102"/>
                  </a:lnTo>
                  <a:lnTo>
                    <a:pt x="69" y="93"/>
                  </a:lnTo>
                  <a:lnTo>
                    <a:pt x="85" y="87"/>
                  </a:lnTo>
                  <a:lnTo>
                    <a:pt x="103" y="80"/>
                  </a:lnTo>
                  <a:lnTo>
                    <a:pt x="120" y="74"/>
                  </a:lnTo>
                  <a:lnTo>
                    <a:pt x="140" y="68"/>
                  </a:lnTo>
                  <a:lnTo>
                    <a:pt x="159" y="63"/>
                  </a:lnTo>
                  <a:lnTo>
                    <a:pt x="179" y="58"/>
                  </a:lnTo>
                  <a:lnTo>
                    <a:pt x="200" y="54"/>
                  </a:lnTo>
                  <a:lnTo>
                    <a:pt x="220" y="49"/>
                  </a:lnTo>
                  <a:lnTo>
                    <a:pt x="241" y="47"/>
                  </a:lnTo>
                  <a:lnTo>
                    <a:pt x="262" y="44"/>
                  </a:lnTo>
                  <a:lnTo>
                    <a:pt x="285" y="42"/>
                  </a:lnTo>
                  <a:lnTo>
                    <a:pt x="306" y="41"/>
                  </a:lnTo>
                  <a:lnTo>
                    <a:pt x="329" y="39"/>
                  </a:lnTo>
                  <a:lnTo>
                    <a:pt x="351" y="39"/>
                  </a:lnTo>
                  <a:lnTo>
                    <a:pt x="360" y="38"/>
                  </a:lnTo>
                  <a:lnTo>
                    <a:pt x="368" y="34"/>
                  </a:lnTo>
                  <a:lnTo>
                    <a:pt x="374" y="27"/>
                  </a:lnTo>
                  <a:lnTo>
                    <a:pt x="375" y="20"/>
                  </a:lnTo>
                  <a:lnTo>
                    <a:pt x="374" y="12"/>
                  </a:lnTo>
                  <a:lnTo>
                    <a:pt x="368" y="5"/>
                  </a:lnTo>
                  <a:lnTo>
                    <a:pt x="360" y="1"/>
                  </a:lnTo>
                  <a:lnTo>
                    <a:pt x="351" y="0"/>
                  </a:lnTo>
                  <a:lnTo>
                    <a:pt x="327" y="0"/>
                  </a:lnTo>
                  <a:lnTo>
                    <a:pt x="303" y="1"/>
                  </a:lnTo>
                  <a:lnTo>
                    <a:pt x="280" y="3"/>
                  </a:lnTo>
                  <a:lnTo>
                    <a:pt x="256" y="5"/>
                  </a:lnTo>
                  <a:lnTo>
                    <a:pt x="233" y="7"/>
                  </a:lnTo>
                  <a:lnTo>
                    <a:pt x="209" y="12"/>
                  </a:lnTo>
                  <a:lnTo>
                    <a:pt x="187" y="15"/>
                  </a:lnTo>
                  <a:lnTo>
                    <a:pt x="165" y="21"/>
                  </a:lnTo>
                  <a:lnTo>
                    <a:pt x="143" y="25"/>
                  </a:lnTo>
                  <a:lnTo>
                    <a:pt x="123" y="32"/>
                  </a:lnTo>
                  <a:lnTo>
                    <a:pt x="102" y="38"/>
                  </a:lnTo>
                  <a:lnTo>
                    <a:pt x="82" y="45"/>
                  </a:lnTo>
                  <a:lnTo>
                    <a:pt x="62" y="53"/>
                  </a:lnTo>
                  <a:lnTo>
                    <a:pt x="43" y="60"/>
                  </a:lnTo>
                  <a:lnTo>
                    <a:pt x="26" y="69"/>
                  </a:lnTo>
                  <a:lnTo>
                    <a:pt x="9" y="78"/>
                  </a:lnTo>
                  <a:lnTo>
                    <a:pt x="2" y="83"/>
                  </a:lnTo>
                  <a:lnTo>
                    <a:pt x="0" y="90"/>
                  </a:lnTo>
                  <a:lnTo>
                    <a:pt x="0" y="98"/>
                  </a:lnTo>
                  <a:lnTo>
                    <a:pt x="4" y="106"/>
                  </a:lnTo>
                  <a:lnTo>
                    <a:pt x="10" y="111"/>
                  </a:lnTo>
                  <a:lnTo>
                    <a:pt x="18" y="113"/>
                  </a:lnTo>
                  <a:lnTo>
                    <a:pt x="27" y="113"/>
                  </a:lnTo>
                  <a:lnTo>
                    <a:pt x="37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01640" y="2723400"/>
              <a:ext cx="195480" cy="51120"/>
            </a:xfrm>
            <a:custGeom>
              <a:avLst/>
              <a:gdLst/>
              <a:ahLst/>
              <a:rect l="l" t="t" r="r" b="b"/>
              <a:pathLst>
                <a:path w="369" h="110">
                  <a:moveTo>
                    <a:pt x="345" y="0"/>
                  </a:moveTo>
                  <a:lnTo>
                    <a:pt x="321" y="0"/>
                  </a:lnTo>
                  <a:lnTo>
                    <a:pt x="297" y="1"/>
                  </a:lnTo>
                  <a:lnTo>
                    <a:pt x="275" y="3"/>
                  </a:lnTo>
                  <a:lnTo>
                    <a:pt x="252" y="4"/>
                  </a:lnTo>
                  <a:lnTo>
                    <a:pt x="230" y="7"/>
                  </a:lnTo>
                  <a:lnTo>
                    <a:pt x="207" y="11"/>
                  </a:lnTo>
                  <a:lnTo>
                    <a:pt x="185" y="14"/>
                  </a:lnTo>
                  <a:lnTo>
                    <a:pt x="163" y="18"/>
                  </a:lnTo>
                  <a:lnTo>
                    <a:pt x="142" y="24"/>
                  </a:lnTo>
                  <a:lnTo>
                    <a:pt x="122" y="29"/>
                  </a:lnTo>
                  <a:lnTo>
                    <a:pt x="102" y="36"/>
                  </a:lnTo>
                  <a:lnTo>
                    <a:pt x="83" y="43"/>
                  </a:lnTo>
                  <a:lnTo>
                    <a:pt x="64" y="49"/>
                  </a:lnTo>
                  <a:lnTo>
                    <a:pt x="45" y="57"/>
                  </a:lnTo>
                  <a:lnTo>
                    <a:pt x="28" y="66"/>
                  </a:lnTo>
                  <a:lnTo>
                    <a:pt x="11" y="75"/>
                  </a:lnTo>
                  <a:lnTo>
                    <a:pt x="11" y="75"/>
                  </a:lnTo>
                  <a:lnTo>
                    <a:pt x="4" y="80"/>
                  </a:lnTo>
                  <a:lnTo>
                    <a:pt x="0" y="87"/>
                  </a:lnTo>
                  <a:lnTo>
                    <a:pt x="0" y="94"/>
                  </a:lnTo>
                  <a:lnTo>
                    <a:pt x="3" y="102"/>
                  </a:lnTo>
                  <a:lnTo>
                    <a:pt x="10" y="108"/>
                  </a:lnTo>
                  <a:lnTo>
                    <a:pt x="19" y="110"/>
                  </a:lnTo>
                  <a:lnTo>
                    <a:pt x="28" y="110"/>
                  </a:lnTo>
                  <a:lnTo>
                    <a:pt x="36" y="108"/>
                  </a:lnTo>
                  <a:lnTo>
                    <a:pt x="52" y="100"/>
                  </a:lnTo>
                  <a:lnTo>
                    <a:pt x="68" y="92"/>
                  </a:lnTo>
                  <a:lnTo>
                    <a:pt x="85" y="86"/>
                  </a:lnTo>
                  <a:lnTo>
                    <a:pt x="102" y="79"/>
                  </a:lnTo>
                  <a:lnTo>
                    <a:pt x="121" y="72"/>
                  </a:lnTo>
                  <a:lnTo>
                    <a:pt x="140" y="67"/>
                  </a:lnTo>
                  <a:lnTo>
                    <a:pt x="158" y="62"/>
                  </a:lnTo>
                  <a:lnTo>
                    <a:pt x="178" y="57"/>
                  </a:lnTo>
                  <a:lnTo>
                    <a:pt x="198" y="54"/>
                  </a:lnTo>
                  <a:lnTo>
                    <a:pt x="218" y="49"/>
                  </a:lnTo>
                  <a:lnTo>
                    <a:pt x="239" y="47"/>
                  </a:lnTo>
                  <a:lnTo>
                    <a:pt x="259" y="44"/>
                  </a:lnTo>
                  <a:lnTo>
                    <a:pt x="280" y="42"/>
                  </a:lnTo>
                  <a:lnTo>
                    <a:pt x="303" y="40"/>
                  </a:lnTo>
                  <a:lnTo>
                    <a:pt x="324" y="39"/>
                  </a:lnTo>
                  <a:lnTo>
                    <a:pt x="345" y="39"/>
                  </a:lnTo>
                  <a:lnTo>
                    <a:pt x="354" y="38"/>
                  </a:lnTo>
                  <a:lnTo>
                    <a:pt x="362" y="34"/>
                  </a:lnTo>
                  <a:lnTo>
                    <a:pt x="368" y="27"/>
                  </a:lnTo>
                  <a:lnTo>
                    <a:pt x="369" y="20"/>
                  </a:lnTo>
                  <a:lnTo>
                    <a:pt x="368" y="12"/>
                  </a:lnTo>
                  <a:lnTo>
                    <a:pt x="362" y="5"/>
                  </a:lnTo>
                  <a:lnTo>
                    <a:pt x="354" y="1"/>
                  </a:lnTo>
                  <a:lnTo>
                    <a:pt x="3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330200" y="2659320"/>
              <a:ext cx="198360" cy="51120"/>
            </a:xfrm>
            <a:custGeom>
              <a:avLst/>
              <a:gdLst/>
              <a:ahLst/>
              <a:rect l="l" t="t" r="r" b="b"/>
              <a:pathLst>
                <a:path w="375" h="113">
                  <a:moveTo>
                    <a:pt x="24" y="39"/>
                  </a:moveTo>
                  <a:lnTo>
                    <a:pt x="46" y="39"/>
                  </a:lnTo>
                  <a:lnTo>
                    <a:pt x="69" y="41"/>
                  </a:lnTo>
                  <a:lnTo>
                    <a:pt x="90" y="42"/>
                  </a:lnTo>
                  <a:lnTo>
                    <a:pt x="111" y="44"/>
                  </a:lnTo>
                  <a:lnTo>
                    <a:pt x="134" y="47"/>
                  </a:lnTo>
                  <a:lnTo>
                    <a:pt x="154" y="49"/>
                  </a:lnTo>
                  <a:lnTo>
                    <a:pt x="175" y="54"/>
                  </a:lnTo>
                  <a:lnTo>
                    <a:pt x="195" y="58"/>
                  </a:lnTo>
                  <a:lnTo>
                    <a:pt x="215" y="63"/>
                  </a:lnTo>
                  <a:lnTo>
                    <a:pt x="235" y="68"/>
                  </a:lnTo>
                  <a:lnTo>
                    <a:pt x="253" y="74"/>
                  </a:lnTo>
                  <a:lnTo>
                    <a:pt x="272" y="80"/>
                  </a:lnTo>
                  <a:lnTo>
                    <a:pt x="289" y="87"/>
                  </a:lnTo>
                  <a:lnTo>
                    <a:pt x="306" y="93"/>
                  </a:lnTo>
                  <a:lnTo>
                    <a:pt x="322" y="102"/>
                  </a:lnTo>
                  <a:lnTo>
                    <a:pt x="338" y="110"/>
                  </a:lnTo>
                  <a:lnTo>
                    <a:pt x="347" y="113"/>
                  </a:lnTo>
                  <a:lnTo>
                    <a:pt x="357" y="113"/>
                  </a:lnTo>
                  <a:lnTo>
                    <a:pt x="365" y="111"/>
                  </a:lnTo>
                  <a:lnTo>
                    <a:pt x="371" y="106"/>
                  </a:lnTo>
                  <a:lnTo>
                    <a:pt x="375" y="98"/>
                  </a:lnTo>
                  <a:lnTo>
                    <a:pt x="375" y="90"/>
                  </a:lnTo>
                  <a:lnTo>
                    <a:pt x="371" y="83"/>
                  </a:lnTo>
                  <a:lnTo>
                    <a:pt x="365" y="78"/>
                  </a:lnTo>
                  <a:lnTo>
                    <a:pt x="347" y="69"/>
                  </a:lnTo>
                  <a:lnTo>
                    <a:pt x="330" y="60"/>
                  </a:lnTo>
                  <a:lnTo>
                    <a:pt x="312" y="53"/>
                  </a:lnTo>
                  <a:lnTo>
                    <a:pt x="293" y="45"/>
                  </a:lnTo>
                  <a:lnTo>
                    <a:pt x="273" y="38"/>
                  </a:lnTo>
                  <a:lnTo>
                    <a:pt x="252" y="32"/>
                  </a:lnTo>
                  <a:lnTo>
                    <a:pt x="231" y="25"/>
                  </a:lnTo>
                  <a:lnTo>
                    <a:pt x="209" y="21"/>
                  </a:lnTo>
                  <a:lnTo>
                    <a:pt x="187" y="15"/>
                  </a:lnTo>
                  <a:lnTo>
                    <a:pt x="166" y="12"/>
                  </a:lnTo>
                  <a:lnTo>
                    <a:pt x="142" y="7"/>
                  </a:lnTo>
                  <a:lnTo>
                    <a:pt x="119" y="5"/>
                  </a:lnTo>
                  <a:lnTo>
                    <a:pt x="95" y="3"/>
                  </a:lnTo>
                  <a:lnTo>
                    <a:pt x="71" y="1"/>
                  </a:lnTo>
                  <a:lnTo>
                    <a:pt x="48" y="0"/>
                  </a:lnTo>
                  <a:lnTo>
                    <a:pt x="24" y="0"/>
                  </a:lnTo>
                  <a:lnTo>
                    <a:pt x="14" y="1"/>
                  </a:lnTo>
                  <a:lnTo>
                    <a:pt x="6" y="5"/>
                  </a:lnTo>
                  <a:lnTo>
                    <a:pt x="1" y="12"/>
                  </a:lnTo>
                  <a:lnTo>
                    <a:pt x="0" y="20"/>
                  </a:lnTo>
                  <a:lnTo>
                    <a:pt x="1" y="27"/>
                  </a:lnTo>
                  <a:lnTo>
                    <a:pt x="6" y="34"/>
                  </a:lnTo>
                  <a:lnTo>
                    <a:pt x="14" y="38"/>
                  </a:lnTo>
                  <a:lnTo>
                    <a:pt x="24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717560" y="2797920"/>
              <a:ext cx="38160" cy="37080"/>
            </a:xfrm>
            <a:custGeom>
              <a:avLst/>
              <a:gdLst/>
              <a:ahLst/>
              <a:rect l="l" t="t" r="r" b="b"/>
              <a:pathLst>
                <a:path w="72" h="79">
                  <a:moveTo>
                    <a:pt x="28" y="79"/>
                  </a:moveTo>
                  <a:lnTo>
                    <a:pt x="34" y="78"/>
                  </a:lnTo>
                  <a:lnTo>
                    <a:pt x="39" y="78"/>
                  </a:lnTo>
                  <a:lnTo>
                    <a:pt x="44" y="77"/>
                  </a:lnTo>
                  <a:lnTo>
                    <a:pt x="51" y="76"/>
                  </a:lnTo>
                  <a:lnTo>
                    <a:pt x="56" y="75"/>
                  </a:lnTo>
                  <a:lnTo>
                    <a:pt x="62" y="75"/>
                  </a:lnTo>
                  <a:lnTo>
                    <a:pt x="67" y="73"/>
                  </a:lnTo>
                  <a:lnTo>
                    <a:pt x="72" y="73"/>
                  </a:lnTo>
                  <a:lnTo>
                    <a:pt x="64" y="64"/>
                  </a:lnTo>
                  <a:lnTo>
                    <a:pt x="58" y="54"/>
                  </a:lnTo>
                  <a:lnTo>
                    <a:pt x="51" y="44"/>
                  </a:lnTo>
                  <a:lnTo>
                    <a:pt x="44" y="34"/>
                  </a:lnTo>
                  <a:lnTo>
                    <a:pt x="38" y="25"/>
                  </a:lnTo>
                  <a:lnTo>
                    <a:pt x="31" y="16"/>
                  </a:lnTo>
                  <a:lnTo>
                    <a:pt x="26" y="7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0" y="1"/>
                  </a:lnTo>
                  <a:lnTo>
                    <a:pt x="6" y="1"/>
                  </a:lnTo>
                  <a:lnTo>
                    <a:pt x="0" y="2"/>
                  </a:lnTo>
                  <a:lnTo>
                    <a:pt x="28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341360" y="2795400"/>
              <a:ext cx="36720" cy="37080"/>
            </a:xfrm>
            <a:custGeom>
              <a:avLst/>
              <a:gdLst/>
              <a:ahLst/>
              <a:rect l="l" t="t" r="r" b="b"/>
              <a:pathLst>
                <a:path w="69" h="80">
                  <a:moveTo>
                    <a:pt x="69" y="80"/>
                  </a:moveTo>
                  <a:lnTo>
                    <a:pt x="63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2" y="78"/>
                  </a:lnTo>
                  <a:lnTo>
                    <a:pt x="2" y="78"/>
                  </a:lnTo>
                  <a:lnTo>
                    <a:pt x="2" y="78"/>
                  </a:lnTo>
                  <a:lnTo>
                    <a:pt x="10" y="78"/>
                  </a:lnTo>
                  <a:lnTo>
                    <a:pt x="19" y="78"/>
                  </a:lnTo>
                  <a:lnTo>
                    <a:pt x="27" y="78"/>
                  </a:lnTo>
                  <a:lnTo>
                    <a:pt x="36" y="79"/>
                  </a:lnTo>
                  <a:lnTo>
                    <a:pt x="44" y="79"/>
                  </a:lnTo>
                  <a:lnTo>
                    <a:pt x="52" y="79"/>
                  </a:lnTo>
                  <a:lnTo>
                    <a:pt x="61" y="80"/>
                  </a:lnTo>
                  <a:lnTo>
                    <a:pt x="69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249200" y="2565360"/>
              <a:ext cx="635040" cy="326880"/>
            </a:xfrm>
            <a:custGeom>
              <a:avLst/>
              <a:gdLst/>
              <a:ahLst/>
              <a:rect l="l" t="t" r="r" b="b"/>
              <a:pathLst>
                <a:path w="1200" h="708">
                  <a:moveTo>
                    <a:pt x="1161" y="11"/>
                  </a:moveTo>
                  <a:lnTo>
                    <a:pt x="1144" y="9"/>
                  </a:lnTo>
                  <a:lnTo>
                    <a:pt x="1127" y="6"/>
                  </a:lnTo>
                  <a:lnTo>
                    <a:pt x="1109" y="4"/>
                  </a:lnTo>
                  <a:lnTo>
                    <a:pt x="1092" y="2"/>
                  </a:lnTo>
                  <a:lnTo>
                    <a:pt x="1074" y="1"/>
                  </a:lnTo>
                  <a:lnTo>
                    <a:pt x="1056" y="1"/>
                  </a:lnTo>
                  <a:lnTo>
                    <a:pt x="1038" y="0"/>
                  </a:lnTo>
                  <a:lnTo>
                    <a:pt x="1020" y="0"/>
                  </a:lnTo>
                  <a:lnTo>
                    <a:pt x="989" y="1"/>
                  </a:lnTo>
                  <a:lnTo>
                    <a:pt x="955" y="2"/>
                  </a:lnTo>
                  <a:lnTo>
                    <a:pt x="925" y="6"/>
                  </a:lnTo>
                  <a:lnTo>
                    <a:pt x="893" y="9"/>
                  </a:lnTo>
                  <a:lnTo>
                    <a:pt x="864" y="14"/>
                  </a:lnTo>
                  <a:lnTo>
                    <a:pt x="833" y="20"/>
                  </a:lnTo>
                  <a:lnTo>
                    <a:pt x="806" y="28"/>
                  </a:lnTo>
                  <a:lnTo>
                    <a:pt x="778" y="35"/>
                  </a:lnTo>
                  <a:lnTo>
                    <a:pt x="751" y="44"/>
                  </a:lnTo>
                  <a:lnTo>
                    <a:pt x="726" y="54"/>
                  </a:lnTo>
                  <a:lnTo>
                    <a:pt x="701" y="65"/>
                  </a:lnTo>
                  <a:lnTo>
                    <a:pt x="678" y="76"/>
                  </a:lnTo>
                  <a:lnTo>
                    <a:pt x="656" y="88"/>
                  </a:lnTo>
                  <a:lnTo>
                    <a:pt x="636" y="101"/>
                  </a:lnTo>
                  <a:lnTo>
                    <a:pt x="616" y="116"/>
                  </a:lnTo>
                  <a:lnTo>
                    <a:pt x="599" y="130"/>
                  </a:lnTo>
                  <a:lnTo>
                    <a:pt x="581" y="116"/>
                  </a:lnTo>
                  <a:lnTo>
                    <a:pt x="563" y="101"/>
                  </a:lnTo>
                  <a:lnTo>
                    <a:pt x="542" y="88"/>
                  </a:lnTo>
                  <a:lnTo>
                    <a:pt x="520" y="76"/>
                  </a:lnTo>
                  <a:lnTo>
                    <a:pt x="498" y="65"/>
                  </a:lnTo>
                  <a:lnTo>
                    <a:pt x="473" y="54"/>
                  </a:lnTo>
                  <a:lnTo>
                    <a:pt x="447" y="44"/>
                  </a:lnTo>
                  <a:lnTo>
                    <a:pt x="421" y="35"/>
                  </a:lnTo>
                  <a:lnTo>
                    <a:pt x="393" y="28"/>
                  </a:lnTo>
                  <a:lnTo>
                    <a:pt x="364" y="20"/>
                  </a:lnTo>
                  <a:lnTo>
                    <a:pt x="335" y="14"/>
                  </a:lnTo>
                  <a:lnTo>
                    <a:pt x="304" y="9"/>
                  </a:lnTo>
                  <a:lnTo>
                    <a:pt x="274" y="6"/>
                  </a:lnTo>
                  <a:lnTo>
                    <a:pt x="242" y="2"/>
                  </a:lnTo>
                  <a:lnTo>
                    <a:pt x="210" y="1"/>
                  </a:lnTo>
                  <a:lnTo>
                    <a:pt x="177" y="0"/>
                  </a:lnTo>
                  <a:lnTo>
                    <a:pt x="159" y="0"/>
                  </a:lnTo>
                  <a:lnTo>
                    <a:pt x="141" y="1"/>
                  </a:lnTo>
                  <a:lnTo>
                    <a:pt x="124" y="1"/>
                  </a:lnTo>
                  <a:lnTo>
                    <a:pt x="106" y="2"/>
                  </a:lnTo>
                  <a:lnTo>
                    <a:pt x="89" y="4"/>
                  </a:lnTo>
                  <a:lnTo>
                    <a:pt x="73" y="6"/>
                  </a:lnTo>
                  <a:lnTo>
                    <a:pt x="56" y="9"/>
                  </a:lnTo>
                  <a:lnTo>
                    <a:pt x="39" y="11"/>
                  </a:lnTo>
                  <a:lnTo>
                    <a:pt x="0" y="18"/>
                  </a:lnTo>
                  <a:lnTo>
                    <a:pt x="0" y="539"/>
                  </a:lnTo>
                  <a:lnTo>
                    <a:pt x="0" y="539"/>
                  </a:lnTo>
                  <a:lnTo>
                    <a:pt x="0" y="708"/>
                  </a:lnTo>
                  <a:lnTo>
                    <a:pt x="57" y="699"/>
                  </a:lnTo>
                  <a:lnTo>
                    <a:pt x="65" y="697"/>
                  </a:lnTo>
                  <a:lnTo>
                    <a:pt x="73" y="696"/>
                  </a:lnTo>
                  <a:lnTo>
                    <a:pt x="81" y="695"/>
                  </a:lnTo>
                  <a:lnTo>
                    <a:pt x="89" y="694"/>
                  </a:lnTo>
                  <a:lnTo>
                    <a:pt x="97" y="694"/>
                  </a:lnTo>
                  <a:lnTo>
                    <a:pt x="105" y="693"/>
                  </a:lnTo>
                  <a:lnTo>
                    <a:pt x="113" y="692"/>
                  </a:lnTo>
                  <a:lnTo>
                    <a:pt x="121" y="692"/>
                  </a:lnTo>
                  <a:lnTo>
                    <a:pt x="159" y="610"/>
                  </a:lnTo>
                  <a:lnTo>
                    <a:pt x="152" y="610"/>
                  </a:lnTo>
                  <a:lnTo>
                    <a:pt x="142" y="612"/>
                  </a:lnTo>
                  <a:lnTo>
                    <a:pt x="134" y="612"/>
                  </a:lnTo>
                  <a:lnTo>
                    <a:pt x="126" y="612"/>
                  </a:lnTo>
                  <a:lnTo>
                    <a:pt x="118" y="613"/>
                  </a:lnTo>
                  <a:lnTo>
                    <a:pt x="110" y="613"/>
                  </a:lnTo>
                  <a:lnTo>
                    <a:pt x="104" y="614"/>
                  </a:lnTo>
                  <a:lnTo>
                    <a:pt x="96" y="614"/>
                  </a:lnTo>
                  <a:lnTo>
                    <a:pt x="96" y="581"/>
                  </a:lnTo>
                  <a:lnTo>
                    <a:pt x="105" y="580"/>
                  </a:lnTo>
                  <a:lnTo>
                    <a:pt x="114" y="578"/>
                  </a:lnTo>
                  <a:lnTo>
                    <a:pt x="125" y="577"/>
                  </a:lnTo>
                  <a:lnTo>
                    <a:pt x="134" y="577"/>
                  </a:lnTo>
                  <a:lnTo>
                    <a:pt x="145" y="576"/>
                  </a:lnTo>
                  <a:lnTo>
                    <a:pt x="154" y="576"/>
                  </a:lnTo>
                  <a:lnTo>
                    <a:pt x="165" y="576"/>
                  </a:lnTo>
                  <a:lnTo>
                    <a:pt x="175" y="576"/>
                  </a:lnTo>
                  <a:lnTo>
                    <a:pt x="213" y="498"/>
                  </a:lnTo>
                  <a:lnTo>
                    <a:pt x="198" y="497"/>
                  </a:lnTo>
                  <a:lnTo>
                    <a:pt x="183" y="497"/>
                  </a:lnTo>
                  <a:lnTo>
                    <a:pt x="167" y="497"/>
                  </a:lnTo>
                  <a:lnTo>
                    <a:pt x="153" y="497"/>
                  </a:lnTo>
                  <a:lnTo>
                    <a:pt x="138" y="498"/>
                  </a:lnTo>
                  <a:lnTo>
                    <a:pt x="124" y="499"/>
                  </a:lnTo>
                  <a:lnTo>
                    <a:pt x="110" y="500"/>
                  </a:lnTo>
                  <a:lnTo>
                    <a:pt x="96" y="501"/>
                  </a:lnTo>
                  <a:lnTo>
                    <a:pt x="96" y="84"/>
                  </a:lnTo>
                  <a:lnTo>
                    <a:pt x="105" y="83"/>
                  </a:lnTo>
                  <a:lnTo>
                    <a:pt x="116" y="82"/>
                  </a:lnTo>
                  <a:lnTo>
                    <a:pt x="125" y="80"/>
                  </a:lnTo>
                  <a:lnTo>
                    <a:pt x="136" y="80"/>
                  </a:lnTo>
                  <a:lnTo>
                    <a:pt x="145" y="79"/>
                  </a:lnTo>
                  <a:lnTo>
                    <a:pt x="155" y="79"/>
                  </a:lnTo>
                  <a:lnTo>
                    <a:pt x="166" y="79"/>
                  </a:lnTo>
                  <a:lnTo>
                    <a:pt x="177" y="79"/>
                  </a:lnTo>
                  <a:lnTo>
                    <a:pt x="209" y="80"/>
                  </a:lnTo>
                  <a:lnTo>
                    <a:pt x="240" y="82"/>
                  </a:lnTo>
                  <a:lnTo>
                    <a:pt x="271" y="85"/>
                  </a:lnTo>
                  <a:lnTo>
                    <a:pt x="301" y="89"/>
                  </a:lnTo>
                  <a:lnTo>
                    <a:pt x="331" y="95"/>
                  </a:lnTo>
                  <a:lnTo>
                    <a:pt x="358" y="101"/>
                  </a:lnTo>
                  <a:lnTo>
                    <a:pt x="385" y="108"/>
                  </a:lnTo>
                  <a:lnTo>
                    <a:pt x="412" y="117"/>
                  </a:lnTo>
                  <a:lnTo>
                    <a:pt x="435" y="127"/>
                  </a:lnTo>
                  <a:lnTo>
                    <a:pt x="459" y="137"/>
                  </a:lnTo>
                  <a:lnTo>
                    <a:pt x="481" y="148"/>
                  </a:lnTo>
                  <a:lnTo>
                    <a:pt x="499" y="160"/>
                  </a:lnTo>
                  <a:lnTo>
                    <a:pt x="518" y="173"/>
                  </a:lnTo>
                  <a:lnTo>
                    <a:pt x="532" y="186"/>
                  </a:lnTo>
                  <a:lnTo>
                    <a:pt x="547" y="201"/>
                  </a:lnTo>
                  <a:lnTo>
                    <a:pt x="557" y="215"/>
                  </a:lnTo>
                  <a:lnTo>
                    <a:pt x="599" y="278"/>
                  </a:lnTo>
                  <a:lnTo>
                    <a:pt x="641" y="215"/>
                  </a:lnTo>
                  <a:lnTo>
                    <a:pt x="652" y="201"/>
                  </a:lnTo>
                  <a:lnTo>
                    <a:pt x="666" y="186"/>
                  </a:lnTo>
                  <a:lnTo>
                    <a:pt x="681" y="173"/>
                  </a:lnTo>
                  <a:lnTo>
                    <a:pt x="699" y="160"/>
                  </a:lnTo>
                  <a:lnTo>
                    <a:pt x="718" y="148"/>
                  </a:lnTo>
                  <a:lnTo>
                    <a:pt x="739" y="137"/>
                  </a:lnTo>
                  <a:lnTo>
                    <a:pt x="763" y="127"/>
                  </a:lnTo>
                  <a:lnTo>
                    <a:pt x="787" y="117"/>
                  </a:lnTo>
                  <a:lnTo>
                    <a:pt x="812" y="108"/>
                  </a:lnTo>
                  <a:lnTo>
                    <a:pt x="840" y="101"/>
                  </a:lnTo>
                  <a:lnTo>
                    <a:pt x="868" y="95"/>
                  </a:lnTo>
                  <a:lnTo>
                    <a:pt x="897" y="89"/>
                  </a:lnTo>
                  <a:lnTo>
                    <a:pt x="928" y="85"/>
                  </a:lnTo>
                  <a:lnTo>
                    <a:pt x="958" y="82"/>
                  </a:lnTo>
                  <a:lnTo>
                    <a:pt x="989" y="80"/>
                  </a:lnTo>
                  <a:lnTo>
                    <a:pt x="1020" y="79"/>
                  </a:lnTo>
                  <a:lnTo>
                    <a:pt x="1031" y="79"/>
                  </a:lnTo>
                  <a:lnTo>
                    <a:pt x="1042" y="79"/>
                  </a:lnTo>
                  <a:lnTo>
                    <a:pt x="1052" y="79"/>
                  </a:lnTo>
                  <a:lnTo>
                    <a:pt x="1063" y="80"/>
                  </a:lnTo>
                  <a:lnTo>
                    <a:pt x="1074" y="80"/>
                  </a:lnTo>
                  <a:lnTo>
                    <a:pt x="1084" y="82"/>
                  </a:lnTo>
                  <a:lnTo>
                    <a:pt x="1093" y="83"/>
                  </a:lnTo>
                  <a:lnTo>
                    <a:pt x="1104" y="84"/>
                  </a:lnTo>
                  <a:lnTo>
                    <a:pt x="1104" y="501"/>
                  </a:lnTo>
                  <a:lnTo>
                    <a:pt x="1093" y="500"/>
                  </a:lnTo>
                  <a:lnTo>
                    <a:pt x="1084" y="499"/>
                  </a:lnTo>
                  <a:lnTo>
                    <a:pt x="1074" y="498"/>
                  </a:lnTo>
                  <a:lnTo>
                    <a:pt x="1063" y="498"/>
                  </a:lnTo>
                  <a:lnTo>
                    <a:pt x="1052" y="497"/>
                  </a:lnTo>
                  <a:lnTo>
                    <a:pt x="1042" y="497"/>
                  </a:lnTo>
                  <a:lnTo>
                    <a:pt x="1031" y="497"/>
                  </a:lnTo>
                  <a:lnTo>
                    <a:pt x="1020" y="497"/>
                  </a:lnTo>
                  <a:lnTo>
                    <a:pt x="1006" y="497"/>
                  </a:lnTo>
                  <a:lnTo>
                    <a:pt x="991" y="497"/>
                  </a:lnTo>
                  <a:lnTo>
                    <a:pt x="977" y="498"/>
                  </a:lnTo>
                  <a:lnTo>
                    <a:pt x="962" y="499"/>
                  </a:lnTo>
                  <a:lnTo>
                    <a:pt x="948" y="500"/>
                  </a:lnTo>
                  <a:lnTo>
                    <a:pt x="933" y="501"/>
                  </a:lnTo>
                  <a:lnTo>
                    <a:pt x="920" y="502"/>
                  </a:lnTo>
                  <a:lnTo>
                    <a:pt x="905" y="505"/>
                  </a:lnTo>
                  <a:lnTo>
                    <a:pt x="912" y="512"/>
                  </a:lnTo>
                  <a:lnTo>
                    <a:pt x="917" y="521"/>
                  </a:lnTo>
                  <a:lnTo>
                    <a:pt x="924" y="530"/>
                  </a:lnTo>
                  <a:lnTo>
                    <a:pt x="930" y="539"/>
                  </a:lnTo>
                  <a:lnTo>
                    <a:pt x="937" y="549"/>
                  </a:lnTo>
                  <a:lnTo>
                    <a:pt x="944" y="559"/>
                  </a:lnTo>
                  <a:lnTo>
                    <a:pt x="950" y="569"/>
                  </a:lnTo>
                  <a:lnTo>
                    <a:pt x="958" y="578"/>
                  </a:lnTo>
                  <a:lnTo>
                    <a:pt x="977" y="577"/>
                  </a:lnTo>
                  <a:lnTo>
                    <a:pt x="994" y="576"/>
                  </a:lnTo>
                  <a:lnTo>
                    <a:pt x="1013" y="576"/>
                  </a:lnTo>
                  <a:lnTo>
                    <a:pt x="1031" y="576"/>
                  </a:lnTo>
                  <a:lnTo>
                    <a:pt x="1050" y="576"/>
                  </a:lnTo>
                  <a:lnTo>
                    <a:pt x="1068" y="577"/>
                  </a:lnTo>
                  <a:lnTo>
                    <a:pt x="1086" y="578"/>
                  </a:lnTo>
                  <a:lnTo>
                    <a:pt x="1104" y="581"/>
                  </a:lnTo>
                  <a:lnTo>
                    <a:pt x="1104" y="614"/>
                  </a:lnTo>
                  <a:lnTo>
                    <a:pt x="1093" y="613"/>
                  </a:lnTo>
                  <a:lnTo>
                    <a:pt x="1084" y="613"/>
                  </a:lnTo>
                  <a:lnTo>
                    <a:pt x="1074" y="612"/>
                  </a:lnTo>
                  <a:lnTo>
                    <a:pt x="1063" y="612"/>
                  </a:lnTo>
                  <a:lnTo>
                    <a:pt x="1052" y="610"/>
                  </a:lnTo>
                  <a:lnTo>
                    <a:pt x="1042" y="610"/>
                  </a:lnTo>
                  <a:lnTo>
                    <a:pt x="1031" y="610"/>
                  </a:lnTo>
                  <a:lnTo>
                    <a:pt x="1020" y="610"/>
                  </a:lnTo>
                  <a:lnTo>
                    <a:pt x="1011" y="610"/>
                  </a:lnTo>
                  <a:lnTo>
                    <a:pt x="1002" y="610"/>
                  </a:lnTo>
                  <a:lnTo>
                    <a:pt x="991" y="610"/>
                  </a:lnTo>
                  <a:lnTo>
                    <a:pt x="982" y="612"/>
                  </a:lnTo>
                  <a:lnTo>
                    <a:pt x="989" y="621"/>
                  </a:lnTo>
                  <a:lnTo>
                    <a:pt x="997" y="631"/>
                  </a:lnTo>
                  <a:lnTo>
                    <a:pt x="1003" y="641"/>
                  </a:lnTo>
                  <a:lnTo>
                    <a:pt x="1010" y="651"/>
                  </a:lnTo>
                  <a:lnTo>
                    <a:pt x="1017" y="661"/>
                  </a:lnTo>
                  <a:lnTo>
                    <a:pt x="1024" y="671"/>
                  </a:lnTo>
                  <a:lnTo>
                    <a:pt x="1031" y="680"/>
                  </a:lnTo>
                  <a:lnTo>
                    <a:pt x="1038" y="690"/>
                  </a:lnTo>
                  <a:lnTo>
                    <a:pt x="1051" y="690"/>
                  </a:lnTo>
                  <a:lnTo>
                    <a:pt x="1064" y="691"/>
                  </a:lnTo>
                  <a:lnTo>
                    <a:pt x="1078" y="692"/>
                  </a:lnTo>
                  <a:lnTo>
                    <a:pt x="1091" y="692"/>
                  </a:lnTo>
                  <a:lnTo>
                    <a:pt x="1104" y="694"/>
                  </a:lnTo>
                  <a:lnTo>
                    <a:pt x="1117" y="695"/>
                  </a:lnTo>
                  <a:lnTo>
                    <a:pt x="1131" y="696"/>
                  </a:lnTo>
                  <a:lnTo>
                    <a:pt x="1143" y="699"/>
                  </a:lnTo>
                  <a:lnTo>
                    <a:pt x="1200" y="708"/>
                  </a:lnTo>
                  <a:lnTo>
                    <a:pt x="1200" y="18"/>
                  </a:lnTo>
                  <a:lnTo>
                    <a:pt x="116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312920" y="2846880"/>
              <a:ext cx="69840" cy="38520"/>
            </a:xfrm>
            <a:custGeom>
              <a:avLst/>
              <a:gdLst/>
              <a:ahLst/>
              <a:rect l="l" t="t" r="r" b="b"/>
              <a:pathLst>
                <a:path w="131" h="83">
                  <a:moveTo>
                    <a:pt x="38" y="0"/>
                  </a:moveTo>
                  <a:lnTo>
                    <a:pt x="0" y="82"/>
                  </a:lnTo>
                  <a:lnTo>
                    <a:pt x="16" y="81"/>
                  </a:lnTo>
                  <a:lnTo>
                    <a:pt x="33" y="80"/>
                  </a:lnTo>
                  <a:lnTo>
                    <a:pt x="49" y="80"/>
                  </a:lnTo>
                  <a:lnTo>
                    <a:pt x="66" y="80"/>
                  </a:lnTo>
                  <a:lnTo>
                    <a:pt x="82" y="80"/>
                  </a:lnTo>
                  <a:lnTo>
                    <a:pt x="100" y="81"/>
                  </a:lnTo>
                  <a:lnTo>
                    <a:pt x="115" y="82"/>
                  </a:lnTo>
                  <a:lnTo>
                    <a:pt x="131" y="83"/>
                  </a:lnTo>
                  <a:lnTo>
                    <a:pt x="125" y="4"/>
                  </a:lnTo>
                  <a:lnTo>
                    <a:pt x="114" y="3"/>
                  </a:lnTo>
                  <a:lnTo>
                    <a:pt x="103" y="3"/>
                  </a:lnTo>
                  <a:lnTo>
                    <a:pt x="93" y="2"/>
                  </a:lnTo>
                  <a:lnTo>
                    <a:pt x="82" y="2"/>
                  </a:lnTo>
                  <a:lnTo>
                    <a:pt x="72" y="0"/>
                  </a:lnTo>
                  <a:lnTo>
                    <a:pt x="60" y="0"/>
                  </a:lnTo>
                  <a:lnTo>
                    <a:pt x="49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39880" y="2847960"/>
              <a:ext cx="58680" cy="37080"/>
            </a:xfrm>
            <a:custGeom>
              <a:avLst/>
              <a:gdLst/>
              <a:ahLst/>
              <a:rect l="l" t="t" r="r" b="b"/>
              <a:pathLst>
                <a:path w="112" h="80">
                  <a:moveTo>
                    <a:pt x="0" y="4"/>
                  </a:moveTo>
                  <a:lnTo>
                    <a:pt x="28" y="80"/>
                  </a:lnTo>
                  <a:lnTo>
                    <a:pt x="39" y="79"/>
                  </a:lnTo>
                  <a:lnTo>
                    <a:pt x="49" y="79"/>
                  </a:lnTo>
                  <a:lnTo>
                    <a:pt x="60" y="78"/>
                  </a:lnTo>
                  <a:lnTo>
                    <a:pt x="71" y="78"/>
                  </a:lnTo>
                  <a:lnTo>
                    <a:pt x="80" y="78"/>
                  </a:lnTo>
                  <a:lnTo>
                    <a:pt x="91" y="78"/>
                  </a:lnTo>
                  <a:lnTo>
                    <a:pt x="101" y="78"/>
                  </a:lnTo>
                  <a:lnTo>
                    <a:pt x="112" y="78"/>
                  </a:lnTo>
                  <a:lnTo>
                    <a:pt x="105" y="68"/>
                  </a:lnTo>
                  <a:lnTo>
                    <a:pt x="98" y="59"/>
                  </a:lnTo>
                  <a:lnTo>
                    <a:pt x="91" y="49"/>
                  </a:lnTo>
                  <a:lnTo>
                    <a:pt x="84" y="39"/>
                  </a:lnTo>
                  <a:lnTo>
                    <a:pt x="77" y="29"/>
                  </a:lnTo>
                  <a:lnTo>
                    <a:pt x="71" y="19"/>
                  </a:lnTo>
                  <a:lnTo>
                    <a:pt x="63" y="9"/>
                  </a:lnTo>
                  <a:lnTo>
                    <a:pt x="56" y="0"/>
                  </a:lnTo>
                  <a:lnTo>
                    <a:pt x="49" y="0"/>
                  </a:lnTo>
                  <a:lnTo>
                    <a:pt x="43" y="1"/>
                  </a:lnTo>
                  <a:lnTo>
                    <a:pt x="35" y="1"/>
                  </a:lnTo>
                  <a:lnTo>
                    <a:pt x="28" y="2"/>
                  </a:lnTo>
                  <a:lnTo>
                    <a:pt x="22" y="2"/>
                  </a:lnTo>
                  <a:lnTo>
                    <a:pt x="15" y="3"/>
                  </a:lnTo>
                  <a:lnTo>
                    <a:pt x="7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374840" y="2795400"/>
              <a:ext cx="379440" cy="138600"/>
            </a:xfrm>
            <a:custGeom>
              <a:avLst/>
              <a:gdLst/>
              <a:ahLst/>
              <a:rect l="l" t="t" r="r" b="b"/>
              <a:pathLst>
                <a:path w="716" h="298">
                  <a:moveTo>
                    <a:pt x="408" y="206"/>
                  </a:moveTo>
                  <a:lnTo>
                    <a:pt x="418" y="195"/>
                  </a:lnTo>
                  <a:lnTo>
                    <a:pt x="428" y="184"/>
                  </a:lnTo>
                  <a:lnTo>
                    <a:pt x="439" y="174"/>
                  </a:lnTo>
                  <a:lnTo>
                    <a:pt x="452" y="164"/>
                  </a:lnTo>
                  <a:lnTo>
                    <a:pt x="467" y="155"/>
                  </a:lnTo>
                  <a:lnTo>
                    <a:pt x="481" y="146"/>
                  </a:lnTo>
                  <a:lnTo>
                    <a:pt x="497" y="138"/>
                  </a:lnTo>
                  <a:lnTo>
                    <a:pt x="515" y="129"/>
                  </a:lnTo>
                  <a:lnTo>
                    <a:pt x="532" y="122"/>
                  </a:lnTo>
                  <a:lnTo>
                    <a:pt x="550" y="115"/>
                  </a:lnTo>
                  <a:lnTo>
                    <a:pt x="570" y="108"/>
                  </a:lnTo>
                  <a:lnTo>
                    <a:pt x="590" y="103"/>
                  </a:lnTo>
                  <a:lnTo>
                    <a:pt x="610" y="97"/>
                  </a:lnTo>
                  <a:lnTo>
                    <a:pt x="633" y="93"/>
                  </a:lnTo>
                  <a:lnTo>
                    <a:pt x="654" y="88"/>
                  </a:lnTo>
                  <a:lnTo>
                    <a:pt x="676" y="85"/>
                  </a:lnTo>
                  <a:lnTo>
                    <a:pt x="648" y="8"/>
                  </a:lnTo>
                  <a:lnTo>
                    <a:pt x="626" y="11"/>
                  </a:lnTo>
                  <a:lnTo>
                    <a:pt x="605" y="16"/>
                  </a:lnTo>
                  <a:lnTo>
                    <a:pt x="583" y="21"/>
                  </a:lnTo>
                  <a:lnTo>
                    <a:pt x="562" y="27"/>
                  </a:lnTo>
                  <a:lnTo>
                    <a:pt x="542" y="32"/>
                  </a:lnTo>
                  <a:lnTo>
                    <a:pt x="522" y="39"/>
                  </a:lnTo>
                  <a:lnTo>
                    <a:pt x="503" y="45"/>
                  </a:lnTo>
                  <a:lnTo>
                    <a:pt x="484" y="53"/>
                  </a:lnTo>
                  <a:lnTo>
                    <a:pt x="467" y="61"/>
                  </a:lnTo>
                  <a:lnTo>
                    <a:pt x="448" y="70"/>
                  </a:lnTo>
                  <a:lnTo>
                    <a:pt x="432" y="78"/>
                  </a:lnTo>
                  <a:lnTo>
                    <a:pt x="416" y="87"/>
                  </a:lnTo>
                  <a:lnTo>
                    <a:pt x="402" y="97"/>
                  </a:lnTo>
                  <a:lnTo>
                    <a:pt x="387" y="107"/>
                  </a:lnTo>
                  <a:lnTo>
                    <a:pt x="374" y="117"/>
                  </a:lnTo>
                  <a:lnTo>
                    <a:pt x="361" y="128"/>
                  </a:lnTo>
                  <a:lnTo>
                    <a:pt x="346" y="115"/>
                  </a:lnTo>
                  <a:lnTo>
                    <a:pt x="329" y="103"/>
                  </a:lnTo>
                  <a:lnTo>
                    <a:pt x="312" y="90"/>
                  </a:lnTo>
                  <a:lnTo>
                    <a:pt x="293" y="79"/>
                  </a:lnTo>
                  <a:lnTo>
                    <a:pt x="273" y="70"/>
                  </a:lnTo>
                  <a:lnTo>
                    <a:pt x="252" y="60"/>
                  </a:lnTo>
                  <a:lnTo>
                    <a:pt x="231" y="50"/>
                  </a:lnTo>
                  <a:lnTo>
                    <a:pt x="208" y="41"/>
                  </a:lnTo>
                  <a:lnTo>
                    <a:pt x="184" y="33"/>
                  </a:lnTo>
                  <a:lnTo>
                    <a:pt x="159" y="27"/>
                  </a:lnTo>
                  <a:lnTo>
                    <a:pt x="134" y="20"/>
                  </a:lnTo>
                  <a:lnTo>
                    <a:pt x="109" y="14"/>
                  </a:lnTo>
                  <a:lnTo>
                    <a:pt x="82" y="10"/>
                  </a:lnTo>
                  <a:lnTo>
                    <a:pt x="55" y="6"/>
                  </a:lnTo>
                  <a:lnTo>
                    <a:pt x="28" y="2"/>
                  </a:lnTo>
                  <a:lnTo>
                    <a:pt x="0" y="0"/>
                  </a:lnTo>
                  <a:lnTo>
                    <a:pt x="6" y="79"/>
                  </a:lnTo>
                  <a:lnTo>
                    <a:pt x="32" y="82"/>
                  </a:lnTo>
                  <a:lnTo>
                    <a:pt x="57" y="86"/>
                  </a:lnTo>
                  <a:lnTo>
                    <a:pt x="82" y="90"/>
                  </a:lnTo>
                  <a:lnTo>
                    <a:pt x="106" y="95"/>
                  </a:lnTo>
                  <a:lnTo>
                    <a:pt x="128" y="100"/>
                  </a:lnTo>
                  <a:lnTo>
                    <a:pt x="151" y="107"/>
                  </a:lnTo>
                  <a:lnTo>
                    <a:pt x="172" y="115"/>
                  </a:lnTo>
                  <a:lnTo>
                    <a:pt x="193" y="122"/>
                  </a:lnTo>
                  <a:lnTo>
                    <a:pt x="212" y="131"/>
                  </a:lnTo>
                  <a:lnTo>
                    <a:pt x="231" y="140"/>
                  </a:lnTo>
                  <a:lnTo>
                    <a:pt x="248" y="150"/>
                  </a:lnTo>
                  <a:lnTo>
                    <a:pt x="264" y="160"/>
                  </a:lnTo>
                  <a:lnTo>
                    <a:pt x="278" y="171"/>
                  </a:lnTo>
                  <a:lnTo>
                    <a:pt x="292" y="182"/>
                  </a:lnTo>
                  <a:lnTo>
                    <a:pt x="304" y="194"/>
                  </a:lnTo>
                  <a:lnTo>
                    <a:pt x="314" y="206"/>
                  </a:lnTo>
                  <a:lnTo>
                    <a:pt x="300" y="197"/>
                  </a:lnTo>
                  <a:lnTo>
                    <a:pt x="284" y="189"/>
                  </a:lnTo>
                  <a:lnTo>
                    <a:pt x="268" y="180"/>
                  </a:lnTo>
                  <a:lnTo>
                    <a:pt x="250" y="172"/>
                  </a:lnTo>
                  <a:lnTo>
                    <a:pt x="233" y="164"/>
                  </a:lnTo>
                  <a:lnTo>
                    <a:pt x="215" y="158"/>
                  </a:lnTo>
                  <a:lnTo>
                    <a:pt x="196" y="151"/>
                  </a:lnTo>
                  <a:lnTo>
                    <a:pt x="178" y="146"/>
                  </a:lnTo>
                  <a:lnTo>
                    <a:pt x="158" y="140"/>
                  </a:lnTo>
                  <a:lnTo>
                    <a:pt x="138" y="135"/>
                  </a:lnTo>
                  <a:lnTo>
                    <a:pt x="116" y="130"/>
                  </a:lnTo>
                  <a:lnTo>
                    <a:pt x="95" y="126"/>
                  </a:lnTo>
                  <a:lnTo>
                    <a:pt x="74" y="122"/>
                  </a:lnTo>
                  <a:lnTo>
                    <a:pt x="53" y="119"/>
                  </a:lnTo>
                  <a:lnTo>
                    <a:pt x="30" y="117"/>
                  </a:lnTo>
                  <a:lnTo>
                    <a:pt x="8" y="115"/>
                  </a:lnTo>
                  <a:lnTo>
                    <a:pt x="14" y="194"/>
                  </a:lnTo>
                  <a:lnTo>
                    <a:pt x="37" y="196"/>
                  </a:lnTo>
                  <a:lnTo>
                    <a:pt x="58" y="200"/>
                  </a:lnTo>
                  <a:lnTo>
                    <a:pt x="79" y="204"/>
                  </a:lnTo>
                  <a:lnTo>
                    <a:pt x="101" y="207"/>
                  </a:lnTo>
                  <a:lnTo>
                    <a:pt x="120" y="213"/>
                  </a:lnTo>
                  <a:lnTo>
                    <a:pt x="140" y="218"/>
                  </a:lnTo>
                  <a:lnTo>
                    <a:pt x="160" y="224"/>
                  </a:lnTo>
                  <a:lnTo>
                    <a:pt x="179" y="230"/>
                  </a:lnTo>
                  <a:lnTo>
                    <a:pt x="196" y="237"/>
                  </a:lnTo>
                  <a:lnTo>
                    <a:pt x="213" y="245"/>
                  </a:lnTo>
                  <a:lnTo>
                    <a:pt x="229" y="252"/>
                  </a:lnTo>
                  <a:lnTo>
                    <a:pt x="244" y="260"/>
                  </a:lnTo>
                  <a:lnTo>
                    <a:pt x="258" y="269"/>
                  </a:lnTo>
                  <a:lnTo>
                    <a:pt x="272" y="278"/>
                  </a:lnTo>
                  <a:lnTo>
                    <a:pt x="284" y="288"/>
                  </a:lnTo>
                  <a:lnTo>
                    <a:pt x="294" y="298"/>
                  </a:lnTo>
                  <a:lnTo>
                    <a:pt x="428" y="298"/>
                  </a:lnTo>
                  <a:lnTo>
                    <a:pt x="440" y="288"/>
                  </a:lnTo>
                  <a:lnTo>
                    <a:pt x="452" y="278"/>
                  </a:lnTo>
                  <a:lnTo>
                    <a:pt x="465" y="269"/>
                  </a:lnTo>
                  <a:lnTo>
                    <a:pt x="480" y="259"/>
                  </a:lnTo>
                  <a:lnTo>
                    <a:pt x="496" y="251"/>
                  </a:lnTo>
                  <a:lnTo>
                    <a:pt x="512" y="244"/>
                  </a:lnTo>
                  <a:lnTo>
                    <a:pt x="529" y="236"/>
                  </a:lnTo>
                  <a:lnTo>
                    <a:pt x="548" y="228"/>
                  </a:lnTo>
                  <a:lnTo>
                    <a:pt x="566" y="223"/>
                  </a:lnTo>
                  <a:lnTo>
                    <a:pt x="586" y="216"/>
                  </a:lnTo>
                  <a:lnTo>
                    <a:pt x="607" y="211"/>
                  </a:lnTo>
                  <a:lnTo>
                    <a:pt x="627" y="206"/>
                  </a:lnTo>
                  <a:lnTo>
                    <a:pt x="648" y="202"/>
                  </a:lnTo>
                  <a:lnTo>
                    <a:pt x="671" y="198"/>
                  </a:lnTo>
                  <a:lnTo>
                    <a:pt x="694" y="195"/>
                  </a:lnTo>
                  <a:lnTo>
                    <a:pt x="716" y="193"/>
                  </a:lnTo>
                  <a:lnTo>
                    <a:pt x="688" y="117"/>
                  </a:lnTo>
                  <a:lnTo>
                    <a:pt x="668" y="119"/>
                  </a:lnTo>
                  <a:lnTo>
                    <a:pt x="648" y="122"/>
                  </a:lnTo>
                  <a:lnTo>
                    <a:pt x="629" y="126"/>
                  </a:lnTo>
                  <a:lnTo>
                    <a:pt x="609" y="129"/>
                  </a:lnTo>
                  <a:lnTo>
                    <a:pt x="590" y="133"/>
                  </a:lnTo>
                  <a:lnTo>
                    <a:pt x="570" y="138"/>
                  </a:lnTo>
                  <a:lnTo>
                    <a:pt x="553" y="143"/>
                  </a:lnTo>
                  <a:lnTo>
                    <a:pt x="534" y="148"/>
                  </a:lnTo>
                  <a:lnTo>
                    <a:pt x="517" y="154"/>
                  </a:lnTo>
                  <a:lnTo>
                    <a:pt x="500" y="161"/>
                  </a:lnTo>
                  <a:lnTo>
                    <a:pt x="483" y="168"/>
                  </a:lnTo>
                  <a:lnTo>
                    <a:pt x="467" y="174"/>
                  </a:lnTo>
                  <a:lnTo>
                    <a:pt x="451" y="182"/>
                  </a:lnTo>
                  <a:lnTo>
                    <a:pt x="436" y="190"/>
                  </a:lnTo>
                  <a:lnTo>
                    <a:pt x="422" y="197"/>
                  </a:lnTo>
                  <a:lnTo>
                    <a:pt x="408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30520" y="3150000"/>
              <a:ext cx="220320" cy="160560"/>
            </a:xfrm>
            <a:custGeom>
              <a:avLst/>
              <a:gdLst/>
              <a:ahLst/>
              <a:rect l="l" t="t" r="r" b="b"/>
              <a:pathLst>
                <a:path w="417" h="346">
                  <a:moveTo>
                    <a:pt x="209" y="346"/>
                  </a:moveTo>
                  <a:lnTo>
                    <a:pt x="230" y="345"/>
                  </a:lnTo>
                  <a:lnTo>
                    <a:pt x="250" y="343"/>
                  </a:lnTo>
                  <a:lnTo>
                    <a:pt x="270" y="338"/>
                  </a:lnTo>
                  <a:lnTo>
                    <a:pt x="288" y="333"/>
                  </a:lnTo>
                  <a:lnTo>
                    <a:pt x="307" y="326"/>
                  </a:lnTo>
                  <a:lnTo>
                    <a:pt x="324" y="317"/>
                  </a:lnTo>
                  <a:lnTo>
                    <a:pt x="340" y="308"/>
                  </a:lnTo>
                  <a:lnTo>
                    <a:pt x="356" y="295"/>
                  </a:lnTo>
                  <a:lnTo>
                    <a:pt x="371" y="283"/>
                  </a:lnTo>
                  <a:lnTo>
                    <a:pt x="382" y="269"/>
                  </a:lnTo>
                  <a:lnTo>
                    <a:pt x="393" y="255"/>
                  </a:lnTo>
                  <a:lnTo>
                    <a:pt x="401" y="239"/>
                  </a:lnTo>
                  <a:lnTo>
                    <a:pt x="408" y="224"/>
                  </a:lnTo>
                  <a:lnTo>
                    <a:pt x="413" y="207"/>
                  </a:lnTo>
                  <a:lnTo>
                    <a:pt x="416" y="191"/>
                  </a:lnTo>
                  <a:lnTo>
                    <a:pt x="417" y="173"/>
                  </a:lnTo>
                  <a:lnTo>
                    <a:pt x="416" y="155"/>
                  </a:lnTo>
                  <a:lnTo>
                    <a:pt x="413" y="139"/>
                  </a:lnTo>
                  <a:lnTo>
                    <a:pt x="408" y="122"/>
                  </a:lnTo>
                  <a:lnTo>
                    <a:pt x="401" y="107"/>
                  </a:lnTo>
                  <a:lnTo>
                    <a:pt x="393" y="92"/>
                  </a:lnTo>
                  <a:lnTo>
                    <a:pt x="382" y="77"/>
                  </a:lnTo>
                  <a:lnTo>
                    <a:pt x="371" y="64"/>
                  </a:lnTo>
                  <a:lnTo>
                    <a:pt x="356" y="51"/>
                  </a:lnTo>
                  <a:lnTo>
                    <a:pt x="340" y="40"/>
                  </a:lnTo>
                  <a:lnTo>
                    <a:pt x="324" y="30"/>
                  </a:lnTo>
                  <a:lnTo>
                    <a:pt x="307" y="21"/>
                  </a:lnTo>
                  <a:lnTo>
                    <a:pt x="288" y="13"/>
                  </a:lnTo>
                  <a:lnTo>
                    <a:pt x="270" y="8"/>
                  </a:lnTo>
                  <a:lnTo>
                    <a:pt x="250" y="3"/>
                  </a:lnTo>
                  <a:lnTo>
                    <a:pt x="230" y="1"/>
                  </a:lnTo>
                  <a:lnTo>
                    <a:pt x="209" y="0"/>
                  </a:lnTo>
                  <a:lnTo>
                    <a:pt x="166" y="3"/>
                  </a:lnTo>
                  <a:lnTo>
                    <a:pt x="128" y="13"/>
                  </a:lnTo>
                  <a:lnTo>
                    <a:pt x="92" y="30"/>
                  </a:lnTo>
                  <a:lnTo>
                    <a:pt x="61" y="51"/>
                  </a:lnTo>
                  <a:lnTo>
                    <a:pt x="36" y="77"/>
                  </a:lnTo>
                  <a:lnTo>
                    <a:pt x="16" y="106"/>
                  </a:lnTo>
                  <a:lnTo>
                    <a:pt x="4" y="139"/>
                  </a:lnTo>
                  <a:lnTo>
                    <a:pt x="0" y="173"/>
                  </a:lnTo>
                  <a:lnTo>
                    <a:pt x="2" y="191"/>
                  </a:lnTo>
                  <a:lnTo>
                    <a:pt x="4" y="207"/>
                  </a:lnTo>
                  <a:lnTo>
                    <a:pt x="10" y="224"/>
                  </a:lnTo>
                  <a:lnTo>
                    <a:pt x="16" y="239"/>
                  </a:lnTo>
                  <a:lnTo>
                    <a:pt x="24" y="255"/>
                  </a:lnTo>
                  <a:lnTo>
                    <a:pt x="35" y="269"/>
                  </a:lnTo>
                  <a:lnTo>
                    <a:pt x="47" y="283"/>
                  </a:lnTo>
                  <a:lnTo>
                    <a:pt x="61" y="295"/>
                  </a:lnTo>
                  <a:lnTo>
                    <a:pt x="77" y="308"/>
                  </a:lnTo>
                  <a:lnTo>
                    <a:pt x="93" y="317"/>
                  </a:lnTo>
                  <a:lnTo>
                    <a:pt x="110" y="326"/>
                  </a:lnTo>
                  <a:lnTo>
                    <a:pt x="129" y="333"/>
                  </a:lnTo>
                  <a:lnTo>
                    <a:pt x="148" y="338"/>
                  </a:lnTo>
                  <a:lnTo>
                    <a:pt x="168" y="343"/>
                  </a:lnTo>
                  <a:lnTo>
                    <a:pt x="187" y="345"/>
                  </a:lnTo>
                  <a:lnTo>
                    <a:pt x="209" y="3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87400" y="3191760"/>
              <a:ext cx="106560" cy="77400"/>
            </a:xfrm>
            <a:custGeom>
              <a:avLst/>
              <a:gdLst/>
              <a:ahLst/>
              <a:rect l="l" t="t" r="r" b="b"/>
              <a:pathLst>
                <a:path w="201" h="168">
                  <a:moveTo>
                    <a:pt x="0" y="84"/>
                  </a:moveTo>
                  <a:lnTo>
                    <a:pt x="1" y="68"/>
                  </a:lnTo>
                  <a:lnTo>
                    <a:pt x="8" y="52"/>
                  </a:lnTo>
                  <a:lnTo>
                    <a:pt x="17" y="38"/>
                  </a:lnTo>
                  <a:lnTo>
                    <a:pt x="29" y="26"/>
                  </a:lnTo>
                  <a:lnTo>
                    <a:pt x="37" y="20"/>
                  </a:lnTo>
                  <a:lnTo>
                    <a:pt x="45" y="15"/>
                  </a:lnTo>
                  <a:lnTo>
                    <a:pt x="53" y="10"/>
                  </a:lnTo>
                  <a:lnTo>
                    <a:pt x="62" y="7"/>
                  </a:lnTo>
                  <a:lnTo>
                    <a:pt x="71" y="4"/>
                  </a:lnTo>
                  <a:lnTo>
                    <a:pt x="81" y="1"/>
                  </a:lnTo>
                  <a:lnTo>
                    <a:pt x="91" y="0"/>
                  </a:lnTo>
                  <a:lnTo>
                    <a:pt x="101" y="0"/>
                  </a:lnTo>
                  <a:lnTo>
                    <a:pt x="110" y="0"/>
                  </a:lnTo>
                  <a:lnTo>
                    <a:pt x="121" y="1"/>
                  </a:lnTo>
                  <a:lnTo>
                    <a:pt x="130" y="4"/>
                  </a:lnTo>
                  <a:lnTo>
                    <a:pt x="139" y="7"/>
                  </a:lnTo>
                  <a:lnTo>
                    <a:pt x="148" y="10"/>
                  </a:lnTo>
                  <a:lnTo>
                    <a:pt x="156" y="15"/>
                  </a:lnTo>
                  <a:lnTo>
                    <a:pt x="164" y="20"/>
                  </a:lnTo>
                  <a:lnTo>
                    <a:pt x="172" y="26"/>
                  </a:lnTo>
                  <a:lnTo>
                    <a:pt x="184" y="38"/>
                  </a:lnTo>
                  <a:lnTo>
                    <a:pt x="194" y="52"/>
                  </a:lnTo>
                  <a:lnTo>
                    <a:pt x="200" y="68"/>
                  </a:lnTo>
                  <a:lnTo>
                    <a:pt x="201" y="84"/>
                  </a:lnTo>
                  <a:lnTo>
                    <a:pt x="199" y="101"/>
                  </a:lnTo>
                  <a:lnTo>
                    <a:pt x="194" y="117"/>
                  </a:lnTo>
                  <a:lnTo>
                    <a:pt x="184" y="131"/>
                  </a:lnTo>
                  <a:lnTo>
                    <a:pt x="172" y="144"/>
                  </a:lnTo>
                  <a:lnTo>
                    <a:pt x="158" y="153"/>
                  </a:lnTo>
                  <a:lnTo>
                    <a:pt x="140" y="161"/>
                  </a:lnTo>
                  <a:lnTo>
                    <a:pt x="121" y="166"/>
                  </a:lnTo>
                  <a:lnTo>
                    <a:pt x="101" y="168"/>
                  </a:lnTo>
                  <a:lnTo>
                    <a:pt x="91" y="168"/>
                  </a:lnTo>
                  <a:lnTo>
                    <a:pt x="81" y="167"/>
                  </a:lnTo>
                  <a:lnTo>
                    <a:pt x="71" y="165"/>
                  </a:lnTo>
                  <a:lnTo>
                    <a:pt x="62" y="162"/>
                  </a:lnTo>
                  <a:lnTo>
                    <a:pt x="53" y="159"/>
                  </a:lnTo>
                  <a:lnTo>
                    <a:pt x="45" y="155"/>
                  </a:lnTo>
                  <a:lnTo>
                    <a:pt x="37" y="149"/>
                  </a:lnTo>
                  <a:lnTo>
                    <a:pt x="29" y="144"/>
                  </a:lnTo>
                  <a:lnTo>
                    <a:pt x="17" y="131"/>
                  </a:lnTo>
                  <a:lnTo>
                    <a:pt x="8" y="117"/>
                  </a:lnTo>
                  <a:lnTo>
                    <a:pt x="1" y="101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555560" y="3150000"/>
              <a:ext cx="220680" cy="160560"/>
            </a:xfrm>
            <a:custGeom>
              <a:avLst/>
              <a:gdLst/>
              <a:ahLst/>
              <a:rect l="l" t="t" r="r" b="b"/>
              <a:pathLst>
                <a:path w="417" h="346">
                  <a:moveTo>
                    <a:pt x="208" y="346"/>
                  </a:moveTo>
                  <a:lnTo>
                    <a:pt x="230" y="345"/>
                  </a:lnTo>
                  <a:lnTo>
                    <a:pt x="249" y="343"/>
                  </a:lnTo>
                  <a:lnTo>
                    <a:pt x="269" y="338"/>
                  </a:lnTo>
                  <a:lnTo>
                    <a:pt x="288" y="333"/>
                  </a:lnTo>
                  <a:lnTo>
                    <a:pt x="306" y="326"/>
                  </a:lnTo>
                  <a:lnTo>
                    <a:pt x="324" y="317"/>
                  </a:lnTo>
                  <a:lnTo>
                    <a:pt x="341" y="308"/>
                  </a:lnTo>
                  <a:lnTo>
                    <a:pt x="356" y="295"/>
                  </a:lnTo>
                  <a:lnTo>
                    <a:pt x="370" y="283"/>
                  </a:lnTo>
                  <a:lnTo>
                    <a:pt x="382" y="269"/>
                  </a:lnTo>
                  <a:lnTo>
                    <a:pt x="393" y="255"/>
                  </a:lnTo>
                  <a:lnTo>
                    <a:pt x="401" y="239"/>
                  </a:lnTo>
                  <a:lnTo>
                    <a:pt x="407" y="224"/>
                  </a:lnTo>
                  <a:lnTo>
                    <a:pt x="413" y="207"/>
                  </a:lnTo>
                  <a:lnTo>
                    <a:pt x="415" y="191"/>
                  </a:lnTo>
                  <a:lnTo>
                    <a:pt x="417" y="173"/>
                  </a:lnTo>
                  <a:lnTo>
                    <a:pt x="415" y="155"/>
                  </a:lnTo>
                  <a:lnTo>
                    <a:pt x="413" y="139"/>
                  </a:lnTo>
                  <a:lnTo>
                    <a:pt x="407" y="122"/>
                  </a:lnTo>
                  <a:lnTo>
                    <a:pt x="401" y="107"/>
                  </a:lnTo>
                  <a:lnTo>
                    <a:pt x="393" y="92"/>
                  </a:lnTo>
                  <a:lnTo>
                    <a:pt x="382" y="77"/>
                  </a:lnTo>
                  <a:lnTo>
                    <a:pt x="370" y="64"/>
                  </a:lnTo>
                  <a:lnTo>
                    <a:pt x="356" y="51"/>
                  </a:lnTo>
                  <a:lnTo>
                    <a:pt x="341" y="40"/>
                  </a:lnTo>
                  <a:lnTo>
                    <a:pt x="324" y="30"/>
                  </a:lnTo>
                  <a:lnTo>
                    <a:pt x="306" y="21"/>
                  </a:lnTo>
                  <a:lnTo>
                    <a:pt x="288" y="13"/>
                  </a:lnTo>
                  <a:lnTo>
                    <a:pt x="269" y="8"/>
                  </a:lnTo>
                  <a:lnTo>
                    <a:pt x="249" y="3"/>
                  </a:lnTo>
                  <a:lnTo>
                    <a:pt x="230" y="1"/>
                  </a:lnTo>
                  <a:lnTo>
                    <a:pt x="208" y="0"/>
                  </a:lnTo>
                  <a:lnTo>
                    <a:pt x="167" y="3"/>
                  </a:lnTo>
                  <a:lnTo>
                    <a:pt x="127" y="13"/>
                  </a:lnTo>
                  <a:lnTo>
                    <a:pt x="93" y="30"/>
                  </a:lnTo>
                  <a:lnTo>
                    <a:pt x="61" y="51"/>
                  </a:lnTo>
                  <a:lnTo>
                    <a:pt x="36" y="77"/>
                  </a:lnTo>
                  <a:lnTo>
                    <a:pt x="16" y="106"/>
                  </a:lnTo>
                  <a:lnTo>
                    <a:pt x="4" y="139"/>
                  </a:lnTo>
                  <a:lnTo>
                    <a:pt x="0" y="173"/>
                  </a:lnTo>
                  <a:lnTo>
                    <a:pt x="1" y="191"/>
                  </a:lnTo>
                  <a:lnTo>
                    <a:pt x="4" y="207"/>
                  </a:lnTo>
                  <a:lnTo>
                    <a:pt x="9" y="224"/>
                  </a:lnTo>
                  <a:lnTo>
                    <a:pt x="16" y="239"/>
                  </a:lnTo>
                  <a:lnTo>
                    <a:pt x="24" y="255"/>
                  </a:lnTo>
                  <a:lnTo>
                    <a:pt x="35" y="269"/>
                  </a:lnTo>
                  <a:lnTo>
                    <a:pt x="46" y="283"/>
                  </a:lnTo>
                  <a:lnTo>
                    <a:pt x="61" y="295"/>
                  </a:lnTo>
                  <a:lnTo>
                    <a:pt x="77" y="308"/>
                  </a:lnTo>
                  <a:lnTo>
                    <a:pt x="93" y="317"/>
                  </a:lnTo>
                  <a:lnTo>
                    <a:pt x="110" y="326"/>
                  </a:lnTo>
                  <a:lnTo>
                    <a:pt x="129" y="333"/>
                  </a:lnTo>
                  <a:lnTo>
                    <a:pt x="147" y="338"/>
                  </a:lnTo>
                  <a:lnTo>
                    <a:pt x="167" y="343"/>
                  </a:lnTo>
                  <a:lnTo>
                    <a:pt x="187" y="345"/>
                  </a:lnTo>
                  <a:lnTo>
                    <a:pt x="208" y="3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612800" y="3191760"/>
              <a:ext cx="106560" cy="77400"/>
            </a:xfrm>
            <a:custGeom>
              <a:avLst/>
              <a:gdLst/>
              <a:ahLst/>
              <a:rect l="l" t="t" r="r" b="b"/>
              <a:pathLst>
                <a:path w="202" h="168">
                  <a:moveTo>
                    <a:pt x="0" y="84"/>
                  </a:moveTo>
                  <a:lnTo>
                    <a:pt x="2" y="68"/>
                  </a:lnTo>
                  <a:lnTo>
                    <a:pt x="8" y="52"/>
                  </a:lnTo>
                  <a:lnTo>
                    <a:pt x="18" y="38"/>
                  </a:lnTo>
                  <a:lnTo>
                    <a:pt x="30" y="26"/>
                  </a:lnTo>
                  <a:lnTo>
                    <a:pt x="38" y="20"/>
                  </a:lnTo>
                  <a:lnTo>
                    <a:pt x="46" y="15"/>
                  </a:lnTo>
                  <a:lnTo>
                    <a:pt x="54" y="10"/>
                  </a:lnTo>
                  <a:lnTo>
                    <a:pt x="63" y="7"/>
                  </a:lnTo>
                  <a:lnTo>
                    <a:pt x="72" y="4"/>
                  </a:lnTo>
                  <a:lnTo>
                    <a:pt x="81" y="1"/>
                  </a:lnTo>
                  <a:lnTo>
                    <a:pt x="92" y="0"/>
                  </a:lnTo>
                  <a:lnTo>
                    <a:pt x="101" y="0"/>
                  </a:lnTo>
                  <a:lnTo>
                    <a:pt x="111" y="0"/>
                  </a:lnTo>
                  <a:lnTo>
                    <a:pt x="121" y="1"/>
                  </a:lnTo>
                  <a:lnTo>
                    <a:pt x="131" y="4"/>
                  </a:lnTo>
                  <a:lnTo>
                    <a:pt x="140" y="7"/>
                  </a:lnTo>
                  <a:lnTo>
                    <a:pt x="149" y="10"/>
                  </a:lnTo>
                  <a:lnTo>
                    <a:pt x="157" y="15"/>
                  </a:lnTo>
                  <a:lnTo>
                    <a:pt x="165" y="20"/>
                  </a:lnTo>
                  <a:lnTo>
                    <a:pt x="173" y="26"/>
                  </a:lnTo>
                  <a:lnTo>
                    <a:pt x="185" y="38"/>
                  </a:lnTo>
                  <a:lnTo>
                    <a:pt x="194" y="52"/>
                  </a:lnTo>
                  <a:lnTo>
                    <a:pt x="201" y="68"/>
                  </a:lnTo>
                  <a:lnTo>
                    <a:pt x="202" y="84"/>
                  </a:lnTo>
                  <a:lnTo>
                    <a:pt x="199" y="101"/>
                  </a:lnTo>
                  <a:lnTo>
                    <a:pt x="194" y="117"/>
                  </a:lnTo>
                  <a:lnTo>
                    <a:pt x="185" y="131"/>
                  </a:lnTo>
                  <a:lnTo>
                    <a:pt x="173" y="144"/>
                  </a:lnTo>
                  <a:lnTo>
                    <a:pt x="158" y="153"/>
                  </a:lnTo>
                  <a:lnTo>
                    <a:pt x="141" y="161"/>
                  </a:lnTo>
                  <a:lnTo>
                    <a:pt x="121" y="166"/>
                  </a:lnTo>
                  <a:lnTo>
                    <a:pt x="101" y="168"/>
                  </a:lnTo>
                  <a:lnTo>
                    <a:pt x="92" y="168"/>
                  </a:lnTo>
                  <a:lnTo>
                    <a:pt x="81" y="167"/>
                  </a:lnTo>
                  <a:lnTo>
                    <a:pt x="72" y="165"/>
                  </a:lnTo>
                  <a:lnTo>
                    <a:pt x="63" y="162"/>
                  </a:lnTo>
                  <a:lnTo>
                    <a:pt x="54" y="159"/>
                  </a:lnTo>
                  <a:lnTo>
                    <a:pt x="46" y="155"/>
                  </a:lnTo>
                  <a:lnTo>
                    <a:pt x="38" y="149"/>
                  </a:lnTo>
                  <a:lnTo>
                    <a:pt x="30" y="144"/>
                  </a:lnTo>
                  <a:lnTo>
                    <a:pt x="18" y="131"/>
                  </a:lnTo>
                  <a:lnTo>
                    <a:pt x="8" y="117"/>
                  </a:lnTo>
                  <a:lnTo>
                    <a:pt x="2" y="101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27360" y="3220920"/>
              <a:ext cx="28440" cy="20520"/>
            </a:xfrm>
            <a:custGeom>
              <a:avLst/>
              <a:gdLst/>
              <a:ahLst/>
              <a:rect l="l" t="t" r="r" b="b"/>
              <a:pathLst>
                <a:path w="56" h="45">
                  <a:moveTo>
                    <a:pt x="28" y="45"/>
                  </a:moveTo>
                  <a:lnTo>
                    <a:pt x="38" y="43"/>
                  </a:lnTo>
                  <a:lnTo>
                    <a:pt x="48" y="39"/>
                  </a:lnTo>
                  <a:lnTo>
                    <a:pt x="53" y="31"/>
                  </a:lnTo>
                  <a:lnTo>
                    <a:pt x="56" y="22"/>
                  </a:lnTo>
                  <a:lnTo>
                    <a:pt x="53" y="13"/>
                  </a:lnTo>
                  <a:lnTo>
                    <a:pt x="48" y="7"/>
                  </a:lnTo>
                  <a:lnTo>
                    <a:pt x="38" y="2"/>
                  </a:lnTo>
                  <a:lnTo>
                    <a:pt x="28" y="0"/>
                  </a:lnTo>
                  <a:lnTo>
                    <a:pt x="17" y="2"/>
                  </a:lnTo>
                  <a:lnTo>
                    <a:pt x="8" y="7"/>
                  </a:lnTo>
                  <a:lnTo>
                    <a:pt x="2" y="13"/>
                  </a:lnTo>
                  <a:lnTo>
                    <a:pt x="0" y="22"/>
                  </a:lnTo>
                  <a:lnTo>
                    <a:pt x="2" y="31"/>
                  </a:lnTo>
                  <a:lnTo>
                    <a:pt x="8" y="39"/>
                  </a:lnTo>
                  <a:lnTo>
                    <a:pt x="17" y="43"/>
                  </a:lnTo>
                  <a:lnTo>
                    <a:pt x="2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650960" y="3220920"/>
              <a:ext cx="30240" cy="20520"/>
            </a:xfrm>
            <a:custGeom>
              <a:avLst/>
              <a:gdLst/>
              <a:ahLst/>
              <a:rect l="l" t="t" r="r" b="b"/>
              <a:pathLst>
                <a:path w="56" h="45">
                  <a:moveTo>
                    <a:pt x="28" y="45"/>
                  </a:moveTo>
                  <a:lnTo>
                    <a:pt x="39" y="43"/>
                  </a:lnTo>
                  <a:lnTo>
                    <a:pt x="48" y="39"/>
                  </a:lnTo>
                  <a:lnTo>
                    <a:pt x="54" y="31"/>
                  </a:lnTo>
                  <a:lnTo>
                    <a:pt x="56" y="22"/>
                  </a:lnTo>
                  <a:lnTo>
                    <a:pt x="54" y="13"/>
                  </a:lnTo>
                  <a:lnTo>
                    <a:pt x="48" y="7"/>
                  </a:lnTo>
                  <a:lnTo>
                    <a:pt x="39" y="2"/>
                  </a:lnTo>
                  <a:lnTo>
                    <a:pt x="28" y="0"/>
                  </a:lnTo>
                  <a:lnTo>
                    <a:pt x="18" y="2"/>
                  </a:lnTo>
                  <a:lnTo>
                    <a:pt x="8" y="7"/>
                  </a:lnTo>
                  <a:lnTo>
                    <a:pt x="3" y="13"/>
                  </a:lnTo>
                  <a:lnTo>
                    <a:pt x="0" y="22"/>
                  </a:lnTo>
                  <a:lnTo>
                    <a:pt x="3" y="31"/>
                  </a:lnTo>
                  <a:lnTo>
                    <a:pt x="8" y="39"/>
                  </a:lnTo>
                  <a:lnTo>
                    <a:pt x="18" y="43"/>
                  </a:lnTo>
                  <a:lnTo>
                    <a:pt x="2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920880" y="2205000"/>
            <a:ext cx="1368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able 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6865560" y="2565360"/>
            <a:ext cx="803520" cy="1004400"/>
            <a:chOff x="6865560" y="2565360"/>
            <a:chExt cx="803520" cy="1004400"/>
          </a:xfrm>
        </p:grpSpPr>
        <p:sp>
          <p:nvSpPr>
            <p:cNvPr id="236" name=""/>
            <p:cNvSpPr/>
            <p:nvPr/>
          </p:nvSpPr>
          <p:spPr>
            <a:xfrm>
              <a:off x="7057800" y="3128040"/>
              <a:ext cx="611280" cy="441720"/>
            </a:xfrm>
            <a:custGeom>
              <a:avLst/>
              <a:gdLst/>
              <a:ahLst/>
              <a:rect l="l" t="t" r="r" b="b"/>
              <a:pathLst>
                <a:path w="1154" h="956">
                  <a:moveTo>
                    <a:pt x="577" y="0"/>
                  </a:moveTo>
                  <a:lnTo>
                    <a:pt x="635" y="2"/>
                  </a:lnTo>
                  <a:lnTo>
                    <a:pt x="694" y="10"/>
                  </a:lnTo>
                  <a:lnTo>
                    <a:pt x="748" y="21"/>
                  </a:lnTo>
                  <a:lnTo>
                    <a:pt x="801" y="37"/>
                  </a:lnTo>
                  <a:lnTo>
                    <a:pt x="852" y="57"/>
                  </a:lnTo>
                  <a:lnTo>
                    <a:pt x="899" y="81"/>
                  </a:lnTo>
                  <a:lnTo>
                    <a:pt x="944" y="109"/>
                  </a:lnTo>
                  <a:lnTo>
                    <a:pt x="986" y="140"/>
                  </a:lnTo>
                  <a:lnTo>
                    <a:pt x="1023" y="174"/>
                  </a:lnTo>
                  <a:lnTo>
                    <a:pt x="1056" y="210"/>
                  </a:lnTo>
                  <a:lnTo>
                    <a:pt x="1084" y="250"/>
                  </a:lnTo>
                  <a:lnTo>
                    <a:pt x="1109" y="292"/>
                  </a:lnTo>
                  <a:lnTo>
                    <a:pt x="1127" y="335"/>
                  </a:lnTo>
                  <a:lnTo>
                    <a:pt x="1142" y="381"/>
                  </a:lnTo>
                  <a:lnTo>
                    <a:pt x="1151" y="428"/>
                  </a:lnTo>
                  <a:lnTo>
                    <a:pt x="1154" y="477"/>
                  </a:lnTo>
                  <a:lnTo>
                    <a:pt x="1151" y="526"/>
                  </a:lnTo>
                  <a:lnTo>
                    <a:pt x="1142" y="574"/>
                  </a:lnTo>
                  <a:lnTo>
                    <a:pt x="1127" y="620"/>
                  </a:lnTo>
                  <a:lnTo>
                    <a:pt x="1109" y="664"/>
                  </a:lnTo>
                  <a:lnTo>
                    <a:pt x="1084" y="706"/>
                  </a:lnTo>
                  <a:lnTo>
                    <a:pt x="1056" y="746"/>
                  </a:lnTo>
                  <a:lnTo>
                    <a:pt x="1023" y="782"/>
                  </a:lnTo>
                  <a:lnTo>
                    <a:pt x="986" y="816"/>
                  </a:lnTo>
                  <a:lnTo>
                    <a:pt x="944" y="847"/>
                  </a:lnTo>
                  <a:lnTo>
                    <a:pt x="899" y="874"/>
                  </a:lnTo>
                  <a:lnTo>
                    <a:pt x="852" y="899"/>
                  </a:lnTo>
                  <a:lnTo>
                    <a:pt x="801" y="919"/>
                  </a:lnTo>
                  <a:lnTo>
                    <a:pt x="748" y="935"/>
                  </a:lnTo>
                  <a:lnTo>
                    <a:pt x="694" y="946"/>
                  </a:lnTo>
                  <a:lnTo>
                    <a:pt x="635" y="954"/>
                  </a:lnTo>
                  <a:lnTo>
                    <a:pt x="577" y="956"/>
                  </a:lnTo>
                  <a:lnTo>
                    <a:pt x="519" y="954"/>
                  </a:lnTo>
                  <a:lnTo>
                    <a:pt x="460" y="946"/>
                  </a:lnTo>
                  <a:lnTo>
                    <a:pt x="406" y="935"/>
                  </a:lnTo>
                  <a:lnTo>
                    <a:pt x="353" y="919"/>
                  </a:lnTo>
                  <a:lnTo>
                    <a:pt x="302" y="899"/>
                  </a:lnTo>
                  <a:lnTo>
                    <a:pt x="255" y="874"/>
                  </a:lnTo>
                  <a:lnTo>
                    <a:pt x="209" y="847"/>
                  </a:lnTo>
                  <a:lnTo>
                    <a:pt x="170" y="816"/>
                  </a:lnTo>
                  <a:lnTo>
                    <a:pt x="131" y="782"/>
                  </a:lnTo>
                  <a:lnTo>
                    <a:pt x="98" y="746"/>
                  </a:lnTo>
                  <a:lnTo>
                    <a:pt x="70" y="706"/>
                  </a:lnTo>
                  <a:lnTo>
                    <a:pt x="45" y="664"/>
                  </a:lnTo>
                  <a:lnTo>
                    <a:pt x="26" y="620"/>
                  </a:lnTo>
                  <a:lnTo>
                    <a:pt x="12" y="574"/>
                  </a:lnTo>
                  <a:lnTo>
                    <a:pt x="2" y="526"/>
                  </a:lnTo>
                  <a:lnTo>
                    <a:pt x="0" y="477"/>
                  </a:lnTo>
                  <a:lnTo>
                    <a:pt x="2" y="428"/>
                  </a:lnTo>
                  <a:lnTo>
                    <a:pt x="12" y="381"/>
                  </a:lnTo>
                  <a:lnTo>
                    <a:pt x="26" y="335"/>
                  </a:lnTo>
                  <a:lnTo>
                    <a:pt x="45" y="292"/>
                  </a:lnTo>
                  <a:lnTo>
                    <a:pt x="70" y="250"/>
                  </a:lnTo>
                  <a:lnTo>
                    <a:pt x="98" y="210"/>
                  </a:lnTo>
                  <a:lnTo>
                    <a:pt x="131" y="174"/>
                  </a:lnTo>
                  <a:lnTo>
                    <a:pt x="170" y="140"/>
                  </a:lnTo>
                  <a:lnTo>
                    <a:pt x="209" y="109"/>
                  </a:lnTo>
                  <a:lnTo>
                    <a:pt x="255" y="81"/>
                  </a:lnTo>
                  <a:lnTo>
                    <a:pt x="302" y="57"/>
                  </a:lnTo>
                  <a:lnTo>
                    <a:pt x="353" y="37"/>
                  </a:lnTo>
                  <a:lnTo>
                    <a:pt x="406" y="21"/>
                  </a:lnTo>
                  <a:lnTo>
                    <a:pt x="460" y="10"/>
                  </a:lnTo>
                  <a:lnTo>
                    <a:pt x="519" y="2"/>
                  </a:lnTo>
                  <a:lnTo>
                    <a:pt x="577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026120" y="3060360"/>
              <a:ext cx="453960" cy="439200"/>
            </a:xfrm>
            <a:custGeom>
              <a:avLst/>
              <a:gdLst/>
              <a:ahLst/>
              <a:rect l="l" t="t" r="r" b="b"/>
              <a:pathLst>
                <a:path w="859" h="949">
                  <a:moveTo>
                    <a:pt x="391" y="134"/>
                  </a:moveTo>
                  <a:lnTo>
                    <a:pt x="382" y="133"/>
                  </a:lnTo>
                  <a:lnTo>
                    <a:pt x="373" y="134"/>
                  </a:lnTo>
                  <a:lnTo>
                    <a:pt x="363" y="137"/>
                  </a:lnTo>
                  <a:lnTo>
                    <a:pt x="355" y="140"/>
                  </a:lnTo>
                  <a:lnTo>
                    <a:pt x="349" y="144"/>
                  </a:lnTo>
                  <a:lnTo>
                    <a:pt x="342" y="151"/>
                  </a:lnTo>
                  <a:lnTo>
                    <a:pt x="338" y="158"/>
                  </a:lnTo>
                  <a:lnTo>
                    <a:pt x="334" y="165"/>
                  </a:lnTo>
                  <a:lnTo>
                    <a:pt x="333" y="173"/>
                  </a:lnTo>
                  <a:lnTo>
                    <a:pt x="334" y="181"/>
                  </a:lnTo>
                  <a:lnTo>
                    <a:pt x="337" y="188"/>
                  </a:lnTo>
                  <a:lnTo>
                    <a:pt x="341" y="195"/>
                  </a:lnTo>
                  <a:lnTo>
                    <a:pt x="346" y="201"/>
                  </a:lnTo>
                  <a:lnTo>
                    <a:pt x="354" y="206"/>
                  </a:lnTo>
                  <a:lnTo>
                    <a:pt x="362" y="209"/>
                  </a:lnTo>
                  <a:lnTo>
                    <a:pt x="371" y="213"/>
                  </a:lnTo>
                  <a:lnTo>
                    <a:pt x="410" y="222"/>
                  </a:lnTo>
                  <a:lnTo>
                    <a:pt x="448" y="233"/>
                  </a:lnTo>
                  <a:lnTo>
                    <a:pt x="484" y="246"/>
                  </a:lnTo>
                  <a:lnTo>
                    <a:pt x="518" y="261"/>
                  </a:lnTo>
                  <a:lnTo>
                    <a:pt x="550" y="279"/>
                  </a:lnTo>
                  <a:lnTo>
                    <a:pt x="582" y="299"/>
                  </a:lnTo>
                  <a:lnTo>
                    <a:pt x="610" y="321"/>
                  </a:lnTo>
                  <a:lnTo>
                    <a:pt x="638" y="344"/>
                  </a:lnTo>
                  <a:lnTo>
                    <a:pt x="662" y="369"/>
                  </a:lnTo>
                  <a:lnTo>
                    <a:pt x="684" y="396"/>
                  </a:lnTo>
                  <a:lnTo>
                    <a:pt x="704" y="423"/>
                  </a:lnTo>
                  <a:lnTo>
                    <a:pt x="721" y="453"/>
                  </a:lnTo>
                  <a:lnTo>
                    <a:pt x="736" y="483"/>
                  </a:lnTo>
                  <a:lnTo>
                    <a:pt x="747" y="514"/>
                  </a:lnTo>
                  <a:lnTo>
                    <a:pt x="756" y="545"/>
                  </a:lnTo>
                  <a:lnTo>
                    <a:pt x="761" y="579"/>
                  </a:lnTo>
                  <a:lnTo>
                    <a:pt x="587" y="579"/>
                  </a:lnTo>
                  <a:lnTo>
                    <a:pt x="587" y="729"/>
                  </a:lnTo>
                  <a:lnTo>
                    <a:pt x="560" y="726"/>
                  </a:lnTo>
                  <a:lnTo>
                    <a:pt x="534" y="721"/>
                  </a:lnTo>
                  <a:lnTo>
                    <a:pt x="509" y="712"/>
                  </a:lnTo>
                  <a:lnTo>
                    <a:pt x="487" y="701"/>
                  </a:lnTo>
                  <a:lnTo>
                    <a:pt x="465" y="688"/>
                  </a:lnTo>
                  <a:lnTo>
                    <a:pt x="447" y="672"/>
                  </a:lnTo>
                  <a:lnTo>
                    <a:pt x="430" y="655"/>
                  </a:lnTo>
                  <a:lnTo>
                    <a:pt x="416" y="635"/>
                  </a:lnTo>
                  <a:lnTo>
                    <a:pt x="411" y="628"/>
                  </a:lnTo>
                  <a:lnTo>
                    <a:pt x="404" y="623"/>
                  </a:lnTo>
                  <a:lnTo>
                    <a:pt x="398" y="618"/>
                  </a:lnTo>
                  <a:lnTo>
                    <a:pt x="388" y="615"/>
                  </a:lnTo>
                  <a:lnTo>
                    <a:pt x="381" y="613"/>
                  </a:lnTo>
                  <a:lnTo>
                    <a:pt x="371" y="613"/>
                  </a:lnTo>
                  <a:lnTo>
                    <a:pt x="362" y="614"/>
                  </a:lnTo>
                  <a:lnTo>
                    <a:pt x="353" y="616"/>
                  </a:lnTo>
                  <a:lnTo>
                    <a:pt x="338" y="626"/>
                  </a:lnTo>
                  <a:lnTo>
                    <a:pt x="329" y="639"/>
                  </a:lnTo>
                  <a:lnTo>
                    <a:pt x="326" y="655"/>
                  </a:lnTo>
                  <a:lnTo>
                    <a:pt x="331" y="669"/>
                  </a:lnTo>
                  <a:lnTo>
                    <a:pt x="331" y="669"/>
                  </a:lnTo>
                  <a:lnTo>
                    <a:pt x="341" y="684"/>
                  </a:lnTo>
                  <a:lnTo>
                    <a:pt x="351" y="699"/>
                  </a:lnTo>
                  <a:lnTo>
                    <a:pt x="363" y="713"/>
                  </a:lnTo>
                  <a:lnTo>
                    <a:pt x="377" y="725"/>
                  </a:lnTo>
                  <a:lnTo>
                    <a:pt x="390" y="737"/>
                  </a:lnTo>
                  <a:lnTo>
                    <a:pt x="404" y="749"/>
                  </a:lnTo>
                  <a:lnTo>
                    <a:pt x="420" y="759"/>
                  </a:lnTo>
                  <a:lnTo>
                    <a:pt x="436" y="768"/>
                  </a:lnTo>
                  <a:lnTo>
                    <a:pt x="453" y="777"/>
                  </a:lnTo>
                  <a:lnTo>
                    <a:pt x="471" y="785"/>
                  </a:lnTo>
                  <a:lnTo>
                    <a:pt x="489" y="791"/>
                  </a:lnTo>
                  <a:lnTo>
                    <a:pt x="508" y="797"/>
                  </a:lnTo>
                  <a:lnTo>
                    <a:pt x="526" y="801"/>
                  </a:lnTo>
                  <a:lnTo>
                    <a:pt x="546" y="806"/>
                  </a:lnTo>
                  <a:lnTo>
                    <a:pt x="568" y="808"/>
                  </a:lnTo>
                  <a:lnTo>
                    <a:pt x="587" y="809"/>
                  </a:lnTo>
                  <a:lnTo>
                    <a:pt x="587" y="869"/>
                  </a:lnTo>
                  <a:lnTo>
                    <a:pt x="95" y="869"/>
                  </a:lnTo>
                  <a:lnTo>
                    <a:pt x="95" y="203"/>
                  </a:lnTo>
                  <a:lnTo>
                    <a:pt x="251" y="203"/>
                  </a:lnTo>
                  <a:lnTo>
                    <a:pt x="160" y="24"/>
                  </a:lnTo>
                  <a:lnTo>
                    <a:pt x="155" y="18"/>
                  </a:lnTo>
                  <a:lnTo>
                    <a:pt x="150" y="11"/>
                  </a:lnTo>
                  <a:lnTo>
                    <a:pt x="142" y="7"/>
                  </a:lnTo>
                  <a:lnTo>
                    <a:pt x="134" y="3"/>
                  </a:lnTo>
                  <a:lnTo>
                    <a:pt x="126" y="1"/>
                  </a:lnTo>
                  <a:lnTo>
                    <a:pt x="117" y="0"/>
                  </a:lnTo>
                  <a:lnTo>
                    <a:pt x="107" y="1"/>
                  </a:lnTo>
                  <a:lnTo>
                    <a:pt x="98" y="3"/>
                  </a:lnTo>
                  <a:lnTo>
                    <a:pt x="82" y="12"/>
                  </a:lnTo>
                  <a:lnTo>
                    <a:pt x="73" y="25"/>
                  </a:lnTo>
                  <a:lnTo>
                    <a:pt x="69" y="40"/>
                  </a:lnTo>
                  <a:lnTo>
                    <a:pt x="73" y="55"/>
                  </a:lnTo>
                  <a:lnTo>
                    <a:pt x="73" y="55"/>
                  </a:lnTo>
                  <a:lnTo>
                    <a:pt x="107" y="123"/>
                  </a:lnTo>
                  <a:lnTo>
                    <a:pt x="0" y="123"/>
                  </a:lnTo>
                  <a:lnTo>
                    <a:pt x="0" y="949"/>
                  </a:lnTo>
                  <a:lnTo>
                    <a:pt x="683" y="948"/>
                  </a:lnTo>
                  <a:lnTo>
                    <a:pt x="683" y="658"/>
                  </a:lnTo>
                  <a:lnTo>
                    <a:pt x="859" y="658"/>
                  </a:lnTo>
                  <a:lnTo>
                    <a:pt x="859" y="618"/>
                  </a:lnTo>
                  <a:lnTo>
                    <a:pt x="857" y="575"/>
                  </a:lnTo>
                  <a:lnTo>
                    <a:pt x="850" y="533"/>
                  </a:lnTo>
                  <a:lnTo>
                    <a:pt x="840" y="493"/>
                  </a:lnTo>
                  <a:lnTo>
                    <a:pt x="825" y="453"/>
                  </a:lnTo>
                  <a:lnTo>
                    <a:pt x="805" y="414"/>
                  </a:lnTo>
                  <a:lnTo>
                    <a:pt x="783" y="377"/>
                  </a:lnTo>
                  <a:lnTo>
                    <a:pt x="756" y="343"/>
                  </a:lnTo>
                  <a:lnTo>
                    <a:pt x="727" y="309"/>
                  </a:lnTo>
                  <a:lnTo>
                    <a:pt x="694" y="278"/>
                  </a:lnTo>
                  <a:lnTo>
                    <a:pt x="658" y="249"/>
                  </a:lnTo>
                  <a:lnTo>
                    <a:pt x="619" y="223"/>
                  </a:lnTo>
                  <a:lnTo>
                    <a:pt x="578" y="200"/>
                  </a:lnTo>
                  <a:lnTo>
                    <a:pt x="534" y="179"/>
                  </a:lnTo>
                  <a:lnTo>
                    <a:pt x="489" y="160"/>
                  </a:lnTo>
                  <a:lnTo>
                    <a:pt x="442" y="146"/>
                  </a:lnTo>
                  <a:lnTo>
                    <a:pt x="391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61120" y="2953440"/>
              <a:ext cx="39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103880" y="3007440"/>
              <a:ext cx="152280" cy="90000"/>
            </a:xfrm>
            <a:custGeom>
              <a:avLst/>
              <a:gdLst/>
              <a:ahLst/>
              <a:rect l="l" t="t" r="r" b="b"/>
              <a:pathLst>
                <a:path w="288" h="196">
                  <a:moveTo>
                    <a:pt x="106" y="63"/>
                  </a:moveTo>
                  <a:lnTo>
                    <a:pt x="0" y="63"/>
                  </a:lnTo>
                  <a:lnTo>
                    <a:pt x="145" y="196"/>
                  </a:lnTo>
                  <a:lnTo>
                    <a:pt x="288" y="63"/>
                  </a:lnTo>
                  <a:lnTo>
                    <a:pt x="183" y="63"/>
                  </a:lnTo>
                  <a:lnTo>
                    <a:pt x="183" y="0"/>
                  </a:lnTo>
                  <a:lnTo>
                    <a:pt x="106" y="0"/>
                  </a:lnTo>
                  <a:lnTo>
                    <a:pt x="10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46560" y="2723400"/>
              <a:ext cx="195480" cy="51120"/>
            </a:xfrm>
            <a:custGeom>
              <a:avLst/>
              <a:gdLst/>
              <a:ahLst/>
              <a:rect l="l" t="t" r="r" b="b"/>
              <a:pathLst>
                <a:path w="369" h="110">
                  <a:moveTo>
                    <a:pt x="358" y="75"/>
                  </a:moveTo>
                  <a:lnTo>
                    <a:pt x="358" y="75"/>
                  </a:lnTo>
                  <a:lnTo>
                    <a:pt x="341" y="66"/>
                  </a:lnTo>
                  <a:lnTo>
                    <a:pt x="324" y="57"/>
                  </a:lnTo>
                  <a:lnTo>
                    <a:pt x="305" y="49"/>
                  </a:lnTo>
                  <a:lnTo>
                    <a:pt x="286" y="43"/>
                  </a:lnTo>
                  <a:lnTo>
                    <a:pt x="267" y="36"/>
                  </a:lnTo>
                  <a:lnTo>
                    <a:pt x="247" y="29"/>
                  </a:lnTo>
                  <a:lnTo>
                    <a:pt x="225" y="24"/>
                  </a:lnTo>
                  <a:lnTo>
                    <a:pt x="205" y="18"/>
                  </a:lnTo>
                  <a:lnTo>
                    <a:pt x="183" y="14"/>
                  </a:lnTo>
                  <a:lnTo>
                    <a:pt x="162" y="11"/>
                  </a:lnTo>
                  <a:lnTo>
                    <a:pt x="139" y="7"/>
                  </a:lnTo>
                  <a:lnTo>
                    <a:pt x="117" y="4"/>
                  </a:lnTo>
                  <a:lnTo>
                    <a:pt x="94" y="3"/>
                  </a:lnTo>
                  <a:lnTo>
                    <a:pt x="70" y="1"/>
                  </a:lnTo>
                  <a:lnTo>
                    <a:pt x="48" y="0"/>
                  </a:lnTo>
                  <a:lnTo>
                    <a:pt x="24" y="0"/>
                  </a:lnTo>
                  <a:lnTo>
                    <a:pt x="14" y="1"/>
                  </a:lnTo>
                  <a:lnTo>
                    <a:pt x="6" y="5"/>
                  </a:lnTo>
                  <a:lnTo>
                    <a:pt x="1" y="12"/>
                  </a:lnTo>
                  <a:lnTo>
                    <a:pt x="0" y="20"/>
                  </a:lnTo>
                  <a:lnTo>
                    <a:pt x="1" y="27"/>
                  </a:lnTo>
                  <a:lnTo>
                    <a:pt x="6" y="34"/>
                  </a:lnTo>
                  <a:lnTo>
                    <a:pt x="14" y="38"/>
                  </a:lnTo>
                  <a:lnTo>
                    <a:pt x="24" y="39"/>
                  </a:lnTo>
                  <a:lnTo>
                    <a:pt x="45" y="39"/>
                  </a:lnTo>
                  <a:lnTo>
                    <a:pt x="66" y="40"/>
                  </a:lnTo>
                  <a:lnTo>
                    <a:pt x="89" y="42"/>
                  </a:lnTo>
                  <a:lnTo>
                    <a:pt x="110" y="44"/>
                  </a:lnTo>
                  <a:lnTo>
                    <a:pt x="130" y="47"/>
                  </a:lnTo>
                  <a:lnTo>
                    <a:pt x="151" y="49"/>
                  </a:lnTo>
                  <a:lnTo>
                    <a:pt x="171" y="54"/>
                  </a:lnTo>
                  <a:lnTo>
                    <a:pt x="191" y="57"/>
                  </a:lnTo>
                  <a:lnTo>
                    <a:pt x="211" y="62"/>
                  </a:lnTo>
                  <a:lnTo>
                    <a:pt x="229" y="67"/>
                  </a:lnTo>
                  <a:lnTo>
                    <a:pt x="248" y="72"/>
                  </a:lnTo>
                  <a:lnTo>
                    <a:pt x="267" y="79"/>
                  </a:lnTo>
                  <a:lnTo>
                    <a:pt x="284" y="86"/>
                  </a:lnTo>
                  <a:lnTo>
                    <a:pt x="301" y="92"/>
                  </a:lnTo>
                  <a:lnTo>
                    <a:pt x="317" y="100"/>
                  </a:lnTo>
                  <a:lnTo>
                    <a:pt x="333" y="108"/>
                  </a:lnTo>
                  <a:lnTo>
                    <a:pt x="341" y="110"/>
                  </a:lnTo>
                  <a:lnTo>
                    <a:pt x="350" y="110"/>
                  </a:lnTo>
                  <a:lnTo>
                    <a:pt x="358" y="108"/>
                  </a:lnTo>
                  <a:lnTo>
                    <a:pt x="365" y="102"/>
                  </a:lnTo>
                  <a:lnTo>
                    <a:pt x="369" y="94"/>
                  </a:lnTo>
                  <a:lnTo>
                    <a:pt x="369" y="87"/>
                  </a:lnTo>
                  <a:lnTo>
                    <a:pt x="365" y="80"/>
                  </a:lnTo>
                  <a:lnTo>
                    <a:pt x="358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215120" y="2659320"/>
              <a:ext cx="198360" cy="51120"/>
            </a:xfrm>
            <a:custGeom>
              <a:avLst/>
              <a:gdLst/>
              <a:ahLst/>
              <a:rect l="l" t="t" r="r" b="b"/>
              <a:pathLst>
                <a:path w="375" h="113">
                  <a:moveTo>
                    <a:pt x="37" y="110"/>
                  </a:moveTo>
                  <a:lnTo>
                    <a:pt x="37" y="110"/>
                  </a:lnTo>
                  <a:lnTo>
                    <a:pt x="53" y="102"/>
                  </a:lnTo>
                  <a:lnTo>
                    <a:pt x="69" y="93"/>
                  </a:lnTo>
                  <a:lnTo>
                    <a:pt x="85" y="87"/>
                  </a:lnTo>
                  <a:lnTo>
                    <a:pt x="103" y="80"/>
                  </a:lnTo>
                  <a:lnTo>
                    <a:pt x="120" y="74"/>
                  </a:lnTo>
                  <a:lnTo>
                    <a:pt x="140" y="68"/>
                  </a:lnTo>
                  <a:lnTo>
                    <a:pt x="159" y="63"/>
                  </a:lnTo>
                  <a:lnTo>
                    <a:pt x="179" y="58"/>
                  </a:lnTo>
                  <a:lnTo>
                    <a:pt x="200" y="54"/>
                  </a:lnTo>
                  <a:lnTo>
                    <a:pt x="220" y="49"/>
                  </a:lnTo>
                  <a:lnTo>
                    <a:pt x="241" y="47"/>
                  </a:lnTo>
                  <a:lnTo>
                    <a:pt x="262" y="44"/>
                  </a:lnTo>
                  <a:lnTo>
                    <a:pt x="285" y="42"/>
                  </a:lnTo>
                  <a:lnTo>
                    <a:pt x="306" y="41"/>
                  </a:lnTo>
                  <a:lnTo>
                    <a:pt x="329" y="39"/>
                  </a:lnTo>
                  <a:lnTo>
                    <a:pt x="351" y="39"/>
                  </a:lnTo>
                  <a:lnTo>
                    <a:pt x="360" y="38"/>
                  </a:lnTo>
                  <a:lnTo>
                    <a:pt x="368" y="34"/>
                  </a:lnTo>
                  <a:lnTo>
                    <a:pt x="374" y="27"/>
                  </a:lnTo>
                  <a:lnTo>
                    <a:pt x="375" y="20"/>
                  </a:lnTo>
                  <a:lnTo>
                    <a:pt x="374" y="12"/>
                  </a:lnTo>
                  <a:lnTo>
                    <a:pt x="368" y="5"/>
                  </a:lnTo>
                  <a:lnTo>
                    <a:pt x="360" y="1"/>
                  </a:lnTo>
                  <a:lnTo>
                    <a:pt x="351" y="0"/>
                  </a:lnTo>
                  <a:lnTo>
                    <a:pt x="327" y="0"/>
                  </a:lnTo>
                  <a:lnTo>
                    <a:pt x="303" y="1"/>
                  </a:lnTo>
                  <a:lnTo>
                    <a:pt x="280" y="3"/>
                  </a:lnTo>
                  <a:lnTo>
                    <a:pt x="256" y="5"/>
                  </a:lnTo>
                  <a:lnTo>
                    <a:pt x="233" y="7"/>
                  </a:lnTo>
                  <a:lnTo>
                    <a:pt x="209" y="12"/>
                  </a:lnTo>
                  <a:lnTo>
                    <a:pt x="187" y="15"/>
                  </a:lnTo>
                  <a:lnTo>
                    <a:pt x="165" y="21"/>
                  </a:lnTo>
                  <a:lnTo>
                    <a:pt x="143" y="25"/>
                  </a:lnTo>
                  <a:lnTo>
                    <a:pt x="123" y="32"/>
                  </a:lnTo>
                  <a:lnTo>
                    <a:pt x="102" y="38"/>
                  </a:lnTo>
                  <a:lnTo>
                    <a:pt x="82" y="45"/>
                  </a:lnTo>
                  <a:lnTo>
                    <a:pt x="62" y="53"/>
                  </a:lnTo>
                  <a:lnTo>
                    <a:pt x="43" y="60"/>
                  </a:lnTo>
                  <a:lnTo>
                    <a:pt x="26" y="69"/>
                  </a:lnTo>
                  <a:lnTo>
                    <a:pt x="9" y="78"/>
                  </a:lnTo>
                  <a:lnTo>
                    <a:pt x="2" y="83"/>
                  </a:lnTo>
                  <a:lnTo>
                    <a:pt x="0" y="90"/>
                  </a:lnTo>
                  <a:lnTo>
                    <a:pt x="0" y="98"/>
                  </a:lnTo>
                  <a:lnTo>
                    <a:pt x="4" y="106"/>
                  </a:lnTo>
                  <a:lnTo>
                    <a:pt x="10" y="111"/>
                  </a:lnTo>
                  <a:lnTo>
                    <a:pt x="18" y="113"/>
                  </a:lnTo>
                  <a:lnTo>
                    <a:pt x="27" y="113"/>
                  </a:lnTo>
                  <a:lnTo>
                    <a:pt x="37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218000" y="2723400"/>
              <a:ext cx="195480" cy="51120"/>
            </a:xfrm>
            <a:custGeom>
              <a:avLst/>
              <a:gdLst/>
              <a:ahLst/>
              <a:rect l="l" t="t" r="r" b="b"/>
              <a:pathLst>
                <a:path w="369" h="110">
                  <a:moveTo>
                    <a:pt x="345" y="0"/>
                  </a:moveTo>
                  <a:lnTo>
                    <a:pt x="321" y="0"/>
                  </a:lnTo>
                  <a:lnTo>
                    <a:pt x="297" y="1"/>
                  </a:lnTo>
                  <a:lnTo>
                    <a:pt x="275" y="3"/>
                  </a:lnTo>
                  <a:lnTo>
                    <a:pt x="252" y="4"/>
                  </a:lnTo>
                  <a:lnTo>
                    <a:pt x="230" y="7"/>
                  </a:lnTo>
                  <a:lnTo>
                    <a:pt x="207" y="11"/>
                  </a:lnTo>
                  <a:lnTo>
                    <a:pt x="185" y="14"/>
                  </a:lnTo>
                  <a:lnTo>
                    <a:pt x="163" y="18"/>
                  </a:lnTo>
                  <a:lnTo>
                    <a:pt x="142" y="24"/>
                  </a:lnTo>
                  <a:lnTo>
                    <a:pt x="122" y="29"/>
                  </a:lnTo>
                  <a:lnTo>
                    <a:pt x="102" y="36"/>
                  </a:lnTo>
                  <a:lnTo>
                    <a:pt x="83" y="43"/>
                  </a:lnTo>
                  <a:lnTo>
                    <a:pt x="64" y="49"/>
                  </a:lnTo>
                  <a:lnTo>
                    <a:pt x="45" y="57"/>
                  </a:lnTo>
                  <a:lnTo>
                    <a:pt x="28" y="66"/>
                  </a:lnTo>
                  <a:lnTo>
                    <a:pt x="11" y="75"/>
                  </a:lnTo>
                  <a:lnTo>
                    <a:pt x="11" y="75"/>
                  </a:lnTo>
                  <a:lnTo>
                    <a:pt x="4" y="80"/>
                  </a:lnTo>
                  <a:lnTo>
                    <a:pt x="0" y="87"/>
                  </a:lnTo>
                  <a:lnTo>
                    <a:pt x="0" y="94"/>
                  </a:lnTo>
                  <a:lnTo>
                    <a:pt x="3" y="102"/>
                  </a:lnTo>
                  <a:lnTo>
                    <a:pt x="10" y="108"/>
                  </a:lnTo>
                  <a:lnTo>
                    <a:pt x="19" y="110"/>
                  </a:lnTo>
                  <a:lnTo>
                    <a:pt x="28" y="110"/>
                  </a:lnTo>
                  <a:lnTo>
                    <a:pt x="36" y="108"/>
                  </a:lnTo>
                  <a:lnTo>
                    <a:pt x="52" y="100"/>
                  </a:lnTo>
                  <a:lnTo>
                    <a:pt x="68" y="92"/>
                  </a:lnTo>
                  <a:lnTo>
                    <a:pt x="85" y="86"/>
                  </a:lnTo>
                  <a:lnTo>
                    <a:pt x="102" y="79"/>
                  </a:lnTo>
                  <a:lnTo>
                    <a:pt x="121" y="72"/>
                  </a:lnTo>
                  <a:lnTo>
                    <a:pt x="140" y="67"/>
                  </a:lnTo>
                  <a:lnTo>
                    <a:pt x="158" y="62"/>
                  </a:lnTo>
                  <a:lnTo>
                    <a:pt x="178" y="57"/>
                  </a:lnTo>
                  <a:lnTo>
                    <a:pt x="198" y="54"/>
                  </a:lnTo>
                  <a:lnTo>
                    <a:pt x="218" y="49"/>
                  </a:lnTo>
                  <a:lnTo>
                    <a:pt x="239" y="47"/>
                  </a:lnTo>
                  <a:lnTo>
                    <a:pt x="259" y="44"/>
                  </a:lnTo>
                  <a:lnTo>
                    <a:pt x="280" y="42"/>
                  </a:lnTo>
                  <a:lnTo>
                    <a:pt x="303" y="40"/>
                  </a:lnTo>
                  <a:lnTo>
                    <a:pt x="324" y="39"/>
                  </a:lnTo>
                  <a:lnTo>
                    <a:pt x="345" y="39"/>
                  </a:lnTo>
                  <a:lnTo>
                    <a:pt x="354" y="38"/>
                  </a:lnTo>
                  <a:lnTo>
                    <a:pt x="362" y="34"/>
                  </a:lnTo>
                  <a:lnTo>
                    <a:pt x="368" y="27"/>
                  </a:lnTo>
                  <a:lnTo>
                    <a:pt x="369" y="20"/>
                  </a:lnTo>
                  <a:lnTo>
                    <a:pt x="368" y="12"/>
                  </a:lnTo>
                  <a:lnTo>
                    <a:pt x="362" y="5"/>
                  </a:lnTo>
                  <a:lnTo>
                    <a:pt x="354" y="1"/>
                  </a:lnTo>
                  <a:lnTo>
                    <a:pt x="3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946560" y="2659320"/>
              <a:ext cx="198360" cy="51120"/>
            </a:xfrm>
            <a:custGeom>
              <a:avLst/>
              <a:gdLst/>
              <a:ahLst/>
              <a:rect l="l" t="t" r="r" b="b"/>
              <a:pathLst>
                <a:path w="375" h="113">
                  <a:moveTo>
                    <a:pt x="24" y="39"/>
                  </a:moveTo>
                  <a:lnTo>
                    <a:pt x="46" y="39"/>
                  </a:lnTo>
                  <a:lnTo>
                    <a:pt x="69" y="41"/>
                  </a:lnTo>
                  <a:lnTo>
                    <a:pt x="90" y="42"/>
                  </a:lnTo>
                  <a:lnTo>
                    <a:pt x="111" y="44"/>
                  </a:lnTo>
                  <a:lnTo>
                    <a:pt x="134" y="47"/>
                  </a:lnTo>
                  <a:lnTo>
                    <a:pt x="154" y="49"/>
                  </a:lnTo>
                  <a:lnTo>
                    <a:pt x="175" y="54"/>
                  </a:lnTo>
                  <a:lnTo>
                    <a:pt x="195" y="58"/>
                  </a:lnTo>
                  <a:lnTo>
                    <a:pt x="215" y="63"/>
                  </a:lnTo>
                  <a:lnTo>
                    <a:pt x="235" y="68"/>
                  </a:lnTo>
                  <a:lnTo>
                    <a:pt x="253" y="74"/>
                  </a:lnTo>
                  <a:lnTo>
                    <a:pt x="272" y="80"/>
                  </a:lnTo>
                  <a:lnTo>
                    <a:pt x="289" y="87"/>
                  </a:lnTo>
                  <a:lnTo>
                    <a:pt x="306" y="93"/>
                  </a:lnTo>
                  <a:lnTo>
                    <a:pt x="322" y="102"/>
                  </a:lnTo>
                  <a:lnTo>
                    <a:pt x="338" y="110"/>
                  </a:lnTo>
                  <a:lnTo>
                    <a:pt x="347" y="113"/>
                  </a:lnTo>
                  <a:lnTo>
                    <a:pt x="357" y="113"/>
                  </a:lnTo>
                  <a:lnTo>
                    <a:pt x="365" y="111"/>
                  </a:lnTo>
                  <a:lnTo>
                    <a:pt x="371" y="106"/>
                  </a:lnTo>
                  <a:lnTo>
                    <a:pt x="375" y="98"/>
                  </a:lnTo>
                  <a:lnTo>
                    <a:pt x="375" y="90"/>
                  </a:lnTo>
                  <a:lnTo>
                    <a:pt x="371" y="83"/>
                  </a:lnTo>
                  <a:lnTo>
                    <a:pt x="365" y="78"/>
                  </a:lnTo>
                  <a:lnTo>
                    <a:pt x="347" y="69"/>
                  </a:lnTo>
                  <a:lnTo>
                    <a:pt x="330" y="60"/>
                  </a:lnTo>
                  <a:lnTo>
                    <a:pt x="312" y="53"/>
                  </a:lnTo>
                  <a:lnTo>
                    <a:pt x="293" y="45"/>
                  </a:lnTo>
                  <a:lnTo>
                    <a:pt x="273" y="38"/>
                  </a:lnTo>
                  <a:lnTo>
                    <a:pt x="252" y="32"/>
                  </a:lnTo>
                  <a:lnTo>
                    <a:pt x="231" y="25"/>
                  </a:lnTo>
                  <a:lnTo>
                    <a:pt x="209" y="21"/>
                  </a:lnTo>
                  <a:lnTo>
                    <a:pt x="187" y="15"/>
                  </a:lnTo>
                  <a:lnTo>
                    <a:pt x="166" y="12"/>
                  </a:lnTo>
                  <a:lnTo>
                    <a:pt x="142" y="7"/>
                  </a:lnTo>
                  <a:lnTo>
                    <a:pt x="119" y="5"/>
                  </a:lnTo>
                  <a:lnTo>
                    <a:pt x="95" y="3"/>
                  </a:lnTo>
                  <a:lnTo>
                    <a:pt x="71" y="1"/>
                  </a:lnTo>
                  <a:lnTo>
                    <a:pt x="48" y="0"/>
                  </a:lnTo>
                  <a:lnTo>
                    <a:pt x="24" y="0"/>
                  </a:lnTo>
                  <a:lnTo>
                    <a:pt x="14" y="1"/>
                  </a:lnTo>
                  <a:lnTo>
                    <a:pt x="6" y="5"/>
                  </a:lnTo>
                  <a:lnTo>
                    <a:pt x="1" y="12"/>
                  </a:lnTo>
                  <a:lnTo>
                    <a:pt x="0" y="20"/>
                  </a:lnTo>
                  <a:lnTo>
                    <a:pt x="1" y="27"/>
                  </a:lnTo>
                  <a:lnTo>
                    <a:pt x="6" y="34"/>
                  </a:lnTo>
                  <a:lnTo>
                    <a:pt x="14" y="38"/>
                  </a:lnTo>
                  <a:lnTo>
                    <a:pt x="24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333920" y="2797920"/>
              <a:ext cx="38160" cy="37080"/>
            </a:xfrm>
            <a:custGeom>
              <a:avLst/>
              <a:gdLst/>
              <a:ahLst/>
              <a:rect l="l" t="t" r="r" b="b"/>
              <a:pathLst>
                <a:path w="72" h="79">
                  <a:moveTo>
                    <a:pt x="28" y="79"/>
                  </a:moveTo>
                  <a:lnTo>
                    <a:pt x="34" y="78"/>
                  </a:lnTo>
                  <a:lnTo>
                    <a:pt x="39" y="78"/>
                  </a:lnTo>
                  <a:lnTo>
                    <a:pt x="44" y="77"/>
                  </a:lnTo>
                  <a:lnTo>
                    <a:pt x="51" y="76"/>
                  </a:lnTo>
                  <a:lnTo>
                    <a:pt x="56" y="75"/>
                  </a:lnTo>
                  <a:lnTo>
                    <a:pt x="62" y="75"/>
                  </a:lnTo>
                  <a:lnTo>
                    <a:pt x="67" y="73"/>
                  </a:lnTo>
                  <a:lnTo>
                    <a:pt x="72" y="73"/>
                  </a:lnTo>
                  <a:lnTo>
                    <a:pt x="64" y="64"/>
                  </a:lnTo>
                  <a:lnTo>
                    <a:pt x="58" y="54"/>
                  </a:lnTo>
                  <a:lnTo>
                    <a:pt x="51" y="44"/>
                  </a:lnTo>
                  <a:lnTo>
                    <a:pt x="44" y="34"/>
                  </a:lnTo>
                  <a:lnTo>
                    <a:pt x="38" y="25"/>
                  </a:lnTo>
                  <a:lnTo>
                    <a:pt x="31" y="16"/>
                  </a:lnTo>
                  <a:lnTo>
                    <a:pt x="26" y="7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0" y="1"/>
                  </a:lnTo>
                  <a:lnTo>
                    <a:pt x="6" y="1"/>
                  </a:lnTo>
                  <a:lnTo>
                    <a:pt x="0" y="2"/>
                  </a:lnTo>
                  <a:lnTo>
                    <a:pt x="28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957720" y="2795400"/>
              <a:ext cx="36720" cy="37080"/>
            </a:xfrm>
            <a:custGeom>
              <a:avLst/>
              <a:gdLst/>
              <a:ahLst/>
              <a:rect l="l" t="t" r="r" b="b"/>
              <a:pathLst>
                <a:path w="69" h="80">
                  <a:moveTo>
                    <a:pt x="69" y="80"/>
                  </a:moveTo>
                  <a:lnTo>
                    <a:pt x="63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2" y="78"/>
                  </a:lnTo>
                  <a:lnTo>
                    <a:pt x="2" y="78"/>
                  </a:lnTo>
                  <a:lnTo>
                    <a:pt x="2" y="78"/>
                  </a:lnTo>
                  <a:lnTo>
                    <a:pt x="10" y="78"/>
                  </a:lnTo>
                  <a:lnTo>
                    <a:pt x="19" y="78"/>
                  </a:lnTo>
                  <a:lnTo>
                    <a:pt x="27" y="78"/>
                  </a:lnTo>
                  <a:lnTo>
                    <a:pt x="36" y="79"/>
                  </a:lnTo>
                  <a:lnTo>
                    <a:pt x="44" y="79"/>
                  </a:lnTo>
                  <a:lnTo>
                    <a:pt x="52" y="79"/>
                  </a:lnTo>
                  <a:lnTo>
                    <a:pt x="61" y="80"/>
                  </a:lnTo>
                  <a:lnTo>
                    <a:pt x="69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865560" y="2565360"/>
              <a:ext cx="635040" cy="326880"/>
            </a:xfrm>
            <a:custGeom>
              <a:avLst/>
              <a:gdLst/>
              <a:ahLst/>
              <a:rect l="l" t="t" r="r" b="b"/>
              <a:pathLst>
                <a:path w="1200" h="708">
                  <a:moveTo>
                    <a:pt x="1161" y="11"/>
                  </a:moveTo>
                  <a:lnTo>
                    <a:pt x="1144" y="9"/>
                  </a:lnTo>
                  <a:lnTo>
                    <a:pt x="1127" y="6"/>
                  </a:lnTo>
                  <a:lnTo>
                    <a:pt x="1109" y="4"/>
                  </a:lnTo>
                  <a:lnTo>
                    <a:pt x="1092" y="2"/>
                  </a:lnTo>
                  <a:lnTo>
                    <a:pt x="1074" y="1"/>
                  </a:lnTo>
                  <a:lnTo>
                    <a:pt x="1056" y="1"/>
                  </a:lnTo>
                  <a:lnTo>
                    <a:pt x="1038" y="0"/>
                  </a:lnTo>
                  <a:lnTo>
                    <a:pt x="1020" y="0"/>
                  </a:lnTo>
                  <a:lnTo>
                    <a:pt x="989" y="1"/>
                  </a:lnTo>
                  <a:lnTo>
                    <a:pt x="955" y="2"/>
                  </a:lnTo>
                  <a:lnTo>
                    <a:pt x="925" y="6"/>
                  </a:lnTo>
                  <a:lnTo>
                    <a:pt x="893" y="9"/>
                  </a:lnTo>
                  <a:lnTo>
                    <a:pt x="864" y="14"/>
                  </a:lnTo>
                  <a:lnTo>
                    <a:pt x="833" y="20"/>
                  </a:lnTo>
                  <a:lnTo>
                    <a:pt x="806" y="28"/>
                  </a:lnTo>
                  <a:lnTo>
                    <a:pt x="778" y="35"/>
                  </a:lnTo>
                  <a:lnTo>
                    <a:pt x="751" y="44"/>
                  </a:lnTo>
                  <a:lnTo>
                    <a:pt x="726" y="54"/>
                  </a:lnTo>
                  <a:lnTo>
                    <a:pt x="701" y="65"/>
                  </a:lnTo>
                  <a:lnTo>
                    <a:pt x="678" y="76"/>
                  </a:lnTo>
                  <a:lnTo>
                    <a:pt x="656" y="88"/>
                  </a:lnTo>
                  <a:lnTo>
                    <a:pt x="636" y="101"/>
                  </a:lnTo>
                  <a:lnTo>
                    <a:pt x="616" y="116"/>
                  </a:lnTo>
                  <a:lnTo>
                    <a:pt x="599" y="130"/>
                  </a:lnTo>
                  <a:lnTo>
                    <a:pt x="581" y="116"/>
                  </a:lnTo>
                  <a:lnTo>
                    <a:pt x="563" y="101"/>
                  </a:lnTo>
                  <a:lnTo>
                    <a:pt x="542" y="88"/>
                  </a:lnTo>
                  <a:lnTo>
                    <a:pt x="520" y="76"/>
                  </a:lnTo>
                  <a:lnTo>
                    <a:pt x="498" y="65"/>
                  </a:lnTo>
                  <a:lnTo>
                    <a:pt x="473" y="54"/>
                  </a:lnTo>
                  <a:lnTo>
                    <a:pt x="447" y="44"/>
                  </a:lnTo>
                  <a:lnTo>
                    <a:pt x="421" y="35"/>
                  </a:lnTo>
                  <a:lnTo>
                    <a:pt x="393" y="28"/>
                  </a:lnTo>
                  <a:lnTo>
                    <a:pt x="364" y="20"/>
                  </a:lnTo>
                  <a:lnTo>
                    <a:pt x="335" y="14"/>
                  </a:lnTo>
                  <a:lnTo>
                    <a:pt x="304" y="9"/>
                  </a:lnTo>
                  <a:lnTo>
                    <a:pt x="274" y="6"/>
                  </a:lnTo>
                  <a:lnTo>
                    <a:pt x="242" y="2"/>
                  </a:lnTo>
                  <a:lnTo>
                    <a:pt x="210" y="1"/>
                  </a:lnTo>
                  <a:lnTo>
                    <a:pt x="177" y="0"/>
                  </a:lnTo>
                  <a:lnTo>
                    <a:pt x="159" y="0"/>
                  </a:lnTo>
                  <a:lnTo>
                    <a:pt x="141" y="1"/>
                  </a:lnTo>
                  <a:lnTo>
                    <a:pt x="124" y="1"/>
                  </a:lnTo>
                  <a:lnTo>
                    <a:pt x="106" y="2"/>
                  </a:lnTo>
                  <a:lnTo>
                    <a:pt x="89" y="4"/>
                  </a:lnTo>
                  <a:lnTo>
                    <a:pt x="73" y="6"/>
                  </a:lnTo>
                  <a:lnTo>
                    <a:pt x="56" y="9"/>
                  </a:lnTo>
                  <a:lnTo>
                    <a:pt x="39" y="11"/>
                  </a:lnTo>
                  <a:lnTo>
                    <a:pt x="0" y="18"/>
                  </a:lnTo>
                  <a:lnTo>
                    <a:pt x="0" y="539"/>
                  </a:lnTo>
                  <a:lnTo>
                    <a:pt x="0" y="539"/>
                  </a:lnTo>
                  <a:lnTo>
                    <a:pt x="0" y="708"/>
                  </a:lnTo>
                  <a:lnTo>
                    <a:pt x="57" y="699"/>
                  </a:lnTo>
                  <a:lnTo>
                    <a:pt x="65" y="697"/>
                  </a:lnTo>
                  <a:lnTo>
                    <a:pt x="73" y="696"/>
                  </a:lnTo>
                  <a:lnTo>
                    <a:pt x="81" y="695"/>
                  </a:lnTo>
                  <a:lnTo>
                    <a:pt x="89" y="694"/>
                  </a:lnTo>
                  <a:lnTo>
                    <a:pt x="97" y="694"/>
                  </a:lnTo>
                  <a:lnTo>
                    <a:pt x="105" y="693"/>
                  </a:lnTo>
                  <a:lnTo>
                    <a:pt x="113" y="692"/>
                  </a:lnTo>
                  <a:lnTo>
                    <a:pt x="121" y="692"/>
                  </a:lnTo>
                  <a:lnTo>
                    <a:pt x="159" y="610"/>
                  </a:lnTo>
                  <a:lnTo>
                    <a:pt x="152" y="610"/>
                  </a:lnTo>
                  <a:lnTo>
                    <a:pt x="142" y="612"/>
                  </a:lnTo>
                  <a:lnTo>
                    <a:pt x="134" y="612"/>
                  </a:lnTo>
                  <a:lnTo>
                    <a:pt x="126" y="612"/>
                  </a:lnTo>
                  <a:lnTo>
                    <a:pt x="118" y="613"/>
                  </a:lnTo>
                  <a:lnTo>
                    <a:pt x="110" y="613"/>
                  </a:lnTo>
                  <a:lnTo>
                    <a:pt x="104" y="614"/>
                  </a:lnTo>
                  <a:lnTo>
                    <a:pt x="96" y="614"/>
                  </a:lnTo>
                  <a:lnTo>
                    <a:pt x="96" y="581"/>
                  </a:lnTo>
                  <a:lnTo>
                    <a:pt x="105" y="580"/>
                  </a:lnTo>
                  <a:lnTo>
                    <a:pt x="114" y="578"/>
                  </a:lnTo>
                  <a:lnTo>
                    <a:pt x="125" y="577"/>
                  </a:lnTo>
                  <a:lnTo>
                    <a:pt x="134" y="577"/>
                  </a:lnTo>
                  <a:lnTo>
                    <a:pt x="145" y="576"/>
                  </a:lnTo>
                  <a:lnTo>
                    <a:pt x="154" y="576"/>
                  </a:lnTo>
                  <a:lnTo>
                    <a:pt x="165" y="576"/>
                  </a:lnTo>
                  <a:lnTo>
                    <a:pt x="175" y="576"/>
                  </a:lnTo>
                  <a:lnTo>
                    <a:pt x="213" y="498"/>
                  </a:lnTo>
                  <a:lnTo>
                    <a:pt x="198" y="497"/>
                  </a:lnTo>
                  <a:lnTo>
                    <a:pt x="183" y="497"/>
                  </a:lnTo>
                  <a:lnTo>
                    <a:pt x="167" y="497"/>
                  </a:lnTo>
                  <a:lnTo>
                    <a:pt x="153" y="497"/>
                  </a:lnTo>
                  <a:lnTo>
                    <a:pt x="138" y="498"/>
                  </a:lnTo>
                  <a:lnTo>
                    <a:pt x="124" y="499"/>
                  </a:lnTo>
                  <a:lnTo>
                    <a:pt x="110" y="500"/>
                  </a:lnTo>
                  <a:lnTo>
                    <a:pt x="96" y="501"/>
                  </a:lnTo>
                  <a:lnTo>
                    <a:pt x="96" y="84"/>
                  </a:lnTo>
                  <a:lnTo>
                    <a:pt x="105" y="83"/>
                  </a:lnTo>
                  <a:lnTo>
                    <a:pt x="116" y="82"/>
                  </a:lnTo>
                  <a:lnTo>
                    <a:pt x="125" y="80"/>
                  </a:lnTo>
                  <a:lnTo>
                    <a:pt x="136" y="80"/>
                  </a:lnTo>
                  <a:lnTo>
                    <a:pt x="145" y="79"/>
                  </a:lnTo>
                  <a:lnTo>
                    <a:pt x="155" y="79"/>
                  </a:lnTo>
                  <a:lnTo>
                    <a:pt x="166" y="79"/>
                  </a:lnTo>
                  <a:lnTo>
                    <a:pt x="177" y="79"/>
                  </a:lnTo>
                  <a:lnTo>
                    <a:pt x="209" y="80"/>
                  </a:lnTo>
                  <a:lnTo>
                    <a:pt x="240" y="82"/>
                  </a:lnTo>
                  <a:lnTo>
                    <a:pt x="271" y="85"/>
                  </a:lnTo>
                  <a:lnTo>
                    <a:pt x="301" y="89"/>
                  </a:lnTo>
                  <a:lnTo>
                    <a:pt x="331" y="95"/>
                  </a:lnTo>
                  <a:lnTo>
                    <a:pt x="358" y="101"/>
                  </a:lnTo>
                  <a:lnTo>
                    <a:pt x="385" y="108"/>
                  </a:lnTo>
                  <a:lnTo>
                    <a:pt x="412" y="117"/>
                  </a:lnTo>
                  <a:lnTo>
                    <a:pt x="435" y="127"/>
                  </a:lnTo>
                  <a:lnTo>
                    <a:pt x="459" y="137"/>
                  </a:lnTo>
                  <a:lnTo>
                    <a:pt x="481" y="148"/>
                  </a:lnTo>
                  <a:lnTo>
                    <a:pt x="499" y="160"/>
                  </a:lnTo>
                  <a:lnTo>
                    <a:pt x="518" y="173"/>
                  </a:lnTo>
                  <a:lnTo>
                    <a:pt x="532" y="186"/>
                  </a:lnTo>
                  <a:lnTo>
                    <a:pt x="547" y="201"/>
                  </a:lnTo>
                  <a:lnTo>
                    <a:pt x="557" y="215"/>
                  </a:lnTo>
                  <a:lnTo>
                    <a:pt x="599" y="278"/>
                  </a:lnTo>
                  <a:lnTo>
                    <a:pt x="641" y="215"/>
                  </a:lnTo>
                  <a:lnTo>
                    <a:pt x="652" y="201"/>
                  </a:lnTo>
                  <a:lnTo>
                    <a:pt x="666" y="186"/>
                  </a:lnTo>
                  <a:lnTo>
                    <a:pt x="681" y="173"/>
                  </a:lnTo>
                  <a:lnTo>
                    <a:pt x="699" y="160"/>
                  </a:lnTo>
                  <a:lnTo>
                    <a:pt x="718" y="148"/>
                  </a:lnTo>
                  <a:lnTo>
                    <a:pt x="739" y="137"/>
                  </a:lnTo>
                  <a:lnTo>
                    <a:pt x="763" y="127"/>
                  </a:lnTo>
                  <a:lnTo>
                    <a:pt x="787" y="117"/>
                  </a:lnTo>
                  <a:lnTo>
                    <a:pt x="812" y="108"/>
                  </a:lnTo>
                  <a:lnTo>
                    <a:pt x="840" y="101"/>
                  </a:lnTo>
                  <a:lnTo>
                    <a:pt x="868" y="95"/>
                  </a:lnTo>
                  <a:lnTo>
                    <a:pt x="897" y="89"/>
                  </a:lnTo>
                  <a:lnTo>
                    <a:pt x="928" y="85"/>
                  </a:lnTo>
                  <a:lnTo>
                    <a:pt x="958" y="82"/>
                  </a:lnTo>
                  <a:lnTo>
                    <a:pt x="989" y="80"/>
                  </a:lnTo>
                  <a:lnTo>
                    <a:pt x="1020" y="79"/>
                  </a:lnTo>
                  <a:lnTo>
                    <a:pt x="1031" y="79"/>
                  </a:lnTo>
                  <a:lnTo>
                    <a:pt x="1042" y="79"/>
                  </a:lnTo>
                  <a:lnTo>
                    <a:pt x="1052" y="79"/>
                  </a:lnTo>
                  <a:lnTo>
                    <a:pt x="1063" y="80"/>
                  </a:lnTo>
                  <a:lnTo>
                    <a:pt x="1074" y="80"/>
                  </a:lnTo>
                  <a:lnTo>
                    <a:pt x="1084" y="82"/>
                  </a:lnTo>
                  <a:lnTo>
                    <a:pt x="1093" y="83"/>
                  </a:lnTo>
                  <a:lnTo>
                    <a:pt x="1104" y="84"/>
                  </a:lnTo>
                  <a:lnTo>
                    <a:pt x="1104" y="501"/>
                  </a:lnTo>
                  <a:lnTo>
                    <a:pt x="1093" y="500"/>
                  </a:lnTo>
                  <a:lnTo>
                    <a:pt x="1084" y="499"/>
                  </a:lnTo>
                  <a:lnTo>
                    <a:pt x="1074" y="498"/>
                  </a:lnTo>
                  <a:lnTo>
                    <a:pt x="1063" y="498"/>
                  </a:lnTo>
                  <a:lnTo>
                    <a:pt x="1052" y="497"/>
                  </a:lnTo>
                  <a:lnTo>
                    <a:pt x="1042" y="497"/>
                  </a:lnTo>
                  <a:lnTo>
                    <a:pt x="1031" y="497"/>
                  </a:lnTo>
                  <a:lnTo>
                    <a:pt x="1020" y="497"/>
                  </a:lnTo>
                  <a:lnTo>
                    <a:pt x="1006" y="497"/>
                  </a:lnTo>
                  <a:lnTo>
                    <a:pt x="991" y="497"/>
                  </a:lnTo>
                  <a:lnTo>
                    <a:pt x="977" y="498"/>
                  </a:lnTo>
                  <a:lnTo>
                    <a:pt x="962" y="499"/>
                  </a:lnTo>
                  <a:lnTo>
                    <a:pt x="948" y="500"/>
                  </a:lnTo>
                  <a:lnTo>
                    <a:pt x="933" y="501"/>
                  </a:lnTo>
                  <a:lnTo>
                    <a:pt x="920" y="502"/>
                  </a:lnTo>
                  <a:lnTo>
                    <a:pt x="905" y="505"/>
                  </a:lnTo>
                  <a:lnTo>
                    <a:pt x="912" y="512"/>
                  </a:lnTo>
                  <a:lnTo>
                    <a:pt x="917" y="521"/>
                  </a:lnTo>
                  <a:lnTo>
                    <a:pt x="924" y="530"/>
                  </a:lnTo>
                  <a:lnTo>
                    <a:pt x="930" y="539"/>
                  </a:lnTo>
                  <a:lnTo>
                    <a:pt x="937" y="549"/>
                  </a:lnTo>
                  <a:lnTo>
                    <a:pt x="944" y="559"/>
                  </a:lnTo>
                  <a:lnTo>
                    <a:pt x="950" y="569"/>
                  </a:lnTo>
                  <a:lnTo>
                    <a:pt x="958" y="578"/>
                  </a:lnTo>
                  <a:lnTo>
                    <a:pt x="977" y="577"/>
                  </a:lnTo>
                  <a:lnTo>
                    <a:pt x="994" y="576"/>
                  </a:lnTo>
                  <a:lnTo>
                    <a:pt x="1013" y="576"/>
                  </a:lnTo>
                  <a:lnTo>
                    <a:pt x="1031" y="576"/>
                  </a:lnTo>
                  <a:lnTo>
                    <a:pt x="1050" y="576"/>
                  </a:lnTo>
                  <a:lnTo>
                    <a:pt x="1068" y="577"/>
                  </a:lnTo>
                  <a:lnTo>
                    <a:pt x="1086" y="578"/>
                  </a:lnTo>
                  <a:lnTo>
                    <a:pt x="1104" y="581"/>
                  </a:lnTo>
                  <a:lnTo>
                    <a:pt x="1104" y="614"/>
                  </a:lnTo>
                  <a:lnTo>
                    <a:pt x="1093" y="613"/>
                  </a:lnTo>
                  <a:lnTo>
                    <a:pt x="1084" y="613"/>
                  </a:lnTo>
                  <a:lnTo>
                    <a:pt x="1074" y="612"/>
                  </a:lnTo>
                  <a:lnTo>
                    <a:pt x="1063" y="612"/>
                  </a:lnTo>
                  <a:lnTo>
                    <a:pt x="1052" y="610"/>
                  </a:lnTo>
                  <a:lnTo>
                    <a:pt x="1042" y="610"/>
                  </a:lnTo>
                  <a:lnTo>
                    <a:pt x="1031" y="610"/>
                  </a:lnTo>
                  <a:lnTo>
                    <a:pt x="1020" y="610"/>
                  </a:lnTo>
                  <a:lnTo>
                    <a:pt x="1011" y="610"/>
                  </a:lnTo>
                  <a:lnTo>
                    <a:pt x="1002" y="610"/>
                  </a:lnTo>
                  <a:lnTo>
                    <a:pt x="991" y="610"/>
                  </a:lnTo>
                  <a:lnTo>
                    <a:pt x="982" y="612"/>
                  </a:lnTo>
                  <a:lnTo>
                    <a:pt x="989" y="621"/>
                  </a:lnTo>
                  <a:lnTo>
                    <a:pt x="997" y="631"/>
                  </a:lnTo>
                  <a:lnTo>
                    <a:pt x="1003" y="641"/>
                  </a:lnTo>
                  <a:lnTo>
                    <a:pt x="1010" y="651"/>
                  </a:lnTo>
                  <a:lnTo>
                    <a:pt x="1017" y="661"/>
                  </a:lnTo>
                  <a:lnTo>
                    <a:pt x="1024" y="671"/>
                  </a:lnTo>
                  <a:lnTo>
                    <a:pt x="1031" y="680"/>
                  </a:lnTo>
                  <a:lnTo>
                    <a:pt x="1038" y="690"/>
                  </a:lnTo>
                  <a:lnTo>
                    <a:pt x="1051" y="690"/>
                  </a:lnTo>
                  <a:lnTo>
                    <a:pt x="1064" y="691"/>
                  </a:lnTo>
                  <a:lnTo>
                    <a:pt x="1078" y="692"/>
                  </a:lnTo>
                  <a:lnTo>
                    <a:pt x="1091" y="692"/>
                  </a:lnTo>
                  <a:lnTo>
                    <a:pt x="1104" y="694"/>
                  </a:lnTo>
                  <a:lnTo>
                    <a:pt x="1117" y="695"/>
                  </a:lnTo>
                  <a:lnTo>
                    <a:pt x="1131" y="696"/>
                  </a:lnTo>
                  <a:lnTo>
                    <a:pt x="1143" y="699"/>
                  </a:lnTo>
                  <a:lnTo>
                    <a:pt x="1200" y="708"/>
                  </a:lnTo>
                  <a:lnTo>
                    <a:pt x="1200" y="18"/>
                  </a:lnTo>
                  <a:lnTo>
                    <a:pt x="116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929280" y="2846880"/>
              <a:ext cx="69840" cy="38520"/>
            </a:xfrm>
            <a:custGeom>
              <a:avLst/>
              <a:gdLst/>
              <a:ahLst/>
              <a:rect l="l" t="t" r="r" b="b"/>
              <a:pathLst>
                <a:path w="131" h="83">
                  <a:moveTo>
                    <a:pt x="38" y="0"/>
                  </a:moveTo>
                  <a:lnTo>
                    <a:pt x="0" y="82"/>
                  </a:lnTo>
                  <a:lnTo>
                    <a:pt x="16" y="81"/>
                  </a:lnTo>
                  <a:lnTo>
                    <a:pt x="33" y="80"/>
                  </a:lnTo>
                  <a:lnTo>
                    <a:pt x="49" y="80"/>
                  </a:lnTo>
                  <a:lnTo>
                    <a:pt x="66" y="80"/>
                  </a:lnTo>
                  <a:lnTo>
                    <a:pt x="82" y="80"/>
                  </a:lnTo>
                  <a:lnTo>
                    <a:pt x="100" y="81"/>
                  </a:lnTo>
                  <a:lnTo>
                    <a:pt x="115" y="82"/>
                  </a:lnTo>
                  <a:lnTo>
                    <a:pt x="131" y="83"/>
                  </a:lnTo>
                  <a:lnTo>
                    <a:pt x="125" y="4"/>
                  </a:lnTo>
                  <a:lnTo>
                    <a:pt x="114" y="3"/>
                  </a:lnTo>
                  <a:lnTo>
                    <a:pt x="103" y="3"/>
                  </a:lnTo>
                  <a:lnTo>
                    <a:pt x="93" y="2"/>
                  </a:lnTo>
                  <a:lnTo>
                    <a:pt x="82" y="2"/>
                  </a:lnTo>
                  <a:lnTo>
                    <a:pt x="72" y="0"/>
                  </a:lnTo>
                  <a:lnTo>
                    <a:pt x="60" y="0"/>
                  </a:lnTo>
                  <a:lnTo>
                    <a:pt x="49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56240" y="2847960"/>
              <a:ext cx="58680" cy="37080"/>
            </a:xfrm>
            <a:custGeom>
              <a:avLst/>
              <a:gdLst/>
              <a:ahLst/>
              <a:rect l="l" t="t" r="r" b="b"/>
              <a:pathLst>
                <a:path w="112" h="80">
                  <a:moveTo>
                    <a:pt x="0" y="4"/>
                  </a:moveTo>
                  <a:lnTo>
                    <a:pt x="28" y="80"/>
                  </a:lnTo>
                  <a:lnTo>
                    <a:pt x="39" y="79"/>
                  </a:lnTo>
                  <a:lnTo>
                    <a:pt x="49" y="79"/>
                  </a:lnTo>
                  <a:lnTo>
                    <a:pt x="60" y="78"/>
                  </a:lnTo>
                  <a:lnTo>
                    <a:pt x="71" y="78"/>
                  </a:lnTo>
                  <a:lnTo>
                    <a:pt x="80" y="78"/>
                  </a:lnTo>
                  <a:lnTo>
                    <a:pt x="91" y="78"/>
                  </a:lnTo>
                  <a:lnTo>
                    <a:pt x="101" y="78"/>
                  </a:lnTo>
                  <a:lnTo>
                    <a:pt x="112" y="78"/>
                  </a:lnTo>
                  <a:lnTo>
                    <a:pt x="105" y="68"/>
                  </a:lnTo>
                  <a:lnTo>
                    <a:pt x="98" y="59"/>
                  </a:lnTo>
                  <a:lnTo>
                    <a:pt x="91" y="49"/>
                  </a:lnTo>
                  <a:lnTo>
                    <a:pt x="84" y="39"/>
                  </a:lnTo>
                  <a:lnTo>
                    <a:pt x="77" y="29"/>
                  </a:lnTo>
                  <a:lnTo>
                    <a:pt x="71" y="19"/>
                  </a:lnTo>
                  <a:lnTo>
                    <a:pt x="63" y="9"/>
                  </a:lnTo>
                  <a:lnTo>
                    <a:pt x="56" y="0"/>
                  </a:lnTo>
                  <a:lnTo>
                    <a:pt x="49" y="0"/>
                  </a:lnTo>
                  <a:lnTo>
                    <a:pt x="43" y="1"/>
                  </a:lnTo>
                  <a:lnTo>
                    <a:pt x="35" y="1"/>
                  </a:lnTo>
                  <a:lnTo>
                    <a:pt x="28" y="2"/>
                  </a:lnTo>
                  <a:lnTo>
                    <a:pt x="22" y="2"/>
                  </a:lnTo>
                  <a:lnTo>
                    <a:pt x="15" y="3"/>
                  </a:lnTo>
                  <a:lnTo>
                    <a:pt x="7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991200" y="2795400"/>
              <a:ext cx="379440" cy="138600"/>
            </a:xfrm>
            <a:custGeom>
              <a:avLst/>
              <a:gdLst/>
              <a:ahLst/>
              <a:rect l="l" t="t" r="r" b="b"/>
              <a:pathLst>
                <a:path w="716" h="298">
                  <a:moveTo>
                    <a:pt x="408" y="206"/>
                  </a:moveTo>
                  <a:lnTo>
                    <a:pt x="418" y="195"/>
                  </a:lnTo>
                  <a:lnTo>
                    <a:pt x="428" y="184"/>
                  </a:lnTo>
                  <a:lnTo>
                    <a:pt x="439" y="174"/>
                  </a:lnTo>
                  <a:lnTo>
                    <a:pt x="452" y="164"/>
                  </a:lnTo>
                  <a:lnTo>
                    <a:pt x="467" y="155"/>
                  </a:lnTo>
                  <a:lnTo>
                    <a:pt x="481" y="146"/>
                  </a:lnTo>
                  <a:lnTo>
                    <a:pt x="497" y="138"/>
                  </a:lnTo>
                  <a:lnTo>
                    <a:pt x="515" y="129"/>
                  </a:lnTo>
                  <a:lnTo>
                    <a:pt x="532" y="122"/>
                  </a:lnTo>
                  <a:lnTo>
                    <a:pt x="550" y="115"/>
                  </a:lnTo>
                  <a:lnTo>
                    <a:pt x="570" y="108"/>
                  </a:lnTo>
                  <a:lnTo>
                    <a:pt x="590" y="103"/>
                  </a:lnTo>
                  <a:lnTo>
                    <a:pt x="610" y="97"/>
                  </a:lnTo>
                  <a:lnTo>
                    <a:pt x="633" y="93"/>
                  </a:lnTo>
                  <a:lnTo>
                    <a:pt x="654" y="88"/>
                  </a:lnTo>
                  <a:lnTo>
                    <a:pt x="676" y="85"/>
                  </a:lnTo>
                  <a:lnTo>
                    <a:pt x="648" y="8"/>
                  </a:lnTo>
                  <a:lnTo>
                    <a:pt x="626" y="11"/>
                  </a:lnTo>
                  <a:lnTo>
                    <a:pt x="605" y="16"/>
                  </a:lnTo>
                  <a:lnTo>
                    <a:pt x="583" y="21"/>
                  </a:lnTo>
                  <a:lnTo>
                    <a:pt x="562" y="27"/>
                  </a:lnTo>
                  <a:lnTo>
                    <a:pt x="542" y="32"/>
                  </a:lnTo>
                  <a:lnTo>
                    <a:pt x="522" y="39"/>
                  </a:lnTo>
                  <a:lnTo>
                    <a:pt x="503" y="45"/>
                  </a:lnTo>
                  <a:lnTo>
                    <a:pt x="484" y="53"/>
                  </a:lnTo>
                  <a:lnTo>
                    <a:pt x="467" y="61"/>
                  </a:lnTo>
                  <a:lnTo>
                    <a:pt x="448" y="70"/>
                  </a:lnTo>
                  <a:lnTo>
                    <a:pt x="432" y="78"/>
                  </a:lnTo>
                  <a:lnTo>
                    <a:pt x="416" y="87"/>
                  </a:lnTo>
                  <a:lnTo>
                    <a:pt x="402" y="97"/>
                  </a:lnTo>
                  <a:lnTo>
                    <a:pt x="387" y="107"/>
                  </a:lnTo>
                  <a:lnTo>
                    <a:pt x="374" y="117"/>
                  </a:lnTo>
                  <a:lnTo>
                    <a:pt x="361" y="128"/>
                  </a:lnTo>
                  <a:lnTo>
                    <a:pt x="346" y="115"/>
                  </a:lnTo>
                  <a:lnTo>
                    <a:pt x="329" y="103"/>
                  </a:lnTo>
                  <a:lnTo>
                    <a:pt x="312" y="90"/>
                  </a:lnTo>
                  <a:lnTo>
                    <a:pt x="293" y="79"/>
                  </a:lnTo>
                  <a:lnTo>
                    <a:pt x="273" y="70"/>
                  </a:lnTo>
                  <a:lnTo>
                    <a:pt x="252" y="60"/>
                  </a:lnTo>
                  <a:lnTo>
                    <a:pt x="231" y="50"/>
                  </a:lnTo>
                  <a:lnTo>
                    <a:pt x="208" y="41"/>
                  </a:lnTo>
                  <a:lnTo>
                    <a:pt x="184" y="33"/>
                  </a:lnTo>
                  <a:lnTo>
                    <a:pt x="159" y="27"/>
                  </a:lnTo>
                  <a:lnTo>
                    <a:pt x="134" y="20"/>
                  </a:lnTo>
                  <a:lnTo>
                    <a:pt x="109" y="14"/>
                  </a:lnTo>
                  <a:lnTo>
                    <a:pt x="82" y="10"/>
                  </a:lnTo>
                  <a:lnTo>
                    <a:pt x="55" y="6"/>
                  </a:lnTo>
                  <a:lnTo>
                    <a:pt x="28" y="2"/>
                  </a:lnTo>
                  <a:lnTo>
                    <a:pt x="0" y="0"/>
                  </a:lnTo>
                  <a:lnTo>
                    <a:pt x="6" y="79"/>
                  </a:lnTo>
                  <a:lnTo>
                    <a:pt x="32" y="82"/>
                  </a:lnTo>
                  <a:lnTo>
                    <a:pt x="57" y="86"/>
                  </a:lnTo>
                  <a:lnTo>
                    <a:pt x="82" y="90"/>
                  </a:lnTo>
                  <a:lnTo>
                    <a:pt x="106" y="95"/>
                  </a:lnTo>
                  <a:lnTo>
                    <a:pt x="128" y="100"/>
                  </a:lnTo>
                  <a:lnTo>
                    <a:pt x="151" y="107"/>
                  </a:lnTo>
                  <a:lnTo>
                    <a:pt x="172" y="115"/>
                  </a:lnTo>
                  <a:lnTo>
                    <a:pt x="193" y="122"/>
                  </a:lnTo>
                  <a:lnTo>
                    <a:pt x="212" y="131"/>
                  </a:lnTo>
                  <a:lnTo>
                    <a:pt x="231" y="140"/>
                  </a:lnTo>
                  <a:lnTo>
                    <a:pt x="248" y="150"/>
                  </a:lnTo>
                  <a:lnTo>
                    <a:pt x="264" y="160"/>
                  </a:lnTo>
                  <a:lnTo>
                    <a:pt x="278" y="171"/>
                  </a:lnTo>
                  <a:lnTo>
                    <a:pt x="292" y="182"/>
                  </a:lnTo>
                  <a:lnTo>
                    <a:pt x="304" y="194"/>
                  </a:lnTo>
                  <a:lnTo>
                    <a:pt x="314" y="206"/>
                  </a:lnTo>
                  <a:lnTo>
                    <a:pt x="300" y="197"/>
                  </a:lnTo>
                  <a:lnTo>
                    <a:pt x="284" y="189"/>
                  </a:lnTo>
                  <a:lnTo>
                    <a:pt x="268" y="180"/>
                  </a:lnTo>
                  <a:lnTo>
                    <a:pt x="250" y="172"/>
                  </a:lnTo>
                  <a:lnTo>
                    <a:pt x="233" y="164"/>
                  </a:lnTo>
                  <a:lnTo>
                    <a:pt x="215" y="158"/>
                  </a:lnTo>
                  <a:lnTo>
                    <a:pt x="196" y="151"/>
                  </a:lnTo>
                  <a:lnTo>
                    <a:pt x="178" y="146"/>
                  </a:lnTo>
                  <a:lnTo>
                    <a:pt x="158" y="140"/>
                  </a:lnTo>
                  <a:lnTo>
                    <a:pt x="138" y="135"/>
                  </a:lnTo>
                  <a:lnTo>
                    <a:pt x="116" y="130"/>
                  </a:lnTo>
                  <a:lnTo>
                    <a:pt x="95" y="126"/>
                  </a:lnTo>
                  <a:lnTo>
                    <a:pt x="74" y="122"/>
                  </a:lnTo>
                  <a:lnTo>
                    <a:pt x="53" y="119"/>
                  </a:lnTo>
                  <a:lnTo>
                    <a:pt x="30" y="117"/>
                  </a:lnTo>
                  <a:lnTo>
                    <a:pt x="8" y="115"/>
                  </a:lnTo>
                  <a:lnTo>
                    <a:pt x="14" y="194"/>
                  </a:lnTo>
                  <a:lnTo>
                    <a:pt x="37" y="196"/>
                  </a:lnTo>
                  <a:lnTo>
                    <a:pt x="58" y="200"/>
                  </a:lnTo>
                  <a:lnTo>
                    <a:pt x="79" y="204"/>
                  </a:lnTo>
                  <a:lnTo>
                    <a:pt x="101" y="207"/>
                  </a:lnTo>
                  <a:lnTo>
                    <a:pt x="120" y="213"/>
                  </a:lnTo>
                  <a:lnTo>
                    <a:pt x="140" y="218"/>
                  </a:lnTo>
                  <a:lnTo>
                    <a:pt x="160" y="224"/>
                  </a:lnTo>
                  <a:lnTo>
                    <a:pt x="179" y="230"/>
                  </a:lnTo>
                  <a:lnTo>
                    <a:pt x="196" y="237"/>
                  </a:lnTo>
                  <a:lnTo>
                    <a:pt x="213" y="245"/>
                  </a:lnTo>
                  <a:lnTo>
                    <a:pt x="229" y="252"/>
                  </a:lnTo>
                  <a:lnTo>
                    <a:pt x="244" y="260"/>
                  </a:lnTo>
                  <a:lnTo>
                    <a:pt x="258" y="269"/>
                  </a:lnTo>
                  <a:lnTo>
                    <a:pt x="272" y="278"/>
                  </a:lnTo>
                  <a:lnTo>
                    <a:pt x="284" y="288"/>
                  </a:lnTo>
                  <a:lnTo>
                    <a:pt x="294" y="298"/>
                  </a:lnTo>
                  <a:lnTo>
                    <a:pt x="428" y="298"/>
                  </a:lnTo>
                  <a:lnTo>
                    <a:pt x="440" y="288"/>
                  </a:lnTo>
                  <a:lnTo>
                    <a:pt x="452" y="278"/>
                  </a:lnTo>
                  <a:lnTo>
                    <a:pt x="465" y="269"/>
                  </a:lnTo>
                  <a:lnTo>
                    <a:pt x="480" y="259"/>
                  </a:lnTo>
                  <a:lnTo>
                    <a:pt x="496" y="251"/>
                  </a:lnTo>
                  <a:lnTo>
                    <a:pt x="512" y="244"/>
                  </a:lnTo>
                  <a:lnTo>
                    <a:pt x="529" y="236"/>
                  </a:lnTo>
                  <a:lnTo>
                    <a:pt x="548" y="228"/>
                  </a:lnTo>
                  <a:lnTo>
                    <a:pt x="566" y="223"/>
                  </a:lnTo>
                  <a:lnTo>
                    <a:pt x="586" y="216"/>
                  </a:lnTo>
                  <a:lnTo>
                    <a:pt x="607" y="211"/>
                  </a:lnTo>
                  <a:lnTo>
                    <a:pt x="627" y="206"/>
                  </a:lnTo>
                  <a:lnTo>
                    <a:pt x="648" y="202"/>
                  </a:lnTo>
                  <a:lnTo>
                    <a:pt x="671" y="198"/>
                  </a:lnTo>
                  <a:lnTo>
                    <a:pt x="694" y="195"/>
                  </a:lnTo>
                  <a:lnTo>
                    <a:pt x="716" y="193"/>
                  </a:lnTo>
                  <a:lnTo>
                    <a:pt x="688" y="117"/>
                  </a:lnTo>
                  <a:lnTo>
                    <a:pt x="668" y="119"/>
                  </a:lnTo>
                  <a:lnTo>
                    <a:pt x="648" y="122"/>
                  </a:lnTo>
                  <a:lnTo>
                    <a:pt x="629" y="126"/>
                  </a:lnTo>
                  <a:lnTo>
                    <a:pt x="609" y="129"/>
                  </a:lnTo>
                  <a:lnTo>
                    <a:pt x="590" y="133"/>
                  </a:lnTo>
                  <a:lnTo>
                    <a:pt x="570" y="138"/>
                  </a:lnTo>
                  <a:lnTo>
                    <a:pt x="553" y="143"/>
                  </a:lnTo>
                  <a:lnTo>
                    <a:pt x="534" y="148"/>
                  </a:lnTo>
                  <a:lnTo>
                    <a:pt x="517" y="154"/>
                  </a:lnTo>
                  <a:lnTo>
                    <a:pt x="500" y="161"/>
                  </a:lnTo>
                  <a:lnTo>
                    <a:pt x="483" y="168"/>
                  </a:lnTo>
                  <a:lnTo>
                    <a:pt x="467" y="174"/>
                  </a:lnTo>
                  <a:lnTo>
                    <a:pt x="451" y="182"/>
                  </a:lnTo>
                  <a:lnTo>
                    <a:pt x="436" y="190"/>
                  </a:lnTo>
                  <a:lnTo>
                    <a:pt x="422" y="197"/>
                  </a:lnTo>
                  <a:lnTo>
                    <a:pt x="408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346880" y="3150000"/>
              <a:ext cx="220320" cy="160560"/>
            </a:xfrm>
            <a:custGeom>
              <a:avLst/>
              <a:gdLst/>
              <a:ahLst/>
              <a:rect l="l" t="t" r="r" b="b"/>
              <a:pathLst>
                <a:path w="417" h="346">
                  <a:moveTo>
                    <a:pt x="209" y="346"/>
                  </a:moveTo>
                  <a:lnTo>
                    <a:pt x="230" y="345"/>
                  </a:lnTo>
                  <a:lnTo>
                    <a:pt x="250" y="343"/>
                  </a:lnTo>
                  <a:lnTo>
                    <a:pt x="270" y="338"/>
                  </a:lnTo>
                  <a:lnTo>
                    <a:pt x="288" y="333"/>
                  </a:lnTo>
                  <a:lnTo>
                    <a:pt x="307" y="326"/>
                  </a:lnTo>
                  <a:lnTo>
                    <a:pt x="324" y="317"/>
                  </a:lnTo>
                  <a:lnTo>
                    <a:pt x="340" y="308"/>
                  </a:lnTo>
                  <a:lnTo>
                    <a:pt x="356" y="295"/>
                  </a:lnTo>
                  <a:lnTo>
                    <a:pt x="371" y="283"/>
                  </a:lnTo>
                  <a:lnTo>
                    <a:pt x="382" y="269"/>
                  </a:lnTo>
                  <a:lnTo>
                    <a:pt x="393" y="255"/>
                  </a:lnTo>
                  <a:lnTo>
                    <a:pt x="401" y="239"/>
                  </a:lnTo>
                  <a:lnTo>
                    <a:pt x="408" y="224"/>
                  </a:lnTo>
                  <a:lnTo>
                    <a:pt x="413" y="207"/>
                  </a:lnTo>
                  <a:lnTo>
                    <a:pt x="416" y="191"/>
                  </a:lnTo>
                  <a:lnTo>
                    <a:pt x="417" y="173"/>
                  </a:lnTo>
                  <a:lnTo>
                    <a:pt x="416" y="155"/>
                  </a:lnTo>
                  <a:lnTo>
                    <a:pt x="413" y="139"/>
                  </a:lnTo>
                  <a:lnTo>
                    <a:pt x="408" y="122"/>
                  </a:lnTo>
                  <a:lnTo>
                    <a:pt x="401" y="107"/>
                  </a:lnTo>
                  <a:lnTo>
                    <a:pt x="393" y="92"/>
                  </a:lnTo>
                  <a:lnTo>
                    <a:pt x="382" y="77"/>
                  </a:lnTo>
                  <a:lnTo>
                    <a:pt x="371" y="64"/>
                  </a:lnTo>
                  <a:lnTo>
                    <a:pt x="356" y="51"/>
                  </a:lnTo>
                  <a:lnTo>
                    <a:pt x="340" y="40"/>
                  </a:lnTo>
                  <a:lnTo>
                    <a:pt x="324" y="30"/>
                  </a:lnTo>
                  <a:lnTo>
                    <a:pt x="307" y="21"/>
                  </a:lnTo>
                  <a:lnTo>
                    <a:pt x="288" y="13"/>
                  </a:lnTo>
                  <a:lnTo>
                    <a:pt x="270" y="8"/>
                  </a:lnTo>
                  <a:lnTo>
                    <a:pt x="250" y="3"/>
                  </a:lnTo>
                  <a:lnTo>
                    <a:pt x="230" y="1"/>
                  </a:lnTo>
                  <a:lnTo>
                    <a:pt x="209" y="0"/>
                  </a:lnTo>
                  <a:lnTo>
                    <a:pt x="166" y="3"/>
                  </a:lnTo>
                  <a:lnTo>
                    <a:pt x="128" y="13"/>
                  </a:lnTo>
                  <a:lnTo>
                    <a:pt x="92" y="30"/>
                  </a:lnTo>
                  <a:lnTo>
                    <a:pt x="61" y="51"/>
                  </a:lnTo>
                  <a:lnTo>
                    <a:pt x="36" y="77"/>
                  </a:lnTo>
                  <a:lnTo>
                    <a:pt x="16" y="106"/>
                  </a:lnTo>
                  <a:lnTo>
                    <a:pt x="4" y="139"/>
                  </a:lnTo>
                  <a:lnTo>
                    <a:pt x="0" y="173"/>
                  </a:lnTo>
                  <a:lnTo>
                    <a:pt x="2" y="191"/>
                  </a:lnTo>
                  <a:lnTo>
                    <a:pt x="4" y="207"/>
                  </a:lnTo>
                  <a:lnTo>
                    <a:pt x="10" y="224"/>
                  </a:lnTo>
                  <a:lnTo>
                    <a:pt x="16" y="239"/>
                  </a:lnTo>
                  <a:lnTo>
                    <a:pt x="24" y="255"/>
                  </a:lnTo>
                  <a:lnTo>
                    <a:pt x="35" y="269"/>
                  </a:lnTo>
                  <a:lnTo>
                    <a:pt x="47" y="283"/>
                  </a:lnTo>
                  <a:lnTo>
                    <a:pt x="61" y="295"/>
                  </a:lnTo>
                  <a:lnTo>
                    <a:pt x="77" y="308"/>
                  </a:lnTo>
                  <a:lnTo>
                    <a:pt x="93" y="317"/>
                  </a:lnTo>
                  <a:lnTo>
                    <a:pt x="110" y="326"/>
                  </a:lnTo>
                  <a:lnTo>
                    <a:pt x="129" y="333"/>
                  </a:lnTo>
                  <a:lnTo>
                    <a:pt x="148" y="338"/>
                  </a:lnTo>
                  <a:lnTo>
                    <a:pt x="168" y="343"/>
                  </a:lnTo>
                  <a:lnTo>
                    <a:pt x="187" y="345"/>
                  </a:lnTo>
                  <a:lnTo>
                    <a:pt x="209" y="3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03760" y="3191760"/>
              <a:ext cx="106560" cy="77400"/>
            </a:xfrm>
            <a:custGeom>
              <a:avLst/>
              <a:gdLst/>
              <a:ahLst/>
              <a:rect l="l" t="t" r="r" b="b"/>
              <a:pathLst>
                <a:path w="201" h="168">
                  <a:moveTo>
                    <a:pt x="0" y="84"/>
                  </a:moveTo>
                  <a:lnTo>
                    <a:pt x="1" y="68"/>
                  </a:lnTo>
                  <a:lnTo>
                    <a:pt x="8" y="52"/>
                  </a:lnTo>
                  <a:lnTo>
                    <a:pt x="17" y="38"/>
                  </a:lnTo>
                  <a:lnTo>
                    <a:pt x="29" y="26"/>
                  </a:lnTo>
                  <a:lnTo>
                    <a:pt x="37" y="20"/>
                  </a:lnTo>
                  <a:lnTo>
                    <a:pt x="45" y="15"/>
                  </a:lnTo>
                  <a:lnTo>
                    <a:pt x="53" y="10"/>
                  </a:lnTo>
                  <a:lnTo>
                    <a:pt x="62" y="7"/>
                  </a:lnTo>
                  <a:lnTo>
                    <a:pt x="71" y="4"/>
                  </a:lnTo>
                  <a:lnTo>
                    <a:pt x="81" y="1"/>
                  </a:lnTo>
                  <a:lnTo>
                    <a:pt x="91" y="0"/>
                  </a:lnTo>
                  <a:lnTo>
                    <a:pt x="101" y="0"/>
                  </a:lnTo>
                  <a:lnTo>
                    <a:pt x="110" y="0"/>
                  </a:lnTo>
                  <a:lnTo>
                    <a:pt x="121" y="1"/>
                  </a:lnTo>
                  <a:lnTo>
                    <a:pt x="130" y="4"/>
                  </a:lnTo>
                  <a:lnTo>
                    <a:pt x="139" y="7"/>
                  </a:lnTo>
                  <a:lnTo>
                    <a:pt x="148" y="10"/>
                  </a:lnTo>
                  <a:lnTo>
                    <a:pt x="156" y="15"/>
                  </a:lnTo>
                  <a:lnTo>
                    <a:pt x="164" y="20"/>
                  </a:lnTo>
                  <a:lnTo>
                    <a:pt x="172" y="26"/>
                  </a:lnTo>
                  <a:lnTo>
                    <a:pt x="184" y="38"/>
                  </a:lnTo>
                  <a:lnTo>
                    <a:pt x="194" y="52"/>
                  </a:lnTo>
                  <a:lnTo>
                    <a:pt x="200" y="68"/>
                  </a:lnTo>
                  <a:lnTo>
                    <a:pt x="201" y="84"/>
                  </a:lnTo>
                  <a:lnTo>
                    <a:pt x="199" y="101"/>
                  </a:lnTo>
                  <a:lnTo>
                    <a:pt x="194" y="117"/>
                  </a:lnTo>
                  <a:lnTo>
                    <a:pt x="184" y="131"/>
                  </a:lnTo>
                  <a:lnTo>
                    <a:pt x="172" y="144"/>
                  </a:lnTo>
                  <a:lnTo>
                    <a:pt x="158" y="153"/>
                  </a:lnTo>
                  <a:lnTo>
                    <a:pt x="140" y="161"/>
                  </a:lnTo>
                  <a:lnTo>
                    <a:pt x="121" y="166"/>
                  </a:lnTo>
                  <a:lnTo>
                    <a:pt x="101" y="168"/>
                  </a:lnTo>
                  <a:lnTo>
                    <a:pt x="91" y="168"/>
                  </a:lnTo>
                  <a:lnTo>
                    <a:pt x="81" y="167"/>
                  </a:lnTo>
                  <a:lnTo>
                    <a:pt x="71" y="165"/>
                  </a:lnTo>
                  <a:lnTo>
                    <a:pt x="62" y="162"/>
                  </a:lnTo>
                  <a:lnTo>
                    <a:pt x="53" y="159"/>
                  </a:lnTo>
                  <a:lnTo>
                    <a:pt x="45" y="155"/>
                  </a:lnTo>
                  <a:lnTo>
                    <a:pt x="37" y="149"/>
                  </a:lnTo>
                  <a:lnTo>
                    <a:pt x="29" y="144"/>
                  </a:lnTo>
                  <a:lnTo>
                    <a:pt x="17" y="131"/>
                  </a:lnTo>
                  <a:lnTo>
                    <a:pt x="8" y="117"/>
                  </a:lnTo>
                  <a:lnTo>
                    <a:pt x="1" y="101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171920" y="3150000"/>
              <a:ext cx="220680" cy="160560"/>
            </a:xfrm>
            <a:custGeom>
              <a:avLst/>
              <a:gdLst/>
              <a:ahLst/>
              <a:rect l="l" t="t" r="r" b="b"/>
              <a:pathLst>
                <a:path w="417" h="346">
                  <a:moveTo>
                    <a:pt x="208" y="346"/>
                  </a:moveTo>
                  <a:lnTo>
                    <a:pt x="230" y="345"/>
                  </a:lnTo>
                  <a:lnTo>
                    <a:pt x="249" y="343"/>
                  </a:lnTo>
                  <a:lnTo>
                    <a:pt x="269" y="338"/>
                  </a:lnTo>
                  <a:lnTo>
                    <a:pt x="288" y="333"/>
                  </a:lnTo>
                  <a:lnTo>
                    <a:pt x="306" y="326"/>
                  </a:lnTo>
                  <a:lnTo>
                    <a:pt x="324" y="317"/>
                  </a:lnTo>
                  <a:lnTo>
                    <a:pt x="341" y="308"/>
                  </a:lnTo>
                  <a:lnTo>
                    <a:pt x="356" y="295"/>
                  </a:lnTo>
                  <a:lnTo>
                    <a:pt x="370" y="283"/>
                  </a:lnTo>
                  <a:lnTo>
                    <a:pt x="382" y="269"/>
                  </a:lnTo>
                  <a:lnTo>
                    <a:pt x="393" y="255"/>
                  </a:lnTo>
                  <a:lnTo>
                    <a:pt x="401" y="239"/>
                  </a:lnTo>
                  <a:lnTo>
                    <a:pt x="407" y="224"/>
                  </a:lnTo>
                  <a:lnTo>
                    <a:pt x="413" y="207"/>
                  </a:lnTo>
                  <a:lnTo>
                    <a:pt x="415" y="191"/>
                  </a:lnTo>
                  <a:lnTo>
                    <a:pt x="417" y="173"/>
                  </a:lnTo>
                  <a:lnTo>
                    <a:pt x="415" y="155"/>
                  </a:lnTo>
                  <a:lnTo>
                    <a:pt x="413" y="139"/>
                  </a:lnTo>
                  <a:lnTo>
                    <a:pt x="407" y="122"/>
                  </a:lnTo>
                  <a:lnTo>
                    <a:pt x="401" y="107"/>
                  </a:lnTo>
                  <a:lnTo>
                    <a:pt x="393" y="92"/>
                  </a:lnTo>
                  <a:lnTo>
                    <a:pt x="382" y="77"/>
                  </a:lnTo>
                  <a:lnTo>
                    <a:pt x="370" y="64"/>
                  </a:lnTo>
                  <a:lnTo>
                    <a:pt x="356" y="51"/>
                  </a:lnTo>
                  <a:lnTo>
                    <a:pt x="341" y="40"/>
                  </a:lnTo>
                  <a:lnTo>
                    <a:pt x="324" y="30"/>
                  </a:lnTo>
                  <a:lnTo>
                    <a:pt x="306" y="21"/>
                  </a:lnTo>
                  <a:lnTo>
                    <a:pt x="288" y="13"/>
                  </a:lnTo>
                  <a:lnTo>
                    <a:pt x="269" y="8"/>
                  </a:lnTo>
                  <a:lnTo>
                    <a:pt x="249" y="3"/>
                  </a:lnTo>
                  <a:lnTo>
                    <a:pt x="230" y="1"/>
                  </a:lnTo>
                  <a:lnTo>
                    <a:pt x="208" y="0"/>
                  </a:lnTo>
                  <a:lnTo>
                    <a:pt x="167" y="3"/>
                  </a:lnTo>
                  <a:lnTo>
                    <a:pt x="127" y="13"/>
                  </a:lnTo>
                  <a:lnTo>
                    <a:pt x="93" y="30"/>
                  </a:lnTo>
                  <a:lnTo>
                    <a:pt x="61" y="51"/>
                  </a:lnTo>
                  <a:lnTo>
                    <a:pt x="36" y="77"/>
                  </a:lnTo>
                  <a:lnTo>
                    <a:pt x="16" y="106"/>
                  </a:lnTo>
                  <a:lnTo>
                    <a:pt x="4" y="139"/>
                  </a:lnTo>
                  <a:lnTo>
                    <a:pt x="0" y="173"/>
                  </a:lnTo>
                  <a:lnTo>
                    <a:pt x="1" y="191"/>
                  </a:lnTo>
                  <a:lnTo>
                    <a:pt x="4" y="207"/>
                  </a:lnTo>
                  <a:lnTo>
                    <a:pt x="9" y="224"/>
                  </a:lnTo>
                  <a:lnTo>
                    <a:pt x="16" y="239"/>
                  </a:lnTo>
                  <a:lnTo>
                    <a:pt x="24" y="255"/>
                  </a:lnTo>
                  <a:lnTo>
                    <a:pt x="35" y="269"/>
                  </a:lnTo>
                  <a:lnTo>
                    <a:pt x="46" y="283"/>
                  </a:lnTo>
                  <a:lnTo>
                    <a:pt x="61" y="295"/>
                  </a:lnTo>
                  <a:lnTo>
                    <a:pt x="77" y="308"/>
                  </a:lnTo>
                  <a:lnTo>
                    <a:pt x="93" y="317"/>
                  </a:lnTo>
                  <a:lnTo>
                    <a:pt x="110" y="326"/>
                  </a:lnTo>
                  <a:lnTo>
                    <a:pt x="129" y="333"/>
                  </a:lnTo>
                  <a:lnTo>
                    <a:pt x="147" y="338"/>
                  </a:lnTo>
                  <a:lnTo>
                    <a:pt x="167" y="343"/>
                  </a:lnTo>
                  <a:lnTo>
                    <a:pt x="187" y="345"/>
                  </a:lnTo>
                  <a:lnTo>
                    <a:pt x="208" y="3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229160" y="3191760"/>
              <a:ext cx="106560" cy="77400"/>
            </a:xfrm>
            <a:custGeom>
              <a:avLst/>
              <a:gdLst/>
              <a:ahLst/>
              <a:rect l="l" t="t" r="r" b="b"/>
              <a:pathLst>
                <a:path w="202" h="168">
                  <a:moveTo>
                    <a:pt x="0" y="84"/>
                  </a:moveTo>
                  <a:lnTo>
                    <a:pt x="2" y="68"/>
                  </a:lnTo>
                  <a:lnTo>
                    <a:pt x="8" y="52"/>
                  </a:lnTo>
                  <a:lnTo>
                    <a:pt x="18" y="38"/>
                  </a:lnTo>
                  <a:lnTo>
                    <a:pt x="30" y="26"/>
                  </a:lnTo>
                  <a:lnTo>
                    <a:pt x="38" y="20"/>
                  </a:lnTo>
                  <a:lnTo>
                    <a:pt x="46" y="15"/>
                  </a:lnTo>
                  <a:lnTo>
                    <a:pt x="54" y="10"/>
                  </a:lnTo>
                  <a:lnTo>
                    <a:pt x="63" y="7"/>
                  </a:lnTo>
                  <a:lnTo>
                    <a:pt x="72" y="4"/>
                  </a:lnTo>
                  <a:lnTo>
                    <a:pt x="81" y="1"/>
                  </a:lnTo>
                  <a:lnTo>
                    <a:pt x="92" y="0"/>
                  </a:lnTo>
                  <a:lnTo>
                    <a:pt x="101" y="0"/>
                  </a:lnTo>
                  <a:lnTo>
                    <a:pt x="111" y="0"/>
                  </a:lnTo>
                  <a:lnTo>
                    <a:pt x="121" y="1"/>
                  </a:lnTo>
                  <a:lnTo>
                    <a:pt x="131" y="4"/>
                  </a:lnTo>
                  <a:lnTo>
                    <a:pt x="140" y="7"/>
                  </a:lnTo>
                  <a:lnTo>
                    <a:pt x="149" y="10"/>
                  </a:lnTo>
                  <a:lnTo>
                    <a:pt x="157" y="15"/>
                  </a:lnTo>
                  <a:lnTo>
                    <a:pt x="165" y="20"/>
                  </a:lnTo>
                  <a:lnTo>
                    <a:pt x="173" y="26"/>
                  </a:lnTo>
                  <a:lnTo>
                    <a:pt x="185" y="38"/>
                  </a:lnTo>
                  <a:lnTo>
                    <a:pt x="194" y="52"/>
                  </a:lnTo>
                  <a:lnTo>
                    <a:pt x="201" y="68"/>
                  </a:lnTo>
                  <a:lnTo>
                    <a:pt x="202" y="84"/>
                  </a:lnTo>
                  <a:lnTo>
                    <a:pt x="199" y="101"/>
                  </a:lnTo>
                  <a:lnTo>
                    <a:pt x="194" y="117"/>
                  </a:lnTo>
                  <a:lnTo>
                    <a:pt x="185" y="131"/>
                  </a:lnTo>
                  <a:lnTo>
                    <a:pt x="173" y="144"/>
                  </a:lnTo>
                  <a:lnTo>
                    <a:pt x="158" y="153"/>
                  </a:lnTo>
                  <a:lnTo>
                    <a:pt x="141" y="161"/>
                  </a:lnTo>
                  <a:lnTo>
                    <a:pt x="121" y="166"/>
                  </a:lnTo>
                  <a:lnTo>
                    <a:pt x="101" y="168"/>
                  </a:lnTo>
                  <a:lnTo>
                    <a:pt x="92" y="168"/>
                  </a:lnTo>
                  <a:lnTo>
                    <a:pt x="81" y="167"/>
                  </a:lnTo>
                  <a:lnTo>
                    <a:pt x="72" y="165"/>
                  </a:lnTo>
                  <a:lnTo>
                    <a:pt x="63" y="162"/>
                  </a:lnTo>
                  <a:lnTo>
                    <a:pt x="54" y="159"/>
                  </a:lnTo>
                  <a:lnTo>
                    <a:pt x="46" y="155"/>
                  </a:lnTo>
                  <a:lnTo>
                    <a:pt x="38" y="149"/>
                  </a:lnTo>
                  <a:lnTo>
                    <a:pt x="30" y="144"/>
                  </a:lnTo>
                  <a:lnTo>
                    <a:pt x="18" y="131"/>
                  </a:lnTo>
                  <a:lnTo>
                    <a:pt x="8" y="117"/>
                  </a:lnTo>
                  <a:lnTo>
                    <a:pt x="2" y="101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443720" y="3220920"/>
              <a:ext cx="28440" cy="20520"/>
            </a:xfrm>
            <a:custGeom>
              <a:avLst/>
              <a:gdLst/>
              <a:ahLst/>
              <a:rect l="l" t="t" r="r" b="b"/>
              <a:pathLst>
                <a:path w="56" h="45">
                  <a:moveTo>
                    <a:pt x="28" y="45"/>
                  </a:moveTo>
                  <a:lnTo>
                    <a:pt x="38" y="43"/>
                  </a:lnTo>
                  <a:lnTo>
                    <a:pt x="48" y="39"/>
                  </a:lnTo>
                  <a:lnTo>
                    <a:pt x="53" y="31"/>
                  </a:lnTo>
                  <a:lnTo>
                    <a:pt x="56" y="22"/>
                  </a:lnTo>
                  <a:lnTo>
                    <a:pt x="53" y="13"/>
                  </a:lnTo>
                  <a:lnTo>
                    <a:pt x="48" y="7"/>
                  </a:lnTo>
                  <a:lnTo>
                    <a:pt x="38" y="2"/>
                  </a:lnTo>
                  <a:lnTo>
                    <a:pt x="28" y="0"/>
                  </a:lnTo>
                  <a:lnTo>
                    <a:pt x="17" y="2"/>
                  </a:lnTo>
                  <a:lnTo>
                    <a:pt x="8" y="7"/>
                  </a:lnTo>
                  <a:lnTo>
                    <a:pt x="2" y="13"/>
                  </a:lnTo>
                  <a:lnTo>
                    <a:pt x="0" y="22"/>
                  </a:lnTo>
                  <a:lnTo>
                    <a:pt x="2" y="31"/>
                  </a:lnTo>
                  <a:lnTo>
                    <a:pt x="8" y="39"/>
                  </a:lnTo>
                  <a:lnTo>
                    <a:pt x="17" y="43"/>
                  </a:lnTo>
                  <a:lnTo>
                    <a:pt x="2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267320" y="3220920"/>
              <a:ext cx="30240" cy="20520"/>
            </a:xfrm>
            <a:custGeom>
              <a:avLst/>
              <a:gdLst/>
              <a:ahLst/>
              <a:rect l="l" t="t" r="r" b="b"/>
              <a:pathLst>
                <a:path w="56" h="45">
                  <a:moveTo>
                    <a:pt x="28" y="45"/>
                  </a:moveTo>
                  <a:lnTo>
                    <a:pt x="39" y="43"/>
                  </a:lnTo>
                  <a:lnTo>
                    <a:pt x="48" y="39"/>
                  </a:lnTo>
                  <a:lnTo>
                    <a:pt x="54" y="31"/>
                  </a:lnTo>
                  <a:lnTo>
                    <a:pt x="56" y="22"/>
                  </a:lnTo>
                  <a:lnTo>
                    <a:pt x="54" y="13"/>
                  </a:lnTo>
                  <a:lnTo>
                    <a:pt x="48" y="7"/>
                  </a:lnTo>
                  <a:lnTo>
                    <a:pt x="39" y="2"/>
                  </a:lnTo>
                  <a:lnTo>
                    <a:pt x="28" y="0"/>
                  </a:lnTo>
                  <a:lnTo>
                    <a:pt x="18" y="2"/>
                  </a:lnTo>
                  <a:lnTo>
                    <a:pt x="8" y="7"/>
                  </a:lnTo>
                  <a:lnTo>
                    <a:pt x="3" y="13"/>
                  </a:lnTo>
                  <a:lnTo>
                    <a:pt x="0" y="22"/>
                  </a:lnTo>
                  <a:lnTo>
                    <a:pt x="3" y="31"/>
                  </a:lnTo>
                  <a:lnTo>
                    <a:pt x="8" y="39"/>
                  </a:lnTo>
                  <a:lnTo>
                    <a:pt x="18" y="43"/>
                  </a:lnTo>
                  <a:lnTo>
                    <a:pt x="2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649600" y="4437000"/>
            <a:ext cx="1584360" cy="1099440"/>
            <a:chOff x="2649600" y="4437000"/>
            <a:chExt cx="1584360" cy="1099440"/>
          </a:xfrm>
        </p:grpSpPr>
        <p:sp>
          <p:nvSpPr>
            <p:cNvPr id="257" name=""/>
            <p:cNvSpPr/>
            <p:nvPr/>
          </p:nvSpPr>
          <p:spPr>
            <a:xfrm>
              <a:off x="3440160" y="4437000"/>
              <a:ext cx="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49600" y="5229360"/>
              <a:ext cx="158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tes del 31/0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4521240" y="4437000"/>
            <a:ext cx="1584360" cy="1099440"/>
            <a:chOff x="4521240" y="4437000"/>
            <a:chExt cx="1584360" cy="1099440"/>
          </a:xfrm>
        </p:grpSpPr>
        <p:sp>
          <p:nvSpPr>
            <p:cNvPr id="260" name=""/>
            <p:cNvSpPr/>
            <p:nvPr/>
          </p:nvSpPr>
          <p:spPr>
            <a:xfrm>
              <a:off x="4521240" y="5229360"/>
              <a:ext cx="158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tes del 15/0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13240" y="4437000"/>
              <a:ext cx="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392880" y="4437000"/>
            <a:ext cx="1800360" cy="1099440"/>
            <a:chOff x="6392880" y="4437000"/>
            <a:chExt cx="1800360" cy="1099440"/>
          </a:xfrm>
        </p:grpSpPr>
        <p:sp>
          <p:nvSpPr>
            <p:cNvPr id="263" name=""/>
            <p:cNvSpPr/>
            <p:nvPr/>
          </p:nvSpPr>
          <p:spPr>
            <a:xfrm>
              <a:off x="6392880" y="5229360"/>
              <a:ext cx="180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pués del 1/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184880" y="4437000"/>
              <a:ext cx="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7257960" y="4724280"/>
            <a:ext cx="1295640" cy="360360"/>
          </a:xfrm>
          <a:prstGeom prst="rightArrow">
            <a:avLst>
              <a:gd name="adj1" fmla="val 86769"/>
              <a:gd name="adj2" fmla="val 37452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jercicio X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368520" y="5533560"/>
            <a:ext cx="3924360" cy="898560"/>
            <a:chOff x="3368520" y="5533560"/>
            <a:chExt cx="3924360" cy="898560"/>
          </a:xfrm>
        </p:grpSpPr>
        <p:cxnSp>
          <p:nvCxnSpPr>
            <p:cNvPr id="267" name=""/>
            <p:cNvCxnSpPr>
              <a:stCxn id="263" idx="2"/>
              <a:endCxn id="258" idx="2"/>
            </p:cNvCxnSpPr>
            <p:nvPr/>
          </p:nvCxnSpPr>
          <p:spPr>
            <a:xfrm rot="5400000">
              <a:off x="5365800" y="3609000"/>
              <a:ext cx="2520" cy="3852000"/>
            </a:xfrm>
            <a:prstGeom prst="bentConnector3">
              <a:avLst>
                <a:gd name="adj1" fmla="val 41600000"/>
              </a:avLst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268" name=""/>
            <p:cNvSpPr/>
            <p:nvPr/>
          </p:nvSpPr>
          <p:spPr>
            <a:xfrm>
              <a:off x="3368520" y="5950080"/>
              <a:ext cx="2376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 días antes del Cierre de Ejerc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5168880" y="5533560"/>
            <a:ext cx="2015280" cy="520560"/>
            <a:chOff x="5168880" y="5533560"/>
            <a:chExt cx="2015280" cy="520560"/>
          </a:xfrm>
        </p:grpSpPr>
        <p:cxnSp>
          <p:nvCxnSpPr>
            <p:cNvPr id="270" name=""/>
            <p:cNvCxnSpPr>
              <a:stCxn id="263" idx="2"/>
              <a:endCxn id="260" idx="2"/>
            </p:cNvCxnSpPr>
            <p:nvPr/>
          </p:nvCxnSpPr>
          <p:spPr>
            <a:xfrm rot="5400000">
              <a:off x="6243480" y="4595040"/>
              <a:ext cx="2520" cy="1879560"/>
            </a:xfrm>
            <a:prstGeom prst="bentConnector3">
              <a:avLst>
                <a:gd name="adj1" fmla="val 24100000"/>
              </a:avLst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271" name=""/>
            <p:cNvSpPr/>
            <p:nvPr/>
          </p:nvSpPr>
          <p:spPr>
            <a:xfrm>
              <a:off x="5168880" y="5661000"/>
              <a:ext cx="1640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 días antes del Cier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4809960" y="2200320"/>
            <a:ext cx="1511640" cy="1658880"/>
            <a:chOff x="4809960" y="2200320"/>
            <a:chExt cx="1511640" cy="1658880"/>
          </a:xfrm>
        </p:grpSpPr>
        <p:graphicFrame>
          <p:nvGraphicFramePr>
            <p:cNvPr id="273" name=""/>
            <p:cNvGraphicFramePr/>
            <p:nvPr/>
          </p:nvGraphicFramePr>
          <p:xfrm>
            <a:off x="4881600" y="2492280"/>
            <a:ext cx="936720" cy="871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81600" y="2492280"/>
                      <a:ext cx="936720" cy="87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5" name=""/>
            <p:cNvSpPr/>
            <p:nvPr/>
          </p:nvSpPr>
          <p:spPr>
            <a:xfrm>
              <a:off x="4809960" y="2200320"/>
              <a:ext cx="1008360" cy="39168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Director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16520" y="3429000"/>
              <a:ext cx="505080" cy="430200"/>
            </a:xfrm>
            <a:prstGeom prst="flowChartDocumen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"/>
                </a:rPr>
                <a:t>Acta 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"/>
                </a:rPr>
                <a:t>Directori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6537240" y="2205000"/>
            <a:ext cx="1368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able 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1076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es y Registro de Actuaciones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es. SSN 31.231/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992160" y="1195560"/>
            <a:ext cx="7777080" cy="936360"/>
            <a:chOff x="992160" y="1195560"/>
            <a:chExt cx="7777080" cy="936360"/>
          </a:xfrm>
        </p:grpSpPr>
        <p:sp>
          <p:nvSpPr>
            <p:cNvPr id="280" name=""/>
            <p:cNvSpPr/>
            <p:nvPr/>
          </p:nvSpPr>
          <p:spPr>
            <a:xfrm>
              <a:off x="2576520" y="1195560"/>
              <a:ext cx="619272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l PACI debe prever como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mínimo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la confección de informes semestrales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92160" y="1195560"/>
              <a:ext cx="1152720" cy="936360"/>
            </a:xfrm>
            <a:prstGeom prst="flowChartDocumen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C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505240" y="2349360"/>
            <a:ext cx="360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en numerarse, datarse, estar firmados por el Responsable de CI y transcribirse dentro de las 48hs de su emis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065240" y="3500280"/>
            <a:ext cx="7632720" cy="863640"/>
            <a:chOff x="1065240" y="3500280"/>
            <a:chExt cx="7632720" cy="863640"/>
          </a:xfrm>
        </p:grpSpPr>
        <p:sp>
          <p:nvSpPr>
            <p:cNvPr id="284" name=""/>
            <p:cNvSpPr/>
            <p:nvPr/>
          </p:nvSpPr>
          <p:spPr>
            <a:xfrm>
              <a:off x="1065240" y="3500280"/>
              <a:ext cx="1081080" cy="863640"/>
            </a:xfrm>
            <a:prstGeom prst="flowChartInternalStora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bro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tuacio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 C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505240" y="3500280"/>
              <a:ext cx="6192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ibro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obligatorio y rubricado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denominado "Libro de Actuaciones de Control Interno“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1065240" y="4508640"/>
            <a:ext cx="7632720" cy="936360"/>
            <a:chOff x="1065240" y="4508640"/>
            <a:chExt cx="7632720" cy="936360"/>
          </a:xfrm>
        </p:grpSpPr>
        <p:grpSp>
          <p:nvGrpSpPr>
            <p:cNvPr id="287" name=""/>
            <p:cNvGrpSpPr/>
            <p:nvPr/>
          </p:nvGrpSpPr>
          <p:grpSpPr>
            <a:xfrm>
              <a:off x="1065240" y="4581360"/>
              <a:ext cx="1152000" cy="863640"/>
              <a:chOff x="1065240" y="4581360"/>
              <a:chExt cx="1152000" cy="863640"/>
            </a:xfrm>
          </p:grpSpPr>
          <p:sp>
            <p:nvSpPr>
              <p:cNvPr id="288" name=""/>
              <p:cNvSpPr/>
              <p:nvPr/>
            </p:nvSpPr>
            <p:spPr>
              <a:xfrm>
                <a:off x="1353960" y="4653000"/>
                <a:ext cx="863280" cy="792000"/>
              </a:xfrm>
              <a:prstGeom prst="flowChartDocumen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065240" y="4581360"/>
                <a:ext cx="1079280" cy="792360"/>
              </a:xfrm>
              <a:prstGeom prst="flowChartDocument">
                <a:avLst/>
              </a:prstGeom>
              <a:solidFill>
                <a:srgbClr val="ffffff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ff"/>
                    </a:solidFill>
                    <a:latin typeface="Arial"/>
                  </a:rPr>
                  <a:t>Act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ff"/>
                    </a:solidFill>
                    <a:latin typeface="Arial"/>
                  </a:rPr>
                  <a:t>Directori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2505240" y="4508640"/>
              <a:ext cx="6192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l Órgano de Administración considerará por Acta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todos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los Informes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vinculados al Programa Anual de Control Interno a fin de adoptar las medidas para evitar reiteraciones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1065240" y="2347920"/>
            <a:ext cx="1152360" cy="9367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537240" y="2349360"/>
            <a:ext cx="324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enen las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ugerencias u Observaciones Concretas y Precisa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sobre los Procedimientos Aproba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176880" y="2349360"/>
            <a:ext cx="142920" cy="720720"/>
          </a:xfrm>
          <a:custGeom>
            <a:avLst/>
            <a:gdLst>
              <a:gd name="textAreaLeft" fmla="*/ 0 w 142920"/>
              <a:gd name="textAreaRight" fmla="*/ 51480 w 14292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4" name=""/>
          <p:cNvCxnSpPr>
            <a:stCxn id="281" idx="1"/>
            <a:endCxn id="291" idx="1"/>
          </p:cNvCxnSpPr>
          <p:nvPr/>
        </p:nvCxnSpPr>
        <p:spPr>
          <a:xfrm flipH="1" flipV="1" rot="10800000">
            <a:off x="991080" y="1663200"/>
            <a:ext cx="73800" cy="1153440"/>
          </a:xfrm>
          <a:prstGeom prst="bentConnector3">
            <a:avLst>
              <a:gd name="adj1" fmla="val -312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5" name=""/>
          <p:cNvCxnSpPr>
            <a:stCxn id="291" idx="3"/>
            <a:endCxn id="284" idx="3"/>
          </p:cNvCxnSpPr>
          <p:nvPr/>
        </p:nvCxnSpPr>
        <p:spPr>
          <a:xfrm flipH="1">
            <a:off x="2145960" y="2816280"/>
            <a:ext cx="72000" cy="1116720"/>
          </a:xfrm>
          <a:prstGeom prst="bentConnector3">
            <a:avLst>
              <a:gd name="adj1" fmla="val -31959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"/>
          <p:cNvCxnSpPr>
            <a:stCxn id="291" idx="3"/>
            <a:endCxn id="289" idx="3"/>
          </p:cNvCxnSpPr>
          <p:nvPr/>
        </p:nvCxnSpPr>
        <p:spPr>
          <a:xfrm flipH="1">
            <a:off x="2144520" y="2816280"/>
            <a:ext cx="73440" cy="2162880"/>
          </a:xfrm>
          <a:prstGeom prst="bentConnector3">
            <a:avLst>
              <a:gd name="adj1" fmla="val -3128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97" name=""/>
          <p:cNvGrpSpPr/>
          <p:nvPr/>
        </p:nvGrpSpPr>
        <p:grpSpPr>
          <a:xfrm>
            <a:off x="489240" y="1216080"/>
            <a:ext cx="308880" cy="3876480"/>
            <a:chOff x="489240" y="1216080"/>
            <a:chExt cx="308880" cy="3876480"/>
          </a:xfrm>
        </p:grpSpPr>
        <p:sp>
          <p:nvSpPr>
            <p:cNvPr id="298" name=""/>
            <p:cNvSpPr/>
            <p:nvPr/>
          </p:nvSpPr>
          <p:spPr>
            <a:xfrm>
              <a:off x="491040" y="1216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89240" y="2384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91040" y="3554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91040" y="4724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peles de Trabajo</a:t>
            </a:r>
            <a:br>
              <a:rPr sz="2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es. SSN 31.231/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712880" y="4437000"/>
            <a:ext cx="80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La descripción de la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area realizad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Los datos y antecedentes recogidos durante el desarrollo de la ta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) Las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imitacion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 alcance de la ta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) Las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clusion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bre el examen de cada rubro o área y las conclusiones finales o generales del trabaj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727720" y="2997360"/>
            <a:ext cx="43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á a cargo de su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ustodia y resguar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591000" y="2133720"/>
            <a:ext cx="2665440" cy="647640"/>
          </a:xfrm>
          <a:prstGeom prst="downArrow">
            <a:avLst>
              <a:gd name="adj1" fmla="val 52130"/>
              <a:gd name="adj2" fmla="val 3314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guar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591000" y="3573360"/>
            <a:ext cx="2665440" cy="647640"/>
          </a:xfrm>
          <a:prstGeom prst="downArrow">
            <a:avLst>
              <a:gd name="adj1" fmla="val 52130"/>
              <a:gd name="adj2" fmla="val 33148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en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898280" y="2852640"/>
            <a:ext cx="803520" cy="1004760"/>
            <a:chOff x="1898280" y="2852640"/>
            <a:chExt cx="803520" cy="1004760"/>
          </a:xfrm>
        </p:grpSpPr>
        <p:sp>
          <p:nvSpPr>
            <p:cNvPr id="308" name=""/>
            <p:cNvSpPr/>
            <p:nvPr/>
          </p:nvSpPr>
          <p:spPr>
            <a:xfrm>
              <a:off x="2090520" y="3415680"/>
              <a:ext cx="611280" cy="441720"/>
            </a:xfrm>
            <a:custGeom>
              <a:avLst/>
              <a:gdLst/>
              <a:ahLst/>
              <a:rect l="l" t="t" r="r" b="b"/>
              <a:pathLst>
                <a:path w="1154" h="956">
                  <a:moveTo>
                    <a:pt x="577" y="0"/>
                  </a:moveTo>
                  <a:lnTo>
                    <a:pt x="635" y="2"/>
                  </a:lnTo>
                  <a:lnTo>
                    <a:pt x="694" y="10"/>
                  </a:lnTo>
                  <a:lnTo>
                    <a:pt x="748" y="21"/>
                  </a:lnTo>
                  <a:lnTo>
                    <a:pt x="801" y="37"/>
                  </a:lnTo>
                  <a:lnTo>
                    <a:pt x="852" y="57"/>
                  </a:lnTo>
                  <a:lnTo>
                    <a:pt x="899" y="81"/>
                  </a:lnTo>
                  <a:lnTo>
                    <a:pt x="944" y="109"/>
                  </a:lnTo>
                  <a:lnTo>
                    <a:pt x="986" y="140"/>
                  </a:lnTo>
                  <a:lnTo>
                    <a:pt x="1023" y="174"/>
                  </a:lnTo>
                  <a:lnTo>
                    <a:pt x="1056" y="210"/>
                  </a:lnTo>
                  <a:lnTo>
                    <a:pt x="1084" y="250"/>
                  </a:lnTo>
                  <a:lnTo>
                    <a:pt x="1109" y="292"/>
                  </a:lnTo>
                  <a:lnTo>
                    <a:pt x="1127" y="335"/>
                  </a:lnTo>
                  <a:lnTo>
                    <a:pt x="1142" y="381"/>
                  </a:lnTo>
                  <a:lnTo>
                    <a:pt x="1151" y="428"/>
                  </a:lnTo>
                  <a:lnTo>
                    <a:pt x="1154" y="477"/>
                  </a:lnTo>
                  <a:lnTo>
                    <a:pt x="1151" y="526"/>
                  </a:lnTo>
                  <a:lnTo>
                    <a:pt x="1142" y="574"/>
                  </a:lnTo>
                  <a:lnTo>
                    <a:pt x="1127" y="620"/>
                  </a:lnTo>
                  <a:lnTo>
                    <a:pt x="1109" y="664"/>
                  </a:lnTo>
                  <a:lnTo>
                    <a:pt x="1084" y="706"/>
                  </a:lnTo>
                  <a:lnTo>
                    <a:pt x="1056" y="746"/>
                  </a:lnTo>
                  <a:lnTo>
                    <a:pt x="1023" y="782"/>
                  </a:lnTo>
                  <a:lnTo>
                    <a:pt x="986" y="816"/>
                  </a:lnTo>
                  <a:lnTo>
                    <a:pt x="944" y="847"/>
                  </a:lnTo>
                  <a:lnTo>
                    <a:pt x="899" y="874"/>
                  </a:lnTo>
                  <a:lnTo>
                    <a:pt x="852" y="899"/>
                  </a:lnTo>
                  <a:lnTo>
                    <a:pt x="801" y="919"/>
                  </a:lnTo>
                  <a:lnTo>
                    <a:pt x="748" y="935"/>
                  </a:lnTo>
                  <a:lnTo>
                    <a:pt x="694" y="946"/>
                  </a:lnTo>
                  <a:lnTo>
                    <a:pt x="635" y="954"/>
                  </a:lnTo>
                  <a:lnTo>
                    <a:pt x="577" y="956"/>
                  </a:lnTo>
                  <a:lnTo>
                    <a:pt x="519" y="954"/>
                  </a:lnTo>
                  <a:lnTo>
                    <a:pt x="460" y="946"/>
                  </a:lnTo>
                  <a:lnTo>
                    <a:pt x="406" y="935"/>
                  </a:lnTo>
                  <a:lnTo>
                    <a:pt x="353" y="919"/>
                  </a:lnTo>
                  <a:lnTo>
                    <a:pt x="302" y="899"/>
                  </a:lnTo>
                  <a:lnTo>
                    <a:pt x="255" y="874"/>
                  </a:lnTo>
                  <a:lnTo>
                    <a:pt x="209" y="847"/>
                  </a:lnTo>
                  <a:lnTo>
                    <a:pt x="170" y="816"/>
                  </a:lnTo>
                  <a:lnTo>
                    <a:pt x="131" y="782"/>
                  </a:lnTo>
                  <a:lnTo>
                    <a:pt x="98" y="746"/>
                  </a:lnTo>
                  <a:lnTo>
                    <a:pt x="70" y="706"/>
                  </a:lnTo>
                  <a:lnTo>
                    <a:pt x="45" y="664"/>
                  </a:lnTo>
                  <a:lnTo>
                    <a:pt x="26" y="620"/>
                  </a:lnTo>
                  <a:lnTo>
                    <a:pt x="12" y="574"/>
                  </a:lnTo>
                  <a:lnTo>
                    <a:pt x="2" y="526"/>
                  </a:lnTo>
                  <a:lnTo>
                    <a:pt x="0" y="477"/>
                  </a:lnTo>
                  <a:lnTo>
                    <a:pt x="2" y="428"/>
                  </a:lnTo>
                  <a:lnTo>
                    <a:pt x="12" y="381"/>
                  </a:lnTo>
                  <a:lnTo>
                    <a:pt x="26" y="335"/>
                  </a:lnTo>
                  <a:lnTo>
                    <a:pt x="45" y="292"/>
                  </a:lnTo>
                  <a:lnTo>
                    <a:pt x="70" y="250"/>
                  </a:lnTo>
                  <a:lnTo>
                    <a:pt x="98" y="210"/>
                  </a:lnTo>
                  <a:lnTo>
                    <a:pt x="131" y="174"/>
                  </a:lnTo>
                  <a:lnTo>
                    <a:pt x="170" y="140"/>
                  </a:lnTo>
                  <a:lnTo>
                    <a:pt x="209" y="109"/>
                  </a:lnTo>
                  <a:lnTo>
                    <a:pt x="255" y="81"/>
                  </a:lnTo>
                  <a:lnTo>
                    <a:pt x="302" y="57"/>
                  </a:lnTo>
                  <a:lnTo>
                    <a:pt x="353" y="37"/>
                  </a:lnTo>
                  <a:lnTo>
                    <a:pt x="406" y="21"/>
                  </a:lnTo>
                  <a:lnTo>
                    <a:pt x="460" y="10"/>
                  </a:lnTo>
                  <a:lnTo>
                    <a:pt x="519" y="2"/>
                  </a:lnTo>
                  <a:lnTo>
                    <a:pt x="577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058840" y="3347640"/>
              <a:ext cx="453960" cy="439200"/>
            </a:xfrm>
            <a:custGeom>
              <a:avLst/>
              <a:gdLst/>
              <a:ahLst/>
              <a:rect l="l" t="t" r="r" b="b"/>
              <a:pathLst>
                <a:path w="859" h="949">
                  <a:moveTo>
                    <a:pt x="391" y="134"/>
                  </a:moveTo>
                  <a:lnTo>
                    <a:pt x="382" y="133"/>
                  </a:lnTo>
                  <a:lnTo>
                    <a:pt x="373" y="134"/>
                  </a:lnTo>
                  <a:lnTo>
                    <a:pt x="363" y="137"/>
                  </a:lnTo>
                  <a:lnTo>
                    <a:pt x="355" y="140"/>
                  </a:lnTo>
                  <a:lnTo>
                    <a:pt x="349" y="144"/>
                  </a:lnTo>
                  <a:lnTo>
                    <a:pt x="342" y="151"/>
                  </a:lnTo>
                  <a:lnTo>
                    <a:pt x="338" y="158"/>
                  </a:lnTo>
                  <a:lnTo>
                    <a:pt x="334" y="165"/>
                  </a:lnTo>
                  <a:lnTo>
                    <a:pt x="333" y="173"/>
                  </a:lnTo>
                  <a:lnTo>
                    <a:pt x="334" y="181"/>
                  </a:lnTo>
                  <a:lnTo>
                    <a:pt x="337" y="188"/>
                  </a:lnTo>
                  <a:lnTo>
                    <a:pt x="341" y="195"/>
                  </a:lnTo>
                  <a:lnTo>
                    <a:pt x="346" y="201"/>
                  </a:lnTo>
                  <a:lnTo>
                    <a:pt x="354" y="206"/>
                  </a:lnTo>
                  <a:lnTo>
                    <a:pt x="362" y="209"/>
                  </a:lnTo>
                  <a:lnTo>
                    <a:pt x="371" y="213"/>
                  </a:lnTo>
                  <a:lnTo>
                    <a:pt x="410" y="222"/>
                  </a:lnTo>
                  <a:lnTo>
                    <a:pt x="448" y="233"/>
                  </a:lnTo>
                  <a:lnTo>
                    <a:pt x="484" y="246"/>
                  </a:lnTo>
                  <a:lnTo>
                    <a:pt x="518" y="261"/>
                  </a:lnTo>
                  <a:lnTo>
                    <a:pt x="550" y="279"/>
                  </a:lnTo>
                  <a:lnTo>
                    <a:pt x="582" y="299"/>
                  </a:lnTo>
                  <a:lnTo>
                    <a:pt x="610" y="321"/>
                  </a:lnTo>
                  <a:lnTo>
                    <a:pt x="638" y="344"/>
                  </a:lnTo>
                  <a:lnTo>
                    <a:pt x="662" y="369"/>
                  </a:lnTo>
                  <a:lnTo>
                    <a:pt x="684" y="396"/>
                  </a:lnTo>
                  <a:lnTo>
                    <a:pt x="704" y="423"/>
                  </a:lnTo>
                  <a:lnTo>
                    <a:pt x="721" y="453"/>
                  </a:lnTo>
                  <a:lnTo>
                    <a:pt x="736" y="483"/>
                  </a:lnTo>
                  <a:lnTo>
                    <a:pt x="747" y="514"/>
                  </a:lnTo>
                  <a:lnTo>
                    <a:pt x="756" y="545"/>
                  </a:lnTo>
                  <a:lnTo>
                    <a:pt x="761" y="579"/>
                  </a:lnTo>
                  <a:lnTo>
                    <a:pt x="587" y="579"/>
                  </a:lnTo>
                  <a:lnTo>
                    <a:pt x="587" y="729"/>
                  </a:lnTo>
                  <a:lnTo>
                    <a:pt x="560" y="726"/>
                  </a:lnTo>
                  <a:lnTo>
                    <a:pt x="534" y="721"/>
                  </a:lnTo>
                  <a:lnTo>
                    <a:pt x="509" y="712"/>
                  </a:lnTo>
                  <a:lnTo>
                    <a:pt x="487" y="701"/>
                  </a:lnTo>
                  <a:lnTo>
                    <a:pt x="465" y="688"/>
                  </a:lnTo>
                  <a:lnTo>
                    <a:pt x="447" y="672"/>
                  </a:lnTo>
                  <a:lnTo>
                    <a:pt x="430" y="655"/>
                  </a:lnTo>
                  <a:lnTo>
                    <a:pt x="416" y="635"/>
                  </a:lnTo>
                  <a:lnTo>
                    <a:pt x="411" y="628"/>
                  </a:lnTo>
                  <a:lnTo>
                    <a:pt x="404" y="623"/>
                  </a:lnTo>
                  <a:lnTo>
                    <a:pt x="398" y="618"/>
                  </a:lnTo>
                  <a:lnTo>
                    <a:pt x="388" y="615"/>
                  </a:lnTo>
                  <a:lnTo>
                    <a:pt x="381" y="613"/>
                  </a:lnTo>
                  <a:lnTo>
                    <a:pt x="371" y="613"/>
                  </a:lnTo>
                  <a:lnTo>
                    <a:pt x="362" y="614"/>
                  </a:lnTo>
                  <a:lnTo>
                    <a:pt x="353" y="616"/>
                  </a:lnTo>
                  <a:lnTo>
                    <a:pt x="338" y="626"/>
                  </a:lnTo>
                  <a:lnTo>
                    <a:pt x="329" y="639"/>
                  </a:lnTo>
                  <a:lnTo>
                    <a:pt x="326" y="655"/>
                  </a:lnTo>
                  <a:lnTo>
                    <a:pt x="331" y="669"/>
                  </a:lnTo>
                  <a:lnTo>
                    <a:pt x="331" y="669"/>
                  </a:lnTo>
                  <a:lnTo>
                    <a:pt x="341" y="684"/>
                  </a:lnTo>
                  <a:lnTo>
                    <a:pt x="351" y="699"/>
                  </a:lnTo>
                  <a:lnTo>
                    <a:pt x="363" y="713"/>
                  </a:lnTo>
                  <a:lnTo>
                    <a:pt x="377" y="725"/>
                  </a:lnTo>
                  <a:lnTo>
                    <a:pt x="390" y="737"/>
                  </a:lnTo>
                  <a:lnTo>
                    <a:pt x="404" y="749"/>
                  </a:lnTo>
                  <a:lnTo>
                    <a:pt x="420" y="759"/>
                  </a:lnTo>
                  <a:lnTo>
                    <a:pt x="436" y="768"/>
                  </a:lnTo>
                  <a:lnTo>
                    <a:pt x="453" y="777"/>
                  </a:lnTo>
                  <a:lnTo>
                    <a:pt x="471" y="785"/>
                  </a:lnTo>
                  <a:lnTo>
                    <a:pt x="489" y="791"/>
                  </a:lnTo>
                  <a:lnTo>
                    <a:pt x="508" y="797"/>
                  </a:lnTo>
                  <a:lnTo>
                    <a:pt x="526" y="801"/>
                  </a:lnTo>
                  <a:lnTo>
                    <a:pt x="546" y="806"/>
                  </a:lnTo>
                  <a:lnTo>
                    <a:pt x="568" y="808"/>
                  </a:lnTo>
                  <a:lnTo>
                    <a:pt x="587" y="809"/>
                  </a:lnTo>
                  <a:lnTo>
                    <a:pt x="587" y="869"/>
                  </a:lnTo>
                  <a:lnTo>
                    <a:pt x="95" y="869"/>
                  </a:lnTo>
                  <a:lnTo>
                    <a:pt x="95" y="203"/>
                  </a:lnTo>
                  <a:lnTo>
                    <a:pt x="251" y="203"/>
                  </a:lnTo>
                  <a:lnTo>
                    <a:pt x="160" y="24"/>
                  </a:lnTo>
                  <a:lnTo>
                    <a:pt x="155" y="18"/>
                  </a:lnTo>
                  <a:lnTo>
                    <a:pt x="150" y="11"/>
                  </a:lnTo>
                  <a:lnTo>
                    <a:pt x="142" y="7"/>
                  </a:lnTo>
                  <a:lnTo>
                    <a:pt x="134" y="3"/>
                  </a:lnTo>
                  <a:lnTo>
                    <a:pt x="126" y="1"/>
                  </a:lnTo>
                  <a:lnTo>
                    <a:pt x="117" y="0"/>
                  </a:lnTo>
                  <a:lnTo>
                    <a:pt x="107" y="1"/>
                  </a:lnTo>
                  <a:lnTo>
                    <a:pt x="98" y="3"/>
                  </a:lnTo>
                  <a:lnTo>
                    <a:pt x="82" y="12"/>
                  </a:lnTo>
                  <a:lnTo>
                    <a:pt x="73" y="25"/>
                  </a:lnTo>
                  <a:lnTo>
                    <a:pt x="69" y="40"/>
                  </a:lnTo>
                  <a:lnTo>
                    <a:pt x="73" y="55"/>
                  </a:lnTo>
                  <a:lnTo>
                    <a:pt x="73" y="55"/>
                  </a:lnTo>
                  <a:lnTo>
                    <a:pt x="107" y="123"/>
                  </a:lnTo>
                  <a:lnTo>
                    <a:pt x="0" y="123"/>
                  </a:lnTo>
                  <a:lnTo>
                    <a:pt x="0" y="949"/>
                  </a:lnTo>
                  <a:lnTo>
                    <a:pt x="683" y="948"/>
                  </a:lnTo>
                  <a:lnTo>
                    <a:pt x="683" y="658"/>
                  </a:lnTo>
                  <a:lnTo>
                    <a:pt x="859" y="658"/>
                  </a:lnTo>
                  <a:lnTo>
                    <a:pt x="859" y="618"/>
                  </a:lnTo>
                  <a:lnTo>
                    <a:pt x="857" y="575"/>
                  </a:lnTo>
                  <a:lnTo>
                    <a:pt x="850" y="533"/>
                  </a:lnTo>
                  <a:lnTo>
                    <a:pt x="840" y="493"/>
                  </a:lnTo>
                  <a:lnTo>
                    <a:pt x="825" y="453"/>
                  </a:lnTo>
                  <a:lnTo>
                    <a:pt x="805" y="414"/>
                  </a:lnTo>
                  <a:lnTo>
                    <a:pt x="783" y="377"/>
                  </a:lnTo>
                  <a:lnTo>
                    <a:pt x="756" y="343"/>
                  </a:lnTo>
                  <a:lnTo>
                    <a:pt x="727" y="309"/>
                  </a:lnTo>
                  <a:lnTo>
                    <a:pt x="694" y="278"/>
                  </a:lnTo>
                  <a:lnTo>
                    <a:pt x="658" y="249"/>
                  </a:lnTo>
                  <a:lnTo>
                    <a:pt x="619" y="223"/>
                  </a:lnTo>
                  <a:lnTo>
                    <a:pt x="578" y="200"/>
                  </a:lnTo>
                  <a:lnTo>
                    <a:pt x="534" y="179"/>
                  </a:lnTo>
                  <a:lnTo>
                    <a:pt x="489" y="160"/>
                  </a:lnTo>
                  <a:lnTo>
                    <a:pt x="442" y="146"/>
                  </a:lnTo>
                  <a:lnTo>
                    <a:pt x="391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193840" y="3240720"/>
              <a:ext cx="39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136600" y="3294720"/>
              <a:ext cx="152280" cy="90000"/>
            </a:xfrm>
            <a:custGeom>
              <a:avLst/>
              <a:gdLst/>
              <a:ahLst/>
              <a:rect l="l" t="t" r="r" b="b"/>
              <a:pathLst>
                <a:path w="288" h="196">
                  <a:moveTo>
                    <a:pt x="106" y="63"/>
                  </a:moveTo>
                  <a:lnTo>
                    <a:pt x="0" y="63"/>
                  </a:lnTo>
                  <a:lnTo>
                    <a:pt x="145" y="196"/>
                  </a:lnTo>
                  <a:lnTo>
                    <a:pt x="288" y="63"/>
                  </a:lnTo>
                  <a:lnTo>
                    <a:pt x="183" y="63"/>
                  </a:lnTo>
                  <a:lnTo>
                    <a:pt x="183" y="0"/>
                  </a:lnTo>
                  <a:lnTo>
                    <a:pt x="106" y="0"/>
                  </a:lnTo>
                  <a:lnTo>
                    <a:pt x="10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79280" y="3010680"/>
              <a:ext cx="195480" cy="51120"/>
            </a:xfrm>
            <a:custGeom>
              <a:avLst/>
              <a:gdLst/>
              <a:ahLst/>
              <a:rect l="l" t="t" r="r" b="b"/>
              <a:pathLst>
                <a:path w="369" h="110">
                  <a:moveTo>
                    <a:pt x="358" y="75"/>
                  </a:moveTo>
                  <a:lnTo>
                    <a:pt x="358" y="75"/>
                  </a:lnTo>
                  <a:lnTo>
                    <a:pt x="341" y="66"/>
                  </a:lnTo>
                  <a:lnTo>
                    <a:pt x="324" y="57"/>
                  </a:lnTo>
                  <a:lnTo>
                    <a:pt x="305" y="49"/>
                  </a:lnTo>
                  <a:lnTo>
                    <a:pt x="286" y="43"/>
                  </a:lnTo>
                  <a:lnTo>
                    <a:pt x="267" y="36"/>
                  </a:lnTo>
                  <a:lnTo>
                    <a:pt x="247" y="29"/>
                  </a:lnTo>
                  <a:lnTo>
                    <a:pt x="225" y="24"/>
                  </a:lnTo>
                  <a:lnTo>
                    <a:pt x="205" y="18"/>
                  </a:lnTo>
                  <a:lnTo>
                    <a:pt x="183" y="14"/>
                  </a:lnTo>
                  <a:lnTo>
                    <a:pt x="162" y="11"/>
                  </a:lnTo>
                  <a:lnTo>
                    <a:pt x="139" y="7"/>
                  </a:lnTo>
                  <a:lnTo>
                    <a:pt x="117" y="4"/>
                  </a:lnTo>
                  <a:lnTo>
                    <a:pt x="94" y="3"/>
                  </a:lnTo>
                  <a:lnTo>
                    <a:pt x="70" y="1"/>
                  </a:lnTo>
                  <a:lnTo>
                    <a:pt x="48" y="0"/>
                  </a:lnTo>
                  <a:lnTo>
                    <a:pt x="24" y="0"/>
                  </a:lnTo>
                  <a:lnTo>
                    <a:pt x="14" y="1"/>
                  </a:lnTo>
                  <a:lnTo>
                    <a:pt x="6" y="5"/>
                  </a:lnTo>
                  <a:lnTo>
                    <a:pt x="1" y="12"/>
                  </a:lnTo>
                  <a:lnTo>
                    <a:pt x="0" y="20"/>
                  </a:lnTo>
                  <a:lnTo>
                    <a:pt x="1" y="27"/>
                  </a:lnTo>
                  <a:lnTo>
                    <a:pt x="6" y="34"/>
                  </a:lnTo>
                  <a:lnTo>
                    <a:pt x="14" y="38"/>
                  </a:lnTo>
                  <a:lnTo>
                    <a:pt x="24" y="39"/>
                  </a:lnTo>
                  <a:lnTo>
                    <a:pt x="45" y="39"/>
                  </a:lnTo>
                  <a:lnTo>
                    <a:pt x="66" y="40"/>
                  </a:lnTo>
                  <a:lnTo>
                    <a:pt x="89" y="42"/>
                  </a:lnTo>
                  <a:lnTo>
                    <a:pt x="110" y="44"/>
                  </a:lnTo>
                  <a:lnTo>
                    <a:pt x="130" y="47"/>
                  </a:lnTo>
                  <a:lnTo>
                    <a:pt x="151" y="49"/>
                  </a:lnTo>
                  <a:lnTo>
                    <a:pt x="171" y="54"/>
                  </a:lnTo>
                  <a:lnTo>
                    <a:pt x="191" y="57"/>
                  </a:lnTo>
                  <a:lnTo>
                    <a:pt x="211" y="62"/>
                  </a:lnTo>
                  <a:lnTo>
                    <a:pt x="229" y="67"/>
                  </a:lnTo>
                  <a:lnTo>
                    <a:pt x="248" y="72"/>
                  </a:lnTo>
                  <a:lnTo>
                    <a:pt x="267" y="79"/>
                  </a:lnTo>
                  <a:lnTo>
                    <a:pt x="284" y="86"/>
                  </a:lnTo>
                  <a:lnTo>
                    <a:pt x="301" y="92"/>
                  </a:lnTo>
                  <a:lnTo>
                    <a:pt x="317" y="100"/>
                  </a:lnTo>
                  <a:lnTo>
                    <a:pt x="333" y="108"/>
                  </a:lnTo>
                  <a:lnTo>
                    <a:pt x="341" y="110"/>
                  </a:lnTo>
                  <a:lnTo>
                    <a:pt x="350" y="110"/>
                  </a:lnTo>
                  <a:lnTo>
                    <a:pt x="358" y="108"/>
                  </a:lnTo>
                  <a:lnTo>
                    <a:pt x="365" y="102"/>
                  </a:lnTo>
                  <a:lnTo>
                    <a:pt x="369" y="94"/>
                  </a:lnTo>
                  <a:lnTo>
                    <a:pt x="369" y="87"/>
                  </a:lnTo>
                  <a:lnTo>
                    <a:pt x="365" y="80"/>
                  </a:lnTo>
                  <a:lnTo>
                    <a:pt x="358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247840" y="2946960"/>
              <a:ext cx="198360" cy="51120"/>
            </a:xfrm>
            <a:custGeom>
              <a:avLst/>
              <a:gdLst/>
              <a:ahLst/>
              <a:rect l="l" t="t" r="r" b="b"/>
              <a:pathLst>
                <a:path w="375" h="113">
                  <a:moveTo>
                    <a:pt x="37" y="110"/>
                  </a:moveTo>
                  <a:lnTo>
                    <a:pt x="37" y="110"/>
                  </a:lnTo>
                  <a:lnTo>
                    <a:pt x="53" y="102"/>
                  </a:lnTo>
                  <a:lnTo>
                    <a:pt x="69" y="93"/>
                  </a:lnTo>
                  <a:lnTo>
                    <a:pt x="85" y="87"/>
                  </a:lnTo>
                  <a:lnTo>
                    <a:pt x="103" y="80"/>
                  </a:lnTo>
                  <a:lnTo>
                    <a:pt x="120" y="74"/>
                  </a:lnTo>
                  <a:lnTo>
                    <a:pt x="140" y="68"/>
                  </a:lnTo>
                  <a:lnTo>
                    <a:pt x="159" y="63"/>
                  </a:lnTo>
                  <a:lnTo>
                    <a:pt x="179" y="58"/>
                  </a:lnTo>
                  <a:lnTo>
                    <a:pt x="200" y="54"/>
                  </a:lnTo>
                  <a:lnTo>
                    <a:pt x="220" y="49"/>
                  </a:lnTo>
                  <a:lnTo>
                    <a:pt x="241" y="47"/>
                  </a:lnTo>
                  <a:lnTo>
                    <a:pt x="262" y="44"/>
                  </a:lnTo>
                  <a:lnTo>
                    <a:pt x="285" y="42"/>
                  </a:lnTo>
                  <a:lnTo>
                    <a:pt x="306" y="41"/>
                  </a:lnTo>
                  <a:lnTo>
                    <a:pt x="329" y="39"/>
                  </a:lnTo>
                  <a:lnTo>
                    <a:pt x="351" y="39"/>
                  </a:lnTo>
                  <a:lnTo>
                    <a:pt x="360" y="38"/>
                  </a:lnTo>
                  <a:lnTo>
                    <a:pt x="368" y="34"/>
                  </a:lnTo>
                  <a:lnTo>
                    <a:pt x="374" y="27"/>
                  </a:lnTo>
                  <a:lnTo>
                    <a:pt x="375" y="20"/>
                  </a:lnTo>
                  <a:lnTo>
                    <a:pt x="374" y="12"/>
                  </a:lnTo>
                  <a:lnTo>
                    <a:pt x="368" y="5"/>
                  </a:lnTo>
                  <a:lnTo>
                    <a:pt x="360" y="1"/>
                  </a:lnTo>
                  <a:lnTo>
                    <a:pt x="351" y="0"/>
                  </a:lnTo>
                  <a:lnTo>
                    <a:pt x="327" y="0"/>
                  </a:lnTo>
                  <a:lnTo>
                    <a:pt x="303" y="1"/>
                  </a:lnTo>
                  <a:lnTo>
                    <a:pt x="280" y="3"/>
                  </a:lnTo>
                  <a:lnTo>
                    <a:pt x="256" y="5"/>
                  </a:lnTo>
                  <a:lnTo>
                    <a:pt x="233" y="7"/>
                  </a:lnTo>
                  <a:lnTo>
                    <a:pt x="209" y="12"/>
                  </a:lnTo>
                  <a:lnTo>
                    <a:pt x="187" y="15"/>
                  </a:lnTo>
                  <a:lnTo>
                    <a:pt x="165" y="21"/>
                  </a:lnTo>
                  <a:lnTo>
                    <a:pt x="143" y="25"/>
                  </a:lnTo>
                  <a:lnTo>
                    <a:pt x="123" y="32"/>
                  </a:lnTo>
                  <a:lnTo>
                    <a:pt x="102" y="38"/>
                  </a:lnTo>
                  <a:lnTo>
                    <a:pt x="82" y="45"/>
                  </a:lnTo>
                  <a:lnTo>
                    <a:pt x="62" y="53"/>
                  </a:lnTo>
                  <a:lnTo>
                    <a:pt x="43" y="60"/>
                  </a:lnTo>
                  <a:lnTo>
                    <a:pt x="26" y="69"/>
                  </a:lnTo>
                  <a:lnTo>
                    <a:pt x="9" y="78"/>
                  </a:lnTo>
                  <a:lnTo>
                    <a:pt x="2" y="83"/>
                  </a:lnTo>
                  <a:lnTo>
                    <a:pt x="0" y="90"/>
                  </a:lnTo>
                  <a:lnTo>
                    <a:pt x="0" y="98"/>
                  </a:lnTo>
                  <a:lnTo>
                    <a:pt x="4" y="106"/>
                  </a:lnTo>
                  <a:lnTo>
                    <a:pt x="10" y="111"/>
                  </a:lnTo>
                  <a:lnTo>
                    <a:pt x="18" y="113"/>
                  </a:lnTo>
                  <a:lnTo>
                    <a:pt x="27" y="113"/>
                  </a:lnTo>
                  <a:lnTo>
                    <a:pt x="37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250720" y="3010680"/>
              <a:ext cx="195480" cy="51120"/>
            </a:xfrm>
            <a:custGeom>
              <a:avLst/>
              <a:gdLst/>
              <a:ahLst/>
              <a:rect l="l" t="t" r="r" b="b"/>
              <a:pathLst>
                <a:path w="369" h="110">
                  <a:moveTo>
                    <a:pt x="345" y="0"/>
                  </a:moveTo>
                  <a:lnTo>
                    <a:pt x="321" y="0"/>
                  </a:lnTo>
                  <a:lnTo>
                    <a:pt x="297" y="1"/>
                  </a:lnTo>
                  <a:lnTo>
                    <a:pt x="275" y="3"/>
                  </a:lnTo>
                  <a:lnTo>
                    <a:pt x="252" y="4"/>
                  </a:lnTo>
                  <a:lnTo>
                    <a:pt x="230" y="7"/>
                  </a:lnTo>
                  <a:lnTo>
                    <a:pt x="207" y="11"/>
                  </a:lnTo>
                  <a:lnTo>
                    <a:pt x="185" y="14"/>
                  </a:lnTo>
                  <a:lnTo>
                    <a:pt x="163" y="18"/>
                  </a:lnTo>
                  <a:lnTo>
                    <a:pt x="142" y="24"/>
                  </a:lnTo>
                  <a:lnTo>
                    <a:pt x="122" y="29"/>
                  </a:lnTo>
                  <a:lnTo>
                    <a:pt x="102" y="36"/>
                  </a:lnTo>
                  <a:lnTo>
                    <a:pt x="83" y="43"/>
                  </a:lnTo>
                  <a:lnTo>
                    <a:pt x="64" y="49"/>
                  </a:lnTo>
                  <a:lnTo>
                    <a:pt x="45" y="57"/>
                  </a:lnTo>
                  <a:lnTo>
                    <a:pt x="28" y="66"/>
                  </a:lnTo>
                  <a:lnTo>
                    <a:pt x="11" y="75"/>
                  </a:lnTo>
                  <a:lnTo>
                    <a:pt x="11" y="75"/>
                  </a:lnTo>
                  <a:lnTo>
                    <a:pt x="4" y="80"/>
                  </a:lnTo>
                  <a:lnTo>
                    <a:pt x="0" y="87"/>
                  </a:lnTo>
                  <a:lnTo>
                    <a:pt x="0" y="94"/>
                  </a:lnTo>
                  <a:lnTo>
                    <a:pt x="3" y="102"/>
                  </a:lnTo>
                  <a:lnTo>
                    <a:pt x="10" y="108"/>
                  </a:lnTo>
                  <a:lnTo>
                    <a:pt x="19" y="110"/>
                  </a:lnTo>
                  <a:lnTo>
                    <a:pt x="28" y="110"/>
                  </a:lnTo>
                  <a:lnTo>
                    <a:pt x="36" y="108"/>
                  </a:lnTo>
                  <a:lnTo>
                    <a:pt x="52" y="100"/>
                  </a:lnTo>
                  <a:lnTo>
                    <a:pt x="68" y="92"/>
                  </a:lnTo>
                  <a:lnTo>
                    <a:pt x="85" y="86"/>
                  </a:lnTo>
                  <a:lnTo>
                    <a:pt x="102" y="79"/>
                  </a:lnTo>
                  <a:lnTo>
                    <a:pt x="121" y="72"/>
                  </a:lnTo>
                  <a:lnTo>
                    <a:pt x="140" y="67"/>
                  </a:lnTo>
                  <a:lnTo>
                    <a:pt x="158" y="62"/>
                  </a:lnTo>
                  <a:lnTo>
                    <a:pt x="178" y="57"/>
                  </a:lnTo>
                  <a:lnTo>
                    <a:pt x="198" y="54"/>
                  </a:lnTo>
                  <a:lnTo>
                    <a:pt x="218" y="49"/>
                  </a:lnTo>
                  <a:lnTo>
                    <a:pt x="239" y="47"/>
                  </a:lnTo>
                  <a:lnTo>
                    <a:pt x="259" y="44"/>
                  </a:lnTo>
                  <a:lnTo>
                    <a:pt x="280" y="42"/>
                  </a:lnTo>
                  <a:lnTo>
                    <a:pt x="303" y="40"/>
                  </a:lnTo>
                  <a:lnTo>
                    <a:pt x="324" y="39"/>
                  </a:lnTo>
                  <a:lnTo>
                    <a:pt x="345" y="39"/>
                  </a:lnTo>
                  <a:lnTo>
                    <a:pt x="354" y="38"/>
                  </a:lnTo>
                  <a:lnTo>
                    <a:pt x="362" y="34"/>
                  </a:lnTo>
                  <a:lnTo>
                    <a:pt x="368" y="27"/>
                  </a:lnTo>
                  <a:lnTo>
                    <a:pt x="369" y="20"/>
                  </a:lnTo>
                  <a:lnTo>
                    <a:pt x="368" y="12"/>
                  </a:lnTo>
                  <a:lnTo>
                    <a:pt x="362" y="5"/>
                  </a:lnTo>
                  <a:lnTo>
                    <a:pt x="354" y="1"/>
                  </a:lnTo>
                  <a:lnTo>
                    <a:pt x="3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979280" y="2946960"/>
              <a:ext cx="198360" cy="51120"/>
            </a:xfrm>
            <a:custGeom>
              <a:avLst/>
              <a:gdLst/>
              <a:ahLst/>
              <a:rect l="l" t="t" r="r" b="b"/>
              <a:pathLst>
                <a:path w="375" h="113">
                  <a:moveTo>
                    <a:pt x="24" y="39"/>
                  </a:moveTo>
                  <a:lnTo>
                    <a:pt x="46" y="39"/>
                  </a:lnTo>
                  <a:lnTo>
                    <a:pt x="69" y="41"/>
                  </a:lnTo>
                  <a:lnTo>
                    <a:pt x="90" y="42"/>
                  </a:lnTo>
                  <a:lnTo>
                    <a:pt x="111" y="44"/>
                  </a:lnTo>
                  <a:lnTo>
                    <a:pt x="134" y="47"/>
                  </a:lnTo>
                  <a:lnTo>
                    <a:pt x="154" y="49"/>
                  </a:lnTo>
                  <a:lnTo>
                    <a:pt x="175" y="54"/>
                  </a:lnTo>
                  <a:lnTo>
                    <a:pt x="195" y="58"/>
                  </a:lnTo>
                  <a:lnTo>
                    <a:pt x="215" y="63"/>
                  </a:lnTo>
                  <a:lnTo>
                    <a:pt x="235" y="68"/>
                  </a:lnTo>
                  <a:lnTo>
                    <a:pt x="253" y="74"/>
                  </a:lnTo>
                  <a:lnTo>
                    <a:pt x="272" y="80"/>
                  </a:lnTo>
                  <a:lnTo>
                    <a:pt x="289" y="87"/>
                  </a:lnTo>
                  <a:lnTo>
                    <a:pt x="306" y="93"/>
                  </a:lnTo>
                  <a:lnTo>
                    <a:pt x="322" y="102"/>
                  </a:lnTo>
                  <a:lnTo>
                    <a:pt x="338" y="110"/>
                  </a:lnTo>
                  <a:lnTo>
                    <a:pt x="347" y="113"/>
                  </a:lnTo>
                  <a:lnTo>
                    <a:pt x="357" y="113"/>
                  </a:lnTo>
                  <a:lnTo>
                    <a:pt x="365" y="111"/>
                  </a:lnTo>
                  <a:lnTo>
                    <a:pt x="371" y="106"/>
                  </a:lnTo>
                  <a:lnTo>
                    <a:pt x="375" y="98"/>
                  </a:lnTo>
                  <a:lnTo>
                    <a:pt x="375" y="90"/>
                  </a:lnTo>
                  <a:lnTo>
                    <a:pt x="371" y="83"/>
                  </a:lnTo>
                  <a:lnTo>
                    <a:pt x="365" y="78"/>
                  </a:lnTo>
                  <a:lnTo>
                    <a:pt x="347" y="69"/>
                  </a:lnTo>
                  <a:lnTo>
                    <a:pt x="330" y="60"/>
                  </a:lnTo>
                  <a:lnTo>
                    <a:pt x="312" y="53"/>
                  </a:lnTo>
                  <a:lnTo>
                    <a:pt x="293" y="45"/>
                  </a:lnTo>
                  <a:lnTo>
                    <a:pt x="273" y="38"/>
                  </a:lnTo>
                  <a:lnTo>
                    <a:pt x="252" y="32"/>
                  </a:lnTo>
                  <a:lnTo>
                    <a:pt x="231" y="25"/>
                  </a:lnTo>
                  <a:lnTo>
                    <a:pt x="209" y="21"/>
                  </a:lnTo>
                  <a:lnTo>
                    <a:pt x="187" y="15"/>
                  </a:lnTo>
                  <a:lnTo>
                    <a:pt x="166" y="12"/>
                  </a:lnTo>
                  <a:lnTo>
                    <a:pt x="142" y="7"/>
                  </a:lnTo>
                  <a:lnTo>
                    <a:pt x="119" y="5"/>
                  </a:lnTo>
                  <a:lnTo>
                    <a:pt x="95" y="3"/>
                  </a:lnTo>
                  <a:lnTo>
                    <a:pt x="71" y="1"/>
                  </a:lnTo>
                  <a:lnTo>
                    <a:pt x="48" y="0"/>
                  </a:lnTo>
                  <a:lnTo>
                    <a:pt x="24" y="0"/>
                  </a:lnTo>
                  <a:lnTo>
                    <a:pt x="14" y="1"/>
                  </a:lnTo>
                  <a:lnTo>
                    <a:pt x="6" y="5"/>
                  </a:lnTo>
                  <a:lnTo>
                    <a:pt x="1" y="12"/>
                  </a:lnTo>
                  <a:lnTo>
                    <a:pt x="0" y="20"/>
                  </a:lnTo>
                  <a:lnTo>
                    <a:pt x="1" y="27"/>
                  </a:lnTo>
                  <a:lnTo>
                    <a:pt x="6" y="34"/>
                  </a:lnTo>
                  <a:lnTo>
                    <a:pt x="14" y="38"/>
                  </a:lnTo>
                  <a:lnTo>
                    <a:pt x="24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366640" y="3085560"/>
              <a:ext cx="38160" cy="37080"/>
            </a:xfrm>
            <a:custGeom>
              <a:avLst/>
              <a:gdLst/>
              <a:ahLst/>
              <a:rect l="l" t="t" r="r" b="b"/>
              <a:pathLst>
                <a:path w="72" h="79">
                  <a:moveTo>
                    <a:pt x="28" y="79"/>
                  </a:moveTo>
                  <a:lnTo>
                    <a:pt x="34" y="78"/>
                  </a:lnTo>
                  <a:lnTo>
                    <a:pt x="39" y="78"/>
                  </a:lnTo>
                  <a:lnTo>
                    <a:pt x="44" y="77"/>
                  </a:lnTo>
                  <a:lnTo>
                    <a:pt x="51" y="76"/>
                  </a:lnTo>
                  <a:lnTo>
                    <a:pt x="56" y="75"/>
                  </a:lnTo>
                  <a:lnTo>
                    <a:pt x="62" y="75"/>
                  </a:lnTo>
                  <a:lnTo>
                    <a:pt x="67" y="73"/>
                  </a:lnTo>
                  <a:lnTo>
                    <a:pt x="72" y="73"/>
                  </a:lnTo>
                  <a:lnTo>
                    <a:pt x="64" y="64"/>
                  </a:lnTo>
                  <a:lnTo>
                    <a:pt x="58" y="54"/>
                  </a:lnTo>
                  <a:lnTo>
                    <a:pt x="51" y="44"/>
                  </a:lnTo>
                  <a:lnTo>
                    <a:pt x="44" y="34"/>
                  </a:lnTo>
                  <a:lnTo>
                    <a:pt x="38" y="25"/>
                  </a:lnTo>
                  <a:lnTo>
                    <a:pt x="31" y="16"/>
                  </a:lnTo>
                  <a:lnTo>
                    <a:pt x="26" y="7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0" y="1"/>
                  </a:lnTo>
                  <a:lnTo>
                    <a:pt x="6" y="1"/>
                  </a:lnTo>
                  <a:lnTo>
                    <a:pt x="0" y="2"/>
                  </a:lnTo>
                  <a:lnTo>
                    <a:pt x="28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990440" y="3082680"/>
              <a:ext cx="36720" cy="37080"/>
            </a:xfrm>
            <a:custGeom>
              <a:avLst/>
              <a:gdLst/>
              <a:ahLst/>
              <a:rect l="l" t="t" r="r" b="b"/>
              <a:pathLst>
                <a:path w="69" h="80">
                  <a:moveTo>
                    <a:pt x="69" y="80"/>
                  </a:moveTo>
                  <a:lnTo>
                    <a:pt x="63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2" y="78"/>
                  </a:lnTo>
                  <a:lnTo>
                    <a:pt x="2" y="78"/>
                  </a:lnTo>
                  <a:lnTo>
                    <a:pt x="2" y="78"/>
                  </a:lnTo>
                  <a:lnTo>
                    <a:pt x="10" y="78"/>
                  </a:lnTo>
                  <a:lnTo>
                    <a:pt x="19" y="78"/>
                  </a:lnTo>
                  <a:lnTo>
                    <a:pt x="27" y="78"/>
                  </a:lnTo>
                  <a:lnTo>
                    <a:pt x="36" y="79"/>
                  </a:lnTo>
                  <a:lnTo>
                    <a:pt x="44" y="79"/>
                  </a:lnTo>
                  <a:lnTo>
                    <a:pt x="52" y="79"/>
                  </a:lnTo>
                  <a:lnTo>
                    <a:pt x="61" y="80"/>
                  </a:lnTo>
                  <a:lnTo>
                    <a:pt x="69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898280" y="2852640"/>
              <a:ext cx="635040" cy="327240"/>
            </a:xfrm>
            <a:custGeom>
              <a:avLst/>
              <a:gdLst/>
              <a:ahLst/>
              <a:rect l="l" t="t" r="r" b="b"/>
              <a:pathLst>
                <a:path w="1200" h="708">
                  <a:moveTo>
                    <a:pt x="1161" y="11"/>
                  </a:moveTo>
                  <a:lnTo>
                    <a:pt x="1144" y="9"/>
                  </a:lnTo>
                  <a:lnTo>
                    <a:pt x="1127" y="6"/>
                  </a:lnTo>
                  <a:lnTo>
                    <a:pt x="1109" y="4"/>
                  </a:lnTo>
                  <a:lnTo>
                    <a:pt x="1092" y="2"/>
                  </a:lnTo>
                  <a:lnTo>
                    <a:pt x="1074" y="1"/>
                  </a:lnTo>
                  <a:lnTo>
                    <a:pt x="1056" y="1"/>
                  </a:lnTo>
                  <a:lnTo>
                    <a:pt x="1038" y="0"/>
                  </a:lnTo>
                  <a:lnTo>
                    <a:pt x="1020" y="0"/>
                  </a:lnTo>
                  <a:lnTo>
                    <a:pt x="989" y="1"/>
                  </a:lnTo>
                  <a:lnTo>
                    <a:pt x="955" y="2"/>
                  </a:lnTo>
                  <a:lnTo>
                    <a:pt x="925" y="6"/>
                  </a:lnTo>
                  <a:lnTo>
                    <a:pt x="893" y="9"/>
                  </a:lnTo>
                  <a:lnTo>
                    <a:pt x="864" y="14"/>
                  </a:lnTo>
                  <a:lnTo>
                    <a:pt x="833" y="20"/>
                  </a:lnTo>
                  <a:lnTo>
                    <a:pt x="806" y="28"/>
                  </a:lnTo>
                  <a:lnTo>
                    <a:pt x="778" y="35"/>
                  </a:lnTo>
                  <a:lnTo>
                    <a:pt x="751" y="44"/>
                  </a:lnTo>
                  <a:lnTo>
                    <a:pt x="726" y="54"/>
                  </a:lnTo>
                  <a:lnTo>
                    <a:pt x="701" y="65"/>
                  </a:lnTo>
                  <a:lnTo>
                    <a:pt x="678" y="76"/>
                  </a:lnTo>
                  <a:lnTo>
                    <a:pt x="656" y="88"/>
                  </a:lnTo>
                  <a:lnTo>
                    <a:pt x="636" y="101"/>
                  </a:lnTo>
                  <a:lnTo>
                    <a:pt x="616" y="116"/>
                  </a:lnTo>
                  <a:lnTo>
                    <a:pt x="599" y="130"/>
                  </a:lnTo>
                  <a:lnTo>
                    <a:pt x="581" y="116"/>
                  </a:lnTo>
                  <a:lnTo>
                    <a:pt x="563" y="101"/>
                  </a:lnTo>
                  <a:lnTo>
                    <a:pt x="542" y="88"/>
                  </a:lnTo>
                  <a:lnTo>
                    <a:pt x="520" y="76"/>
                  </a:lnTo>
                  <a:lnTo>
                    <a:pt x="498" y="65"/>
                  </a:lnTo>
                  <a:lnTo>
                    <a:pt x="473" y="54"/>
                  </a:lnTo>
                  <a:lnTo>
                    <a:pt x="447" y="44"/>
                  </a:lnTo>
                  <a:lnTo>
                    <a:pt x="421" y="35"/>
                  </a:lnTo>
                  <a:lnTo>
                    <a:pt x="393" y="28"/>
                  </a:lnTo>
                  <a:lnTo>
                    <a:pt x="364" y="20"/>
                  </a:lnTo>
                  <a:lnTo>
                    <a:pt x="335" y="14"/>
                  </a:lnTo>
                  <a:lnTo>
                    <a:pt x="304" y="9"/>
                  </a:lnTo>
                  <a:lnTo>
                    <a:pt x="274" y="6"/>
                  </a:lnTo>
                  <a:lnTo>
                    <a:pt x="242" y="2"/>
                  </a:lnTo>
                  <a:lnTo>
                    <a:pt x="210" y="1"/>
                  </a:lnTo>
                  <a:lnTo>
                    <a:pt x="177" y="0"/>
                  </a:lnTo>
                  <a:lnTo>
                    <a:pt x="159" y="0"/>
                  </a:lnTo>
                  <a:lnTo>
                    <a:pt x="141" y="1"/>
                  </a:lnTo>
                  <a:lnTo>
                    <a:pt x="124" y="1"/>
                  </a:lnTo>
                  <a:lnTo>
                    <a:pt x="106" y="2"/>
                  </a:lnTo>
                  <a:lnTo>
                    <a:pt x="89" y="4"/>
                  </a:lnTo>
                  <a:lnTo>
                    <a:pt x="73" y="6"/>
                  </a:lnTo>
                  <a:lnTo>
                    <a:pt x="56" y="9"/>
                  </a:lnTo>
                  <a:lnTo>
                    <a:pt x="39" y="11"/>
                  </a:lnTo>
                  <a:lnTo>
                    <a:pt x="0" y="18"/>
                  </a:lnTo>
                  <a:lnTo>
                    <a:pt x="0" y="539"/>
                  </a:lnTo>
                  <a:lnTo>
                    <a:pt x="0" y="539"/>
                  </a:lnTo>
                  <a:lnTo>
                    <a:pt x="0" y="708"/>
                  </a:lnTo>
                  <a:lnTo>
                    <a:pt x="57" y="699"/>
                  </a:lnTo>
                  <a:lnTo>
                    <a:pt x="65" y="697"/>
                  </a:lnTo>
                  <a:lnTo>
                    <a:pt x="73" y="696"/>
                  </a:lnTo>
                  <a:lnTo>
                    <a:pt x="81" y="695"/>
                  </a:lnTo>
                  <a:lnTo>
                    <a:pt x="89" y="694"/>
                  </a:lnTo>
                  <a:lnTo>
                    <a:pt x="97" y="694"/>
                  </a:lnTo>
                  <a:lnTo>
                    <a:pt x="105" y="693"/>
                  </a:lnTo>
                  <a:lnTo>
                    <a:pt x="113" y="692"/>
                  </a:lnTo>
                  <a:lnTo>
                    <a:pt x="121" y="692"/>
                  </a:lnTo>
                  <a:lnTo>
                    <a:pt x="159" y="610"/>
                  </a:lnTo>
                  <a:lnTo>
                    <a:pt x="152" y="610"/>
                  </a:lnTo>
                  <a:lnTo>
                    <a:pt x="142" y="612"/>
                  </a:lnTo>
                  <a:lnTo>
                    <a:pt x="134" y="612"/>
                  </a:lnTo>
                  <a:lnTo>
                    <a:pt x="126" y="612"/>
                  </a:lnTo>
                  <a:lnTo>
                    <a:pt x="118" y="613"/>
                  </a:lnTo>
                  <a:lnTo>
                    <a:pt x="110" y="613"/>
                  </a:lnTo>
                  <a:lnTo>
                    <a:pt x="104" y="614"/>
                  </a:lnTo>
                  <a:lnTo>
                    <a:pt x="96" y="614"/>
                  </a:lnTo>
                  <a:lnTo>
                    <a:pt x="96" y="581"/>
                  </a:lnTo>
                  <a:lnTo>
                    <a:pt x="105" y="580"/>
                  </a:lnTo>
                  <a:lnTo>
                    <a:pt x="114" y="578"/>
                  </a:lnTo>
                  <a:lnTo>
                    <a:pt x="125" y="577"/>
                  </a:lnTo>
                  <a:lnTo>
                    <a:pt x="134" y="577"/>
                  </a:lnTo>
                  <a:lnTo>
                    <a:pt x="145" y="576"/>
                  </a:lnTo>
                  <a:lnTo>
                    <a:pt x="154" y="576"/>
                  </a:lnTo>
                  <a:lnTo>
                    <a:pt x="165" y="576"/>
                  </a:lnTo>
                  <a:lnTo>
                    <a:pt x="175" y="576"/>
                  </a:lnTo>
                  <a:lnTo>
                    <a:pt x="213" y="498"/>
                  </a:lnTo>
                  <a:lnTo>
                    <a:pt x="198" y="497"/>
                  </a:lnTo>
                  <a:lnTo>
                    <a:pt x="183" y="497"/>
                  </a:lnTo>
                  <a:lnTo>
                    <a:pt x="167" y="497"/>
                  </a:lnTo>
                  <a:lnTo>
                    <a:pt x="153" y="497"/>
                  </a:lnTo>
                  <a:lnTo>
                    <a:pt x="138" y="498"/>
                  </a:lnTo>
                  <a:lnTo>
                    <a:pt x="124" y="499"/>
                  </a:lnTo>
                  <a:lnTo>
                    <a:pt x="110" y="500"/>
                  </a:lnTo>
                  <a:lnTo>
                    <a:pt x="96" y="501"/>
                  </a:lnTo>
                  <a:lnTo>
                    <a:pt x="96" y="84"/>
                  </a:lnTo>
                  <a:lnTo>
                    <a:pt x="105" y="83"/>
                  </a:lnTo>
                  <a:lnTo>
                    <a:pt x="116" y="82"/>
                  </a:lnTo>
                  <a:lnTo>
                    <a:pt x="125" y="80"/>
                  </a:lnTo>
                  <a:lnTo>
                    <a:pt x="136" y="80"/>
                  </a:lnTo>
                  <a:lnTo>
                    <a:pt x="145" y="79"/>
                  </a:lnTo>
                  <a:lnTo>
                    <a:pt x="155" y="79"/>
                  </a:lnTo>
                  <a:lnTo>
                    <a:pt x="166" y="79"/>
                  </a:lnTo>
                  <a:lnTo>
                    <a:pt x="177" y="79"/>
                  </a:lnTo>
                  <a:lnTo>
                    <a:pt x="209" y="80"/>
                  </a:lnTo>
                  <a:lnTo>
                    <a:pt x="240" y="82"/>
                  </a:lnTo>
                  <a:lnTo>
                    <a:pt x="271" y="85"/>
                  </a:lnTo>
                  <a:lnTo>
                    <a:pt x="301" y="89"/>
                  </a:lnTo>
                  <a:lnTo>
                    <a:pt x="331" y="95"/>
                  </a:lnTo>
                  <a:lnTo>
                    <a:pt x="358" y="101"/>
                  </a:lnTo>
                  <a:lnTo>
                    <a:pt x="385" y="108"/>
                  </a:lnTo>
                  <a:lnTo>
                    <a:pt x="412" y="117"/>
                  </a:lnTo>
                  <a:lnTo>
                    <a:pt x="435" y="127"/>
                  </a:lnTo>
                  <a:lnTo>
                    <a:pt x="459" y="137"/>
                  </a:lnTo>
                  <a:lnTo>
                    <a:pt x="481" y="148"/>
                  </a:lnTo>
                  <a:lnTo>
                    <a:pt x="499" y="160"/>
                  </a:lnTo>
                  <a:lnTo>
                    <a:pt x="518" y="173"/>
                  </a:lnTo>
                  <a:lnTo>
                    <a:pt x="532" y="186"/>
                  </a:lnTo>
                  <a:lnTo>
                    <a:pt x="547" y="201"/>
                  </a:lnTo>
                  <a:lnTo>
                    <a:pt x="557" y="215"/>
                  </a:lnTo>
                  <a:lnTo>
                    <a:pt x="599" y="278"/>
                  </a:lnTo>
                  <a:lnTo>
                    <a:pt x="641" y="215"/>
                  </a:lnTo>
                  <a:lnTo>
                    <a:pt x="652" y="201"/>
                  </a:lnTo>
                  <a:lnTo>
                    <a:pt x="666" y="186"/>
                  </a:lnTo>
                  <a:lnTo>
                    <a:pt x="681" y="173"/>
                  </a:lnTo>
                  <a:lnTo>
                    <a:pt x="699" y="160"/>
                  </a:lnTo>
                  <a:lnTo>
                    <a:pt x="718" y="148"/>
                  </a:lnTo>
                  <a:lnTo>
                    <a:pt x="739" y="137"/>
                  </a:lnTo>
                  <a:lnTo>
                    <a:pt x="763" y="127"/>
                  </a:lnTo>
                  <a:lnTo>
                    <a:pt x="787" y="117"/>
                  </a:lnTo>
                  <a:lnTo>
                    <a:pt x="812" y="108"/>
                  </a:lnTo>
                  <a:lnTo>
                    <a:pt x="840" y="101"/>
                  </a:lnTo>
                  <a:lnTo>
                    <a:pt x="868" y="95"/>
                  </a:lnTo>
                  <a:lnTo>
                    <a:pt x="897" y="89"/>
                  </a:lnTo>
                  <a:lnTo>
                    <a:pt x="928" y="85"/>
                  </a:lnTo>
                  <a:lnTo>
                    <a:pt x="958" y="82"/>
                  </a:lnTo>
                  <a:lnTo>
                    <a:pt x="989" y="80"/>
                  </a:lnTo>
                  <a:lnTo>
                    <a:pt x="1020" y="79"/>
                  </a:lnTo>
                  <a:lnTo>
                    <a:pt x="1031" y="79"/>
                  </a:lnTo>
                  <a:lnTo>
                    <a:pt x="1042" y="79"/>
                  </a:lnTo>
                  <a:lnTo>
                    <a:pt x="1052" y="79"/>
                  </a:lnTo>
                  <a:lnTo>
                    <a:pt x="1063" y="80"/>
                  </a:lnTo>
                  <a:lnTo>
                    <a:pt x="1074" y="80"/>
                  </a:lnTo>
                  <a:lnTo>
                    <a:pt x="1084" y="82"/>
                  </a:lnTo>
                  <a:lnTo>
                    <a:pt x="1093" y="83"/>
                  </a:lnTo>
                  <a:lnTo>
                    <a:pt x="1104" y="84"/>
                  </a:lnTo>
                  <a:lnTo>
                    <a:pt x="1104" y="501"/>
                  </a:lnTo>
                  <a:lnTo>
                    <a:pt x="1093" y="500"/>
                  </a:lnTo>
                  <a:lnTo>
                    <a:pt x="1084" y="499"/>
                  </a:lnTo>
                  <a:lnTo>
                    <a:pt x="1074" y="498"/>
                  </a:lnTo>
                  <a:lnTo>
                    <a:pt x="1063" y="498"/>
                  </a:lnTo>
                  <a:lnTo>
                    <a:pt x="1052" y="497"/>
                  </a:lnTo>
                  <a:lnTo>
                    <a:pt x="1042" y="497"/>
                  </a:lnTo>
                  <a:lnTo>
                    <a:pt x="1031" y="497"/>
                  </a:lnTo>
                  <a:lnTo>
                    <a:pt x="1020" y="497"/>
                  </a:lnTo>
                  <a:lnTo>
                    <a:pt x="1006" y="497"/>
                  </a:lnTo>
                  <a:lnTo>
                    <a:pt x="991" y="497"/>
                  </a:lnTo>
                  <a:lnTo>
                    <a:pt x="977" y="498"/>
                  </a:lnTo>
                  <a:lnTo>
                    <a:pt x="962" y="499"/>
                  </a:lnTo>
                  <a:lnTo>
                    <a:pt x="948" y="500"/>
                  </a:lnTo>
                  <a:lnTo>
                    <a:pt x="933" y="501"/>
                  </a:lnTo>
                  <a:lnTo>
                    <a:pt x="920" y="502"/>
                  </a:lnTo>
                  <a:lnTo>
                    <a:pt x="905" y="505"/>
                  </a:lnTo>
                  <a:lnTo>
                    <a:pt x="912" y="512"/>
                  </a:lnTo>
                  <a:lnTo>
                    <a:pt x="917" y="521"/>
                  </a:lnTo>
                  <a:lnTo>
                    <a:pt x="924" y="530"/>
                  </a:lnTo>
                  <a:lnTo>
                    <a:pt x="930" y="539"/>
                  </a:lnTo>
                  <a:lnTo>
                    <a:pt x="937" y="549"/>
                  </a:lnTo>
                  <a:lnTo>
                    <a:pt x="944" y="559"/>
                  </a:lnTo>
                  <a:lnTo>
                    <a:pt x="950" y="569"/>
                  </a:lnTo>
                  <a:lnTo>
                    <a:pt x="958" y="578"/>
                  </a:lnTo>
                  <a:lnTo>
                    <a:pt x="977" y="577"/>
                  </a:lnTo>
                  <a:lnTo>
                    <a:pt x="994" y="576"/>
                  </a:lnTo>
                  <a:lnTo>
                    <a:pt x="1013" y="576"/>
                  </a:lnTo>
                  <a:lnTo>
                    <a:pt x="1031" y="576"/>
                  </a:lnTo>
                  <a:lnTo>
                    <a:pt x="1050" y="576"/>
                  </a:lnTo>
                  <a:lnTo>
                    <a:pt x="1068" y="577"/>
                  </a:lnTo>
                  <a:lnTo>
                    <a:pt x="1086" y="578"/>
                  </a:lnTo>
                  <a:lnTo>
                    <a:pt x="1104" y="581"/>
                  </a:lnTo>
                  <a:lnTo>
                    <a:pt x="1104" y="614"/>
                  </a:lnTo>
                  <a:lnTo>
                    <a:pt x="1093" y="613"/>
                  </a:lnTo>
                  <a:lnTo>
                    <a:pt x="1084" y="613"/>
                  </a:lnTo>
                  <a:lnTo>
                    <a:pt x="1074" y="612"/>
                  </a:lnTo>
                  <a:lnTo>
                    <a:pt x="1063" y="612"/>
                  </a:lnTo>
                  <a:lnTo>
                    <a:pt x="1052" y="610"/>
                  </a:lnTo>
                  <a:lnTo>
                    <a:pt x="1042" y="610"/>
                  </a:lnTo>
                  <a:lnTo>
                    <a:pt x="1031" y="610"/>
                  </a:lnTo>
                  <a:lnTo>
                    <a:pt x="1020" y="610"/>
                  </a:lnTo>
                  <a:lnTo>
                    <a:pt x="1011" y="610"/>
                  </a:lnTo>
                  <a:lnTo>
                    <a:pt x="1002" y="610"/>
                  </a:lnTo>
                  <a:lnTo>
                    <a:pt x="991" y="610"/>
                  </a:lnTo>
                  <a:lnTo>
                    <a:pt x="982" y="612"/>
                  </a:lnTo>
                  <a:lnTo>
                    <a:pt x="989" y="621"/>
                  </a:lnTo>
                  <a:lnTo>
                    <a:pt x="997" y="631"/>
                  </a:lnTo>
                  <a:lnTo>
                    <a:pt x="1003" y="641"/>
                  </a:lnTo>
                  <a:lnTo>
                    <a:pt x="1010" y="651"/>
                  </a:lnTo>
                  <a:lnTo>
                    <a:pt x="1017" y="661"/>
                  </a:lnTo>
                  <a:lnTo>
                    <a:pt x="1024" y="671"/>
                  </a:lnTo>
                  <a:lnTo>
                    <a:pt x="1031" y="680"/>
                  </a:lnTo>
                  <a:lnTo>
                    <a:pt x="1038" y="690"/>
                  </a:lnTo>
                  <a:lnTo>
                    <a:pt x="1051" y="690"/>
                  </a:lnTo>
                  <a:lnTo>
                    <a:pt x="1064" y="691"/>
                  </a:lnTo>
                  <a:lnTo>
                    <a:pt x="1078" y="692"/>
                  </a:lnTo>
                  <a:lnTo>
                    <a:pt x="1091" y="692"/>
                  </a:lnTo>
                  <a:lnTo>
                    <a:pt x="1104" y="694"/>
                  </a:lnTo>
                  <a:lnTo>
                    <a:pt x="1117" y="695"/>
                  </a:lnTo>
                  <a:lnTo>
                    <a:pt x="1131" y="696"/>
                  </a:lnTo>
                  <a:lnTo>
                    <a:pt x="1143" y="699"/>
                  </a:lnTo>
                  <a:lnTo>
                    <a:pt x="1200" y="708"/>
                  </a:lnTo>
                  <a:lnTo>
                    <a:pt x="1200" y="18"/>
                  </a:lnTo>
                  <a:lnTo>
                    <a:pt x="116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962000" y="3134160"/>
              <a:ext cx="69840" cy="38520"/>
            </a:xfrm>
            <a:custGeom>
              <a:avLst/>
              <a:gdLst/>
              <a:ahLst/>
              <a:rect l="l" t="t" r="r" b="b"/>
              <a:pathLst>
                <a:path w="131" h="83">
                  <a:moveTo>
                    <a:pt x="38" y="0"/>
                  </a:moveTo>
                  <a:lnTo>
                    <a:pt x="0" y="82"/>
                  </a:lnTo>
                  <a:lnTo>
                    <a:pt x="16" y="81"/>
                  </a:lnTo>
                  <a:lnTo>
                    <a:pt x="33" y="80"/>
                  </a:lnTo>
                  <a:lnTo>
                    <a:pt x="49" y="80"/>
                  </a:lnTo>
                  <a:lnTo>
                    <a:pt x="66" y="80"/>
                  </a:lnTo>
                  <a:lnTo>
                    <a:pt x="82" y="80"/>
                  </a:lnTo>
                  <a:lnTo>
                    <a:pt x="100" y="81"/>
                  </a:lnTo>
                  <a:lnTo>
                    <a:pt x="115" y="82"/>
                  </a:lnTo>
                  <a:lnTo>
                    <a:pt x="131" y="83"/>
                  </a:lnTo>
                  <a:lnTo>
                    <a:pt x="125" y="4"/>
                  </a:lnTo>
                  <a:lnTo>
                    <a:pt x="114" y="3"/>
                  </a:lnTo>
                  <a:lnTo>
                    <a:pt x="103" y="3"/>
                  </a:lnTo>
                  <a:lnTo>
                    <a:pt x="93" y="2"/>
                  </a:lnTo>
                  <a:lnTo>
                    <a:pt x="82" y="2"/>
                  </a:lnTo>
                  <a:lnTo>
                    <a:pt x="72" y="0"/>
                  </a:lnTo>
                  <a:lnTo>
                    <a:pt x="60" y="0"/>
                  </a:lnTo>
                  <a:lnTo>
                    <a:pt x="49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388960" y="3135600"/>
              <a:ext cx="58680" cy="37080"/>
            </a:xfrm>
            <a:custGeom>
              <a:avLst/>
              <a:gdLst/>
              <a:ahLst/>
              <a:rect l="l" t="t" r="r" b="b"/>
              <a:pathLst>
                <a:path w="112" h="80">
                  <a:moveTo>
                    <a:pt x="0" y="4"/>
                  </a:moveTo>
                  <a:lnTo>
                    <a:pt x="28" y="80"/>
                  </a:lnTo>
                  <a:lnTo>
                    <a:pt x="39" y="79"/>
                  </a:lnTo>
                  <a:lnTo>
                    <a:pt x="49" y="79"/>
                  </a:lnTo>
                  <a:lnTo>
                    <a:pt x="60" y="78"/>
                  </a:lnTo>
                  <a:lnTo>
                    <a:pt x="71" y="78"/>
                  </a:lnTo>
                  <a:lnTo>
                    <a:pt x="80" y="78"/>
                  </a:lnTo>
                  <a:lnTo>
                    <a:pt x="91" y="78"/>
                  </a:lnTo>
                  <a:lnTo>
                    <a:pt x="101" y="78"/>
                  </a:lnTo>
                  <a:lnTo>
                    <a:pt x="112" y="78"/>
                  </a:lnTo>
                  <a:lnTo>
                    <a:pt x="105" y="68"/>
                  </a:lnTo>
                  <a:lnTo>
                    <a:pt x="98" y="59"/>
                  </a:lnTo>
                  <a:lnTo>
                    <a:pt x="91" y="49"/>
                  </a:lnTo>
                  <a:lnTo>
                    <a:pt x="84" y="39"/>
                  </a:lnTo>
                  <a:lnTo>
                    <a:pt x="77" y="29"/>
                  </a:lnTo>
                  <a:lnTo>
                    <a:pt x="71" y="19"/>
                  </a:lnTo>
                  <a:lnTo>
                    <a:pt x="63" y="9"/>
                  </a:lnTo>
                  <a:lnTo>
                    <a:pt x="56" y="0"/>
                  </a:lnTo>
                  <a:lnTo>
                    <a:pt x="49" y="0"/>
                  </a:lnTo>
                  <a:lnTo>
                    <a:pt x="43" y="1"/>
                  </a:lnTo>
                  <a:lnTo>
                    <a:pt x="35" y="1"/>
                  </a:lnTo>
                  <a:lnTo>
                    <a:pt x="28" y="2"/>
                  </a:lnTo>
                  <a:lnTo>
                    <a:pt x="22" y="2"/>
                  </a:lnTo>
                  <a:lnTo>
                    <a:pt x="15" y="3"/>
                  </a:lnTo>
                  <a:lnTo>
                    <a:pt x="7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23920" y="3082680"/>
              <a:ext cx="379440" cy="138600"/>
            </a:xfrm>
            <a:custGeom>
              <a:avLst/>
              <a:gdLst/>
              <a:ahLst/>
              <a:rect l="l" t="t" r="r" b="b"/>
              <a:pathLst>
                <a:path w="716" h="298">
                  <a:moveTo>
                    <a:pt x="408" y="206"/>
                  </a:moveTo>
                  <a:lnTo>
                    <a:pt x="418" y="195"/>
                  </a:lnTo>
                  <a:lnTo>
                    <a:pt x="428" y="184"/>
                  </a:lnTo>
                  <a:lnTo>
                    <a:pt x="439" y="174"/>
                  </a:lnTo>
                  <a:lnTo>
                    <a:pt x="452" y="164"/>
                  </a:lnTo>
                  <a:lnTo>
                    <a:pt x="467" y="155"/>
                  </a:lnTo>
                  <a:lnTo>
                    <a:pt x="481" y="146"/>
                  </a:lnTo>
                  <a:lnTo>
                    <a:pt x="497" y="138"/>
                  </a:lnTo>
                  <a:lnTo>
                    <a:pt x="515" y="129"/>
                  </a:lnTo>
                  <a:lnTo>
                    <a:pt x="532" y="122"/>
                  </a:lnTo>
                  <a:lnTo>
                    <a:pt x="550" y="115"/>
                  </a:lnTo>
                  <a:lnTo>
                    <a:pt x="570" y="108"/>
                  </a:lnTo>
                  <a:lnTo>
                    <a:pt x="590" y="103"/>
                  </a:lnTo>
                  <a:lnTo>
                    <a:pt x="610" y="97"/>
                  </a:lnTo>
                  <a:lnTo>
                    <a:pt x="633" y="93"/>
                  </a:lnTo>
                  <a:lnTo>
                    <a:pt x="654" y="88"/>
                  </a:lnTo>
                  <a:lnTo>
                    <a:pt x="676" y="85"/>
                  </a:lnTo>
                  <a:lnTo>
                    <a:pt x="648" y="8"/>
                  </a:lnTo>
                  <a:lnTo>
                    <a:pt x="626" y="11"/>
                  </a:lnTo>
                  <a:lnTo>
                    <a:pt x="605" y="16"/>
                  </a:lnTo>
                  <a:lnTo>
                    <a:pt x="583" y="21"/>
                  </a:lnTo>
                  <a:lnTo>
                    <a:pt x="562" y="27"/>
                  </a:lnTo>
                  <a:lnTo>
                    <a:pt x="542" y="32"/>
                  </a:lnTo>
                  <a:lnTo>
                    <a:pt x="522" y="39"/>
                  </a:lnTo>
                  <a:lnTo>
                    <a:pt x="503" y="45"/>
                  </a:lnTo>
                  <a:lnTo>
                    <a:pt x="484" y="53"/>
                  </a:lnTo>
                  <a:lnTo>
                    <a:pt x="467" y="61"/>
                  </a:lnTo>
                  <a:lnTo>
                    <a:pt x="448" y="70"/>
                  </a:lnTo>
                  <a:lnTo>
                    <a:pt x="432" y="78"/>
                  </a:lnTo>
                  <a:lnTo>
                    <a:pt x="416" y="87"/>
                  </a:lnTo>
                  <a:lnTo>
                    <a:pt x="402" y="97"/>
                  </a:lnTo>
                  <a:lnTo>
                    <a:pt x="387" y="107"/>
                  </a:lnTo>
                  <a:lnTo>
                    <a:pt x="374" y="117"/>
                  </a:lnTo>
                  <a:lnTo>
                    <a:pt x="361" y="128"/>
                  </a:lnTo>
                  <a:lnTo>
                    <a:pt x="346" y="115"/>
                  </a:lnTo>
                  <a:lnTo>
                    <a:pt x="329" y="103"/>
                  </a:lnTo>
                  <a:lnTo>
                    <a:pt x="312" y="90"/>
                  </a:lnTo>
                  <a:lnTo>
                    <a:pt x="293" y="79"/>
                  </a:lnTo>
                  <a:lnTo>
                    <a:pt x="273" y="70"/>
                  </a:lnTo>
                  <a:lnTo>
                    <a:pt x="252" y="60"/>
                  </a:lnTo>
                  <a:lnTo>
                    <a:pt x="231" y="50"/>
                  </a:lnTo>
                  <a:lnTo>
                    <a:pt x="208" y="41"/>
                  </a:lnTo>
                  <a:lnTo>
                    <a:pt x="184" y="33"/>
                  </a:lnTo>
                  <a:lnTo>
                    <a:pt x="159" y="27"/>
                  </a:lnTo>
                  <a:lnTo>
                    <a:pt x="134" y="20"/>
                  </a:lnTo>
                  <a:lnTo>
                    <a:pt x="109" y="14"/>
                  </a:lnTo>
                  <a:lnTo>
                    <a:pt x="82" y="10"/>
                  </a:lnTo>
                  <a:lnTo>
                    <a:pt x="55" y="6"/>
                  </a:lnTo>
                  <a:lnTo>
                    <a:pt x="28" y="2"/>
                  </a:lnTo>
                  <a:lnTo>
                    <a:pt x="0" y="0"/>
                  </a:lnTo>
                  <a:lnTo>
                    <a:pt x="6" y="79"/>
                  </a:lnTo>
                  <a:lnTo>
                    <a:pt x="32" y="82"/>
                  </a:lnTo>
                  <a:lnTo>
                    <a:pt x="57" y="86"/>
                  </a:lnTo>
                  <a:lnTo>
                    <a:pt x="82" y="90"/>
                  </a:lnTo>
                  <a:lnTo>
                    <a:pt x="106" y="95"/>
                  </a:lnTo>
                  <a:lnTo>
                    <a:pt x="128" y="100"/>
                  </a:lnTo>
                  <a:lnTo>
                    <a:pt x="151" y="107"/>
                  </a:lnTo>
                  <a:lnTo>
                    <a:pt x="172" y="115"/>
                  </a:lnTo>
                  <a:lnTo>
                    <a:pt x="193" y="122"/>
                  </a:lnTo>
                  <a:lnTo>
                    <a:pt x="212" y="131"/>
                  </a:lnTo>
                  <a:lnTo>
                    <a:pt x="231" y="140"/>
                  </a:lnTo>
                  <a:lnTo>
                    <a:pt x="248" y="150"/>
                  </a:lnTo>
                  <a:lnTo>
                    <a:pt x="264" y="160"/>
                  </a:lnTo>
                  <a:lnTo>
                    <a:pt x="278" y="171"/>
                  </a:lnTo>
                  <a:lnTo>
                    <a:pt x="292" y="182"/>
                  </a:lnTo>
                  <a:lnTo>
                    <a:pt x="304" y="194"/>
                  </a:lnTo>
                  <a:lnTo>
                    <a:pt x="314" y="206"/>
                  </a:lnTo>
                  <a:lnTo>
                    <a:pt x="300" y="197"/>
                  </a:lnTo>
                  <a:lnTo>
                    <a:pt x="284" y="189"/>
                  </a:lnTo>
                  <a:lnTo>
                    <a:pt x="268" y="180"/>
                  </a:lnTo>
                  <a:lnTo>
                    <a:pt x="250" y="172"/>
                  </a:lnTo>
                  <a:lnTo>
                    <a:pt x="233" y="164"/>
                  </a:lnTo>
                  <a:lnTo>
                    <a:pt x="215" y="158"/>
                  </a:lnTo>
                  <a:lnTo>
                    <a:pt x="196" y="151"/>
                  </a:lnTo>
                  <a:lnTo>
                    <a:pt x="178" y="146"/>
                  </a:lnTo>
                  <a:lnTo>
                    <a:pt x="158" y="140"/>
                  </a:lnTo>
                  <a:lnTo>
                    <a:pt x="138" y="135"/>
                  </a:lnTo>
                  <a:lnTo>
                    <a:pt x="116" y="130"/>
                  </a:lnTo>
                  <a:lnTo>
                    <a:pt x="95" y="126"/>
                  </a:lnTo>
                  <a:lnTo>
                    <a:pt x="74" y="122"/>
                  </a:lnTo>
                  <a:lnTo>
                    <a:pt x="53" y="119"/>
                  </a:lnTo>
                  <a:lnTo>
                    <a:pt x="30" y="117"/>
                  </a:lnTo>
                  <a:lnTo>
                    <a:pt x="8" y="115"/>
                  </a:lnTo>
                  <a:lnTo>
                    <a:pt x="14" y="194"/>
                  </a:lnTo>
                  <a:lnTo>
                    <a:pt x="37" y="196"/>
                  </a:lnTo>
                  <a:lnTo>
                    <a:pt x="58" y="200"/>
                  </a:lnTo>
                  <a:lnTo>
                    <a:pt x="79" y="204"/>
                  </a:lnTo>
                  <a:lnTo>
                    <a:pt x="101" y="207"/>
                  </a:lnTo>
                  <a:lnTo>
                    <a:pt x="120" y="213"/>
                  </a:lnTo>
                  <a:lnTo>
                    <a:pt x="140" y="218"/>
                  </a:lnTo>
                  <a:lnTo>
                    <a:pt x="160" y="224"/>
                  </a:lnTo>
                  <a:lnTo>
                    <a:pt x="179" y="230"/>
                  </a:lnTo>
                  <a:lnTo>
                    <a:pt x="196" y="237"/>
                  </a:lnTo>
                  <a:lnTo>
                    <a:pt x="213" y="245"/>
                  </a:lnTo>
                  <a:lnTo>
                    <a:pt x="229" y="252"/>
                  </a:lnTo>
                  <a:lnTo>
                    <a:pt x="244" y="260"/>
                  </a:lnTo>
                  <a:lnTo>
                    <a:pt x="258" y="269"/>
                  </a:lnTo>
                  <a:lnTo>
                    <a:pt x="272" y="278"/>
                  </a:lnTo>
                  <a:lnTo>
                    <a:pt x="284" y="288"/>
                  </a:lnTo>
                  <a:lnTo>
                    <a:pt x="294" y="298"/>
                  </a:lnTo>
                  <a:lnTo>
                    <a:pt x="428" y="298"/>
                  </a:lnTo>
                  <a:lnTo>
                    <a:pt x="440" y="288"/>
                  </a:lnTo>
                  <a:lnTo>
                    <a:pt x="452" y="278"/>
                  </a:lnTo>
                  <a:lnTo>
                    <a:pt x="465" y="269"/>
                  </a:lnTo>
                  <a:lnTo>
                    <a:pt x="480" y="259"/>
                  </a:lnTo>
                  <a:lnTo>
                    <a:pt x="496" y="251"/>
                  </a:lnTo>
                  <a:lnTo>
                    <a:pt x="512" y="244"/>
                  </a:lnTo>
                  <a:lnTo>
                    <a:pt x="529" y="236"/>
                  </a:lnTo>
                  <a:lnTo>
                    <a:pt x="548" y="228"/>
                  </a:lnTo>
                  <a:lnTo>
                    <a:pt x="566" y="223"/>
                  </a:lnTo>
                  <a:lnTo>
                    <a:pt x="586" y="216"/>
                  </a:lnTo>
                  <a:lnTo>
                    <a:pt x="607" y="211"/>
                  </a:lnTo>
                  <a:lnTo>
                    <a:pt x="627" y="206"/>
                  </a:lnTo>
                  <a:lnTo>
                    <a:pt x="648" y="202"/>
                  </a:lnTo>
                  <a:lnTo>
                    <a:pt x="671" y="198"/>
                  </a:lnTo>
                  <a:lnTo>
                    <a:pt x="694" y="195"/>
                  </a:lnTo>
                  <a:lnTo>
                    <a:pt x="716" y="193"/>
                  </a:lnTo>
                  <a:lnTo>
                    <a:pt x="688" y="117"/>
                  </a:lnTo>
                  <a:lnTo>
                    <a:pt x="668" y="119"/>
                  </a:lnTo>
                  <a:lnTo>
                    <a:pt x="648" y="122"/>
                  </a:lnTo>
                  <a:lnTo>
                    <a:pt x="629" y="126"/>
                  </a:lnTo>
                  <a:lnTo>
                    <a:pt x="609" y="129"/>
                  </a:lnTo>
                  <a:lnTo>
                    <a:pt x="590" y="133"/>
                  </a:lnTo>
                  <a:lnTo>
                    <a:pt x="570" y="138"/>
                  </a:lnTo>
                  <a:lnTo>
                    <a:pt x="553" y="143"/>
                  </a:lnTo>
                  <a:lnTo>
                    <a:pt x="534" y="148"/>
                  </a:lnTo>
                  <a:lnTo>
                    <a:pt x="517" y="154"/>
                  </a:lnTo>
                  <a:lnTo>
                    <a:pt x="500" y="161"/>
                  </a:lnTo>
                  <a:lnTo>
                    <a:pt x="483" y="168"/>
                  </a:lnTo>
                  <a:lnTo>
                    <a:pt x="467" y="174"/>
                  </a:lnTo>
                  <a:lnTo>
                    <a:pt x="451" y="182"/>
                  </a:lnTo>
                  <a:lnTo>
                    <a:pt x="436" y="190"/>
                  </a:lnTo>
                  <a:lnTo>
                    <a:pt x="422" y="197"/>
                  </a:lnTo>
                  <a:lnTo>
                    <a:pt x="408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379600" y="3437640"/>
              <a:ext cx="220320" cy="160920"/>
            </a:xfrm>
            <a:custGeom>
              <a:avLst/>
              <a:gdLst/>
              <a:ahLst/>
              <a:rect l="l" t="t" r="r" b="b"/>
              <a:pathLst>
                <a:path w="417" h="346">
                  <a:moveTo>
                    <a:pt x="209" y="346"/>
                  </a:moveTo>
                  <a:lnTo>
                    <a:pt x="230" y="345"/>
                  </a:lnTo>
                  <a:lnTo>
                    <a:pt x="250" y="343"/>
                  </a:lnTo>
                  <a:lnTo>
                    <a:pt x="270" y="338"/>
                  </a:lnTo>
                  <a:lnTo>
                    <a:pt x="288" y="333"/>
                  </a:lnTo>
                  <a:lnTo>
                    <a:pt x="307" y="326"/>
                  </a:lnTo>
                  <a:lnTo>
                    <a:pt x="324" y="317"/>
                  </a:lnTo>
                  <a:lnTo>
                    <a:pt x="340" y="308"/>
                  </a:lnTo>
                  <a:lnTo>
                    <a:pt x="356" y="295"/>
                  </a:lnTo>
                  <a:lnTo>
                    <a:pt x="371" y="283"/>
                  </a:lnTo>
                  <a:lnTo>
                    <a:pt x="382" y="269"/>
                  </a:lnTo>
                  <a:lnTo>
                    <a:pt x="393" y="255"/>
                  </a:lnTo>
                  <a:lnTo>
                    <a:pt x="401" y="239"/>
                  </a:lnTo>
                  <a:lnTo>
                    <a:pt x="408" y="224"/>
                  </a:lnTo>
                  <a:lnTo>
                    <a:pt x="413" y="207"/>
                  </a:lnTo>
                  <a:lnTo>
                    <a:pt x="416" y="191"/>
                  </a:lnTo>
                  <a:lnTo>
                    <a:pt x="417" y="173"/>
                  </a:lnTo>
                  <a:lnTo>
                    <a:pt x="416" y="155"/>
                  </a:lnTo>
                  <a:lnTo>
                    <a:pt x="413" y="139"/>
                  </a:lnTo>
                  <a:lnTo>
                    <a:pt x="408" y="122"/>
                  </a:lnTo>
                  <a:lnTo>
                    <a:pt x="401" y="107"/>
                  </a:lnTo>
                  <a:lnTo>
                    <a:pt x="393" y="92"/>
                  </a:lnTo>
                  <a:lnTo>
                    <a:pt x="382" y="77"/>
                  </a:lnTo>
                  <a:lnTo>
                    <a:pt x="371" y="64"/>
                  </a:lnTo>
                  <a:lnTo>
                    <a:pt x="356" y="51"/>
                  </a:lnTo>
                  <a:lnTo>
                    <a:pt x="340" y="40"/>
                  </a:lnTo>
                  <a:lnTo>
                    <a:pt x="324" y="30"/>
                  </a:lnTo>
                  <a:lnTo>
                    <a:pt x="307" y="21"/>
                  </a:lnTo>
                  <a:lnTo>
                    <a:pt x="288" y="13"/>
                  </a:lnTo>
                  <a:lnTo>
                    <a:pt x="270" y="8"/>
                  </a:lnTo>
                  <a:lnTo>
                    <a:pt x="250" y="3"/>
                  </a:lnTo>
                  <a:lnTo>
                    <a:pt x="230" y="1"/>
                  </a:lnTo>
                  <a:lnTo>
                    <a:pt x="209" y="0"/>
                  </a:lnTo>
                  <a:lnTo>
                    <a:pt x="166" y="3"/>
                  </a:lnTo>
                  <a:lnTo>
                    <a:pt x="128" y="13"/>
                  </a:lnTo>
                  <a:lnTo>
                    <a:pt x="92" y="30"/>
                  </a:lnTo>
                  <a:lnTo>
                    <a:pt x="61" y="51"/>
                  </a:lnTo>
                  <a:lnTo>
                    <a:pt x="36" y="77"/>
                  </a:lnTo>
                  <a:lnTo>
                    <a:pt x="16" y="106"/>
                  </a:lnTo>
                  <a:lnTo>
                    <a:pt x="4" y="139"/>
                  </a:lnTo>
                  <a:lnTo>
                    <a:pt x="0" y="173"/>
                  </a:lnTo>
                  <a:lnTo>
                    <a:pt x="2" y="191"/>
                  </a:lnTo>
                  <a:lnTo>
                    <a:pt x="4" y="207"/>
                  </a:lnTo>
                  <a:lnTo>
                    <a:pt x="10" y="224"/>
                  </a:lnTo>
                  <a:lnTo>
                    <a:pt x="16" y="239"/>
                  </a:lnTo>
                  <a:lnTo>
                    <a:pt x="24" y="255"/>
                  </a:lnTo>
                  <a:lnTo>
                    <a:pt x="35" y="269"/>
                  </a:lnTo>
                  <a:lnTo>
                    <a:pt x="47" y="283"/>
                  </a:lnTo>
                  <a:lnTo>
                    <a:pt x="61" y="295"/>
                  </a:lnTo>
                  <a:lnTo>
                    <a:pt x="77" y="308"/>
                  </a:lnTo>
                  <a:lnTo>
                    <a:pt x="93" y="317"/>
                  </a:lnTo>
                  <a:lnTo>
                    <a:pt x="110" y="326"/>
                  </a:lnTo>
                  <a:lnTo>
                    <a:pt x="129" y="333"/>
                  </a:lnTo>
                  <a:lnTo>
                    <a:pt x="148" y="338"/>
                  </a:lnTo>
                  <a:lnTo>
                    <a:pt x="168" y="343"/>
                  </a:lnTo>
                  <a:lnTo>
                    <a:pt x="187" y="345"/>
                  </a:lnTo>
                  <a:lnTo>
                    <a:pt x="209" y="3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436480" y="3479400"/>
              <a:ext cx="106560" cy="77400"/>
            </a:xfrm>
            <a:custGeom>
              <a:avLst/>
              <a:gdLst/>
              <a:ahLst/>
              <a:rect l="l" t="t" r="r" b="b"/>
              <a:pathLst>
                <a:path w="201" h="168">
                  <a:moveTo>
                    <a:pt x="0" y="84"/>
                  </a:moveTo>
                  <a:lnTo>
                    <a:pt x="1" y="68"/>
                  </a:lnTo>
                  <a:lnTo>
                    <a:pt x="8" y="52"/>
                  </a:lnTo>
                  <a:lnTo>
                    <a:pt x="17" y="38"/>
                  </a:lnTo>
                  <a:lnTo>
                    <a:pt x="29" y="26"/>
                  </a:lnTo>
                  <a:lnTo>
                    <a:pt x="37" y="20"/>
                  </a:lnTo>
                  <a:lnTo>
                    <a:pt x="45" y="15"/>
                  </a:lnTo>
                  <a:lnTo>
                    <a:pt x="53" y="10"/>
                  </a:lnTo>
                  <a:lnTo>
                    <a:pt x="62" y="7"/>
                  </a:lnTo>
                  <a:lnTo>
                    <a:pt x="71" y="4"/>
                  </a:lnTo>
                  <a:lnTo>
                    <a:pt x="81" y="1"/>
                  </a:lnTo>
                  <a:lnTo>
                    <a:pt x="91" y="0"/>
                  </a:lnTo>
                  <a:lnTo>
                    <a:pt x="101" y="0"/>
                  </a:lnTo>
                  <a:lnTo>
                    <a:pt x="110" y="0"/>
                  </a:lnTo>
                  <a:lnTo>
                    <a:pt x="121" y="1"/>
                  </a:lnTo>
                  <a:lnTo>
                    <a:pt x="130" y="4"/>
                  </a:lnTo>
                  <a:lnTo>
                    <a:pt x="139" y="7"/>
                  </a:lnTo>
                  <a:lnTo>
                    <a:pt x="148" y="10"/>
                  </a:lnTo>
                  <a:lnTo>
                    <a:pt x="156" y="15"/>
                  </a:lnTo>
                  <a:lnTo>
                    <a:pt x="164" y="20"/>
                  </a:lnTo>
                  <a:lnTo>
                    <a:pt x="172" y="26"/>
                  </a:lnTo>
                  <a:lnTo>
                    <a:pt x="184" y="38"/>
                  </a:lnTo>
                  <a:lnTo>
                    <a:pt x="194" y="52"/>
                  </a:lnTo>
                  <a:lnTo>
                    <a:pt x="200" y="68"/>
                  </a:lnTo>
                  <a:lnTo>
                    <a:pt x="201" y="84"/>
                  </a:lnTo>
                  <a:lnTo>
                    <a:pt x="199" y="101"/>
                  </a:lnTo>
                  <a:lnTo>
                    <a:pt x="194" y="117"/>
                  </a:lnTo>
                  <a:lnTo>
                    <a:pt x="184" y="131"/>
                  </a:lnTo>
                  <a:lnTo>
                    <a:pt x="172" y="144"/>
                  </a:lnTo>
                  <a:lnTo>
                    <a:pt x="158" y="153"/>
                  </a:lnTo>
                  <a:lnTo>
                    <a:pt x="140" y="161"/>
                  </a:lnTo>
                  <a:lnTo>
                    <a:pt x="121" y="166"/>
                  </a:lnTo>
                  <a:lnTo>
                    <a:pt x="101" y="168"/>
                  </a:lnTo>
                  <a:lnTo>
                    <a:pt x="91" y="168"/>
                  </a:lnTo>
                  <a:lnTo>
                    <a:pt x="81" y="167"/>
                  </a:lnTo>
                  <a:lnTo>
                    <a:pt x="71" y="165"/>
                  </a:lnTo>
                  <a:lnTo>
                    <a:pt x="62" y="162"/>
                  </a:lnTo>
                  <a:lnTo>
                    <a:pt x="53" y="159"/>
                  </a:lnTo>
                  <a:lnTo>
                    <a:pt x="45" y="155"/>
                  </a:lnTo>
                  <a:lnTo>
                    <a:pt x="37" y="149"/>
                  </a:lnTo>
                  <a:lnTo>
                    <a:pt x="29" y="144"/>
                  </a:lnTo>
                  <a:lnTo>
                    <a:pt x="17" y="131"/>
                  </a:lnTo>
                  <a:lnTo>
                    <a:pt x="8" y="117"/>
                  </a:lnTo>
                  <a:lnTo>
                    <a:pt x="1" y="101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204640" y="3437640"/>
              <a:ext cx="220680" cy="160920"/>
            </a:xfrm>
            <a:custGeom>
              <a:avLst/>
              <a:gdLst/>
              <a:ahLst/>
              <a:rect l="l" t="t" r="r" b="b"/>
              <a:pathLst>
                <a:path w="417" h="346">
                  <a:moveTo>
                    <a:pt x="208" y="346"/>
                  </a:moveTo>
                  <a:lnTo>
                    <a:pt x="230" y="345"/>
                  </a:lnTo>
                  <a:lnTo>
                    <a:pt x="249" y="343"/>
                  </a:lnTo>
                  <a:lnTo>
                    <a:pt x="269" y="338"/>
                  </a:lnTo>
                  <a:lnTo>
                    <a:pt x="288" y="333"/>
                  </a:lnTo>
                  <a:lnTo>
                    <a:pt x="306" y="326"/>
                  </a:lnTo>
                  <a:lnTo>
                    <a:pt x="324" y="317"/>
                  </a:lnTo>
                  <a:lnTo>
                    <a:pt x="341" y="308"/>
                  </a:lnTo>
                  <a:lnTo>
                    <a:pt x="356" y="295"/>
                  </a:lnTo>
                  <a:lnTo>
                    <a:pt x="370" y="283"/>
                  </a:lnTo>
                  <a:lnTo>
                    <a:pt x="382" y="269"/>
                  </a:lnTo>
                  <a:lnTo>
                    <a:pt x="393" y="255"/>
                  </a:lnTo>
                  <a:lnTo>
                    <a:pt x="401" y="239"/>
                  </a:lnTo>
                  <a:lnTo>
                    <a:pt x="407" y="224"/>
                  </a:lnTo>
                  <a:lnTo>
                    <a:pt x="413" y="207"/>
                  </a:lnTo>
                  <a:lnTo>
                    <a:pt x="415" y="191"/>
                  </a:lnTo>
                  <a:lnTo>
                    <a:pt x="417" y="173"/>
                  </a:lnTo>
                  <a:lnTo>
                    <a:pt x="415" y="155"/>
                  </a:lnTo>
                  <a:lnTo>
                    <a:pt x="413" y="139"/>
                  </a:lnTo>
                  <a:lnTo>
                    <a:pt x="407" y="122"/>
                  </a:lnTo>
                  <a:lnTo>
                    <a:pt x="401" y="107"/>
                  </a:lnTo>
                  <a:lnTo>
                    <a:pt x="393" y="92"/>
                  </a:lnTo>
                  <a:lnTo>
                    <a:pt x="382" y="77"/>
                  </a:lnTo>
                  <a:lnTo>
                    <a:pt x="370" y="64"/>
                  </a:lnTo>
                  <a:lnTo>
                    <a:pt x="356" y="51"/>
                  </a:lnTo>
                  <a:lnTo>
                    <a:pt x="341" y="40"/>
                  </a:lnTo>
                  <a:lnTo>
                    <a:pt x="324" y="30"/>
                  </a:lnTo>
                  <a:lnTo>
                    <a:pt x="306" y="21"/>
                  </a:lnTo>
                  <a:lnTo>
                    <a:pt x="288" y="13"/>
                  </a:lnTo>
                  <a:lnTo>
                    <a:pt x="269" y="8"/>
                  </a:lnTo>
                  <a:lnTo>
                    <a:pt x="249" y="3"/>
                  </a:lnTo>
                  <a:lnTo>
                    <a:pt x="230" y="1"/>
                  </a:lnTo>
                  <a:lnTo>
                    <a:pt x="208" y="0"/>
                  </a:lnTo>
                  <a:lnTo>
                    <a:pt x="167" y="3"/>
                  </a:lnTo>
                  <a:lnTo>
                    <a:pt x="127" y="13"/>
                  </a:lnTo>
                  <a:lnTo>
                    <a:pt x="93" y="30"/>
                  </a:lnTo>
                  <a:lnTo>
                    <a:pt x="61" y="51"/>
                  </a:lnTo>
                  <a:lnTo>
                    <a:pt x="36" y="77"/>
                  </a:lnTo>
                  <a:lnTo>
                    <a:pt x="16" y="106"/>
                  </a:lnTo>
                  <a:lnTo>
                    <a:pt x="4" y="139"/>
                  </a:lnTo>
                  <a:lnTo>
                    <a:pt x="0" y="173"/>
                  </a:lnTo>
                  <a:lnTo>
                    <a:pt x="1" y="191"/>
                  </a:lnTo>
                  <a:lnTo>
                    <a:pt x="4" y="207"/>
                  </a:lnTo>
                  <a:lnTo>
                    <a:pt x="9" y="224"/>
                  </a:lnTo>
                  <a:lnTo>
                    <a:pt x="16" y="239"/>
                  </a:lnTo>
                  <a:lnTo>
                    <a:pt x="24" y="255"/>
                  </a:lnTo>
                  <a:lnTo>
                    <a:pt x="35" y="269"/>
                  </a:lnTo>
                  <a:lnTo>
                    <a:pt x="46" y="283"/>
                  </a:lnTo>
                  <a:lnTo>
                    <a:pt x="61" y="295"/>
                  </a:lnTo>
                  <a:lnTo>
                    <a:pt x="77" y="308"/>
                  </a:lnTo>
                  <a:lnTo>
                    <a:pt x="93" y="317"/>
                  </a:lnTo>
                  <a:lnTo>
                    <a:pt x="110" y="326"/>
                  </a:lnTo>
                  <a:lnTo>
                    <a:pt x="129" y="333"/>
                  </a:lnTo>
                  <a:lnTo>
                    <a:pt x="147" y="338"/>
                  </a:lnTo>
                  <a:lnTo>
                    <a:pt x="167" y="343"/>
                  </a:lnTo>
                  <a:lnTo>
                    <a:pt x="187" y="345"/>
                  </a:lnTo>
                  <a:lnTo>
                    <a:pt x="208" y="3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261880" y="3479400"/>
              <a:ext cx="106560" cy="77400"/>
            </a:xfrm>
            <a:custGeom>
              <a:avLst/>
              <a:gdLst/>
              <a:ahLst/>
              <a:rect l="l" t="t" r="r" b="b"/>
              <a:pathLst>
                <a:path w="202" h="168">
                  <a:moveTo>
                    <a:pt x="0" y="84"/>
                  </a:moveTo>
                  <a:lnTo>
                    <a:pt x="2" y="68"/>
                  </a:lnTo>
                  <a:lnTo>
                    <a:pt x="8" y="52"/>
                  </a:lnTo>
                  <a:lnTo>
                    <a:pt x="18" y="38"/>
                  </a:lnTo>
                  <a:lnTo>
                    <a:pt x="30" y="26"/>
                  </a:lnTo>
                  <a:lnTo>
                    <a:pt x="38" y="20"/>
                  </a:lnTo>
                  <a:lnTo>
                    <a:pt x="46" y="15"/>
                  </a:lnTo>
                  <a:lnTo>
                    <a:pt x="54" y="10"/>
                  </a:lnTo>
                  <a:lnTo>
                    <a:pt x="63" y="7"/>
                  </a:lnTo>
                  <a:lnTo>
                    <a:pt x="72" y="4"/>
                  </a:lnTo>
                  <a:lnTo>
                    <a:pt x="81" y="1"/>
                  </a:lnTo>
                  <a:lnTo>
                    <a:pt x="92" y="0"/>
                  </a:lnTo>
                  <a:lnTo>
                    <a:pt x="101" y="0"/>
                  </a:lnTo>
                  <a:lnTo>
                    <a:pt x="111" y="0"/>
                  </a:lnTo>
                  <a:lnTo>
                    <a:pt x="121" y="1"/>
                  </a:lnTo>
                  <a:lnTo>
                    <a:pt x="131" y="4"/>
                  </a:lnTo>
                  <a:lnTo>
                    <a:pt x="140" y="7"/>
                  </a:lnTo>
                  <a:lnTo>
                    <a:pt x="149" y="10"/>
                  </a:lnTo>
                  <a:lnTo>
                    <a:pt x="157" y="15"/>
                  </a:lnTo>
                  <a:lnTo>
                    <a:pt x="165" y="20"/>
                  </a:lnTo>
                  <a:lnTo>
                    <a:pt x="173" y="26"/>
                  </a:lnTo>
                  <a:lnTo>
                    <a:pt x="185" y="38"/>
                  </a:lnTo>
                  <a:lnTo>
                    <a:pt x="194" y="52"/>
                  </a:lnTo>
                  <a:lnTo>
                    <a:pt x="201" y="68"/>
                  </a:lnTo>
                  <a:lnTo>
                    <a:pt x="202" y="84"/>
                  </a:lnTo>
                  <a:lnTo>
                    <a:pt x="199" y="101"/>
                  </a:lnTo>
                  <a:lnTo>
                    <a:pt x="194" y="117"/>
                  </a:lnTo>
                  <a:lnTo>
                    <a:pt x="185" y="131"/>
                  </a:lnTo>
                  <a:lnTo>
                    <a:pt x="173" y="144"/>
                  </a:lnTo>
                  <a:lnTo>
                    <a:pt x="158" y="153"/>
                  </a:lnTo>
                  <a:lnTo>
                    <a:pt x="141" y="161"/>
                  </a:lnTo>
                  <a:lnTo>
                    <a:pt x="121" y="166"/>
                  </a:lnTo>
                  <a:lnTo>
                    <a:pt x="101" y="168"/>
                  </a:lnTo>
                  <a:lnTo>
                    <a:pt x="92" y="168"/>
                  </a:lnTo>
                  <a:lnTo>
                    <a:pt x="81" y="167"/>
                  </a:lnTo>
                  <a:lnTo>
                    <a:pt x="72" y="165"/>
                  </a:lnTo>
                  <a:lnTo>
                    <a:pt x="63" y="162"/>
                  </a:lnTo>
                  <a:lnTo>
                    <a:pt x="54" y="159"/>
                  </a:lnTo>
                  <a:lnTo>
                    <a:pt x="46" y="155"/>
                  </a:lnTo>
                  <a:lnTo>
                    <a:pt x="38" y="149"/>
                  </a:lnTo>
                  <a:lnTo>
                    <a:pt x="30" y="144"/>
                  </a:lnTo>
                  <a:lnTo>
                    <a:pt x="18" y="131"/>
                  </a:lnTo>
                  <a:lnTo>
                    <a:pt x="8" y="117"/>
                  </a:lnTo>
                  <a:lnTo>
                    <a:pt x="2" y="101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476440" y="3508200"/>
              <a:ext cx="28440" cy="20520"/>
            </a:xfrm>
            <a:custGeom>
              <a:avLst/>
              <a:gdLst/>
              <a:ahLst/>
              <a:rect l="l" t="t" r="r" b="b"/>
              <a:pathLst>
                <a:path w="56" h="45">
                  <a:moveTo>
                    <a:pt x="28" y="45"/>
                  </a:moveTo>
                  <a:lnTo>
                    <a:pt x="38" y="43"/>
                  </a:lnTo>
                  <a:lnTo>
                    <a:pt x="48" y="39"/>
                  </a:lnTo>
                  <a:lnTo>
                    <a:pt x="53" y="31"/>
                  </a:lnTo>
                  <a:lnTo>
                    <a:pt x="56" y="22"/>
                  </a:lnTo>
                  <a:lnTo>
                    <a:pt x="53" y="13"/>
                  </a:lnTo>
                  <a:lnTo>
                    <a:pt x="48" y="7"/>
                  </a:lnTo>
                  <a:lnTo>
                    <a:pt x="38" y="2"/>
                  </a:lnTo>
                  <a:lnTo>
                    <a:pt x="28" y="0"/>
                  </a:lnTo>
                  <a:lnTo>
                    <a:pt x="17" y="2"/>
                  </a:lnTo>
                  <a:lnTo>
                    <a:pt x="8" y="7"/>
                  </a:lnTo>
                  <a:lnTo>
                    <a:pt x="2" y="13"/>
                  </a:lnTo>
                  <a:lnTo>
                    <a:pt x="0" y="22"/>
                  </a:lnTo>
                  <a:lnTo>
                    <a:pt x="2" y="31"/>
                  </a:lnTo>
                  <a:lnTo>
                    <a:pt x="8" y="39"/>
                  </a:lnTo>
                  <a:lnTo>
                    <a:pt x="17" y="43"/>
                  </a:lnTo>
                  <a:lnTo>
                    <a:pt x="2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300040" y="3508200"/>
              <a:ext cx="30240" cy="20520"/>
            </a:xfrm>
            <a:custGeom>
              <a:avLst/>
              <a:gdLst/>
              <a:ahLst/>
              <a:rect l="l" t="t" r="r" b="b"/>
              <a:pathLst>
                <a:path w="56" h="45">
                  <a:moveTo>
                    <a:pt x="28" y="45"/>
                  </a:moveTo>
                  <a:lnTo>
                    <a:pt x="39" y="43"/>
                  </a:lnTo>
                  <a:lnTo>
                    <a:pt x="48" y="39"/>
                  </a:lnTo>
                  <a:lnTo>
                    <a:pt x="54" y="31"/>
                  </a:lnTo>
                  <a:lnTo>
                    <a:pt x="56" y="22"/>
                  </a:lnTo>
                  <a:lnTo>
                    <a:pt x="54" y="13"/>
                  </a:lnTo>
                  <a:lnTo>
                    <a:pt x="48" y="7"/>
                  </a:lnTo>
                  <a:lnTo>
                    <a:pt x="39" y="2"/>
                  </a:lnTo>
                  <a:lnTo>
                    <a:pt x="28" y="0"/>
                  </a:lnTo>
                  <a:lnTo>
                    <a:pt x="18" y="2"/>
                  </a:lnTo>
                  <a:lnTo>
                    <a:pt x="8" y="7"/>
                  </a:lnTo>
                  <a:lnTo>
                    <a:pt x="3" y="13"/>
                  </a:lnTo>
                  <a:lnTo>
                    <a:pt x="0" y="22"/>
                  </a:lnTo>
                  <a:lnTo>
                    <a:pt x="3" y="31"/>
                  </a:lnTo>
                  <a:lnTo>
                    <a:pt x="8" y="39"/>
                  </a:lnTo>
                  <a:lnTo>
                    <a:pt x="18" y="43"/>
                  </a:lnTo>
                  <a:lnTo>
                    <a:pt x="2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1568520" y="2492280"/>
            <a:ext cx="14396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able 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704880" y="1052640"/>
            <a:ext cx="8207280" cy="1225440"/>
            <a:chOff x="704880" y="1052640"/>
            <a:chExt cx="8207280" cy="1225440"/>
          </a:xfrm>
        </p:grpSpPr>
        <p:sp>
          <p:nvSpPr>
            <p:cNvPr id="330" name=""/>
            <p:cNvSpPr/>
            <p:nvPr/>
          </p:nvSpPr>
          <p:spPr>
            <a:xfrm>
              <a:off x="1711440" y="1052640"/>
              <a:ext cx="720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s papeles de trabajo que respalden los Informes de Control Interno, se conservarán en </a:t>
              </a: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legajos foliado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 y permanecerán a disposición de la SSN por el término de </a:t>
              </a: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tres (3) año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como mínim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04880" y="1052640"/>
              <a:ext cx="1008000" cy="792000"/>
            </a:xfrm>
            <a:prstGeom prst="flowChartMulti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992160" y="1557360"/>
              <a:ext cx="503280" cy="576360"/>
            </a:xfrm>
            <a:prstGeom prst="flowChartMagneticTap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76160" y="1701720"/>
              <a:ext cx="503280" cy="576360"/>
            </a:xfrm>
            <a:prstGeom prst="flowChartMagneticTap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9T16:30:51Z</dcterms:created>
  <dc:creator>DMarasca</dc:creator>
  <dc:description/>
  <dc:language>en-US</dc:language>
  <cp:lastModifiedBy>DMarasca</cp:lastModifiedBy>
  <dcterms:modified xsi:type="dcterms:W3CDTF">2006-11-22T15:20:04Z</dcterms:modified>
  <cp:revision>142</cp:revision>
  <dc:subject/>
  <dc:title>Normas sobre Procedimientos Administrativos y Controles Internos en Compañías de Seguros y AFJP’s</dc:title>
</cp:coreProperties>
</file>