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42E73-5C40-4FE9-A98C-48C21C63F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BD2D-D024-4D20-845E-8799350B9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1CC24-A263-4D07-8045-CB8A9403D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17005-3B52-4CF8-9F1B-098EAB6F3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90C58-B563-4725-9BAE-12B4F548F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9688D-D22C-4A36-AB40-07644FD09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280DC-1CE9-4C1B-BE8D-DF27B711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8F2E-17B3-4221-BB15-CC8F9C56E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03921-962C-4078-AB9B-B2005C4A6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C9F69-523F-4793-B315-1260248FB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52CD0-8C23-4972-A7B4-33E41657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8F19-4E27-42C4-BD3C-8720A26B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FEE1-90CC-4B02-AF57-DC5B47AD2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12603-09DE-4E50-9E91-25B17213D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A275C-8714-4DA9-9E4F-5AF1563BE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1E378-028A-470B-ADC7-A7C7C43FB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9EBBE-A76F-41A4-9CAE-703B117CC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FA90-F999-4B82-BE01-8D1A77BE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3281-926F-41EB-960B-F97740BA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9A77-8BD0-4DB2-A994-65FA7A67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C1B0-90E8-4508-BD1F-2C23C46B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3545-CB87-48F7-A8C4-706687DB5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CFBB-0308-4BD8-AB24-994E012AB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4F2A-C901-472B-80DB-A01943750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76CA-4D5C-44CE-BD3B-6A779F17A626}"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F28D-3F2F-4B3B-B03D-F4AFE32A6482}"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14600" y="1676520"/>
            <a:ext cx="6399360" cy="13716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ff"/>
                </a:solidFill>
                <a:uFillTx/>
                <a:latin typeface="Arial Narrow"/>
              </a:rPr>
              <a:t>PASIVO POR SINIESTROS PENDIENTES</a:t>
            </a:r>
            <a:endParaRPr b="1" lang="en-US" sz="4400" spc="-1" strike="noStrike">
              <a:solidFill>
                <a:srgbClr val="ffffcc"/>
              </a:solidFill>
              <a:latin typeface="Arial Narrow"/>
            </a:endParaRPr>
          </a:p>
        </p:txBody>
      </p:sp>
      <p:pic>
        <p:nvPicPr>
          <p:cNvPr id="86"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6"/>
          </p:nvPr>
        </p:nvSpPr>
        <p:spPr/>
        <p:txBody>
          <a:bodyPr/>
          <a:p>
            <a:fld id="{47F50105-5D8B-4B4C-B213-F3F6F5920D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600" spc="-1" strike="noStrike" u="sng">
                <a:solidFill>
                  <a:srgbClr val="ffffff"/>
                </a:solidFill>
                <a:uFillTx/>
                <a:latin typeface="Arial Narrow"/>
              </a:rPr>
              <a:t>Criterios de Valuación</a:t>
            </a:r>
            <a:endParaRPr b="1" lang="en-US" sz="4600" spc="-1" strike="noStrike">
              <a:solidFill>
                <a:srgbClr val="ffffcc"/>
              </a:solidFill>
              <a:latin typeface="Arial Narrow"/>
            </a:endParaRPr>
          </a:p>
        </p:txBody>
      </p:sp>
      <p:sp>
        <p:nvSpPr>
          <p:cNvPr id="107" name="PlaceHolder 2"/>
          <p:cNvSpPr>
            <a:spLocks noGrp="1"/>
          </p:cNvSpPr>
          <p:nvPr>
            <p:ph/>
          </p:nvPr>
        </p:nvSpPr>
        <p:spPr>
          <a:xfrm>
            <a:off x="2819160" y="1980720"/>
            <a:ext cx="6095880" cy="221004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cierre de cada Período: Estimación del Pasivo por Siniestros Pendientes</a:t>
            </a:r>
            <a:endParaRPr b="0" lang="en-US" sz="2400" spc="-1" strike="noStrike">
              <a:solidFill>
                <a:srgbClr val="ffffff"/>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2040" indent="-21996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nuncia del asegurado y/o reclamo del tercero no judicial.</a:t>
            </a:r>
            <a:endParaRPr b="0" lang="en-US" sz="2200" spc="-1" strike="noStrike">
              <a:solidFill>
                <a:srgbClr val="ffffff"/>
              </a:solidFill>
              <a:latin typeface="Arial"/>
            </a:endParaRPr>
          </a:p>
          <a:p>
            <a:pPr lvl="1" marL="572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572040" indent="-219960">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clamo judicial del asegurado y/o tercero damnificado.</a:t>
            </a:r>
            <a:endParaRPr b="0" lang="en-US" sz="2200" spc="-1" strike="noStrike">
              <a:solidFill>
                <a:srgbClr val="ffffff"/>
              </a:solidFill>
              <a:latin typeface="Arial"/>
            </a:endParaRPr>
          </a:p>
          <a:p>
            <a:pPr lvl="1" marL="572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8"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F4E3DFE2-26D1-4BB5-82C1-7C0C956DB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990360"/>
            <a:ext cx="6934320" cy="990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Narrow"/>
              </a:rPr>
              <a:t>Denuncia del asegurado y/o reclamo del tercero no judicial</a:t>
            </a:r>
            <a:br>
              <a:rPr sz="4400"/>
            </a:br>
            <a:endParaRPr b="1" lang="en-US" sz="4400" spc="-1" strike="noStrike">
              <a:solidFill>
                <a:srgbClr val="ffffcc"/>
              </a:solidFill>
              <a:latin typeface="Arial Narrow"/>
            </a:endParaRPr>
          </a:p>
        </p:txBody>
      </p:sp>
      <p:sp>
        <p:nvSpPr>
          <p:cNvPr id="110" name="PlaceHolder 2"/>
          <p:cNvSpPr>
            <a:spLocks noGrp="1"/>
          </p:cNvSpPr>
          <p:nvPr>
            <p:ph/>
          </p:nvPr>
        </p:nvSpPr>
        <p:spPr>
          <a:xfrm>
            <a:off x="2819160" y="1981080"/>
            <a:ext cx="609588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nuncia realizada por el asegurado sin reclamo del/los tercero/s damnificado/s.</a:t>
            </a:r>
            <a:endParaRPr b="0" lang="en-US" sz="2800" spc="-1" strike="noStrike">
              <a:solidFill>
                <a:srgbClr val="ffffff"/>
              </a:solidFill>
              <a:latin typeface="Arial"/>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nuncia realizada por el asegurado sin reclamo del/los tercero/s damnificados pero con lesiones o daños materiales de terceros.</a:t>
            </a:r>
            <a:endParaRPr b="0" lang="en-US" sz="2800" spc="-1" strike="noStrike">
              <a:solidFill>
                <a:srgbClr val="ffffff"/>
              </a:solidFill>
              <a:latin typeface="Arial"/>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nuncia realizada por el asegurado con reclamo del/los terceros damnificad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AMIGO%20VALENTINI%203" descr=""/>
          <p:cNvPicPr/>
          <p:nvPr/>
        </p:nvPicPr>
        <p:blipFill>
          <a:blip r:embed="rId1"/>
          <a:stretch/>
        </p:blipFill>
        <p:spPr>
          <a:xfrm>
            <a:off x="0" y="0"/>
            <a:ext cx="1981080" cy="749160"/>
          </a:xfrm>
          <a:prstGeom prst="rect">
            <a:avLst/>
          </a:prstGeom>
          <a:ln w="0">
            <a:noFill/>
          </a:ln>
        </p:spPr>
      </p:pic>
      <p:sp>
        <p:nvSpPr>
          <p:cNvPr id="4" name="PlaceHolder 3"/>
          <p:cNvSpPr>
            <a:spLocks noGrp="1"/>
          </p:cNvSpPr>
          <p:nvPr>
            <p:ph type="sldNum" idx="3"/>
          </p:nvPr>
        </p:nvSpPr>
        <p:spPr/>
        <p:txBody>
          <a:bodyPr/>
          <a:p>
            <a:fld id="{9C630DD4-32AF-4E08-888B-ABCCE3963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685440"/>
            <a:ext cx="746748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Narrow"/>
              </a:rPr>
              <a:t>Reclamo judicial del asegurado y/o tercero damnificado</a:t>
            </a:r>
            <a:endParaRPr b="1" lang="en-US" sz="4400" spc="-1" strike="noStrike">
              <a:solidFill>
                <a:srgbClr val="ffffcc"/>
              </a:solidFill>
              <a:latin typeface="Arial Narrow"/>
            </a:endParaRPr>
          </a:p>
        </p:txBody>
      </p:sp>
      <p:sp>
        <p:nvSpPr>
          <p:cNvPr id="11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rmas mínimas de valuació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4"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78CF8FBE-87B6-47B1-945F-129B9B8066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3520" y="914400"/>
            <a:ext cx="7239240" cy="5943600"/>
          </a:xfrm>
          <a:prstGeom prst="rect">
            <a:avLst/>
          </a:prstGeom>
          <a:noFill/>
          <a:ln w="0">
            <a:noFill/>
          </a:ln>
        </p:spPr>
        <p:txBody>
          <a:bodyPr lIns="92160" rIns="92160" tIns="46080" bIns="46080" anchor="t">
            <a:normAutofit/>
          </a:bodyPr>
          <a:p>
            <a:pPr marL="533520" indent="-533520">
              <a:lnSpc>
                <a:spcPct val="90000"/>
              </a:lnSpc>
              <a:spcBef>
                <a:spcPts val="751"/>
              </a:spcBef>
              <a:buClr>
                <a:srgbClr val="ffffff"/>
              </a:buClr>
              <a:buSzPct val="6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Se toman todos los juicios o mediaciones promovidas contra la entidad o en los que la misma haya sido citada en garantía.</a:t>
            </a:r>
            <a:endParaRPr b="0" lang="en-US" sz="3000" spc="-1" strike="noStrike">
              <a:solidFill>
                <a:srgbClr val="ffffff"/>
              </a:solidFill>
              <a:latin typeface="Arial"/>
            </a:endParaRPr>
          </a:p>
          <a:p>
            <a:pPr lvl="1" marL="952560" indent="-495360">
              <a:lnSpc>
                <a:spcPct val="9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ntencia Definitiva: Monto + gastos causídicos, netos de reaseguro.</a:t>
            </a:r>
            <a:endParaRPr b="0" lang="en-US" sz="2200" spc="-1" strike="noStrike">
              <a:solidFill>
                <a:srgbClr val="ffffff"/>
              </a:solidFill>
              <a:latin typeface="Arial"/>
            </a:endParaRPr>
          </a:p>
          <a:p>
            <a:pPr lvl="1" marL="952560" indent="-495360">
              <a:lnSpc>
                <a:spcPct val="9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ntencia no Definitiva: Monto + gastos causídicos, netos de reaseguro. Si no se estipulan los honorarios, se estiman el 20% del monto de la sentencia.</a:t>
            </a:r>
            <a:endParaRPr b="0" lang="en-US" sz="2200" spc="-1" strike="noStrike">
              <a:solidFill>
                <a:srgbClr val="ffffff"/>
              </a:solidFill>
              <a:latin typeface="Arial"/>
            </a:endParaRPr>
          </a:p>
          <a:p>
            <a:pPr lvl="1" marL="952560" indent="-495360">
              <a:lnSpc>
                <a:spcPct val="9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os importes resultantes se valuarán teniendo en cuenta la evolución del índice de Precios al Consumidor, Nivel General, hasta el 31/03/91. Luego, Tasa Pasiva Banco Central (Si no se estipula en la sentencia).</a:t>
            </a:r>
            <a:endParaRPr b="0" lang="en-US" sz="2200" spc="-1" strike="noStrike">
              <a:solidFill>
                <a:srgbClr val="ffffff"/>
              </a:solidFill>
              <a:latin typeface="Arial"/>
            </a:endParaRPr>
          </a:p>
          <a:p>
            <a:pPr lvl="1" marL="952560" indent="-495360">
              <a:lnSpc>
                <a:spcPct val="90000"/>
              </a:lnSpc>
              <a:spcBef>
                <a:spcPts val="55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Transacción: solo si está homologada por el juzgado respectivo.</a:t>
            </a:r>
            <a:endParaRPr b="0" lang="en-US" sz="2200" spc="-1" strike="noStrike">
              <a:solidFill>
                <a:srgbClr val="ffffff"/>
              </a:solidFill>
              <a:latin typeface="Arial"/>
            </a:endParaRPr>
          </a:p>
        </p:txBody>
      </p:sp>
      <p:pic>
        <p:nvPicPr>
          <p:cNvPr id="116" name="AMIGO%20VALENTINI%203" descr=""/>
          <p:cNvPicPr/>
          <p:nvPr/>
        </p:nvPicPr>
        <p:blipFill>
          <a:blip r:embed="rId1"/>
          <a:stretch/>
        </p:blipFill>
        <p:spPr>
          <a:xfrm>
            <a:off x="0" y="0"/>
            <a:ext cx="1981080" cy="747720"/>
          </a:xfrm>
          <a:prstGeom prst="rect">
            <a:avLst/>
          </a:prstGeom>
          <a:ln w="0">
            <a:noFill/>
          </a:ln>
        </p:spPr>
      </p:pic>
      <p:sp>
        <p:nvSpPr>
          <p:cNvPr id="3" name="PlaceHolder 2"/>
          <p:cNvSpPr>
            <a:spLocks noGrp="1"/>
          </p:cNvSpPr>
          <p:nvPr>
            <p:ph type="sldNum" idx="3"/>
          </p:nvPr>
        </p:nvSpPr>
        <p:spPr/>
        <p:txBody>
          <a:bodyPr/>
          <a:p>
            <a:fld id="{A2023E35-70F9-4799-B537-967E41591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133360" y="228240"/>
            <a:ext cx="6095880" cy="5181480"/>
          </a:xfrm>
          <a:prstGeom prst="rect">
            <a:avLst/>
          </a:prstGeom>
          <a:noFill/>
          <a:ln w="0">
            <a:noFill/>
          </a:ln>
        </p:spPr>
        <p:txBody>
          <a:bodyPr lIns="92160" rIns="92160" tIns="46080" bIns="46080" anchor="t">
            <a:normAutofit/>
          </a:bodyPr>
          <a:p>
            <a:pPr marL="533520" indent="-533520">
              <a:lnSpc>
                <a:spcPct val="90000"/>
              </a:lnSpc>
              <a:spcBef>
                <a:spcPts val="1100"/>
              </a:spcBef>
              <a:buClr>
                <a:srgbClr val="ffffff"/>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Narrow"/>
              </a:rPr>
              <a:t>Resto de los siniestros con reclamo judicial, salvo Automotores y Responsabilidad Civil:</a:t>
            </a:r>
            <a:endParaRPr b="0" lang="en-US" sz="4400" spc="-1" strike="noStrike">
              <a:solidFill>
                <a:srgbClr val="ffffff"/>
              </a:solidFill>
              <a:latin typeface="Arial"/>
            </a:endParaRPr>
          </a:p>
          <a:p>
            <a:pPr marL="5335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533520" indent="-533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60% del importe demandado actualizado o la responsabilidad a cargo de la entidad según cual sea menor, neto de reaseguro.</a:t>
            </a:r>
            <a:endParaRPr b="0" lang="en-US" sz="2800" spc="-1" strike="noStrike">
              <a:solidFill>
                <a:srgbClr val="ffffff"/>
              </a:solidFill>
              <a:latin typeface="Arial"/>
            </a:endParaRPr>
          </a:p>
          <a:p>
            <a:pPr lvl="1" marL="95256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77D0470B-6DDA-4815-BB58-7BFDE4CAB0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marL="838080" indent="-838080">
              <a:lnSpc>
                <a:spcPct val="70000"/>
              </a:lnSpc>
              <a:buClr>
                <a:srgbClr val="ffff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Narrow"/>
              </a:rPr>
              <a:t>Responsabilidad Civil</a:t>
            </a:r>
            <a:endParaRPr b="1" lang="en-US" sz="4400" spc="-1" strike="noStrike">
              <a:solidFill>
                <a:srgbClr val="ffffcc"/>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533520" indent="-53352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0% del importe demandado actualizado o la responsabilidad a cargo de la entidad según cual sea menor, neto de reaseguro.</a:t>
            </a:r>
            <a:endParaRPr b="0" lang="en-US" sz="2800" spc="-1" strike="noStrike">
              <a:solidFill>
                <a:srgbClr val="ffffff"/>
              </a:solidFill>
              <a:latin typeface="Arial"/>
            </a:endParaRPr>
          </a:p>
          <a:p>
            <a:pPr marL="533520" indent="-53352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rma opcional: Experiencia Siniestral.</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1"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B864DBBB-D51B-445A-A355-B0E1C203C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marL="838080" indent="-838080">
              <a:lnSpc>
                <a:spcPct val="70000"/>
              </a:lnSpc>
              <a:buClr>
                <a:srgbClr val="ffff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Narrow"/>
              </a:rPr>
              <a:t>Automotores</a:t>
            </a:r>
            <a:endParaRPr b="1" lang="en-US" sz="4000" spc="-1" strike="noStrike">
              <a:solidFill>
                <a:srgbClr val="ffffcc"/>
              </a:solidFill>
              <a:latin typeface="Arial Narrow"/>
            </a:endParaRPr>
          </a:p>
        </p:txBody>
      </p:sp>
      <p:grpSp>
        <p:nvGrpSpPr>
          <p:cNvPr id="123" name=""/>
          <p:cNvGrpSpPr/>
          <p:nvPr/>
        </p:nvGrpSpPr>
        <p:grpSpPr>
          <a:xfrm>
            <a:off x="380880" y="1447920"/>
            <a:ext cx="8457480" cy="5003640"/>
            <a:chOff x="380880" y="1447920"/>
            <a:chExt cx="8457480" cy="5003640"/>
          </a:xfrm>
        </p:grpSpPr>
        <p:grpSp>
          <p:nvGrpSpPr>
            <p:cNvPr id="124" name=""/>
            <p:cNvGrpSpPr/>
            <p:nvPr/>
          </p:nvGrpSpPr>
          <p:grpSpPr>
            <a:xfrm>
              <a:off x="390240" y="1452600"/>
              <a:ext cx="8437320" cy="4994280"/>
              <a:chOff x="390240" y="1452600"/>
              <a:chExt cx="8437320" cy="4994280"/>
            </a:xfrm>
          </p:grpSpPr>
          <p:grpSp>
            <p:nvGrpSpPr>
              <p:cNvPr id="125" name=""/>
              <p:cNvGrpSpPr/>
              <p:nvPr/>
            </p:nvGrpSpPr>
            <p:grpSpPr>
              <a:xfrm>
                <a:off x="390240" y="1452600"/>
                <a:ext cx="3987720" cy="1324080"/>
                <a:chOff x="390240" y="1452600"/>
                <a:chExt cx="3987720" cy="1324080"/>
              </a:xfrm>
            </p:grpSpPr>
            <p:sp>
              <p:nvSpPr>
                <p:cNvPr id="126" name=""/>
                <p:cNvSpPr/>
                <p:nvPr/>
              </p:nvSpPr>
              <p:spPr>
                <a:xfrm>
                  <a:off x="478800" y="1452600"/>
                  <a:ext cx="3809880" cy="13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Monto de Demanda Actualizad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390240" y="1452600"/>
                  <a:ext cx="3987720" cy="13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 name=""/>
              <p:cNvGrpSpPr/>
              <p:nvPr/>
            </p:nvGrpSpPr>
            <p:grpSpPr>
              <a:xfrm>
                <a:off x="4378680" y="1452600"/>
                <a:ext cx="4448880" cy="593640"/>
                <a:chOff x="4378680" y="1452600"/>
                <a:chExt cx="4448880" cy="593640"/>
              </a:xfrm>
            </p:grpSpPr>
            <p:sp>
              <p:nvSpPr>
                <p:cNvPr id="129" name=""/>
                <p:cNvSpPr/>
                <p:nvPr/>
              </p:nvSpPr>
              <p:spPr>
                <a:xfrm>
                  <a:off x="4467240" y="1452600"/>
                  <a:ext cx="42717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Pasivo a Constitui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0" name=""/>
                <p:cNvSpPr/>
                <p:nvPr/>
              </p:nvSpPr>
              <p:spPr>
                <a:xfrm>
                  <a:off x="4378680" y="1452600"/>
                  <a:ext cx="4448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4378680" y="2046240"/>
                <a:ext cx="2397240" cy="730440"/>
                <a:chOff x="4378680" y="2046240"/>
                <a:chExt cx="2397240" cy="730440"/>
              </a:xfrm>
            </p:grpSpPr>
            <p:sp>
              <p:nvSpPr>
                <p:cNvPr id="132" name=""/>
                <p:cNvSpPr/>
                <p:nvPr/>
              </p:nvSpPr>
              <p:spPr>
                <a:xfrm>
                  <a:off x="4467240" y="2046240"/>
                  <a:ext cx="2219400" cy="7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 sobre demand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3" name=""/>
                <p:cNvSpPr/>
                <p:nvPr/>
              </p:nvSpPr>
              <p:spPr>
                <a:xfrm>
                  <a:off x="4378680" y="2046240"/>
                  <a:ext cx="23972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 name=""/>
              <p:cNvGrpSpPr/>
              <p:nvPr/>
            </p:nvGrpSpPr>
            <p:grpSpPr>
              <a:xfrm>
                <a:off x="6777000" y="2046240"/>
                <a:ext cx="2050560" cy="730440"/>
                <a:chOff x="6777000" y="2046240"/>
                <a:chExt cx="2050560" cy="730440"/>
              </a:xfrm>
            </p:grpSpPr>
            <p:sp>
              <p:nvSpPr>
                <p:cNvPr id="135" name=""/>
                <p:cNvSpPr/>
                <p:nvPr/>
              </p:nvSpPr>
              <p:spPr>
                <a:xfrm>
                  <a:off x="6865560" y="2046240"/>
                  <a:ext cx="1873440" cy="7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Monto mínim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6" name=""/>
                <p:cNvSpPr/>
                <p:nvPr/>
              </p:nvSpPr>
              <p:spPr>
                <a:xfrm>
                  <a:off x="6777000" y="2046240"/>
                  <a:ext cx="205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90240" y="2776680"/>
                <a:ext cx="2330280" cy="593640"/>
                <a:chOff x="390240" y="2776680"/>
                <a:chExt cx="2330280" cy="593640"/>
              </a:xfrm>
            </p:grpSpPr>
            <p:sp>
              <p:nvSpPr>
                <p:cNvPr id="138" name=""/>
                <p:cNvSpPr/>
                <p:nvPr/>
              </p:nvSpPr>
              <p:spPr>
                <a:xfrm>
                  <a:off x="478800" y="2776680"/>
                  <a:ext cx="2153160" cy="5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has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390240" y="2776680"/>
                  <a:ext cx="23302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2721240" y="2776680"/>
                <a:ext cx="1656720" cy="593640"/>
                <a:chOff x="2721240" y="2776680"/>
                <a:chExt cx="1656720" cy="593640"/>
              </a:xfrm>
            </p:grpSpPr>
            <p:sp>
              <p:nvSpPr>
                <p:cNvPr id="141" name=""/>
                <p:cNvSpPr/>
                <p:nvPr/>
              </p:nvSpPr>
              <p:spPr>
                <a:xfrm>
                  <a:off x="2810520" y="2776680"/>
                  <a:ext cx="1478160" cy="59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2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2" name=""/>
                <p:cNvSpPr/>
                <p:nvPr/>
              </p:nvSpPr>
              <p:spPr>
                <a:xfrm>
                  <a:off x="2721240" y="2776680"/>
                  <a:ext cx="1656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4378680" y="2776680"/>
                <a:ext cx="2397240" cy="593640"/>
                <a:chOff x="4378680" y="2776680"/>
                <a:chExt cx="2397240" cy="593640"/>
              </a:xfrm>
            </p:grpSpPr>
            <p:sp>
              <p:nvSpPr>
                <p:cNvPr id="144" name=""/>
                <p:cNvSpPr/>
                <p:nvPr/>
              </p:nvSpPr>
              <p:spPr>
                <a:xfrm>
                  <a:off x="4467240" y="2776680"/>
                  <a:ext cx="221940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6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5" name=""/>
                <p:cNvSpPr/>
                <p:nvPr/>
              </p:nvSpPr>
              <p:spPr>
                <a:xfrm>
                  <a:off x="4378680" y="2776680"/>
                  <a:ext cx="2397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6777000" y="2776680"/>
                <a:ext cx="2050560" cy="593640"/>
                <a:chOff x="6777000" y="2776680"/>
                <a:chExt cx="2050560" cy="593640"/>
              </a:xfrm>
            </p:grpSpPr>
            <p:sp>
              <p:nvSpPr>
                <p:cNvPr id="147" name=""/>
                <p:cNvSpPr/>
                <p:nvPr/>
              </p:nvSpPr>
              <p:spPr>
                <a:xfrm>
                  <a:off x="6865560" y="2776680"/>
                  <a:ext cx="187344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8" name=""/>
                <p:cNvSpPr/>
                <p:nvPr/>
              </p:nvSpPr>
              <p:spPr>
                <a:xfrm>
                  <a:off x="6777000" y="2776680"/>
                  <a:ext cx="205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390240" y="3370320"/>
                <a:ext cx="2330280" cy="593640"/>
                <a:chOff x="390240" y="3370320"/>
                <a:chExt cx="2330280" cy="593640"/>
              </a:xfrm>
            </p:grpSpPr>
            <p:sp>
              <p:nvSpPr>
                <p:cNvPr id="150" name=""/>
                <p:cNvSpPr/>
                <p:nvPr/>
              </p:nvSpPr>
              <p:spPr>
                <a:xfrm>
                  <a:off x="478800" y="3370320"/>
                  <a:ext cx="2153160" cy="5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de $20.001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1" name=""/>
                <p:cNvSpPr/>
                <p:nvPr/>
              </p:nvSpPr>
              <p:spPr>
                <a:xfrm>
                  <a:off x="390240" y="3370320"/>
                  <a:ext cx="23302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2721240" y="3370320"/>
                <a:ext cx="1656720" cy="593640"/>
                <a:chOff x="2721240" y="3370320"/>
                <a:chExt cx="1656720" cy="593640"/>
              </a:xfrm>
            </p:grpSpPr>
            <p:sp>
              <p:nvSpPr>
                <p:cNvPr id="153" name=""/>
                <p:cNvSpPr/>
                <p:nvPr/>
              </p:nvSpPr>
              <p:spPr>
                <a:xfrm>
                  <a:off x="2810520" y="3370320"/>
                  <a:ext cx="1478160" cy="59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10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4" name=""/>
                <p:cNvSpPr/>
                <p:nvPr/>
              </p:nvSpPr>
              <p:spPr>
                <a:xfrm>
                  <a:off x="2721240" y="3370320"/>
                  <a:ext cx="1656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4378680" y="3370320"/>
                <a:ext cx="2397240" cy="593640"/>
                <a:chOff x="4378680" y="3370320"/>
                <a:chExt cx="2397240" cy="593640"/>
              </a:xfrm>
            </p:grpSpPr>
            <p:sp>
              <p:nvSpPr>
                <p:cNvPr id="156" name=""/>
                <p:cNvSpPr/>
                <p:nvPr/>
              </p:nvSpPr>
              <p:spPr>
                <a:xfrm>
                  <a:off x="4467240" y="3370320"/>
                  <a:ext cx="221940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4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7" name=""/>
                <p:cNvSpPr/>
                <p:nvPr/>
              </p:nvSpPr>
              <p:spPr>
                <a:xfrm>
                  <a:off x="4378680" y="3370320"/>
                  <a:ext cx="2397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777000" y="3370320"/>
                <a:ext cx="2050560" cy="593640"/>
                <a:chOff x="6777000" y="3370320"/>
                <a:chExt cx="2050560" cy="593640"/>
              </a:xfrm>
            </p:grpSpPr>
            <p:sp>
              <p:nvSpPr>
                <p:cNvPr id="159" name=""/>
                <p:cNvSpPr/>
                <p:nvPr/>
              </p:nvSpPr>
              <p:spPr>
                <a:xfrm>
                  <a:off x="6865560" y="3370320"/>
                  <a:ext cx="187344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14.0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6777000" y="3370320"/>
                  <a:ext cx="205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390240" y="3963960"/>
                <a:ext cx="2330280" cy="593640"/>
                <a:chOff x="390240" y="3963960"/>
                <a:chExt cx="2330280" cy="593640"/>
              </a:xfrm>
            </p:grpSpPr>
            <p:sp>
              <p:nvSpPr>
                <p:cNvPr id="162" name=""/>
                <p:cNvSpPr/>
                <p:nvPr/>
              </p:nvSpPr>
              <p:spPr>
                <a:xfrm>
                  <a:off x="478800" y="3963960"/>
                  <a:ext cx="2153160" cy="5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de $100.001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3" name=""/>
                <p:cNvSpPr/>
                <p:nvPr/>
              </p:nvSpPr>
              <p:spPr>
                <a:xfrm>
                  <a:off x="390240" y="3963960"/>
                  <a:ext cx="23302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2721240" y="3963960"/>
                <a:ext cx="1656720" cy="593640"/>
                <a:chOff x="2721240" y="3963960"/>
                <a:chExt cx="1656720" cy="593640"/>
              </a:xfrm>
            </p:grpSpPr>
            <p:sp>
              <p:nvSpPr>
                <p:cNvPr id="165" name=""/>
                <p:cNvSpPr/>
                <p:nvPr/>
              </p:nvSpPr>
              <p:spPr>
                <a:xfrm>
                  <a:off x="2810520" y="3963960"/>
                  <a:ext cx="1478160" cy="59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25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6" name=""/>
                <p:cNvSpPr/>
                <p:nvPr/>
              </p:nvSpPr>
              <p:spPr>
                <a:xfrm>
                  <a:off x="2721240" y="3963960"/>
                  <a:ext cx="1656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4378680" y="3963960"/>
                <a:ext cx="2397240" cy="593640"/>
                <a:chOff x="4378680" y="3963960"/>
                <a:chExt cx="2397240" cy="593640"/>
              </a:xfrm>
            </p:grpSpPr>
            <p:sp>
              <p:nvSpPr>
                <p:cNvPr id="168" name=""/>
                <p:cNvSpPr/>
                <p:nvPr/>
              </p:nvSpPr>
              <p:spPr>
                <a:xfrm>
                  <a:off x="4467240" y="3963960"/>
                  <a:ext cx="221940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3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 name=""/>
                <p:cNvSpPr/>
                <p:nvPr/>
              </p:nvSpPr>
              <p:spPr>
                <a:xfrm>
                  <a:off x="4378680" y="3963960"/>
                  <a:ext cx="2397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777000" y="3963960"/>
                <a:ext cx="2050560" cy="593640"/>
                <a:chOff x="6777000" y="3963960"/>
                <a:chExt cx="2050560" cy="593640"/>
              </a:xfrm>
            </p:grpSpPr>
            <p:sp>
              <p:nvSpPr>
                <p:cNvPr id="171" name=""/>
                <p:cNvSpPr/>
                <p:nvPr/>
              </p:nvSpPr>
              <p:spPr>
                <a:xfrm>
                  <a:off x="6865560" y="3963960"/>
                  <a:ext cx="187344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40.0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2" name=""/>
                <p:cNvSpPr/>
                <p:nvPr/>
              </p:nvSpPr>
              <p:spPr>
                <a:xfrm>
                  <a:off x="6777000" y="3963960"/>
                  <a:ext cx="205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90240" y="4557600"/>
                <a:ext cx="2330280" cy="594000"/>
                <a:chOff x="390240" y="4557600"/>
                <a:chExt cx="2330280" cy="594000"/>
              </a:xfrm>
            </p:grpSpPr>
            <p:sp>
              <p:nvSpPr>
                <p:cNvPr id="174" name=""/>
                <p:cNvSpPr/>
                <p:nvPr/>
              </p:nvSpPr>
              <p:spPr>
                <a:xfrm>
                  <a:off x="478800" y="4557600"/>
                  <a:ext cx="2153160" cy="59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de $250.001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390240" y="4557600"/>
                  <a:ext cx="23302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2721240" y="4557600"/>
                <a:ext cx="1656720" cy="594000"/>
                <a:chOff x="2721240" y="4557600"/>
                <a:chExt cx="1656720" cy="594000"/>
              </a:xfrm>
            </p:grpSpPr>
            <p:sp>
              <p:nvSpPr>
                <p:cNvPr id="177" name=""/>
                <p:cNvSpPr/>
                <p:nvPr/>
              </p:nvSpPr>
              <p:spPr>
                <a:xfrm>
                  <a:off x="2810520" y="4557600"/>
                  <a:ext cx="1478160" cy="594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70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 name=""/>
                <p:cNvSpPr/>
                <p:nvPr/>
              </p:nvSpPr>
              <p:spPr>
                <a:xfrm>
                  <a:off x="2721240" y="4557600"/>
                  <a:ext cx="1656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4378680" y="4557600"/>
                <a:ext cx="2397240" cy="594000"/>
                <a:chOff x="4378680" y="4557600"/>
                <a:chExt cx="2397240" cy="594000"/>
              </a:xfrm>
            </p:grpSpPr>
            <p:sp>
              <p:nvSpPr>
                <p:cNvPr id="180" name=""/>
                <p:cNvSpPr/>
                <p:nvPr/>
              </p:nvSpPr>
              <p:spPr>
                <a:xfrm>
                  <a:off x="4467240" y="4557600"/>
                  <a:ext cx="22194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2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 name=""/>
                <p:cNvSpPr/>
                <p:nvPr/>
              </p:nvSpPr>
              <p:spPr>
                <a:xfrm>
                  <a:off x="4378680" y="4557600"/>
                  <a:ext cx="23972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6777000" y="4557600"/>
                <a:ext cx="2050560" cy="594000"/>
                <a:chOff x="6777000" y="4557600"/>
                <a:chExt cx="2050560" cy="594000"/>
              </a:xfrm>
            </p:grpSpPr>
            <p:sp>
              <p:nvSpPr>
                <p:cNvPr id="183" name=""/>
                <p:cNvSpPr/>
                <p:nvPr/>
              </p:nvSpPr>
              <p:spPr>
                <a:xfrm>
                  <a:off x="6865560" y="4557600"/>
                  <a:ext cx="187344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75.0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 name=""/>
                <p:cNvSpPr/>
                <p:nvPr/>
              </p:nvSpPr>
              <p:spPr>
                <a:xfrm>
                  <a:off x="6777000" y="4557600"/>
                  <a:ext cx="2050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390240" y="5151600"/>
                <a:ext cx="2330280" cy="593640"/>
                <a:chOff x="390240" y="5151600"/>
                <a:chExt cx="2330280" cy="593640"/>
              </a:xfrm>
            </p:grpSpPr>
            <p:sp>
              <p:nvSpPr>
                <p:cNvPr id="186" name=""/>
                <p:cNvSpPr/>
                <p:nvPr/>
              </p:nvSpPr>
              <p:spPr>
                <a:xfrm>
                  <a:off x="478800" y="5151600"/>
                  <a:ext cx="2153160" cy="59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de $700.001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390240" y="5151600"/>
                  <a:ext cx="23302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 name=""/>
              <p:cNvGrpSpPr/>
              <p:nvPr/>
            </p:nvGrpSpPr>
            <p:grpSpPr>
              <a:xfrm>
                <a:off x="2721240" y="5151600"/>
                <a:ext cx="1656720" cy="593640"/>
                <a:chOff x="2721240" y="5151600"/>
                <a:chExt cx="1656720" cy="593640"/>
              </a:xfrm>
            </p:grpSpPr>
            <p:sp>
              <p:nvSpPr>
                <p:cNvPr id="189" name=""/>
                <p:cNvSpPr/>
                <p:nvPr/>
              </p:nvSpPr>
              <p:spPr>
                <a:xfrm>
                  <a:off x="2810520" y="5151600"/>
                  <a:ext cx="1478160" cy="59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1.00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 name=""/>
                <p:cNvSpPr/>
                <p:nvPr/>
              </p:nvSpPr>
              <p:spPr>
                <a:xfrm>
                  <a:off x="2721240" y="5151600"/>
                  <a:ext cx="1656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 name=""/>
              <p:cNvGrpSpPr/>
              <p:nvPr/>
            </p:nvGrpSpPr>
            <p:grpSpPr>
              <a:xfrm>
                <a:off x="4378680" y="5151600"/>
                <a:ext cx="2397240" cy="593640"/>
                <a:chOff x="4378680" y="5151600"/>
                <a:chExt cx="2397240" cy="593640"/>
              </a:xfrm>
            </p:grpSpPr>
            <p:sp>
              <p:nvSpPr>
                <p:cNvPr id="192" name=""/>
                <p:cNvSpPr/>
                <p:nvPr/>
              </p:nvSpPr>
              <p:spPr>
                <a:xfrm>
                  <a:off x="4467240" y="5151600"/>
                  <a:ext cx="221940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2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 name=""/>
                <p:cNvSpPr/>
                <p:nvPr/>
              </p:nvSpPr>
              <p:spPr>
                <a:xfrm>
                  <a:off x="4378680" y="5151600"/>
                  <a:ext cx="2397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6777000" y="5151600"/>
                <a:ext cx="2050560" cy="593640"/>
                <a:chOff x="6777000" y="5151600"/>
                <a:chExt cx="2050560" cy="593640"/>
              </a:xfrm>
            </p:grpSpPr>
            <p:sp>
              <p:nvSpPr>
                <p:cNvPr id="195" name=""/>
                <p:cNvSpPr/>
                <p:nvPr/>
              </p:nvSpPr>
              <p:spPr>
                <a:xfrm>
                  <a:off x="6865560" y="5151600"/>
                  <a:ext cx="187344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175.0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 name=""/>
                <p:cNvSpPr/>
                <p:nvPr/>
              </p:nvSpPr>
              <p:spPr>
                <a:xfrm>
                  <a:off x="6777000" y="5151600"/>
                  <a:ext cx="205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 name=""/>
              <p:cNvGrpSpPr/>
              <p:nvPr/>
            </p:nvGrpSpPr>
            <p:grpSpPr>
              <a:xfrm>
                <a:off x="390240" y="5745240"/>
                <a:ext cx="2330280" cy="701640"/>
                <a:chOff x="390240" y="5745240"/>
                <a:chExt cx="2330280" cy="701640"/>
              </a:xfrm>
            </p:grpSpPr>
            <p:sp>
              <p:nvSpPr>
                <p:cNvPr id="198" name=""/>
                <p:cNvSpPr/>
                <p:nvPr/>
              </p:nvSpPr>
              <p:spPr>
                <a:xfrm>
                  <a:off x="478800" y="5745240"/>
                  <a:ext cx="215316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 </a:t>
                  </a:r>
                  <a:r>
                    <a:rPr b="0" lang="en-US" sz="2000" spc="-1" strike="noStrike">
                      <a:solidFill>
                        <a:srgbClr val="ffffff"/>
                      </a:solidFill>
                      <a:latin typeface="Trebuchet MS"/>
                      <a:ea typeface="Times New Roman"/>
                    </a:rPr>
                    <a:t>más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9" name=""/>
                <p:cNvSpPr/>
                <p:nvPr/>
              </p:nvSpPr>
              <p:spPr>
                <a:xfrm>
                  <a:off x="390240" y="5745240"/>
                  <a:ext cx="23302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2721240" y="5745240"/>
                <a:ext cx="1656720" cy="701640"/>
                <a:chOff x="2721240" y="5745240"/>
                <a:chExt cx="1656720" cy="701640"/>
              </a:xfrm>
            </p:grpSpPr>
            <p:sp>
              <p:nvSpPr>
                <p:cNvPr id="201" name=""/>
                <p:cNvSpPr/>
                <p:nvPr/>
              </p:nvSpPr>
              <p:spPr>
                <a:xfrm>
                  <a:off x="2810520" y="5745240"/>
                  <a:ext cx="14781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1.000.000</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2" name=""/>
                <p:cNvSpPr/>
                <p:nvPr/>
              </p:nvSpPr>
              <p:spPr>
                <a:xfrm>
                  <a:off x="2721240" y="5745240"/>
                  <a:ext cx="16567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
              <p:cNvGrpSpPr/>
              <p:nvPr/>
            </p:nvGrpSpPr>
            <p:grpSpPr>
              <a:xfrm>
                <a:off x="4378680" y="5745240"/>
                <a:ext cx="2397240" cy="701640"/>
                <a:chOff x="4378680" y="5745240"/>
                <a:chExt cx="2397240" cy="701640"/>
              </a:xfrm>
            </p:grpSpPr>
            <p:sp>
              <p:nvSpPr>
                <p:cNvPr id="204" name=""/>
                <p:cNvSpPr/>
                <p:nvPr/>
              </p:nvSpPr>
              <p:spPr>
                <a:xfrm>
                  <a:off x="4467240" y="5745240"/>
                  <a:ext cx="2219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ea typeface="Times New Roman"/>
                    </a:rPr>
                    <a:t>Informe de abogado y actuario</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05" name=""/>
                <p:cNvSpPr/>
                <p:nvPr/>
              </p:nvSpPr>
              <p:spPr>
                <a:xfrm>
                  <a:off x="4378680" y="5745240"/>
                  <a:ext cx="239724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6777000" y="5745240"/>
                <a:ext cx="2050560" cy="701640"/>
                <a:chOff x="6777000" y="5745240"/>
                <a:chExt cx="2050560" cy="701640"/>
              </a:xfrm>
            </p:grpSpPr>
            <p:sp>
              <p:nvSpPr>
                <p:cNvPr id="207" name=""/>
                <p:cNvSpPr/>
                <p:nvPr/>
              </p:nvSpPr>
              <p:spPr>
                <a:xfrm>
                  <a:off x="6865560" y="5745240"/>
                  <a:ext cx="18734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Times New Roman"/>
                    </a:rPr>
                    <a:t>$250.0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8" name=""/>
                <p:cNvSpPr/>
                <p:nvPr/>
              </p:nvSpPr>
              <p:spPr>
                <a:xfrm>
                  <a:off x="6777000" y="5745240"/>
                  <a:ext cx="20505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9" name=""/>
            <p:cNvSpPr/>
            <p:nvPr/>
          </p:nvSpPr>
          <p:spPr>
            <a:xfrm>
              <a:off x="380880" y="1447920"/>
              <a:ext cx="8457480" cy="5003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10"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59F96C13-2D25-4BC6-9E52-5618E93A86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447920"/>
            <a:ext cx="8382240" cy="4419360"/>
          </a:xfrm>
          <a:prstGeom prst="rect">
            <a:avLst/>
          </a:prstGeom>
          <a:noFill/>
          <a:ln w="0">
            <a:noFill/>
          </a:ln>
        </p:spPr>
        <p:txBody>
          <a:bodyPr lIns="92160" rIns="92160" tIns="46080" bIns="46080" anchor="ctr">
            <a:noAutofit/>
          </a:bodyPr>
          <a:p>
            <a:pPr marL="838080" indent="-838080">
              <a:lnSpc>
                <a:spcPct val="70000"/>
              </a:lnSpc>
              <a:buClr>
                <a:srgbClr val="ffffff"/>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Narrow"/>
              </a:rPr>
              <a:t>Juicios o Mediaciones Indeterminados</a:t>
            </a:r>
            <a:br>
              <a:rPr sz="4000"/>
            </a:br>
            <a:br>
              <a:rPr sz="3200"/>
            </a:br>
            <a:r>
              <a:rPr b="1" lang="es-MX" sz="3200" spc="-1" strike="noStrike">
                <a:solidFill>
                  <a:srgbClr val="ffffff"/>
                </a:solidFill>
                <a:latin typeface="Arial Narrow"/>
              </a:rPr>
              <a:t>Promedio que arrojen las sumas del pasivo constituido por los restantes juicios o mediaciones de cada sección, sin considerar la deducción del reaseguro: Sumatoria total de las sumas pasivadas, dividida por el total de casos involucrados, sección por sección. Los casos valuados como Inexistencia de Pólizas no se incluyen en el cálculo del promedio.</a:t>
            </a:r>
            <a:br>
              <a:rPr sz="3200"/>
            </a:br>
            <a:r>
              <a:rPr b="1" lang="es-MX" sz="3200" spc="-1" strike="noStrike">
                <a:solidFill>
                  <a:srgbClr val="ffffff"/>
                </a:solidFill>
                <a:latin typeface="Arial Narrow"/>
              </a:rPr>
              <a:t>Apertura según el riesgo afectado, a efectos de calcular promedios diferenciados para RCC/ CASCOS y RCL</a:t>
            </a:r>
            <a:endParaRPr b="1" lang="en-US" sz="3200" spc="-1" strike="noStrike">
              <a:solidFill>
                <a:srgbClr val="ffffcc"/>
              </a:solidFill>
              <a:latin typeface="Arial Narrow"/>
            </a:endParaRPr>
          </a:p>
        </p:txBody>
      </p:sp>
      <p:pic>
        <p:nvPicPr>
          <p:cNvPr id="212"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AC73B7C8-BED7-4FBE-A0E0-05E61443E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99036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IBNR: Siniestros Ocurridos y no Reportados</a:t>
            </a:r>
            <a:endParaRPr b="1" lang="en-US" sz="4400" spc="-1" strike="noStrike">
              <a:solidFill>
                <a:srgbClr val="ffffcc"/>
              </a:solidFill>
              <a:latin typeface="Arial Narrow"/>
            </a:endParaRPr>
          </a:p>
        </p:txBody>
      </p:sp>
      <p:sp>
        <p:nvSpPr>
          <p:cNvPr id="214" name="PlaceHolder 2"/>
          <p:cNvSpPr>
            <a:spLocks noGrp="1"/>
          </p:cNvSpPr>
          <p:nvPr>
            <p:ph/>
          </p:nvPr>
        </p:nvSpPr>
        <p:spPr>
          <a:xfrm>
            <a:off x="1523880" y="2438280"/>
            <a:ext cx="731520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serva adicional derivada de los siniestros pendientes y de la variación de los siniestros pagad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5"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FA48EF9D-BD65-4615-B7D2-CE1085F299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33360" y="23619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CAPITALES MINIMOS</a:t>
            </a:r>
            <a:endParaRPr b="1" lang="en-US" sz="4400" spc="-1" strike="noStrike">
              <a:solidFill>
                <a:srgbClr val="ffffcc"/>
              </a:solidFill>
              <a:latin typeface="Arial Narrow"/>
            </a:endParaRPr>
          </a:p>
        </p:txBody>
      </p:sp>
      <p:pic>
        <p:nvPicPr>
          <p:cNvPr id="217"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3538A051-2F44-4013-9ACE-834B1C43A8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Introducción</a:t>
            </a:r>
            <a:endParaRPr b="1" lang="en-US" sz="44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incipales cambios Res. Gral. 31.135.</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riterios de valuación</a:t>
            </a:r>
            <a:endParaRPr b="0" lang="en-US" sz="2800" spc="-1" strike="noStrike">
              <a:solidFill>
                <a:srgbClr val="ffffff"/>
              </a:solidFill>
              <a:latin typeface="Arial"/>
            </a:endParaRPr>
          </a:p>
        </p:txBody>
      </p:sp>
      <p:pic>
        <p:nvPicPr>
          <p:cNvPr id="89"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554A3738-D28C-46F5-9162-22185E8277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Capitales Mínimos</a:t>
            </a:r>
            <a:endParaRPr b="1" lang="en-US" sz="4400" spc="-1" strike="noStrike">
              <a:solidFill>
                <a:srgbClr val="ffffcc"/>
              </a:solidFill>
              <a:latin typeface="Arial Narrow"/>
            </a:endParaRPr>
          </a:p>
        </p:txBody>
      </p:sp>
      <p:sp>
        <p:nvSpPr>
          <p:cNvPr id="219" name="PlaceHolder 2"/>
          <p:cNvSpPr>
            <a:spLocks noGrp="1"/>
          </p:cNvSpPr>
          <p:nvPr>
            <p:ph/>
          </p:nvPr>
        </p:nvSpPr>
        <p:spPr>
          <a:xfrm>
            <a:off x="2209320" y="1981080"/>
            <a:ext cx="670572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R.G. 31.134 modifica el punto 30 del R.G.A.A.</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modificaciones abarcan básicamente la determinación del capital por rama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ja sin efecto el criterio de especialización y separación entre aseguradoras de patrimoniales y vida que fijaba la norma anteri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0"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E904D74E-C508-488C-B77F-EB718B27A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221" name=""/>
          <p:cNvSpPr/>
          <p:nvPr/>
        </p:nvSpPr>
        <p:spPr>
          <a:xfrm>
            <a:off x="3240" y="-1908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3240" y="-2255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23" name=""/>
          <p:cNvGrpSpPr/>
          <p:nvPr/>
        </p:nvGrpSpPr>
        <p:grpSpPr>
          <a:xfrm>
            <a:off x="-609480" y="0"/>
            <a:ext cx="9486360" cy="1523520"/>
            <a:chOff x="-609480" y="0"/>
            <a:chExt cx="9486360" cy="1523520"/>
          </a:xfrm>
        </p:grpSpPr>
        <p:grpSp>
          <p:nvGrpSpPr>
            <p:cNvPr id="224" name=""/>
            <p:cNvGrpSpPr/>
            <p:nvPr/>
          </p:nvGrpSpPr>
          <p:grpSpPr>
            <a:xfrm>
              <a:off x="-603000" y="5400"/>
              <a:ext cx="9472680" cy="1511640"/>
              <a:chOff x="-603000" y="5400"/>
              <a:chExt cx="9472680" cy="1511640"/>
            </a:xfrm>
          </p:grpSpPr>
          <p:grpSp>
            <p:nvGrpSpPr>
              <p:cNvPr id="225" name=""/>
              <p:cNvGrpSpPr/>
              <p:nvPr/>
            </p:nvGrpSpPr>
            <p:grpSpPr>
              <a:xfrm>
                <a:off x="-603000" y="5400"/>
                <a:ext cx="4699800" cy="1511640"/>
                <a:chOff x="-603000" y="5400"/>
                <a:chExt cx="4699800" cy="1511640"/>
              </a:xfrm>
            </p:grpSpPr>
            <p:sp>
              <p:nvSpPr>
                <p:cNvPr id="226" name=""/>
                <p:cNvSpPr/>
                <p:nvPr/>
              </p:nvSpPr>
              <p:spPr>
                <a:xfrm>
                  <a:off x="-542520" y="5400"/>
                  <a:ext cx="457884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603000" y="5400"/>
                  <a:ext cx="469980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4097160" y="5400"/>
                <a:ext cx="1357560" cy="1511640"/>
                <a:chOff x="4097160" y="5400"/>
                <a:chExt cx="1357560" cy="1511640"/>
              </a:xfrm>
            </p:grpSpPr>
            <p:sp>
              <p:nvSpPr>
                <p:cNvPr id="229" name=""/>
                <p:cNvSpPr/>
                <p:nvPr/>
              </p:nvSpPr>
              <p:spPr>
                <a:xfrm>
                  <a:off x="4157280" y="5400"/>
                  <a:ext cx="1237320" cy="15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 </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ara las entidades  constituidas y autorizadas al 30/09/98</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 </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30" name=""/>
                <p:cNvSpPr/>
                <p:nvPr/>
              </p:nvSpPr>
              <p:spPr>
                <a:xfrm>
                  <a:off x="4097160" y="5400"/>
                  <a:ext cx="135756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5455440" y="5400"/>
                <a:ext cx="1636920" cy="1511640"/>
                <a:chOff x="5455440" y="5400"/>
                <a:chExt cx="1636920" cy="1511640"/>
              </a:xfrm>
            </p:grpSpPr>
            <p:sp>
              <p:nvSpPr>
                <p:cNvPr id="232" name=""/>
                <p:cNvSpPr/>
                <p:nvPr/>
              </p:nvSpPr>
              <p:spPr>
                <a:xfrm>
                  <a:off x="5515920" y="5400"/>
                  <a:ext cx="151560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ara las entidades constituidas  y autorizadas desde el  30/09/98</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5455440" y="5400"/>
                  <a:ext cx="163692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7092720" y="5400"/>
                <a:ext cx="1776960" cy="1511640"/>
                <a:chOff x="7092720" y="5400"/>
                <a:chExt cx="1776960" cy="1511640"/>
              </a:xfrm>
            </p:grpSpPr>
            <p:sp>
              <p:nvSpPr>
                <p:cNvPr id="235" name=""/>
                <p:cNvSpPr/>
                <p:nvPr/>
              </p:nvSpPr>
              <p:spPr>
                <a:xfrm>
                  <a:off x="7152840" y="5400"/>
                  <a:ext cx="165636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solución 31.13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6" name=""/>
                <p:cNvSpPr/>
                <p:nvPr/>
              </p:nvSpPr>
              <p:spPr>
                <a:xfrm>
                  <a:off x="7092720" y="5400"/>
                  <a:ext cx="177696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7" name=""/>
            <p:cNvSpPr/>
            <p:nvPr/>
          </p:nvSpPr>
          <p:spPr>
            <a:xfrm>
              <a:off x="-609480" y="0"/>
              <a:ext cx="9486360" cy="1523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0" y="1676520"/>
            <a:ext cx="8938800" cy="4676760"/>
            <a:chOff x="0" y="1676520"/>
            <a:chExt cx="8938800" cy="4676760"/>
          </a:xfrm>
        </p:grpSpPr>
        <p:grpSp>
          <p:nvGrpSpPr>
            <p:cNvPr id="239" name=""/>
            <p:cNvGrpSpPr/>
            <p:nvPr/>
          </p:nvGrpSpPr>
          <p:grpSpPr>
            <a:xfrm>
              <a:off x="6120" y="1681200"/>
              <a:ext cx="8925480" cy="4667400"/>
              <a:chOff x="6120" y="1681200"/>
              <a:chExt cx="8925480" cy="4667400"/>
            </a:xfrm>
          </p:grpSpPr>
          <p:grpSp>
            <p:nvGrpSpPr>
              <p:cNvPr id="240" name=""/>
              <p:cNvGrpSpPr/>
              <p:nvPr/>
            </p:nvGrpSpPr>
            <p:grpSpPr>
              <a:xfrm>
                <a:off x="6120" y="1681200"/>
                <a:ext cx="4081680" cy="579600"/>
                <a:chOff x="6120" y="1681200"/>
                <a:chExt cx="4081680" cy="579600"/>
              </a:xfrm>
            </p:grpSpPr>
            <p:sp>
              <p:nvSpPr>
                <p:cNvPr id="241" name=""/>
                <p:cNvSpPr/>
                <p:nvPr/>
              </p:nvSpPr>
              <p:spPr>
                <a:xfrm>
                  <a:off x="65520" y="1681200"/>
                  <a:ext cx="396288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Automotores (excepto RC de transporte público de pasaje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2" name=""/>
                <p:cNvSpPr/>
                <p:nvPr/>
              </p:nvSpPr>
              <p:spPr>
                <a:xfrm>
                  <a:off x="6120" y="1681200"/>
                  <a:ext cx="4081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 name=""/>
              <p:cNvGrpSpPr/>
              <p:nvPr/>
            </p:nvGrpSpPr>
            <p:grpSpPr>
              <a:xfrm>
                <a:off x="4088160" y="1681200"/>
                <a:ext cx="1477440" cy="579600"/>
                <a:chOff x="4088160" y="1681200"/>
                <a:chExt cx="1477440" cy="579600"/>
              </a:xfrm>
            </p:grpSpPr>
            <p:sp>
              <p:nvSpPr>
                <p:cNvPr id="244" name=""/>
                <p:cNvSpPr/>
                <p:nvPr/>
              </p:nvSpPr>
              <p:spPr>
                <a:xfrm>
                  <a:off x="4147920" y="1681200"/>
                  <a:ext cx="135792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25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5" name=""/>
                <p:cNvSpPr/>
                <p:nvPr/>
              </p:nvSpPr>
              <p:spPr>
                <a:xfrm>
                  <a:off x="4088160" y="1681200"/>
                  <a:ext cx="14774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5566320" y="1681200"/>
                <a:ext cx="1613880" cy="579600"/>
                <a:chOff x="5566320" y="1681200"/>
                <a:chExt cx="1613880" cy="579600"/>
              </a:xfrm>
            </p:grpSpPr>
            <p:sp>
              <p:nvSpPr>
                <p:cNvPr id="247" name=""/>
                <p:cNvSpPr/>
                <p:nvPr/>
              </p:nvSpPr>
              <p:spPr>
                <a:xfrm>
                  <a:off x="5626080" y="1681200"/>
                  <a:ext cx="14943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5566320" y="1681200"/>
                  <a:ext cx="16138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 name=""/>
              <p:cNvGrpSpPr/>
              <p:nvPr/>
            </p:nvGrpSpPr>
            <p:grpSpPr>
              <a:xfrm>
                <a:off x="7180560" y="1681200"/>
                <a:ext cx="1750680" cy="579600"/>
                <a:chOff x="7180560" y="1681200"/>
                <a:chExt cx="1750680" cy="579600"/>
              </a:xfrm>
            </p:grpSpPr>
            <p:sp>
              <p:nvSpPr>
                <p:cNvPr id="250" name=""/>
                <p:cNvSpPr/>
                <p:nvPr/>
              </p:nvSpPr>
              <p:spPr>
                <a:xfrm>
                  <a:off x="7240320" y="1681200"/>
                  <a:ext cx="1630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7180560" y="1681200"/>
                  <a:ext cx="1750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
              <p:cNvGrpSpPr/>
              <p:nvPr/>
            </p:nvGrpSpPr>
            <p:grpSpPr>
              <a:xfrm>
                <a:off x="6120" y="2260800"/>
                <a:ext cx="8925480" cy="701640"/>
                <a:chOff x="6120" y="2260800"/>
                <a:chExt cx="8925480" cy="701640"/>
              </a:xfrm>
            </p:grpSpPr>
            <p:sp>
              <p:nvSpPr>
                <p:cNvPr id="253" name=""/>
                <p:cNvSpPr/>
                <p:nvPr/>
              </p:nvSpPr>
              <p:spPr>
                <a:xfrm>
                  <a:off x="65520" y="2260800"/>
                  <a:ext cx="880596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ara cada uno de los agrupamient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4" name=""/>
                <p:cNvSpPr/>
                <p:nvPr/>
              </p:nvSpPr>
              <p:spPr>
                <a:xfrm>
                  <a:off x="6120" y="2260800"/>
                  <a:ext cx="89254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6120" y="2962440"/>
                <a:ext cx="4081680" cy="701640"/>
                <a:chOff x="6120" y="2962440"/>
                <a:chExt cx="4081680" cy="701640"/>
              </a:xfrm>
            </p:grpSpPr>
            <p:sp>
              <p:nvSpPr>
                <p:cNvPr id="256" name=""/>
                <p:cNvSpPr/>
                <p:nvPr/>
              </p:nvSpPr>
              <p:spPr>
                <a:xfrm>
                  <a:off x="65520" y="2962440"/>
                  <a:ext cx="396288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Seguros de responsabilid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C y aeronaveg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7" name=""/>
                <p:cNvSpPr/>
                <p:nvPr/>
              </p:nvSpPr>
              <p:spPr>
                <a:xfrm>
                  <a:off x="6120" y="2962440"/>
                  <a:ext cx="40816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8" name=""/>
              <p:cNvGrpSpPr/>
              <p:nvPr/>
            </p:nvGrpSpPr>
            <p:grpSpPr>
              <a:xfrm>
                <a:off x="4088160" y="2962440"/>
                <a:ext cx="1477440" cy="701640"/>
                <a:chOff x="4088160" y="2962440"/>
                <a:chExt cx="1477440" cy="701640"/>
              </a:xfrm>
            </p:grpSpPr>
            <p:sp>
              <p:nvSpPr>
                <p:cNvPr id="259" name=""/>
                <p:cNvSpPr/>
                <p:nvPr/>
              </p:nvSpPr>
              <p:spPr>
                <a:xfrm>
                  <a:off x="4147920" y="2962440"/>
                  <a:ext cx="135792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75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4088160" y="2962440"/>
                  <a:ext cx="147744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1" name=""/>
              <p:cNvGrpSpPr/>
              <p:nvPr/>
            </p:nvGrpSpPr>
            <p:grpSpPr>
              <a:xfrm>
                <a:off x="5566320" y="2962440"/>
                <a:ext cx="1613880" cy="2104920"/>
                <a:chOff x="5566320" y="2962440"/>
                <a:chExt cx="1613880" cy="2104920"/>
              </a:xfrm>
            </p:grpSpPr>
            <p:sp>
              <p:nvSpPr>
                <p:cNvPr id="262" name=""/>
                <p:cNvSpPr/>
                <p:nvPr/>
              </p:nvSpPr>
              <p:spPr>
                <a:xfrm>
                  <a:off x="5626080" y="2962440"/>
                  <a:ext cx="1494360" cy="21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566320" y="2962440"/>
                  <a:ext cx="1613880" cy="210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7180560" y="2962440"/>
                <a:ext cx="1750680" cy="701640"/>
                <a:chOff x="7180560" y="2962440"/>
                <a:chExt cx="1750680" cy="701640"/>
              </a:xfrm>
            </p:grpSpPr>
            <p:sp>
              <p:nvSpPr>
                <p:cNvPr id="265" name=""/>
                <p:cNvSpPr/>
                <p:nvPr/>
              </p:nvSpPr>
              <p:spPr>
                <a:xfrm>
                  <a:off x="7240320" y="2962440"/>
                  <a:ext cx="16308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7180560" y="2962440"/>
                  <a:ext cx="17506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6120" y="3664080"/>
                <a:ext cx="4081680" cy="823680"/>
                <a:chOff x="6120" y="3664080"/>
                <a:chExt cx="4081680" cy="823680"/>
              </a:xfrm>
            </p:grpSpPr>
            <p:sp>
              <p:nvSpPr>
                <p:cNvPr id="268" name=""/>
                <p:cNvSpPr/>
                <p:nvPr/>
              </p:nvSpPr>
              <p:spPr>
                <a:xfrm>
                  <a:off x="65520" y="3664080"/>
                  <a:ext cx="3962880" cy="82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Seguros de daño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Incendio y combinados, robos y riesgos similares, cristales, transportes, ganado, granizo, técnico y riesgos vari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9" name=""/>
                <p:cNvSpPr/>
                <p:nvPr/>
              </p:nvSpPr>
              <p:spPr>
                <a:xfrm>
                  <a:off x="6120" y="3664080"/>
                  <a:ext cx="40816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4088160" y="3664080"/>
                <a:ext cx="1477440" cy="823680"/>
                <a:chOff x="4088160" y="3664080"/>
                <a:chExt cx="1477440" cy="823680"/>
              </a:xfrm>
            </p:grpSpPr>
            <p:sp>
              <p:nvSpPr>
                <p:cNvPr id="271" name=""/>
                <p:cNvSpPr/>
                <p:nvPr/>
              </p:nvSpPr>
              <p:spPr>
                <a:xfrm>
                  <a:off x="4147920" y="3664080"/>
                  <a:ext cx="1357920" cy="82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75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2" name=""/>
                <p:cNvSpPr/>
                <p:nvPr/>
              </p:nvSpPr>
              <p:spPr>
                <a:xfrm>
                  <a:off x="4088160" y="3664080"/>
                  <a:ext cx="147744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7180560" y="3664080"/>
                <a:ext cx="1750680" cy="823680"/>
                <a:chOff x="7180560" y="3664080"/>
                <a:chExt cx="1750680" cy="823680"/>
              </a:xfrm>
            </p:grpSpPr>
            <p:sp>
              <p:nvSpPr>
                <p:cNvPr id="274" name=""/>
                <p:cNvSpPr/>
                <p:nvPr/>
              </p:nvSpPr>
              <p:spPr>
                <a:xfrm>
                  <a:off x="7240320" y="3664080"/>
                  <a:ext cx="1630800" cy="82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5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5" name=""/>
                <p:cNvSpPr/>
                <p:nvPr/>
              </p:nvSpPr>
              <p:spPr>
                <a:xfrm>
                  <a:off x="7180560" y="3664080"/>
                  <a:ext cx="17506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120" y="4487760"/>
                <a:ext cx="4081680" cy="579600"/>
                <a:chOff x="6120" y="4487760"/>
                <a:chExt cx="4081680" cy="579600"/>
              </a:xfrm>
            </p:grpSpPr>
            <p:sp>
              <p:nvSpPr>
                <p:cNvPr id="277" name=""/>
                <p:cNvSpPr/>
                <p:nvPr/>
              </p:nvSpPr>
              <p:spPr>
                <a:xfrm>
                  <a:off x="65520" y="4487760"/>
                  <a:ext cx="396288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Caución y crédi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8" name=""/>
                <p:cNvSpPr/>
                <p:nvPr/>
              </p:nvSpPr>
              <p:spPr>
                <a:xfrm>
                  <a:off x="6120" y="4487760"/>
                  <a:ext cx="4081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4088160" y="4487760"/>
                <a:ext cx="1477440" cy="1860840"/>
                <a:chOff x="4088160" y="4487760"/>
                <a:chExt cx="1477440" cy="1860840"/>
              </a:xfrm>
            </p:grpSpPr>
            <p:sp>
              <p:nvSpPr>
                <p:cNvPr id="280" name=""/>
                <p:cNvSpPr/>
                <p:nvPr/>
              </p:nvSpPr>
              <p:spPr>
                <a:xfrm>
                  <a:off x="4147920" y="4487760"/>
                  <a:ext cx="1357920" cy="186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ea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ea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75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1" name=""/>
                <p:cNvSpPr/>
                <p:nvPr/>
              </p:nvSpPr>
              <p:spPr>
                <a:xfrm>
                  <a:off x="4088160" y="4487760"/>
                  <a:ext cx="1477440" cy="186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7180560" y="4487760"/>
                <a:ext cx="1750680" cy="579600"/>
                <a:chOff x="7180560" y="4487760"/>
                <a:chExt cx="1750680" cy="579600"/>
              </a:xfrm>
            </p:grpSpPr>
            <p:sp>
              <p:nvSpPr>
                <p:cNvPr id="283" name=""/>
                <p:cNvSpPr/>
                <p:nvPr/>
              </p:nvSpPr>
              <p:spPr>
                <a:xfrm>
                  <a:off x="7240320" y="4487760"/>
                  <a:ext cx="1630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7180560" y="4487760"/>
                  <a:ext cx="1750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6120" y="5067360"/>
                <a:ext cx="4081680" cy="579240"/>
                <a:chOff x="6120" y="5067360"/>
                <a:chExt cx="4081680" cy="579240"/>
              </a:xfrm>
            </p:grpSpPr>
            <p:sp>
              <p:nvSpPr>
                <p:cNvPr id="286" name=""/>
                <p:cNvSpPr/>
                <p:nvPr/>
              </p:nvSpPr>
              <p:spPr>
                <a:xfrm>
                  <a:off x="65520" y="5067360"/>
                  <a:ext cx="396288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Vida con reserva matemática  (excepto vida prevision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7" name=""/>
                <p:cNvSpPr/>
                <p:nvPr/>
              </p:nvSpPr>
              <p:spPr>
                <a:xfrm>
                  <a:off x="6120" y="5067360"/>
                  <a:ext cx="40816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5566320" y="5067360"/>
                <a:ext cx="1613880" cy="1281240"/>
                <a:chOff x="5566320" y="5067360"/>
                <a:chExt cx="1613880" cy="1281240"/>
              </a:xfrm>
            </p:grpSpPr>
            <p:sp>
              <p:nvSpPr>
                <p:cNvPr id="289" name=""/>
                <p:cNvSpPr/>
                <p:nvPr/>
              </p:nvSpPr>
              <p:spPr>
                <a:xfrm>
                  <a:off x="5626080" y="5067360"/>
                  <a:ext cx="1494360" cy="12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0" name=""/>
                <p:cNvSpPr/>
                <p:nvPr/>
              </p:nvSpPr>
              <p:spPr>
                <a:xfrm>
                  <a:off x="5566320" y="5067360"/>
                  <a:ext cx="1613880" cy="12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1" name=""/>
              <p:cNvGrpSpPr/>
              <p:nvPr/>
            </p:nvGrpSpPr>
            <p:grpSpPr>
              <a:xfrm>
                <a:off x="7180560" y="5067360"/>
                <a:ext cx="1750680" cy="579240"/>
                <a:chOff x="7180560" y="5067360"/>
                <a:chExt cx="1750680" cy="579240"/>
              </a:xfrm>
            </p:grpSpPr>
            <p:sp>
              <p:nvSpPr>
                <p:cNvPr id="292" name=""/>
                <p:cNvSpPr/>
                <p:nvPr/>
              </p:nvSpPr>
              <p:spPr>
                <a:xfrm>
                  <a:off x="7240320" y="5067360"/>
                  <a:ext cx="1630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3" name=""/>
                <p:cNvSpPr/>
                <p:nvPr/>
              </p:nvSpPr>
              <p:spPr>
                <a:xfrm>
                  <a:off x="7180560" y="5067360"/>
                  <a:ext cx="17506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4" name=""/>
              <p:cNvGrpSpPr/>
              <p:nvPr/>
            </p:nvGrpSpPr>
            <p:grpSpPr>
              <a:xfrm>
                <a:off x="6120" y="5646600"/>
                <a:ext cx="4081680" cy="702000"/>
                <a:chOff x="6120" y="5646600"/>
                <a:chExt cx="4081680" cy="702000"/>
              </a:xfrm>
            </p:grpSpPr>
            <p:sp>
              <p:nvSpPr>
                <p:cNvPr id="295" name=""/>
                <p:cNvSpPr/>
                <p:nvPr/>
              </p:nvSpPr>
              <p:spPr>
                <a:xfrm>
                  <a:off x="65520" y="5646600"/>
                  <a:ext cx="3962880" cy="70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Vida sin reserva matemática: accidentes personales, salud, sepelio, vida colectivo (excepto vida prevision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6" name=""/>
                <p:cNvSpPr/>
                <p:nvPr/>
              </p:nvSpPr>
              <p:spPr>
                <a:xfrm>
                  <a:off x="6120" y="5646600"/>
                  <a:ext cx="408168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7" name=""/>
              <p:cNvGrpSpPr/>
              <p:nvPr/>
            </p:nvGrpSpPr>
            <p:grpSpPr>
              <a:xfrm>
                <a:off x="7180560" y="5646600"/>
                <a:ext cx="1750680" cy="702000"/>
                <a:chOff x="7180560" y="5646600"/>
                <a:chExt cx="1750680" cy="702000"/>
              </a:xfrm>
            </p:grpSpPr>
            <p:sp>
              <p:nvSpPr>
                <p:cNvPr id="298" name=""/>
                <p:cNvSpPr/>
                <p:nvPr/>
              </p:nvSpPr>
              <p:spPr>
                <a:xfrm>
                  <a:off x="7240320" y="5646600"/>
                  <a:ext cx="1630800" cy="70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9" name=""/>
                <p:cNvSpPr/>
                <p:nvPr/>
              </p:nvSpPr>
              <p:spPr>
                <a:xfrm>
                  <a:off x="7180560" y="5646600"/>
                  <a:ext cx="1750680" cy="70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00" name=""/>
            <p:cNvSpPr/>
            <p:nvPr/>
          </p:nvSpPr>
          <p:spPr>
            <a:xfrm>
              <a:off x="0" y="1676520"/>
              <a:ext cx="8938800" cy="4676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EB254C90-D748-4CFB-A3E4-F85305A34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grpSp>
        <p:nvGrpSpPr>
          <p:cNvPr id="301" name=""/>
          <p:cNvGrpSpPr/>
          <p:nvPr/>
        </p:nvGrpSpPr>
        <p:grpSpPr>
          <a:xfrm>
            <a:off x="0" y="1600200"/>
            <a:ext cx="8783280" cy="5011560"/>
            <a:chOff x="0" y="1600200"/>
            <a:chExt cx="8783280" cy="5011560"/>
          </a:xfrm>
        </p:grpSpPr>
        <p:grpSp>
          <p:nvGrpSpPr>
            <p:cNvPr id="302" name=""/>
            <p:cNvGrpSpPr/>
            <p:nvPr/>
          </p:nvGrpSpPr>
          <p:grpSpPr>
            <a:xfrm>
              <a:off x="6120" y="1604880"/>
              <a:ext cx="8770320" cy="5002200"/>
              <a:chOff x="6120" y="1604880"/>
              <a:chExt cx="8770320" cy="5002200"/>
            </a:xfrm>
          </p:grpSpPr>
          <p:grpSp>
            <p:nvGrpSpPr>
              <p:cNvPr id="303" name=""/>
              <p:cNvGrpSpPr/>
              <p:nvPr/>
            </p:nvGrpSpPr>
            <p:grpSpPr>
              <a:xfrm>
                <a:off x="6120" y="1604880"/>
                <a:ext cx="4010760" cy="579600"/>
                <a:chOff x="6120" y="1604880"/>
                <a:chExt cx="4010760" cy="579600"/>
              </a:xfrm>
            </p:grpSpPr>
            <p:sp>
              <p:nvSpPr>
                <p:cNvPr id="304" name=""/>
                <p:cNvSpPr/>
                <p:nvPr/>
              </p:nvSpPr>
              <p:spPr>
                <a:xfrm>
                  <a:off x="64440" y="1604880"/>
                  <a:ext cx="38934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Sepeli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05" name=""/>
                <p:cNvSpPr/>
                <p:nvPr/>
              </p:nvSpPr>
              <p:spPr>
                <a:xfrm>
                  <a:off x="6120" y="1604880"/>
                  <a:ext cx="40107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 name=""/>
              <p:cNvGrpSpPr/>
              <p:nvPr/>
            </p:nvGrpSpPr>
            <p:grpSpPr>
              <a:xfrm>
                <a:off x="4017240" y="1604880"/>
                <a:ext cx="1450080" cy="579600"/>
                <a:chOff x="4017240" y="1604880"/>
                <a:chExt cx="1450080" cy="579600"/>
              </a:xfrm>
            </p:grpSpPr>
            <p:sp>
              <p:nvSpPr>
                <p:cNvPr id="307" name=""/>
                <p:cNvSpPr/>
                <p:nvPr/>
              </p:nvSpPr>
              <p:spPr>
                <a:xfrm>
                  <a:off x="4075560" y="1604880"/>
                  <a:ext cx="1333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75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08" name=""/>
                <p:cNvSpPr/>
                <p:nvPr/>
              </p:nvSpPr>
              <p:spPr>
                <a:xfrm>
                  <a:off x="4017240" y="1604880"/>
                  <a:ext cx="14500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5468040" y="1604880"/>
                <a:ext cx="1586520" cy="579600"/>
                <a:chOff x="5468040" y="1604880"/>
                <a:chExt cx="1586520" cy="579600"/>
              </a:xfrm>
            </p:grpSpPr>
            <p:sp>
              <p:nvSpPr>
                <p:cNvPr id="310" name=""/>
                <p:cNvSpPr/>
                <p:nvPr/>
              </p:nvSpPr>
              <p:spPr>
                <a:xfrm>
                  <a:off x="5526720" y="1604880"/>
                  <a:ext cx="1469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5468040" y="1604880"/>
                  <a:ext cx="158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2" name=""/>
              <p:cNvGrpSpPr/>
              <p:nvPr/>
            </p:nvGrpSpPr>
            <p:grpSpPr>
              <a:xfrm>
                <a:off x="7055280" y="1604880"/>
                <a:ext cx="1721160" cy="579600"/>
                <a:chOff x="7055280" y="1604880"/>
                <a:chExt cx="1721160" cy="579600"/>
              </a:xfrm>
            </p:grpSpPr>
            <p:sp>
              <p:nvSpPr>
                <p:cNvPr id="313" name=""/>
                <p:cNvSpPr/>
                <p:nvPr/>
              </p:nvSpPr>
              <p:spPr>
                <a:xfrm>
                  <a:off x="7113960" y="1604880"/>
                  <a:ext cx="160344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4" name=""/>
                <p:cNvSpPr/>
                <p:nvPr/>
              </p:nvSpPr>
              <p:spPr>
                <a:xfrm>
                  <a:off x="7055280" y="1604880"/>
                  <a:ext cx="17211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5" name=""/>
              <p:cNvGrpSpPr/>
              <p:nvPr/>
            </p:nvGrpSpPr>
            <p:grpSpPr>
              <a:xfrm>
                <a:off x="6120" y="2184480"/>
                <a:ext cx="4010760" cy="579240"/>
                <a:chOff x="6120" y="2184480"/>
                <a:chExt cx="4010760" cy="579240"/>
              </a:xfrm>
            </p:grpSpPr>
            <p:sp>
              <p:nvSpPr>
                <p:cNvPr id="316" name=""/>
                <p:cNvSpPr/>
                <p:nvPr/>
              </p:nvSpPr>
              <p:spPr>
                <a:xfrm>
                  <a:off x="64440" y="2184480"/>
                  <a:ext cx="3893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Total requerido para ramos patrimonial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7" name=""/>
                <p:cNvSpPr/>
                <p:nvPr/>
              </p:nvSpPr>
              <p:spPr>
                <a:xfrm>
                  <a:off x="6120" y="2184480"/>
                  <a:ext cx="40107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
              <p:cNvGrpSpPr/>
              <p:nvPr/>
            </p:nvGrpSpPr>
            <p:grpSpPr>
              <a:xfrm>
                <a:off x="4017240" y="2184480"/>
                <a:ext cx="1450080" cy="579240"/>
                <a:chOff x="4017240" y="2184480"/>
                <a:chExt cx="1450080" cy="579240"/>
              </a:xfrm>
            </p:grpSpPr>
            <p:sp>
              <p:nvSpPr>
                <p:cNvPr id="319" name=""/>
                <p:cNvSpPr/>
                <p:nvPr/>
              </p:nvSpPr>
              <p:spPr>
                <a:xfrm>
                  <a:off x="4075560" y="2184480"/>
                  <a:ext cx="133308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4017240" y="2184480"/>
                  <a:ext cx="14500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1" name=""/>
              <p:cNvGrpSpPr/>
              <p:nvPr/>
            </p:nvGrpSpPr>
            <p:grpSpPr>
              <a:xfrm>
                <a:off x="5468040" y="2184480"/>
                <a:ext cx="1586520" cy="579240"/>
                <a:chOff x="5468040" y="2184480"/>
                <a:chExt cx="1586520" cy="579240"/>
              </a:xfrm>
            </p:grpSpPr>
            <p:sp>
              <p:nvSpPr>
                <p:cNvPr id="322" name=""/>
                <p:cNvSpPr/>
                <p:nvPr/>
              </p:nvSpPr>
              <p:spPr>
                <a:xfrm>
                  <a:off x="5526720" y="2184480"/>
                  <a:ext cx="14691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5468040" y="2184480"/>
                  <a:ext cx="158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7055280" y="2184480"/>
                <a:ext cx="1721160" cy="579240"/>
                <a:chOff x="7055280" y="2184480"/>
                <a:chExt cx="1721160" cy="579240"/>
              </a:xfrm>
            </p:grpSpPr>
            <p:sp>
              <p:nvSpPr>
                <p:cNvPr id="325" name=""/>
                <p:cNvSpPr/>
                <p:nvPr/>
              </p:nvSpPr>
              <p:spPr>
                <a:xfrm>
                  <a:off x="7113960" y="2184480"/>
                  <a:ext cx="16034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8.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7055280" y="2184480"/>
                  <a:ext cx="17211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7" name=""/>
              <p:cNvGrpSpPr/>
              <p:nvPr/>
            </p:nvGrpSpPr>
            <p:grpSpPr>
              <a:xfrm>
                <a:off x="6120" y="2763720"/>
                <a:ext cx="4010760" cy="579600"/>
                <a:chOff x="6120" y="2763720"/>
                <a:chExt cx="4010760" cy="579600"/>
              </a:xfrm>
            </p:grpSpPr>
            <p:sp>
              <p:nvSpPr>
                <p:cNvPr id="328" name=""/>
                <p:cNvSpPr/>
                <p:nvPr/>
              </p:nvSpPr>
              <p:spPr>
                <a:xfrm>
                  <a:off x="64440" y="2763720"/>
                  <a:ext cx="38934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Total requerido para ramos de vid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120" y="2763720"/>
                  <a:ext cx="40107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4017240" y="2763720"/>
                <a:ext cx="1450080" cy="579600"/>
                <a:chOff x="4017240" y="2763720"/>
                <a:chExt cx="1450080" cy="579600"/>
              </a:xfrm>
            </p:grpSpPr>
            <p:sp>
              <p:nvSpPr>
                <p:cNvPr id="331" name=""/>
                <p:cNvSpPr/>
                <p:nvPr/>
              </p:nvSpPr>
              <p:spPr>
                <a:xfrm>
                  <a:off x="4075560" y="2763720"/>
                  <a:ext cx="1333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4017240" y="2763720"/>
                  <a:ext cx="14500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3" name=""/>
              <p:cNvGrpSpPr/>
              <p:nvPr/>
            </p:nvGrpSpPr>
            <p:grpSpPr>
              <a:xfrm>
                <a:off x="5468040" y="2763720"/>
                <a:ext cx="1586520" cy="579600"/>
                <a:chOff x="5468040" y="2763720"/>
                <a:chExt cx="1586520" cy="579600"/>
              </a:xfrm>
            </p:grpSpPr>
            <p:sp>
              <p:nvSpPr>
                <p:cNvPr id="334" name=""/>
                <p:cNvSpPr/>
                <p:nvPr/>
              </p:nvSpPr>
              <p:spPr>
                <a:xfrm>
                  <a:off x="5526720" y="2763720"/>
                  <a:ext cx="1469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468040" y="2763720"/>
                  <a:ext cx="158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7055280" y="2763720"/>
                <a:ext cx="1721160" cy="579600"/>
                <a:chOff x="7055280" y="2763720"/>
                <a:chExt cx="1721160" cy="579600"/>
              </a:xfrm>
            </p:grpSpPr>
            <p:sp>
              <p:nvSpPr>
                <p:cNvPr id="337" name=""/>
                <p:cNvSpPr/>
                <p:nvPr/>
              </p:nvSpPr>
              <p:spPr>
                <a:xfrm>
                  <a:off x="7113960" y="2763720"/>
                  <a:ext cx="160344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4.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7055280" y="2763720"/>
                  <a:ext cx="17211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6120" y="3343320"/>
                <a:ext cx="4010760" cy="701640"/>
                <a:chOff x="6120" y="3343320"/>
                <a:chExt cx="4010760" cy="701640"/>
              </a:xfrm>
            </p:grpSpPr>
            <p:sp>
              <p:nvSpPr>
                <p:cNvPr id="340" name=""/>
                <p:cNvSpPr/>
                <p:nvPr/>
              </p:nvSpPr>
              <p:spPr>
                <a:xfrm>
                  <a:off x="64440" y="3343320"/>
                  <a:ext cx="38934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Total requerido para operar en patrimoniales y vida (excepto vida prevision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1" name=""/>
                <p:cNvSpPr/>
                <p:nvPr/>
              </p:nvSpPr>
              <p:spPr>
                <a:xfrm>
                  <a:off x="6120" y="3343320"/>
                  <a:ext cx="40107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4017240" y="3343320"/>
                <a:ext cx="1450080" cy="701640"/>
                <a:chOff x="4017240" y="3343320"/>
                <a:chExt cx="1450080" cy="701640"/>
              </a:xfrm>
            </p:grpSpPr>
            <p:sp>
              <p:nvSpPr>
                <p:cNvPr id="343" name=""/>
                <p:cNvSpPr/>
                <p:nvPr/>
              </p:nvSpPr>
              <p:spPr>
                <a:xfrm>
                  <a:off x="4075560" y="3343320"/>
                  <a:ext cx="13330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4" name=""/>
                <p:cNvSpPr/>
                <p:nvPr/>
              </p:nvSpPr>
              <p:spPr>
                <a:xfrm>
                  <a:off x="4017240" y="3343320"/>
                  <a:ext cx="14500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468040" y="3343320"/>
                <a:ext cx="1586520" cy="701640"/>
                <a:chOff x="5468040" y="3343320"/>
                <a:chExt cx="1586520" cy="701640"/>
              </a:xfrm>
            </p:grpSpPr>
            <p:sp>
              <p:nvSpPr>
                <p:cNvPr id="346" name=""/>
                <p:cNvSpPr/>
                <p:nvPr/>
              </p:nvSpPr>
              <p:spPr>
                <a:xfrm>
                  <a:off x="5526720" y="3343320"/>
                  <a:ext cx="146916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7" name=""/>
                <p:cNvSpPr/>
                <p:nvPr/>
              </p:nvSpPr>
              <p:spPr>
                <a:xfrm>
                  <a:off x="5468040" y="3343320"/>
                  <a:ext cx="158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8" name=""/>
              <p:cNvGrpSpPr/>
              <p:nvPr/>
            </p:nvGrpSpPr>
            <p:grpSpPr>
              <a:xfrm>
                <a:off x="7055280" y="3343320"/>
                <a:ext cx="1721160" cy="701640"/>
                <a:chOff x="7055280" y="3343320"/>
                <a:chExt cx="1721160" cy="701640"/>
              </a:xfrm>
            </p:grpSpPr>
            <p:sp>
              <p:nvSpPr>
                <p:cNvPr id="349" name=""/>
                <p:cNvSpPr/>
                <p:nvPr/>
              </p:nvSpPr>
              <p:spPr>
                <a:xfrm>
                  <a:off x="7113960" y="3343320"/>
                  <a:ext cx="16034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50" name=""/>
                <p:cNvSpPr/>
                <p:nvPr/>
              </p:nvSpPr>
              <p:spPr>
                <a:xfrm>
                  <a:off x="7055280" y="3343320"/>
                  <a:ext cx="17211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6120" y="4044960"/>
                <a:ext cx="4010760" cy="701640"/>
                <a:chOff x="6120" y="4044960"/>
                <a:chExt cx="4010760" cy="701640"/>
              </a:xfrm>
            </p:grpSpPr>
            <p:sp>
              <p:nvSpPr>
                <p:cNvPr id="352" name=""/>
                <p:cNvSpPr/>
                <p:nvPr/>
              </p:nvSpPr>
              <p:spPr>
                <a:xfrm>
                  <a:off x="64440" y="4044960"/>
                  <a:ext cx="38934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tiro (excepto rentas vitalicias previsionales y rentas de riesgos del trabaj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53" name=""/>
                <p:cNvSpPr/>
                <p:nvPr/>
              </p:nvSpPr>
              <p:spPr>
                <a:xfrm>
                  <a:off x="6120" y="4044960"/>
                  <a:ext cx="40107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4017240" y="4044960"/>
                <a:ext cx="1450080" cy="701640"/>
                <a:chOff x="4017240" y="4044960"/>
                <a:chExt cx="1450080" cy="701640"/>
              </a:xfrm>
            </p:grpSpPr>
            <p:sp>
              <p:nvSpPr>
                <p:cNvPr id="355" name=""/>
                <p:cNvSpPr/>
                <p:nvPr/>
              </p:nvSpPr>
              <p:spPr>
                <a:xfrm>
                  <a:off x="4075560" y="4044960"/>
                  <a:ext cx="13330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56" name=""/>
                <p:cNvSpPr/>
                <p:nvPr/>
              </p:nvSpPr>
              <p:spPr>
                <a:xfrm>
                  <a:off x="4017240" y="4044960"/>
                  <a:ext cx="14500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468040" y="4044960"/>
                <a:ext cx="1586520" cy="701640"/>
                <a:chOff x="5468040" y="4044960"/>
                <a:chExt cx="1586520" cy="701640"/>
              </a:xfrm>
            </p:grpSpPr>
            <p:sp>
              <p:nvSpPr>
                <p:cNvPr id="358" name=""/>
                <p:cNvSpPr/>
                <p:nvPr/>
              </p:nvSpPr>
              <p:spPr>
                <a:xfrm>
                  <a:off x="5526720" y="4044960"/>
                  <a:ext cx="146916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59" name=""/>
                <p:cNvSpPr/>
                <p:nvPr/>
              </p:nvSpPr>
              <p:spPr>
                <a:xfrm>
                  <a:off x="5468040" y="4044960"/>
                  <a:ext cx="158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7055280" y="4044960"/>
                <a:ext cx="1721160" cy="701640"/>
                <a:chOff x="7055280" y="4044960"/>
                <a:chExt cx="1721160" cy="701640"/>
              </a:xfrm>
            </p:grpSpPr>
            <p:sp>
              <p:nvSpPr>
                <p:cNvPr id="361" name=""/>
                <p:cNvSpPr/>
                <p:nvPr/>
              </p:nvSpPr>
              <p:spPr>
                <a:xfrm>
                  <a:off x="7113960" y="4044960"/>
                  <a:ext cx="16034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2" name=""/>
                <p:cNvSpPr/>
                <p:nvPr/>
              </p:nvSpPr>
              <p:spPr>
                <a:xfrm>
                  <a:off x="7055280" y="4044960"/>
                  <a:ext cx="17211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 name=""/>
              <p:cNvGrpSpPr/>
              <p:nvPr/>
            </p:nvGrpSpPr>
            <p:grpSpPr>
              <a:xfrm>
                <a:off x="6120" y="4746600"/>
                <a:ext cx="4010760" cy="701640"/>
                <a:chOff x="6120" y="4746600"/>
                <a:chExt cx="4010760" cy="701640"/>
              </a:xfrm>
            </p:grpSpPr>
            <p:sp>
              <p:nvSpPr>
                <p:cNvPr id="364" name=""/>
                <p:cNvSpPr/>
                <p:nvPr/>
              </p:nvSpPr>
              <p:spPr>
                <a:xfrm>
                  <a:off x="64440" y="4746600"/>
                  <a:ext cx="38934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tiro – Rentas vitalicias previsionales y rentas de riesgos del trabaj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5" name=""/>
                <p:cNvSpPr/>
                <p:nvPr/>
              </p:nvSpPr>
              <p:spPr>
                <a:xfrm>
                  <a:off x="6120" y="4746600"/>
                  <a:ext cx="40107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4017240" y="4746600"/>
                <a:ext cx="1450080" cy="701640"/>
                <a:chOff x="4017240" y="4746600"/>
                <a:chExt cx="1450080" cy="701640"/>
              </a:xfrm>
            </p:grpSpPr>
            <p:sp>
              <p:nvSpPr>
                <p:cNvPr id="367" name=""/>
                <p:cNvSpPr/>
                <p:nvPr/>
              </p:nvSpPr>
              <p:spPr>
                <a:xfrm>
                  <a:off x="4075560" y="4746600"/>
                  <a:ext cx="13330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8" name=""/>
                <p:cNvSpPr/>
                <p:nvPr/>
              </p:nvSpPr>
              <p:spPr>
                <a:xfrm>
                  <a:off x="4017240" y="4746600"/>
                  <a:ext cx="14500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5468040" y="4746600"/>
                <a:ext cx="1586520" cy="701640"/>
                <a:chOff x="5468040" y="4746600"/>
                <a:chExt cx="1586520" cy="701640"/>
              </a:xfrm>
            </p:grpSpPr>
            <p:sp>
              <p:nvSpPr>
                <p:cNvPr id="370" name=""/>
                <p:cNvSpPr/>
                <p:nvPr/>
              </p:nvSpPr>
              <p:spPr>
                <a:xfrm>
                  <a:off x="5526720" y="4746600"/>
                  <a:ext cx="146916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71" name=""/>
                <p:cNvSpPr/>
                <p:nvPr/>
              </p:nvSpPr>
              <p:spPr>
                <a:xfrm>
                  <a:off x="5468040" y="4746600"/>
                  <a:ext cx="158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2" name=""/>
              <p:cNvGrpSpPr/>
              <p:nvPr/>
            </p:nvGrpSpPr>
            <p:grpSpPr>
              <a:xfrm>
                <a:off x="7055280" y="4746600"/>
                <a:ext cx="1721160" cy="701640"/>
                <a:chOff x="7055280" y="4746600"/>
                <a:chExt cx="1721160" cy="701640"/>
              </a:xfrm>
            </p:grpSpPr>
            <p:sp>
              <p:nvSpPr>
                <p:cNvPr id="373" name=""/>
                <p:cNvSpPr/>
                <p:nvPr/>
              </p:nvSpPr>
              <p:spPr>
                <a:xfrm>
                  <a:off x="7113960" y="4746600"/>
                  <a:ext cx="16034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74" name=""/>
                <p:cNvSpPr/>
                <p:nvPr/>
              </p:nvSpPr>
              <p:spPr>
                <a:xfrm>
                  <a:off x="7055280" y="4746600"/>
                  <a:ext cx="172116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5" name=""/>
              <p:cNvGrpSpPr/>
              <p:nvPr/>
            </p:nvGrpSpPr>
            <p:grpSpPr>
              <a:xfrm>
                <a:off x="6120" y="5448240"/>
                <a:ext cx="4010760" cy="579240"/>
                <a:chOff x="6120" y="5448240"/>
                <a:chExt cx="4010760" cy="579240"/>
              </a:xfrm>
            </p:grpSpPr>
            <p:sp>
              <p:nvSpPr>
                <p:cNvPr id="376" name=""/>
                <p:cNvSpPr/>
                <p:nvPr/>
              </p:nvSpPr>
              <p:spPr>
                <a:xfrm>
                  <a:off x="64440" y="5448240"/>
                  <a:ext cx="3893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Art. 99 ley 24.241 Seg. colectivo de invalidez y fallecimien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77" name=""/>
                <p:cNvSpPr/>
                <p:nvPr/>
              </p:nvSpPr>
              <p:spPr>
                <a:xfrm>
                  <a:off x="6120" y="5448240"/>
                  <a:ext cx="40107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8" name=""/>
              <p:cNvGrpSpPr/>
              <p:nvPr/>
            </p:nvGrpSpPr>
            <p:grpSpPr>
              <a:xfrm>
                <a:off x="4017240" y="5448240"/>
                <a:ext cx="1450080" cy="579240"/>
                <a:chOff x="4017240" y="5448240"/>
                <a:chExt cx="1450080" cy="579240"/>
              </a:xfrm>
            </p:grpSpPr>
            <p:sp>
              <p:nvSpPr>
                <p:cNvPr id="379" name=""/>
                <p:cNvSpPr/>
                <p:nvPr/>
              </p:nvSpPr>
              <p:spPr>
                <a:xfrm>
                  <a:off x="4075560" y="5448240"/>
                  <a:ext cx="133308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0" name=""/>
                <p:cNvSpPr/>
                <p:nvPr/>
              </p:nvSpPr>
              <p:spPr>
                <a:xfrm>
                  <a:off x="4017240" y="5448240"/>
                  <a:ext cx="14500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1" name=""/>
              <p:cNvGrpSpPr/>
              <p:nvPr/>
            </p:nvGrpSpPr>
            <p:grpSpPr>
              <a:xfrm>
                <a:off x="5468040" y="5448240"/>
                <a:ext cx="1586520" cy="579240"/>
                <a:chOff x="5468040" y="5448240"/>
                <a:chExt cx="1586520" cy="579240"/>
              </a:xfrm>
            </p:grpSpPr>
            <p:sp>
              <p:nvSpPr>
                <p:cNvPr id="382" name=""/>
                <p:cNvSpPr/>
                <p:nvPr/>
              </p:nvSpPr>
              <p:spPr>
                <a:xfrm>
                  <a:off x="5526720" y="5448240"/>
                  <a:ext cx="14691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3" name=""/>
                <p:cNvSpPr/>
                <p:nvPr/>
              </p:nvSpPr>
              <p:spPr>
                <a:xfrm>
                  <a:off x="5468040" y="5448240"/>
                  <a:ext cx="158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4" name=""/>
              <p:cNvGrpSpPr/>
              <p:nvPr/>
            </p:nvGrpSpPr>
            <p:grpSpPr>
              <a:xfrm>
                <a:off x="7055280" y="5448240"/>
                <a:ext cx="1721160" cy="579240"/>
                <a:chOff x="7055280" y="5448240"/>
                <a:chExt cx="1721160" cy="579240"/>
              </a:xfrm>
            </p:grpSpPr>
            <p:sp>
              <p:nvSpPr>
                <p:cNvPr id="385" name=""/>
                <p:cNvSpPr/>
                <p:nvPr/>
              </p:nvSpPr>
              <p:spPr>
                <a:xfrm>
                  <a:off x="7113960" y="5448240"/>
                  <a:ext cx="16034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6" name=""/>
                <p:cNvSpPr/>
                <p:nvPr/>
              </p:nvSpPr>
              <p:spPr>
                <a:xfrm>
                  <a:off x="7055280" y="5448240"/>
                  <a:ext cx="17211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7" name=""/>
              <p:cNvGrpSpPr/>
              <p:nvPr/>
            </p:nvGrpSpPr>
            <p:grpSpPr>
              <a:xfrm>
                <a:off x="6120" y="6027480"/>
                <a:ext cx="4010760" cy="579600"/>
                <a:chOff x="6120" y="6027480"/>
                <a:chExt cx="4010760" cy="579600"/>
              </a:xfrm>
            </p:grpSpPr>
            <p:sp>
              <p:nvSpPr>
                <p:cNvPr id="388" name=""/>
                <p:cNvSpPr/>
                <p:nvPr/>
              </p:nvSpPr>
              <p:spPr>
                <a:xfrm>
                  <a:off x="64440" y="6027480"/>
                  <a:ext cx="38934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iesgos del trabajo (ART exclusiva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9" name=""/>
                <p:cNvSpPr/>
                <p:nvPr/>
              </p:nvSpPr>
              <p:spPr>
                <a:xfrm>
                  <a:off x="6120" y="6027480"/>
                  <a:ext cx="40107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0" name=""/>
              <p:cNvGrpSpPr/>
              <p:nvPr/>
            </p:nvGrpSpPr>
            <p:grpSpPr>
              <a:xfrm>
                <a:off x="4017240" y="6027480"/>
                <a:ext cx="1450080" cy="579600"/>
                <a:chOff x="4017240" y="6027480"/>
                <a:chExt cx="1450080" cy="579600"/>
              </a:xfrm>
            </p:grpSpPr>
            <p:sp>
              <p:nvSpPr>
                <p:cNvPr id="391" name=""/>
                <p:cNvSpPr/>
                <p:nvPr/>
              </p:nvSpPr>
              <p:spPr>
                <a:xfrm>
                  <a:off x="4075560" y="6027480"/>
                  <a:ext cx="1333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2" name=""/>
                <p:cNvSpPr/>
                <p:nvPr/>
              </p:nvSpPr>
              <p:spPr>
                <a:xfrm>
                  <a:off x="4017240" y="6027480"/>
                  <a:ext cx="14500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5468040" y="6027480"/>
                <a:ext cx="1586520" cy="579600"/>
                <a:chOff x="5468040" y="6027480"/>
                <a:chExt cx="1586520" cy="579600"/>
              </a:xfrm>
            </p:grpSpPr>
            <p:sp>
              <p:nvSpPr>
                <p:cNvPr id="394" name=""/>
                <p:cNvSpPr/>
                <p:nvPr/>
              </p:nvSpPr>
              <p:spPr>
                <a:xfrm>
                  <a:off x="5526720" y="6027480"/>
                  <a:ext cx="146916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5" name=""/>
                <p:cNvSpPr/>
                <p:nvPr/>
              </p:nvSpPr>
              <p:spPr>
                <a:xfrm>
                  <a:off x="5468040" y="6027480"/>
                  <a:ext cx="158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6" name=""/>
              <p:cNvGrpSpPr/>
              <p:nvPr/>
            </p:nvGrpSpPr>
            <p:grpSpPr>
              <a:xfrm>
                <a:off x="7055280" y="6027480"/>
                <a:ext cx="1721160" cy="579600"/>
                <a:chOff x="7055280" y="6027480"/>
                <a:chExt cx="1721160" cy="579600"/>
              </a:xfrm>
            </p:grpSpPr>
            <p:sp>
              <p:nvSpPr>
                <p:cNvPr id="397" name=""/>
                <p:cNvSpPr/>
                <p:nvPr/>
              </p:nvSpPr>
              <p:spPr>
                <a:xfrm>
                  <a:off x="7113960" y="6027480"/>
                  <a:ext cx="160344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5.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98" name=""/>
                <p:cNvSpPr/>
                <p:nvPr/>
              </p:nvSpPr>
              <p:spPr>
                <a:xfrm>
                  <a:off x="7055280" y="6027480"/>
                  <a:ext cx="17211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9" name=""/>
            <p:cNvSpPr/>
            <p:nvPr/>
          </p:nvSpPr>
          <p:spPr>
            <a:xfrm>
              <a:off x="0" y="1600200"/>
              <a:ext cx="8783280" cy="5011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0" name=""/>
          <p:cNvGrpSpPr/>
          <p:nvPr/>
        </p:nvGrpSpPr>
        <p:grpSpPr>
          <a:xfrm>
            <a:off x="-685800" y="0"/>
            <a:ext cx="9486720" cy="1523520"/>
            <a:chOff x="-685800" y="0"/>
            <a:chExt cx="9486720" cy="1523520"/>
          </a:xfrm>
        </p:grpSpPr>
        <p:grpSp>
          <p:nvGrpSpPr>
            <p:cNvPr id="401" name=""/>
            <p:cNvGrpSpPr/>
            <p:nvPr/>
          </p:nvGrpSpPr>
          <p:grpSpPr>
            <a:xfrm>
              <a:off x="-679320" y="5400"/>
              <a:ext cx="9473040" cy="1511640"/>
              <a:chOff x="-679320" y="5400"/>
              <a:chExt cx="9473040" cy="1511640"/>
            </a:xfrm>
          </p:grpSpPr>
          <p:grpSp>
            <p:nvGrpSpPr>
              <p:cNvPr id="402" name=""/>
              <p:cNvGrpSpPr/>
              <p:nvPr/>
            </p:nvGrpSpPr>
            <p:grpSpPr>
              <a:xfrm>
                <a:off x="-679320" y="5400"/>
                <a:ext cx="4699800" cy="1511640"/>
                <a:chOff x="-679320" y="5400"/>
                <a:chExt cx="4699800" cy="1511640"/>
              </a:xfrm>
            </p:grpSpPr>
            <p:sp>
              <p:nvSpPr>
                <p:cNvPr id="403" name=""/>
                <p:cNvSpPr/>
                <p:nvPr/>
              </p:nvSpPr>
              <p:spPr>
                <a:xfrm>
                  <a:off x="-618840" y="5400"/>
                  <a:ext cx="457884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04" name=""/>
                <p:cNvSpPr/>
                <p:nvPr/>
              </p:nvSpPr>
              <p:spPr>
                <a:xfrm>
                  <a:off x="-679320" y="5400"/>
                  <a:ext cx="469980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5" name=""/>
              <p:cNvGrpSpPr/>
              <p:nvPr/>
            </p:nvGrpSpPr>
            <p:grpSpPr>
              <a:xfrm>
                <a:off x="4020840" y="5400"/>
                <a:ext cx="1357920" cy="1511640"/>
                <a:chOff x="4020840" y="5400"/>
                <a:chExt cx="1357920" cy="1511640"/>
              </a:xfrm>
            </p:grpSpPr>
            <p:sp>
              <p:nvSpPr>
                <p:cNvPr id="406" name=""/>
                <p:cNvSpPr/>
                <p:nvPr/>
              </p:nvSpPr>
              <p:spPr>
                <a:xfrm>
                  <a:off x="4080960" y="5400"/>
                  <a:ext cx="1237320" cy="15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a las entidades constituidas y autorizadas al 30/09/98</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 </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07" name=""/>
                <p:cNvSpPr/>
                <p:nvPr/>
              </p:nvSpPr>
              <p:spPr>
                <a:xfrm>
                  <a:off x="4020840" y="5400"/>
                  <a:ext cx="135792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
              <p:cNvGrpSpPr/>
              <p:nvPr/>
            </p:nvGrpSpPr>
            <p:grpSpPr>
              <a:xfrm>
                <a:off x="5379480" y="5400"/>
                <a:ext cx="1636920" cy="1511640"/>
                <a:chOff x="5379480" y="5400"/>
                <a:chExt cx="1636920" cy="1511640"/>
              </a:xfrm>
            </p:grpSpPr>
            <p:sp>
              <p:nvSpPr>
                <p:cNvPr id="409" name=""/>
                <p:cNvSpPr/>
                <p:nvPr/>
              </p:nvSpPr>
              <p:spPr>
                <a:xfrm>
                  <a:off x="5439960" y="5400"/>
                  <a:ext cx="151560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ara las entidades constituidas  y autorizadas desde el  30/09/98</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10" name=""/>
                <p:cNvSpPr/>
                <p:nvPr/>
              </p:nvSpPr>
              <p:spPr>
                <a:xfrm>
                  <a:off x="5379480" y="5400"/>
                  <a:ext cx="163692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7016760" y="5400"/>
                <a:ext cx="1776960" cy="1511640"/>
                <a:chOff x="7016760" y="5400"/>
                <a:chExt cx="1776960" cy="1511640"/>
              </a:xfrm>
            </p:grpSpPr>
            <p:sp>
              <p:nvSpPr>
                <p:cNvPr id="412" name=""/>
                <p:cNvSpPr/>
                <p:nvPr/>
              </p:nvSpPr>
              <p:spPr>
                <a:xfrm>
                  <a:off x="7076880" y="5400"/>
                  <a:ext cx="165636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solución 31.13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13" name=""/>
                <p:cNvSpPr/>
                <p:nvPr/>
              </p:nvSpPr>
              <p:spPr>
                <a:xfrm>
                  <a:off x="7016760" y="5400"/>
                  <a:ext cx="177696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14" name=""/>
            <p:cNvSpPr/>
            <p:nvPr/>
          </p:nvSpPr>
          <p:spPr>
            <a:xfrm>
              <a:off x="-685800" y="0"/>
              <a:ext cx="9486720" cy="1523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3EA6B6AB-EB3E-4A30-95B1-8EC5DF45B7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grpSp>
        <p:nvGrpSpPr>
          <p:cNvPr id="415" name=""/>
          <p:cNvGrpSpPr/>
          <p:nvPr/>
        </p:nvGrpSpPr>
        <p:grpSpPr>
          <a:xfrm>
            <a:off x="0" y="2265480"/>
            <a:ext cx="7897320" cy="2327040"/>
            <a:chOff x="0" y="2265480"/>
            <a:chExt cx="7897320" cy="2327040"/>
          </a:xfrm>
        </p:grpSpPr>
        <p:grpSp>
          <p:nvGrpSpPr>
            <p:cNvPr id="416" name=""/>
            <p:cNvGrpSpPr/>
            <p:nvPr/>
          </p:nvGrpSpPr>
          <p:grpSpPr>
            <a:xfrm>
              <a:off x="5400" y="2270160"/>
              <a:ext cx="7885440" cy="2317680"/>
              <a:chOff x="5400" y="2270160"/>
              <a:chExt cx="7885440" cy="2317680"/>
            </a:xfrm>
          </p:grpSpPr>
          <p:grpSp>
            <p:nvGrpSpPr>
              <p:cNvPr id="417" name=""/>
              <p:cNvGrpSpPr/>
              <p:nvPr/>
            </p:nvGrpSpPr>
            <p:grpSpPr>
              <a:xfrm>
                <a:off x="5400" y="2270160"/>
                <a:ext cx="3606120" cy="579600"/>
                <a:chOff x="5400" y="2270160"/>
                <a:chExt cx="3606120" cy="579600"/>
              </a:xfrm>
            </p:grpSpPr>
            <p:sp>
              <p:nvSpPr>
                <p:cNvPr id="418" name=""/>
                <p:cNvSpPr/>
                <p:nvPr/>
              </p:nvSpPr>
              <p:spPr>
                <a:xfrm>
                  <a:off x="57960" y="2270160"/>
                  <a:ext cx="350064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iesgos del trabajo (continuadora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19" name=""/>
                <p:cNvSpPr/>
                <p:nvPr/>
              </p:nvSpPr>
              <p:spPr>
                <a:xfrm>
                  <a:off x="5400" y="2270160"/>
                  <a:ext cx="3606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0" name=""/>
              <p:cNvGrpSpPr/>
              <p:nvPr/>
            </p:nvGrpSpPr>
            <p:grpSpPr>
              <a:xfrm>
                <a:off x="3611880" y="2270160"/>
                <a:ext cx="1303920" cy="579600"/>
                <a:chOff x="3611880" y="2270160"/>
                <a:chExt cx="1303920" cy="579600"/>
              </a:xfrm>
            </p:grpSpPr>
            <p:sp>
              <p:nvSpPr>
                <p:cNvPr id="421" name=""/>
                <p:cNvSpPr/>
                <p:nvPr/>
              </p:nvSpPr>
              <p:spPr>
                <a:xfrm>
                  <a:off x="3664440" y="2270160"/>
                  <a:ext cx="1198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22" name=""/>
                <p:cNvSpPr/>
                <p:nvPr/>
              </p:nvSpPr>
              <p:spPr>
                <a:xfrm>
                  <a:off x="3611880" y="2270160"/>
                  <a:ext cx="130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3" name=""/>
              <p:cNvGrpSpPr/>
              <p:nvPr/>
            </p:nvGrpSpPr>
            <p:grpSpPr>
              <a:xfrm>
                <a:off x="4916160" y="2270160"/>
                <a:ext cx="1426680" cy="579600"/>
                <a:chOff x="4916160" y="2270160"/>
                <a:chExt cx="1426680" cy="579600"/>
              </a:xfrm>
            </p:grpSpPr>
            <p:sp>
              <p:nvSpPr>
                <p:cNvPr id="424" name=""/>
                <p:cNvSpPr/>
                <p:nvPr/>
              </p:nvSpPr>
              <p:spPr>
                <a:xfrm>
                  <a:off x="4969080" y="2270160"/>
                  <a:ext cx="13212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25" name=""/>
                <p:cNvSpPr/>
                <p:nvPr/>
              </p:nvSpPr>
              <p:spPr>
                <a:xfrm>
                  <a:off x="4916160" y="2270160"/>
                  <a:ext cx="1426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6" name=""/>
              <p:cNvGrpSpPr/>
              <p:nvPr/>
            </p:nvGrpSpPr>
            <p:grpSpPr>
              <a:xfrm>
                <a:off x="6343200" y="2270160"/>
                <a:ext cx="1547640" cy="579600"/>
                <a:chOff x="6343200" y="2270160"/>
                <a:chExt cx="1547640" cy="579600"/>
              </a:xfrm>
            </p:grpSpPr>
            <p:sp>
              <p:nvSpPr>
                <p:cNvPr id="427" name=""/>
                <p:cNvSpPr/>
                <p:nvPr/>
              </p:nvSpPr>
              <p:spPr>
                <a:xfrm>
                  <a:off x="6396120" y="2270160"/>
                  <a:ext cx="1441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28" name=""/>
                <p:cNvSpPr/>
                <p:nvPr/>
              </p:nvSpPr>
              <p:spPr>
                <a:xfrm>
                  <a:off x="6343200" y="2270160"/>
                  <a:ext cx="1547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5400" y="2849760"/>
                <a:ext cx="3606120" cy="579240"/>
                <a:chOff x="5400" y="2849760"/>
                <a:chExt cx="3606120" cy="579240"/>
              </a:xfrm>
            </p:grpSpPr>
            <p:sp>
              <p:nvSpPr>
                <p:cNvPr id="430" name=""/>
                <p:cNvSpPr/>
                <p:nvPr/>
              </p:nvSpPr>
              <p:spPr>
                <a:xfrm>
                  <a:off x="57960" y="2849760"/>
                  <a:ext cx="350064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C transporte público de pasajeros (S.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1" name=""/>
                <p:cNvSpPr/>
                <p:nvPr/>
              </p:nvSpPr>
              <p:spPr>
                <a:xfrm>
                  <a:off x="5400" y="2849760"/>
                  <a:ext cx="36061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 name=""/>
              <p:cNvGrpSpPr/>
              <p:nvPr/>
            </p:nvGrpSpPr>
            <p:grpSpPr>
              <a:xfrm>
                <a:off x="3611880" y="2849760"/>
                <a:ext cx="1303920" cy="579240"/>
                <a:chOff x="3611880" y="2849760"/>
                <a:chExt cx="1303920" cy="579240"/>
              </a:xfrm>
            </p:grpSpPr>
            <p:sp>
              <p:nvSpPr>
                <p:cNvPr id="433" name=""/>
                <p:cNvSpPr/>
                <p:nvPr/>
              </p:nvSpPr>
              <p:spPr>
                <a:xfrm>
                  <a:off x="3664440" y="2849760"/>
                  <a:ext cx="1198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6.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4" name=""/>
                <p:cNvSpPr/>
                <p:nvPr/>
              </p:nvSpPr>
              <p:spPr>
                <a:xfrm>
                  <a:off x="3611880" y="2849760"/>
                  <a:ext cx="13039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 name=""/>
              <p:cNvGrpSpPr/>
              <p:nvPr/>
            </p:nvGrpSpPr>
            <p:grpSpPr>
              <a:xfrm>
                <a:off x="4916160" y="2849760"/>
                <a:ext cx="1426680" cy="579240"/>
                <a:chOff x="4916160" y="2849760"/>
                <a:chExt cx="1426680" cy="579240"/>
              </a:xfrm>
            </p:grpSpPr>
            <p:sp>
              <p:nvSpPr>
                <p:cNvPr id="436" name=""/>
                <p:cNvSpPr/>
                <p:nvPr/>
              </p:nvSpPr>
              <p:spPr>
                <a:xfrm>
                  <a:off x="4969080" y="2849760"/>
                  <a:ext cx="13212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6.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7" name=""/>
                <p:cNvSpPr/>
                <p:nvPr/>
              </p:nvSpPr>
              <p:spPr>
                <a:xfrm>
                  <a:off x="4916160" y="2849760"/>
                  <a:ext cx="14266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8" name=""/>
              <p:cNvGrpSpPr/>
              <p:nvPr/>
            </p:nvGrpSpPr>
            <p:grpSpPr>
              <a:xfrm>
                <a:off x="6343200" y="2849760"/>
                <a:ext cx="1547640" cy="579240"/>
                <a:chOff x="6343200" y="2849760"/>
                <a:chExt cx="1547640" cy="579240"/>
              </a:xfrm>
            </p:grpSpPr>
            <p:sp>
              <p:nvSpPr>
                <p:cNvPr id="439" name=""/>
                <p:cNvSpPr/>
                <p:nvPr/>
              </p:nvSpPr>
              <p:spPr>
                <a:xfrm>
                  <a:off x="6396120" y="2849760"/>
                  <a:ext cx="1441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6.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0" name=""/>
                <p:cNvSpPr/>
                <p:nvPr/>
              </p:nvSpPr>
              <p:spPr>
                <a:xfrm>
                  <a:off x="6343200" y="2849760"/>
                  <a:ext cx="1547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1" name=""/>
              <p:cNvGrpSpPr/>
              <p:nvPr/>
            </p:nvGrpSpPr>
            <p:grpSpPr>
              <a:xfrm>
                <a:off x="5400" y="3429000"/>
                <a:ext cx="3606120" cy="579600"/>
                <a:chOff x="5400" y="3429000"/>
                <a:chExt cx="3606120" cy="579600"/>
              </a:xfrm>
            </p:grpSpPr>
            <p:sp>
              <p:nvSpPr>
                <p:cNvPr id="442" name=""/>
                <p:cNvSpPr/>
                <p:nvPr/>
              </p:nvSpPr>
              <p:spPr>
                <a:xfrm>
                  <a:off x="57960" y="3429000"/>
                  <a:ext cx="350064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Mutuales transporte público de pasajero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3" name=""/>
                <p:cNvSpPr/>
                <p:nvPr/>
              </p:nvSpPr>
              <p:spPr>
                <a:xfrm>
                  <a:off x="5400" y="3429000"/>
                  <a:ext cx="3606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4" name=""/>
              <p:cNvGrpSpPr/>
              <p:nvPr/>
            </p:nvGrpSpPr>
            <p:grpSpPr>
              <a:xfrm>
                <a:off x="3611880" y="3429000"/>
                <a:ext cx="1303920" cy="579600"/>
                <a:chOff x="3611880" y="3429000"/>
                <a:chExt cx="1303920" cy="579600"/>
              </a:xfrm>
            </p:grpSpPr>
            <p:sp>
              <p:nvSpPr>
                <p:cNvPr id="445" name=""/>
                <p:cNvSpPr/>
                <p:nvPr/>
              </p:nvSpPr>
              <p:spPr>
                <a:xfrm>
                  <a:off x="3664440" y="3429000"/>
                  <a:ext cx="1198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6" name=""/>
                <p:cNvSpPr/>
                <p:nvPr/>
              </p:nvSpPr>
              <p:spPr>
                <a:xfrm>
                  <a:off x="3611880" y="3429000"/>
                  <a:ext cx="130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4916160" y="3429000"/>
                <a:ext cx="1426680" cy="579600"/>
                <a:chOff x="4916160" y="3429000"/>
                <a:chExt cx="1426680" cy="579600"/>
              </a:xfrm>
            </p:grpSpPr>
            <p:sp>
              <p:nvSpPr>
                <p:cNvPr id="448" name=""/>
                <p:cNvSpPr/>
                <p:nvPr/>
              </p:nvSpPr>
              <p:spPr>
                <a:xfrm>
                  <a:off x="4969080" y="3429000"/>
                  <a:ext cx="13212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9" name=""/>
                <p:cNvSpPr/>
                <p:nvPr/>
              </p:nvSpPr>
              <p:spPr>
                <a:xfrm>
                  <a:off x="4916160" y="3429000"/>
                  <a:ext cx="14266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6343200" y="3429000"/>
                <a:ext cx="1547640" cy="579600"/>
                <a:chOff x="6343200" y="3429000"/>
                <a:chExt cx="1547640" cy="579600"/>
              </a:xfrm>
            </p:grpSpPr>
            <p:sp>
              <p:nvSpPr>
                <p:cNvPr id="451" name=""/>
                <p:cNvSpPr/>
                <p:nvPr/>
              </p:nvSpPr>
              <p:spPr>
                <a:xfrm>
                  <a:off x="6396120" y="3429000"/>
                  <a:ext cx="144180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3.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2" name=""/>
                <p:cNvSpPr/>
                <p:nvPr/>
              </p:nvSpPr>
              <p:spPr>
                <a:xfrm>
                  <a:off x="6343200" y="3429000"/>
                  <a:ext cx="1547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3" name=""/>
              <p:cNvGrpSpPr/>
              <p:nvPr/>
            </p:nvGrpSpPr>
            <p:grpSpPr>
              <a:xfrm>
                <a:off x="5400" y="4008600"/>
                <a:ext cx="3606120" cy="579240"/>
                <a:chOff x="5400" y="4008600"/>
                <a:chExt cx="3606120" cy="579240"/>
              </a:xfrm>
            </p:grpSpPr>
            <p:sp>
              <p:nvSpPr>
                <p:cNvPr id="454" name=""/>
                <p:cNvSpPr/>
                <p:nvPr/>
              </p:nvSpPr>
              <p:spPr>
                <a:xfrm>
                  <a:off x="57960" y="4008600"/>
                  <a:ext cx="350064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aseguradora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5" name=""/>
                <p:cNvSpPr/>
                <p:nvPr/>
              </p:nvSpPr>
              <p:spPr>
                <a:xfrm>
                  <a:off x="5400" y="4008600"/>
                  <a:ext cx="36061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3611880" y="4008600"/>
                <a:ext cx="1303920" cy="579240"/>
                <a:chOff x="3611880" y="4008600"/>
                <a:chExt cx="1303920" cy="579240"/>
              </a:xfrm>
            </p:grpSpPr>
            <p:sp>
              <p:nvSpPr>
                <p:cNvPr id="457" name=""/>
                <p:cNvSpPr/>
                <p:nvPr/>
              </p:nvSpPr>
              <p:spPr>
                <a:xfrm>
                  <a:off x="3664440" y="4008600"/>
                  <a:ext cx="1198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8" name=""/>
                <p:cNvSpPr/>
                <p:nvPr/>
              </p:nvSpPr>
              <p:spPr>
                <a:xfrm>
                  <a:off x="3611880" y="4008600"/>
                  <a:ext cx="13039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4916160" y="4008600"/>
                <a:ext cx="1426680" cy="579240"/>
                <a:chOff x="4916160" y="4008600"/>
                <a:chExt cx="1426680" cy="579240"/>
              </a:xfrm>
            </p:grpSpPr>
            <p:sp>
              <p:nvSpPr>
                <p:cNvPr id="460" name=""/>
                <p:cNvSpPr/>
                <p:nvPr/>
              </p:nvSpPr>
              <p:spPr>
                <a:xfrm>
                  <a:off x="4969080" y="4008600"/>
                  <a:ext cx="13212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1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1" name=""/>
                <p:cNvSpPr/>
                <p:nvPr/>
              </p:nvSpPr>
              <p:spPr>
                <a:xfrm>
                  <a:off x="4916160" y="4008600"/>
                  <a:ext cx="142668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6343200" y="4008600"/>
                <a:ext cx="1547640" cy="579240"/>
                <a:chOff x="6343200" y="4008600"/>
                <a:chExt cx="1547640" cy="579240"/>
              </a:xfrm>
            </p:grpSpPr>
            <p:sp>
              <p:nvSpPr>
                <p:cNvPr id="463" name=""/>
                <p:cNvSpPr/>
                <p:nvPr/>
              </p:nvSpPr>
              <p:spPr>
                <a:xfrm>
                  <a:off x="6396120" y="4008600"/>
                  <a:ext cx="144180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 20.000.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4" name=""/>
                <p:cNvSpPr/>
                <p:nvPr/>
              </p:nvSpPr>
              <p:spPr>
                <a:xfrm>
                  <a:off x="6343200" y="4008600"/>
                  <a:ext cx="1547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65" name=""/>
            <p:cNvSpPr/>
            <p:nvPr/>
          </p:nvSpPr>
          <p:spPr>
            <a:xfrm>
              <a:off x="0" y="2265480"/>
              <a:ext cx="7897320" cy="2327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6" name=""/>
          <p:cNvGrpSpPr/>
          <p:nvPr/>
        </p:nvGrpSpPr>
        <p:grpSpPr>
          <a:xfrm>
            <a:off x="-533520" y="457200"/>
            <a:ext cx="8420040" cy="1523520"/>
            <a:chOff x="-533520" y="457200"/>
            <a:chExt cx="8420040" cy="1523520"/>
          </a:xfrm>
        </p:grpSpPr>
        <p:grpSp>
          <p:nvGrpSpPr>
            <p:cNvPr id="467" name=""/>
            <p:cNvGrpSpPr/>
            <p:nvPr/>
          </p:nvGrpSpPr>
          <p:grpSpPr>
            <a:xfrm>
              <a:off x="-527760" y="462600"/>
              <a:ext cx="8408160" cy="1511640"/>
              <a:chOff x="-527760" y="462600"/>
              <a:chExt cx="8408160" cy="1511640"/>
            </a:xfrm>
          </p:grpSpPr>
          <p:grpSp>
            <p:nvGrpSpPr>
              <p:cNvPr id="468" name=""/>
              <p:cNvGrpSpPr/>
              <p:nvPr/>
            </p:nvGrpSpPr>
            <p:grpSpPr>
              <a:xfrm>
                <a:off x="-527760" y="462600"/>
                <a:ext cx="4171320" cy="1511640"/>
                <a:chOff x="-527760" y="462600"/>
                <a:chExt cx="4171320" cy="1511640"/>
              </a:xfrm>
            </p:grpSpPr>
            <p:sp>
              <p:nvSpPr>
                <p:cNvPr id="469" name=""/>
                <p:cNvSpPr/>
                <p:nvPr/>
              </p:nvSpPr>
              <p:spPr>
                <a:xfrm>
                  <a:off x="-474120" y="462600"/>
                  <a:ext cx="406404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0" name=""/>
                <p:cNvSpPr/>
                <p:nvPr/>
              </p:nvSpPr>
              <p:spPr>
                <a:xfrm>
                  <a:off x="-527760" y="462600"/>
                  <a:ext cx="417132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
              <p:cNvGrpSpPr/>
              <p:nvPr/>
            </p:nvGrpSpPr>
            <p:grpSpPr>
              <a:xfrm>
                <a:off x="3643920" y="462600"/>
                <a:ext cx="1204920" cy="1511640"/>
                <a:chOff x="3643920" y="462600"/>
                <a:chExt cx="1204920" cy="1511640"/>
              </a:xfrm>
            </p:grpSpPr>
            <p:sp>
              <p:nvSpPr>
                <p:cNvPr id="472" name=""/>
                <p:cNvSpPr/>
                <p:nvPr/>
              </p:nvSpPr>
              <p:spPr>
                <a:xfrm>
                  <a:off x="3697200" y="462600"/>
                  <a:ext cx="1098000" cy="15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a las entidades constituidas y autorizadas al 30/09/98</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 </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73" name=""/>
                <p:cNvSpPr/>
                <p:nvPr/>
              </p:nvSpPr>
              <p:spPr>
                <a:xfrm>
                  <a:off x="3643920" y="462600"/>
                  <a:ext cx="120492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4" name=""/>
              <p:cNvGrpSpPr/>
              <p:nvPr/>
            </p:nvGrpSpPr>
            <p:grpSpPr>
              <a:xfrm>
                <a:off x="4849560" y="462600"/>
                <a:ext cx="1452960" cy="1511640"/>
                <a:chOff x="4849560" y="462600"/>
                <a:chExt cx="1452960" cy="1511640"/>
              </a:xfrm>
            </p:grpSpPr>
            <p:sp>
              <p:nvSpPr>
                <p:cNvPr id="475" name=""/>
                <p:cNvSpPr/>
                <p:nvPr/>
              </p:nvSpPr>
              <p:spPr>
                <a:xfrm>
                  <a:off x="4903200" y="462600"/>
                  <a:ext cx="134532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ara las entidades constituidas  y autorizadas desde el  30/09/98</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6" name=""/>
                <p:cNvSpPr/>
                <p:nvPr/>
              </p:nvSpPr>
              <p:spPr>
                <a:xfrm>
                  <a:off x="4849560" y="462600"/>
                  <a:ext cx="145296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7" name=""/>
              <p:cNvGrpSpPr/>
              <p:nvPr/>
            </p:nvGrpSpPr>
            <p:grpSpPr>
              <a:xfrm>
                <a:off x="6303240" y="462600"/>
                <a:ext cx="1577160" cy="1511640"/>
                <a:chOff x="6303240" y="462600"/>
                <a:chExt cx="1577160" cy="1511640"/>
              </a:xfrm>
            </p:grpSpPr>
            <p:sp>
              <p:nvSpPr>
                <p:cNvPr id="478" name=""/>
                <p:cNvSpPr/>
                <p:nvPr/>
              </p:nvSpPr>
              <p:spPr>
                <a:xfrm>
                  <a:off x="6356520" y="462600"/>
                  <a:ext cx="1470240" cy="151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ea typeface="Arial"/>
                    </a:rPr>
                    <a: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solución 31.13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9" name=""/>
                <p:cNvSpPr/>
                <p:nvPr/>
              </p:nvSpPr>
              <p:spPr>
                <a:xfrm>
                  <a:off x="6303240" y="462600"/>
                  <a:ext cx="1577160" cy="151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80" name=""/>
            <p:cNvSpPr/>
            <p:nvPr/>
          </p:nvSpPr>
          <p:spPr>
            <a:xfrm>
              <a:off x="-533520" y="457200"/>
              <a:ext cx="8420040" cy="1523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2B8430E3-CFCC-441F-8AD7-8C0581FC0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ffffff"/>
                </a:solidFill>
                <a:uFillTx/>
                <a:latin typeface="Arial Narrow"/>
              </a:rPr>
              <a:t>Adecuación Gradual</a:t>
            </a:r>
            <a:endParaRPr b="1" lang="en-US" sz="4400" spc="-1" strike="noStrike">
              <a:solidFill>
                <a:srgbClr val="ffffcc"/>
              </a:solidFill>
              <a:latin typeface="Arial Narrow"/>
            </a:endParaRPr>
          </a:p>
        </p:txBody>
      </p:sp>
      <p:sp>
        <p:nvSpPr>
          <p:cNvPr id="482"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siste: incrementar trimestralmente a partir del período intermedio cerrado el 30/09/06, el capital mínimo por ramas así requerido hasta el 30/06/06 por el importe que resulte de determinar la doceava parte de la diferencia entre éste y el nuevo requerimiento dispuesto por el punto 30.1.1.A. De la Resolución 31.134.</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entidades deberán cumplimentar una serie de requisitos.</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uso de esta opción por las aseguradoras genera limitaciones similares a las ya comentadas al tratar el diferimiento previsto por la R.G. 31.135.</a:t>
            </a:r>
            <a:endParaRPr b="0" lang="en-US" sz="2400" spc="-1" strike="noStrike">
              <a:solidFill>
                <a:srgbClr val="ffffff"/>
              </a:solidFill>
              <a:latin typeface="Arial"/>
            </a:endParaRPr>
          </a:p>
        </p:txBody>
      </p:sp>
      <p:pic>
        <p:nvPicPr>
          <p:cNvPr id="483"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2B54AED6-EAFA-44B3-9399-09686F538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09680" y="-360"/>
            <a:ext cx="5486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Resolución</a:t>
            </a:r>
            <a:r>
              <a:rPr b="1" lang="es-MX" sz="4400" spc="-1" strike="noStrike" u="sng">
                <a:solidFill>
                  <a:srgbClr val="ffffcc"/>
                </a:solidFill>
                <a:uFillTx/>
                <a:latin typeface="Arial Narrow"/>
              </a:rPr>
              <a:t> </a:t>
            </a:r>
            <a:r>
              <a:rPr b="1" lang="es-MX" sz="4400" spc="-1" strike="noStrike" u="sng">
                <a:solidFill>
                  <a:srgbClr val="ffffff"/>
                </a:solidFill>
                <a:uFillTx/>
                <a:latin typeface="Arial Narrow"/>
              </a:rPr>
              <a:t>31.321:</a:t>
            </a:r>
            <a:endParaRPr b="1" lang="en-US" sz="4400" spc="-1" strike="noStrike">
              <a:solidFill>
                <a:srgbClr val="ffffcc"/>
              </a:solidFill>
              <a:latin typeface="Arial Narrow"/>
            </a:endParaRPr>
          </a:p>
        </p:txBody>
      </p:sp>
      <p:sp>
        <p:nvSpPr>
          <p:cNvPr id="485" name="PlaceHolder 2"/>
          <p:cNvSpPr>
            <a:spLocks noGrp="1"/>
          </p:cNvSpPr>
          <p:nvPr>
            <p:ph/>
          </p:nvPr>
        </p:nvSpPr>
        <p:spPr>
          <a:xfrm>
            <a:off x="533520" y="1294920"/>
            <a:ext cx="8229600" cy="53341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sideración de mayores valores de inmuebles, resultantes del TTN.</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laciones Técnicas: se admitirá computar el mayor valor resultante de las tasaciones de inmuebles efectuadas por el TTN.</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podrá exceder el 85% de la diferencia entre el valor contable de cada inmueble al 30/06/06 y el valor tasado.</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diferencia determinada no podrá superar los límites máximos estipulados en los puntos 35.5.v.</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orte determinado se reducirá mensualmente mediante su amortización en función de la vida útil remanente del respectivo inmueble.</a:t>
            </a:r>
            <a:endParaRPr b="0" lang="en-US" sz="2400" spc="-1" strike="noStrike">
              <a:solidFill>
                <a:srgbClr val="ffffff"/>
              </a:solidFill>
              <a:latin typeface="Arial"/>
            </a:endParaRPr>
          </a:p>
          <a:p>
            <a:pPr marL="335880" indent="-3358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será de aplicación para inmuebles incorporados al patrimonio de las aseguradoras con posterioridad al 01/07/05.</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86"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3F8A7244-4E1C-41DE-B9E7-665BEE07B8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133360" y="533160"/>
            <a:ext cx="4647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Resolución 31.335</a:t>
            </a:r>
            <a:endParaRPr b="1" lang="en-US" sz="4400" spc="-1" strike="noStrike">
              <a:solidFill>
                <a:srgbClr val="ffffcc"/>
              </a:solidFill>
              <a:latin typeface="Arial Narrow"/>
            </a:endParaRPr>
          </a:p>
        </p:txBody>
      </p:sp>
      <p:sp>
        <p:nvSpPr>
          <p:cNvPr id="48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reemplaza el punto 35.5.v. Del R.G.A.A., relativo a las Políticas de Inversiones confeccionadas por las aseguradoras.</a:t>
            </a:r>
            <a:endParaRPr b="0" lang="en-US" sz="2400" spc="-1" strike="noStrike">
              <a:solidFill>
                <a:srgbClr val="ffffff"/>
              </a:solidFill>
              <a:latin typeface="Arial"/>
            </a:endParaRPr>
          </a:p>
          <a:p>
            <a:pPr marL="339480" indent="-339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No se tomarán en cuenta para la determinación de la cobertura las inversiones en inmuebles y préstamos garantizados superiores al 70% de los conceptos enumerados en el punto 35.1., no pudiendo exceder cada tipo de inversión los siguientes %:</a:t>
            </a:r>
            <a:endParaRPr b="0" lang="en-US" sz="2400" spc="-1" strike="noStrike">
              <a:solidFill>
                <a:srgbClr val="ffffff"/>
              </a:solidFill>
              <a:latin typeface="Arial"/>
            </a:endParaRPr>
          </a:p>
          <a:p>
            <a:pPr lvl="1" marL="735480" indent="-28296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nmuebles: 60% de los conceptos enumerados en el punto 35.1.</a:t>
            </a:r>
            <a:endParaRPr b="0" lang="en-US" sz="2200" spc="-1" strike="noStrike">
              <a:solidFill>
                <a:srgbClr val="ffffff"/>
              </a:solidFill>
              <a:latin typeface="Arial"/>
            </a:endParaRPr>
          </a:p>
          <a:p>
            <a:pPr lvl="1" marL="735480" indent="-28296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réstamos admitidos: 45% de los conceptos enumerados en el punto 35.1.</a:t>
            </a:r>
            <a:endParaRPr b="0" lang="en-US" sz="2200" spc="-1" strike="noStrike">
              <a:solidFill>
                <a:srgbClr val="ffffff"/>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489"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3970F83A-15F8-4294-974B-1EBCC2FA63A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ffff"/>
                </a:solidFill>
                <a:uFillTx/>
                <a:latin typeface="Arial Narrow"/>
              </a:rPr>
              <a:t>Principales Cambios R.G. 31.135</a:t>
            </a:r>
            <a:endParaRPr b="1" lang="en-US" sz="4400" spc="-1" strike="noStrike">
              <a:solidFill>
                <a:srgbClr val="ffffcc"/>
              </a:solidFill>
              <a:latin typeface="Arial Narrow"/>
            </a:endParaRPr>
          </a:p>
        </p:txBody>
      </p:sp>
      <p:sp>
        <p:nvSpPr>
          <p:cNvPr id="9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Para todos los ramos:</a:t>
            </a:r>
            <a:r>
              <a:rPr b="0" lang="es-MX" sz="2800" spc="-1" strike="noStrike">
                <a:solidFill>
                  <a:srgbClr val="ffffff"/>
                </a:solidFill>
                <a:latin typeface="Arial"/>
              </a:rPr>
              <a:t> Inexistencia de Póliza, no podrán incluirse en la sumatoria para el cálculo del promedio indetermina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2"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E12FFBE4-481C-4776-A3F6-4E57EFC4DD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09320" y="228600"/>
            <a:ext cx="6629400" cy="63244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Para el ramo automotor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modifica el criterio de valuación de los juicios de monto indeterminado.</a:t>
            </a:r>
            <a:endParaRPr b="0" lang="en-US" sz="22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modifica el criterio de valuación de las mediaciones.</a:t>
            </a:r>
            <a:endParaRPr b="0" lang="en-US" sz="22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implementan 6 promedios para valuar juicios y mediaciones de monto indeterminado.</a:t>
            </a:r>
            <a:endParaRPr b="0" lang="en-US" sz="22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 efectos de la determinación de los promedios de mediaciones, se utilizan los resultados de gestión obtenidos en los últimos 12 meses.</a:t>
            </a:r>
            <a:endParaRPr b="0" lang="en-US" sz="22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modifican los tramos y los importes mínimos aplicables a la valuación de demandas determinadas del ramo automotores (expuesta en “Criterios de valuación”).</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4"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04AFD6E0-D55B-44D3-B817-E268F249DA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62320" y="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Narrow"/>
              </a:rPr>
              <a:t>Análisis particularizado</a:t>
            </a:r>
            <a:endParaRPr b="1" lang="en-US" sz="2800" spc="-1" strike="noStrike">
              <a:solidFill>
                <a:srgbClr val="ffffcc"/>
              </a:solidFill>
              <a:latin typeface="Arial Narrow"/>
            </a:endParaRPr>
          </a:p>
        </p:txBody>
      </p:sp>
      <p:sp>
        <p:nvSpPr>
          <p:cNvPr id="96" name="PlaceHolder 2"/>
          <p:cNvSpPr>
            <a:spLocks noGrp="1"/>
          </p:cNvSpPr>
          <p:nvPr>
            <p:ph/>
          </p:nvPr>
        </p:nvSpPr>
        <p:spPr>
          <a:xfrm>
            <a:off x="151920" y="914400"/>
            <a:ext cx="8610840" cy="5943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utomotores:</a:t>
            </a:r>
            <a:endParaRPr b="0" lang="en-US" sz="24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pertura según el riesgo afectado para el cálculo de promedios: RCC/ CASCO y RCL.  Promedio se obtiene separadamente para cada riesgo. No se incluyen las mediaciones para el promedio de juicios.</a:t>
            </a:r>
            <a:endParaRPr b="0" lang="en-US" sz="2200" spc="-1" strike="noStrike">
              <a:solidFill>
                <a:srgbClr val="ffffff"/>
              </a:solidFill>
              <a:latin typeface="Arial"/>
            </a:endParaRPr>
          </a:p>
          <a:p>
            <a:pPr lvl="1" marL="743040" indent="-28584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Valuación de mediaciones:</a:t>
            </a:r>
            <a:endParaRPr b="0" lang="en-US" sz="2200" spc="-1" strike="noStrike">
              <a:solidFill>
                <a:srgbClr val="ffffff"/>
              </a:solidFill>
              <a:latin typeface="Arial"/>
            </a:endParaRPr>
          </a:p>
          <a:p>
            <a:pPr lvl="2" marL="1143000" indent="-228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echa a considerar para el computo de lso 180 días: registración en el Libro de Actuaciones Judiciales.</a:t>
            </a:r>
            <a:endParaRPr b="0" lang="en-US" sz="2000" spc="-1" strike="noStrike">
              <a:solidFill>
                <a:srgbClr val="ffffff"/>
              </a:solidFill>
              <a:latin typeface="Arial"/>
            </a:endParaRPr>
          </a:p>
          <a:p>
            <a:pPr lvl="2" marL="1143000" indent="-228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diaciones menores a 180 días: se valuan por promedio, uno para RCC/CASCO y otro para RCL.</a:t>
            </a:r>
            <a:endParaRPr b="0" lang="en-US" sz="2000" spc="-1" strike="noStrike">
              <a:solidFill>
                <a:srgbClr val="ffffff"/>
              </a:solidFill>
              <a:latin typeface="Arial"/>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s promedios se obtienen de la sumatoria de las mediaciones acordadas en los últimos 12 meses, ya sea que esten pagas o pendientes.</a:t>
            </a:r>
            <a:endParaRPr b="0" lang="en-US" sz="1800" spc="-1" strike="noStrike">
              <a:solidFill>
                <a:srgbClr val="ffffff"/>
              </a:solidFill>
              <a:latin typeface="Arial"/>
            </a:endParaRPr>
          </a:p>
          <a:p>
            <a:pPr lvl="2" marL="1143000" indent="-228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diaciones mayores de 180 días: mismo tratamiento que lso juicios si tienen monto determinado, se valúan por tramos, pero no integran la sumatoria para la obtención de los promedios de juicios. Si las mediaciones son de monto indeterminado, se establecen 2 promedios, RCC/CASCO y RCL, pero en la sumatoria también se incluyen los juic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7" name="AMIGO%20VALENTINI%203" descr=""/>
          <p:cNvPicPr/>
          <p:nvPr/>
        </p:nvPicPr>
        <p:blipFill>
          <a:blip r:embed="rId1"/>
          <a:stretch/>
        </p:blipFill>
        <p:spPr>
          <a:xfrm>
            <a:off x="0" y="0"/>
            <a:ext cx="2087640" cy="789120"/>
          </a:xfrm>
          <a:prstGeom prst="rect">
            <a:avLst/>
          </a:prstGeom>
          <a:ln w="0">
            <a:noFill/>
          </a:ln>
        </p:spPr>
      </p:pic>
      <p:sp>
        <p:nvSpPr>
          <p:cNvPr id="4" name="PlaceHolder 3"/>
          <p:cNvSpPr>
            <a:spLocks noGrp="1"/>
          </p:cNvSpPr>
          <p:nvPr>
            <p:ph type="sldNum" idx="3"/>
          </p:nvPr>
        </p:nvSpPr>
        <p:spPr/>
        <p:txBody>
          <a:bodyPr/>
          <a:p>
            <a:fld id="{BE440596-681D-471A-B57B-79CEFB84D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5640" y="304560"/>
            <a:ext cx="6629400" cy="61722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I.B.N.R.</a:t>
            </a:r>
            <a:endParaRPr b="0" lang="en-US" sz="28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Obligatorio excluir siniestros excepcionales.</a:t>
            </a:r>
            <a:endParaRPr b="0" lang="en-US" sz="26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niestros excepcional: cuando supera el 10% del total de incurridos en un período de desarrollo.</a:t>
            </a:r>
            <a:endParaRPr b="0" lang="en-US" sz="26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amo automotores cobertura R.C. Y ramo R.C.: en el cálculo se utilizará la información correspondiente a 10 años.</a:t>
            </a:r>
            <a:endParaRPr b="0" lang="en-US" sz="26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e incorporan 3 matrices en las que se consignarán la cantidad de siniestros pagados, siniestros pendientes y siniestros incurridos.</a:t>
            </a:r>
            <a:endParaRPr b="0" lang="en-US" sz="2600" spc="-1" strike="noStrike">
              <a:solidFill>
                <a:srgbClr val="ffffff"/>
              </a:solidFill>
              <a:latin typeface="Arial"/>
            </a:endParaRPr>
          </a:p>
        </p:txBody>
      </p:sp>
      <p:pic>
        <p:nvPicPr>
          <p:cNvPr id="99"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B2F8BA90-FA92-4D51-87F7-A27E49E3D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133720" y="228600"/>
            <a:ext cx="6781680" cy="586728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Opción de amortizar la diferencia por el mayor pasivo para el ramo automotores</a:t>
            </a:r>
            <a:endParaRPr b="0" lang="en-US" sz="28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 ocasión de la primera constitución, se podrá amortizar el 12,5% trimestral durante 8 trimestres, a partir del 30/09/06, inclusive.</a:t>
            </a:r>
            <a:endParaRPr b="0" lang="en-US" sz="2600" spc="-1" strike="noStrike">
              <a:solidFill>
                <a:srgbClr val="ffffff"/>
              </a:solidFill>
              <a:latin typeface="Arial"/>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importe de la diferencia (neto de la correspondiente amortización acumulada) se expondrá en los estados contables como cuenta regularizadora del rubro Deudas con Asegurados, según la siguiente escala:</a:t>
            </a:r>
            <a:endParaRPr b="0" lang="en-US" sz="2600" spc="-1" strike="noStrike">
              <a:solidFill>
                <a:srgbClr val="ffffff"/>
              </a:solidFill>
              <a:latin typeface="Arial"/>
            </a:endParaRPr>
          </a:p>
        </p:txBody>
      </p:sp>
      <p:pic>
        <p:nvPicPr>
          <p:cNvPr id="101"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4115F66B-B7A3-4D37-9580-38AF91D9D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5640" y="609480"/>
            <a:ext cx="6553080" cy="54864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rebuchet MS"/>
              </a:rPr>
              <a:t>Período</a:t>
            </a:r>
            <a:r>
              <a:rPr b="0" lang="es-AR" sz="2800" spc="-1" strike="noStrike">
                <a:solidFill>
                  <a:srgbClr val="ffffff"/>
                </a:solidFill>
                <a:latin typeface="Trebuchet MS"/>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0/06/06: 100,0%</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0/09/06:   87,5%</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1/12/06:   75,0%</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1/03/07:   62,5%</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0/06/07:   50,0%</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0/09/07:   37,5%</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1/12/07:   25,0%</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1/03/08:   12,5%</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rebuchet MS"/>
                <a:ea typeface="Times New Roman"/>
              </a:rPr>
              <a:t>30/06/08:     0,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3"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9F8D7CBF-B807-4896-ACC8-08E2F49FB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133720" y="304560"/>
            <a:ext cx="6781680" cy="60958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Times New Roman"/>
              </a:rPr>
              <a:t>Habiendo hecho uso de la presente opción, las entidades deberán sujetarse a las siguientes normas, según el tipo societario:</a:t>
            </a:r>
            <a:endParaRPr b="0" lang="en-US" sz="2800" spc="-1" strike="noStrike">
              <a:solidFill>
                <a:srgbClr val="ffffff"/>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imes New Roman"/>
              </a:rPr>
              <a:t>Las Sociedades Anónimas no podrán distribuir dividendos en efectivo.</a:t>
            </a:r>
            <a:endParaRPr b="0" lang="en-US" sz="2400" spc="-1" strike="noStrike">
              <a:solidFill>
                <a:srgbClr val="ffffff"/>
              </a:solidFill>
              <a:latin typeface="Arial"/>
            </a:endParaRPr>
          </a:p>
          <a:p>
            <a:pPr lvl="1" marL="743040" indent="-285840" algn="just">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imes New Roman"/>
              </a:rPr>
              <a:t>Las Cooperativas deberán capitalizar los excedentes y las Mutualidades incrementar sus fondos de garantía.</a:t>
            </a:r>
            <a:endParaRPr b="0" lang="en-US" sz="2400" spc="-1" strike="noStrike">
              <a:solidFill>
                <a:srgbClr val="ffffff"/>
              </a:solidFill>
              <a:latin typeface="Arial"/>
            </a:endParaRPr>
          </a:p>
          <a:p>
            <a:pPr lvl="1" marL="743040" indent="-285840" algn="just">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imes New Roman"/>
              </a:rPr>
              <a:t>Los Organismos Oficiales deberán destinar la totalidad de sus beneficios a incrementar su capital.</a:t>
            </a:r>
            <a:endParaRPr b="0" lang="en-US" sz="2400" spc="-1" strike="noStrike">
              <a:solidFill>
                <a:srgbClr val="ffffff"/>
              </a:solidFill>
              <a:latin typeface="Arial"/>
            </a:endParaRPr>
          </a:p>
          <a:p>
            <a:pPr lvl="1" marL="743040" indent="-285840" algn="just">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Times New Roman"/>
              </a:rPr>
              <a:t>Las Sucursales y Agencias de Sociedades Extranjeras no podrán remesar utilidades a su casa matriz.</a:t>
            </a:r>
            <a:endParaRPr b="0" lang="en-US" sz="2400" spc="-1" strike="noStrike">
              <a:solidFill>
                <a:srgbClr val="ffffff"/>
              </a:solidFill>
              <a:latin typeface="Arial"/>
            </a:endParaRPr>
          </a:p>
        </p:txBody>
      </p:sp>
      <p:pic>
        <p:nvPicPr>
          <p:cNvPr id="105" name="AMIGO%20VALENTINI%203" descr=""/>
          <p:cNvPicPr/>
          <p:nvPr/>
        </p:nvPicPr>
        <p:blipFill>
          <a:blip r:embed="rId1"/>
          <a:stretch/>
        </p:blipFill>
        <p:spPr>
          <a:xfrm>
            <a:off x="0" y="0"/>
            <a:ext cx="2087640" cy="789120"/>
          </a:xfrm>
          <a:prstGeom prst="rect">
            <a:avLst/>
          </a:prstGeom>
          <a:ln w="0">
            <a:noFill/>
          </a:ln>
        </p:spPr>
      </p:pic>
      <p:sp>
        <p:nvSpPr>
          <p:cNvPr id="3" name="PlaceHolder 2"/>
          <p:cNvSpPr>
            <a:spLocks noGrp="1"/>
          </p:cNvSpPr>
          <p:nvPr>
            <p:ph type="sldNum" idx="3"/>
          </p:nvPr>
        </p:nvSpPr>
        <p:spPr/>
        <p:txBody>
          <a:bodyPr/>
          <a:p>
            <a:fld id="{E4D4E596-B6F7-491C-A874-E15988EE3E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NT</cp:lastModifiedBy>
  <dcterms:modified xsi:type="dcterms:W3CDTF">2006-11-22T20:04:28Z</dcterms:modified>
  <cp:revision>25</cp:revision>
  <dc:subject/>
  <dc:title>Presentación de PowerPoint</dc:title>
</cp:coreProperties>
</file>