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7F5-DDB5-4F6F-8CAC-8086290DA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955A-1966-4AAB-9F53-DA3B9D01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F79-9F38-4F0D-9439-FF619290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8C8B-8EAF-4341-832E-5F12B86F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91F-31D3-485F-AC3F-2946BD85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6BB0-5A4F-4B1C-987D-D390892D7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8EBC-7843-4251-9171-3B2B450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844D-D9A0-4A49-B77D-C343A9A3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36D2-41DE-4E83-A902-29CF320E8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4006-0319-4118-8560-8C86DD47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7147-A51E-44B7-93CB-A7144685B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320C-2057-4CDC-9A1B-B607FA498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7D02-221E-46DC-AE3F-21620B2EBC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¿Qué debo saber para especializarme en auditor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ocimiento acabado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ciones (negoc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stemas (proce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interno – evalu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agaciones a los respons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le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dar nada por supuesto: siempre documentarse y dejarlo plasmado en los papeles de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as de trabaj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car opinión de otras profes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dad económica en el análisis de los hechos u operacione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 hormigas ni elefante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enido del infor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e 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¿Y si encuentro un frau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ardar el debido secreto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scar siempre Valor Agregado a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uditoría de PyME’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os simples: posibilidad de estandariz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paración del rol: contabilizo o audit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én toma las decision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auditor externo no tiene la solución o respuesta a todo: economía, impuestos, temas personal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fundir rol de auditor con consul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ber cuando hay que “cambiar el sombrero” y no perder independencia de crite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 No. 7 – Cuestiones bás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finir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Definir materi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levamiento de cont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specciones fís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firmaciones de terc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arta de g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rol Inte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forme COSO –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uditoría interna vs Auditoría 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Servicios especiales: mejoras en los 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Quién es el responsable de los procesos y controles: el 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nterdisciplinario: siste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Importancia de los cont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rtific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os – Informe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bajo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valor de la fir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s que sí, cosas que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Cómo empez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las prop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mpañando a otro profesional que conozca “el oficio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ociándome con cole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el mun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ión de temas 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t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a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ción de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 exp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int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Hacia donde vamo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mos “en la mi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bios continu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iente más regu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mas internacionales: sí o n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ros servi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nquen sin vicios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Normativa: hacia donde va la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ceptación de clientes: cuestiones a conside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Auditoría de PyME’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trol Int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ertificaciones e Infor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¿Qué es audita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No es: “hacer el balanc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: Opinar sobre la razonabilidad de los estados con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ficultad para manejar la di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un servicio al Usuario del Estado Co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Es una opinión independ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ceso Continu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eptación del cliente pot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puesto y pro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ta conven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o del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 evaluación de la continuidad del serv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eptación del cli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quién me relaci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esgo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: Pasos en Lavado de ac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ocer cliente y principales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tuación patrimonial y financiera –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as éticos – controles, etc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Aspectos econom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u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pu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álisis costo / benef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rta conven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Terminos de re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Limites de responsa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Honor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tapas de la auditorí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Obtención de ev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Concl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 evaluación de continu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 finalizar cada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… siempr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30T16:55:36Z</dcterms:created>
  <dc:creator>PwC</dc:creator>
  <dc:description/>
  <dc:language>en-US</dc:language>
  <cp:lastModifiedBy>PwC</cp:lastModifiedBy>
  <dcterms:modified xsi:type="dcterms:W3CDTF">2006-12-05T20:24:15Z</dcterms:modified>
  <cp:revision>10</cp:revision>
  <dc:subject/>
  <dc:title>¿Qué debo saber para especializarme en auditoría?</dc:title>
</cp:coreProperties>
</file>