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E18-F5CD-46A3-ADA4-AFA5F325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F25-75DB-4E5E-B23C-43170E93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B10-A075-4028-8345-E0EFCECB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857-4416-4B60-8354-D5251DD4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C7DA-BD3F-4774-B4CE-B0FBA72D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A514-2262-4C19-B4BA-6147E5B3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3F2F-5807-4D92-ADAA-49A6F023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CB3C-02F2-4C4F-878F-9A275121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CDDC-6703-4364-85BA-E798D6DB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44D8-DB21-4B0C-B133-A97886CC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F108-A68B-4BAE-B815-520A9D76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3D84-7ACC-407A-832E-178E7777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7C51-E084-41C3-BCE3-4460559B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069B-AF49-4719-B419-F4017C07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98FF-26C9-4284-85CB-4BAEC649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DBD7-99DE-492E-85AC-8C135E81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FDB4-D4A0-4AF4-946F-4C5432FD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D17-17F1-4421-8FDA-6A7FF283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87F-CE49-4A3E-B58E-39692121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85E-6927-4DE8-BEDD-1743CEAB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8260-3E2C-4FC8-B5B6-4665772C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F3E-F3AE-494B-BB46-AC2E57CA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652-8903-49EF-B778-A52BDBA0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663D-CBF1-4E17-994E-81230687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7485-0A6F-453E-9D29-4F67CC4ACD94}" type="datetime"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0058-D033-4511-A252-C54F96903FB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ABFA-B715-48D4-887D-9DA66345D61A}" type="datetime"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FF77-5910-4752-9CC5-C3A65314335A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ómo iniciarse en la actividad independien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24000" y="4436640"/>
            <a:ext cx="647712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lementos de marketing y organización para el inicio del estudio profes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F4E8C6A-BF40-4A34-92FE-3CB76465E0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336666"/>
                </a:solidFill>
                <a:latin typeface="Arial"/>
              </a:rPr>
              <a:t>Características del Servicio Profesion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Servicio brindado por profes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Oferta intang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Participación activa del cli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Se produce y consume al mismo tiem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Variabilidad absolu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Mercado muy competi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6F298-34C6-4C8C-A6B9-DB0342CC7C61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336666"/>
                </a:solidFill>
                <a:latin typeface="Arial"/>
              </a:rPr>
              <a:t>Visión profesional desde </a:t>
            </a:r>
            <a:br>
              <a:rPr sz="3800"/>
            </a:br>
            <a:r>
              <a:rPr b="0" lang="es-AR" sz="3800" spc="-1" strike="noStrike">
                <a:solidFill>
                  <a:srgbClr val="336666"/>
                </a:solidFill>
                <a:latin typeface="Arial"/>
              </a:rPr>
              <a:t>la Oferta y la Dema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ompatibilizar las dos expectativ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Desarrollo de la imagen del profes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apacitación y actualización perman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Aceptación en el merc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Tecnología e infraestruc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Atención personaliz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E7D90-E4EA-4134-9A7B-C12F3379B6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336666"/>
                </a:solidFill>
                <a:latin typeface="Arial"/>
              </a:rPr>
              <a:t>Buscando la calidad en el servicio profesion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1989000"/>
            <a:ext cx="3384720" cy="3961080"/>
          </a:xfrm>
          <a:prstGeom prst="rect">
            <a:avLst/>
          </a:prstGeom>
          <a:solidFill>
            <a:srgbClr val="e2e2e2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xpectativa del client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ercepción profesiona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alidad del servici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restación del servici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ervicio percibid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1989000"/>
            <a:ext cx="3311640" cy="3961080"/>
          </a:xfrm>
          <a:prstGeom prst="rect">
            <a:avLst/>
          </a:prstGeom>
          <a:solidFill>
            <a:srgbClr val="e2e2e2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ercepción profesiona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alidad del servici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restación del servici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municación interactiv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ervicio esperad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9E53A-176A-429C-A240-ECF15A37F6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336666"/>
                </a:solidFill>
                <a:latin typeface="Arial"/>
              </a:rPr>
              <a:t>Hacia donde orientamos nuestros servicios profesionale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2714400"/>
            <a:ext cx="701064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Nichos tradi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Nuevos nichos comer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31931-CEAA-476C-9F8D-082390DEC3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336666"/>
                </a:solidFill>
                <a:latin typeface="Arial"/>
              </a:rPr>
              <a:t>Nichos tradicion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Auditorí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Planificación tribut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Presupuestación y cos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Liquidación de sueldos y jor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ontabilidad geren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78960-6A3E-4797-A660-FB43290EC5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336666"/>
                </a:solidFill>
                <a:latin typeface="Arial"/>
              </a:rPr>
              <a:t>Nuevos nichos comerciales</a:t>
            </a:r>
            <a:r>
              <a:rPr b="0" lang="es-AR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Investigación del mercado poten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Obtener información para detectar neces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reación de nuevas necesidades, intereses y deseos de los cli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Diferenciación del serv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apacidad de respuesta al camb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8408D-17EA-4BBF-BF3B-A6B6AE2940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336666"/>
                </a:solidFill>
                <a:latin typeface="Arial"/>
              </a:rPr>
              <a:t>Nuevos nichos comerci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apacitación in compa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Gestión de cos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Implementación de siste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Marketing rela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Planeamiento estratég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Relaciones labor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Reestructuración, fusión y adquisi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8C86F-6ED9-4E32-AC0A-128E3C6478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336666"/>
                </a:solidFill>
                <a:latin typeface="Arial"/>
              </a:rPr>
              <a:t>Competencias para la prestación de nuestros servici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Aptitud proac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Habilidad para comunicar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Visión global y estratégica del merc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apacidad de negoci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Toma de decisiones ante incertidu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Trabajo en equipo/ redes profes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5DE79-7C2E-48FC-8C86-9617925308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5:08:41Z</dcterms:created>
  <dc:creator>clientexp</dc:creator>
  <dc:description/>
  <dc:language>en-US</dc:language>
  <cp:lastModifiedBy>clientexp</cp:lastModifiedBy>
  <dcterms:modified xsi:type="dcterms:W3CDTF">2006-10-31T18:53:23Z</dcterms:modified>
  <cp:revision>12</cp:revision>
  <dc:subject/>
  <dc:title>Cómo iniciarse en la actividad independiente</dc:title>
</cp:coreProperties>
</file>