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64C-D9DC-472A-953D-FC5AC23D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34E8-ADD9-40C6-983F-D3A63D46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94D-C3FA-499B-BF32-58B2C853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CF7-DBE1-4AE7-BEB6-FE910CD5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854-A77E-431C-AC5A-6874A2B4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DDB-B076-43E0-A3AC-8A68F9BE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B3D-44B9-47E3-9310-3249565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7FD-0051-43C8-A69E-9D910643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5EF-8F33-4527-852C-5D1DACEF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C04-32EE-4C51-B316-60AD13D1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FEB-1EC1-4EF4-AA39-9EC6959D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ED5-02C6-4C5E-9B3E-3F0C0AE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568F-0216-4024-94F5-234B1F0C69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C.  P.  C.  E.  C.  A.  B.  A</a:t>
            </a:r>
            <a:br>
              <a:rPr sz="3500"/>
            </a:b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“COMISION DE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 REGISTROS CONTABLES, LABORALES,TRIBUTARIOS Y SOCIALES Y SU DOCUMENTACION </a:t>
            </a:r>
            <a:r>
              <a:rPr b="1" lang="es-MX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SPALDATORIA”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TALLE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SOBRE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ISTROS CONTABLES EN SOPORTES NO TRADICIONALES ART 61 DE LA L.S.C.;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ámite para obtener la autorización de los órganos de contralor (IGJ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CCA-15CB-41C8-B94D-B958482EFD3C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Y DE SOCIEDADES COMERCIALES</a:t>
            </a:r>
            <a:br>
              <a:rPr sz="25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CION IX: De la Documentación y de la Contabil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ART. 61.:(Desarrollo Didáctico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Podrá prescindirse del cumplimiento de las formalidades del “encuadernado y foliado” ( Art. 53 del Código de Comerci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Siempre que las autoridades de contralor autoricen la sustitu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por salidas de ordenadores,medios mecánicos o magnéticos u otr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El libro de INVENTARIOS Y BALANCES se exceptúa del beneficio anterior: continuará encuadernado y foli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La solicitud ante las autoridades de contralor deberá inclui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1) una adecuada descripción del sistema propuesto con dictamen técnico o antecedentes de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2) el que deberá permitir la individualización de las oper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3) las correspondientes cuentas deudoras y acreed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-4) y su posterior verificación: exigencias del ART.43(C.Com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Los pedidos de autorización se considerarán automáticamente aprobados si dentro de los 30 días no mediare observación  o rechazo fundado por el órgano de contral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) La resolución que autoriza el cambio y la descripción del nuevo sistema, deberán trascribirse en el libro d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VENTARIO Y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El libro DIARIO podrá ser llevado con asientos globales (que procedan de los subdiarios mencionados) que no comprendan períodos mayores a un 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764-9781-4624-B4BF-34FB1F7D4FED}" type="slidenum">
              <a:t>10</a:t>
            </a:fld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3360" y="1828800"/>
            <a:ext cx="80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OLUCIÓN GENERAL I.G.J. Nº 7/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160" y="2513160"/>
            <a:ext cx="559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oletín Oficial Nº 30724 - Pág. 12 a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cha de Publicación: 25/0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920" y="3733920"/>
            <a:ext cx="858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t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4 – Vigencia: A los 180 días de su publicación  (21/02/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t. 6 – Punto 6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ecuación de uso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ejercicio inmediato siguie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 a la v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7072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2440" y="609480"/>
            <a:ext cx="8439120" cy="510552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66720"/>
            <a:ext cx="7837560" cy="734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ef6f1"/>
                </a:solidFill>
                <a:latin typeface="Times New Roman"/>
              </a:rPr>
              <a:t>INSPECCIÓN GENERAL DE JUST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ef6f1"/>
                </a:solidFill>
                <a:latin typeface="Times New Roman"/>
              </a:rPr>
              <a:t>Ministerio de Justicia y Derecho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bandera" descr=""/>
          <p:cNvPicPr/>
          <p:nvPr/>
        </p:nvPicPr>
        <p:blipFill>
          <a:blip r:embed="rId2"/>
          <a:stretch/>
        </p:blipFill>
        <p:spPr>
          <a:xfrm>
            <a:off x="7877160" y="762120"/>
            <a:ext cx="609480" cy="482400"/>
          </a:xfrm>
          <a:prstGeom prst="rect">
            <a:avLst/>
          </a:prstGeom>
          <a:ln w="0">
            <a:noFill/>
          </a:ln>
        </p:spPr>
      </p:pic>
      <p:pic>
        <p:nvPicPr>
          <p:cNvPr id="64" name="escnac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98520" y="663480"/>
            <a:ext cx="525240" cy="733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22280" y="5943600"/>
            <a:ext cx="3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5C2-48CE-4083-8B71-3F651EB0AED7}" type="slidenum">
              <a:t>11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45840" y="60948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BRO IV – TÍTULO II – REGISTRA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4120" y="1530360"/>
            <a:ext cx="903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s de Registración Co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bro Inventario y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istro por ordenadores, medios mecánicos,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 otros (Art. 61 Ley 19550) – Pres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dimientos – Aprobación tá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ligatoriedad de la autorización prev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bro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istración contable en listado de hoja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de Registración Contable en compact disk,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cos ópticos y microfil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7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periódica medios mecánicos, mag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37072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rot="10800000">
            <a:off x="63288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3FC-D8C4-43AF-BCD2-9AFB09AC9BEC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62000" y="685800"/>
            <a:ext cx="9474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Ofrezcan elevado grado de inalt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Primer testimonio de Escritura Pública de la solicit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mpromiso de preservar l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Extender en papel los reg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antener la vigencia de las máquinas lect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robación tácita (Si dentro de los 30 días no tiene observ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reditación dentro de los 10 días de los registros anterio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copia certificada de la foja donde conste la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spondiente firmada por representante legal y síndico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a de constatación nota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37072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rot="10800000">
            <a:off x="63288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727-8376-4209-BD8D-8BECC78858D8}" type="slidenum">
              <a:t>13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54080" y="320760"/>
            <a:ext cx="9244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jas Móv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adernación cada 500 ho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rimera págin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mbre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nominación del regis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úmero de la primera y última pá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Firma representante legal y sín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cos ópticos / micro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Acta de reg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dentificación del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antidad de regis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eri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imera y última reg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 La Actas deben estar firmadas por el representante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imestralm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l Órgano de Fiscalización emitirá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e sobre las condiciones exig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370720" y="6172200"/>
            <a:ext cx="281160" cy="30492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920"/>
              <a:gd name="textAreaBottom" fmla="*/ 286920 h 304920"/>
            </a:gdLst>
            <a:ahLst/>
            <a:rect l="textAreaLeft" t="textAreaTop" r="textAreaRight" b="textAreaBottom"/>
            <a:pathLst>
              <a:path w="21600" h="23423">
                <a:moveTo>
                  <a:pt x="0" y="0"/>
                </a:moveTo>
                <a:lnTo>
                  <a:pt x="21600" y="0"/>
                </a:lnTo>
                <a:lnTo>
                  <a:pt x="21600" y="23423"/>
                </a:lnTo>
                <a:lnTo>
                  <a:pt x="0" y="23423"/>
                </a:lnTo>
                <a:close/>
              </a:path>
              <a:path fill="lightenLess" w="21600" h="234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23">
                <a:moveTo>
                  <a:pt x="21600" y="0"/>
                </a:moveTo>
                <a:lnTo>
                  <a:pt x="21600" y="23423"/>
                </a:lnTo>
                <a:lnTo>
                  <a:pt x="20200" y="22023"/>
                </a:lnTo>
                <a:lnTo>
                  <a:pt x="20200" y="1400"/>
                </a:lnTo>
                <a:close/>
              </a:path>
              <a:path fill="darkenLess" w="21600" h="23423">
                <a:moveTo>
                  <a:pt x="21600" y="23423"/>
                </a:moveTo>
                <a:lnTo>
                  <a:pt x="0" y="23423"/>
                </a:lnTo>
                <a:lnTo>
                  <a:pt x="1400" y="22023"/>
                </a:lnTo>
                <a:lnTo>
                  <a:pt x="20200" y="22023"/>
                </a:lnTo>
                <a:close/>
              </a:path>
              <a:path fill="lighten" w="21600" h="23423">
                <a:moveTo>
                  <a:pt x="0" y="234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23"/>
                </a:lnTo>
                <a:close/>
              </a:path>
              <a:path fill="darken" w="21600" h="23423">
                <a:moveTo>
                  <a:pt x="3794" y="4705"/>
                </a:moveTo>
                <a:lnTo>
                  <a:pt x="17806" y="11712"/>
                </a:lnTo>
                <a:lnTo>
                  <a:pt x="3794" y="18718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0800000">
            <a:off x="63288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D09-0D33-4C0B-9214-50B2715FC182}" type="slidenum">
              <a:t>14</a:t>
            </a:fld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4440" y="1514520"/>
            <a:ext cx="9347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7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ormación perió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 - Informe anual de Contador Público so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cripción exacta del sistema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Opinión sobre concordancia con el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no existir observaciones, la IGJ emitirá una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agregará al libro Inventario y Balance, siendo cond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ón necesaria para que se considere la contabi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mente l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 - Informe de actualización técnica cada 2 año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I - La IGJ puede exigir el vuelco a papel del mov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able de acuerdo a su volu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8088480" y="5943600"/>
            <a:ext cx="493560" cy="304920"/>
          </a:xfrm>
          <a:custGeom>
            <a:avLst/>
            <a:gdLst>
              <a:gd name="textAreaLeft" fmla="*/ 19440 w 493560"/>
              <a:gd name="textAreaRight" fmla="*/ 474120 w 493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4947" h="21600">
                <a:moveTo>
                  <a:pt x="0" y="0"/>
                </a:moveTo>
                <a:lnTo>
                  <a:pt x="34947" y="0"/>
                </a:lnTo>
                <a:lnTo>
                  <a:pt x="34947" y="21600"/>
                </a:lnTo>
                <a:lnTo>
                  <a:pt x="0" y="21600"/>
                </a:lnTo>
                <a:close/>
              </a:path>
              <a:path fill="lightenLess" w="34947" h="21600">
                <a:moveTo>
                  <a:pt x="0" y="0"/>
                </a:moveTo>
                <a:lnTo>
                  <a:pt x="34947" y="0"/>
                </a:lnTo>
                <a:lnTo>
                  <a:pt x="33547" y="1400"/>
                </a:lnTo>
                <a:lnTo>
                  <a:pt x="1400" y="1400"/>
                </a:lnTo>
                <a:close/>
              </a:path>
              <a:path fill="darken" w="34947" h="21600">
                <a:moveTo>
                  <a:pt x="34947" y="0"/>
                </a:moveTo>
                <a:lnTo>
                  <a:pt x="34947" y="21600"/>
                </a:lnTo>
                <a:lnTo>
                  <a:pt x="33547" y="20200"/>
                </a:lnTo>
                <a:lnTo>
                  <a:pt x="33547" y="1400"/>
                </a:lnTo>
                <a:close/>
              </a:path>
              <a:path fill="darkenLess" w="34947" h="21600">
                <a:moveTo>
                  <a:pt x="349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47" y="20200"/>
                </a:lnTo>
                <a:close/>
              </a:path>
              <a:path fill="lighten" w="349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previousslide"/>
          </p:cNvPr>
          <p:cNvSpPr/>
          <p:nvPr/>
        </p:nvSpPr>
        <p:spPr>
          <a:xfrm rot="10800000">
            <a:off x="632880" y="6019920"/>
            <a:ext cx="281160" cy="3045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395">
                <a:moveTo>
                  <a:pt x="0" y="0"/>
                </a:moveTo>
                <a:lnTo>
                  <a:pt x="21600" y="0"/>
                </a:lnTo>
                <a:lnTo>
                  <a:pt x="21600" y="23395"/>
                </a:lnTo>
                <a:lnTo>
                  <a:pt x="0" y="23395"/>
                </a:lnTo>
                <a:close/>
              </a:path>
              <a:path fill="lightenLess" w="21600" h="23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5">
                <a:moveTo>
                  <a:pt x="21600" y="0"/>
                </a:moveTo>
                <a:lnTo>
                  <a:pt x="21600" y="23395"/>
                </a:lnTo>
                <a:lnTo>
                  <a:pt x="20200" y="21995"/>
                </a:lnTo>
                <a:lnTo>
                  <a:pt x="20200" y="1400"/>
                </a:lnTo>
                <a:close/>
              </a:path>
              <a:path fill="darkenLess" w="21600" h="23395">
                <a:moveTo>
                  <a:pt x="21600" y="23395"/>
                </a:moveTo>
                <a:lnTo>
                  <a:pt x="0" y="23395"/>
                </a:lnTo>
                <a:lnTo>
                  <a:pt x="1400" y="21995"/>
                </a:lnTo>
                <a:lnTo>
                  <a:pt x="20200" y="21995"/>
                </a:lnTo>
                <a:close/>
              </a:path>
              <a:path fill="lighten" w="21600" h="23395">
                <a:moveTo>
                  <a:pt x="0" y="23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5"/>
                </a:lnTo>
                <a:close/>
              </a:path>
              <a:path fill="darken" w="21600" h="23395">
                <a:moveTo>
                  <a:pt x="3794" y="4691"/>
                </a:moveTo>
                <a:lnTo>
                  <a:pt x="17806" y="11698"/>
                </a:lnTo>
                <a:lnTo>
                  <a:pt x="3794" y="18704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BBA-0B98-474F-BDD3-FF85D70DD504}" type="slidenum">
              <a:t>15</a:t>
            </a:fld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79760" y="3138480"/>
            <a:ext cx="768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cc"/>
                </a:solidFill>
                <a:latin typeface="Arial"/>
              </a:rPr>
              <a:t>CONTENIDOS DE LA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362800" y="605628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9080" y="6132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6840" y="3886200"/>
            <a:ext cx="73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cc"/>
                </a:solidFill>
                <a:latin typeface="Arial"/>
              </a:rPr>
              <a:t>AL   ENTE  DE  CONTR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BFA-5CA5-44DC-A132-ED3F60628B41}" type="slidenum">
              <a:t>16</a:t>
            </a:fld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90400" y="380880"/>
            <a:ext cx="2544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880" y="914400"/>
            <a:ext cx="818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ORMULARIO DEL ENTE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ICITUD DEL PEDIDO DE AUT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FORMACIÓN CO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ISTROS POR LOS QUE SE SOLICITA HABIL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 DE LOS LI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LAN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 FRENTE A LAS RESOLUCIONES IGJ 9/98 - 3/03 - 7/03 – 1362/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TIFICACIONES CON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5800" y="915840"/>
            <a:ext cx="8299440" cy="487692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62800" y="60339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7DF-B6B2-4DEA-BA47-BCD87A55297B}" type="slidenum">
              <a:t>17</a:t>
            </a:fld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43200" y="685800"/>
            <a:ext cx="727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1. FORMULARIO DEL ENTE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22120" y="283536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ormulario Nº 9 IG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ancelado de acuerdo a trámite Normal o U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791-354E-43F8-A5E6-18192AC0B011}" type="slidenum">
              <a:t>18</a:t>
            </a:fld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9080" y="457200"/>
            <a:ext cx="816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2. SOLICITUD DEL PEDIDO DE AUTO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85960" y="1219320"/>
          <a:ext cx="7385040" cy="4626000"/>
        </p:xfrm>
        <a:graphic>
          <a:graphicData uri="http://schemas.openxmlformats.org/drawingml/2006/table">
            <a:tbl>
              <a:tblPr/>
              <a:tblGrid>
                <a:gridCol w="421920"/>
                <a:gridCol w="6118920"/>
                <a:gridCol w="844200"/>
              </a:tblGrid>
              <a:tr h="25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 de Órgano de Administr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e Social. Efectiv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os técnic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consulta, lectura e impres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 de información por parte de organismos de control o de terce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s tecnológic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omiso de conservar el libro Inventarios y Balances cumpliendo normas legales vig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el sistema de archivo de los registros, por los que se solicita autoriz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a del Representante Legal o Apoderado – Acreditación de personer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5FA-020B-4C05-A76B-C28DFC377118}" type="slidenum">
              <a:t>19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Expositores: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Dr. Jorge Sanchez Pastor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Dra. Gladis R. Giménez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Dr. Eduardo A. Podestá</a:t>
            </a: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oordinador: 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Dr. Mario Jorge Lascala</a:t>
            </a:r>
            <a:br>
              <a:rPr sz="3400"/>
            </a:b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9CD-A1C5-412C-8395-09AC560A687A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96440" y="457200"/>
            <a:ext cx="74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3. SISTEMA DE INFORMACIÓN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3280" y="1600200"/>
          <a:ext cx="7761240" cy="4398840"/>
        </p:xfrm>
        <a:graphic>
          <a:graphicData uri="http://schemas.openxmlformats.org/drawingml/2006/table">
            <a:tbl>
              <a:tblPr/>
              <a:tblGrid>
                <a:gridCol w="422280"/>
                <a:gridCol w="611964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ña instituci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sistema de inform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quema del circuito cont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stración técnica del grado de inalterabil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aforma tecnológ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informática / Accesos / Back-up / Plan de continge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 de la documentación respaldator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tas de Confiabil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y periodicidad de numeración de los regis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8D1-C3F9-401C-A2E1-792E0929D52A}" type="slidenum">
              <a:t>20</a:t>
            </a:fld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89600" y="457200"/>
            <a:ext cx="75524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4. REGISTROS POR LOS QUE SE SOL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HABIL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73280" y="2728800"/>
          <a:ext cx="7626240" cy="153828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s y Registros actualmente en 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os y Registros que siguen en 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inación con la que se solicita habilitación, de los registros que se reemplaza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8C4-F6E4-42BB-9FA1-BFEBE638A220}" type="slidenum">
              <a:t>21</a:t>
            </a:fld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0240" y="457200"/>
            <a:ext cx="5443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5. MODELO DE LOS LI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73280" y="2728800"/>
          <a:ext cx="7626240" cy="115596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blanco – Por dupli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if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de Individualización de los List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79B-A39E-4890-8F08-8E93D8B4D119}" type="slidenum">
              <a:t>22</a:t>
            </a:fld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73280" y="2805120"/>
          <a:ext cx="7626240" cy="118584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 de Cuen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lle de referencias frecuentes del sist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28200" y="457200"/>
            <a:ext cx="3944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6. 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45080" y="54756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82-2-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886-4DF6-407F-827C-6C91F16CE777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41800" y="457200"/>
            <a:ext cx="6250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7. SISTEMA DE ALMAC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73280" y="1343160"/>
          <a:ext cx="7626240" cy="4524120"/>
        </p:xfrm>
        <a:graphic>
          <a:graphicData uri="http://schemas.openxmlformats.org/drawingml/2006/table">
            <a:tbl>
              <a:tblPr/>
              <a:tblGrid>
                <a:gridCol w="422280"/>
                <a:gridCol w="6119640"/>
                <a:gridCol w="1084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ación del medio de Almacena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eza y calidad del soporte a utilizar para el almacenamiento de los regist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2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internos a implementar en la operatoria de almacenamien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as de Segur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adern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lterabilidad de los registros – Función HAS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as de Reg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-6/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ización del encuadern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e archivo actual y su diferencia con el propues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BA8-52BA-4055-81D2-6138098D908E}" type="slidenum">
              <a:t>24</a:t>
            </a:fld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0160" y="457200"/>
            <a:ext cx="8142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8. SITUACIÓN FRENTE A LAS RE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IGJ 9/98 – 3/03 – 7/03 – 1362/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6DA-6BDE-4C69-B032-B981F28C9601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773280" y="3200400"/>
          <a:ext cx="7626240" cy="395280"/>
        </p:xfrm>
        <a:graphic>
          <a:graphicData uri="http://schemas.openxmlformats.org/drawingml/2006/table">
            <a:tbl>
              <a:tblPr/>
              <a:tblGrid>
                <a:gridCol w="421920"/>
                <a:gridCol w="6119640"/>
                <a:gridCol w="1084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limiento del pago de las Ta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708120" y="457200"/>
            <a:ext cx="1778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9. TA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C3E-5C7D-437B-87CE-686F9A5A1C82}" type="slidenum">
              <a:t>26</a:t>
            </a:fld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8560" y="457200"/>
            <a:ext cx="6330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10. CERTIFICACIONE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73280" y="1752480"/>
          <a:ext cx="7989840" cy="1795680"/>
        </p:xfrm>
        <a:graphic>
          <a:graphicData uri="http://schemas.openxmlformats.org/drawingml/2006/table">
            <a:tbl>
              <a:tblPr/>
              <a:tblGrid>
                <a:gridCol w="422280"/>
                <a:gridCol w="6119640"/>
                <a:gridCol w="1447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actual de los registros y libros rubric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2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especial sobre autorización de medios de registración (Dictámen precalificatori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e técnico exigido por el Art. 61, Ley 195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362800" y="6046920"/>
            <a:ext cx="289080" cy="31248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480"/>
              <a:gd name="textAreaBottom" fmla="*/ 293760 h 31248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4667"/>
                </a:moveTo>
                <a:lnTo>
                  <a:pt x="17806" y="11673"/>
                </a:lnTo>
                <a:lnTo>
                  <a:pt x="3794" y="1868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9040" y="45370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5720" y="3606840"/>
            <a:ext cx="79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QUISITOS OBLIGATORIOS DEL TRÁMITE PRECAL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140360"/>
            <a:ext cx="73850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9.2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xpedirse sobre el estado de vigencia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ifestar la disolución de pleno derecho, de acuerdo al Contrato Social o la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mprobación de otras caus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ifestar si existen Actas que contemplen la Convocatoria a disolu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cuadramiento frente al Art. 299 de LS, indicando inc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9.3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go de ta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9.4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egalización de la firma del Profes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61600" y="2514600"/>
            <a:ext cx="2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1960" y="3809880"/>
            <a:ext cx="28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103-0851-4C70-9FAD-40E256517C31}" type="slidenum">
              <a:t>27</a:t>
            </a:fld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dades post-autor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DA7-C157-4AFD-B0E8-9354F70260A2}" type="slidenum">
              <a:t>28</a:t>
            </a:fld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RMAS TRANSIT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6. Inc. 6....” las sociedades que ya posean autorización deberán adecuar las mismas al Título II del Libro IV a partir del ejercicio inmediato siguiente a la vigencia de Res. 7/2005 (21-2-06)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rán evaluar si es menester hacer presentaciones para adecuarse a dichas nor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F39-FC21-4F48-9EAC-CE75A05482EC}" type="slidenum">
              <a:t>29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 FUNDAMENTOS LEG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DIGO DE COMERCIO Art. 43 – 44 – 5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Y DE SOCIEDADES COMERCIALES Art. 6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SOLUCION GENERAL IGJ 7/05 ART.280- 28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DF1-4CE3-4D2B-84F8-9D40BFC04D75}" type="slidenum">
              <a:t>3</a:t>
            </a:fld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ción en el Libro Inventarios y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forma integra  de la autorización otorgada  y l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entación que la sustento en forma integra de acuerdo al art. 61 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FF4-E769-4A8B-A316-2F9B3595F088}" type="slidenum">
              <a:t>30</a:t>
            </a:fld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IBRO IV : Título  II-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RT. 284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VEZ LOGRADA LA AUTORIZACION  DE LOS REGISTROS por ordenadores, medios mecánicos, magnéticos u otros (ART.61 L.S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DISCONTINUARSE EL USO DE LOS REGISTROS QUE SE SUSTITUY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845-D68B-4E25-94F1-F4BE93689CD1}" type="slidenum">
              <a:t>31</a:t>
            </a:fld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BE ACREDITARSE ANTE LA IGJ dentro de los 10 días siguientes (en caso de libros manuales) medi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PIA CERTIFICAD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 foja donde conste la NOTA respectiva suscripta por e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PRESENTANTE LEGAL Y EL SINDICO, o ACTA NOTARIAL efectuada a pedido de é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ondrá NOTA en el sistema informático(IGJ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onden los Directores y Síndicos, por la infracción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98F-AEBA-497A-85FB-76DC701630AF}" type="slidenum">
              <a:t>32</a:t>
            </a:fld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19320"/>
            <a:ext cx="784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obligación de efectuar el cierre es recomendable realizarla aún tratándose de medios de almacenamiento del ART. 61 L.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ante nota en el libro Inventarios y Balances, indicando nombre del registro, fecha y último folio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549-0D98-4CD2-A9BC-3DF46A440AFE}" type="slidenum">
              <a:t>33</a:t>
            </a:fld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ojas Móvi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t. 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adernación cada 500 hojas o cierre de ejerc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primera págin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mbre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nominación del regis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úmero de la primera y última pá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Firma representante legal y sín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AFF-FC19-4C90-9F60-D665EA8D239C}" type="slidenum">
              <a:t>34</a:t>
            </a:fld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43200" y="1371600"/>
            <a:ext cx="3987720" cy="431964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1960" y="2811600"/>
            <a:ext cx="1328760" cy="143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38680" y="1676520"/>
            <a:ext cx="17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5160" y="2171880"/>
            <a:ext cx="252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RIGINAL O COPIA N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7560" y="4352760"/>
            <a:ext cx="2630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RCHIVO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OLI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I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2000" y="312408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s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tiqueta N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55800" y="327672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º INT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endshow"/>
          </p:cNvPr>
          <p:cNvSpPr/>
          <p:nvPr/>
        </p:nvSpPr>
        <p:spPr>
          <a:xfrm>
            <a:off x="8256600" y="6048360"/>
            <a:ext cx="395280" cy="303120"/>
          </a:xfrm>
          <a:custGeom>
            <a:avLst/>
            <a:gdLst>
              <a:gd name="textAreaLeft" fmla="*/ 19440 w 395280"/>
              <a:gd name="textAreaRight" fmla="*/ 375840 w 395280"/>
              <a:gd name="textAreaTop" fmla="*/ 19440 h 303120"/>
              <a:gd name="textAreaBottom" fmla="*/ 283680 h 303120"/>
            </a:gdLst>
            <a:ahLst/>
            <a:rect l="textAreaLeft" t="textAreaTop" r="textAreaRight" b="textAreaBottom"/>
            <a:pathLst>
              <a:path w="28159" h="21600">
                <a:moveTo>
                  <a:pt x="0" y="0"/>
                </a:moveTo>
                <a:lnTo>
                  <a:pt x="28159" y="0"/>
                </a:lnTo>
                <a:lnTo>
                  <a:pt x="28159" y="21600"/>
                </a:lnTo>
                <a:lnTo>
                  <a:pt x="0" y="21600"/>
                </a:lnTo>
                <a:close/>
              </a:path>
              <a:path fill="lightenLess" w="28159" h="21600">
                <a:moveTo>
                  <a:pt x="0" y="0"/>
                </a:moveTo>
                <a:lnTo>
                  <a:pt x="28159" y="0"/>
                </a:lnTo>
                <a:lnTo>
                  <a:pt x="26759" y="1400"/>
                </a:lnTo>
                <a:lnTo>
                  <a:pt x="1400" y="1400"/>
                </a:lnTo>
                <a:close/>
              </a:path>
              <a:path fill="darken" w="28159" h="21600">
                <a:moveTo>
                  <a:pt x="28159" y="0"/>
                </a:moveTo>
                <a:lnTo>
                  <a:pt x="28159" y="21600"/>
                </a:lnTo>
                <a:lnTo>
                  <a:pt x="26759" y="20200"/>
                </a:lnTo>
                <a:lnTo>
                  <a:pt x="26759" y="1400"/>
                </a:lnTo>
                <a:close/>
              </a:path>
              <a:path fill="darkenLess" w="28159" h="21600">
                <a:moveTo>
                  <a:pt x="28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59" y="20200"/>
                </a:lnTo>
                <a:close/>
              </a:path>
              <a:path fill="lighten" w="28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def6f1"/>
                </a:solidFill>
                <a:latin typeface="Times New Roman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 rot="10800000">
            <a:off x="523440" y="6032160"/>
            <a:ext cx="289080" cy="3128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12840"/>
              <a:gd name="textAreaBottom" fmla="*/ 294120 h 312840"/>
            </a:gdLst>
            <a:ahLst/>
            <a:rect l="textAreaLeft" t="textAreaTop" r="textAreaRight" b="textAreaBottom"/>
            <a:pathLst>
              <a:path w="21600" h="23373">
                <a:moveTo>
                  <a:pt x="0" y="0"/>
                </a:moveTo>
                <a:lnTo>
                  <a:pt x="21600" y="0"/>
                </a:lnTo>
                <a:lnTo>
                  <a:pt x="21600" y="23373"/>
                </a:lnTo>
                <a:lnTo>
                  <a:pt x="0" y="23373"/>
                </a:lnTo>
                <a:close/>
              </a:path>
              <a:path fill="lightenLess" w="21600" h="23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3">
                <a:moveTo>
                  <a:pt x="21600" y="0"/>
                </a:moveTo>
                <a:lnTo>
                  <a:pt x="21600" y="23373"/>
                </a:lnTo>
                <a:lnTo>
                  <a:pt x="20200" y="21973"/>
                </a:lnTo>
                <a:lnTo>
                  <a:pt x="20200" y="1400"/>
                </a:lnTo>
                <a:close/>
              </a:path>
              <a:path fill="darkenLess" w="21600" h="23373">
                <a:moveTo>
                  <a:pt x="21600" y="23373"/>
                </a:moveTo>
                <a:lnTo>
                  <a:pt x="0" y="23373"/>
                </a:lnTo>
                <a:lnTo>
                  <a:pt x="1400" y="21973"/>
                </a:lnTo>
                <a:lnTo>
                  <a:pt x="20200" y="21973"/>
                </a:lnTo>
                <a:close/>
              </a:path>
              <a:path fill="lighten" w="21600" h="23373">
                <a:moveTo>
                  <a:pt x="0" y="23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3"/>
                </a:lnTo>
                <a:close/>
              </a:path>
              <a:path fill="darken" w="21600" h="23373">
                <a:moveTo>
                  <a:pt x="3794" y="4680"/>
                </a:moveTo>
                <a:lnTo>
                  <a:pt x="17806" y="11687"/>
                </a:lnTo>
                <a:lnTo>
                  <a:pt x="3794" y="18693"/>
                </a:lnTo>
                <a:close/>
              </a:path>
            </a:pathLst>
          </a:custGeom>
          <a:solidFill>
            <a:srgbClr val="8dc6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0840" y="457200"/>
            <a:ext cx="4653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cc"/>
                </a:solidFill>
                <a:latin typeface="Arial"/>
              </a:rPr>
              <a:t>ETIQUETADO DE CD-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CAF-4449-4423-8B48-22DC52905D40}" type="slidenum">
              <a:t>35</a:t>
            </a:fld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FORMES  PROFESIONALES PERIODIC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 286 inc.7:  INFORME ESPECIAL respecto al sistema de almacenamiento en CD-ROM que se registrará en el Libro de Inventarios y Bal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uada trimestralmente por el  Órgano de fiscalización y firmada por el Representante legal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3EF-CED9-42B1-BD95-48E8D7E45FE5}" type="slidenum">
              <a:t>36</a:t>
            </a:fld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t. 287   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ORME ANUAL DE CONTADOR PU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bre el Sistema de Registración Contable utilizado en el Ejercicio y el AUTOR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ificación otorgada por la IGJ (sin observación) será condición necesaria para que se considere a  la Contabilidad regularmente llevada. Se agregará al Libro de Inventarios y Bal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E76-074D-4921-9D4A-02CED53AC505}" type="slidenum">
              <a:t>37</a:t>
            </a:fld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T. 287  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DE ACTUALIZACION TECNICA cada dos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bre la situación de obsolescencia del sistema utilizado  y un proyecto de las medidas y reemplazos necesarios para su actualización técnic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C46-4581-49BD-BC51-6C3D3D08393C}" type="slidenum">
              <a:t>38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DIGO DE COMERCIO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PITULO III: De lo libros de Comer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t. 4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do comerciante esta obligado a llevar cuenta y razón de sus operaciones y a tener una contabilidad mercantil organizada sobre una base contable uniforme y de la que resulte un cuadro verídico de sus negocios y una justificación clara de todos y cada uno de los actos susceptibles de registracion contable. Las constancias contables deben complementarse con la documentación resp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CBE-077C-4CAE-80F0-497AABB6B97E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762120"/>
            <a:ext cx="74674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rt. 4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os comerciantes, además de los que en forma especial impongan este Código y otras leyes, deben indispensablemente llevar los siguientes libros: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iario  B) Inventarios y Balances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perjuicio de ello el comerciante deberá llevar, los libros registrados y la documentación contable que correspondan a un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decuada integración de un sistema de contabilidad y que le exijan la importancia y naturaleza de sus activ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modo que de la contabilidad y documentación resulten con claridad los actos de su gestión y su situación patrimon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2B4-B1E3-40AF-94B2-9882CF682FC2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T.44    del Cód. de Comerci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Desarrollo didáct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ine como indispensable los libros DIARIO e INVENTARIO Y BALA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deben llevar tambié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Además, los libros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gistrad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ubdiarios necesar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La documentación contable respald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) que correspondan (ambos anteriores) a una adecuada integración de un sistema de contabi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) que le exijan: a)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a importa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b) la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naturaleza de su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) de modo que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 siste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efleje con claridad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los actos de su gestión y situación patrimon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0D36-2F3B-49FB-8E38-436BB634F517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600200"/>
            <a:ext cx="8458200" cy="52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rt. 5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Los libros que sean indispensables conforme las reglas de este Código estarán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ncuadernados y foliados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cuya forma los presentara cada comerciante al Tribunal de Comercio de su domicilio para que se los individualice en la forma que determine el respectivo tribunal superior y se ponga en ellos nota datada y firmada del destino del libro, del nombre de aquel a quien pertenezca y del numero de hojas que conte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15B-6627-499D-ACFA-73404FC75679}" type="slidenum">
              <a:t>7</a:t>
            </a:fld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Y DE SOCIEDADES COMERCIALE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CION VIII: De la Administración y Represent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6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da designación o cesación de administradores debe ser inscripta en los registros correspondientes e incorporada al respectivo legajo de la sociedad. También debe publicarse cuando se tratare de Sociedad de Responsabilidad Limitada o Sociedades por Acciones. La falta de inscripción hará aplicable el Art. 12, sin las excepciones que el mismo prevé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t. 12: “Las modificaciones no inscriptas regularmente obligan a los socios otorgantes. Son inoponibles a los terceros; no obstante estos pueden alegarlas contra la sociedad y los socios, salvo en las S.A y S.R.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095-28A9-44AF-914A-7F27EC3FA101}" type="slidenum">
              <a:t>8</a:t>
            </a:fld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EY DE SOCIEDADES COMERCIALE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CCION IX: De la Documentación y de la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523880"/>
            <a:ext cx="81532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6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drá prescindirse del cumplimiento de las formalidades impuestas por el Art. 53 del Código de Comercio para llevar los libros en la medida que la autoridad de control o el Registro Publico de Comercio autoricen la sustitución de los mismos por ordenadores medio mecánicos o magnéticos u otros salvo el de Inventarios y Bal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etición deberá incluir una adecuada descripción del sistema, con dictamen técnico o antecedente de su utilización, la que, una vez autorizada, deberá transcribirse en el libro de Inventarios y Bala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Los pedidos de autorización se consideraran automáticamente aprobados dentro de los treinta días de efectuados, si no media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bservación previa o rechazo fund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El libro Diario podrá ser llevado con asientos globales que no comprendan periodos mayores de un 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istema de contabilización debe permitir la individualización de las operaciones, las correspondientes cuentas deudoras y acreedora y su posterior verificación, con arreglo al Art. 43 del Código de Comer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97B4-5A9A-459F-AD97-71B552E55B4E}" type="slidenum">
              <a:t>9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1:20:53Z</dcterms:created>
  <dc:creator>D</dc:creator>
  <dc:description/>
  <dc:language>en-US</dc:language>
  <cp:lastModifiedBy>C.P.C.E.C.A.B.A.</cp:lastModifiedBy>
  <cp:lastPrinted>2005-09-12T09:46:00Z</cp:lastPrinted>
  <dcterms:modified xsi:type="dcterms:W3CDTF">2006-10-09T15:34:34Z</dcterms:modified>
  <cp:revision>86</cp:revision>
  <dc:subject/>
  <dc:title>REGISTROS CONTABLES EN SOPORTES NO TRADICIONALES</dc:title>
</cp:coreProperties>
</file>