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405d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40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fc0128"/>
                </a:gs>
                <a:gs pos="50000">
                  <a:srgbClr val="fc98a8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5680" y="6487920"/>
            <a:ext cx="225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8352000" y="64879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1F69-6542-41EB-8D55-7F546B0E123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"/>
              </a:rPr>
              <a:t>Art. 6 Ley 25.994 (I)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791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 trabajadores que durante el transcurso del año 2004, cumplan la edad requerida para acceder a la PBU, tendrán derecho a inscribirse en la moratoria aprobada por la ley 25.865  en las condiciones dispuestas hasta el 31 de julio del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mismo, todos aquellos trabajadores que, a partir del 1° de enero de 2004, tengan la edad requerida para acceder a la PBU 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e encuentren inscriptos en la moratoria por la ley 25.865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odrán solicitar y acceder a las prestaciones previsionales a las que tengan dere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1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405d"/>
                </a:solidFill>
                <a:latin typeface="Arial"/>
              </a:rPr>
              <a:t>Decreto 1454-05. Condición de regularidad para RTI y PxFAA</a:t>
            </a:r>
            <a:endParaRPr b="0" lang="en-US" sz="32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91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 podrá acceder si completa los 30 años de servicios con aportes, 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15 años de servicios con aportes, si el afiliado hubiera acreditado 12 meses de aportes dentro de los últimos 60 (como autónomo pago dentro del mes de vto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fallecimiento, debe acreditarse la afiliación antes del fall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405d"/>
                </a:solidFill>
                <a:latin typeface="Arial"/>
              </a:rPr>
              <a:t>Decreto 1451-2006</a:t>
            </a:r>
            <a:endParaRPr b="0" lang="en-US" sz="4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7040" y="129492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rorrogó la vigencia de la Ley Nº 25.994, hasta el 30 de abril de 2007 inclu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yó a la ANSES para que, de acuerdo a su capacidad operativa y financiera, establezca los mecanismos necesarios para priorizar el acceso al beneficio previsional, dentro de lo establecido en el art. 6º de la Ley Nº 25.994 y la Ley Nº 24.476,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 aquellas personas que no se encuentren percibien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ualquier tipo de planes sociales, pensiones graciables o no contributivas, jubilación, pensión o retiro civil o militar, ya sean nacionales, provinciales o municipales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15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405d"/>
                </a:solidFill>
                <a:latin typeface="Arial"/>
              </a:rPr>
              <a:t>Resolución 884-06 ANSES (25-10-06)</a:t>
            </a:r>
            <a:endParaRPr b="0" lang="en-US" sz="32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9903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 trabajadores que se inscriban en la moratoria del art. 6º de la Ley Nº 25.994, y los trabajadores que tengan la edad requerida para acceder a la PBU de la ley 24.241, que se inscriban en el régimen de regularización la Ley Nº 24.476, cuando se encuentren percibiendo cualquier tipo de planes sociales, pensiones graciables o no contributivas, jubilación, pensión o retiro civil, militar o policial, ya sean nacionales, provinciales o municipales,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ólo adquirirán derecho al cobro del beneficio previsional a partir de la cancelación total de la deuda recono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5405d"/>
                </a:solidFill>
                <a:latin typeface="Arial"/>
              </a:rPr>
              <a:t>Ley 25.865 (Art.6 25.994) y 24.476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25.8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uda a 12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sta 60 cuo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isitito de edad para acceder a la P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ce el 15-01-2007 (prorrogada hasta el 30-04-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que tienen otro beneficio, sólo acceden a la prestación con la cancelación total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29280" y="1981080"/>
            <a:ext cx="381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24.4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uda a 09-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sta 60 cuo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iene limite de 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iene vencimiento (es perman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que tienen otro beneficio, sólo acceden a la prestación con la cancelación total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7677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405d"/>
                </a:solidFill>
                <a:latin typeface="Arial"/>
              </a:rPr>
              <a:t>Moratorias 25.865, 25.994 y 24.476 acceso al beneficio con descuento de las cuotas</a:t>
            </a:r>
            <a:endParaRPr b="0" lang="en-US" sz="32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791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 abonar la primer cuota (la que perfecciona el acogimi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n abonar todas las cuotas que venzan hasta el inicio del tram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 abonar la cuota con Vto. 22-06-06, no importa en que estado se encuentre el expediente (en pago, en trámite, en inic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677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5405d"/>
                </a:solidFill>
                <a:latin typeface="Arial"/>
              </a:rPr>
              <a:t>Moratorias 25.865, 25.994 y 24.476 acceso al beneficio con descuento de las cuotas</a:t>
            </a:r>
            <a:endParaRPr b="0" lang="en-US" sz="3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791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partir del mes de Julio-06 Anses actuará como agente de retención de las cuotas que venzan a partir de dicho 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los afiliados al Régimen de Capitalización la retención será desde 08-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endrá del retroactivo las cuotas que vencieron desde el inicio hasta el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endrá del mensual, desde el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tención podrá superar el 20% del haber (no se puede “estirar” más las cuot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es retendrá si la cuota es igual o inferior a $360. Si supera, el afiliado deberá abonarla directamente en AF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639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Dentro de los trabajadores que cumplieron la edad ANTES del 01-01-05, hay</a:t>
            </a:r>
            <a:r>
              <a:rPr b="0" lang="es-ES" sz="28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- Quienes no se acogieron a la moratoria de la Ley 25.865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acogerse hasta el 15-01-2007, con la cantidad de cuotas e intereses al 26-07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pagar la deuda en cuotas o al contado (hasta 60 cuo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solicitar el beneficio previ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639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Dentro de los trabajadores que cumplieron la edad ANTES del 01-01-05, hay</a:t>
            </a:r>
            <a:r>
              <a:rPr b="0" lang="es-ES" sz="28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7914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- Quienes se acogieron a la moratoria de la Ley 25.865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dían reformular el plan de 20 a 60 cuo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incluir nueva deuda en el plan reformul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zo para reformular: 31-07-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empre que se haya acogido a la moratoria y/o haberla recalculado, pueden solicitar el beneficio previ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 (II)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791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mismo, todos aquellos trabajadores que, a partir del 1° de enero de 2004, tengan la edad requerida para acceder a la Prestación Básica Universal de la Ley 24.241 y se encuentren inscriptos en la moratoria por la Ley 25.865, podrán solicitar y acceder a las prestaciones previsionales a las que tengan der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Dentro de los trabajadores que cumplen con la edad a partir del 1° de enero de 2004 en adelante, hay:</a:t>
            </a:r>
            <a:endParaRPr b="0" lang="en-US" sz="32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635120"/>
            <a:ext cx="76694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enes se acogieron al plan antes del 19-01-2005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drán acceder a las prestaciones previsionales cuando cumplan la e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odrán reformular (la moratoria ya había venci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inúan pagando las cuotas, hasta la solicitud del benef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enes no se acogieron al 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ueden acogerse a la mo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cumplan la edad no pueden pedir el beneficio, salvo que paguen la deuda al contado por el régimen general o que puedan completar servicios por el plan de la Ley 24.4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 (III)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791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percepción del beneficio previsional por parte de los trabajadores mencionados en los párrafos precedentes se encuentra sujeta al estricto cumplimiento del pago de las cuotas de la deuda reconoc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 (IV)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drán solicitar y acceder a las prestaciones previsionales a las que tengan dere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BU, PC, PAP y 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tación por Edad Avanz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Pensión por fallecimiento (Cir.GP 16/0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Retiro por Invalidez (Cir.GP 16/0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 (V)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tación por Edad Avan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 10 años de servicios con aportes computables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 5 años dentro de los últimos 8 inmediatos anteriores al c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bos, SÍ se podrán completar a través de los servicios declarados y regularizados por la moratoria del Art.6 de la Ley 25.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antigüedad de la afiliación de 5 años con aportes regulares no se considerará cumplida si se regularizan con la morat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antigüedad en la afiliación sólo se prueba con afiliación contempor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1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405d"/>
                </a:solidFill>
                <a:latin typeface="Arial"/>
              </a:rPr>
              <a:t>Ley 24.476 – Reglamentada por Decreto 1454-05 y RG 2017-06 AFIP</a:t>
            </a:r>
            <a:endParaRPr b="0" lang="en-US" sz="32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791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lan es de carácter perman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olida deuda al 30-09-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xiste requisito de edad para poder acogerse 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otas de la moratoria se descontaran directamente del haber previsional (código de descuento de Ans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plica para obtener las prestaciones de Jubilación, Prestación por Edad Avanzada, Retiro por Invalidez y Pensión por Fall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19:03:56Z</dcterms:created>
  <dc:creator>RC//</dc:creator>
  <dc:description/>
  <dc:language>en-US</dc:language>
  <cp:lastModifiedBy>C.P.C.E.C.A.B.A.</cp:lastModifiedBy>
  <cp:lastPrinted>2003-08-04T16:42:40Z</cp:lastPrinted>
  <dcterms:modified xsi:type="dcterms:W3CDTF">2006-11-08T16:08:40Z</dcterms:modified>
  <cp:revision>90</cp:revision>
  <dc:subject/>
  <dc:title>INCORPORACIÓN OBLIGATORIA AL S.I.J.P. Art. 2 ley 24.241</dc:title>
</cp:coreProperties>
</file>