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077840"/>
            <a:ext cx="9144000" cy="537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11720"/>
            <a:ext cx="42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6cc"/>
                </a:solidFill>
                <a:latin typeface="Garamond"/>
              </a:rPr>
              <a:t>Noviembr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33520" y="2467080"/>
            <a:ext cx="510552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Garamond"/>
              </a:rPr>
              <a:t>S.I.C.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cc"/>
                </a:solidFill>
                <a:latin typeface="Garamond"/>
              </a:rPr>
              <a:t>Sistema de información para contribuyentes Autónomos y Monotribut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6765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31720" y="162072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cc"/>
                </a:solidFill>
                <a:latin typeface="Garamond"/>
              </a:rPr>
              <a:t>AF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380880" y="2819520"/>
            <a:ext cx="510516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cc"/>
                </a:solidFill>
                <a:latin typeface="Garamond"/>
              </a:rPr>
              <a:t>Plan de Regularización de Deudas para Autónomos y Monotribut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6765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531720" y="162072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cc"/>
                </a:solidFill>
                <a:latin typeface="Garamond"/>
              </a:rPr>
              <a:t>S.I.C.A.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9720" y="5300640"/>
            <a:ext cx="3365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Garamond"/>
              </a:rPr>
              <a:t>Noviembr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00560" y="3068640"/>
            <a:ext cx="19195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y 25.8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y 25.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y 24.4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400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26920" y="4941720"/>
            <a:ext cx="1533600" cy="219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91160" cy="5264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1990800" cy="164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2104920" cy="857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80920" y="1125360"/>
            <a:ext cx="7382160" cy="525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000520" cy="1676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525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90800" cy="1666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64000" y="4581360"/>
            <a:ext cx="1114200" cy="6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29680" cy="525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4257720"/>
            <a:ext cx="4915080" cy="260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0000" y="5467320"/>
            <a:ext cx="1752480" cy="139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635960" cy="511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000160" cy="165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71560" y="1125360"/>
            <a:ext cx="7400880" cy="525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019600" cy="1666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80920" y="1125360"/>
            <a:ext cx="73821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76240" y="1125360"/>
            <a:ext cx="7391520" cy="525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8144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92360" y="4653000"/>
            <a:ext cx="5914800" cy="260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72440" cy="529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80920" y="1125360"/>
            <a:ext cx="73821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6880" y="1125360"/>
            <a:ext cx="7410240" cy="525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71720" cy="165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610400" cy="5276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561440" cy="277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756144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838080" cy="20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63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24000" y="5445000"/>
            <a:ext cx="2524320" cy="14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0160" cy="525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821040" cy="28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70400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144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996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6236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40360" y="1773360"/>
            <a:ext cx="2085840" cy="64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72440" cy="538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2085840" cy="6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76240" y="1125360"/>
            <a:ext cx="7391520" cy="525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196236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68880" y="5734080"/>
            <a:ext cx="109548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5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1962000" cy="82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25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1971720" cy="83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952640" cy="80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129440" cy="525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03280" y="6134040"/>
            <a:ext cx="6172200" cy="723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79 E">
                                      <p:cBhvr>
                                        <p:cTn id="64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9:01:57Z</dcterms:created>
  <dc:creator>garciap</dc:creator>
  <dc:description/>
  <dc:language>en-US</dc:language>
  <cp:lastModifiedBy>C.P.C.E.C.A.B.A.</cp:lastModifiedBy>
  <dcterms:modified xsi:type="dcterms:W3CDTF">2006-11-08T16:09:12Z</dcterms:modified>
  <cp:revision>23</cp:revision>
  <dc:subject/>
  <dc:title>Diapositiva 1</dc:title>
</cp:coreProperties>
</file>