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F72E-363E-4F24-B25B-2C8898AC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35C4-A11B-4B62-AB85-8C37773F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B04A-66D8-4C9B-A360-80C65E2C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52E-B977-431B-93B8-B6025BA8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939D-2BE8-41C4-99F4-522DE0DE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294E-AC94-4D03-BA9B-2BF34FDD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148C-C710-46FC-BC97-1288CB27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C238-C1EF-4B09-BDC0-891E3670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332A-48C6-4293-9CD4-79B85273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3EEF-BAE5-40D1-962F-E7810488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A0F9-7429-4940-9ABA-EFC35875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495-E49C-4BA9-96F9-13CB3899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DAE9-89D3-48FD-A4DA-9D1D0C72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84EF-A774-48FC-8984-F76DAB7C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72CF-2F44-4276-9611-1D4EB4A8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1CDC-267E-4B51-AC1D-CC554289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938A-276F-45A0-B077-81D32532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E14F-BBD1-4669-8EDE-8210B2FD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EFA2-5A6B-4BC8-BBFA-CB74D6F6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C034-000A-412F-9541-1D8F3C2B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3DA-1D65-44C6-A349-73793E03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72B4-C424-4564-B74E-B79BA36D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DEC2-AD6C-4A95-8A8C-2DDD720B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37FB-1285-4EB8-927F-85AB86D4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D619-9CCC-4E42-BC6E-015FE749912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3BCC-A13C-406E-9EF2-AC659448B2F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7336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cc66"/>
                </a:solidFill>
                <a:latin typeface="Arial"/>
              </a:rPr>
              <a:t>TRATAMIENTO IMPOSITIVO DE LAS DONACIONES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48000" y="2343240"/>
            <a:ext cx="7369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66688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RATAMIENTO EN EL IMPUESTO AL VALOR AGREGAD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637000"/>
            <a:ext cx="77724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TUACIÓN DEL DONAN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TUACIÓN DE LA ENTIDAD DONATAR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VALUACIÓN DE LOS BIENES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A EL DONAN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ONA FÍS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RE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A LA DONATAR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ALGUNAS CONSIDERACIONES ADICIONAL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MUEB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Escritura Púb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Títulos observ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 Ratificación por A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) Valor de ingreso al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lución IGJ 7/2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ALGUNAS CONSIDERACIONES ADICIONAL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ENES NO REGISTR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lhajas, Obras de arte, Ropa, Comida,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ITUCIÓN DE USUFRUCTOS Y COMODATOS / SEGUROS DE V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ACIONES CON CAR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ANÁLISIS DE LA RG 1815 Régimen de Información de Donacion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Procedimientos a observar por donantes y donatari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Empleador como informant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No obligatoriedad de informar ciertas donaciones periódicas o eventua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Carácter de las donaciones a ser informadas por las donataria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8000" y="1268280"/>
            <a:ext cx="2232000" cy="14400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EB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FORM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S DONA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ALIZA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RT.37 -18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40000" y="404640"/>
            <a:ext cx="287964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LOS EMPLEADO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ONACIONES X CTA 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RDEN DE S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MPLEADO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40000" y="1341360"/>
            <a:ext cx="287964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PERS.FISIC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SCRIPTAS EN GC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OR DONACIONES HECHAS 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L EJERCICIO-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2276640"/>
            <a:ext cx="2879640" cy="936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LAS SUCESIONES INDIVIS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OR LAS DONAC. REALIZAD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N EL EJERCIC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3213000"/>
            <a:ext cx="287964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LAS ENTIDADES JURIDIC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OR LAS DONAC. REALIZAD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N EL EJERCIC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OR SU CUENTA Y ORD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95640" y="5661000"/>
            <a:ext cx="287964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LAS ENTIDADES RELIGIOS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LAS ASOC Y FUNDAC CUY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BJETO PPAL ENCUAD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N EL ARTIC. 81 INC. C) L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 GCIA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920" y="5302080"/>
            <a:ext cx="2232000" cy="14400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EB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FORM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AS DONA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CIB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RT.37 -181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404640"/>
            <a:ext cx="324000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PLICATIV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ONACIONES EN DINERO Y ESPECI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MPLEADORES –VERS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.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19640" y="1844640"/>
            <a:ext cx="331308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ANANCIAS PERS FIS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ERSION 7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19640" y="3213000"/>
            <a:ext cx="331308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ANANCIAS SOCIE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ERSION 6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3440" y="4292640"/>
            <a:ext cx="3095640" cy="144000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Arial Black"/>
              </a:rPr>
              <a:t>EN LAS SOC DE PERS.ART. 49 INC.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Arial Black"/>
              </a:rPr>
              <a:t>QUE NO CONFEC.BAL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Arial Black"/>
              </a:rPr>
              <a:t>LAS INFORMACION LA PRESEN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Arial Black"/>
              </a:rPr>
              <a:t>EL SOCIO PART. MAYORITA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Arial Black"/>
              </a:rPr>
              <a:t>A IGUAL PARTICIPACION EL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Arial Black"/>
              </a:rPr>
              <a:t>CUIT MENOR</a:t>
            </a:r>
            <a:r>
              <a:rPr b="0" lang="en-US" sz="12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5877000"/>
            <a:ext cx="3313080" cy="936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Arial Black"/>
              </a:rPr>
              <a:t>SE DEBE REMITIR MEDIANTE TRANSFERENC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Arial Black"/>
              </a:rPr>
              <a:t>ELECTRONICA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Arial Black"/>
              </a:rPr>
              <a:t>SE DEBE POSEER “CLAVE FISCAL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41480" y="1434960"/>
            <a:ext cx="30258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CUANDO NO SE DE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CUMPLIMENTAR EL REGIM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DE INFORM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549360"/>
            <a:ext cx="30258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DONACIONES PERIOD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POR DONANTE EN U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PERIODO NO SUP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$ 12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2349360"/>
            <a:ext cx="30258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 Black"/>
              </a:rPr>
              <a:t>POR DONACIONES EVENTUALES &lt; $ 6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 Black"/>
              </a:rPr>
              <a:t>POR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 Black"/>
              </a:rPr>
              <a:t>DONAN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 Black"/>
              </a:rPr>
              <a:t>PERIODO FISC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 Black"/>
              </a:rPr>
              <a:t>POR INSTITUC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82920" y="3882960"/>
            <a:ext cx="30258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SI EN UN PERIODO FIS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UN DONANT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DONA MAS $ 24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DEBE INFORM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8360" y="5178600"/>
            <a:ext cx="338328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EN CASO DE LOS EMPLEDO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POR LAS DONACIONES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SUS EMPLEADOS QUE HAC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DEPOSITOS MENSU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5157720"/>
            <a:ext cx="280836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DEBEN SIEMP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PRESENT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LA DD.JJ INFORMATI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843280" y="115920"/>
            <a:ext cx="295272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DON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REALIZADA POR 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EMPLEADOR X CTA Y ORD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DEL EMPLE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060640"/>
            <a:ext cx="17272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EL EMPLEA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DE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1773360"/>
            <a:ext cx="381636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EFECTUAR DEPOSITOS INDIVIDU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POR CADA EMPLE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27280" y="2421000"/>
            <a:ext cx="381636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ENTREGAR AL EMPL. FOTOC. DE 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 Black"/>
              </a:rPr>
              <a:t>B.DE DEP. CERTIF. POR DONATAR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 Black"/>
              </a:rPr>
              <a:t>DENTRO DE LOS 10 DIAS DE DEPOSI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43640" y="2494080"/>
            <a:ext cx="17272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 Black"/>
              </a:rPr>
              <a:t>APELLIDO Y NOMB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 Black"/>
              </a:rPr>
              <a:t>DOMICILIO FISC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 Black"/>
              </a:rPr>
              <a:t>CUI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573360"/>
            <a:ext cx="381636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 Black"/>
              </a:rPr>
              <a:t>SE PODRA REALIZAR UN DEPOSI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 Black"/>
              </a:rPr>
              <a:t>GLOBAL MENSUAL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ARA CADA DONATAR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4221000"/>
            <a:ext cx="3816360" cy="648000"/>
          </a:xfrm>
          <a:prstGeom prst="rect">
            <a:avLst/>
          </a:prstGeom>
          <a:solidFill>
            <a:srgbClr val="00ff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 ACUERO A LO AUTORIZADO POR C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MPLEADO Y SIEMPRE QUE SE ENCUENT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DUCIDO EN EL RECIBO DE SUEL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56000" y="4869000"/>
            <a:ext cx="381636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 Black"/>
              </a:rPr>
              <a:t>EL EMPLEADOR DEBERA ENTREG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 Black"/>
              </a:rPr>
              <a:t>COMPROBANTE  DENTRO DE LOS 1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 Black"/>
              </a:rPr>
              <a:t>DE DEPOSITO-DE LAS DONAC EFECTUAD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72360" y="3573360"/>
            <a:ext cx="172692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 Black"/>
              </a:rPr>
              <a:t>SE DEBERA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 Black"/>
              </a:rPr>
              <a:t>INFORMAR A LA AFI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 Black"/>
              </a:rPr>
              <a:t>POR MULTINO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5516640"/>
            <a:ext cx="381636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 Black"/>
              </a:rPr>
              <a:t>SI NO ENTREGA COMPROB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 Black"/>
              </a:rPr>
              <a:t>EMPLEADO DEBE DENUNCIAR  A LA AFI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 Black"/>
              </a:rPr>
              <a:t>POR MEDIO DE MULTINO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INFORMACIÓN DE LAS DONACIONES EFECTUDA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DONANT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Ganancias Personas Físicas – Versión 7.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61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OBTENCION DE DONACIONES</a:t>
            </a:r>
            <a:br>
              <a:rPr sz="4000"/>
            </a:b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TIPOS DE APORT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PORTES DINERA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PORTES NO DINERA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TRABAJO </a:t>
            </a: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(Servici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IENES  </a:t>
            </a: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(Muebles, Inmuebles, Otr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ERECHOS </a:t>
            </a: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(Usufructo, Comodato, Otr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351640" cy="554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7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57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57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INFORMACIÓN DE LAS DONACIONES RECIBIDA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ENTIDAD DONATARI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Ganancias Personas Jurídicas – Versión 7.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20160" cy="60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63240" cy="609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8760" cy="609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INFORMACIÓN DE LAS DONACIONES EFECTUADAS Y RECIBIDA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MPLEADOR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Donaciones Empleadores – Versión 1.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TIDADES RELIGIOS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Donaciones en dinero y en especie-Donantes y Donatarios – Versión 1.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595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STINO DE LOS BIENES  RECIBID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PARA SU DISTRIBUCIÓN GRATUITA</a:t>
            </a: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PARA SU PROPIA UTILIZ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PARA SU VEN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63240" cy="60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09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91560" cy="609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09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595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DOCUMENTACIÓN RESPALDATORI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olución General 141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tilización de Recibos y/o Factur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naciones por tarjeta de crédito y débito automático bancar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66"/>
                </a:solidFill>
                <a:latin typeface="Arial"/>
              </a:rPr>
              <a:t>SITUACIÓN FISCAL EN NUESTRO PAÍ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TRATAMIENTO EN EL IMPUESTO A LAS GANANCI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SITUACIÓN EN EL IMPUESTO AL VALOR AGREG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VALUACIÓN DE LOS BIENES (S/BIENES PERSONALES O GANANCIA MÍNIMA PRESUN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RATAMIENTO EN EL IMPUESTO A LAS GANANCIA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NTIDADES DEBEN ESTAR RECONOCIDAS COMO EX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NCUADRE DE SU OBJETO PRINCIP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OPE DEL 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REQUISITOS PARA EL RECONOCIMIENTO EXENTIVO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(descripción NO taxativa)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TIDAD DE BIEN COMÚ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ITUÍDA JURÍDICAMENTE COMO ASOC. CIVIL O FUND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 GANANCIAS Y EL PATRIMONIO SOCIAL SE DEBEN DESTINAR A LOS FINES DE SU CREACIÓN Y EN NINGÚN CASO DISTRIBUIRSE, DIRECTA O INDIRECTAMENTE ENTRE LOS SO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DACTAR LA CLÁUSULA DE DISOLUCIÓN ADECUADA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REQUISITOS PARA EL RECONOCIMIENTO EXENTIVO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(descripción NO taxativa)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S RECURSOS NO PUEDEN OBTENERSE DE LA EXPLOTACIÓN DE ESPECTÁCULOS PÚBLICOS, JUEGOS DE AZAR, CARRERAS DE CABAL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 CIERTOS CASOS NO PUEDEN REALIZAR ACTIVIDADES COMERCIALES Y/O INDUSTR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PUEDEN ABONAR HONORARIOS A LOS MIEMBROS DIRECTIVOS, EJECUTIVOS Y DE CONTRALOR POR ENCIMA DE CIERTA SUMA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siempre que no esté expresamente prohibido por  normas que regulan su constitución y funcionamiento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REQUISITOS PARA EL RECONOCIMIENTO EXENTIVO</a:t>
            </a:r>
            <a:br>
              <a:rPr sz="40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(descripción NO taxativa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LIGACIÓN DE SOLICITAR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CRIBIRSE Y OBTENER LA CU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BE ACREDITARSE LA EXISTENCIA Y VERACIDAD DEL DOMICILIO FISCAL DENUNCI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REQUISITOS PARA EL RECONOCIMIENTO EXENTIVO</a:t>
            </a:r>
            <a:br>
              <a:rPr sz="40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(descripción NO taxativa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LIGACIONES DE RETE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LIGACIONES DE INFORM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MPLIR CON PAUTAS VINCULADAS CON LA DOCUMENTACIÓN RESPALDATO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ETAR EL PRINCIPIO DE LA REALIDAD ECONÓM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00:14:23Z</dcterms:created>
  <dc:creator>PEDRO</dc:creator>
  <dc:description/>
  <dc:language>en-US</dc:language>
  <cp:lastModifiedBy>C.P.C.E.C.A.B.A.</cp:lastModifiedBy>
  <dcterms:modified xsi:type="dcterms:W3CDTF">2006-10-12T18:25:29Z</dcterms:modified>
  <cp:revision>147</cp:revision>
  <dc:subject/>
  <dc:title>ADMINISTRACION DE ASOCIACIONES CIVILES Y FUNDACIONES</dc:title>
</cp:coreProperties>
</file>