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814D-BB23-4AED-B450-42B660CCBF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A26-4D80-4F1C-B85B-502F5348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260-AB7C-4120-B85C-22E209A9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1FF-1AEE-44A2-944E-32ECAE1C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B90-5BBB-4A49-B0A7-988FD307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E97-D797-4EB0-84FA-D4CCDC59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CBD-9A41-4914-9759-4C5DFE15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EBC-7204-4D7D-B483-C8F442F9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38E-75F7-4868-B710-DE8618D9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6A0-4B52-4C6F-B380-120B8598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237-0BE9-445B-B655-6960D05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626-4053-4F29-B7D8-0EE864B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650-3E1A-4362-9F02-8F1D678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387-64A5-4B3A-847D-973EC7DCC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93920" y="5589720"/>
            <a:ext cx="2818080" cy="60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9960" y="189000"/>
            <a:ext cx="64962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Trebuchet MS"/>
              </a:rPr>
              <a:t>9 de 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Trebuchet MS"/>
              </a:rPr>
              <a:t>Consejo Profesional de Ciencia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Trebuchet MS"/>
              </a:rPr>
              <a:t>de la Ciudad Autónoma de Buenos 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99"/>
                </a:solidFill>
                <a:latin typeface="Trebuchet MS"/>
              </a:rPr>
              <a:t>"Experiencias 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99"/>
                </a:solidFill>
                <a:latin typeface="Trebuchet MS"/>
              </a:rPr>
              <a:t>exitosas en Gestión de Talento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99"/>
                </a:solidFill>
                <a:latin typeface="Trebuchet MS"/>
              </a:rPr>
              <a:t>Ing. Paula Ma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99"/>
                </a:solidFill>
                <a:latin typeface="Trebuchet MS"/>
              </a:rPr>
              <a:t>Directora Ejecu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 gente  capacitándose en el  trabajo, repensando las  cosas  que  hacen diariamente, pensando  en  como  mejorarla, debatiendo   con sus jefes , compañeros  , los miembros de su equipo los conceptos  que sustentan y proyectan la  mej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los trabajadores  del conocimiento  con información de  alta  calidad  accesible en tiempo y forma, sin espacio  ni tiempo  como lí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56908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 a  estos trabajadores expandiendo esta  forma de hacer  cosas  al resto de la  comunidad, en las organizaciones a las que pertenec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cooperadoras de escuelas, a  clubes de barrios , a  ONGs, a  los políticos de sus  pueblos, al resto de las  empresas, cambiar sin atadur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 estos Trabajadores  liderar  una   gesta  cívica, desde  el interior, desde lo  rural , transformando las creencias de los pueblos, liberándolos de los miedos, generando el progre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849636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el procesamiento de materias primas en Argentina y la disminución de los  costos de logística en el maíz, el sorgo, el trigo  y la s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a  productores de limones, de poroto, de  pimiento, de azúcar, de vino, integrados  en la  cadena de  valor , formando  redes, innovando en  lo tecnológico  y  en lo organizacional, integrados a las cadenas globales de alim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generación de  inversión  y empleo en el i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바탕"/>
              </a:rPr>
              <a:t>Vemos aceite  transformado en biodiesel y a  las  harinas transformadas  en carnes de pollo, de cerdo, en carne vacuna y  de pes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바탕"/>
              </a:rPr>
              <a:t>Vemos los  campos  semiáridos  convertidos  en campos  petroleros por  la  producción de ricino o  tárt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-36360" y="25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90560" y="6152040"/>
            <a:ext cx="831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Elaboración propia en base a "Livestock and poultry: world markets and trade".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USDA-FAS. 3/2004. (p) preliminar. (e) estim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308240" y="1782720"/>
            <a:ext cx="723744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71560" y="5587920"/>
            <a:ext cx="25560" cy="54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82800" y="5578560"/>
            <a:ext cx="25200" cy="63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94040" y="5492880"/>
            <a:ext cx="25200" cy="149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04920" y="5483160"/>
            <a:ext cx="25560" cy="158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16160" y="5478480"/>
            <a:ext cx="25560" cy="16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328840" y="5457960"/>
            <a:ext cx="23760" cy="183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40080" y="5435640"/>
            <a:ext cx="23760" cy="206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50960" y="5430960"/>
            <a:ext cx="24120" cy="210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662200" y="5408640"/>
            <a:ext cx="25560" cy="233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773440" y="5389560"/>
            <a:ext cx="25200" cy="252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84320" y="5373720"/>
            <a:ext cx="25560" cy="268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995560" y="5349960"/>
            <a:ext cx="25560" cy="291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08240" y="5315040"/>
            <a:ext cx="23760" cy="326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19480" y="5291280"/>
            <a:ext cx="23760" cy="3506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30720" y="5257800"/>
            <a:ext cx="23760" cy="384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441600" y="5226120"/>
            <a:ext cx="25560" cy="415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52840" y="5199120"/>
            <a:ext cx="25560" cy="442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64080" y="5168880"/>
            <a:ext cx="25200" cy="473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774960" y="5135400"/>
            <a:ext cx="25560" cy="506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87640" y="5126040"/>
            <a:ext cx="24120" cy="515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998880" y="5106960"/>
            <a:ext cx="23760" cy="534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110120" y="5076720"/>
            <a:ext cx="23760" cy="565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221000" y="5057640"/>
            <a:ext cx="25560" cy="584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332240" y="4967280"/>
            <a:ext cx="25560" cy="6746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443480" y="4984920"/>
            <a:ext cx="25200" cy="657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554360" y="4925880"/>
            <a:ext cx="25560" cy="716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667400" y="4873680"/>
            <a:ext cx="23760" cy="768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778280" y="4815000"/>
            <a:ext cx="23760" cy="826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889520" y="4772160"/>
            <a:ext cx="23760" cy="869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000760" y="4741920"/>
            <a:ext cx="25200" cy="900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11640" y="4680000"/>
            <a:ext cx="25560" cy="961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22880" y="4557600"/>
            <a:ext cx="25560" cy="10843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334120" y="4468680"/>
            <a:ext cx="25200" cy="1173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446800" y="4451400"/>
            <a:ext cx="23760" cy="1190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557680" y="4403880"/>
            <a:ext cx="24120" cy="1238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668920" y="4330800"/>
            <a:ext cx="23760" cy="131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780160" y="4260960"/>
            <a:ext cx="25200" cy="1380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891040" y="4216320"/>
            <a:ext cx="25560" cy="1425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002280" y="4165560"/>
            <a:ext cx="25560" cy="1476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13520" y="4156200"/>
            <a:ext cx="25200" cy="14857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226200" y="4108320"/>
            <a:ext cx="23760" cy="1533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351080" y="5162400"/>
            <a:ext cx="25200" cy="479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461960" y="5153040"/>
            <a:ext cx="25560" cy="488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73200" y="5132520"/>
            <a:ext cx="25560" cy="509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84440" y="5121360"/>
            <a:ext cx="25200" cy="520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797120" y="5133960"/>
            <a:ext cx="23760" cy="507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908000" y="5110200"/>
            <a:ext cx="24120" cy="5317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019240" y="5100480"/>
            <a:ext cx="23760" cy="541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130480" y="5072040"/>
            <a:ext cx="25200" cy="569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241720" y="5060880"/>
            <a:ext cx="25200" cy="581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352600" y="5062680"/>
            <a:ext cx="25560" cy="579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463840" y="5027760"/>
            <a:ext cx="25200" cy="614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575080" y="4973760"/>
            <a:ext cx="25200" cy="668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87760" y="4925880"/>
            <a:ext cx="23760" cy="716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98640" y="4896000"/>
            <a:ext cx="23760" cy="745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909880" y="4844880"/>
            <a:ext cx="25560" cy="797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021120" y="4692600"/>
            <a:ext cx="25200" cy="9493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132000" y="4730760"/>
            <a:ext cx="25560" cy="911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243240" y="4684680"/>
            <a:ext cx="25560" cy="957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354480" y="4619520"/>
            <a:ext cx="25200" cy="1022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467160" y="4508640"/>
            <a:ext cx="23760" cy="1133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578400" y="4443480"/>
            <a:ext cx="23760" cy="1198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689280" y="4444920"/>
            <a:ext cx="25560" cy="1197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800520" y="4438800"/>
            <a:ext cx="25200" cy="1203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911760" y="4384800"/>
            <a:ext cx="25200" cy="1257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022640" y="4349880"/>
            <a:ext cx="25560" cy="1292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133880" y="4280040"/>
            <a:ext cx="25200" cy="1361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46560" y="4229280"/>
            <a:ext cx="23760" cy="14126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357800" y="4181400"/>
            <a:ext cx="23760" cy="1460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68680" y="4162320"/>
            <a:ext cx="24120" cy="1479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79920" y="4132440"/>
            <a:ext cx="25560" cy="15094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691160" y="4092480"/>
            <a:ext cx="25200" cy="1549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802040" y="4024440"/>
            <a:ext cx="25560" cy="16174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913280" y="3973680"/>
            <a:ext cx="25560" cy="1668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025960" y="3763800"/>
            <a:ext cx="23760" cy="1878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137200" y="3695760"/>
            <a:ext cx="23760" cy="1946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248440" y="3573360"/>
            <a:ext cx="23760" cy="2068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359320" y="3705120"/>
            <a:ext cx="25560" cy="1936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470560" y="3602160"/>
            <a:ext cx="25200" cy="2039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581800" y="3457440"/>
            <a:ext cx="25200" cy="21844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692680" y="3395520"/>
            <a:ext cx="25560" cy="22464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805360" y="3398760"/>
            <a:ext cx="24120" cy="22431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916600" y="3349800"/>
            <a:ext cx="23760" cy="2292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027840" y="3271680"/>
            <a:ext cx="23760" cy="2370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138720" y="3216240"/>
            <a:ext cx="25560" cy="2425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249960" y="3184560"/>
            <a:ext cx="25560" cy="2457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376280" y="4992840"/>
            <a:ext cx="23760" cy="6490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87520" y="4967280"/>
            <a:ext cx="23760" cy="6746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598760" y="4935600"/>
            <a:ext cx="23760" cy="7063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709640" y="4898880"/>
            <a:ext cx="25560" cy="743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20880" y="4921200"/>
            <a:ext cx="25560" cy="7207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932120" y="4869000"/>
            <a:ext cx="25200" cy="772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043000" y="4824360"/>
            <a:ext cx="25560" cy="81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155680" y="4780080"/>
            <a:ext cx="24120" cy="861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66920" y="4740120"/>
            <a:ext cx="23760" cy="901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378160" y="4707000"/>
            <a:ext cx="23760" cy="934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89040" y="4697280"/>
            <a:ext cx="25560" cy="9446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600280" y="4702320"/>
            <a:ext cx="25560" cy="939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711520" y="4680000"/>
            <a:ext cx="25200" cy="961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822400" y="4656240"/>
            <a:ext cx="25560" cy="985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935440" y="4587840"/>
            <a:ext cx="23760" cy="10540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046320" y="4495680"/>
            <a:ext cx="23760" cy="1146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57560" y="4441680"/>
            <a:ext cx="23760" cy="1200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268800" y="4435560"/>
            <a:ext cx="25200" cy="1206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79680" y="4441680"/>
            <a:ext cx="25560" cy="1200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490920" y="4491000"/>
            <a:ext cx="25560" cy="1150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602160" y="4459320"/>
            <a:ext cx="25200" cy="1182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714840" y="4451400"/>
            <a:ext cx="23760" cy="1190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825720" y="4448160"/>
            <a:ext cx="24120" cy="1193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36960" y="4444920"/>
            <a:ext cx="23760" cy="1197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048200" y="4414680"/>
            <a:ext cx="25200" cy="1227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159080" y="4387680"/>
            <a:ext cx="25560" cy="1254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270320" y="4332240"/>
            <a:ext cx="25560" cy="13096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381560" y="4300560"/>
            <a:ext cx="25200" cy="1341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492800" y="4280040"/>
            <a:ext cx="25200" cy="1361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05480" y="4257720"/>
            <a:ext cx="23760" cy="1384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716360" y="4226040"/>
            <a:ext cx="23760" cy="14158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827600" y="4233960"/>
            <a:ext cx="25560" cy="1407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938840" y="4259160"/>
            <a:ext cx="25200" cy="13827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049720" y="4322880"/>
            <a:ext cx="25560" cy="1319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160960" y="4314960"/>
            <a:ext cx="25560" cy="13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272200" y="4303800"/>
            <a:ext cx="25200" cy="1338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84880" y="4330800"/>
            <a:ext cx="23760" cy="131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495760" y="4284720"/>
            <a:ext cx="24120" cy="135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607000" y="4292640"/>
            <a:ext cx="23760" cy="1349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718240" y="4273560"/>
            <a:ext cx="25200" cy="136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829480" y="4260960"/>
            <a:ext cx="25200" cy="1380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940360" y="4292640"/>
            <a:ext cx="25560" cy="13492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51600" y="4237200"/>
            <a:ext cx="25200" cy="14047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164280" y="4272120"/>
            <a:ext cx="23760" cy="1369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275520" y="4260960"/>
            <a:ext cx="23760" cy="13809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308240" y="1782720"/>
            <a:ext cx="1440" cy="385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273320" y="56419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73320" y="50911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273320" y="45403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73320" y="39877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273320" y="34369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73320" y="28843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273320" y="23335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273320" y="17827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308240" y="564192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3082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4191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5303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16430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17542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18651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197640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0876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1985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3097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42244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336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264492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275580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28670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9782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0891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320184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331308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42432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353520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64644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37576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8685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97980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409248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20372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43149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442584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45370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464832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475920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487188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49831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50943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520524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531648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542772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5389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6516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57625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58737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98500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609588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620712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3183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4310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65419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66531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676440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68756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9865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70977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72104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73216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74325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754380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76550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776592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787716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798984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81010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821196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8323200" y="564156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843444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8545680" y="564156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365120" y="2249640"/>
            <a:ext cx="7126560" cy="2928960"/>
          </a:xfrm>
          <a:custGeom>
            <a:avLst/>
            <a:gdLst/>
            <a:ahLst/>
            <a:rect l="l" t="t" r="r" b="b"/>
            <a:pathLst>
              <a:path w="5184" h="2255">
                <a:moveTo>
                  <a:pt x="0" y="2255"/>
                </a:moveTo>
                <a:lnTo>
                  <a:pt x="4" y="2255"/>
                </a:lnTo>
                <a:lnTo>
                  <a:pt x="8" y="2254"/>
                </a:lnTo>
                <a:lnTo>
                  <a:pt x="13" y="2254"/>
                </a:lnTo>
                <a:lnTo>
                  <a:pt x="17" y="2254"/>
                </a:lnTo>
                <a:lnTo>
                  <a:pt x="21" y="2253"/>
                </a:lnTo>
                <a:lnTo>
                  <a:pt x="26" y="2253"/>
                </a:lnTo>
                <a:lnTo>
                  <a:pt x="30" y="2253"/>
                </a:lnTo>
                <a:lnTo>
                  <a:pt x="34" y="2252"/>
                </a:lnTo>
                <a:lnTo>
                  <a:pt x="39" y="2252"/>
                </a:lnTo>
                <a:lnTo>
                  <a:pt x="43" y="2252"/>
                </a:lnTo>
                <a:lnTo>
                  <a:pt x="47" y="2251"/>
                </a:lnTo>
                <a:lnTo>
                  <a:pt x="52" y="2251"/>
                </a:lnTo>
                <a:lnTo>
                  <a:pt x="56" y="2251"/>
                </a:lnTo>
                <a:lnTo>
                  <a:pt x="60" y="2250"/>
                </a:lnTo>
                <a:lnTo>
                  <a:pt x="65" y="2250"/>
                </a:lnTo>
                <a:lnTo>
                  <a:pt x="69" y="2249"/>
                </a:lnTo>
                <a:lnTo>
                  <a:pt x="73" y="2249"/>
                </a:lnTo>
                <a:lnTo>
                  <a:pt x="78" y="2249"/>
                </a:lnTo>
                <a:lnTo>
                  <a:pt x="82" y="2248"/>
                </a:lnTo>
                <a:lnTo>
                  <a:pt x="86" y="2248"/>
                </a:lnTo>
                <a:lnTo>
                  <a:pt x="91" y="2247"/>
                </a:lnTo>
                <a:lnTo>
                  <a:pt x="95" y="2247"/>
                </a:lnTo>
                <a:lnTo>
                  <a:pt x="99" y="2246"/>
                </a:lnTo>
                <a:lnTo>
                  <a:pt x="104" y="2246"/>
                </a:lnTo>
                <a:lnTo>
                  <a:pt x="108" y="2246"/>
                </a:lnTo>
                <a:lnTo>
                  <a:pt x="112" y="2245"/>
                </a:lnTo>
                <a:lnTo>
                  <a:pt x="117" y="2245"/>
                </a:lnTo>
                <a:lnTo>
                  <a:pt x="121" y="2244"/>
                </a:lnTo>
                <a:lnTo>
                  <a:pt x="125" y="2244"/>
                </a:lnTo>
                <a:lnTo>
                  <a:pt x="130" y="2243"/>
                </a:lnTo>
                <a:lnTo>
                  <a:pt x="134" y="2243"/>
                </a:lnTo>
                <a:lnTo>
                  <a:pt x="138" y="2242"/>
                </a:lnTo>
                <a:lnTo>
                  <a:pt x="143" y="2242"/>
                </a:lnTo>
                <a:lnTo>
                  <a:pt x="147" y="2241"/>
                </a:lnTo>
                <a:lnTo>
                  <a:pt x="151" y="2241"/>
                </a:lnTo>
                <a:lnTo>
                  <a:pt x="156" y="2240"/>
                </a:lnTo>
                <a:lnTo>
                  <a:pt x="160" y="2240"/>
                </a:lnTo>
                <a:lnTo>
                  <a:pt x="164" y="2239"/>
                </a:lnTo>
                <a:lnTo>
                  <a:pt x="169" y="2239"/>
                </a:lnTo>
                <a:lnTo>
                  <a:pt x="173" y="2238"/>
                </a:lnTo>
                <a:lnTo>
                  <a:pt x="177" y="2237"/>
                </a:lnTo>
                <a:lnTo>
                  <a:pt x="182" y="2237"/>
                </a:lnTo>
                <a:lnTo>
                  <a:pt x="186" y="2236"/>
                </a:lnTo>
                <a:lnTo>
                  <a:pt x="190" y="2236"/>
                </a:lnTo>
                <a:lnTo>
                  <a:pt x="195" y="2235"/>
                </a:lnTo>
                <a:lnTo>
                  <a:pt x="199" y="2235"/>
                </a:lnTo>
                <a:lnTo>
                  <a:pt x="203" y="2234"/>
                </a:lnTo>
                <a:lnTo>
                  <a:pt x="208" y="2233"/>
                </a:lnTo>
                <a:lnTo>
                  <a:pt x="212" y="2233"/>
                </a:lnTo>
                <a:lnTo>
                  <a:pt x="216" y="2232"/>
                </a:lnTo>
                <a:lnTo>
                  <a:pt x="221" y="2232"/>
                </a:lnTo>
                <a:lnTo>
                  <a:pt x="225" y="2231"/>
                </a:lnTo>
                <a:lnTo>
                  <a:pt x="229" y="2230"/>
                </a:lnTo>
                <a:lnTo>
                  <a:pt x="234" y="2230"/>
                </a:lnTo>
                <a:lnTo>
                  <a:pt x="238" y="2229"/>
                </a:lnTo>
                <a:lnTo>
                  <a:pt x="242" y="2228"/>
                </a:lnTo>
                <a:lnTo>
                  <a:pt x="247" y="2228"/>
                </a:lnTo>
                <a:lnTo>
                  <a:pt x="251" y="2227"/>
                </a:lnTo>
                <a:lnTo>
                  <a:pt x="255" y="2226"/>
                </a:lnTo>
                <a:lnTo>
                  <a:pt x="260" y="2226"/>
                </a:lnTo>
                <a:lnTo>
                  <a:pt x="264" y="2225"/>
                </a:lnTo>
                <a:lnTo>
                  <a:pt x="268" y="2224"/>
                </a:lnTo>
                <a:lnTo>
                  <a:pt x="273" y="2224"/>
                </a:lnTo>
                <a:lnTo>
                  <a:pt x="277" y="2223"/>
                </a:lnTo>
                <a:lnTo>
                  <a:pt x="281" y="2222"/>
                </a:lnTo>
                <a:lnTo>
                  <a:pt x="286" y="2222"/>
                </a:lnTo>
                <a:lnTo>
                  <a:pt x="290" y="2221"/>
                </a:lnTo>
                <a:lnTo>
                  <a:pt x="294" y="2220"/>
                </a:lnTo>
                <a:lnTo>
                  <a:pt x="299" y="2219"/>
                </a:lnTo>
                <a:lnTo>
                  <a:pt x="303" y="2219"/>
                </a:lnTo>
                <a:lnTo>
                  <a:pt x="308" y="2218"/>
                </a:lnTo>
                <a:lnTo>
                  <a:pt x="312" y="2217"/>
                </a:lnTo>
                <a:lnTo>
                  <a:pt x="316" y="2217"/>
                </a:lnTo>
                <a:lnTo>
                  <a:pt x="321" y="2216"/>
                </a:lnTo>
                <a:lnTo>
                  <a:pt x="325" y="2215"/>
                </a:lnTo>
                <a:lnTo>
                  <a:pt x="329" y="2214"/>
                </a:lnTo>
                <a:lnTo>
                  <a:pt x="334" y="2214"/>
                </a:lnTo>
                <a:lnTo>
                  <a:pt x="338" y="2213"/>
                </a:lnTo>
                <a:lnTo>
                  <a:pt x="342" y="2212"/>
                </a:lnTo>
                <a:lnTo>
                  <a:pt x="347" y="2211"/>
                </a:lnTo>
                <a:lnTo>
                  <a:pt x="351" y="2210"/>
                </a:lnTo>
                <a:lnTo>
                  <a:pt x="355" y="2210"/>
                </a:lnTo>
                <a:lnTo>
                  <a:pt x="360" y="2209"/>
                </a:lnTo>
                <a:lnTo>
                  <a:pt x="364" y="2208"/>
                </a:lnTo>
                <a:lnTo>
                  <a:pt x="368" y="2207"/>
                </a:lnTo>
                <a:lnTo>
                  <a:pt x="373" y="2206"/>
                </a:lnTo>
                <a:lnTo>
                  <a:pt x="377" y="2206"/>
                </a:lnTo>
                <a:lnTo>
                  <a:pt x="381" y="2205"/>
                </a:lnTo>
                <a:lnTo>
                  <a:pt x="386" y="2204"/>
                </a:lnTo>
                <a:lnTo>
                  <a:pt x="390" y="2203"/>
                </a:lnTo>
                <a:lnTo>
                  <a:pt x="394" y="2202"/>
                </a:lnTo>
                <a:lnTo>
                  <a:pt x="399" y="2201"/>
                </a:lnTo>
                <a:lnTo>
                  <a:pt x="403" y="2200"/>
                </a:lnTo>
                <a:lnTo>
                  <a:pt x="407" y="2200"/>
                </a:lnTo>
                <a:lnTo>
                  <a:pt x="412" y="2199"/>
                </a:lnTo>
                <a:lnTo>
                  <a:pt x="416" y="2198"/>
                </a:lnTo>
                <a:lnTo>
                  <a:pt x="420" y="2197"/>
                </a:lnTo>
                <a:lnTo>
                  <a:pt x="425" y="2196"/>
                </a:lnTo>
                <a:lnTo>
                  <a:pt x="429" y="2195"/>
                </a:lnTo>
                <a:lnTo>
                  <a:pt x="433" y="2194"/>
                </a:lnTo>
                <a:lnTo>
                  <a:pt x="438" y="2193"/>
                </a:lnTo>
                <a:lnTo>
                  <a:pt x="442" y="2192"/>
                </a:lnTo>
                <a:lnTo>
                  <a:pt x="446" y="2192"/>
                </a:lnTo>
                <a:lnTo>
                  <a:pt x="451" y="2191"/>
                </a:lnTo>
                <a:lnTo>
                  <a:pt x="455" y="2190"/>
                </a:lnTo>
                <a:lnTo>
                  <a:pt x="459" y="2189"/>
                </a:lnTo>
                <a:lnTo>
                  <a:pt x="464" y="2188"/>
                </a:lnTo>
                <a:lnTo>
                  <a:pt x="468" y="2187"/>
                </a:lnTo>
                <a:lnTo>
                  <a:pt x="472" y="2186"/>
                </a:lnTo>
                <a:lnTo>
                  <a:pt x="477" y="2185"/>
                </a:lnTo>
                <a:lnTo>
                  <a:pt x="481" y="2184"/>
                </a:lnTo>
                <a:lnTo>
                  <a:pt x="485" y="2183"/>
                </a:lnTo>
                <a:lnTo>
                  <a:pt x="490" y="2182"/>
                </a:lnTo>
                <a:lnTo>
                  <a:pt x="494" y="2181"/>
                </a:lnTo>
                <a:lnTo>
                  <a:pt x="498" y="2180"/>
                </a:lnTo>
                <a:lnTo>
                  <a:pt x="503" y="2179"/>
                </a:lnTo>
                <a:lnTo>
                  <a:pt x="507" y="2178"/>
                </a:lnTo>
                <a:lnTo>
                  <a:pt x="511" y="2177"/>
                </a:lnTo>
                <a:lnTo>
                  <a:pt x="516" y="2176"/>
                </a:lnTo>
                <a:lnTo>
                  <a:pt x="520" y="2175"/>
                </a:lnTo>
                <a:lnTo>
                  <a:pt x="524" y="2174"/>
                </a:lnTo>
                <a:lnTo>
                  <a:pt x="529" y="2173"/>
                </a:lnTo>
                <a:lnTo>
                  <a:pt x="533" y="2172"/>
                </a:lnTo>
                <a:lnTo>
                  <a:pt x="537" y="2171"/>
                </a:lnTo>
                <a:lnTo>
                  <a:pt x="542" y="2170"/>
                </a:lnTo>
                <a:lnTo>
                  <a:pt x="546" y="2169"/>
                </a:lnTo>
                <a:lnTo>
                  <a:pt x="550" y="2168"/>
                </a:lnTo>
                <a:lnTo>
                  <a:pt x="555" y="2167"/>
                </a:lnTo>
                <a:lnTo>
                  <a:pt x="559" y="2166"/>
                </a:lnTo>
                <a:lnTo>
                  <a:pt x="563" y="2165"/>
                </a:lnTo>
                <a:lnTo>
                  <a:pt x="568" y="2164"/>
                </a:lnTo>
                <a:lnTo>
                  <a:pt x="572" y="2163"/>
                </a:lnTo>
                <a:lnTo>
                  <a:pt x="576" y="2161"/>
                </a:lnTo>
                <a:lnTo>
                  <a:pt x="581" y="2160"/>
                </a:lnTo>
                <a:lnTo>
                  <a:pt x="585" y="2159"/>
                </a:lnTo>
                <a:lnTo>
                  <a:pt x="589" y="2158"/>
                </a:lnTo>
                <a:lnTo>
                  <a:pt x="594" y="2157"/>
                </a:lnTo>
                <a:lnTo>
                  <a:pt x="598" y="2156"/>
                </a:lnTo>
                <a:lnTo>
                  <a:pt x="602" y="2155"/>
                </a:lnTo>
                <a:lnTo>
                  <a:pt x="607" y="2154"/>
                </a:lnTo>
                <a:lnTo>
                  <a:pt x="611" y="2153"/>
                </a:lnTo>
                <a:lnTo>
                  <a:pt x="616" y="2152"/>
                </a:lnTo>
                <a:lnTo>
                  <a:pt x="620" y="2150"/>
                </a:lnTo>
                <a:lnTo>
                  <a:pt x="624" y="2149"/>
                </a:lnTo>
                <a:lnTo>
                  <a:pt x="629" y="2148"/>
                </a:lnTo>
                <a:lnTo>
                  <a:pt x="633" y="2147"/>
                </a:lnTo>
                <a:lnTo>
                  <a:pt x="637" y="2146"/>
                </a:lnTo>
                <a:lnTo>
                  <a:pt x="642" y="2145"/>
                </a:lnTo>
                <a:lnTo>
                  <a:pt x="646" y="2144"/>
                </a:lnTo>
                <a:lnTo>
                  <a:pt x="650" y="2142"/>
                </a:lnTo>
                <a:lnTo>
                  <a:pt x="655" y="2141"/>
                </a:lnTo>
                <a:lnTo>
                  <a:pt x="659" y="2140"/>
                </a:lnTo>
                <a:lnTo>
                  <a:pt x="663" y="2139"/>
                </a:lnTo>
                <a:lnTo>
                  <a:pt x="668" y="2138"/>
                </a:lnTo>
                <a:lnTo>
                  <a:pt x="672" y="2136"/>
                </a:lnTo>
                <a:lnTo>
                  <a:pt x="676" y="2135"/>
                </a:lnTo>
                <a:lnTo>
                  <a:pt x="681" y="2134"/>
                </a:lnTo>
                <a:lnTo>
                  <a:pt x="685" y="2133"/>
                </a:lnTo>
                <a:lnTo>
                  <a:pt x="689" y="2132"/>
                </a:lnTo>
                <a:lnTo>
                  <a:pt x="694" y="2130"/>
                </a:lnTo>
                <a:lnTo>
                  <a:pt x="698" y="2129"/>
                </a:lnTo>
                <a:lnTo>
                  <a:pt x="702" y="2128"/>
                </a:lnTo>
                <a:lnTo>
                  <a:pt x="707" y="2127"/>
                </a:lnTo>
                <a:lnTo>
                  <a:pt x="711" y="2125"/>
                </a:lnTo>
                <a:lnTo>
                  <a:pt x="715" y="2124"/>
                </a:lnTo>
                <a:lnTo>
                  <a:pt x="720" y="2123"/>
                </a:lnTo>
                <a:lnTo>
                  <a:pt x="724" y="2122"/>
                </a:lnTo>
                <a:lnTo>
                  <a:pt x="728" y="2120"/>
                </a:lnTo>
                <a:lnTo>
                  <a:pt x="733" y="2119"/>
                </a:lnTo>
                <a:lnTo>
                  <a:pt x="737" y="2118"/>
                </a:lnTo>
                <a:lnTo>
                  <a:pt x="741" y="2117"/>
                </a:lnTo>
                <a:lnTo>
                  <a:pt x="746" y="2115"/>
                </a:lnTo>
                <a:lnTo>
                  <a:pt x="750" y="2114"/>
                </a:lnTo>
                <a:lnTo>
                  <a:pt x="754" y="2113"/>
                </a:lnTo>
                <a:lnTo>
                  <a:pt x="759" y="2112"/>
                </a:lnTo>
                <a:lnTo>
                  <a:pt x="763" y="2110"/>
                </a:lnTo>
                <a:lnTo>
                  <a:pt x="767" y="2109"/>
                </a:lnTo>
                <a:lnTo>
                  <a:pt x="772" y="2108"/>
                </a:lnTo>
                <a:lnTo>
                  <a:pt x="776" y="2106"/>
                </a:lnTo>
                <a:lnTo>
                  <a:pt x="780" y="2105"/>
                </a:lnTo>
                <a:lnTo>
                  <a:pt x="785" y="2104"/>
                </a:lnTo>
                <a:lnTo>
                  <a:pt x="789" y="2102"/>
                </a:lnTo>
                <a:lnTo>
                  <a:pt x="793" y="2101"/>
                </a:lnTo>
                <a:lnTo>
                  <a:pt x="798" y="2100"/>
                </a:lnTo>
                <a:lnTo>
                  <a:pt x="802" y="2098"/>
                </a:lnTo>
                <a:lnTo>
                  <a:pt x="806" y="2097"/>
                </a:lnTo>
                <a:lnTo>
                  <a:pt x="811" y="2096"/>
                </a:lnTo>
                <a:lnTo>
                  <a:pt x="815" y="2094"/>
                </a:lnTo>
                <a:lnTo>
                  <a:pt x="819" y="2093"/>
                </a:lnTo>
                <a:lnTo>
                  <a:pt x="824" y="2092"/>
                </a:lnTo>
                <a:lnTo>
                  <a:pt x="828" y="2090"/>
                </a:lnTo>
                <a:lnTo>
                  <a:pt x="832" y="2089"/>
                </a:lnTo>
                <a:lnTo>
                  <a:pt x="837" y="2087"/>
                </a:lnTo>
                <a:lnTo>
                  <a:pt x="841" y="2086"/>
                </a:lnTo>
                <a:lnTo>
                  <a:pt x="845" y="2085"/>
                </a:lnTo>
                <a:lnTo>
                  <a:pt x="850" y="2083"/>
                </a:lnTo>
                <a:lnTo>
                  <a:pt x="854" y="2082"/>
                </a:lnTo>
                <a:lnTo>
                  <a:pt x="858" y="2080"/>
                </a:lnTo>
                <a:lnTo>
                  <a:pt x="863" y="2079"/>
                </a:lnTo>
                <a:lnTo>
                  <a:pt x="867" y="2078"/>
                </a:lnTo>
                <a:lnTo>
                  <a:pt x="871" y="2076"/>
                </a:lnTo>
                <a:lnTo>
                  <a:pt x="876" y="2075"/>
                </a:lnTo>
                <a:lnTo>
                  <a:pt x="880" y="2073"/>
                </a:lnTo>
                <a:lnTo>
                  <a:pt x="884" y="2072"/>
                </a:lnTo>
                <a:lnTo>
                  <a:pt x="889" y="2071"/>
                </a:lnTo>
                <a:lnTo>
                  <a:pt x="893" y="2069"/>
                </a:lnTo>
                <a:lnTo>
                  <a:pt x="897" y="2068"/>
                </a:lnTo>
                <a:lnTo>
                  <a:pt x="902" y="2066"/>
                </a:lnTo>
                <a:lnTo>
                  <a:pt x="906" y="2065"/>
                </a:lnTo>
                <a:lnTo>
                  <a:pt x="910" y="2063"/>
                </a:lnTo>
                <a:lnTo>
                  <a:pt x="915" y="2062"/>
                </a:lnTo>
                <a:lnTo>
                  <a:pt x="919" y="2060"/>
                </a:lnTo>
                <a:lnTo>
                  <a:pt x="924" y="2059"/>
                </a:lnTo>
                <a:lnTo>
                  <a:pt x="928" y="2057"/>
                </a:lnTo>
                <a:lnTo>
                  <a:pt x="932" y="2056"/>
                </a:lnTo>
                <a:lnTo>
                  <a:pt x="937" y="2054"/>
                </a:lnTo>
                <a:lnTo>
                  <a:pt x="941" y="2053"/>
                </a:lnTo>
                <a:lnTo>
                  <a:pt x="945" y="2051"/>
                </a:lnTo>
                <a:lnTo>
                  <a:pt x="950" y="2050"/>
                </a:lnTo>
                <a:lnTo>
                  <a:pt x="954" y="2048"/>
                </a:lnTo>
                <a:lnTo>
                  <a:pt x="958" y="2047"/>
                </a:lnTo>
                <a:lnTo>
                  <a:pt x="963" y="2045"/>
                </a:lnTo>
                <a:lnTo>
                  <a:pt x="967" y="2044"/>
                </a:lnTo>
                <a:lnTo>
                  <a:pt x="971" y="2042"/>
                </a:lnTo>
                <a:lnTo>
                  <a:pt x="976" y="2041"/>
                </a:lnTo>
                <a:lnTo>
                  <a:pt x="980" y="2039"/>
                </a:lnTo>
                <a:lnTo>
                  <a:pt x="984" y="2038"/>
                </a:lnTo>
                <a:lnTo>
                  <a:pt x="989" y="2036"/>
                </a:lnTo>
                <a:lnTo>
                  <a:pt x="993" y="2035"/>
                </a:lnTo>
                <a:lnTo>
                  <a:pt x="997" y="2033"/>
                </a:lnTo>
                <a:lnTo>
                  <a:pt x="1002" y="2032"/>
                </a:lnTo>
                <a:lnTo>
                  <a:pt x="1006" y="2030"/>
                </a:lnTo>
                <a:lnTo>
                  <a:pt x="1010" y="2029"/>
                </a:lnTo>
                <a:lnTo>
                  <a:pt x="1015" y="2027"/>
                </a:lnTo>
                <a:lnTo>
                  <a:pt x="1019" y="2025"/>
                </a:lnTo>
                <a:lnTo>
                  <a:pt x="1023" y="2024"/>
                </a:lnTo>
                <a:lnTo>
                  <a:pt x="1028" y="2022"/>
                </a:lnTo>
                <a:lnTo>
                  <a:pt x="1032" y="2021"/>
                </a:lnTo>
                <a:lnTo>
                  <a:pt x="1036" y="2019"/>
                </a:lnTo>
                <a:lnTo>
                  <a:pt x="1041" y="2018"/>
                </a:lnTo>
                <a:lnTo>
                  <a:pt x="1045" y="2016"/>
                </a:lnTo>
                <a:lnTo>
                  <a:pt x="1049" y="2014"/>
                </a:lnTo>
                <a:lnTo>
                  <a:pt x="1054" y="2013"/>
                </a:lnTo>
                <a:lnTo>
                  <a:pt x="1058" y="2011"/>
                </a:lnTo>
                <a:lnTo>
                  <a:pt x="1062" y="2010"/>
                </a:lnTo>
                <a:lnTo>
                  <a:pt x="1067" y="2008"/>
                </a:lnTo>
                <a:lnTo>
                  <a:pt x="1071" y="2006"/>
                </a:lnTo>
                <a:lnTo>
                  <a:pt x="1075" y="2005"/>
                </a:lnTo>
                <a:lnTo>
                  <a:pt x="1080" y="2003"/>
                </a:lnTo>
                <a:lnTo>
                  <a:pt x="1084" y="2001"/>
                </a:lnTo>
                <a:lnTo>
                  <a:pt x="1088" y="2000"/>
                </a:lnTo>
                <a:lnTo>
                  <a:pt x="1093" y="1998"/>
                </a:lnTo>
                <a:lnTo>
                  <a:pt x="1097" y="1997"/>
                </a:lnTo>
                <a:lnTo>
                  <a:pt x="1101" y="1995"/>
                </a:lnTo>
                <a:lnTo>
                  <a:pt x="1106" y="1993"/>
                </a:lnTo>
                <a:lnTo>
                  <a:pt x="1110" y="1992"/>
                </a:lnTo>
                <a:lnTo>
                  <a:pt x="1114" y="1990"/>
                </a:lnTo>
                <a:lnTo>
                  <a:pt x="1119" y="1988"/>
                </a:lnTo>
                <a:lnTo>
                  <a:pt x="1123" y="1987"/>
                </a:lnTo>
                <a:lnTo>
                  <a:pt x="1127" y="1985"/>
                </a:lnTo>
                <a:lnTo>
                  <a:pt x="1132" y="1983"/>
                </a:lnTo>
                <a:lnTo>
                  <a:pt x="1136" y="1982"/>
                </a:lnTo>
                <a:lnTo>
                  <a:pt x="1140" y="1980"/>
                </a:lnTo>
                <a:lnTo>
                  <a:pt x="1145" y="1978"/>
                </a:lnTo>
                <a:lnTo>
                  <a:pt x="1149" y="1976"/>
                </a:lnTo>
                <a:lnTo>
                  <a:pt x="1153" y="1975"/>
                </a:lnTo>
                <a:lnTo>
                  <a:pt x="1158" y="1973"/>
                </a:lnTo>
                <a:lnTo>
                  <a:pt x="1162" y="1971"/>
                </a:lnTo>
                <a:lnTo>
                  <a:pt x="1166" y="1970"/>
                </a:lnTo>
                <a:lnTo>
                  <a:pt x="1171" y="1968"/>
                </a:lnTo>
                <a:lnTo>
                  <a:pt x="1175" y="1966"/>
                </a:lnTo>
                <a:lnTo>
                  <a:pt x="1179" y="1965"/>
                </a:lnTo>
                <a:lnTo>
                  <a:pt x="1184" y="1963"/>
                </a:lnTo>
                <a:lnTo>
                  <a:pt x="1188" y="1961"/>
                </a:lnTo>
                <a:lnTo>
                  <a:pt x="1192" y="1959"/>
                </a:lnTo>
                <a:lnTo>
                  <a:pt x="1197" y="1958"/>
                </a:lnTo>
                <a:lnTo>
                  <a:pt x="1201" y="1956"/>
                </a:lnTo>
                <a:lnTo>
                  <a:pt x="1205" y="1954"/>
                </a:lnTo>
                <a:lnTo>
                  <a:pt x="1210" y="1952"/>
                </a:lnTo>
                <a:lnTo>
                  <a:pt x="1214" y="1951"/>
                </a:lnTo>
                <a:lnTo>
                  <a:pt x="1218" y="1949"/>
                </a:lnTo>
                <a:lnTo>
                  <a:pt x="1223" y="1947"/>
                </a:lnTo>
                <a:lnTo>
                  <a:pt x="1227" y="1945"/>
                </a:lnTo>
                <a:lnTo>
                  <a:pt x="1232" y="1944"/>
                </a:lnTo>
                <a:lnTo>
                  <a:pt x="1236" y="1942"/>
                </a:lnTo>
                <a:lnTo>
                  <a:pt x="1240" y="1940"/>
                </a:lnTo>
                <a:lnTo>
                  <a:pt x="1245" y="1938"/>
                </a:lnTo>
                <a:lnTo>
                  <a:pt x="1249" y="1937"/>
                </a:lnTo>
                <a:lnTo>
                  <a:pt x="1253" y="1935"/>
                </a:lnTo>
                <a:lnTo>
                  <a:pt x="1258" y="1933"/>
                </a:lnTo>
                <a:lnTo>
                  <a:pt x="1262" y="1931"/>
                </a:lnTo>
                <a:lnTo>
                  <a:pt x="1266" y="1929"/>
                </a:lnTo>
                <a:lnTo>
                  <a:pt x="1271" y="1928"/>
                </a:lnTo>
                <a:lnTo>
                  <a:pt x="1275" y="1926"/>
                </a:lnTo>
                <a:lnTo>
                  <a:pt x="1279" y="1924"/>
                </a:lnTo>
                <a:lnTo>
                  <a:pt x="1284" y="1922"/>
                </a:lnTo>
                <a:lnTo>
                  <a:pt x="1288" y="1920"/>
                </a:lnTo>
                <a:lnTo>
                  <a:pt x="1292" y="1919"/>
                </a:lnTo>
                <a:lnTo>
                  <a:pt x="1297" y="1917"/>
                </a:lnTo>
                <a:lnTo>
                  <a:pt x="1301" y="1915"/>
                </a:lnTo>
                <a:lnTo>
                  <a:pt x="1305" y="1913"/>
                </a:lnTo>
                <a:lnTo>
                  <a:pt x="1310" y="1911"/>
                </a:lnTo>
                <a:lnTo>
                  <a:pt x="1314" y="1909"/>
                </a:lnTo>
                <a:lnTo>
                  <a:pt x="1318" y="1908"/>
                </a:lnTo>
                <a:lnTo>
                  <a:pt x="1323" y="1906"/>
                </a:lnTo>
                <a:lnTo>
                  <a:pt x="1327" y="1904"/>
                </a:lnTo>
                <a:lnTo>
                  <a:pt x="1331" y="1902"/>
                </a:lnTo>
                <a:lnTo>
                  <a:pt x="1336" y="1900"/>
                </a:lnTo>
                <a:lnTo>
                  <a:pt x="1340" y="1898"/>
                </a:lnTo>
                <a:lnTo>
                  <a:pt x="1344" y="1896"/>
                </a:lnTo>
                <a:lnTo>
                  <a:pt x="1349" y="1895"/>
                </a:lnTo>
                <a:lnTo>
                  <a:pt x="1353" y="1893"/>
                </a:lnTo>
                <a:lnTo>
                  <a:pt x="1357" y="1891"/>
                </a:lnTo>
                <a:lnTo>
                  <a:pt x="1362" y="1889"/>
                </a:lnTo>
                <a:lnTo>
                  <a:pt x="1366" y="1887"/>
                </a:lnTo>
                <a:lnTo>
                  <a:pt x="1370" y="1885"/>
                </a:lnTo>
                <a:lnTo>
                  <a:pt x="1375" y="1883"/>
                </a:lnTo>
                <a:lnTo>
                  <a:pt x="1379" y="1881"/>
                </a:lnTo>
                <a:lnTo>
                  <a:pt x="1383" y="1880"/>
                </a:lnTo>
                <a:lnTo>
                  <a:pt x="1388" y="1878"/>
                </a:lnTo>
                <a:lnTo>
                  <a:pt x="1392" y="1876"/>
                </a:lnTo>
                <a:lnTo>
                  <a:pt x="1396" y="1874"/>
                </a:lnTo>
                <a:lnTo>
                  <a:pt x="1401" y="1872"/>
                </a:lnTo>
                <a:lnTo>
                  <a:pt x="1405" y="1870"/>
                </a:lnTo>
                <a:lnTo>
                  <a:pt x="1409" y="1868"/>
                </a:lnTo>
                <a:lnTo>
                  <a:pt x="1414" y="1866"/>
                </a:lnTo>
                <a:lnTo>
                  <a:pt x="1418" y="1864"/>
                </a:lnTo>
                <a:lnTo>
                  <a:pt x="1422" y="1862"/>
                </a:lnTo>
                <a:lnTo>
                  <a:pt x="1427" y="1860"/>
                </a:lnTo>
                <a:lnTo>
                  <a:pt x="1431" y="1859"/>
                </a:lnTo>
                <a:lnTo>
                  <a:pt x="1435" y="1857"/>
                </a:lnTo>
                <a:lnTo>
                  <a:pt x="1440" y="1855"/>
                </a:lnTo>
                <a:lnTo>
                  <a:pt x="1444" y="1853"/>
                </a:lnTo>
                <a:lnTo>
                  <a:pt x="1448" y="1851"/>
                </a:lnTo>
                <a:lnTo>
                  <a:pt x="1453" y="1849"/>
                </a:lnTo>
                <a:lnTo>
                  <a:pt x="1457" y="1847"/>
                </a:lnTo>
                <a:lnTo>
                  <a:pt x="1461" y="1845"/>
                </a:lnTo>
                <a:lnTo>
                  <a:pt x="1466" y="1843"/>
                </a:lnTo>
                <a:lnTo>
                  <a:pt x="1470" y="1841"/>
                </a:lnTo>
                <a:lnTo>
                  <a:pt x="1474" y="1839"/>
                </a:lnTo>
                <a:lnTo>
                  <a:pt x="1479" y="1837"/>
                </a:lnTo>
                <a:lnTo>
                  <a:pt x="1483" y="1835"/>
                </a:lnTo>
                <a:lnTo>
                  <a:pt x="1487" y="1833"/>
                </a:lnTo>
                <a:lnTo>
                  <a:pt x="1492" y="1831"/>
                </a:lnTo>
                <a:lnTo>
                  <a:pt x="1496" y="1829"/>
                </a:lnTo>
                <a:lnTo>
                  <a:pt x="1500" y="1827"/>
                </a:lnTo>
                <a:lnTo>
                  <a:pt x="1505" y="1825"/>
                </a:lnTo>
                <a:lnTo>
                  <a:pt x="1509" y="1823"/>
                </a:lnTo>
                <a:lnTo>
                  <a:pt x="1513" y="1821"/>
                </a:lnTo>
                <a:lnTo>
                  <a:pt x="1518" y="1819"/>
                </a:lnTo>
                <a:lnTo>
                  <a:pt x="1522" y="1817"/>
                </a:lnTo>
                <a:lnTo>
                  <a:pt x="1527" y="1815"/>
                </a:lnTo>
                <a:lnTo>
                  <a:pt x="1531" y="1813"/>
                </a:lnTo>
                <a:lnTo>
                  <a:pt x="1535" y="1811"/>
                </a:lnTo>
                <a:lnTo>
                  <a:pt x="1540" y="1809"/>
                </a:lnTo>
                <a:lnTo>
                  <a:pt x="1544" y="1807"/>
                </a:lnTo>
                <a:lnTo>
                  <a:pt x="1548" y="1805"/>
                </a:lnTo>
                <a:lnTo>
                  <a:pt x="1553" y="1803"/>
                </a:lnTo>
                <a:lnTo>
                  <a:pt x="1557" y="1801"/>
                </a:lnTo>
                <a:lnTo>
                  <a:pt x="1561" y="1799"/>
                </a:lnTo>
                <a:lnTo>
                  <a:pt x="1566" y="1797"/>
                </a:lnTo>
                <a:lnTo>
                  <a:pt x="1570" y="1795"/>
                </a:lnTo>
                <a:lnTo>
                  <a:pt x="1574" y="1793"/>
                </a:lnTo>
                <a:lnTo>
                  <a:pt x="1579" y="1791"/>
                </a:lnTo>
                <a:lnTo>
                  <a:pt x="1583" y="1789"/>
                </a:lnTo>
                <a:lnTo>
                  <a:pt x="1587" y="1787"/>
                </a:lnTo>
                <a:lnTo>
                  <a:pt x="1592" y="1785"/>
                </a:lnTo>
                <a:lnTo>
                  <a:pt x="1596" y="1783"/>
                </a:lnTo>
                <a:lnTo>
                  <a:pt x="1600" y="1781"/>
                </a:lnTo>
                <a:lnTo>
                  <a:pt x="1605" y="1779"/>
                </a:lnTo>
                <a:lnTo>
                  <a:pt x="1609" y="1777"/>
                </a:lnTo>
                <a:lnTo>
                  <a:pt x="1613" y="1775"/>
                </a:lnTo>
                <a:lnTo>
                  <a:pt x="1618" y="1773"/>
                </a:lnTo>
                <a:lnTo>
                  <a:pt x="1622" y="1770"/>
                </a:lnTo>
                <a:lnTo>
                  <a:pt x="1626" y="1768"/>
                </a:lnTo>
                <a:lnTo>
                  <a:pt x="1631" y="1766"/>
                </a:lnTo>
                <a:lnTo>
                  <a:pt x="1635" y="1764"/>
                </a:lnTo>
                <a:lnTo>
                  <a:pt x="1639" y="1762"/>
                </a:lnTo>
                <a:lnTo>
                  <a:pt x="1644" y="1760"/>
                </a:lnTo>
                <a:lnTo>
                  <a:pt x="1648" y="1758"/>
                </a:lnTo>
                <a:lnTo>
                  <a:pt x="1652" y="1756"/>
                </a:lnTo>
                <a:lnTo>
                  <a:pt x="1657" y="1754"/>
                </a:lnTo>
                <a:lnTo>
                  <a:pt x="1661" y="1752"/>
                </a:lnTo>
                <a:lnTo>
                  <a:pt x="1665" y="1750"/>
                </a:lnTo>
                <a:lnTo>
                  <a:pt x="1670" y="1748"/>
                </a:lnTo>
                <a:lnTo>
                  <a:pt x="1674" y="1745"/>
                </a:lnTo>
                <a:lnTo>
                  <a:pt x="1678" y="1743"/>
                </a:lnTo>
                <a:lnTo>
                  <a:pt x="1683" y="1741"/>
                </a:lnTo>
                <a:lnTo>
                  <a:pt x="1687" y="1739"/>
                </a:lnTo>
                <a:lnTo>
                  <a:pt x="1691" y="1737"/>
                </a:lnTo>
                <a:lnTo>
                  <a:pt x="1696" y="1735"/>
                </a:lnTo>
                <a:lnTo>
                  <a:pt x="1700" y="1733"/>
                </a:lnTo>
                <a:lnTo>
                  <a:pt x="1704" y="1731"/>
                </a:lnTo>
                <a:lnTo>
                  <a:pt x="1709" y="1729"/>
                </a:lnTo>
                <a:lnTo>
                  <a:pt x="1713" y="1726"/>
                </a:lnTo>
                <a:lnTo>
                  <a:pt x="1717" y="1724"/>
                </a:lnTo>
                <a:lnTo>
                  <a:pt x="1722" y="1722"/>
                </a:lnTo>
                <a:lnTo>
                  <a:pt x="1726" y="1720"/>
                </a:lnTo>
                <a:lnTo>
                  <a:pt x="1730" y="1718"/>
                </a:lnTo>
                <a:lnTo>
                  <a:pt x="1735" y="1716"/>
                </a:lnTo>
                <a:lnTo>
                  <a:pt x="1739" y="1714"/>
                </a:lnTo>
                <a:lnTo>
                  <a:pt x="1743" y="1712"/>
                </a:lnTo>
                <a:lnTo>
                  <a:pt x="1748" y="1709"/>
                </a:lnTo>
                <a:lnTo>
                  <a:pt x="1752" y="1707"/>
                </a:lnTo>
                <a:lnTo>
                  <a:pt x="1756" y="1705"/>
                </a:lnTo>
                <a:lnTo>
                  <a:pt x="1761" y="1703"/>
                </a:lnTo>
                <a:lnTo>
                  <a:pt x="1765" y="1701"/>
                </a:lnTo>
                <a:lnTo>
                  <a:pt x="1769" y="1699"/>
                </a:lnTo>
                <a:lnTo>
                  <a:pt x="1774" y="1696"/>
                </a:lnTo>
                <a:lnTo>
                  <a:pt x="1778" y="1694"/>
                </a:lnTo>
                <a:lnTo>
                  <a:pt x="1782" y="1692"/>
                </a:lnTo>
                <a:lnTo>
                  <a:pt x="1787" y="1690"/>
                </a:lnTo>
                <a:lnTo>
                  <a:pt x="1791" y="1688"/>
                </a:lnTo>
                <a:lnTo>
                  <a:pt x="1795" y="1686"/>
                </a:lnTo>
                <a:lnTo>
                  <a:pt x="1800" y="1683"/>
                </a:lnTo>
                <a:lnTo>
                  <a:pt x="1804" y="1681"/>
                </a:lnTo>
                <a:lnTo>
                  <a:pt x="1808" y="1679"/>
                </a:lnTo>
                <a:lnTo>
                  <a:pt x="1813" y="1677"/>
                </a:lnTo>
                <a:lnTo>
                  <a:pt x="1817" y="1675"/>
                </a:lnTo>
                <a:lnTo>
                  <a:pt x="1821" y="1672"/>
                </a:lnTo>
                <a:lnTo>
                  <a:pt x="1826" y="1670"/>
                </a:lnTo>
                <a:lnTo>
                  <a:pt x="1830" y="1668"/>
                </a:lnTo>
                <a:lnTo>
                  <a:pt x="1835" y="1666"/>
                </a:lnTo>
                <a:lnTo>
                  <a:pt x="1839" y="1664"/>
                </a:lnTo>
                <a:lnTo>
                  <a:pt x="1843" y="1661"/>
                </a:lnTo>
                <a:lnTo>
                  <a:pt x="1848" y="1659"/>
                </a:lnTo>
                <a:lnTo>
                  <a:pt x="1852" y="1657"/>
                </a:lnTo>
                <a:lnTo>
                  <a:pt x="1856" y="1655"/>
                </a:lnTo>
                <a:lnTo>
                  <a:pt x="1861" y="1653"/>
                </a:lnTo>
                <a:lnTo>
                  <a:pt x="1865" y="1650"/>
                </a:lnTo>
                <a:lnTo>
                  <a:pt x="1869" y="1648"/>
                </a:lnTo>
                <a:lnTo>
                  <a:pt x="1874" y="1646"/>
                </a:lnTo>
                <a:lnTo>
                  <a:pt x="1878" y="1644"/>
                </a:lnTo>
                <a:lnTo>
                  <a:pt x="1882" y="1642"/>
                </a:lnTo>
                <a:lnTo>
                  <a:pt x="1887" y="1639"/>
                </a:lnTo>
                <a:lnTo>
                  <a:pt x="1891" y="1637"/>
                </a:lnTo>
                <a:lnTo>
                  <a:pt x="1895" y="1635"/>
                </a:lnTo>
                <a:lnTo>
                  <a:pt x="1900" y="1633"/>
                </a:lnTo>
                <a:lnTo>
                  <a:pt x="1904" y="1630"/>
                </a:lnTo>
                <a:lnTo>
                  <a:pt x="1908" y="1628"/>
                </a:lnTo>
                <a:lnTo>
                  <a:pt x="1913" y="1626"/>
                </a:lnTo>
                <a:lnTo>
                  <a:pt x="1917" y="1624"/>
                </a:lnTo>
                <a:lnTo>
                  <a:pt x="1921" y="1621"/>
                </a:lnTo>
                <a:lnTo>
                  <a:pt x="1926" y="1619"/>
                </a:lnTo>
                <a:lnTo>
                  <a:pt x="1930" y="1617"/>
                </a:lnTo>
                <a:lnTo>
                  <a:pt x="1934" y="1615"/>
                </a:lnTo>
                <a:lnTo>
                  <a:pt x="1939" y="1612"/>
                </a:lnTo>
                <a:lnTo>
                  <a:pt x="1943" y="1610"/>
                </a:lnTo>
                <a:lnTo>
                  <a:pt x="1947" y="1608"/>
                </a:lnTo>
                <a:lnTo>
                  <a:pt x="1952" y="1606"/>
                </a:lnTo>
                <a:lnTo>
                  <a:pt x="1956" y="1603"/>
                </a:lnTo>
                <a:lnTo>
                  <a:pt x="1960" y="1601"/>
                </a:lnTo>
                <a:lnTo>
                  <a:pt x="1965" y="1599"/>
                </a:lnTo>
                <a:lnTo>
                  <a:pt x="1969" y="1597"/>
                </a:lnTo>
                <a:lnTo>
                  <a:pt x="1973" y="1594"/>
                </a:lnTo>
                <a:lnTo>
                  <a:pt x="1978" y="1592"/>
                </a:lnTo>
                <a:lnTo>
                  <a:pt x="1982" y="1590"/>
                </a:lnTo>
                <a:lnTo>
                  <a:pt x="1986" y="1588"/>
                </a:lnTo>
                <a:lnTo>
                  <a:pt x="1991" y="1585"/>
                </a:lnTo>
                <a:lnTo>
                  <a:pt x="1995" y="1583"/>
                </a:lnTo>
                <a:lnTo>
                  <a:pt x="1999" y="1581"/>
                </a:lnTo>
                <a:lnTo>
                  <a:pt x="2004" y="1578"/>
                </a:lnTo>
                <a:lnTo>
                  <a:pt x="2008" y="1576"/>
                </a:lnTo>
                <a:lnTo>
                  <a:pt x="2012" y="1574"/>
                </a:lnTo>
                <a:lnTo>
                  <a:pt x="2017" y="1572"/>
                </a:lnTo>
                <a:lnTo>
                  <a:pt x="2021" y="1569"/>
                </a:lnTo>
                <a:lnTo>
                  <a:pt x="2025" y="1567"/>
                </a:lnTo>
                <a:lnTo>
                  <a:pt x="2030" y="1565"/>
                </a:lnTo>
                <a:lnTo>
                  <a:pt x="2034" y="1562"/>
                </a:lnTo>
                <a:lnTo>
                  <a:pt x="2038" y="1560"/>
                </a:lnTo>
                <a:lnTo>
                  <a:pt x="2043" y="1558"/>
                </a:lnTo>
                <a:lnTo>
                  <a:pt x="2047" y="1555"/>
                </a:lnTo>
                <a:lnTo>
                  <a:pt x="2051" y="1553"/>
                </a:lnTo>
                <a:lnTo>
                  <a:pt x="2056" y="1551"/>
                </a:lnTo>
                <a:lnTo>
                  <a:pt x="2060" y="1549"/>
                </a:lnTo>
                <a:lnTo>
                  <a:pt x="2064" y="1546"/>
                </a:lnTo>
                <a:lnTo>
                  <a:pt x="2069" y="1544"/>
                </a:lnTo>
                <a:lnTo>
                  <a:pt x="2073" y="1542"/>
                </a:lnTo>
                <a:lnTo>
                  <a:pt x="2077" y="1539"/>
                </a:lnTo>
                <a:lnTo>
                  <a:pt x="2082" y="1537"/>
                </a:lnTo>
                <a:lnTo>
                  <a:pt x="2086" y="1535"/>
                </a:lnTo>
                <a:lnTo>
                  <a:pt x="2090" y="1532"/>
                </a:lnTo>
                <a:lnTo>
                  <a:pt x="2095" y="1530"/>
                </a:lnTo>
                <a:lnTo>
                  <a:pt x="2099" y="1528"/>
                </a:lnTo>
                <a:lnTo>
                  <a:pt x="2103" y="1525"/>
                </a:lnTo>
                <a:lnTo>
                  <a:pt x="2108" y="1523"/>
                </a:lnTo>
                <a:lnTo>
                  <a:pt x="2112" y="1521"/>
                </a:lnTo>
                <a:lnTo>
                  <a:pt x="2116" y="1518"/>
                </a:lnTo>
                <a:lnTo>
                  <a:pt x="2121" y="1516"/>
                </a:lnTo>
                <a:lnTo>
                  <a:pt x="2125" y="1514"/>
                </a:lnTo>
                <a:lnTo>
                  <a:pt x="2129" y="1511"/>
                </a:lnTo>
                <a:lnTo>
                  <a:pt x="2134" y="1509"/>
                </a:lnTo>
                <a:lnTo>
                  <a:pt x="2138" y="1507"/>
                </a:lnTo>
                <a:lnTo>
                  <a:pt x="2143" y="1504"/>
                </a:lnTo>
                <a:lnTo>
                  <a:pt x="2147" y="1502"/>
                </a:lnTo>
                <a:lnTo>
                  <a:pt x="2151" y="1500"/>
                </a:lnTo>
                <a:lnTo>
                  <a:pt x="2156" y="1497"/>
                </a:lnTo>
                <a:lnTo>
                  <a:pt x="2160" y="1495"/>
                </a:lnTo>
                <a:lnTo>
                  <a:pt x="2164" y="1493"/>
                </a:lnTo>
                <a:lnTo>
                  <a:pt x="2169" y="1490"/>
                </a:lnTo>
                <a:lnTo>
                  <a:pt x="2173" y="1488"/>
                </a:lnTo>
                <a:lnTo>
                  <a:pt x="2177" y="1485"/>
                </a:lnTo>
                <a:lnTo>
                  <a:pt x="2182" y="1483"/>
                </a:lnTo>
                <a:lnTo>
                  <a:pt x="2186" y="1481"/>
                </a:lnTo>
                <a:lnTo>
                  <a:pt x="2190" y="1478"/>
                </a:lnTo>
                <a:lnTo>
                  <a:pt x="2195" y="1476"/>
                </a:lnTo>
                <a:lnTo>
                  <a:pt x="2199" y="1474"/>
                </a:lnTo>
                <a:lnTo>
                  <a:pt x="2203" y="1471"/>
                </a:lnTo>
                <a:lnTo>
                  <a:pt x="2208" y="1469"/>
                </a:lnTo>
                <a:lnTo>
                  <a:pt x="2212" y="1467"/>
                </a:lnTo>
                <a:lnTo>
                  <a:pt x="2216" y="1464"/>
                </a:lnTo>
                <a:lnTo>
                  <a:pt x="2221" y="1462"/>
                </a:lnTo>
                <a:lnTo>
                  <a:pt x="2225" y="1459"/>
                </a:lnTo>
                <a:lnTo>
                  <a:pt x="2229" y="1457"/>
                </a:lnTo>
                <a:lnTo>
                  <a:pt x="2234" y="1455"/>
                </a:lnTo>
                <a:lnTo>
                  <a:pt x="2238" y="1452"/>
                </a:lnTo>
                <a:lnTo>
                  <a:pt x="2242" y="1450"/>
                </a:lnTo>
                <a:lnTo>
                  <a:pt x="2247" y="1448"/>
                </a:lnTo>
                <a:lnTo>
                  <a:pt x="2251" y="1445"/>
                </a:lnTo>
                <a:lnTo>
                  <a:pt x="2255" y="1443"/>
                </a:lnTo>
                <a:lnTo>
                  <a:pt x="2260" y="1440"/>
                </a:lnTo>
                <a:lnTo>
                  <a:pt x="2264" y="1438"/>
                </a:lnTo>
                <a:lnTo>
                  <a:pt x="2268" y="1436"/>
                </a:lnTo>
                <a:lnTo>
                  <a:pt x="2273" y="1433"/>
                </a:lnTo>
                <a:lnTo>
                  <a:pt x="2277" y="1431"/>
                </a:lnTo>
                <a:lnTo>
                  <a:pt x="2281" y="1428"/>
                </a:lnTo>
                <a:lnTo>
                  <a:pt x="2286" y="1426"/>
                </a:lnTo>
                <a:lnTo>
                  <a:pt x="2290" y="1424"/>
                </a:lnTo>
                <a:lnTo>
                  <a:pt x="2294" y="1421"/>
                </a:lnTo>
                <a:lnTo>
                  <a:pt x="2299" y="1419"/>
                </a:lnTo>
                <a:lnTo>
                  <a:pt x="2303" y="1416"/>
                </a:lnTo>
                <a:lnTo>
                  <a:pt x="2307" y="1414"/>
                </a:lnTo>
                <a:lnTo>
                  <a:pt x="2312" y="1412"/>
                </a:lnTo>
                <a:lnTo>
                  <a:pt x="2316" y="1409"/>
                </a:lnTo>
                <a:lnTo>
                  <a:pt x="2320" y="1407"/>
                </a:lnTo>
                <a:lnTo>
                  <a:pt x="2325" y="1404"/>
                </a:lnTo>
                <a:lnTo>
                  <a:pt x="2329" y="1402"/>
                </a:lnTo>
                <a:lnTo>
                  <a:pt x="2333" y="1400"/>
                </a:lnTo>
                <a:lnTo>
                  <a:pt x="2338" y="1397"/>
                </a:lnTo>
                <a:lnTo>
                  <a:pt x="2342" y="1395"/>
                </a:lnTo>
                <a:lnTo>
                  <a:pt x="2346" y="1392"/>
                </a:lnTo>
                <a:lnTo>
                  <a:pt x="2351" y="1390"/>
                </a:lnTo>
                <a:lnTo>
                  <a:pt x="2355" y="1387"/>
                </a:lnTo>
                <a:lnTo>
                  <a:pt x="2359" y="1385"/>
                </a:lnTo>
                <a:lnTo>
                  <a:pt x="2364" y="1383"/>
                </a:lnTo>
                <a:lnTo>
                  <a:pt x="2368" y="1380"/>
                </a:lnTo>
                <a:lnTo>
                  <a:pt x="2372" y="1378"/>
                </a:lnTo>
                <a:lnTo>
                  <a:pt x="2377" y="1375"/>
                </a:lnTo>
                <a:lnTo>
                  <a:pt x="2381" y="1373"/>
                </a:lnTo>
                <a:lnTo>
                  <a:pt x="2385" y="1371"/>
                </a:lnTo>
                <a:lnTo>
                  <a:pt x="2390" y="1368"/>
                </a:lnTo>
                <a:lnTo>
                  <a:pt x="2394" y="1366"/>
                </a:lnTo>
                <a:lnTo>
                  <a:pt x="2398" y="1363"/>
                </a:lnTo>
                <a:lnTo>
                  <a:pt x="2403" y="1361"/>
                </a:lnTo>
                <a:lnTo>
                  <a:pt x="2407" y="1358"/>
                </a:lnTo>
                <a:lnTo>
                  <a:pt x="2411" y="1356"/>
                </a:lnTo>
                <a:lnTo>
                  <a:pt x="2416" y="1354"/>
                </a:lnTo>
                <a:lnTo>
                  <a:pt x="2420" y="1351"/>
                </a:lnTo>
                <a:lnTo>
                  <a:pt x="2424" y="1349"/>
                </a:lnTo>
                <a:lnTo>
                  <a:pt x="2429" y="1346"/>
                </a:lnTo>
                <a:lnTo>
                  <a:pt x="2433" y="1344"/>
                </a:lnTo>
                <a:lnTo>
                  <a:pt x="2437" y="1341"/>
                </a:lnTo>
                <a:lnTo>
                  <a:pt x="2442" y="1339"/>
                </a:lnTo>
                <a:lnTo>
                  <a:pt x="2446" y="1336"/>
                </a:lnTo>
                <a:lnTo>
                  <a:pt x="2451" y="1334"/>
                </a:lnTo>
                <a:lnTo>
                  <a:pt x="2455" y="1332"/>
                </a:lnTo>
                <a:lnTo>
                  <a:pt x="2459" y="1329"/>
                </a:lnTo>
                <a:lnTo>
                  <a:pt x="2464" y="1327"/>
                </a:lnTo>
                <a:lnTo>
                  <a:pt x="2468" y="1324"/>
                </a:lnTo>
                <a:lnTo>
                  <a:pt x="2472" y="1322"/>
                </a:lnTo>
                <a:lnTo>
                  <a:pt x="2477" y="1319"/>
                </a:lnTo>
                <a:lnTo>
                  <a:pt x="2481" y="1317"/>
                </a:lnTo>
                <a:lnTo>
                  <a:pt x="2485" y="1314"/>
                </a:lnTo>
                <a:lnTo>
                  <a:pt x="2490" y="1312"/>
                </a:lnTo>
                <a:lnTo>
                  <a:pt x="2494" y="1310"/>
                </a:lnTo>
                <a:lnTo>
                  <a:pt x="2498" y="1307"/>
                </a:lnTo>
                <a:lnTo>
                  <a:pt x="2503" y="1305"/>
                </a:lnTo>
                <a:lnTo>
                  <a:pt x="2507" y="1302"/>
                </a:lnTo>
                <a:lnTo>
                  <a:pt x="2511" y="1300"/>
                </a:lnTo>
                <a:lnTo>
                  <a:pt x="2516" y="1297"/>
                </a:lnTo>
                <a:lnTo>
                  <a:pt x="2520" y="1295"/>
                </a:lnTo>
                <a:lnTo>
                  <a:pt x="2524" y="1292"/>
                </a:lnTo>
                <a:lnTo>
                  <a:pt x="2529" y="1290"/>
                </a:lnTo>
                <a:lnTo>
                  <a:pt x="2533" y="1287"/>
                </a:lnTo>
                <a:lnTo>
                  <a:pt x="2537" y="1285"/>
                </a:lnTo>
                <a:lnTo>
                  <a:pt x="2542" y="1282"/>
                </a:lnTo>
                <a:lnTo>
                  <a:pt x="2546" y="1280"/>
                </a:lnTo>
                <a:lnTo>
                  <a:pt x="2550" y="1278"/>
                </a:lnTo>
                <a:lnTo>
                  <a:pt x="2555" y="1275"/>
                </a:lnTo>
                <a:lnTo>
                  <a:pt x="2559" y="1273"/>
                </a:lnTo>
                <a:lnTo>
                  <a:pt x="2563" y="1270"/>
                </a:lnTo>
                <a:lnTo>
                  <a:pt x="2568" y="1268"/>
                </a:lnTo>
                <a:lnTo>
                  <a:pt x="2572" y="1265"/>
                </a:lnTo>
                <a:lnTo>
                  <a:pt x="2576" y="1263"/>
                </a:lnTo>
                <a:lnTo>
                  <a:pt x="2581" y="1260"/>
                </a:lnTo>
                <a:lnTo>
                  <a:pt x="2585" y="1258"/>
                </a:lnTo>
                <a:lnTo>
                  <a:pt x="2589" y="1255"/>
                </a:lnTo>
                <a:lnTo>
                  <a:pt x="2594" y="1253"/>
                </a:lnTo>
                <a:lnTo>
                  <a:pt x="2598" y="1250"/>
                </a:lnTo>
                <a:lnTo>
                  <a:pt x="2602" y="1248"/>
                </a:lnTo>
                <a:lnTo>
                  <a:pt x="2607" y="1245"/>
                </a:lnTo>
                <a:lnTo>
                  <a:pt x="2611" y="1243"/>
                </a:lnTo>
                <a:lnTo>
                  <a:pt x="2615" y="1241"/>
                </a:lnTo>
                <a:lnTo>
                  <a:pt x="2620" y="1238"/>
                </a:lnTo>
                <a:lnTo>
                  <a:pt x="2624" y="1236"/>
                </a:lnTo>
                <a:lnTo>
                  <a:pt x="2628" y="1233"/>
                </a:lnTo>
                <a:lnTo>
                  <a:pt x="2633" y="1231"/>
                </a:lnTo>
                <a:lnTo>
                  <a:pt x="2637" y="1228"/>
                </a:lnTo>
                <a:lnTo>
                  <a:pt x="2641" y="1226"/>
                </a:lnTo>
                <a:lnTo>
                  <a:pt x="2646" y="1223"/>
                </a:lnTo>
                <a:lnTo>
                  <a:pt x="2650" y="1221"/>
                </a:lnTo>
                <a:lnTo>
                  <a:pt x="2654" y="1218"/>
                </a:lnTo>
                <a:lnTo>
                  <a:pt x="2659" y="1216"/>
                </a:lnTo>
                <a:lnTo>
                  <a:pt x="2663" y="1213"/>
                </a:lnTo>
                <a:lnTo>
                  <a:pt x="2667" y="1211"/>
                </a:lnTo>
                <a:lnTo>
                  <a:pt x="2672" y="1208"/>
                </a:lnTo>
                <a:lnTo>
                  <a:pt x="2676" y="1206"/>
                </a:lnTo>
                <a:lnTo>
                  <a:pt x="2680" y="1203"/>
                </a:lnTo>
                <a:lnTo>
                  <a:pt x="2685" y="1201"/>
                </a:lnTo>
                <a:lnTo>
                  <a:pt x="2689" y="1198"/>
                </a:lnTo>
                <a:lnTo>
                  <a:pt x="2693" y="1196"/>
                </a:lnTo>
                <a:lnTo>
                  <a:pt x="2698" y="1193"/>
                </a:lnTo>
                <a:lnTo>
                  <a:pt x="2702" y="1191"/>
                </a:lnTo>
                <a:lnTo>
                  <a:pt x="2706" y="1188"/>
                </a:lnTo>
                <a:lnTo>
                  <a:pt x="2711" y="1186"/>
                </a:lnTo>
                <a:lnTo>
                  <a:pt x="2715" y="1183"/>
                </a:lnTo>
                <a:lnTo>
                  <a:pt x="2719" y="1181"/>
                </a:lnTo>
                <a:lnTo>
                  <a:pt x="2724" y="1178"/>
                </a:lnTo>
                <a:lnTo>
                  <a:pt x="2728" y="1176"/>
                </a:lnTo>
                <a:lnTo>
                  <a:pt x="2732" y="1173"/>
                </a:lnTo>
                <a:lnTo>
                  <a:pt x="2737" y="1171"/>
                </a:lnTo>
                <a:lnTo>
                  <a:pt x="2741" y="1168"/>
                </a:lnTo>
                <a:lnTo>
                  <a:pt x="2746" y="1166"/>
                </a:lnTo>
                <a:lnTo>
                  <a:pt x="2750" y="1164"/>
                </a:lnTo>
                <a:lnTo>
                  <a:pt x="2754" y="1161"/>
                </a:lnTo>
                <a:lnTo>
                  <a:pt x="2759" y="1159"/>
                </a:lnTo>
                <a:lnTo>
                  <a:pt x="2763" y="1156"/>
                </a:lnTo>
                <a:lnTo>
                  <a:pt x="2767" y="1154"/>
                </a:lnTo>
                <a:lnTo>
                  <a:pt x="2772" y="1151"/>
                </a:lnTo>
                <a:lnTo>
                  <a:pt x="2776" y="1149"/>
                </a:lnTo>
                <a:lnTo>
                  <a:pt x="2780" y="1146"/>
                </a:lnTo>
                <a:lnTo>
                  <a:pt x="2785" y="1144"/>
                </a:lnTo>
                <a:lnTo>
                  <a:pt x="2789" y="1141"/>
                </a:lnTo>
                <a:lnTo>
                  <a:pt x="2793" y="1139"/>
                </a:lnTo>
                <a:lnTo>
                  <a:pt x="2798" y="1136"/>
                </a:lnTo>
                <a:lnTo>
                  <a:pt x="2802" y="1134"/>
                </a:lnTo>
                <a:lnTo>
                  <a:pt x="2806" y="1131"/>
                </a:lnTo>
                <a:lnTo>
                  <a:pt x="2811" y="1129"/>
                </a:lnTo>
                <a:lnTo>
                  <a:pt x="2815" y="1126"/>
                </a:lnTo>
                <a:lnTo>
                  <a:pt x="2819" y="1124"/>
                </a:lnTo>
                <a:lnTo>
                  <a:pt x="2824" y="1121"/>
                </a:lnTo>
                <a:lnTo>
                  <a:pt x="2828" y="1119"/>
                </a:lnTo>
                <a:lnTo>
                  <a:pt x="2832" y="1116"/>
                </a:lnTo>
                <a:lnTo>
                  <a:pt x="2837" y="1114"/>
                </a:lnTo>
                <a:lnTo>
                  <a:pt x="2841" y="1111"/>
                </a:lnTo>
                <a:lnTo>
                  <a:pt x="2845" y="1109"/>
                </a:lnTo>
                <a:lnTo>
                  <a:pt x="2850" y="1106"/>
                </a:lnTo>
                <a:lnTo>
                  <a:pt x="2854" y="1104"/>
                </a:lnTo>
                <a:lnTo>
                  <a:pt x="2858" y="1101"/>
                </a:lnTo>
                <a:lnTo>
                  <a:pt x="2863" y="1099"/>
                </a:lnTo>
                <a:lnTo>
                  <a:pt x="2867" y="1096"/>
                </a:lnTo>
                <a:lnTo>
                  <a:pt x="2871" y="1094"/>
                </a:lnTo>
                <a:lnTo>
                  <a:pt x="2876" y="1091"/>
                </a:lnTo>
                <a:lnTo>
                  <a:pt x="2880" y="1089"/>
                </a:lnTo>
                <a:lnTo>
                  <a:pt x="2884" y="1086"/>
                </a:lnTo>
                <a:lnTo>
                  <a:pt x="2889" y="1084"/>
                </a:lnTo>
                <a:lnTo>
                  <a:pt x="2893" y="1081"/>
                </a:lnTo>
                <a:lnTo>
                  <a:pt x="2897" y="1079"/>
                </a:lnTo>
                <a:lnTo>
                  <a:pt x="2902" y="1076"/>
                </a:lnTo>
                <a:lnTo>
                  <a:pt x="2906" y="1074"/>
                </a:lnTo>
                <a:lnTo>
                  <a:pt x="2910" y="1071"/>
                </a:lnTo>
                <a:lnTo>
                  <a:pt x="2915" y="1069"/>
                </a:lnTo>
                <a:lnTo>
                  <a:pt x="2919" y="1066"/>
                </a:lnTo>
                <a:lnTo>
                  <a:pt x="2923" y="1064"/>
                </a:lnTo>
                <a:lnTo>
                  <a:pt x="2928" y="1061"/>
                </a:lnTo>
                <a:lnTo>
                  <a:pt x="2932" y="1059"/>
                </a:lnTo>
                <a:lnTo>
                  <a:pt x="2936" y="1056"/>
                </a:lnTo>
                <a:lnTo>
                  <a:pt x="2941" y="1054"/>
                </a:lnTo>
                <a:lnTo>
                  <a:pt x="2945" y="1051"/>
                </a:lnTo>
                <a:lnTo>
                  <a:pt x="2949" y="1049"/>
                </a:lnTo>
                <a:lnTo>
                  <a:pt x="2954" y="1046"/>
                </a:lnTo>
                <a:lnTo>
                  <a:pt x="2958" y="1044"/>
                </a:lnTo>
                <a:lnTo>
                  <a:pt x="2962" y="1041"/>
                </a:lnTo>
                <a:lnTo>
                  <a:pt x="2967" y="1039"/>
                </a:lnTo>
                <a:lnTo>
                  <a:pt x="2971" y="1036"/>
                </a:lnTo>
                <a:lnTo>
                  <a:pt x="2975" y="1034"/>
                </a:lnTo>
                <a:lnTo>
                  <a:pt x="2980" y="1031"/>
                </a:lnTo>
                <a:lnTo>
                  <a:pt x="2984" y="1029"/>
                </a:lnTo>
                <a:lnTo>
                  <a:pt x="2988" y="1026"/>
                </a:lnTo>
                <a:lnTo>
                  <a:pt x="2993" y="1024"/>
                </a:lnTo>
                <a:lnTo>
                  <a:pt x="2997" y="1021"/>
                </a:lnTo>
                <a:lnTo>
                  <a:pt x="3001" y="1019"/>
                </a:lnTo>
                <a:lnTo>
                  <a:pt x="3006" y="1016"/>
                </a:lnTo>
                <a:lnTo>
                  <a:pt x="3010" y="1014"/>
                </a:lnTo>
                <a:lnTo>
                  <a:pt x="3014" y="1011"/>
                </a:lnTo>
                <a:lnTo>
                  <a:pt x="3019" y="1009"/>
                </a:lnTo>
                <a:lnTo>
                  <a:pt x="3023" y="1006"/>
                </a:lnTo>
                <a:lnTo>
                  <a:pt x="3027" y="1004"/>
                </a:lnTo>
                <a:lnTo>
                  <a:pt x="3032" y="1001"/>
                </a:lnTo>
                <a:lnTo>
                  <a:pt x="3036" y="999"/>
                </a:lnTo>
                <a:lnTo>
                  <a:pt x="3040" y="996"/>
                </a:lnTo>
                <a:lnTo>
                  <a:pt x="3045" y="994"/>
                </a:lnTo>
                <a:lnTo>
                  <a:pt x="3049" y="991"/>
                </a:lnTo>
                <a:lnTo>
                  <a:pt x="3054" y="989"/>
                </a:lnTo>
                <a:lnTo>
                  <a:pt x="3058" y="986"/>
                </a:lnTo>
                <a:lnTo>
                  <a:pt x="3062" y="984"/>
                </a:lnTo>
                <a:lnTo>
                  <a:pt x="3067" y="981"/>
                </a:lnTo>
                <a:lnTo>
                  <a:pt x="3071" y="979"/>
                </a:lnTo>
                <a:lnTo>
                  <a:pt x="3075" y="976"/>
                </a:lnTo>
                <a:lnTo>
                  <a:pt x="3080" y="974"/>
                </a:lnTo>
                <a:lnTo>
                  <a:pt x="3084" y="971"/>
                </a:lnTo>
                <a:lnTo>
                  <a:pt x="3088" y="969"/>
                </a:lnTo>
                <a:lnTo>
                  <a:pt x="3093" y="966"/>
                </a:lnTo>
                <a:lnTo>
                  <a:pt x="3097" y="964"/>
                </a:lnTo>
                <a:lnTo>
                  <a:pt x="3101" y="961"/>
                </a:lnTo>
                <a:lnTo>
                  <a:pt x="3106" y="959"/>
                </a:lnTo>
                <a:lnTo>
                  <a:pt x="3110" y="956"/>
                </a:lnTo>
                <a:lnTo>
                  <a:pt x="3114" y="954"/>
                </a:lnTo>
                <a:lnTo>
                  <a:pt x="3119" y="952"/>
                </a:lnTo>
                <a:lnTo>
                  <a:pt x="3123" y="949"/>
                </a:lnTo>
                <a:lnTo>
                  <a:pt x="3127" y="947"/>
                </a:lnTo>
                <a:lnTo>
                  <a:pt x="3132" y="944"/>
                </a:lnTo>
                <a:lnTo>
                  <a:pt x="3136" y="942"/>
                </a:lnTo>
                <a:lnTo>
                  <a:pt x="3140" y="939"/>
                </a:lnTo>
                <a:lnTo>
                  <a:pt x="3145" y="937"/>
                </a:lnTo>
                <a:lnTo>
                  <a:pt x="3149" y="934"/>
                </a:lnTo>
                <a:lnTo>
                  <a:pt x="3153" y="932"/>
                </a:lnTo>
                <a:lnTo>
                  <a:pt x="3158" y="929"/>
                </a:lnTo>
                <a:lnTo>
                  <a:pt x="3162" y="927"/>
                </a:lnTo>
                <a:lnTo>
                  <a:pt x="3166" y="924"/>
                </a:lnTo>
                <a:lnTo>
                  <a:pt x="3171" y="922"/>
                </a:lnTo>
                <a:lnTo>
                  <a:pt x="3175" y="919"/>
                </a:lnTo>
                <a:lnTo>
                  <a:pt x="3179" y="917"/>
                </a:lnTo>
                <a:lnTo>
                  <a:pt x="3184" y="914"/>
                </a:lnTo>
                <a:lnTo>
                  <a:pt x="3188" y="912"/>
                </a:lnTo>
                <a:lnTo>
                  <a:pt x="3192" y="909"/>
                </a:lnTo>
                <a:lnTo>
                  <a:pt x="3197" y="907"/>
                </a:lnTo>
                <a:lnTo>
                  <a:pt x="3201" y="904"/>
                </a:lnTo>
                <a:lnTo>
                  <a:pt x="3205" y="902"/>
                </a:lnTo>
                <a:lnTo>
                  <a:pt x="3210" y="899"/>
                </a:lnTo>
                <a:lnTo>
                  <a:pt x="3214" y="897"/>
                </a:lnTo>
                <a:lnTo>
                  <a:pt x="3218" y="895"/>
                </a:lnTo>
                <a:lnTo>
                  <a:pt x="3223" y="892"/>
                </a:lnTo>
                <a:lnTo>
                  <a:pt x="3227" y="890"/>
                </a:lnTo>
                <a:lnTo>
                  <a:pt x="3231" y="887"/>
                </a:lnTo>
                <a:lnTo>
                  <a:pt x="3236" y="885"/>
                </a:lnTo>
                <a:lnTo>
                  <a:pt x="3240" y="882"/>
                </a:lnTo>
                <a:lnTo>
                  <a:pt x="3244" y="880"/>
                </a:lnTo>
                <a:lnTo>
                  <a:pt x="3249" y="877"/>
                </a:lnTo>
                <a:lnTo>
                  <a:pt x="3253" y="875"/>
                </a:lnTo>
                <a:lnTo>
                  <a:pt x="3257" y="872"/>
                </a:lnTo>
                <a:lnTo>
                  <a:pt x="3262" y="870"/>
                </a:lnTo>
                <a:lnTo>
                  <a:pt x="3266" y="867"/>
                </a:lnTo>
                <a:lnTo>
                  <a:pt x="3270" y="865"/>
                </a:lnTo>
                <a:lnTo>
                  <a:pt x="3275" y="862"/>
                </a:lnTo>
                <a:lnTo>
                  <a:pt x="3279" y="860"/>
                </a:lnTo>
                <a:lnTo>
                  <a:pt x="3283" y="858"/>
                </a:lnTo>
                <a:lnTo>
                  <a:pt x="3288" y="855"/>
                </a:lnTo>
                <a:lnTo>
                  <a:pt x="3292" y="853"/>
                </a:lnTo>
                <a:lnTo>
                  <a:pt x="3296" y="850"/>
                </a:lnTo>
                <a:lnTo>
                  <a:pt x="3301" y="848"/>
                </a:lnTo>
                <a:lnTo>
                  <a:pt x="3305" y="845"/>
                </a:lnTo>
                <a:lnTo>
                  <a:pt x="3309" y="843"/>
                </a:lnTo>
                <a:lnTo>
                  <a:pt x="3314" y="840"/>
                </a:lnTo>
                <a:lnTo>
                  <a:pt x="3318" y="838"/>
                </a:lnTo>
                <a:lnTo>
                  <a:pt x="3322" y="835"/>
                </a:lnTo>
                <a:lnTo>
                  <a:pt x="3327" y="833"/>
                </a:lnTo>
                <a:lnTo>
                  <a:pt x="3331" y="831"/>
                </a:lnTo>
                <a:lnTo>
                  <a:pt x="3335" y="828"/>
                </a:lnTo>
                <a:lnTo>
                  <a:pt x="3340" y="826"/>
                </a:lnTo>
                <a:lnTo>
                  <a:pt x="3344" y="823"/>
                </a:lnTo>
                <a:lnTo>
                  <a:pt x="3348" y="821"/>
                </a:lnTo>
                <a:lnTo>
                  <a:pt x="3353" y="818"/>
                </a:lnTo>
                <a:lnTo>
                  <a:pt x="3357" y="816"/>
                </a:lnTo>
                <a:lnTo>
                  <a:pt x="3362" y="813"/>
                </a:lnTo>
                <a:lnTo>
                  <a:pt x="3366" y="811"/>
                </a:lnTo>
                <a:lnTo>
                  <a:pt x="3370" y="809"/>
                </a:lnTo>
                <a:lnTo>
                  <a:pt x="3375" y="806"/>
                </a:lnTo>
                <a:lnTo>
                  <a:pt x="3379" y="804"/>
                </a:lnTo>
                <a:lnTo>
                  <a:pt x="3383" y="801"/>
                </a:lnTo>
                <a:lnTo>
                  <a:pt x="3388" y="799"/>
                </a:lnTo>
                <a:lnTo>
                  <a:pt x="3392" y="796"/>
                </a:lnTo>
                <a:lnTo>
                  <a:pt x="3396" y="794"/>
                </a:lnTo>
                <a:lnTo>
                  <a:pt x="3401" y="791"/>
                </a:lnTo>
                <a:lnTo>
                  <a:pt x="3405" y="789"/>
                </a:lnTo>
                <a:lnTo>
                  <a:pt x="3409" y="787"/>
                </a:lnTo>
                <a:lnTo>
                  <a:pt x="3414" y="784"/>
                </a:lnTo>
                <a:lnTo>
                  <a:pt x="3418" y="782"/>
                </a:lnTo>
                <a:lnTo>
                  <a:pt x="3422" y="779"/>
                </a:lnTo>
                <a:lnTo>
                  <a:pt x="3427" y="777"/>
                </a:lnTo>
                <a:lnTo>
                  <a:pt x="3431" y="774"/>
                </a:lnTo>
                <a:lnTo>
                  <a:pt x="3435" y="772"/>
                </a:lnTo>
                <a:lnTo>
                  <a:pt x="3440" y="770"/>
                </a:lnTo>
                <a:lnTo>
                  <a:pt x="3444" y="767"/>
                </a:lnTo>
                <a:lnTo>
                  <a:pt x="3448" y="765"/>
                </a:lnTo>
                <a:lnTo>
                  <a:pt x="3453" y="762"/>
                </a:lnTo>
                <a:lnTo>
                  <a:pt x="3457" y="760"/>
                </a:lnTo>
                <a:lnTo>
                  <a:pt x="3461" y="758"/>
                </a:lnTo>
                <a:lnTo>
                  <a:pt x="3466" y="755"/>
                </a:lnTo>
                <a:lnTo>
                  <a:pt x="3470" y="753"/>
                </a:lnTo>
                <a:lnTo>
                  <a:pt x="3474" y="750"/>
                </a:lnTo>
                <a:lnTo>
                  <a:pt x="3479" y="748"/>
                </a:lnTo>
                <a:lnTo>
                  <a:pt x="3483" y="745"/>
                </a:lnTo>
                <a:lnTo>
                  <a:pt x="3487" y="743"/>
                </a:lnTo>
                <a:lnTo>
                  <a:pt x="3492" y="741"/>
                </a:lnTo>
                <a:lnTo>
                  <a:pt x="3496" y="738"/>
                </a:lnTo>
                <a:lnTo>
                  <a:pt x="3500" y="736"/>
                </a:lnTo>
                <a:lnTo>
                  <a:pt x="3505" y="733"/>
                </a:lnTo>
                <a:lnTo>
                  <a:pt x="3509" y="731"/>
                </a:lnTo>
                <a:lnTo>
                  <a:pt x="3513" y="729"/>
                </a:lnTo>
                <a:lnTo>
                  <a:pt x="3518" y="726"/>
                </a:lnTo>
                <a:lnTo>
                  <a:pt x="3522" y="724"/>
                </a:lnTo>
                <a:lnTo>
                  <a:pt x="3526" y="721"/>
                </a:lnTo>
                <a:lnTo>
                  <a:pt x="3531" y="719"/>
                </a:lnTo>
                <a:lnTo>
                  <a:pt x="3535" y="717"/>
                </a:lnTo>
                <a:lnTo>
                  <a:pt x="3539" y="714"/>
                </a:lnTo>
                <a:lnTo>
                  <a:pt x="3544" y="712"/>
                </a:lnTo>
                <a:lnTo>
                  <a:pt x="3548" y="709"/>
                </a:lnTo>
                <a:lnTo>
                  <a:pt x="3552" y="707"/>
                </a:lnTo>
                <a:lnTo>
                  <a:pt x="3557" y="705"/>
                </a:lnTo>
                <a:lnTo>
                  <a:pt x="3561" y="702"/>
                </a:lnTo>
                <a:lnTo>
                  <a:pt x="3565" y="700"/>
                </a:lnTo>
                <a:lnTo>
                  <a:pt x="3570" y="698"/>
                </a:lnTo>
                <a:lnTo>
                  <a:pt x="3574" y="695"/>
                </a:lnTo>
                <a:lnTo>
                  <a:pt x="3578" y="693"/>
                </a:lnTo>
                <a:lnTo>
                  <a:pt x="3583" y="690"/>
                </a:lnTo>
                <a:lnTo>
                  <a:pt x="3587" y="688"/>
                </a:lnTo>
                <a:lnTo>
                  <a:pt x="3591" y="686"/>
                </a:lnTo>
                <a:lnTo>
                  <a:pt x="3596" y="683"/>
                </a:lnTo>
                <a:lnTo>
                  <a:pt x="3600" y="681"/>
                </a:lnTo>
                <a:lnTo>
                  <a:pt x="3604" y="679"/>
                </a:lnTo>
                <a:lnTo>
                  <a:pt x="3609" y="676"/>
                </a:lnTo>
                <a:lnTo>
                  <a:pt x="3613" y="674"/>
                </a:lnTo>
                <a:lnTo>
                  <a:pt x="3617" y="671"/>
                </a:lnTo>
                <a:lnTo>
                  <a:pt x="3622" y="669"/>
                </a:lnTo>
                <a:lnTo>
                  <a:pt x="3626" y="667"/>
                </a:lnTo>
                <a:lnTo>
                  <a:pt x="3630" y="664"/>
                </a:lnTo>
                <a:lnTo>
                  <a:pt x="3635" y="662"/>
                </a:lnTo>
                <a:lnTo>
                  <a:pt x="3639" y="660"/>
                </a:lnTo>
                <a:lnTo>
                  <a:pt x="3643" y="657"/>
                </a:lnTo>
                <a:lnTo>
                  <a:pt x="3648" y="655"/>
                </a:lnTo>
                <a:lnTo>
                  <a:pt x="3652" y="653"/>
                </a:lnTo>
                <a:lnTo>
                  <a:pt x="3656" y="650"/>
                </a:lnTo>
                <a:lnTo>
                  <a:pt x="3661" y="648"/>
                </a:lnTo>
                <a:lnTo>
                  <a:pt x="3665" y="646"/>
                </a:lnTo>
                <a:lnTo>
                  <a:pt x="3670" y="643"/>
                </a:lnTo>
                <a:lnTo>
                  <a:pt x="3674" y="641"/>
                </a:lnTo>
                <a:lnTo>
                  <a:pt x="3678" y="639"/>
                </a:lnTo>
                <a:lnTo>
                  <a:pt x="3683" y="636"/>
                </a:lnTo>
                <a:lnTo>
                  <a:pt x="3687" y="634"/>
                </a:lnTo>
                <a:lnTo>
                  <a:pt x="3691" y="631"/>
                </a:lnTo>
                <a:lnTo>
                  <a:pt x="3696" y="629"/>
                </a:lnTo>
                <a:lnTo>
                  <a:pt x="3700" y="627"/>
                </a:lnTo>
                <a:lnTo>
                  <a:pt x="3704" y="625"/>
                </a:lnTo>
                <a:lnTo>
                  <a:pt x="3709" y="622"/>
                </a:lnTo>
                <a:lnTo>
                  <a:pt x="3713" y="620"/>
                </a:lnTo>
                <a:lnTo>
                  <a:pt x="3717" y="618"/>
                </a:lnTo>
                <a:lnTo>
                  <a:pt x="3722" y="615"/>
                </a:lnTo>
                <a:lnTo>
                  <a:pt x="3726" y="613"/>
                </a:lnTo>
                <a:lnTo>
                  <a:pt x="3730" y="611"/>
                </a:lnTo>
                <a:lnTo>
                  <a:pt x="3735" y="608"/>
                </a:lnTo>
                <a:lnTo>
                  <a:pt x="3739" y="606"/>
                </a:lnTo>
                <a:lnTo>
                  <a:pt x="3743" y="604"/>
                </a:lnTo>
                <a:lnTo>
                  <a:pt x="3748" y="601"/>
                </a:lnTo>
                <a:lnTo>
                  <a:pt x="3752" y="599"/>
                </a:lnTo>
                <a:lnTo>
                  <a:pt x="3756" y="597"/>
                </a:lnTo>
                <a:lnTo>
                  <a:pt x="3761" y="594"/>
                </a:lnTo>
                <a:lnTo>
                  <a:pt x="3765" y="592"/>
                </a:lnTo>
                <a:lnTo>
                  <a:pt x="3769" y="590"/>
                </a:lnTo>
                <a:lnTo>
                  <a:pt x="3774" y="587"/>
                </a:lnTo>
                <a:lnTo>
                  <a:pt x="3778" y="585"/>
                </a:lnTo>
                <a:lnTo>
                  <a:pt x="3782" y="583"/>
                </a:lnTo>
                <a:lnTo>
                  <a:pt x="3787" y="581"/>
                </a:lnTo>
                <a:lnTo>
                  <a:pt x="3791" y="578"/>
                </a:lnTo>
                <a:lnTo>
                  <a:pt x="3795" y="576"/>
                </a:lnTo>
                <a:lnTo>
                  <a:pt x="3800" y="574"/>
                </a:lnTo>
                <a:lnTo>
                  <a:pt x="3804" y="571"/>
                </a:lnTo>
                <a:lnTo>
                  <a:pt x="3808" y="569"/>
                </a:lnTo>
                <a:lnTo>
                  <a:pt x="3813" y="567"/>
                </a:lnTo>
                <a:lnTo>
                  <a:pt x="3817" y="565"/>
                </a:lnTo>
                <a:lnTo>
                  <a:pt x="3821" y="562"/>
                </a:lnTo>
                <a:lnTo>
                  <a:pt x="3826" y="560"/>
                </a:lnTo>
                <a:lnTo>
                  <a:pt x="3830" y="558"/>
                </a:lnTo>
                <a:lnTo>
                  <a:pt x="3834" y="555"/>
                </a:lnTo>
                <a:lnTo>
                  <a:pt x="3839" y="553"/>
                </a:lnTo>
                <a:lnTo>
                  <a:pt x="3843" y="551"/>
                </a:lnTo>
                <a:lnTo>
                  <a:pt x="3847" y="549"/>
                </a:lnTo>
                <a:lnTo>
                  <a:pt x="3852" y="546"/>
                </a:lnTo>
                <a:lnTo>
                  <a:pt x="3856" y="544"/>
                </a:lnTo>
                <a:lnTo>
                  <a:pt x="3860" y="542"/>
                </a:lnTo>
                <a:lnTo>
                  <a:pt x="3865" y="540"/>
                </a:lnTo>
                <a:lnTo>
                  <a:pt x="3869" y="537"/>
                </a:lnTo>
                <a:lnTo>
                  <a:pt x="3873" y="535"/>
                </a:lnTo>
                <a:lnTo>
                  <a:pt x="3878" y="533"/>
                </a:lnTo>
                <a:lnTo>
                  <a:pt x="3882" y="531"/>
                </a:lnTo>
                <a:lnTo>
                  <a:pt x="3886" y="528"/>
                </a:lnTo>
                <a:lnTo>
                  <a:pt x="3891" y="526"/>
                </a:lnTo>
                <a:lnTo>
                  <a:pt x="3895" y="524"/>
                </a:lnTo>
                <a:lnTo>
                  <a:pt x="3899" y="522"/>
                </a:lnTo>
                <a:lnTo>
                  <a:pt x="3904" y="519"/>
                </a:lnTo>
                <a:lnTo>
                  <a:pt x="3908" y="517"/>
                </a:lnTo>
                <a:lnTo>
                  <a:pt x="3912" y="515"/>
                </a:lnTo>
                <a:lnTo>
                  <a:pt x="3917" y="513"/>
                </a:lnTo>
                <a:lnTo>
                  <a:pt x="3921" y="510"/>
                </a:lnTo>
                <a:lnTo>
                  <a:pt x="3925" y="508"/>
                </a:lnTo>
                <a:lnTo>
                  <a:pt x="3930" y="506"/>
                </a:lnTo>
                <a:lnTo>
                  <a:pt x="3934" y="504"/>
                </a:lnTo>
                <a:lnTo>
                  <a:pt x="3938" y="502"/>
                </a:lnTo>
                <a:lnTo>
                  <a:pt x="3943" y="499"/>
                </a:lnTo>
                <a:lnTo>
                  <a:pt x="3947" y="497"/>
                </a:lnTo>
                <a:lnTo>
                  <a:pt x="3951" y="495"/>
                </a:lnTo>
                <a:lnTo>
                  <a:pt x="3956" y="493"/>
                </a:lnTo>
                <a:lnTo>
                  <a:pt x="3960" y="491"/>
                </a:lnTo>
                <a:lnTo>
                  <a:pt x="3965" y="488"/>
                </a:lnTo>
                <a:lnTo>
                  <a:pt x="3969" y="486"/>
                </a:lnTo>
                <a:lnTo>
                  <a:pt x="3973" y="484"/>
                </a:lnTo>
                <a:lnTo>
                  <a:pt x="3978" y="482"/>
                </a:lnTo>
                <a:lnTo>
                  <a:pt x="3982" y="480"/>
                </a:lnTo>
                <a:lnTo>
                  <a:pt x="3986" y="477"/>
                </a:lnTo>
                <a:lnTo>
                  <a:pt x="3991" y="475"/>
                </a:lnTo>
                <a:lnTo>
                  <a:pt x="3995" y="473"/>
                </a:lnTo>
                <a:lnTo>
                  <a:pt x="3999" y="471"/>
                </a:lnTo>
                <a:lnTo>
                  <a:pt x="4004" y="469"/>
                </a:lnTo>
                <a:lnTo>
                  <a:pt x="4008" y="466"/>
                </a:lnTo>
                <a:lnTo>
                  <a:pt x="4012" y="464"/>
                </a:lnTo>
                <a:lnTo>
                  <a:pt x="4017" y="462"/>
                </a:lnTo>
                <a:lnTo>
                  <a:pt x="4021" y="460"/>
                </a:lnTo>
                <a:lnTo>
                  <a:pt x="4025" y="458"/>
                </a:lnTo>
                <a:lnTo>
                  <a:pt x="4030" y="456"/>
                </a:lnTo>
                <a:lnTo>
                  <a:pt x="4034" y="453"/>
                </a:lnTo>
                <a:lnTo>
                  <a:pt x="4038" y="451"/>
                </a:lnTo>
                <a:lnTo>
                  <a:pt x="4043" y="449"/>
                </a:lnTo>
                <a:lnTo>
                  <a:pt x="4047" y="447"/>
                </a:lnTo>
                <a:lnTo>
                  <a:pt x="4051" y="445"/>
                </a:lnTo>
                <a:lnTo>
                  <a:pt x="4056" y="443"/>
                </a:lnTo>
                <a:lnTo>
                  <a:pt x="4060" y="440"/>
                </a:lnTo>
                <a:lnTo>
                  <a:pt x="4064" y="438"/>
                </a:lnTo>
                <a:lnTo>
                  <a:pt x="4069" y="436"/>
                </a:lnTo>
                <a:lnTo>
                  <a:pt x="4073" y="434"/>
                </a:lnTo>
                <a:lnTo>
                  <a:pt x="4077" y="432"/>
                </a:lnTo>
                <a:lnTo>
                  <a:pt x="4082" y="430"/>
                </a:lnTo>
                <a:lnTo>
                  <a:pt x="4086" y="428"/>
                </a:lnTo>
                <a:lnTo>
                  <a:pt x="4090" y="425"/>
                </a:lnTo>
                <a:lnTo>
                  <a:pt x="4095" y="423"/>
                </a:lnTo>
                <a:lnTo>
                  <a:pt x="4099" y="421"/>
                </a:lnTo>
                <a:lnTo>
                  <a:pt x="4103" y="419"/>
                </a:lnTo>
                <a:lnTo>
                  <a:pt x="4108" y="417"/>
                </a:lnTo>
                <a:lnTo>
                  <a:pt x="4112" y="415"/>
                </a:lnTo>
                <a:lnTo>
                  <a:pt x="4116" y="413"/>
                </a:lnTo>
                <a:lnTo>
                  <a:pt x="4121" y="411"/>
                </a:lnTo>
                <a:lnTo>
                  <a:pt x="4125" y="409"/>
                </a:lnTo>
                <a:lnTo>
                  <a:pt x="4129" y="406"/>
                </a:lnTo>
                <a:lnTo>
                  <a:pt x="4134" y="404"/>
                </a:lnTo>
                <a:lnTo>
                  <a:pt x="4138" y="402"/>
                </a:lnTo>
                <a:lnTo>
                  <a:pt x="4142" y="400"/>
                </a:lnTo>
                <a:lnTo>
                  <a:pt x="4147" y="398"/>
                </a:lnTo>
                <a:lnTo>
                  <a:pt x="4151" y="396"/>
                </a:lnTo>
                <a:lnTo>
                  <a:pt x="4155" y="394"/>
                </a:lnTo>
                <a:lnTo>
                  <a:pt x="4160" y="392"/>
                </a:lnTo>
                <a:lnTo>
                  <a:pt x="4164" y="390"/>
                </a:lnTo>
                <a:lnTo>
                  <a:pt x="4168" y="388"/>
                </a:lnTo>
                <a:lnTo>
                  <a:pt x="4173" y="386"/>
                </a:lnTo>
                <a:lnTo>
                  <a:pt x="4177" y="383"/>
                </a:lnTo>
                <a:lnTo>
                  <a:pt x="4181" y="381"/>
                </a:lnTo>
                <a:lnTo>
                  <a:pt x="4186" y="379"/>
                </a:lnTo>
                <a:lnTo>
                  <a:pt x="4190" y="377"/>
                </a:lnTo>
                <a:lnTo>
                  <a:pt x="4194" y="375"/>
                </a:lnTo>
                <a:lnTo>
                  <a:pt x="4199" y="373"/>
                </a:lnTo>
                <a:lnTo>
                  <a:pt x="4203" y="371"/>
                </a:lnTo>
                <a:lnTo>
                  <a:pt x="4207" y="369"/>
                </a:lnTo>
                <a:lnTo>
                  <a:pt x="4212" y="367"/>
                </a:lnTo>
                <a:lnTo>
                  <a:pt x="4216" y="365"/>
                </a:lnTo>
                <a:lnTo>
                  <a:pt x="4220" y="363"/>
                </a:lnTo>
                <a:lnTo>
                  <a:pt x="4225" y="361"/>
                </a:lnTo>
                <a:lnTo>
                  <a:pt x="4229" y="359"/>
                </a:lnTo>
                <a:lnTo>
                  <a:pt x="4233" y="357"/>
                </a:lnTo>
                <a:lnTo>
                  <a:pt x="4238" y="355"/>
                </a:lnTo>
                <a:lnTo>
                  <a:pt x="4242" y="353"/>
                </a:lnTo>
                <a:lnTo>
                  <a:pt x="4246" y="351"/>
                </a:lnTo>
                <a:lnTo>
                  <a:pt x="4251" y="349"/>
                </a:lnTo>
                <a:lnTo>
                  <a:pt x="4255" y="347"/>
                </a:lnTo>
                <a:lnTo>
                  <a:pt x="4259" y="345"/>
                </a:lnTo>
                <a:lnTo>
                  <a:pt x="4264" y="343"/>
                </a:lnTo>
                <a:lnTo>
                  <a:pt x="4268" y="341"/>
                </a:lnTo>
                <a:lnTo>
                  <a:pt x="4273" y="339"/>
                </a:lnTo>
                <a:lnTo>
                  <a:pt x="4277" y="337"/>
                </a:lnTo>
                <a:lnTo>
                  <a:pt x="4281" y="335"/>
                </a:lnTo>
                <a:lnTo>
                  <a:pt x="4286" y="333"/>
                </a:lnTo>
                <a:lnTo>
                  <a:pt x="4290" y="331"/>
                </a:lnTo>
                <a:lnTo>
                  <a:pt x="4294" y="329"/>
                </a:lnTo>
                <a:lnTo>
                  <a:pt x="4299" y="327"/>
                </a:lnTo>
                <a:lnTo>
                  <a:pt x="4303" y="325"/>
                </a:lnTo>
                <a:lnTo>
                  <a:pt x="4307" y="323"/>
                </a:lnTo>
                <a:lnTo>
                  <a:pt x="4312" y="321"/>
                </a:lnTo>
                <a:lnTo>
                  <a:pt x="4316" y="319"/>
                </a:lnTo>
                <a:lnTo>
                  <a:pt x="4320" y="317"/>
                </a:lnTo>
                <a:lnTo>
                  <a:pt x="4325" y="315"/>
                </a:lnTo>
                <a:lnTo>
                  <a:pt x="4329" y="313"/>
                </a:lnTo>
                <a:lnTo>
                  <a:pt x="4333" y="311"/>
                </a:lnTo>
                <a:lnTo>
                  <a:pt x="4338" y="309"/>
                </a:lnTo>
                <a:lnTo>
                  <a:pt x="4342" y="307"/>
                </a:lnTo>
                <a:lnTo>
                  <a:pt x="4346" y="305"/>
                </a:lnTo>
                <a:lnTo>
                  <a:pt x="4351" y="303"/>
                </a:lnTo>
                <a:lnTo>
                  <a:pt x="4355" y="301"/>
                </a:lnTo>
                <a:lnTo>
                  <a:pt x="4359" y="299"/>
                </a:lnTo>
                <a:lnTo>
                  <a:pt x="4364" y="297"/>
                </a:lnTo>
                <a:lnTo>
                  <a:pt x="4368" y="295"/>
                </a:lnTo>
                <a:lnTo>
                  <a:pt x="4372" y="293"/>
                </a:lnTo>
                <a:lnTo>
                  <a:pt x="4377" y="291"/>
                </a:lnTo>
                <a:lnTo>
                  <a:pt x="4381" y="289"/>
                </a:lnTo>
                <a:lnTo>
                  <a:pt x="4385" y="287"/>
                </a:lnTo>
                <a:lnTo>
                  <a:pt x="4390" y="285"/>
                </a:lnTo>
                <a:lnTo>
                  <a:pt x="4394" y="284"/>
                </a:lnTo>
                <a:lnTo>
                  <a:pt x="4398" y="282"/>
                </a:lnTo>
                <a:lnTo>
                  <a:pt x="4403" y="280"/>
                </a:lnTo>
                <a:lnTo>
                  <a:pt x="4407" y="278"/>
                </a:lnTo>
                <a:lnTo>
                  <a:pt x="4411" y="276"/>
                </a:lnTo>
                <a:lnTo>
                  <a:pt x="4416" y="274"/>
                </a:lnTo>
                <a:lnTo>
                  <a:pt x="4420" y="272"/>
                </a:lnTo>
                <a:lnTo>
                  <a:pt x="4424" y="270"/>
                </a:lnTo>
                <a:lnTo>
                  <a:pt x="4429" y="268"/>
                </a:lnTo>
                <a:lnTo>
                  <a:pt x="4433" y="266"/>
                </a:lnTo>
                <a:lnTo>
                  <a:pt x="4437" y="265"/>
                </a:lnTo>
                <a:lnTo>
                  <a:pt x="4442" y="263"/>
                </a:lnTo>
                <a:lnTo>
                  <a:pt x="4446" y="261"/>
                </a:lnTo>
                <a:lnTo>
                  <a:pt x="4450" y="259"/>
                </a:lnTo>
                <a:lnTo>
                  <a:pt x="4455" y="257"/>
                </a:lnTo>
                <a:lnTo>
                  <a:pt x="4459" y="255"/>
                </a:lnTo>
                <a:lnTo>
                  <a:pt x="4463" y="253"/>
                </a:lnTo>
                <a:lnTo>
                  <a:pt x="4468" y="251"/>
                </a:lnTo>
                <a:lnTo>
                  <a:pt x="4472" y="250"/>
                </a:lnTo>
                <a:lnTo>
                  <a:pt x="4476" y="248"/>
                </a:lnTo>
                <a:lnTo>
                  <a:pt x="4481" y="246"/>
                </a:lnTo>
                <a:lnTo>
                  <a:pt x="4485" y="244"/>
                </a:lnTo>
                <a:lnTo>
                  <a:pt x="4489" y="242"/>
                </a:lnTo>
                <a:lnTo>
                  <a:pt x="4494" y="240"/>
                </a:lnTo>
                <a:lnTo>
                  <a:pt x="4498" y="239"/>
                </a:lnTo>
                <a:lnTo>
                  <a:pt x="4502" y="237"/>
                </a:lnTo>
                <a:lnTo>
                  <a:pt x="4507" y="235"/>
                </a:lnTo>
                <a:lnTo>
                  <a:pt x="4511" y="233"/>
                </a:lnTo>
                <a:lnTo>
                  <a:pt x="4515" y="231"/>
                </a:lnTo>
                <a:lnTo>
                  <a:pt x="4520" y="229"/>
                </a:lnTo>
                <a:lnTo>
                  <a:pt x="4524" y="228"/>
                </a:lnTo>
                <a:lnTo>
                  <a:pt x="4528" y="226"/>
                </a:lnTo>
                <a:lnTo>
                  <a:pt x="4533" y="224"/>
                </a:lnTo>
                <a:lnTo>
                  <a:pt x="4537" y="222"/>
                </a:lnTo>
                <a:lnTo>
                  <a:pt x="4541" y="220"/>
                </a:lnTo>
                <a:lnTo>
                  <a:pt x="4546" y="219"/>
                </a:lnTo>
                <a:lnTo>
                  <a:pt x="4550" y="217"/>
                </a:lnTo>
                <a:lnTo>
                  <a:pt x="4554" y="215"/>
                </a:lnTo>
                <a:lnTo>
                  <a:pt x="4559" y="213"/>
                </a:lnTo>
                <a:lnTo>
                  <a:pt x="4563" y="211"/>
                </a:lnTo>
                <a:lnTo>
                  <a:pt x="4567" y="210"/>
                </a:lnTo>
                <a:lnTo>
                  <a:pt x="4572" y="208"/>
                </a:lnTo>
                <a:lnTo>
                  <a:pt x="4576" y="206"/>
                </a:lnTo>
                <a:lnTo>
                  <a:pt x="4581" y="204"/>
                </a:lnTo>
                <a:lnTo>
                  <a:pt x="4585" y="203"/>
                </a:lnTo>
                <a:lnTo>
                  <a:pt x="4589" y="201"/>
                </a:lnTo>
                <a:lnTo>
                  <a:pt x="4594" y="199"/>
                </a:lnTo>
                <a:lnTo>
                  <a:pt x="4598" y="197"/>
                </a:lnTo>
                <a:lnTo>
                  <a:pt x="4602" y="196"/>
                </a:lnTo>
                <a:lnTo>
                  <a:pt x="4607" y="194"/>
                </a:lnTo>
                <a:lnTo>
                  <a:pt x="4611" y="192"/>
                </a:lnTo>
                <a:lnTo>
                  <a:pt x="4615" y="190"/>
                </a:lnTo>
                <a:lnTo>
                  <a:pt x="4620" y="189"/>
                </a:lnTo>
                <a:lnTo>
                  <a:pt x="4624" y="187"/>
                </a:lnTo>
                <a:lnTo>
                  <a:pt x="4628" y="185"/>
                </a:lnTo>
                <a:lnTo>
                  <a:pt x="4633" y="183"/>
                </a:lnTo>
                <a:lnTo>
                  <a:pt x="4637" y="182"/>
                </a:lnTo>
                <a:lnTo>
                  <a:pt x="4641" y="180"/>
                </a:lnTo>
                <a:lnTo>
                  <a:pt x="4646" y="178"/>
                </a:lnTo>
                <a:lnTo>
                  <a:pt x="4650" y="177"/>
                </a:lnTo>
                <a:lnTo>
                  <a:pt x="4654" y="175"/>
                </a:lnTo>
                <a:lnTo>
                  <a:pt x="4659" y="173"/>
                </a:lnTo>
                <a:lnTo>
                  <a:pt x="4663" y="172"/>
                </a:lnTo>
                <a:lnTo>
                  <a:pt x="4667" y="170"/>
                </a:lnTo>
                <a:lnTo>
                  <a:pt x="4672" y="168"/>
                </a:lnTo>
                <a:lnTo>
                  <a:pt x="4676" y="166"/>
                </a:lnTo>
                <a:lnTo>
                  <a:pt x="4680" y="165"/>
                </a:lnTo>
                <a:lnTo>
                  <a:pt x="4685" y="163"/>
                </a:lnTo>
                <a:lnTo>
                  <a:pt x="4689" y="161"/>
                </a:lnTo>
                <a:lnTo>
                  <a:pt x="4693" y="160"/>
                </a:lnTo>
                <a:lnTo>
                  <a:pt x="4698" y="158"/>
                </a:lnTo>
                <a:lnTo>
                  <a:pt x="4702" y="156"/>
                </a:lnTo>
                <a:lnTo>
                  <a:pt x="4706" y="155"/>
                </a:lnTo>
                <a:lnTo>
                  <a:pt x="4711" y="153"/>
                </a:lnTo>
                <a:lnTo>
                  <a:pt x="4715" y="152"/>
                </a:lnTo>
                <a:lnTo>
                  <a:pt x="4719" y="150"/>
                </a:lnTo>
                <a:lnTo>
                  <a:pt x="4724" y="148"/>
                </a:lnTo>
                <a:lnTo>
                  <a:pt x="4728" y="147"/>
                </a:lnTo>
                <a:lnTo>
                  <a:pt x="4732" y="145"/>
                </a:lnTo>
                <a:lnTo>
                  <a:pt x="4737" y="143"/>
                </a:lnTo>
                <a:lnTo>
                  <a:pt x="4741" y="142"/>
                </a:lnTo>
                <a:lnTo>
                  <a:pt x="4745" y="140"/>
                </a:lnTo>
                <a:lnTo>
                  <a:pt x="4750" y="139"/>
                </a:lnTo>
                <a:lnTo>
                  <a:pt x="4754" y="137"/>
                </a:lnTo>
                <a:lnTo>
                  <a:pt x="4758" y="135"/>
                </a:lnTo>
                <a:lnTo>
                  <a:pt x="4763" y="134"/>
                </a:lnTo>
                <a:lnTo>
                  <a:pt x="4767" y="132"/>
                </a:lnTo>
                <a:lnTo>
                  <a:pt x="4771" y="131"/>
                </a:lnTo>
                <a:lnTo>
                  <a:pt x="4776" y="129"/>
                </a:lnTo>
                <a:lnTo>
                  <a:pt x="4780" y="127"/>
                </a:lnTo>
                <a:lnTo>
                  <a:pt x="4784" y="126"/>
                </a:lnTo>
                <a:lnTo>
                  <a:pt x="4789" y="124"/>
                </a:lnTo>
                <a:lnTo>
                  <a:pt x="4793" y="123"/>
                </a:lnTo>
                <a:lnTo>
                  <a:pt x="4797" y="121"/>
                </a:lnTo>
                <a:lnTo>
                  <a:pt x="4802" y="120"/>
                </a:lnTo>
                <a:lnTo>
                  <a:pt x="4806" y="118"/>
                </a:lnTo>
                <a:lnTo>
                  <a:pt x="4810" y="116"/>
                </a:lnTo>
                <a:lnTo>
                  <a:pt x="4815" y="115"/>
                </a:lnTo>
                <a:lnTo>
                  <a:pt x="4819" y="113"/>
                </a:lnTo>
                <a:lnTo>
                  <a:pt x="4823" y="112"/>
                </a:lnTo>
                <a:lnTo>
                  <a:pt x="4828" y="110"/>
                </a:lnTo>
                <a:lnTo>
                  <a:pt x="4832" y="109"/>
                </a:lnTo>
                <a:lnTo>
                  <a:pt x="4836" y="107"/>
                </a:lnTo>
                <a:lnTo>
                  <a:pt x="4841" y="106"/>
                </a:lnTo>
                <a:lnTo>
                  <a:pt x="4845" y="104"/>
                </a:lnTo>
                <a:lnTo>
                  <a:pt x="4849" y="103"/>
                </a:lnTo>
                <a:lnTo>
                  <a:pt x="4854" y="101"/>
                </a:lnTo>
                <a:lnTo>
                  <a:pt x="4858" y="100"/>
                </a:lnTo>
                <a:lnTo>
                  <a:pt x="4862" y="98"/>
                </a:lnTo>
                <a:lnTo>
                  <a:pt x="4867" y="97"/>
                </a:lnTo>
                <a:lnTo>
                  <a:pt x="4871" y="95"/>
                </a:lnTo>
                <a:lnTo>
                  <a:pt x="4875" y="94"/>
                </a:lnTo>
                <a:lnTo>
                  <a:pt x="4880" y="92"/>
                </a:lnTo>
                <a:lnTo>
                  <a:pt x="4884" y="91"/>
                </a:lnTo>
                <a:lnTo>
                  <a:pt x="4889" y="89"/>
                </a:lnTo>
                <a:lnTo>
                  <a:pt x="4893" y="88"/>
                </a:lnTo>
                <a:lnTo>
                  <a:pt x="4897" y="86"/>
                </a:lnTo>
                <a:lnTo>
                  <a:pt x="4902" y="85"/>
                </a:lnTo>
                <a:lnTo>
                  <a:pt x="4906" y="83"/>
                </a:lnTo>
                <a:lnTo>
                  <a:pt x="4910" y="82"/>
                </a:lnTo>
                <a:lnTo>
                  <a:pt x="4915" y="81"/>
                </a:lnTo>
                <a:lnTo>
                  <a:pt x="4919" y="79"/>
                </a:lnTo>
                <a:lnTo>
                  <a:pt x="4923" y="78"/>
                </a:lnTo>
                <a:lnTo>
                  <a:pt x="4928" y="76"/>
                </a:lnTo>
                <a:lnTo>
                  <a:pt x="4932" y="75"/>
                </a:lnTo>
                <a:lnTo>
                  <a:pt x="4936" y="73"/>
                </a:lnTo>
                <a:lnTo>
                  <a:pt x="4941" y="72"/>
                </a:lnTo>
                <a:lnTo>
                  <a:pt x="4945" y="71"/>
                </a:lnTo>
                <a:lnTo>
                  <a:pt x="4949" y="69"/>
                </a:lnTo>
                <a:lnTo>
                  <a:pt x="4954" y="68"/>
                </a:lnTo>
                <a:lnTo>
                  <a:pt x="4958" y="66"/>
                </a:lnTo>
                <a:lnTo>
                  <a:pt x="4962" y="65"/>
                </a:lnTo>
                <a:lnTo>
                  <a:pt x="4967" y="64"/>
                </a:lnTo>
                <a:lnTo>
                  <a:pt x="4971" y="62"/>
                </a:lnTo>
                <a:lnTo>
                  <a:pt x="4975" y="61"/>
                </a:lnTo>
                <a:lnTo>
                  <a:pt x="4980" y="59"/>
                </a:lnTo>
                <a:lnTo>
                  <a:pt x="4984" y="58"/>
                </a:lnTo>
                <a:lnTo>
                  <a:pt x="4988" y="57"/>
                </a:lnTo>
                <a:lnTo>
                  <a:pt x="4993" y="55"/>
                </a:lnTo>
                <a:lnTo>
                  <a:pt x="4997" y="54"/>
                </a:lnTo>
                <a:lnTo>
                  <a:pt x="5001" y="53"/>
                </a:lnTo>
                <a:lnTo>
                  <a:pt x="5006" y="51"/>
                </a:lnTo>
                <a:lnTo>
                  <a:pt x="5010" y="50"/>
                </a:lnTo>
                <a:lnTo>
                  <a:pt x="5014" y="49"/>
                </a:lnTo>
                <a:lnTo>
                  <a:pt x="5019" y="47"/>
                </a:lnTo>
                <a:lnTo>
                  <a:pt x="5023" y="46"/>
                </a:lnTo>
                <a:lnTo>
                  <a:pt x="5027" y="45"/>
                </a:lnTo>
                <a:lnTo>
                  <a:pt x="5032" y="43"/>
                </a:lnTo>
                <a:lnTo>
                  <a:pt x="5036" y="42"/>
                </a:lnTo>
                <a:lnTo>
                  <a:pt x="5040" y="41"/>
                </a:lnTo>
                <a:lnTo>
                  <a:pt x="5045" y="39"/>
                </a:lnTo>
                <a:lnTo>
                  <a:pt x="5049" y="38"/>
                </a:lnTo>
                <a:lnTo>
                  <a:pt x="5053" y="37"/>
                </a:lnTo>
                <a:lnTo>
                  <a:pt x="5058" y="36"/>
                </a:lnTo>
                <a:lnTo>
                  <a:pt x="5062" y="34"/>
                </a:lnTo>
                <a:lnTo>
                  <a:pt x="5066" y="33"/>
                </a:lnTo>
                <a:lnTo>
                  <a:pt x="5071" y="32"/>
                </a:lnTo>
                <a:lnTo>
                  <a:pt x="5075" y="30"/>
                </a:lnTo>
                <a:lnTo>
                  <a:pt x="5079" y="29"/>
                </a:lnTo>
                <a:lnTo>
                  <a:pt x="5084" y="28"/>
                </a:lnTo>
                <a:lnTo>
                  <a:pt x="5088" y="27"/>
                </a:lnTo>
                <a:lnTo>
                  <a:pt x="5092" y="25"/>
                </a:lnTo>
                <a:lnTo>
                  <a:pt x="5097" y="24"/>
                </a:lnTo>
                <a:lnTo>
                  <a:pt x="5101" y="23"/>
                </a:lnTo>
                <a:lnTo>
                  <a:pt x="5105" y="22"/>
                </a:lnTo>
                <a:lnTo>
                  <a:pt x="5110" y="20"/>
                </a:lnTo>
                <a:lnTo>
                  <a:pt x="5114" y="19"/>
                </a:lnTo>
                <a:lnTo>
                  <a:pt x="5118" y="18"/>
                </a:lnTo>
                <a:lnTo>
                  <a:pt x="5123" y="17"/>
                </a:lnTo>
                <a:lnTo>
                  <a:pt x="5127" y="16"/>
                </a:lnTo>
                <a:lnTo>
                  <a:pt x="5131" y="14"/>
                </a:lnTo>
                <a:lnTo>
                  <a:pt x="5136" y="13"/>
                </a:lnTo>
                <a:lnTo>
                  <a:pt x="5140" y="12"/>
                </a:lnTo>
                <a:lnTo>
                  <a:pt x="5144" y="11"/>
                </a:lnTo>
                <a:lnTo>
                  <a:pt x="5149" y="10"/>
                </a:lnTo>
                <a:lnTo>
                  <a:pt x="5153" y="8"/>
                </a:lnTo>
                <a:lnTo>
                  <a:pt x="5157" y="7"/>
                </a:lnTo>
                <a:lnTo>
                  <a:pt x="5162" y="6"/>
                </a:lnTo>
                <a:lnTo>
                  <a:pt x="5166" y="5"/>
                </a:lnTo>
                <a:lnTo>
                  <a:pt x="5170" y="4"/>
                </a:lnTo>
                <a:lnTo>
                  <a:pt x="5175" y="3"/>
                </a:lnTo>
                <a:lnTo>
                  <a:pt x="5179" y="1"/>
                </a:lnTo>
                <a:lnTo>
                  <a:pt x="5184" y="0"/>
                </a:ln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365120" y="2046240"/>
            <a:ext cx="7126560" cy="3559320"/>
          </a:xfrm>
          <a:custGeom>
            <a:avLst/>
            <a:gdLst/>
            <a:ahLst/>
            <a:rect l="l" t="t" r="r" b="b"/>
            <a:pathLst>
              <a:path w="5184" h="2741">
                <a:moveTo>
                  <a:pt x="0" y="2741"/>
                </a:moveTo>
                <a:lnTo>
                  <a:pt x="4" y="2741"/>
                </a:lnTo>
                <a:lnTo>
                  <a:pt x="8" y="2740"/>
                </a:lnTo>
                <a:lnTo>
                  <a:pt x="13" y="2740"/>
                </a:lnTo>
                <a:lnTo>
                  <a:pt x="17" y="2739"/>
                </a:lnTo>
                <a:lnTo>
                  <a:pt x="21" y="2739"/>
                </a:lnTo>
                <a:lnTo>
                  <a:pt x="26" y="2738"/>
                </a:lnTo>
                <a:lnTo>
                  <a:pt x="30" y="2738"/>
                </a:lnTo>
                <a:lnTo>
                  <a:pt x="34" y="2737"/>
                </a:lnTo>
                <a:lnTo>
                  <a:pt x="39" y="2737"/>
                </a:lnTo>
                <a:lnTo>
                  <a:pt x="43" y="2736"/>
                </a:lnTo>
                <a:lnTo>
                  <a:pt x="47" y="2736"/>
                </a:lnTo>
                <a:lnTo>
                  <a:pt x="52" y="2735"/>
                </a:lnTo>
                <a:lnTo>
                  <a:pt x="56" y="2735"/>
                </a:lnTo>
                <a:lnTo>
                  <a:pt x="60" y="2734"/>
                </a:lnTo>
                <a:lnTo>
                  <a:pt x="65" y="2733"/>
                </a:lnTo>
                <a:lnTo>
                  <a:pt x="69" y="2733"/>
                </a:lnTo>
                <a:lnTo>
                  <a:pt x="73" y="2732"/>
                </a:lnTo>
                <a:lnTo>
                  <a:pt x="78" y="2732"/>
                </a:lnTo>
                <a:lnTo>
                  <a:pt x="82" y="2731"/>
                </a:lnTo>
                <a:lnTo>
                  <a:pt x="86" y="2731"/>
                </a:lnTo>
                <a:lnTo>
                  <a:pt x="91" y="2730"/>
                </a:lnTo>
                <a:lnTo>
                  <a:pt x="95" y="2730"/>
                </a:lnTo>
                <a:lnTo>
                  <a:pt x="99" y="2729"/>
                </a:lnTo>
                <a:lnTo>
                  <a:pt x="104" y="2729"/>
                </a:lnTo>
                <a:lnTo>
                  <a:pt x="108" y="2728"/>
                </a:lnTo>
                <a:lnTo>
                  <a:pt x="112" y="2728"/>
                </a:lnTo>
                <a:lnTo>
                  <a:pt x="117" y="2727"/>
                </a:lnTo>
                <a:lnTo>
                  <a:pt x="121" y="2726"/>
                </a:lnTo>
                <a:lnTo>
                  <a:pt x="125" y="2726"/>
                </a:lnTo>
                <a:lnTo>
                  <a:pt x="130" y="2725"/>
                </a:lnTo>
                <a:lnTo>
                  <a:pt x="134" y="2725"/>
                </a:lnTo>
                <a:lnTo>
                  <a:pt x="138" y="2724"/>
                </a:lnTo>
                <a:lnTo>
                  <a:pt x="143" y="2724"/>
                </a:lnTo>
                <a:lnTo>
                  <a:pt x="147" y="2723"/>
                </a:lnTo>
                <a:lnTo>
                  <a:pt x="151" y="2723"/>
                </a:lnTo>
                <a:lnTo>
                  <a:pt x="156" y="2722"/>
                </a:lnTo>
                <a:lnTo>
                  <a:pt x="160" y="2722"/>
                </a:lnTo>
                <a:lnTo>
                  <a:pt x="164" y="2721"/>
                </a:lnTo>
                <a:lnTo>
                  <a:pt x="169" y="2720"/>
                </a:lnTo>
                <a:lnTo>
                  <a:pt x="173" y="2720"/>
                </a:lnTo>
                <a:lnTo>
                  <a:pt x="177" y="2719"/>
                </a:lnTo>
                <a:lnTo>
                  <a:pt x="182" y="2719"/>
                </a:lnTo>
                <a:lnTo>
                  <a:pt x="186" y="2718"/>
                </a:lnTo>
                <a:lnTo>
                  <a:pt x="190" y="2718"/>
                </a:lnTo>
                <a:lnTo>
                  <a:pt x="195" y="2717"/>
                </a:lnTo>
                <a:lnTo>
                  <a:pt x="199" y="2717"/>
                </a:lnTo>
                <a:lnTo>
                  <a:pt x="203" y="2716"/>
                </a:lnTo>
                <a:lnTo>
                  <a:pt x="208" y="2715"/>
                </a:lnTo>
                <a:lnTo>
                  <a:pt x="212" y="2715"/>
                </a:lnTo>
                <a:lnTo>
                  <a:pt x="216" y="2714"/>
                </a:lnTo>
                <a:lnTo>
                  <a:pt x="221" y="2714"/>
                </a:lnTo>
                <a:lnTo>
                  <a:pt x="225" y="2713"/>
                </a:lnTo>
                <a:lnTo>
                  <a:pt x="229" y="2713"/>
                </a:lnTo>
                <a:lnTo>
                  <a:pt x="234" y="2712"/>
                </a:lnTo>
                <a:lnTo>
                  <a:pt x="238" y="2711"/>
                </a:lnTo>
                <a:lnTo>
                  <a:pt x="242" y="2711"/>
                </a:lnTo>
                <a:lnTo>
                  <a:pt x="247" y="2710"/>
                </a:lnTo>
                <a:lnTo>
                  <a:pt x="251" y="2710"/>
                </a:lnTo>
                <a:lnTo>
                  <a:pt x="255" y="2709"/>
                </a:lnTo>
                <a:lnTo>
                  <a:pt x="260" y="2709"/>
                </a:lnTo>
                <a:lnTo>
                  <a:pt x="264" y="2708"/>
                </a:lnTo>
                <a:lnTo>
                  <a:pt x="268" y="2707"/>
                </a:lnTo>
                <a:lnTo>
                  <a:pt x="273" y="2707"/>
                </a:lnTo>
                <a:lnTo>
                  <a:pt x="277" y="2706"/>
                </a:lnTo>
                <a:lnTo>
                  <a:pt x="281" y="2706"/>
                </a:lnTo>
                <a:lnTo>
                  <a:pt x="286" y="2705"/>
                </a:lnTo>
                <a:lnTo>
                  <a:pt x="290" y="2705"/>
                </a:lnTo>
                <a:lnTo>
                  <a:pt x="294" y="2704"/>
                </a:lnTo>
                <a:lnTo>
                  <a:pt x="299" y="2703"/>
                </a:lnTo>
                <a:lnTo>
                  <a:pt x="303" y="2703"/>
                </a:lnTo>
                <a:lnTo>
                  <a:pt x="308" y="2702"/>
                </a:lnTo>
                <a:lnTo>
                  <a:pt x="312" y="2702"/>
                </a:lnTo>
                <a:lnTo>
                  <a:pt x="316" y="2701"/>
                </a:lnTo>
                <a:lnTo>
                  <a:pt x="321" y="2700"/>
                </a:lnTo>
                <a:lnTo>
                  <a:pt x="325" y="2700"/>
                </a:lnTo>
                <a:lnTo>
                  <a:pt x="329" y="2699"/>
                </a:lnTo>
                <a:lnTo>
                  <a:pt x="334" y="2699"/>
                </a:lnTo>
                <a:lnTo>
                  <a:pt x="338" y="2698"/>
                </a:lnTo>
                <a:lnTo>
                  <a:pt x="342" y="2697"/>
                </a:lnTo>
                <a:lnTo>
                  <a:pt x="347" y="2697"/>
                </a:lnTo>
                <a:lnTo>
                  <a:pt x="351" y="2696"/>
                </a:lnTo>
                <a:lnTo>
                  <a:pt x="355" y="2696"/>
                </a:lnTo>
                <a:lnTo>
                  <a:pt x="360" y="2695"/>
                </a:lnTo>
                <a:lnTo>
                  <a:pt x="364" y="2694"/>
                </a:lnTo>
                <a:lnTo>
                  <a:pt x="368" y="2694"/>
                </a:lnTo>
                <a:lnTo>
                  <a:pt x="373" y="2693"/>
                </a:lnTo>
                <a:lnTo>
                  <a:pt x="377" y="2692"/>
                </a:lnTo>
                <a:lnTo>
                  <a:pt x="381" y="2692"/>
                </a:lnTo>
                <a:lnTo>
                  <a:pt x="386" y="2691"/>
                </a:lnTo>
                <a:lnTo>
                  <a:pt x="390" y="2691"/>
                </a:lnTo>
                <a:lnTo>
                  <a:pt x="394" y="2690"/>
                </a:lnTo>
                <a:lnTo>
                  <a:pt x="399" y="2689"/>
                </a:lnTo>
                <a:lnTo>
                  <a:pt x="403" y="2689"/>
                </a:lnTo>
                <a:lnTo>
                  <a:pt x="407" y="2688"/>
                </a:lnTo>
                <a:lnTo>
                  <a:pt x="412" y="2688"/>
                </a:lnTo>
                <a:lnTo>
                  <a:pt x="416" y="2687"/>
                </a:lnTo>
                <a:lnTo>
                  <a:pt x="420" y="2686"/>
                </a:lnTo>
                <a:lnTo>
                  <a:pt x="425" y="2686"/>
                </a:lnTo>
                <a:lnTo>
                  <a:pt x="429" y="2685"/>
                </a:lnTo>
                <a:lnTo>
                  <a:pt x="433" y="2684"/>
                </a:lnTo>
                <a:lnTo>
                  <a:pt x="438" y="2684"/>
                </a:lnTo>
                <a:lnTo>
                  <a:pt x="442" y="2683"/>
                </a:lnTo>
                <a:lnTo>
                  <a:pt x="446" y="2682"/>
                </a:lnTo>
                <a:lnTo>
                  <a:pt x="451" y="2682"/>
                </a:lnTo>
                <a:lnTo>
                  <a:pt x="455" y="2681"/>
                </a:lnTo>
                <a:lnTo>
                  <a:pt x="459" y="2681"/>
                </a:lnTo>
                <a:lnTo>
                  <a:pt x="464" y="2680"/>
                </a:lnTo>
                <a:lnTo>
                  <a:pt x="468" y="2679"/>
                </a:lnTo>
                <a:lnTo>
                  <a:pt x="472" y="2679"/>
                </a:lnTo>
                <a:lnTo>
                  <a:pt x="477" y="2678"/>
                </a:lnTo>
                <a:lnTo>
                  <a:pt x="481" y="2677"/>
                </a:lnTo>
                <a:lnTo>
                  <a:pt x="485" y="2677"/>
                </a:lnTo>
                <a:lnTo>
                  <a:pt x="490" y="2676"/>
                </a:lnTo>
                <a:lnTo>
                  <a:pt x="494" y="2675"/>
                </a:lnTo>
                <a:lnTo>
                  <a:pt x="498" y="2675"/>
                </a:lnTo>
                <a:lnTo>
                  <a:pt x="503" y="2674"/>
                </a:lnTo>
                <a:lnTo>
                  <a:pt x="507" y="2673"/>
                </a:lnTo>
                <a:lnTo>
                  <a:pt x="511" y="2673"/>
                </a:lnTo>
                <a:lnTo>
                  <a:pt x="516" y="2672"/>
                </a:lnTo>
                <a:lnTo>
                  <a:pt x="520" y="2671"/>
                </a:lnTo>
                <a:lnTo>
                  <a:pt x="524" y="2671"/>
                </a:lnTo>
                <a:lnTo>
                  <a:pt x="529" y="2670"/>
                </a:lnTo>
                <a:lnTo>
                  <a:pt x="533" y="2669"/>
                </a:lnTo>
                <a:lnTo>
                  <a:pt x="537" y="2669"/>
                </a:lnTo>
                <a:lnTo>
                  <a:pt x="542" y="2668"/>
                </a:lnTo>
                <a:lnTo>
                  <a:pt x="546" y="2667"/>
                </a:lnTo>
                <a:lnTo>
                  <a:pt x="550" y="2667"/>
                </a:lnTo>
                <a:lnTo>
                  <a:pt x="555" y="2666"/>
                </a:lnTo>
                <a:lnTo>
                  <a:pt x="559" y="2665"/>
                </a:lnTo>
                <a:lnTo>
                  <a:pt x="563" y="2665"/>
                </a:lnTo>
                <a:lnTo>
                  <a:pt x="568" y="2664"/>
                </a:lnTo>
                <a:lnTo>
                  <a:pt x="572" y="2663"/>
                </a:lnTo>
                <a:lnTo>
                  <a:pt x="576" y="2663"/>
                </a:lnTo>
                <a:lnTo>
                  <a:pt x="581" y="2662"/>
                </a:lnTo>
                <a:lnTo>
                  <a:pt x="585" y="2661"/>
                </a:lnTo>
                <a:lnTo>
                  <a:pt x="589" y="2661"/>
                </a:lnTo>
                <a:lnTo>
                  <a:pt x="594" y="2660"/>
                </a:lnTo>
                <a:lnTo>
                  <a:pt x="598" y="2659"/>
                </a:lnTo>
                <a:lnTo>
                  <a:pt x="602" y="2659"/>
                </a:lnTo>
                <a:lnTo>
                  <a:pt x="607" y="2658"/>
                </a:lnTo>
                <a:lnTo>
                  <a:pt x="611" y="2657"/>
                </a:lnTo>
                <a:lnTo>
                  <a:pt x="616" y="2657"/>
                </a:lnTo>
                <a:lnTo>
                  <a:pt x="620" y="2656"/>
                </a:lnTo>
                <a:lnTo>
                  <a:pt x="624" y="2655"/>
                </a:lnTo>
                <a:lnTo>
                  <a:pt x="629" y="2654"/>
                </a:lnTo>
                <a:lnTo>
                  <a:pt x="633" y="2654"/>
                </a:lnTo>
                <a:lnTo>
                  <a:pt x="637" y="2653"/>
                </a:lnTo>
                <a:lnTo>
                  <a:pt x="642" y="2652"/>
                </a:lnTo>
                <a:lnTo>
                  <a:pt x="646" y="2652"/>
                </a:lnTo>
                <a:lnTo>
                  <a:pt x="650" y="2651"/>
                </a:lnTo>
                <a:lnTo>
                  <a:pt x="655" y="2650"/>
                </a:lnTo>
                <a:lnTo>
                  <a:pt x="659" y="2649"/>
                </a:lnTo>
                <a:lnTo>
                  <a:pt x="663" y="2649"/>
                </a:lnTo>
                <a:lnTo>
                  <a:pt x="668" y="2648"/>
                </a:lnTo>
                <a:lnTo>
                  <a:pt x="672" y="2647"/>
                </a:lnTo>
                <a:lnTo>
                  <a:pt x="676" y="2647"/>
                </a:lnTo>
                <a:lnTo>
                  <a:pt x="681" y="2646"/>
                </a:lnTo>
                <a:lnTo>
                  <a:pt x="685" y="2645"/>
                </a:lnTo>
                <a:lnTo>
                  <a:pt x="689" y="2644"/>
                </a:lnTo>
                <a:lnTo>
                  <a:pt x="694" y="2644"/>
                </a:lnTo>
                <a:lnTo>
                  <a:pt x="698" y="2643"/>
                </a:lnTo>
                <a:lnTo>
                  <a:pt x="702" y="2642"/>
                </a:lnTo>
                <a:lnTo>
                  <a:pt x="707" y="2642"/>
                </a:lnTo>
                <a:lnTo>
                  <a:pt x="711" y="2641"/>
                </a:lnTo>
                <a:lnTo>
                  <a:pt x="715" y="2640"/>
                </a:lnTo>
                <a:lnTo>
                  <a:pt x="720" y="2639"/>
                </a:lnTo>
                <a:lnTo>
                  <a:pt x="724" y="2639"/>
                </a:lnTo>
                <a:lnTo>
                  <a:pt x="728" y="2638"/>
                </a:lnTo>
                <a:lnTo>
                  <a:pt x="733" y="2637"/>
                </a:lnTo>
                <a:lnTo>
                  <a:pt x="737" y="2636"/>
                </a:lnTo>
                <a:lnTo>
                  <a:pt x="741" y="2636"/>
                </a:lnTo>
                <a:lnTo>
                  <a:pt x="746" y="2635"/>
                </a:lnTo>
                <a:lnTo>
                  <a:pt x="750" y="2634"/>
                </a:lnTo>
                <a:lnTo>
                  <a:pt x="754" y="2633"/>
                </a:lnTo>
                <a:lnTo>
                  <a:pt x="759" y="2633"/>
                </a:lnTo>
                <a:lnTo>
                  <a:pt x="763" y="2632"/>
                </a:lnTo>
                <a:lnTo>
                  <a:pt x="767" y="2631"/>
                </a:lnTo>
                <a:lnTo>
                  <a:pt x="772" y="2630"/>
                </a:lnTo>
                <a:lnTo>
                  <a:pt x="776" y="2630"/>
                </a:lnTo>
                <a:lnTo>
                  <a:pt x="780" y="2629"/>
                </a:lnTo>
                <a:lnTo>
                  <a:pt x="785" y="2628"/>
                </a:lnTo>
                <a:lnTo>
                  <a:pt x="789" y="2627"/>
                </a:lnTo>
                <a:lnTo>
                  <a:pt x="793" y="2627"/>
                </a:lnTo>
                <a:lnTo>
                  <a:pt x="798" y="2626"/>
                </a:lnTo>
                <a:lnTo>
                  <a:pt x="802" y="2625"/>
                </a:lnTo>
                <a:lnTo>
                  <a:pt x="806" y="2624"/>
                </a:lnTo>
                <a:lnTo>
                  <a:pt x="811" y="2623"/>
                </a:lnTo>
                <a:lnTo>
                  <a:pt x="815" y="2623"/>
                </a:lnTo>
                <a:lnTo>
                  <a:pt x="819" y="2622"/>
                </a:lnTo>
                <a:lnTo>
                  <a:pt x="824" y="2621"/>
                </a:lnTo>
                <a:lnTo>
                  <a:pt x="828" y="2620"/>
                </a:lnTo>
                <a:lnTo>
                  <a:pt x="832" y="2620"/>
                </a:lnTo>
                <a:lnTo>
                  <a:pt x="837" y="2619"/>
                </a:lnTo>
                <a:lnTo>
                  <a:pt x="841" y="2618"/>
                </a:lnTo>
                <a:lnTo>
                  <a:pt x="845" y="2617"/>
                </a:lnTo>
                <a:lnTo>
                  <a:pt x="850" y="2616"/>
                </a:lnTo>
                <a:lnTo>
                  <a:pt x="854" y="2616"/>
                </a:lnTo>
                <a:lnTo>
                  <a:pt x="858" y="2615"/>
                </a:lnTo>
                <a:lnTo>
                  <a:pt x="863" y="2614"/>
                </a:lnTo>
                <a:lnTo>
                  <a:pt x="867" y="2613"/>
                </a:lnTo>
                <a:lnTo>
                  <a:pt x="871" y="2612"/>
                </a:lnTo>
                <a:lnTo>
                  <a:pt x="876" y="2612"/>
                </a:lnTo>
                <a:lnTo>
                  <a:pt x="880" y="2611"/>
                </a:lnTo>
                <a:lnTo>
                  <a:pt x="884" y="2610"/>
                </a:lnTo>
                <a:lnTo>
                  <a:pt x="889" y="2609"/>
                </a:lnTo>
                <a:lnTo>
                  <a:pt x="893" y="2608"/>
                </a:lnTo>
                <a:lnTo>
                  <a:pt x="897" y="2608"/>
                </a:lnTo>
                <a:lnTo>
                  <a:pt x="902" y="2607"/>
                </a:lnTo>
                <a:lnTo>
                  <a:pt x="906" y="2606"/>
                </a:lnTo>
                <a:lnTo>
                  <a:pt x="910" y="2605"/>
                </a:lnTo>
                <a:lnTo>
                  <a:pt x="915" y="2604"/>
                </a:lnTo>
                <a:lnTo>
                  <a:pt x="919" y="2603"/>
                </a:lnTo>
                <a:lnTo>
                  <a:pt x="924" y="2603"/>
                </a:lnTo>
                <a:lnTo>
                  <a:pt x="928" y="2602"/>
                </a:lnTo>
                <a:lnTo>
                  <a:pt x="932" y="2601"/>
                </a:lnTo>
                <a:lnTo>
                  <a:pt x="937" y="2600"/>
                </a:lnTo>
                <a:lnTo>
                  <a:pt x="941" y="2599"/>
                </a:lnTo>
                <a:lnTo>
                  <a:pt x="945" y="2598"/>
                </a:lnTo>
                <a:lnTo>
                  <a:pt x="950" y="2598"/>
                </a:lnTo>
                <a:lnTo>
                  <a:pt x="954" y="2597"/>
                </a:lnTo>
                <a:lnTo>
                  <a:pt x="958" y="2596"/>
                </a:lnTo>
                <a:lnTo>
                  <a:pt x="963" y="2595"/>
                </a:lnTo>
                <a:lnTo>
                  <a:pt x="967" y="2594"/>
                </a:lnTo>
                <a:lnTo>
                  <a:pt x="971" y="2593"/>
                </a:lnTo>
                <a:lnTo>
                  <a:pt x="976" y="2593"/>
                </a:lnTo>
                <a:lnTo>
                  <a:pt x="980" y="2592"/>
                </a:lnTo>
                <a:lnTo>
                  <a:pt x="984" y="2591"/>
                </a:lnTo>
                <a:lnTo>
                  <a:pt x="989" y="2590"/>
                </a:lnTo>
                <a:lnTo>
                  <a:pt x="993" y="2589"/>
                </a:lnTo>
                <a:lnTo>
                  <a:pt x="997" y="2588"/>
                </a:lnTo>
                <a:lnTo>
                  <a:pt x="1002" y="2587"/>
                </a:lnTo>
                <a:lnTo>
                  <a:pt x="1006" y="2587"/>
                </a:lnTo>
                <a:lnTo>
                  <a:pt x="1010" y="2586"/>
                </a:lnTo>
                <a:lnTo>
                  <a:pt x="1015" y="2585"/>
                </a:lnTo>
                <a:lnTo>
                  <a:pt x="1019" y="2584"/>
                </a:lnTo>
                <a:lnTo>
                  <a:pt x="1023" y="2583"/>
                </a:lnTo>
                <a:lnTo>
                  <a:pt x="1028" y="2582"/>
                </a:lnTo>
                <a:lnTo>
                  <a:pt x="1032" y="2581"/>
                </a:lnTo>
                <a:lnTo>
                  <a:pt x="1036" y="2580"/>
                </a:lnTo>
                <a:lnTo>
                  <a:pt x="1041" y="2580"/>
                </a:lnTo>
                <a:lnTo>
                  <a:pt x="1045" y="2579"/>
                </a:lnTo>
                <a:lnTo>
                  <a:pt x="1049" y="2578"/>
                </a:lnTo>
                <a:lnTo>
                  <a:pt x="1054" y="2577"/>
                </a:lnTo>
                <a:lnTo>
                  <a:pt x="1058" y="2576"/>
                </a:lnTo>
                <a:lnTo>
                  <a:pt x="1062" y="2575"/>
                </a:lnTo>
                <a:lnTo>
                  <a:pt x="1067" y="2574"/>
                </a:lnTo>
                <a:lnTo>
                  <a:pt x="1071" y="2573"/>
                </a:lnTo>
                <a:lnTo>
                  <a:pt x="1075" y="2572"/>
                </a:lnTo>
                <a:lnTo>
                  <a:pt x="1080" y="2571"/>
                </a:lnTo>
                <a:lnTo>
                  <a:pt x="1084" y="2571"/>
                </a:lnTo>
                <a:lnTo>
                  <a:pt x="1088" y="2570"/>
                </a:lnTo>
                <a:lnTo>
                  <a:pt x="1093" y="2569"/>
                </a:lnTo>
                <a:lnTo>
                  <a:pt x="1097" y="2568"/>
                </a:lnTo>
                <a:lnTo>
                  <a:pt x="1101" y="2567"/>
                </a:lnTo>
                <a:lnTo>
                  <a:pt x="1106" y="2566"/>
                </a:lnTo>
                <a:lnTo>
                  <a:pt x="1110" y="2565"/>
                </a:lnTo>
                <a:lnTo>
                  <a:pt x="1114" y="2564"/>
                </a:lnTo>
                <a:lnTo>
                  <a:pt x="1119" y="2563"/>
                </a:lnTo>
                <a:lnTo>
                  <a:pt x="1123" y="2562"/>
                </a:lnTo>
                <a:lnTo>
                  <a:pt x="1127" y="2561"/>
                </a:lnTo>
                <a:lnTo>
                  <a:pt x="1132" y="2560"/>
                </a:lnTo>
                <a:lnTo>
                  <a:pt x="1136" y="2560"/>
                </a:lnTo>
                <a:lnTo>
                  <a:pt x="1140" y="2559"/>
                </a:lnTo>
                <a:lnTo>
                  <a:pt x="1145" y="2558"/>
                </a:lnTo>
                <a:lnTo>
                  <a:pt x="1149" y="2557"/>
                </a:lnTo>
                <a:lnTo>
                  <a:pt x="1153" y="2556"/>
                </a:lnTo>
                <a:lnTo>
                  <a:pt x="1158" y="2555"/>
                </a:lnTo>
                <a:lnTo>
                  <a:pt x="1162" y="2554"/>
                </a:lnTo>
                <a:lnTo>
                  <a:pt x="1166" y="2553"/>
                </a:lnTo>
                <a:lnTo>
                  <a:pt x="1171" y="2552"/>
                </a:lnTo>
                <a:lnTo>
                  <a:pt x="1175" y="2551"/>
                </a:lnTo>
                <a:lnTo>
                  <a:pt x="1179" y="2550"/>
                </a:lnTo>
                <a:lnTo>
                  <a:pt x="1184" y="2549"/>
                </a:lnTo>
                <a:lnTo>
                  <a:pt x="1188" y="2548"/>
                </a:lnTo>
                <a:lnTo>
                  <a:pt x="1192" y="2547"/>
                </a:lnTo>
                <a:lnTo>
                  <a:pt x="1197" y="2546"/>
                </a:lnTo>
                <a:lnTo>
                  <a:pt x="1201" y="2545"/>
                </a:lnTo>
                <a:lnTo>
                  <a:pt x="1205" y="2544"/>
                </a:lnTo>
                <a:lnTo>
                  <a:pt x="1210" y="2543"/>
                </a:lnTo>
                <a:lnTo>
                  <a:pt x="1214" y="2542"/>
                </a:lnTo>
                <a:lnTo>
                  <a:pt x="1218" y="2541"/>
                </a:lnTo>
                <a:lnTo>
                  <a:pt x="1223" y="2540"/>
                </a:lnTo>
                <a:lnTo>
                  <a:pt x="1227" y="2539"/>
                </a:lnTo>
                <a:lnTo>
                  <a:pt x="1232" y="2538"/>
                </a:lnTo>
                <a:lnTo>
                  <a:pt x="1236" y="2537"/>
                </a:lnTo>
                <a:lnTo>
                  <a:pt x="1240" y="2536"/>
                </a:lnTo>
                <a:lnTo>
                  <a:pt x="1245" y="2536"/>
                </a:lnTo>
                <a:lnTo>
                  <a:pt x="1249" y="2535"/>
                </a:lnTo>
                <a:lnTo>
                  <a:pt x="1253" y="2534"/>
                </a:lnTo>
                <a:lnTo>
                  <a:pt x="1258" y="2533"/>
                </a:lnTo>
                <a:lnTo>
                  <a:pt x="1262" y="2532"/>
                </a:lnTo>
                <a:lnTo>
                  <a:pt x="1266" y="2531"/>
                </a:lnTo>
                <a:lnTo>
                  <a:pt x="1271" y="2530"/>
                </a:lnTo>
                <a:lnTo>
                  <a:pt x="1275" y="2529"/>
                </a:lnTo>
                <a:lnTo>
                  <a:pt x="1279" y="2527"/>
                </a:lnTo>
                <a:lnTo>
                  <a:pt x="1284" y="2526"/>
                </a:lnTo>
                <a:lnTo>
                  <a:pt x="1288" y="2525"/>
                </a:lnTo>
                <a:lnTo>
                  <a:pt x="1292" y="2524"/>
                </a:lnTo>
                <a:lnTo>
                  <a:pt x="1297" y="2523"/>
                </a:lnTo>
                <a:lnTo>
                  <a:pt x="1301" y="2522"/>
                </a:lnTo>
                <a:lnTo>
                  <a:pt x="1305" y="2521"/>
                </a:lnTo>
                <a:lnTo>
                  <a:pt x="1310" y="2520"/>
                </a:lnTo>
                <a:lnTo>
                  <a:pt x="1314" y="2519"/>
                </a:lnTo>
                <a:lnTo>
                  <a:pt x="1318" y="2518"/>
                </a:lnTo>
                <a:lnTo>
                  <a:pt x="1323" y="2517"/>
                </a:lnTo>
                <a:lnTo>
                  <a:pt x="1327" y="2516"/>
                </a:lnTo>
                <a:lnTo>
                  <a:pt x="1331" y="2515"/>
                </a:lnTo>
                <a:lnTo>
                  <a:pt x="1336" y="2514"/>
                </a:lnTo>
                <a:lnTo>
                  <a:pt x="1340" y="2513"/>
                </a:lnTo>
                <a:lnTo>
                  <a:pt x="1344" y="2512"/>
                </a:lnTo>
                <a:lnTo>
                  <a:pt x="1349" y="2511"/>
                </a:lnTo>
                <a:lnTo>
                  <a:pt x="1353" y="2510"/>
                </a:lnTo>
                <a:lnTo>
                  <a:pt x="1357" y="2509"/>
                </a:lnTo>
                <a:lnTo>
                  <a:pt x="1362" y="2508"/>
                </a:lnTo>
                <a:lnTo>
                  <a:pt x="1366" y="2507"/>
                </a:lnTo>
                <a:lnTo>
                  <a:pt x="1370" y="2506"/>
                </a:lnTo>
                <a:lnTo>
                  <a:pt x="1375" y="2505"/>
                </a:lnTo>
                <a:lnTo>
                  <a:pt x="1379" y="2504"/>
                </a:lnTo>
                <a:lnTo>
                  <a:pt x="1383" y="2503"/>
                </a:lnTo>
                <a:lnTo>
                  <a:pt x="1388" y="2501"/>
                </a:lnTo>
                <a:lnTo>
                  <a:pt x="1392" y="2500"/>
                </a:lnTo>
                <a:lnTo>
                  <a:pt x="1396" y="2499"/>
                </a:lnTo>
                <a:lnTo>
                  <a:pt x="1401" y="2498"/>
                </a:lnTo>
                <a:lnTo>
                  <a:pt x="1405" y="2497"/>
                </a:lnTo>
                <a:lnTo>
                  <a:pt x="1409" y="2496"/>
                </a:lnTo>
                <a:lnTo>
                  <a:pt x="1414" y="2495"/>
                </a:lnTo>
                <a:lnTo>
                  <a:pt x="1418" y="2494"/>
                </a:lnTo>
                <a:lnTo>
                  <a:pt x="1422" y="2493"/>
                </a:lnTo>
                <a:lnTo>
                  <a:pt x="1427" y="2492"/>
                </a:lnTo>
                <a:lnTo>
                  <a:pt x="1431" y="2491"/>
                </a:lnTo>
                <a:lnTo>
                  <a:pt x="1435" y="2490"/>
                </a:lnTo>
                <a:lnTo>
                  <a:pt x="1440" y="2488"/>
                </a:lnTo>
                <a:lnTo>
                  <a:pt x="1444" y="2487"/>
                </a:lnTo>
                <a:lnTo>
                  <a:pt x="1448" y="2486"/>
                </a:lnTo>
                <a:lnTo>
                  <a:pt x="1453" y="2485"/>
                </a:lnTo>
                <a:lnTo>
                  <a:pt x="1457" y="2484"/>
                </a:lnTo>
                <a:lnTo>
                  <a:pt x="1461" y="2483"/>
                </a:lnTo>
                <a:lnTo>
                  <a:pt x="1466" y="2482"/>
                </a:lnTo>
                <a:lnTo>
                  <a:pt x="1470" y="2481"/>
                </a:lnTo>
                <a:lnTo>
                  <a:pt x="1474" y="2479"/>
                </a:lnTo>
                <a:lnTo>
                  <a:pt x="1479" y="2478"/>
                </a:lnTo>
                <a:lnTo>
                  <a:pt x="1483" y="2477"/>
                </a:lnTo>
                <a:lnTo>
                  <a:pt x="1487" y="2476"/>
                </a:lnTo>
                <a:lnTo>
                  <a:pt x="1492" y="2475"/>
                </a:lnTo>
                <a:lnTo>
                  <a:pt x="1496" y="2474"/>
                </a:lnTo>
                <a:lnTo>
                  <a:pt x="1500" y="2473"/>
                </a:lnTo>
                <a:lnTo>
                  <a:pt x="1505" y="2472"/>
                </a:lnTo>
                <a:lnTo>
                  <a:pt x="1509" y="2470"/>
                </a:lnTo>
                <a:lnTo>
                  <a:pt x="1513" y="2469"/>
                </a:lnTo>
                <a:lnTo>
                  <a:pt x="1518" y="2468"/>
                </a:lnTo>
                <a:lnTo>
                  <a:pt x="1522" y="2467"/>
                </a:lnTo>
                <a:lnTo>
                  <a:pt x="1527" y="2466"/>
                </a:lnTo>
                <a:lnTo>
                  <a:pt x="1531" y="2465"/>
                </a:lnTo>
                <a:lnTo>
                  <a:pt x="1535" y="2463"/>
                </a:lnTo>
                <a:lnTo>
                  <a:pt x="1540" y="2462"/>
                </a:lnTo>
                <a:lnTo>
                  <a:pt x="1544" y="2461"/>
                </a:lnTo>
                <a:lnTo>
                  <a:pt x="1548" y="2460"/>
                </a:lnTo>
                <a:lnTo>
                  <a:pt x="1553" y="2459"/>
                </a:lnTo>
                <a:lnTo>
                  <a:pt x="1557" y="2458"/>
                </a:lnTo>
                <a:lnTo>
                  <a:pt x="1561" y="2456"/>
                </a:lnTo>
                <a:lnTo>
                  <a:pt x="1566" y="2455"/>
                </a:lnTo>
                <a:lnTo>
                  <a:pt x="1570" y="2454"/>
                </a:lnTo>
                <a:lnTo>
                  <a:pt x="1574" y="2453"/>
                </a:lnTo>
                <a:lnTo>
                  <a:pt x="1579" y="2452"/>
                </a:lnTo>
                <a:lnTo>
                  <a:pt x="1583" y="2451"/>
                </a:lnTo>
                <a:lnTo>
                  <a:pt x="1587" y="2449"/>
                </a:lnTo>
                <a:lnTo>
                  <a:pt x="1592" y="2448"/>
                </a:lnTo>
                <a:lnTo>
                  <a:pt x="1596" y="2447"/>
                </a:lnTo>
                <a:lnTo>
                  <a:pt x="1600" y="2446"/>
                </a:lnTo>
                <a:lnTo>
                  <a:pt x="1605" y="2445"/>
                </a:lnTo>
                <a:lnTo>
                  <a:pt x="1609" y="2443"/>
                </a:lnTo>
                <a:lnTo>
                  <a:pt x="1613" y="2442"/>
                </a:lnTo>
                <a:lnTo>
                  <a:pt x="1618" y="2441"/>
                </a:lnTo>
                <a:lnTo>
                  <a:pt x="1622" y="2440"/>
                </a:lnTo>
                <a:lnTo>
                  <a:pt x="1626" y="2438"/>
                </a:lnTo>
                <a:lnTo>
                  <a:pt x="1631" y="2437"/>
                </a:lnTo>
                <a:lnTo>
                  <a:pt x="1635" y="2436"/>
                </a:lnTo>
                <a:lnTo>
                  <a:pt x="1639" y="2435"/>
                </a:lnTo>
                <a:lnTo>
                  <a:pt x="1644" y="2434"/>
                </a:lnTo>
                <a:lnTo>
                  <a:pt x="1648" y="2432"/>
                </a:lnTo>
                <a:lnTo>
                  <a:pt x="1652" y="2431"/>
                </a:lnTo>
                <a:lnTo>
                  <a:pt x="1657" y="2430"/>
                </a:lnTo>
                <a:lnTo>
                  <a:pt x="1661" y="2429"/>
                </a:lnTo>
                <a:lnTo>
                  <a:pt x="1665" y="2427"/>
                </a:lnTo>
                <a:lnTo>
                  <a:pt x="1670" y="2426"/>
                </a:lnTo>
                <a:lnTo>
                  <a:pt x="1674" y="2425"/>
                </a:lnTo>
                <a:lnTo>
                  <a:pt x="1678" y="2424"/>
                </a:lnTo>
                <a:lnTo>
                  <a:pt x="1683" y="2422"/>
                </a:lnTo>
                <a:lnTo>
                  <a:pt x="1687" y="2421"/>
                </a:lnTo>
                <a:lnTo>
                  <a:pt x="1691" y="2420"/>
                </a:lnTo>
                <a:lnTo>
                  <a:pt x="1696" y="2419"/>
                </a:lnTo>
                <a:lnTo>
                  <a:pt x="1700" y="2417"/>
                </a:lnTo>
                <a:lnTo>
                  <a:pt x="1704" y="2416"/>
                </a:lnTo>
                <a:lnTo>
                  <a:pt x="1709" y="2415"/>
                </a:lnTo>
                <a:lnTo>
                  <a:pt x="1713" y="2413"/>
                </a:lnTo>
                <a:lnTo>
                  <a:pt x="1717" y="2412"/>
                </a:lnTo>
                <a:lnTo>
                  <a:pt x="1722" y="2411"/>
                </a:lnTo>
                <a:lnTo>
                  <a:pt x="1726" y="2410"/>
                </a:lnTo>
                <a:lnTo>
                  <a:pt x="1730" y="2408"/>
                </a:lnTo>
                <a:lnTo>
                  <a:pt x="1735" y="2407"/>
                </a:lnTo>
                <a:lnTo>
                  <a:pt x="1739" y="2406"/>
                </a:lnTo>
                <a:lnTo>
                  <a:pt x="1743" y="2404"/>
                </a:lnTo>
                <a:lnTo>
                  <a:pt x="1748" y="2403"/>
                </a:lnTo>
                <a:lnTo>
                  <a:pt x="1752" y="2402"/>
                </a:lnTo>
                <a:lnTo>
                  <a:pt x="1756" y="2400"/>
                </a:lnTo>
                <a:lnTo>
                  <a:pt x="1761" y="2399"/>
                </a:lnTo>
                <a:lnTo>
                  <a:pt x="1765" y="2398"/>
                </a:lnTo>
                <a:lnTo>
                  <a:pt x="1769" y="2397"/>
                </a:lnTo>
                <a:lnTo>
                  <a:pt x="1774" y="2395"/>
                </a:lnTo>
                <a:lnTo>
                  <a:pt x="1778" y="2394"/>
                </a:lnTo>
                <a:lnTo>
                  <a:pt x="1782" y="2393"/>
                </a:lnTo>
                <a:lnTo>
                  <a:pt x="1787" y="2391"/>
                </a:lnTo>
                <a:lnTo>
                  <a:pt x="1791" y="2390"/>
                </a:lnTo>
                <a:lnTo>
                  <a:pt x="1795" y="2389"/>
                </a:lnTo>
                <a:lnTo>
                  <a:pt x="1800" y="2387"/>
                </a:lnTo>
                <a:lnTo>
                  <a:pt x="1804" y="2386"/>
                </a:lnTo>
                <a:lnTo>
                  <a:pt x="1808" y="2385"/>
                </a:lnTo>
                <a:lnTo>
                  <a:pt x="1813" y="2383"/>
                </a:lnTo>
                <a:lnTo>
                  <a:pt x="1817" y="2382"/>
                </a:lnTo>
                <a:lnTo>
                  <a:pt x="1821" y="2380"/>
                </a:lnTo>
                <a:lnTo>
                  <a:pt x="1826" y="2379"/>
                </a:lnTo>
                <a:lnTo>
                  <a:pt x="1830" y="2378"/>
                </a:lnTo>
                <a:lnTo>
                  <a:pt x="1835" y="2376"/>
                </a:lnTo>
                <a:lnTo>
                  <a:pt x="1839" y="2375"/>
                </a:lnTo>
                <a:lnTo>
                  <a:pt x="1843" y="2374"/>
                </a:lnTo>
                <a:lnTo>
                  <a:pt x="1848" y="2372"/>
                </a:lnTo>
                <a:lnTo>
                  <a:pt x="1852" y="2371"/>
                </a:lnTo>
                <a:lnTo>
                  <a:pt x="1856" y="2370"/>
                </a:lnTo>
                <a:lnTo>
                  <a:pt x="1861" y="2368"/>
                </a:lnTo>
                <a:lnTo>
                  <a:pt x="1865" y="2367"/>
                </a:lnTo>
                <a:lnTo>
                  <a:pt x="1869" y="2365"/>
                </a:lnTo>
                <a:lnTo>
                  <a:pt x="1874" y="2364"/>
                </a:lnTo>
                <a:lnTo>
                  <a:pt x="1878" y="2363"/>
                </a:lnTo>
                <a:lnTo>
                  <a:pt x="1882" y="2361"/>
                </a:lnTo>
                <a:lnTo>
                  <a:pt x="1887" y="2360"/>
                </a:lnTo>
                <a:lnTo>
                  <a:pt x="1891" y="2358"/>
                </a:lnTo>
                <a:lnTo>
                  <a:pt x="1895" y="2357"/>
                </a:lnTo>
                <a:lnTo>
                  <a:pt x="1900" y="2356"/>
                </a:lnTo>
                <a:lnTo>
                  <a:pt x="1904" y="2354"/>
                </a:lnTo>
                <a:lnTo>
                  <a:pt x="1908" y="2353"/>
                </a:lnTo>
                <a:lnTo>
                  <a:pt x="1913" y="2351"/>
                </a:lnTo>
                <a:lnTo>
                  <a:pt x="1917" y="2350"/>
                </a:lnTo>
                <a:lnTo>
                  <a:pt x="1921" y="2348"/>
                </a:lnTo>
                <a:lnTo>
                  <a:pt x="1926" y="2347"/>
                </a:lnTo>
                <a:lnTo>
                  <a:pt x="1930" y="2346"/>
                </a:lnTo>
                <a:lnTo>
                  <a:pt x="1934" y="2344"/>
                </a:lnTo>
                <a:lnTo>
                  <a:pt x="1939" y="2343"/>
                </a:lnTo>
                <a:lnTo>
                  <a:pt x="1943" y="2341"/>
                </a:lnTo>
                <a:lnTo>
                  <a:pt x="1947" y="2340"/>
                </a:lnTo>
                <a:lnTo>
                  <a:pt x="1952" y="2338"/>
                </a:lnTo>
                <a:lnTo>
                  <a:pt x="1956" y="2337"/>
                </a:lnTo>
                <a:lnTo>
                  <a:pt x="1960" y="2335"/>
                </a:lnTo>
                <a:lnTo>
                  <a:pt x="1965" y="2334"/>
                </a:lnTo>
                <a:lnTo>
                  <a:pt x="1969" y="2333"/>
                </a:lnTo>
                <a:lnTo>
                  <a:pt x="1973" y="2331"/>
                </a:lnTo>
                <a:lnTo>
                  <a:pt x="1978" y="2330"/>
                </a:lnTo>
                <a:lnTo>
                  <a:pt x="1982" y="2328"/>
                </a:lnTo>
                <a:lnTo>
                  <a:pt x="1986" y="2327"/>
                </a:lnTo>
                <a:lnTo>
                  <a:pt x="1991" y="2325"/>
                </a:lnTo>
                <a:lnTo>
                  <a:pt x="1995" y="2324"/>
                </a:lnTo>
                <a:lnTo>
                  <a:pt x="1999" y="2322"/>
                </a:lnTo>
                <a:lnTo>
                  <a:pt x="2004" y="2321"/>
                </a:lnTo>
                <a:lnTo>
                  <a:pt x="2008" y="2319"/>
                </a:lnTo>
                <a:lnTo>
                  <a:pt x="2012" y="2318"/>
                </a:lnTo>
                <a:lnTo>
                  <a:pt x="2017" y="2316"/>
                </a:lnTo>
                <a:lnTo>
                  <a:pt x="2021" y="2315"/>
                </a:lnTo>
                <a:lnTo>
                  <a:pt x="2025" y="2313"/>
                </a:lnTo>
                <a:lnTo>
                  <a:pt x="2030" y="2312"/>
                </a:lnTo>
                <a:lnTo>
                  <a:pt x="2034" y="2310"/>
                </a:lnTo>
                <a:lnTo>
                  <a:pt x="2038" y="2309"/>
                </a:lnTo>
                <a:lnTo>
                  <a:pt x="2043" y="2307"/>
                </a:lnTo>
                <a:lnTo>
                  <a:pt x="2047" y="2306"/>
                </a:lnTo>
                <a:lnTo>
                  <a:pt x="2051" y="2304"/>
                </a:lnTo>
                <a:lnTo>
                  <a:pt x="2056" y="2303"/>
                </a:lnTo>
                <a:lnTo>
                  <a:pt x="2060" y="2301"/>
                </a:lnTo>
                <a:lnTo>
                  <a:pt x="2064" y="2300"/>
                </a:lnTo>
                <a:lnTo>
                  <a:pt x="2069" y="2298"/>
                </a:lnTo>
                <a:lnTo>
                  <a:pt x="2073" y="2296"/>
                </a:lnTo>
                <a:lnTo>
                  <a:pt x="2077" y="2295"/>
                </a:lnTo>
                <a:lnTo>
                  <a:pt x="2082" y="2293"/>
                </a:lnTo>
                <a:lnTo>
                  <a:pt x="2086" y="2292"/>
                </a:lnTo>
                <a:lnTo>
                  <a:pt x="2090" y="2290"/>
                </a:lnTo>
                <a:lnTo>
                  <a:pt x="2095" y="2289"/>
                </a:lnTo>
                <a:lnTo>
                  <a:pt x="2099" y="2287"/>
                </a:lnTo>
                <a:lnTo>
                  <a:pt x="2103" y="2286"/>
                </a:lnTo>
                <a:lnTo>
                  <a:pt x="2108" y="2284"/>
                </a:lnTo>
                <a:lnTo>
                  <a:pt x="2112" y="2282"/>
                </a:lnTo>
                <a:lnTo>
                  <a:pt x="2116" y="2281"/>
                </a:lnTo>
                <a:lnTo>
                  <a:pt x="2121" y="2279"/>
                </a:lnTo>
                <a:lnTo>
                  <a:pt x="2125" y="2278"/>
                </a:lnTo>
                <a:lnTo>
                  <a:pt x="2129" y="2276"/>
                </a:lnTo>
                <a:lnTo>
                  <a:pt x="2134" y="2274"/>
                </a:lnTo>
                <a:lnTo>
                  <a:pt x="2138" y="2273"/>
                </a:lnTo>
                <a:lnTo>
                  <a:pt x="2143" y="2271"/>
                </a:lnTo>
                <a:lnTo>
                  <a:pt x="2147" y="2270"/>
                </a:lnTo>
                <a:lnTo>
                  <a:pt x="2151" y="2268"/>
                </a:lnTo>
                <a:lnTo>
                  <a:pt x="2156" y="2266"/>
                </a:lnTo>
                <a:lnTo>
                  <a:pt x="2160" y="2265"/>
                </a:lnTo>
                <a:lnTo>
                  <a:pt x="2164" y="2263"/>
                </a:lnTo>
                <a:lnTo>
                  <a:pt x="2169" y="2262"/>
                </a:lnTo>
                <a:lnTo>
                  <a:pt x="2173" y="2260"/>
                </a:lnTo>
                <a:lnTo>
                  <a:pt x="2177" y="2258"/>
                </a:lnTo>
                <a:lnTo>
                  <a:pt x="2182" y="2257"/>
                </a:lnTo>
                <a:lnTo>
                  <a:pt x="2186" y="2255"/>
                </a:lnTo>
                <a:lnTo>
                  <a:pt x="2190" y="2254"/>
                </a:lnTo>
                <a:lnTo>
                  <a:pt x="2195" y="2252"/>
                </a:lnTo>
                <a:lnTo>
                  <a:pt x="2199" y="2250"/>
                </a:lnTo>
                <a:lnTo>
                  <a:pt x="2203" y="2249"/>
                </a:lnTo>
                <a:lnTo>
                  <a:pt x="2208" y="2247"/>
                </a:lnTo>
                <a:lnTo>
                  <a:pt x="2212" y="2245"/>
                </a:lnTo>
                <a:lnTo>
                  <a:pt x="2216" y="2244"/>
                </a:lnTo>
                <a:lnTo>
                  <a:pt x="2221" y="2242"/>
                </a:lnTo>
                <a:lnTo>
                  <a:pt x="2225" y="2240"/>
                </a:lnTo>
                <a:lnTo>
                  <a:pt x="2229" y="2239"/>
                </a:lnTo>
                <a:lnTo>
                  <a:pt x="2234" y="2237"/>
                </a:lnTo>
                <a:lnTo>
                  <a:pt x="2238" y="2235"/>
                </a:lnTo>
                <a:lnTo>
                  <a:pt x="2242" y="2234"/>
                </a:lnTo>
                <a:lnTo>
                  <a:pt x="2247" y="2232"/>
                </a:lnTo>
                <a:lnTo>
                  <a:pt x="2251" y="2230"/>
                </a:lnTo>
                <a:lnTo>
                  <a:pt x="2255" y="2229"/>
                </a:lnTo>
                <a:lnTo>
                  <a:pt x="2260" y="2227"/>
                </a:lnTo>
                <a:lnTo>
                  <a:pt x="2264" y="2225"/>
                </a:lnTo>
                <a:lnTo>
                  <a:pt x="2268" y="2223"/>
                </a:lnTo>
                <a:lnTo>
                  <a:pt x="2273" y="2222"/>
                </a:lnTo>
                <a:lnTo>
                  <a:pt x="2277" y="2220"/>
                </a:lnTo>
                <a:lnTo>
                  <a:pt x="2281" y="2218"/>
                </a:lnTo>
                <a:lnTo>
                  <a:pt x="2286" y="2217"/>
                </a:lnTo>
                <a:lnTo>
                  <a:pt x="2290" y="2215"/>
                </a:lnTo>
                <a:lnTo>
                  <a:pt x="2294" y="2213"/>
                </a:lnTo>
                <a:lnTo>
                  <a:pt x="2299" y="2211"/>
                </a:lnTo>
                <a:lnTo>
                  <a:pt x="2303" y="2210"/>
                </a:lnTo>
                <a:lnTo>
                  <a:pt x="2307" y="2208"/>
                </a:lnTo>
                <a:lnTo>
                  <a:pt x="2312" y="2206"/>
                </a:lnTo>
                <a:lnTo>
                  <a:pt x="2316" y="2205"/>
                </a:lnTo>
                <a:lnTo>
                  <a:pt x="2320" y="2203"/>
                </a:lnTo>
                <a:lnTo>
                  <a:pt x="2325" y="2201"/>
                </a:lnTo>
                <a:lnTo>
                  <a:pt x="2329" y="2199"/>
                </a:lnTo>
                <a:lnTo>
                  <a:pt x="2333" y="2198"/>
                </a:lnTo>
                <a:lnTo>
                  <a:pt x="2338" y="2196"/>
                </a:lnTo>
                <a:lnTo>
                  <a:pt x="2342" y="2194"/>
                </a:lnTo>
                <a:lnTo>
                  <a:pt x="2346" y="2192"/>
                </a:lnTo>
                <a:lnTo>
                  <a:pt x="2351" y="2190"/>
                </a:lnTo>
                <a:lnTo>
                  <a:pt x="2355" y="2189"/>
                </a:lnTo>
                <a:lnTo>
                  <a:pt x="2359" y="2187"/>
                </a:lnTo>
                <a:lnTo>
                  <a:pt x="2364" y="2185"/>
                </a:lnTo>
                <a:lnTo>
                  <a:pt x="2368" y="2183"/>
                </a:lnTo>
                <a:lnTo>
                  <a:pt x="2372" y="2182"/>
                </a:lnTo>
                <a:lnTo>
                  <a:pt x="2377" y="2180"/>
                </a:lnTo>
                <a:lnTo>
                  <a:pt x="2381" y="2178"/>
                </a:lnTo>
                <a:lnTo>
                  <a:pt x="2385" y="2176"/>
                </a:lnTo>
                <a:lnTo>
                  <a:pt x="2390" y="2174"/>
                </a:lnTo>
                <a:lnTo>
                  <a:pt x="2394" y="2173"/>
                </a:lnTo>
                <a:lnTo>
                  <a:pt x="2398" y="2171"/>
                </a:lnTo>
                <a:lnTo>
                  <a:pt x="2403" y="2169"/>
                </a:lnTo>
                <a:lnTo>
                  <a:pt x="2407" y="2167"/>
                </a:lnTo>
                <a:lnTo>
                  <a:pt x="2411" y="2165"/>
                </a:lnTo>
                <a:lnTo>
                  <a:pt x="2416" y="2163"/>
                </a:lnTo>
                <a:lnTo>
                  <a:pt x="2420" y="2162"/>
                </a:lnTo>
                <a:lnTo>
                  <a:pt x="2424" y="2160"/>
                </a:lnTo>
                <a:lnTo>
                  <a:pt x="2429" y="2158"/>
                </a:lnTo>
                <a:lnTo>
                  <a:pt x="2433" y="2156"/>
                </a:lnTo>
                <a:lnTo>
                  <a:pt x="2437" y="2154"/>
                </a:lnTo>
                <a:lnTo>
                  <a:pt x="2442" y="2152"/>
                </a:lnTo>
                <a:lnTo>
                  <a:pt x="2446" y="2151"/>
                </a:lnTo>
                <a:lnTo>
                  <a:pt x="2451" y="2149"/>
                </a:lnTo>
                <a:lnTo>
                  <a:pt x="2455" y="2147"/>
                </a:lnTo>
                <a:lnTo>
                  <a:pt x="2459" y="2145"/>
                </a:lnTo>
                <a:lnTo>
                  <a:pt x="2464" y="2143"/>
                </a:lnTo>
                <a:lnTo>
                  <a:pt x="2468" y="2141"/>
                </a:lnTo>
                <a:lnTo>
                  <a:pt x="2472" y="2139"/>
                </a:lnTo>
                <a:lnTo>
                  <a:pt x="2477" y="2137"/>
                </a:lnTo>
                <a:lnTo>
                  <a:pt x="2481" y="2136"/>
                </a:lnTo>
                <a:lnTo>
                  <a:pt x="2485" y="2134"/>
                </a:lnTo>
                <a:lnTo>
                  <a:pt x="2490" y="2132"/>
                </a:lnTo>
                <a:lnTo>
                  <a:pt x="2494" y="2130"/>
                </a:lnTo>
                <a:lnTo>
                  <a:pt x="2498" y="2128"/>
                </a:lnTo>
                <a:lnTo>
                  <a:pt x="2503" y="2126"/>
                </a:lnTo>
                <a:lnTo>
                  <a:pt x="2507" y="2124"/>
                </a:lnTo>
                <a:lnTo>
                  <a:pt x="2511" y="2122"/>
                </a:lnTo>
                <a:lnTo>
                  <a:pt x="2516" y="2120"/>
                </a:lnTo>
                <a:lnTo>
                  <a:pt x="2520" y="2118"/>
                </a:lnTo>
                <a:lnTo>
                  <a:pt x="2524" y="2117"/>
                </a:lnTo>
                <a:lnTo>
                  <a:pt x="2529" y="2115"/>
                </a:lnTo>
                <a:lnTo>
                  <a:pt x="2533" y="2113"/>
                </a:lnTo>
                <a:lnTo>
                  <a:pt x="2537" y="2111"/>
                </a:lnTo>
                <a:lnTo>
                  <a:pt x="2542" y="2109"/>
                </a:lnTo>
                <a:lnTo>
                  <a:pt x="2546" y="2107"/>
                </a:lnTo>
                <a:lnTo>
                  <a:pt x="2550" y="2105"/>
                </a:lnTo>
                <a:lnTo>
                  <a:pt x="2555" y="2103"/>
                </a:lnTo>
                <a:lnTo>
                  <a:pt x="2559" y="2101"/>
                </a:lnTo>
                <a:lnTo>
                  <a:pt x="2563" y="2099"/>
                </a:lnTo>
                <a:lnTo>
                  <a:pt x="2568" y="2097"/>
                </a:lnTo>
                <a:lnTo>
                  <a:pt x="2572" y="2095"/>
                </a:lnTo>
                <a:lnTo>
                  <a:pt x="2576" y="2093"/>
                </a:lnTo>
                <a:lnTo>
                  <a:pt x="2581" y="2091"/>
                </a:lnTo>
                <a:lnTo>
                  <a:pt x="2585" y="2089"/>
                </a:lnTo>
                <a:lnTo>
                  <a:pt x="2589" y="2087"/>
                </a:lnTo>
                <a:lnTo>
                  <a:pt x="2594" y="2085"/>
                </a:lnTo>
                <a:lnTo>
                  <a:pt x="2598" y="2083"/>
                </a:lnTo>
                <a:lnTo>
                  <a:pt x="2602" y="2081"/>
                </a:lnTo>
                <a:lnTo>
                  <a:pt x="2607" y="2079"/>
                </a:lnTo>
                <a:lnTo>
                  <a:pt x="2611" y="2077"/>
                </a:lnTo>
                <a:lnTo>
                  <a:pt x="2615" y="2075"/>
                </a:lnTo>
                <a:lnTo>
                  <a:pt x="2620" y="2073"/>
                </a:lnTo>
                <a:lnTo>
                  <a:pt x="2624" y="2071"/>
                </a:lnTo>
                <a:lnTo>
                  <a:pt x="2628" y="2069"/>
                </a:lnTo>
                <a:lnTo>
                  <a:pt x="2633" y="2067"/>
                </a:lnTo>
                <a:lnTo>
                  <a:pt x="2637" y="2065"/>
                </a:lnTo>
                <a:lnTo>
                  <a:pt x="2641" y="2063"/>
                </a:lnTo>
                <a:lnTo>
                  <a:pt x="2646" y="2061"/>
                </a:lnTo>
                <a:lnTo>
                  <a:pt x="2650" y="2059"/>
                </a:lnTo>
                <a:lnTo>
                  <a:pt x="2654" y="2057"/>
                </a:lnTo>
                <a:lnTo>
                  <a:pt x="2659" y="2055"/>
                </a:lnTo>
                <a:lnTo>
                  <a:pt x="2663" y="2053"/>
                </a:lnTo>
                <a:lnTo>
                  <a:pt x="2667" y="2051"/>
                </a:lnTo>
                <a:lnTo>
                  <a:pt x="2672" y="2049"/>
                </a:lnTo>
                <a:lnTo>
                  <a:pt x="2676" y="2047"/>
                </a:lnTo>
                <a:lnTo>
                  <a:pt x="2680" y="2045"/>
                </a:lnTo>
                <a:lnTo>
                  <a:pt x="2685" y="2043"/>
                </a:lnTo>
                <a:lnTo>
                  <a:pt x="2689" y="2041"/>
                </a:lnTo>
                <a:lnTo>
                  <a:pt x="2693" y="2038"/>
                </a:lnTo>
                <a:lnTo>
                  <a:pt x="2698" y="2036"/>
                </a:lnTo>
                <a:lnTo>
                  <a:pt x="2702" y="2034"/>
                </a:lnTo>
                <a:lnTo>
                  <a:pt x="2706" y="2032"/>
                </a:lnTo>
                <a:lnTo>
                  <a:pt x="2711" y="2030"/>
                </a:lnTo>
                <a:lnTo>
                  <a:pt x="2715" y="2028"/>
                </a:lnTo>
                <a:lnTo>
                  <a:pt x="2719" y="2026"/>
                </a:lnTo>
                <a:lnTo>
                  <a:pt x="2724" y="2024"/>
                </a:lnTo>
                <a:lnTo>
                  <a:pt x="2728" y="2022"/>
                </a:lnTo>
                <a:lnTo>
                  <a:pt x="2732" y="2020"/>
                </a:lnTo>
                <a:lnTo>
                  <a:pt x="2737" y="2017"/>
                </a:lnTo>
                <a:lnTo>
                  <a:pt x="2741" y="2015"/>
                </a:lnTo>
                <a:lnTo>
                  <a:pt x="2746" y="2013"/>
                </a:lnTo>
                <a:lnTo>
                  <a:pt x="2750" y="2011"/>
                </a:lnTo>
                <a:lnTo>
                  <a:pt x="2754" y="2009"/>
                </a:lnTo>
                <a:lnTo>
                  <a:pt x="2759" y="2007"/>
                </a:lnTo>
                <a:lnTo>
                  <a:pt x="2763" y="2005"/>
                </a:lnTo>
                <a:lnTo>
                  <a:pt x="2767" y="2002"/>
                </a:lnTo>
                <a:lnTo>
                  <a:pt x="2772" y="2000"/>
                </a:lnTo>
                <a:lnTo>
                  <a:pt x="2776" y="1998"/>
                </a:lnTo>
                <a:lnTo>
                  <a:pt x="2780" y="1996"/>
                </a:lnTo>
                <a:lnTo>
                  <a:pt x="2785" y="1994"/>
                </a:lnTo>
                <a:lnTo>
                  <a:pt x="2789" y="1992"/>
                </a:lnTo>
                <a:lnTo>
                  <a:pt x="2793" y="1989"/>
                </a:lnTo>
                <a:lnTo>
                  <a:pt x="2798" y="1987"/>
                </a:lnTo>
                <a:lnTo>
                  <a:pt x="2802" y="1985"/>
                </a:lnTo>
                <a:lnTo>
                  <a:pt x="2806" y="1983"/>
                </a:lnTo>
                <a:lnTo>
                  <a:pt x="2811" y="1981"/>
                </a:lnTo>
                <a:lnTo>
                  <a:pt x="2815" y="1979"/>
                </a:lnTo>
                <a:lnTo>
                  <a:pt x="2819" y="1976"/>
                </a:lnTo>
                <a:lnTo>
                  <a:pt x="2824" y="1974"/>
                </a:lnTo>
                <a:lnTo>
                  <a:pt x="2828" y="1972"/>
                </a:lnTo>
                <a:lnTo>
                  <a:pt x="2832" y="1970"/>
                </a:lnTo>
                <a:lnTo>
                  <a:pt x="2837" y="1967"/>
                </a:lnTo>
                <a:lnTo>
                  <a:pt x="2841" y="1965"/>
                </a:lnTo>
                <a:lnTo>
                  <a:pt x="2845" y="1963"/>
                </a:lnTo>
                <a:lnTo>
                  <a:pt x="2850" y="1961"/>
                </a:lnTo>
                <a:lnTo>
                  <a:pt x="2854" y="1959"/>
                </a:lnTo>
                <a:lnTo>
                  <a:pt x="2858" y="1956"/>
                </a:lnTo>
                <a:lnTo>
                  <a:pt x="2863" y="1954"/>
                </a:lnTo>
                <a:lnTo>
                  <a:pt x="2867" y="1952"/>
                </a:lnTo>
                <a:lnTo>
                  <a:pt x="2871" y="1950"/>
                </a:lnTo>
                <a:lnTo>
                  <a:pt x="2876" y="1947"/>
                </a:lnTo>
                <a:lnTo>
                  <a:pt x="2880" y="1945"/>
                </a:lnTo>
                <a:lnTo>
                  <a:pt x="2884" y="1943"/>
                </a:lnTo>
                <a:lnTo>
                  <a:pt x="2889" y="1941"/>
                </a:lnTo>
                <a:lnTo>
                  <a:pt x="2893" y="1938"/>
                </a:lnTo>
                <a:lnTo>
                  <a:pt x="2897" y="1936"/>
                </a:lnTo>
                <a:lnTo>
                  <a:pt x="2902" y="1934"/>
                </a:lnTo>
                <a:lnTo>
                  <a:pt x="2906" y="1931"/>
                </a:lnTo>
                <a:lnTo>
                  <a:pt x="2910" y="1929"/>
                </a:lnTo>
                <a:lnTo>
                  <a:pt x="2915" y="1927"/>
                </a:lnTo>
                <a:lnTo>
                  <a:pt x="2919" y="1924"/>
                </a:lnTo>
                <a:lnTo>
                  <a:pt x="2923" y="1922"/>
                </a:lnTo>
                <a:lnTo>
                  <a:pt x="2928" y="1920"/>
                </a:lnTo>
                <a:lnTo>
                  <a:pt x="2932" y="1918"/>
                </a:lnTo>
                <a:lnTo>
                  <a:pt x="2936" y="1915"/>
                </a:lnTo>
                <a:lnTo>
                  <a:pt x="2941" y="1913"/>
                </a:lnTo>
                <a:lnTo>
                  <a:pt x="2945" y="1911"/>
                </a:lnTo>
                <a:lnTo>
                  <a:pt x="2949" y="1908"/>
                </a:lnTo>
                <a:lnTo>
                  <a:pt x="2954" y="1906"/>
                </a:lnTo>
                <a:lnTo>
                  <a:pt x="2958" y="1904"/>
                </a:lnTo>
                <a:lnTo>
                  <a:pt x="2962" y="1901"/>
                </a:lnTo>
                <a:lnTo>
                  <a:pt x="2967" y="1899"/>
                </a:lnTo>
                <a:lnTo>
                  <a:pt x="2971" y="1897"/>
                </a:lnTo>
                <a:lnTo>
                  <a:pt x="2975" y="1894"/>
                </a:lnTo>
                <a:lnTo>
                  <a:pt x="2980" y="1892"/>
                </a:lnTo>
                <a:lnTo>
                  <a:pt x="2984" y="1889"/>
                </a:lnTo>
                <a:lnTo>
                  <a:pt x="2988" y="1887"/>
                </a:lnTo>
                <a:lnTo>
                  <a:pt x="2993" y="1885"/>
                </a:lnTo>
                <a:lnTo>
                  <a:pt x="2997" y="1882"/>
                </a:lnTo>
                <a:lnTo>
                  <a:pt x="3001" y="1880"/>
                </a:lnTo>
                <a:lnTo>
                  <a:pt x="3006" y="1878"/>
                </a:lnTo>
                <a:lnTo>
                  <a:pt x="3010" y="1875"/>
                </a:lnTo>
                <a:lnTo>
                  <a:pt x="3014" y="1873"/>
                </a:lnTo>
                <a:lnTo>
                  <a:pt x="3019" y="1870"/>
                </a:lnTo>
                <a:lnTo>
                  <a:pt x="3023" y="1868"/>
                </a:lnTo>
                <a:lnTo>
                  <a:pt x="3027" y="1866"/>
                </a:lnTo>
                <a:lnTo>
                  <a:pt x="3032" y="1863"/>
                </a:lnTo>
                <a:lnTo>
                  <a:pt x="3036" y="1861"/>
                </a:lnTo>
                <a:lnTo>
                  <a:pt x="3040" y="1858"/>
                </a:lnTo>
                <a:lnTo>
                  <a:pt x="3045" y="1856"/>
                </a:lnTo>
                <a:lnTo>
                  <a:pt x="3049" y="1853"/>
                </a:lnTo>
                <a:lnTo>
                  <a:pt x="3054" y="1851"/>
                </a:lnTo>
                <a:lnTo>
                  <a:pt x="3058" y="1848"/>
                </a:lnTo>
                <a:lnTo>
                  <a:pt x="3062" y="1846"/>
                </a:lnTo>
                <a:lnTo>
                  <a:pt x="3067" y="1844"/>
                </a:lnTo>
                <a:lnTo>
                  <a:pt x="3071" y="1841"/>
                </a:lnTo>
                <a:lnTo>
                  <a:pt x="3075" y="1839"/>
                </a:lnTo>
                <a:lnTo>
                  <a:pt x="3080" y="1836"/>
                </a:lnTo>
                <a:lnTo>
                  <a:pt x="3084" y="1834"/>
                </a:lnTo>
                <a:lnTo>
                  <a:pt x="3088" y="1831"/>
                </a:lnTo>
                <a:lnTo>
                  <a:pt x="3093" y="1829"/>
                </a:lnTo>
                <a:lnTo>
                  <a:pt x="3097" y="1826"/>
                </a:lnTo>
                <a:lnTo>
                  <a:pt x="3101" y="1824"/>
                </a:lnTo>
                <a:lnTo>
                  <a:pt x="3106" y="1821"/>
                </a:lnTo>
                <a:lnTo>
                  <a:pt x="3110" y="1819"/>
                </a:lnTo>
                <a:lnTo>
                  <a:pt x="3114" y="1816"/>
                </a:lnTo>
                <a:lnTo>
                  <a:pt x="3119" y="1814"/>
                </a:lnTo>
                <a:lnTo>
                  <a:pt x="3123" y="1811"/>
                </a:lnTo>
                <a:lnTo>
                  <a:pt x="3127" y="1809"/>
                </a:lnTo>
                <a:lnTo>
                  <a:pt x="3132" y="1806"/>
                </a:lnTo>
                <a:lnTo>
                  <a:pt x="3136" y="1804"/>
                </a:lnTo>
                <a:lnTo>
                  <a:pt x="3140" y="1801"/>
                </a:lnTo>
                <a:lnTo>
                  <a:pt x="3145" y="1799"/>
                </a:lnTo>
                <a:lnTo>
                  <a:pt x="3149" y="1796"/>
                </a:lnTo>
                <a:lnTo>
                  <a:pt x="3153" y="1794"/>
                </a:lnTo>
                <a:lnTo>
                  <a:pt x="3158" y="1791"/>
                </a:lnTo>
                <a:lnTo>
                  <a:pt x="3162" y="1788"/>
                </a:lnTo>
                <a:lnTo>
                  <a:pt x="3166" y="1786"/>
                </a:lnTo>
                <a:lnTo>
                  <a:pt x="3171" y="1783"/>
                </a:lnTo>
                <a:lnTo>
                  <a:pt x="3175" y="1781"/>
                </a:lnTo>
                <a:lnTo>
                  <a:pt x="3179" y="1778"/>
                </a:lnTo>
                <a:lnTo>
                  <a:pt x="3184" y="1776"/>
                </a:lnTo>
                <a:lnTo>
                  <a:pt x="3188" y="1773"/>
                </a:lnTo>
                <a:lnTo>
                  <a:pt x="3192" y="1770"/>
                </a:lnTo>
                <a:lnTo>
                  <a:pt x="3197" y="1768"/>
                </a:lnTo>
                <a:lnTo>
                  <a:pt x="3201" y="1765"/>
                </a:lnTo>
                <a:lnTo>
                  <a:pt x="3205" y="1763"/>
                </a:lnTo>
                <a:lnTo>
                  <a:pt x="3210" y="1760"/>
                </a:lnTo>
                <a:lnTo>
                  <a:pt x="3214" y="1757"/>
                </a:lnTo>
                <a:lnTo>
                  <a:pt x="3218" y="1755"/>
                </a:lnTo>
                <a:lnTo>
                  <a:pt x="3223" y="1752"/>
                </a:lnTo>
                <a:lnTo>
                  <a:pt x="3227" y="1750"/>
                </a:lnTo>
                <a:lnTo>
                  <a:pt x="3231" y="1747"/>
                </a:lnTo>
                <a:lnTo>
                  <a:pt x="3236" y="1744"/>
                </a:lnTo>
                <a:lnTo>
                  <a:pt x="3240" y="1742"/>
                </a:lnTo>
                <a:lnTo>
                  <a:pt x="3244" y="1739"/>
                </a:lnTo>
                <a:lnTo>
                  <a:pt x="3249" y="1736"/>
                </a:lnTo>
                <a:lnTo>
                  <a:pt x="3253" y="1734"/>
                </a:lnTo>
                <a:lnTo>
                  <a:pt x="3257" y="1731"/>
                </a:lnTo>
                <a:lnTo>
                  <a:pt x="3262" y="1728"/>
                </a:lnTo>
                <a:lnTo>
                  <a:pt x="3266" y="1726"/>
                </a:lnTo>
                <a:lnTo>
                  <a:pt x="3270" y="1723"/>
                </a:lnTo>
                <a:lnTo>
                  <a:pt x="3275" y="1720"/>
                </a:lnTo>
                <a:lnTo>
                  <a:pt x="3279" y="1718"/>
                </a:lnTo>
                <a:lnTo>
                  <a:pt x="3283" y="1715"/>
                </a:lnTo>
                <a:lnTo>
                  <a:pt x="3288" y="1712"/>
                </a:lnTo>
                <a:lnTo>
                  <a:pt x="3292" y="1710"/>
                </a:lnTo>
                <a:lnTo>
                  <a:pt x="3296" y="1707"/>
                </a:lnTo>
                <a:lnTo>
                  <a:pt x="3301" y="1704"/>
                </a:lnTo>
                <a:lnTo>
                  <a:pt x="3305" y="1701"/>
                </a:lnTo>
                <a:lnTo>
                  <a:pt x="3309" y="1699"/>
                </a:lnTo>
                <a:lnTo>
                  <a:pt x="3314" y="1696"/>
                </a:lnTo>
                <a:lnTo>
                  <a:pt x="3318" y="1693"/>
                </a:lnTo>
                <a:lnTo>
                  <a:pt x="3322" y="1691"/>
                </a:lnTo>
                <a:lnTo>
                  <a:pt x="3327" y="1688"/>
                </a:lnTo>
                <a:lnTo>
                  <a:pt x="3331" y="1685"/>
                </a:lnTo>
                <a:lnTo>
                  <a:pt x="3335" y="1682"/>
                </a:lnTo>
                <a:lnTo>
                  <a:pt x="3340" y="1680"/>
                </a:lnTo>
                <a:lnTo>
                  <a:pt x="3344" y="1677"/>
                </a:lnTo>
                <a:lnTo>
                  <a:pt x="3348" y="1674"/>
                </a:lnTo>
                <a:lnTo>
                  <a:pt x="3353" y="1671"/>
                </a:lnTo>
                <a:lnTo>
                  <a:pt x="3357" y="1668"/>
                </a:lnTo>
                <a:lnTo>
                  <a:pt x="3362" y="1666"/>
                </a:lnTo>
                <a:lnTo>
                  <a:pt x="3366" y="1663"/>
                </a:lnTo>
                <a:lnTo>
                  <a:pt x="3370" y="1660"/>
                </a:lnTo>
                <a:lnTo>
                  <a:pt x="3375" y="1657"/>
                </a:lnTo>
                <a:lnTo>
                  <a:pt x="3379" y="1655"/>
                </a:lnTo>
                <a:lnTo>
                  <a:pt x="3383" y="1652"/>
                </a:lnTo>
                <a:lnTo>
                  <a:pt x="3388" y="1649"/>
                </a:lnTo>
                <a:lnTo>
                  <a:pt x="3392" y="1646"/>
                </a:lnTo>
                <a:lnTo>
                  <a:pt x="3396" y="1643"/>
                </a:lnTo>
                <a:lnTo>
                  <a:pt x="3401" y="1641"/>
                </a:lnTo>
                <a:lnTo>
                  <a:pt x="3405" y="1638"/>
                </a:lnTo>
                <a:lnTo>
                  <a:pt x="3409" y="1635"/>
                </a:lnTo>
                <a:lnTo>
                  <a:pt x="3414" y="1632"/>
                </a:lnTo>
                <a:lnTo>
                  <a:pt x="3418" y="1629"/>
                </a:lnTo>
                <a:lnTo>
                  <a:pt x="3422" y="1626"/>
                </a:lnTo>
                <a:lnTo>
                  <a:pt x="3427" y="1623"/>
                </a:lnTo>
                <a:lnTo>
                  <a:pt x="3431" y="1621"/>
                </a:lnTo>
                <a:lnTo>
                  <a:pt x="3435" y="1618"/>
                </a:lnTo>
                <a:lnTo>
                  <a:pt x="3440" y="1615"/>
                </a:lnTo>
                <a:lnTo>
                  <a:pt x="3444" y="1612"/>
                </a:lnTo>
                <a:lnTo>
                  <a:pt x="3448" y="1609"/>
                </a:lnTo>
                <a:lnTo>
                  <a:pt x="3453" y="1606"/>
                </a:lnTo>
                <a:lnTo>
                  <a:pt x="3457" y="1603"/>
                </a:lnTo>
                <a:lnTo>
                  <a:pt x="3461" y="1600"/>
                </a:lnTo>
                <a:lnTo>
                  <a:pt x="3466" y="1598"/>
                </a:lnTo>
                <a:lnTo>
                  <a:pt x="3470" y="1595"/>
                </a:lnTo>
                <a:lnTo>
                  <a:pt x="3474" y="1592"/>
                </a:lnTo>
                <a:lnTo>
                  <a:pt x="3479" y="1589"/>
                </a:lnTo>
                <a:lnTo>
                  <a:pt x="3483" y="1586"/>
                </a:lnTo>
                <a:lnTo>
                  <a:pt x="3487" y="1583"/>
                </a:lnTo>
                <a:lnTo>
                  <a:pt x="3492" y="1580"/>
                </a:lnTo>
                <a:lnTo>
                  <a:pt x="3496" y="1577"/>
                </a:lnTo>
                <a:lnTo>
                  <a:pt x="3500" y="1574"/>
                </a:lnTo>
                <a:lnTo>
                  <a:pt x="3505" y="1571"/>
                </a:lnTo>
                <a:lnTo>
                  <a:pt x="3509" y="1568"/>
                </a:lnTo>
                <a:lnTo>
                  <a:pt x="3513" y="1565"/>
                </a:lnTo>
                <a:lnTo>
                  <a:pt x="3518" y="1562"/>
                </a:lnTo>
                <a:lnTo>
                  <a:pt x="3522" y="1559"/>
                </a:lnTo>
                <a:lnTo>
                  <a:pt x="3526" y="1556"/>
                </a:lnTo>
                <a:lnTo>
                  <a:pt x="3531" y="1554"/>
                </a:lnTo>
                <a:lnTo>
                  <a:pt x="3535" y="1551"/>
                </a:lnTo>
                <a:lnTo>
                  <a:pt x="3539" y="1548"/>
                </a:lnTo>
                <a:lnTo>
                  <a:pt x="3544" y="1545"/>
                </a:lnTo>
                <a:lnTo>
                  <a:pt x="3548" y="1542"/>
                </a:lnTo>
                <a:lnTo>
                  <a:pt x="3552" y="1539"/>
                </a:lnTo>
                <a:lnTo>
                  <a:pt x="3557" y="1536"/>
                </a:lnTo>
                <a:lnTo>
                  <a:pt x="3561" y="1533"/>
                </a:lnTo>
                <a:lnTo>
                  <a:pt x="3565" y="1530"/>
                </a:lnTo>
                <a:lnTo>
                  <a:pt x="3570" y="1527"/>
                </a:lnTo>
                <a:lnTo>
                  <a:pt x="3574" y="1524"/>
                </a:lnTo>
                <a:lnTo>
                  <a:pt x="3578" y="1520"/>
                </a:lnTo>
                <a:lnTo>
                  <a:pt x="3583" y="1517"/>
                </a:lnTo>
                <a:lnTo>
                  <a:pt x="3587" y="1514"/>
                </a:lnTo>
                <a:lnTo>
                  <a:pt x="3591" y="1511"/>
                </a:lnTo>
                <a:lnTo>
                  <a:pt x="3596" y="1508"/>
                </a:lnTo>
                <a:lnTo>
                  <a:pt x="3600" y="1505"/>
                </a:lnTo>
                <a:lnTo>
                  <a:pt x="3604" y="1502"/>
                </a:lnTo>
                <a:lnTo>
                  <a:pt x="3609" y="1499"/>
                </a:lnTo>
                <a:lnTo>
                  <a:pt x="3613" y="1496"/>
                </a:lnTo>
                <a:lnTo>
                  <a:pt x="3617" y="1493"/>
                </a:lnTo>
                <a:lnTo>
                  <a:pt x="3622" y="1490"/>
                </a:lnTo>
                <a:lnTo>
                  <a:pt x="3626" y="1487"/>
                </a:lnTo>
                <a:lnTo>
                  <a:pt x="3630" y="1484"/>
                </a:lnTo>
                <a:lnTo>
                  <a:pt x="3635" y="1481"/>
                </a:lnTo>
                <a:lnTo>
                  <a:pt x="3639" y="1478"/>
                </a:lnTo>
                <a:lnTo>
                  <a:pt x="3643" y="1474"/>
                </a:lnTo>
                <a:lnTo>
                  <a:pt x="3648" y="1471"/>
                </a:lnTo>
                <a:lnTo>
                  <a:pt x="3652" y="1468"/>
                </a:lnTo>
                <a:lnTo>
                  <a:pt x="3656" y="1465"/>
                </a:lnTo>
                <a:lnTo>
                  <a:pt x="3661" y="1462"/>
                </a:lnTo>
                <a:lnTo>
                  <a:pt x="3665" y="1459"/>
                </a:lnTo>
                <a:lnTo>
                  <a:pt x="3670" y="1456"/>
                </a:lnTo>
                <a:lnTo>
                  <a:pt x="3674" y="1453"/>
                </a:lnTo>
                <a:lnTo>
                  <a:pt x="3678" y="1449"/>
                </a:lnTo>
                <a:lnTo>
                  <a:pt x="3683" y="1446"/>
                </a:lnTo>
                <a:lnTo>
                  <a:pt x="3687" y="1443"/>
                </a:lnTo>
                <a:lnTo>
                  <a:pt x="3691" y="1440"/>
                </a:lnTo>
                <a:lnTo>
                  <a:pt x="3696" y="1437"/>
                </a:lnTo>
                <a:lnTo>
                  <a:pt x="3700" y="1434"/>
                </a:lnTo>
                <a:lnTo>
                  <a:pt x="3704" y="1430"/>
                </a:lnTo>
                <a:lnTo>
                  <a:pt x="3709" y="1427"/>
                </a:lnTo>
                <a:lnTo>
                  <a:pt x="3713" y="1424"/>
                </a:lnTo>
                <a:lnTo>
                  <a:pt x="3717" y="1421"/>
                </a:lnTo>
                <a:lnTo>
                  <a:pt x="3722" y="1418"/>
                </a:lnTo>
                <a:lnTo>
                  <a:pt x="3726" y="1414"/>
                </a:lnTo>
                <a:lnTo>
                  <a:pt x="3730" y="1411"/>
                </a:lnTo>
                <a:lnTo>
                  <a:pt x="3735" y="1408"/>
                </a:lnTo>
                <a:lnTo>
                  <a:pt x="3739" y="1405"/>
                </a:lnTo>
                <a:lnTo>
                  <a:pt x="3743" y="1401"/>
                </a:lnTo>
                <a:lnTo>
                  <a:pt x="3748" y="1398"/>
                </a:lnTo>
                <a:lnTo>
                  <a:pt x="3752" y="1395"/>
                </a:lnTo>
                <a:lnTo>
                  <a:pt x="3756" y="1392"/>
                </a:lnTo>
                <a:lnTo>
                  <a:pt x="3761" y="1388"/>
                </a:lnTo>
                <a:lnTo>
                  <a:pt x="3765" y="1385"/>
                </a:lnTo>
                <a:lnTo>
                  <a:pt x="3769" y="1382"/>
                </a:lnTo>
                <a:lnTo>
                  <a:pt x="3774" y="1379"/>
                </a:lnTo>
                <a:lnTo>
                  <a:pt x="3778" y="1375"/>
                </a:lnTo>
                <a:lnTo>
                  <a:pt x="3782" y="1372"/>
                </a:lnTo>
                <a:lnTo>
                  <a:pt x="3787" y="1369"/>
                </a:lnTo>
                <a:lnTo>
                  <a:pt x="3791" y="1366"/>
                </a:lnTo>
                <a:lnTo>
                  <a:pt x="3795" y="1362"/>
                </a:lnTo>
                <a:lnTo>
                  <a:pt x="3800" y="1359"/>
                </a:lnTo>
                <a:lnTo>
                  <a:pt x="3804" y="1356"/>
                </a:lnTo>
                <a:lnTo>
                  <a:pt x="3808" y="1352"/>
                </a:lnTo>
                <a:lnTo>
                  <a:pt x="3813" y="1349"/>
                </a:lnTo>
                <a:lnTo>
                  <a:pt x="3817" y="1346"/>
                </a:lnTo>
                <a:lnTo>
                  <a:pt x="3821" y="1342"/>
                </a:lnTo>
                <a:lnTo>
                  <a:pt x="3826" y="1339"/>
                </a:lnTo>
                <a:lnTo>
                  <a:pt x="3830" y="1336"/>
                </a:lnTo>
                <a:lnTo>
                  <a:pt x="3834" y="1332"/>
                </a:lnTo>
                <a:lnTo>
                  <a:pt x="3839" y="1329"/>
                </a:lnTo>
                <a:lnTo>
                  <a:pt x="3843" y="1326"/>
                </a:lnTo>
                <a:lnTo>
                  <a:pt x="3847" y="1322"/>
                </a:lnTo>
                <a:lnTo>
                  <a:pt x="3852" y="1319"/>
                </a:lnTo>
                <a:lnTo>
                  <a:pt x="3856" y="1316"/>
                </a:lnTo>
                <a:lnTo>
                  <a:pt x="3860" y="1312"/>
                </a:lnTo>
                <a:lnTo>
                  <a:pt x="3865" y="1309"/>
                </a:lnTo>
                <a:lnTo>
                  <a:pt x="3869" y="1305"/>
                </a:lnTo>
                <a:lnTo>
                  <a:pt x="3873" y="1302"/>
                </a:lnTo>
                <a:lnTo>
                  <a:pt x="3878" y="1299"/>
                </a:lnTo>
                <a:lnTo>
                  <a:pt x="3882" y="1295"/>
                </a:lnTo>
                <a:lnTo>
                  <a:pt x="3886" y="1292"/>
                </a:lnTo>
                <a:lnTo>
                  <a:pt x="3891" y="1288"/>
                </a:lnTo>
                <a:lnTo>
                  <a:pt x="3895" y="1285"/>
                </a:lnTo>
                <a:lnTo>
                  <a:pt x="3899" y="1282"/>
                </a:lnTo>
                <a:lnTo>
                  <a:pt x="3904" y="1278"/>
                </a:lnTo>
                <a:lnTo>
                  <a:pt x="3908" y="1275"/>
                </a:lnTo>
                <a:lnTo>
                  <a:pt x="3912" y="1271"/>
                </a:lnTo>
                <a:lnTo>
                  <a:pt x="3917" y="1268"/>
                </a:lnTo>
                <a:lnTo>
                  <a:pt x="3921" y="1264"/>
                </a:lnTo>
                <a:lnTo>
                  <a:pt x="3925" y="1261"/>
                </a:lnTo>
                <a:lnTo>
                  <a:pt x="3930" y="1257"/>
                </a:lnTo>
                <a:lnTo>
                  <a:pt x="3934" y="1254"/>
                </a:lnTo>
                <a:lnTo>
                  <a:pt x="3938" y="1250"/>
                </a:lnTo>
                <a:lnTo>
                  <a:pt x="3943" y="1247"/>
                </a:lnTo>
                <a:lnTo>
                  <a:pt x="3947" y="1243"/>
                </a:lnTo>
                <a:lnTo>
                  <a:pt x="3951" y="1240"/>
                </a:lnTo>
                <a:lnTo>
                  <a:pt x="3956" y="1236"/>
                </a:lnTo>
                <a:lnTo>
                  <a:pt x="3960" y="1233"/>
                </a:lnTo>
                <a:lnTo>
                  <a:pt x="3965" y="1229"/>
                </a:lnTo>
                <a:lnTo>
                  <a:pt x="3969" y="1226"/>
                </a:lnTo>
                <a:lnTo>
                  <a:pt x="3973" y="1222"/>
                </a:lnTo>
                <a:lnTo>
                  <a:pt x="3978" y="1219"/>
                </a:lnTo>
                <a:lnTo>
                  <a:pt x="3982" y="1215"/>
                </a:lnTo>
                <a:lnTo>
                  <a:pt x="3986" y="1212"/>
                </a:lnTo>
                <a:lnTo>
                  <a:pt x="3991" y="1208"/>
                </a:lnTo>
                <a:lnTo>
                  <a:pt x="3995" y="1205"/>
                </a:lnTo>
                <a:lnTo>
                  <a:pt x="3999" y="1201"/>
                </a:lnTo>
                <a:lnTo>
                  <a:pt x="4004" y="1198"/>
                </a:lnTo>
                <a:lnTo>
                  <a:pt x="4008" y="1194"/>
                </a:lnTo>
                <a:lnTo>
                  <a:pt x="4012" y="1190"/>
                </a:lnTo>
                <a:lnTo>
                  <a:pt x="4017" y="1187"/>
                </a:lnTo>
                <a:lnTo>
                  <a:pt x="4021" y="1183"/>
                </a:lnTo>
                <a:lnTo>
                  <a:pt x="4025" y="1180"/>
                </a:lnTo>
                <a:lnTo>
                  <a:pt x="4030" y="1176"/>
                </a:lnTo>
                <a:lnTo>
                  <a:pt x="4034" y="1173"/>
                </a:lnTo>
                <a:lnTo>
                  <a:pt x="4038" y="1169"/>
                </a:lnTo>
                <a:lnTo>
                  <a:pt x="4043" y="1165"/>
                </a:lnTo>
                <a:lnTo>
                  <a:pt x="4047" y="1162"/>
                </a:lnTo>
                <a:lnTo>
                  <a:pt x="4051" y="1158"/>
                </a:lnTo>
                <a:lnTo>
                  <a:pt x="4056" y="1154"/>
                </a:lnTo>
                <a:lnTo>
                  <a:pt x="4060" y="1151"/>
                </a:lnTo>
                <a:lnTo>
                  <a:pt x="4064" y="1147"/>
                </a:lnTo>
                <a:lnTo>
                  <a:pt x="4069" y="1143"/>
                </a:lnTo>
                <a:lnTo>
                  <a:pt x="4073" y="1140"/>
                </a:lnTo>
                <a:lnTo>
                  <a:pt x="4077" y="1136"/>
                </a:lnTo>
                <a:lnTo>
                  <a:pt x="4082" y="1132"/>
                </a:lnTo>
                <a:lnTo>
                  <a:pt x="4086" y="1129"/>
                </a:lnTo>
                <a:lnTo>
                  <a:pt x="4090" y="1125"/>
                </a:lnTo>
                <a:lnTo>
                  <a:pt x="4095" y="1121"/>
                </a:lnTo>
                <a:lnTo>
                  <a:pt x="4099" y="1118"/>
                </a:lnTo>
                <a:lnTo>
                  <a:pt x="4103" y="1114"/>
                </a:lnTo>
                <a:lnTo>
                  <a:pt x="4108" y="1110"/>
                </a:lnTo>
                <a:lnTo>
                  <a:pt x="4112" y="1107"/>
                </a:lnTo>
                <a:lnTo>
                  <a:pt x="4116" y="1103"/>
                </a:lnTo>
                <a:lnTo>
                  <a:pt x="4121" y="1099"/>
                </a:lnTo>
                <a:lnTo>
                  <a:pt x="4125" y="1096"/>
                </a:lnTo>
                <a:lnTo>
                  <a:pt x="4129" y="1092"/>
                </a:lnTo>
                <a:lnTo>
                  <a:pt x="4134" y="1088"/>
                </a:lnTo>
                <a:lnTo>
                  <a:pt x="4138" y="1084"/>
                </a:lnTo>
                <a:lnTo>
                  <a:pt x="4142" y="1081"/>
                </a:lnTo>
                <a:lnTo>
                  <a:pt x="4147" y="1077"/>
                </a:lnTo>
                <a:lnTo>
                  <a:pt x="4151" y="1073"/>
                </a:lnTo>
                <a:lnTo>
                  <a:pt x="4155" y="1069"/>
                </a:lnTo>
                <a:lnTo>
                  <a:pt x="4160" y="1066"/>
                </a:lnTo>
                <a:lnTo>
                  <a:pt x="4164" y="1062"/>
                </a:lnTo>
                <a:lnTo>
                  <a:pt x="4168" y="1058"/>
                </a:lnTo>
                <a:lnTo>
                  <a:pt x="4173" y="1054"/>
                </a:lnTo>
                <a:lnTo>
                  <a:pt x="4177" y="1050"/>
                </a:lnTo>
                <a:lnTo>
                  <a:pt x="4181" y="1047"/>
                </a:lnTo>
                <a:lnTo>
                  <a:pt x="4186" y="1043"/>
                </a:lnTo>
                <a:lnTo>
                  <a:pt x="4190" y="1039"/>
                </a:lnTo>
                <a:lnTo>
                  <a:pt x="4194" y="1035"/>
                </a:lnTo>
                <a:lnTo>
                  <a:pt x="4199" y="1031"/>
                </a:lnTo>
                <a:lnTo>
                  <a:pt x="4203" y="1027"/>
                </a:lnTo>
                <a:lnTo>
                  <a:pt x="4207" y="1024"/>
                </a:lnTo>
                <a:lnTo>
                  <a:pt x="4212" y="1020"/>
                </a:lnTo>
                <a:lnTo>
                  <a:pt x="4216" y="1016"/>
                </a:lnTo>
                <a:lnTo>
                  <a:pt x="4220" y="1012"/>
                </a:lnTo>
                <a:lnTo>
                  <a:pt x="4225" y="1008"/>
                </a:lnTo>
                <a:lnTo>
                  <a:pt x="4229" y="1004"/>
                </a:lnTo>
                <a:lnTo>
                  <a:pt x="4233" y="1001"/>
                </a:lnTo>
                <a:lnTo>
                  <a:pt x="4238" y="997"/>
                </a:lnTo>
                <a:lnTo>
                  <a:pt x="4242" y="993"/>
                </a:lnTo>
                <a:lnTo>
                  <a:pt x="4246" y="989"/>
                </a:lnTo>
                <a:lnTo>
                  <a:pt x="4251" y="985"/>
                </a:lnTo>
                <a:lnTo>
                  <a:pt x="4255" y="981"/>
                </a:lnTo>
                <a:lnTo>
                  <a:pt x="4259" y="977"/>
                </a:lnTo>
                <a:lnTo>
                  <a:pt x="4264" y="973"/>
                </a:lnTo>
                <a:lnTo>
                  <a:pt x="4268" y="969"/>
                </a:lnTo>
                <a:lnTo>
                  <a:pt x="4273" y="965"/>
                </a:lnTo>
                <a:lnTo>
                  <a:pt x="4277" y="961"/>
                </a:lnTo>
                <a:lnTo>
                  <a:pt x="4281" y="958"/>
                </a:lnTo>
                <a:lnTo>
                  <a:pt x="4286" y="954"/>
                </a:lnTo>
                <a:lnTo>
                  <a:pt x="4290" y="950"/>
                </a:lnTo>
                <a:lnTo>
                  <a:pt x="4294" y="946"/>
                </a:lnTo>
                <a:lnTo>
                  <a:pt x="4299" y="942"/>
                </a:lnTo>
                <a:lnTo>
                  <a:pt x="4303" y="938"/>
                </a:lnTo>
                <a:lnTo>
                  <a:pt x="4307" y="934"/>
                </a:lnTo>
                <a:lnTo>
                  <a:pt x="4312" y="930"/>
                </a:lnTo>
                <a:lnTo>
                  <a:pt x="4316" y="926"/>
                </a:lnTo>
                <a:lnTo>
                  <a:pt x="4320" y="922"/>
                </a:lnTo>
                <a:lnTo>
                  <a:pt x="4325" y="918"/>
                </a:lnTo>
                <a:lnTo>
                  <a:pt x="4329" y="914"/>
                </a:lnTo>
                <a:lnTo>
                  <a:pt x="4333" y="910"/>
                </a:lnTo>
                <a:lnTo>
                  <a:pt x="4338" y="906"/>
                </a:lnTo>
                <a:lnTo>
                  <a:pt x="4342" y="902"/>
                </a:lnTo>
                <a:lnTo>
                  <a:pt x="4346" y="898"/>
                </a:lnTo>
                <a:lnTo>
                  <a:pt x="4351" y="894"/>
                </a:lnTo>
                <a:lnTo>
                  <a:pt x="4355" y="890"/>
                </a:lnTo>
                <a:lnTo>
                  <a:pt x="4359" y="886"/>
                </a:lnTo>
                <a:lnTo>
                  <a:pt x="4364" y="882"/>
                </a:lnTo>
                <a:lnTo>
                  <a:pt x="4368" y="878"/>
                </a:lnTo>
                <a:lnTo>
                  <a:pt x="4372" y="873"/>
                </a:lnTo>
                <a:lnTo>
                  <a:pt x="4377" y="869"/>
                </a:lnTo>
                <a:lnTo>
                  <a:pt x="4381" y="865"/>
                </a:lnTo>
                <a:lnTo>
                  <a:pt x="4385" y="861"/>
                </a:lnTo>
                <a:lnTo>
                  <a:pt x="4390" y="857"/>
                </a:lnTo>
                <a:lnTo>
                  <a:pt x="4394" y="853"/>
                </a:lnTo>
                <a:lnTo>
                  <a:pt x="4398" y="849"/>
                </a:lnTo>
                <a:lnTo>
                  <a:pt x="4403" y="845"/>
                </a:lnTo>
                <a:lnTo>
                  <a:pt x="4407" y="841"/>
                </a:lnTo>
                <a:lnTo>
                  <a:pt x="4411" y="837"/>
                </a:lnTo>
                <a:lnTo>
                  <a:pt x="4416" y="832"/>
                </a:lnTo>
                <a:lnTo>
                  <a:pt x="4420" y="828"/>
                </a:lnTo>
                <a:lnTo>
                  <a:pt x="4424" y="824"/>
                </a:lnTo>
                <a:lnTo>
                  <a:pt x="4429" y="820"/>
                </a:lnTo>
                <a:lnTo>
                  <a:pt x="4433" y="816"/>
                </a:lnTo>
                <a:lnTo>
                  <a:pt x="4437" y="812"/>
                </a:lnTo>
                <a:lnTo>
                  <a:pt x="4442" y="808"/>
                </a:lnTo>
                <a:lnTo>
                  <a:pt x="4446" y="803"/>
                </a:lnTo>
                <a:lnTo>
                  <a:pt x="4450" y="799"/>
                </a:lnTo>
                <a:lnTo>
                  <a:pt x="4455" y="795"/>
                </a:lnTo>
                <a:lnTo>
                  <a:pt x="4459" y="791"/>
                </a:lnTo>
                <a:lnTo>
                  <a:pt x="4463" y="787"/>
                </a:lnTo>
                <a:lnTo>
                  <a:pt x="4468" y="782"/>
                </a:lnTo>
                <a:lnTo>
                  <a:pt x="4472" y="778"/>
                </a:lnTo>
                <a:lnTo>
                  <a:pt x="4476" y="774"/>
                </a:lnTo>
                <a:lnTo>
                  <a:pt x="4481" y="770"/>
                </a:lnTo>
                <a:lnTo>
                  <a:pt x="4485" y="766"/>
                </a:lnTo>
                <a:lnTo>
                  <a:pt x="4489" y="761"/>
                </a:lnTo>
                <a:lnTo>
                  <a:pt x="4494" y="757"/>
                </a:lnTo>
                <a:lnTo>
                  <a:pt x="4498" y="753"/>
                </a:lnTo>
                <a:lnTo>
                  <a:pt x="4502" y="749"/>
                </a:lnTo>
                <a:lnTo>
                  <a:pt x="4507" y="744"/>
                </a:lnTo>
                <a:lnTo>
                  <a:pt x="4511" y="740"/>
                </a:lnTo>
                <a:lnTo>
                  <a:pt x="4515" y="736"/>
                </a:lnTo>
                <a:lnTo>
                  <a:pt x="4520" y="732"/>
                </a:lnTo>
                <a:lnTo>
                  <a:pt x="4524" y="727"/>
                </a:lnTo>
                <a:lnTo>
                  <a:pt x="4528" y="723"/>
                </a:lnTo>
                <a:lnTo>
                  <a:pt x="4533" y="719"/>
                </a:lnTo>
                <a:lnTo>
                  <a:pt x="4537" y="714"/>
                </a:lnTo>
                <a:lnTo>
                  <a:pt x="4541" y="710"/>
                </a:lnTo>
                <a:lnTo>
                  <a:pt x="4546" y="706"/>
                </a:lnTo>
                <a:lnTo>
                  <a:pt x="4550" y="701"/>
                </a:lnTo>
                <a:lnTo>
                  <a:pt x="4554" y="697"/>
                </a:lnTo>
                <a:lnTo>
                  <a:pt x="4559" y="693"/>
                </a:lnTo>
                <a:lnTo>
                  <a:pt x="4563" y="688"/>
                </a:lnTo>
                <a:lnTo>
                  <a:pt x="4567" y="684"/>
                </a:lnTo>
                <a:lnTo>
                  <a:pt x="4572" y="680"/>
                </a:lnTo>
                <a:lnTo>
                  <a:pt x="4576" y="675"/>
                </a:lnTo>
                <a:lnTo>
                  <a:pt x="4581" y="671"/>
                </a:lnTo>
                <a:lnTo>
                  <a:pt x="4585" y="667"/>
                </a:lnTo>
                <a:lnTo>
                  <a:pt x="4589" y="662"/>
                </a:lnTo>
                <a:lnTo>
                  <a:pt x="4594" y="658"/>
                </a:lnTo>
                <a:lnTo>
                  <a:pt x="4598" y="653"/>
                </a:lnTo>
                <a:lnTo>
                  <a:pt x="4602" y="649"/>
                </a:lnTo>
                <a:lnTo>
                  <a:pt x="4607" y="645"/>
                </a:lnTo>
                <a:lnTo>
                  <a:pt x="4611" y="640"/>
                </a:lnTo>
                <a:lnTo>
                  <a:pt x="4615" y="636"/>
                </a:lnTo>
                <a:lnTo>
                  <a:pt x="4620" y="631"/>
                </a:lnTo>
                <a:lnTo>
                  <a:pt x="4624" y="627"/>
                </a:lnTo>
                <a:lnTo>
                  <a:pt x="4628" y="623"/>
                </a:lnTo>
                <a:lnTo>
                  <a:pt x="4633" y="618"/>
                </a:lnTo>
                <a:lnTo>
                  <a:pt x="4637" y="614"/>
                </a:lnTo>
                <a:lnTo>
                  <a:pt x="4641" y="609"/>
                </a:lnTo>
                <a:lnTo>
                  <a:pt x="4646" y="605"/>
                </a:lnTo>
                <a:lnTo>
                  <a:pt x="4650" y="600"/>
                </a:lnTo>
                <a:lnTo>
                  <a:pt x="4654" y="596"/>
                </a:lnTo>
                <a:lnTo>
                  <a:pt x="4659" y="591"/>
                </a:lnTo>
                <a:lnTo>
                  <a:pt x="4663" y="587"/>
                </a:lnTo>
                <a:lnTo>
                  <a:pt x="4667" y="582"/>
                </a:lnTo>
                <a:lnTo>
                  <a:pt x="4672" y="578"/>
                </a:lnTo>
                <a:lnTo>
                  <a:pt x="4676" y="573"/>
                </a:lnTo>
                <a:lnTo>
                  <a:pt x="4680" y="569"/>
                </a:lnTo>
                <a:lnTo>
                  <a:pt x="4685" y="564"/>
                </a:lnTo>
                <a:lnTo>
                  <a:pt x="4689" y="560"/>
                </a:lnTo>
                <a:lnTo>
                  <a:pt x="4693" y="555"/>
                </a:lnTo>
                <a:lnTo>
                  <a:pt x="4698" y="551"/>
                </a:lnTo>
                <a:lnTo>
                  <a:pt x="4702" y="546"/>
                </a:lnTo>
                <a:lnTo>
                  <a:pt x="4706" y="542"/>
                </a:lnTo>
                <a:lnTo>
                  <a:pt x="4711" y="537"/>
                </a:lnTo>
                <a:lnTo>
                  <a:pt x="4715" y="532"/>
                </a:lnTo>
                <a:lnTo>
                  <a:pt x="4719" y="528"/>
                </a:lnTo>
                <a:lnTo>
                  <a:pt x="4724" y="523"/>
                </a:lnTo>
                <a:lnTo>
                  <a:pt x="4728" y="519"/>
                </a:lnTo>
                <a:lnTo>
                  <a:pt x="4732" y="514"/>
                </a:lnTo>
                <a:lnTo>
                  <a:pt x="4737" y="510"/>
                </a:lnTo>
                <a:lnTo>
                  <a:pt x="4741" y="505"/>
                </a:lnTo>
                <a:lnTo>
                  <a:pt x="4745" y="500"/>
                </a:lnTo>
                <a:lnTo>
                  <a:pt x="4750" y="496"/>
                </a:lnTo>
                <a:lnTo>
                  <a:pt x="4754" y="491"/>
                </a:lnTo>
                <a:lnTo>
                  <a:pt x="4758" y="486"/>
                </a:lnTo>
                <a:lnTo>
                  <a:pt x="4763" y="482"/>
                </a:lnTo>
                <a:lnTo>
                  <a:pt x="4767" y="477"/>
                </a:lnTo>
                <a:lnTo>
                  <a:pt x="4771" y="473"/>
                </a:lnTo>
                <a:lnTo>
                  <a:pt x="4776" y="468"/>
                </a:lnTo>
                <a:lnTo>
                  <a:pt x="4780" y="463"/>
                </a:lnTo>
                <a:lnTo>
                  <a:pt x="4784" y="459"/>
                </a:lnTo>
                <a:lnTo>
                  <a:pt x="4789" y="454"/>
                </a:lnTo>
                <a:lnTo>
                  <a:pt x="4793" y="449"/>
                </a:lnTo>
                <a:lnTo>
                  <a:pt x="4797" y="444"/>
                </a:lnTo>
                <a:lnTo>
                  <a:pt x="4802" y="440"/>
                </a:lnTo>
                <a:lnTo>
                  <a:pt x="4806" y="435"/>
                </a:lnTo>
                <a:lnTo>
                  <a:pt x="4810" y="430"/>
                </a:lnTo>
                <a:lnTo>
                  <a:pt x="4815" y="426"/>
                </a:lnTo>
                <a:lnTo>
                  <a:pt x="4819" y="421"/>
                </a:lnTo>
                <a:lnTo>
                  <a:pt x="4823" y="416"/>
                </a:lnTo>
                <a:lnTo>
                  <a:pt x="4828" y="411"/>
                </a:lnTo>
                <a:lnTo>
                  <a:pt x="4832" y="407"/>
                </a:lnTo>
                <a:lnTo>
                  <a:pt x="4836" y="402"/>
                </a:lnTo>
                <a:lnTo>
                  <a:pt x="4841" y="397"/>
                </a:lnTo>
                <a:lnTo>
                  <a:pt x="4845" y="392"/>
                </a:lnTo>
                <a:lnTo>
                  <a:pt x="4849" y="388"/>
                </a:lnTo>
                <a:lnTo>
                  <a:pt x="4854" y="383"/>
                </a:lnTo>
                <a:lnTo>
                  <a:pt x="4858" y="378"/>
                </a:lnTo>
                <a:lnTo>
                  <a:pt x="4862" y="373"/>
                </a:lnTo>
                <a:lnTo>
                  <a:pt x="4867" y="369"/>
                </a:lnTo>
                <a:lnTo>
                  <a:pt x="4871" y="364"/>
                </a:lnTo>
                <a:lnTo>
                  <a:pt x="4875" y="359"/>
                </a:lnTo>
                <a:lnTo>
                  <a:pt x="4880" y="354"/>
                </a:lnTo>
                <a:lnTo>
                  <a:pt x="4884" y="349"/>
                </a:lnTo>
                <a:lnTo>
                  <a:pt x="4889" y="344"/>
                </a:lnTo>
                <a:lnTo>
                  <a:pt x="4893" y="340"/>
                </a:lnTo>
                <a:lnTo>
                  <a:pt x="4897" y="335"/>
                </a:lnTo>
                <a:lnTo>
                  <a:pt x="4902" y="330"/>
                </a:lnTo>
                <a:lnTo>
                  <a:pt x="4906" y="325"/>
                </a:lnTo>
                <a:lnTo>
                  <a:pt x="4910" y="320"/>
                </a:lnTo>
                <a:lnTo>
                  <a:pt x="4915" y="315"/>
                </a:lnTo>
                <a:lnTo>
                  <a:pt x="4919" y="310"/>
                </a:lnTo>
                <a:lnTo>
                  <a:pt x="4923" y="306"/>
                </a:lnTo>
                <a:lnTo>
                  <a:pt x="4928" y="301"/>
                </a:lnTo>
                <a:lnTo>
                  <a:pt x="4932" y="296"/>
                </a:lnTo>
                <a:lnTo>
                  <a:pt x="4936" y="291"/>
                </a:lnTo>
                <a:lnTo>
                  <a:pt x="4941" y="286"/>
                </a:lnTo>
                <a:lnTo>
                  <a:pt x="4945" y="281"/>
                </a:lnTo>
                <a:lnTo>
                  <a:pt x="4949" y="276"/>
                </a:lnTo>
                <a:lnTo>
                  <a:pt x="4954" y="271"/>
                </a:lnTo>
                <a:lnTo>
                  <a:pt x="4958" y="266"/>
                </a:lnTo>
                <a:lnTo>
                  <a:pt x="4962" y="261"/>
                </a:lnTo>
                <a:lnTo>
                  <a:pt x="4967" y="256"/>
                </a:lnTo>
                <a:lnTo>
                  <a:pt x="4971" y="251"/>
                </a:lnTo>
                <a:lnTo>
                  <a:pt x="4975" y="246"/>
                </a:lnTo>
                <a:lnTo>
                  <a:pt x="4980" y="241"/>
                </a:lnTo>
                <a:lnTo>
                  <a:pt x="4984" y="236"/>
                </a:lnTo>
                <a:lnTo>
                  <a:pt x="4988" y="231"/>
                </a:lnTo>
                <a:lnTo>
                  <a:pt x="4993" y="226"/>
                </a:lnTo>
                <a:lnTo>
                  <a:pt x="4997" y="221"/>
                </a:lnTo>
                <a:lnTo>
                  <a:pt x="5001" y="216"/>
                </a:lnTo>
                <a:lnTo>
                  <a:pt x="5006" y="211"/>
                </a:lnTo>
                <a:lnTo>
                  <a:pt x="5010" y="206"/>
                </a:lnTo>
                <a:lnTo>
                  <a:pt x="5014" y="201"/>
                </a:lnTo>
                <a:lnTo>
                  <a:pt x="5019" y="196"/>
                </a:lnTo>
                <a:lnTo>
                  <a:pt x="5023" y="191"/>
                </a:lnTo>
                <a:lnTo>
                  <a:pt x="5027" y="186"/>
                </a:lnTo>
                <a:lnTo>
                  <a:pt x="5032" y="181"/>
                </a:lnTo>
                <a:lnTo>
                  <a:pt x="5036" y="176"/>
                </a:lnTo>
                <a:lnTo>
                  <a:pt x="5040" y="171"/>
                </a:lnTo>
                <a:lnTo>
                  <a:pt x="5045" y="166"/>
                </a:lnTo>
                <a:lnTo>
                  <a:pt x="5049" y="161"/>
                </a:lnTo>
                <a:lnTo>
                  <a:pt x="5053" y="156"/>
                </a:lnTo>
                <a:lnTo>
                  <a:pt x="5058" y="151"/>
                </a:lnTo>
                <a:lnTo>
                  <a:pt x="5062" y="146"/>
                </a:lnTo>
                <a:lnTo>
                  <a:pt x="5066" y="140"/>
                </a:lnTo>
                <a:lnTo>
                  <a:pt x="5071" y="135"/>
                </a:lnTo>
                <a:lnTo>
                  <a:pt x="5075" y="130"/>
                </a:lnTo>
                <a:lnTo>
                  <a:pt x="5079" y="125"/>
                </a:lnTo>
                <a:lnTo>
                  <a:pt x="5084" y="120"/>
                </a:lnTo>
                <a:lnTo>
                  <a:pt x="5088" y="115"/>
                </a:lnTo>
                <a:lnTo>
                  <a:pt x="5092" y="110"/>
                </a:lnTo>
                <a:lnTo>
                  <a:pt x="5097" y="104"/>
                </a:lnTo>
                <a:lnTo>
                  <a:pt x="5101" y="99"/>
                </a:lnTo>
                <a:lnTo>
                  <a:pt x="5105" y="94"/>
                </a:lnTo>
                <a:lnTo>
                  <a:pt x="5110" y="89"/>
                </a:lnTo>
                <a:lnTo>
                  <a:pt x="5114" y="84"/>
                </a:lnTo>
                <a:lnTo>
                  <a:pt x="5118" y="79"/>
                </a:lnTo>
                <a:lnTo>
                  <a:pt x="5123" y="73"/>
                </a:lnTo>
                <a:lnTo>
                  <a:pt x="5127" y="68"/>
                </a:lnTo>
                <a:lnTo>
                  <a:pt x="5131" y="63"/>
                </a:lnTo>
                <a:lnTo>
                  <a:pt x="5136" y="58"/>
                </a:lnTo>
                <a:lnTo>
                  <a:pt x="5140" y="53"/>
                </a:lnTo>
                <a:lnTo>
                  <a:pt x="5144" y="47"/>
                </a:lnTo>
                <a:lnTo>
                  <a:pt x="5149" y="42"/>
                </a:lnTo>
                <a:lnTo>
                  <a:pt x="5153" y="37"/>
                </a:lnTo>
                <a:lnTo>
                  <a:pt x="5157" y="32"/>
                </a:lnTo>
                <a:lnTo>
                  <a:pt x="5162" y="26"/>
                </a:lnTo>
                <a:lnTo>
                  <a:pt x="5166" y="21"/>
                </a:lnTo>
                <a:lnTo>
                  <a:pt x="5170" y="16"/>
                </a:lnTo>
                <a:lnTo>
                  <a:pt x="5175" y="10"/>
                </a:lnTo>
                <a:lnTo>
                  <a:pt x="5179" y="5"/>
                </a:lnTo>
                <a:lnTo>
                  <a:pt x="5184" y="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365120" y="4156200"/>
            <a:ext cx="7126560" cy="1079280"/>
          </a:xfrm>
          <a:custGeom>
            <a:avLst/>
            <a:gdLst/>
            <a:ahLst/>
            <a:rect l="l" t="t" r="r" b="b"/>
            <a:pathLst>
              <a:path w="5184" h="832">
                <a:moveTo>
                  <a:pt x="0" y="832"/>
                </a:moveTo>
                <a:lnTo>
                  <a:pt x="4" y="822"/>
                </a:lnTo>
                <a:lnTo>
                  <a:pt x="8" y="812"/>
                </a:lnTo>
                <a:lnTo>
                  <a:pt x="13" y="802"/>
                </a:lnTo>
                <a:lnTo>
                  <a:pt x="17" y="793"/>
                </a:lnTo>
                <a:lnTo>
                  <a:pt x="21" y="785"/>
                </a:lnTo>
                <a:lnTo>
                  <a:pt x="26" y="777"/>
                </a:lnTo>
                <a:lnTo>
                  <a:pt x="30" y="769"/>
                </a:lnTo>
                <a:lnTo>
                  <a:pt x="34" y="761"/>
                </a:lnTo>
                <a:lnTo>
                  <a:pt x="39" y="754"/>
                </a:lnTo>
                <a:lnTo>
                  <a:pt x="43" y="747"/>
                </a:lnTo>
                <a:lnTo>
                  <a:pt x="47" y="740"/>
                </a:lnTo>
                <a:lnTo>
                  <a:pt x="52" y="733"/>
                </a:lnTo>
                <a:lnTo>
                  <a:pt x="56" y="727"/>
                </a:lnTo>
                <a:lnTo>
                  <a:pt x="60" y="721"/>
                </a:lnTo>
                <a:lnTo>
                  <a:pt x="65" y="715"/>
                </a:lnTo>
                <a:lnTo>
                  <a:pt x="69" y="709"/>
                </a:lnTo>
                <a:lnTo>
                  <a:pt x="73" y="703"/>
                </a:lnTo>
                <a:lnTo>
                  <a:pt x="78" y="698"/>
                </a:lnTo>
                <a:lnTo>
                  <a:pt x="82" y="692"/>
                </a:lnTo>
                <a:lnTo>
                  <a:pt x="86" y="687"/>
                </a:lnTo>
                <a:lnTo>
                  <a:pt x="91" y="682"/>
                </a:lnTo>
                <a:lnTo>
                  <a:pt x="95" y="677"/>
                </a:lnTo>
                <a:lnTo>
                  <a:pt x="99" y="672"/>
                </a:lnTo>
                <a:lnTo>
                  <a:pt x="104" y="667"/>
                </a:lnTo>
                <a:lnTo>
                  <a:pt x="108" y="663"/>
                </a:lnTo>
                <a:lnTo>
                  <a:pt x="112" y="658"/>
                </a:lnTo>
                <a:lnTo>
                  <a:pt x="117" y="654"/>
                </a:lnTo>
                <a:lnTo>
                  <a:pt x="121" y="649"/>
                </a:lnTo>
                <a:lnTo>
                  <a:pt x="125" y="645"/>
                </a:lnTo>
                <a:lnTo>
                  <a:pt x="130" y="641"/>
                </a:lnTo>
                <a:lnTo>
                  <a:pt x="134" y="637"/>
                </a:lnTo>
                <a:lnTo>
                  <a:pt x="138" y="633"/>
                </a:lnTo>
                <a:lnTo>
                  <a:pt x="143" y="629"/>
                </a:lnTo>
                <a:lnTo>
                  <a:pt x="147" y="625"/>
                </a:lnTo>
                <a:lnTo>
                  <a:pt x="151" y="622"/>
                </a:lnTo>
                <a:lnTo>
                  <a:pt x="156" y="618"/>
                </a:lnTo>
                <a:lnTo>
                  <a:pt x="160" y="614"/>
                </a:lnTo>
                <a:lnTo>
                  <a:pt x="164" y="611"/>
                </a:lnTo>
                <a:lnTo>
                  <a:pt x="169" y="607"/>
                </a:lnTo>
                <a:lnTo>
                  <a:pt x="173" y="604"/>
                </a:lnTo>
                <a:lnTo>
                  <a:pt x="177" y="600"/>
                </a:lnTo>
                <a:lnTo>
                  <a:pt x="182" y="597"/>
                </a:lnTo>
                <a:lnTo>
                  <a:pt x="186" y="594"/>
                </a:lnTo>
                <a:lnTo>
                  <a:pt x="190" y="591"/>
                </a:lnTo>
                <a:lnTo>
                  <a:pt x="195" y="588"/>
                </a:lnTo>
                <a:lnTo>
                  <a:pt x="199" y="584"/>
                </a:lnTo>
                <a:lnTo>
                  <a:pt x="203" y="581"/>
                </a:lnTo>
                <a:lnTo>
                  <a:pt x="208" y="578"/>
                </a:lnTo>
                <a:lnTo>
                  <a:pt x="212" y="575"/>
                </a:lnTo>
                <a:lnTo>
                  <a:pt x="216" y="572"/>
                </a:lnTo>
                <a:lnTo>
                  <a:pt x="221" y="570"/>
                </a:lnTo>
                <a:lnTo>
                  <a:pt x="225" y="567"/>
                </a:lnTo>
                <a:lnTo>
                  <a:pt x="229" y="564"/>
                </a:lnTo>
                <a:lnTo>
                  <a:pt x="234" y="561"/>
                </a:lnTo>
                <a:lnTo>
                  <a:pt x="238" y="558"/>
                </a:lnTo>
                <a:lnTo>
                  <a:pt x="242" y="556"/>
                </a:lnTo>
                <a:lnTo>
                  <a:pt x="247" y="553"/>
                </a:lnTo>
                <a:lnTo>
                  <a:pt x="251" y="551"/>
                </a:lnTo>
                <a:lnTo>
                  <a:pt x="255" y="548"/>
                </a:lnTo>
                <a:lnTo>
                  <a:pt x="260" y="545"/>
                </a:lnTo>
                <a:lnTo>
                  <a:pt x="264" y="543"/>
                </a:lnTo>
                <a:lnTo>
                  <a:pt x="268" y="540"/>
                </a:lnTo>
                <a:lnTo>
                  <a:pt x="273" y="538"/>
                </a:lnTo>
                <a:lnTo>
                  <a:pt x="277" y="535"/>
                </a:lnTo>
                <a:lnTo>
                  <a:pt x="281" y="533"/>
                </a:lnTo>
                <a:lnTo>
                  <a:pt x="286" y="531"/>
                </a:lnTo>
                <a:lnTo>
                  <a:pt x="290" y="528"/>
                </a:lnTo>
                <a:lnTo>
                  <a:pt x="294" y="526"/>
                </a:lnTo>
                <a:lnTo>
                  <a:pt x="299" y="524"/>
                </a:lnTo>
                <a:lnTo>
                  <a:pt x="303" y="522"/>
                </a:lnTo>
                <a:lnTo>
                  <a:pt x="308" y="519"/>
                </a:lnTo>
                <a:lnTo>
                  <a:pt x="312" y="517"/>
                </a:lnTo>
                <a:lnTo>
                  <a:pt x="316" y="515"/>
                </a:lnTo>
                <a:lnTo>
                  <a:pt x="321" y="513"/>
                </a:lnTo>
                <a:lnTo>
                  <a:pt x="325" y="511"/>
                </a:lnTo>
                <a:lnTo>
                  <a:pt x="329" y="508"/>
                </a:lnTo>
                <a:lnTo>
                  <a:pt x="334" y="506"/>
                </a:lnTo>
                <a:lnTo>
                  <a:pt x="338" y="504"/>
                </a:lnTo>
                <a:lnTo>
                  <a:pt x="342" y="502"/>
                </a:lnTo>
                <a:lnTo>
                  <a:pt x="347" y="500"/>
                </a:lnTo>
                <a:lnTo>
                  <a:pt x="351" y="498"/>
                </a:lnTo>
                <a:lnTo>
                  <a:pt x="355" y="496"/>
                </a:lnTo>
                <a:lnTo>
                  <a:pt x="360" y="494"/>
                </a:lnTo>
                <a:lnTo>
                  <a:pt x="364" y="492"/>
                </a:lnTo>
                <a:lnTo>
                  <a:pt x="368" y="490"/>
                </a:lnTo>
                <a:lnTo>
                  <a:pt x="373" y="488"/>
                </a:lnTo>
                <a:lnTo>
                  <a:pt x="377" y="487"/>
                </a:lnTo>
                <a:lnTo>
                  <a:pt x="381" y="485"/>
                </a:lnTo>
                <a:lnTo>
                  <a:pt x="386" y="483"/>
                </a:lnTo>
                <a:lnTo>
                  <a:pt x="390" y="481"/>
                </a:lnTo>
                <a:lnTo>
                  <a:pt x="394" y="479"/>
                </a:lnTo>
                <a:lnTo>
                  <a:pt x="399" y="477"/>
                </a:lnTo>
                <a:lnTo>
                  <a:pt x="403" y="476"/>
                </a:lnTo>
                <a:lnTo>
                  <a:pt x="407" y="474"/>
                </a:lnTo>
                <a:lnTo>
                  <a:pt x="412" y="472"/>
                </a:lnTo>
                <a:lnTo>
                  <a:pt x="416" y="470"/>
                </a:lnTo>
                <a:lnTo>
                  <a:pt x="420" y="469"/>
                </a:lnTo>
                <a:lnTo>
                  <a:pt x="425" y="467"/>
                </a:lnTo>
                <a:lnTo>
                  <a:pt x="429" y="465"/>
                </a:lnTo>
                <a:lnTo>
                  <a:pt x="433" y="463"/>
                </a:lnTo>
                <a:lnTo>
                  <a:pt x="438" y="462"/>
                </a:lnTo>
                <a:lnTo>
                  <a:pt x="442" y="460"/>
                </a:lnTo>
                <a:lnTo>
                  <a:pt x="446" y="458"/>
                </a:lnTo>
                <a:lnTo>
                  <a:pt x="451" y="457"/>
                </a:lnTo>
                <a:lnTo>
                  <a:pt x="455" y="455"/>
                </a:lnTo>
                <a:lnTo>
                  <a:pt x="459" y="454"/>
                </a:lnTo>
                <a:lnTo>
                  <a:pt x="464" y="452"/>
                </a:lnTo>
                <a:lnTo>
                  <a:pt x="468" y="450"/>
                </a:lnTo>
                <a:lnTo>
                  <a:pt x="472" y="449"/>
                </a:lnTo>
                <a:lnTo>
                  <a:pt x="477" y="447"/>
                </a:lnTo>
                <a:lnTo>
                  <a:pt x="481" y="446"/>
                </a:lnTo>
                <a:lnTo>
                  <a:pt x="485" y="444"/>
                </a:lnTo>
                <a:lnTo>
                  <a:pt x="490" y="443"/>
                </a:lnTo>
                <a:lnTo>
                  <a:pt x="494" y="441"/>
                </a:lnTo>
                <a:lnTo>
                  <a:pt x="498" y="440"/>
                </a:lnTo>
                <a:lnTo>
                  <a:pt x="503" y="438"/>
                </a:lnTo>
                <a:lnTo>
                  <a:pt x="507" y="437"/>
                </a:lnTo>
                <a:lnTo>
                  <a:pt x="511" y="435"/>
                </a:lnTo>
                <a:lnTo>
                  <a:pt x="516" y="434"/>
                </a:lnTo>
                <a:lnTo>
                  <a:pt x="520" y="432"/>
                </a:lnTo>
                <a:lnTo>
                  <a:pt x="524" y="431"/>
                </a:lnTo>
                <a:lnTo>
                  <a:pt x="529" y="430"/>
                </a:lnTo>
                <a:lnTo>
                  <a:pt x="533" y="428"/>
                </a:lnTo>
                <a:lnTo>
                  <a:pt x="537" y="427"/>
                </a:lnTo>
                <a:lnTo>
                  <a:pt x="542" y="425"/>
                </a:lnTo>
                <a:lnTo>
                  <a:pt x="546" y="424"/>
                </a:lnTo>
                <a:lnTo>
                  <a:pt x="550" y="423"/>
                </a:lnTo>
                <a:lnTo>
                  <a:pt x="555" y="421"/>
                </a:lnTo>
                <a:lnTo>
                  <a:pt x="559" y="420"/>
                </a:lnTo>
                <a:lnTo>
                  <a:pt x="563" y="418"/>
                </a:lnTo>
                <a:lnTo>
                  <a:pt x="568" y="417"/>
                </a:lnTo>
                <a:lnTo>
                  <a:pt x="572" y="416"/>
                </a:lnTo>
                <a:lnTo>
                  <a:pt x="576" y="415"/>
                </a:lnTo>
                <a:lnTo>
                  <a:pt x="581" y="413"/>
                </a:lnTo>
                <a:lnTo>
                  <a:pt x="585" y="412"/>
                </a:lnTo>
                <a:lnTo>
                  <a:pt x="589" y="411"/>
                </a:lnTo>
                <a:lnTo>
                  <a:pt x="594" y="409"/>
                </a:lnTo>
                <a:lnTo>
                  <a:pt x="598" y="408"/>
                </a:lnTo>
                <a:lnTo>
                  <a:pt x="602" y="407"/>
                </a:lnTo>
                <a:lnTo>
                  <a:pt x="607" y="406"/>
                </a:lnTo>
                <a:lnTo>
                  <a:pt x="611" y="404"/>
                </a:lnTo>
                <a:lnTo>
                  <a:pt x="616" y="403"/>
                </a:lnTo>
                <a:lnTo>
                  <a:pt x="620" y="402"/>
                </a:lnTo>
                <a:lnTo>
                  <a:pt x="624" y="401"/>
                </a:lnTo>
                <a:lnTo>
                  <a:pt x="629" y="399"/>
                </a:lnTo>
                <a:lnTo>
                  <a:pt x="633" y="398"/>
                </a:lnTo>
                <a:lnTo>
                  <a:pt x="637" y="397"/>
                </a:lnTo>
                <a:lnTo>
                  <a:pt x="642" y="396"/>
                </a:lnTo>
                <a:lnTo>
                  <a:pt x="646" y="395"/>
                </a:lnTo>
                <a:lnTo>
                  <a:pt x="650" y="393"/>
                </a:lnTo>
                <a:lnTo>
                  <a:pt x="655" y="392"/>
                </a:lnTo>
                <a:lnTo>
                  <a:pt x="659" y="391"/>
                </a:lnTo>
                <a:lnTo>
                  <a:pt x="663" y="390"/>
                </a:lnTo>
                <a:lnTo>
                  <a:pt x="668" y="389"/>
                </a:lnTo>
                <a:lnTo>
                  <a:pt x="672" y="388"/>
                </a:lnTo>
                <a:lnTo>
                  <a:pt x="676" y="386"/>
                </a:lnTo>
                <a:lnTo>
                  <a:pt x="681" y="385"/>
                </a:lnTo>
                <a:lnTo>
                  <a:pt x="685" y="384"/>
                </a:lnTo>
                <a:lnTo>
                  <a:pt x="689" y="383"/>
                </a:lnTo>
                <a:lnTo>
                  <a:pt x="694" y="382"/>
                </a:lnTo>
                <a:lnTo>
                  <a:pt x="698" y="381"/>
                </a:lnTo>
                <a:lnTo>
                  <a:pt x="702" y="380"/>
                </a:lnTo>
                <a:lnTo>
                  <a:pt x="707" y="379"/>
                </a:lnTo>
                <a:lnTo>
                  <a:pt x="711" y="377"/>
                </a:lnTo>
                <a:lnTo>
                  <a:pt x="715" y="376"/>
                </a:lnTo>
                <a:lnTo>
                  <a:pt x="720" y="375"/>
                </a:lnTo>
                <a:lnTo>
                  <a:pt x="724" y="374"/>
                </a:lnTo>
                <a:lnTo>
                  <a:pt x="728" y="373"/>
                </a:lnTo>
                <a:lnTo>
                  <a:pt x="733" y="372"/>
                </a:lnTo>
                <a:lnTo>
                  <a:pt x="737" y="371"/>
                </a:lnTo>
                <a:lnTo>
                  <a:pt x="741" y="370"/>
                </a:lnTo>
                <a:lnTo>
                  <a:pt x="746" y="369"/>
                </a:lnTo>
                <a:lnTo>
                  <a:pt x="750" y="368"/>
                </a:lnTo>
                <a:lnTo>
                  <a:pt x="754" y="367"/>
                </a:lnTo>
                <a:lnTo>
                  <a:pt x="759" y="366"/>
                </a:lnTo>
                <a:lnTo>
                  <a:pt x="763" y="365"/>
                </a:lnTo>
                <a:lnTo>
                  <a:pt x="767" y="364"/>
                </a:lnTo>
                <a:lnTo>
                  <a:pt x="772" y="363"/>
                </a:lnTo>
                <a:lnTo>
                  <a:pt x="776" y="362"/>
                </a:lnTo>
                <a:lnTo>
                  <a:pt x="780" y="361"/>
                </a:lnTo>
                <a:lnTo>
                  <a:pt x="785" y="360"/>
                </a:lnTo>
                <a:lnTo>
                  <a:pt x="789" y="359"/>
                </a:lnTo>
                <a:lnTo>
                  <a:pt x="793" y="358"/>
                </a:lnTo>
                <a:lnTo>
                  <a:pt x="798" y="357"/>
                </a:lnTo>
                <a:lnTo>
                  <a:pt x="802" y="356"/>
                </a:lnTo>
                <a:lnTo>
                  <a:pt x="806" y="355"/>
                </a:lnTo>
                <a:lnTo>
                  <a:pt x="811" y="354"/>
                </a:lnTo>
                <a:lnTo>
                  <a:pt x="815" y="353"/>
                </a:lnTo>
                <a:lnTo>
                  <a:pt x="819" y="352"/>
                </a:lnTo>
                <a:lnTo>
                  <a:pt x="824" y="351"/>
                </a:lnTo>
                <a:lnTo>
                  <a:pt x="828" y="350"/>
                </a:lnTo>
                <a:lnTo>
                  <a:pt x="832" y="349"/>
                </a:lnTo>
                <a:lnTo>
                  <a:pt x="837" y="348"/>
                </a:lnTo>
                <a:lnTo>
                  <a:pt x="841" y="347"/>
                </a:lnTo>
                <a:lnTo>
                  <a:pt x="845" y="346"/>
                </a:lnTo>
                <a:lnTo>
                  <a:pt x="850" y="345"/>
                </a:lnTo>
                <a:lnTo>
                  <a:pt x="854" y="344"/>
                </a:lnTo>
                <a:lnTo>
                  <a:pt x="858" y="343"/>
                </a:lnTo>
                <a:lnTo>
                  <a:pt x="863" y="342"/>
                </a:lnTo>
                <a:lnTo>
                  <a:pt x="867" y="342"/>
                </a:lnTo>
                <a:lnTo>
                  <a:pt x="871" y="341"/>
                </a:lnTo>
                <a:lnTo>
                  <a:pt x="876" y="340"/>
                </a:lnTo>
                <a:lnTo>
                  <a:pt x="880" y="339"/>
                </a:lnTo>
                <a:lnTo>
                  <a:pt x="884" y="338"/>
                </a:lnTo>
                <a:lnTo>
                  <a:pt x="889" y="337"/>
                </a:lnTo>
                <a:lnTo>
                  <a:pt x="893" y="336"/>
                </a:lnTo>
                <a:lnTo>
                  <a:pt x="897" y="335"/>
                </a:lnTo>
                <a:lnTo>
                  <a:pt x="902" y="334"/>
                </a:lnTo>
                <a:lnTo>
                  <a:pt x="906" y="334"/>
                </a:lnTo>
                <a:lnTo>
                  <a:pt x="910" y="333"/>
                </a:lnTo>
                <a:lnTo>
                  <a:pt x="915" y="332"/>
                </a:lnTo>
                <a:lnTo>
                  <a:pt x="919" y="331"/>
                </a:lnTo>
                <a:lnTo>
                  <a:pt x="924" y="330"/>
                </a:lnTo>
                <a:lnTo>
                  <a:pt x="928" y="329"/>
                </a:lnTo>
                <a:lnTo>
                  <a:pt x="932" y="328"/>
                </a:lnTo>
                <a:lnTo>
                  <a:pt x="937" y="327"/>
                </a:lnTo>
                <a:lnTo>
                  <a:pt x="941" y="327"/>
                </a:lnTo>
                <a:lnTo>
                  <a:pt x="945" y="326"/>
                </a:lnTo>
                <a:lnTo>
                  <a:pt x="950" y="325"/>
                </a:lnTo>
                <a:lnTo>
                  <a:pt x="954" y="324"/>
                </a:lnTo>
                <a:lnTo>
                  <a:pt x="958" y="323"/>
                </a:lnTo>
                <a:lnTo>
                  <a:pt x="963" y="322"/>
                </a:lnTo>
                <a:lnTo>
                  <a:pt x="967" y="322"/>
                </a:lnTo>
                <a:lnTo>
                  <a:pt x="971" y="321"/>
                </a:lnTo>
                <a:lnTo>
                  <a:pt x="976" y="320"/>
                </a:lnTo>
                <a:lnTo>
                  <a:pt x="980" y="319"/>
                </a:lnTo>
                <a:lnTo>
                  <a:pt x="984" y="318"/>
                </a:lnTo>
                <a:lnTo>
                  <a:pt x="989" y="318"/>
                </a:lnTo>
                <a:lnTo>
                  <a:pt x="993" y="317"/>
                </a:lnTo>
                <a:lnTo>
                  <a:pt x="997" y="316"/>
                </a:lnTo>
                <a:lnTo>
                  <a:pt x="1002" y="315"/>
                </a:lnTo>
                <a:lnTo>
                  <a:pt x="1006" y="314"/>
                </a:lnTo>
                <a:lnTo>
                  <a:pt x="1010" y="314"/>
                </a:lnTo>
                <a:lnTo>
                  <a:pt x="1015" y="313"/>
                </a:lnTo>
                <a:lnTo>
                  <a:pt x="1019" y="312"/>
                </a:lnTo>
                <a:lnTo>
                  <a:pt x="1023" y="311"/>
                </a:lnTo>
                <a:lnTo>
                  <a:pt x="1028" y="310"/>
                </a:lnTo>
                <a:lnTo>
                  <a:pt x="1032" y="310"/>
                </a:lnTo>
                <a:lnTo>
                  <a:pt x="1036" y="309"/>
                </a:lnTo>
                <a:lnTo>
                  <a:pt x="1041" y="308"/>
                </a:lnTo>
                <a:lnTo>
                  <a:pt x="1045" y="307"/>
                </a:lnTo>
                <a:lnTo>
                  <a:pt x="1049" y="307"/>
                </a:lnTo>
                <a:lnTo>
                  <a:pt x="1054" y="306"/>
                </a:lnTo>
                <a:lnTo>
                  <a:pt x="1058" y="305"/>
                </a:lnTo>
                <a:lnTo>
                  <a:pt x="1062" y="304"/>
                </a:lnTo>
                <a:lnTo>
                  <a:pt x="1067" y="304"/>
                </a:lnTo>
                <a:lnTo>
                  <a:pt x="1071" y="303"/>
                </a:lnTo>
                <a:lnTo>
                  <a:pt x="1075" y="302"/>
                </a:lnTo>
                <a:lnTo>
                  <a:pt x="1080" y="301"/>
                </a:lnTo>
                <a:lnTo>
                  <a:pt x="1084" y="301"/>
                </a:lnTo>
                <a:lnTo>
                  <a:pt x="1088" y="300"/>
                </a:lnTo>
                <a:lnTo>
                  <a:pt x="1093" y="299"/>
                </a:lnTo>
                <a:lnTo>
                  <a:pt x="1097" y="298"/>
                </a:lnTo>
                <a:lnTo>
                  <a:pt x="1101" y="298"/>
                </a:lnTo>
                <a:lnTo>
                  <a:pt x="1106" y="297"/>
                </a:lnTo>
                <a:lnTo>
                  <a:pt x="1110" y="296"/>
                </a:lnTo>
                <a:lnTo>
                  <a:pt x="1114" y="295"/>
                </a:lnTo>
                <a:lnTo>
                  <a:pt x="1119" y="295"/>
                </a:lnTo>
                <a:lnTo>
                  <a:pt x="1123" y="294"/>
                </a:lnTo>
                <a:lnTo>
                  <a:pt x="1127" y="293"/>
                </a:lnTo>
                <a:lnTo>
                  <a:pt x="1132" y="293"/>
                </a:lnTo>
                <a:lnTo>
                  <a:pt x="1136" y="292"/>
                </a:lnTo>
                <a:lnTo>
                  <a:pt x="1140" y="291"/>
                </a:lnTo>
                <a:lnTo>
                  <a:pt x="1145" y="290"/>
                </a:lnTo>
                <a:lnTo>
                  <a:pt x="1149" y="290"/>
                </a:lnTo>
                <a:lnTo>
                  <a:pt x="1153" y="289"/>
                </a:lnTo>
                <a:lnTo>
                  <a:pt x="1158" y="288"/>
                </a:lnTo>
                <a:lnTo>
                  <a:pt x="1162" y="288"/>
                </a:lnTo>
                <a:lnTo>
                  <a:pt x="1166" y="287"/>
                </a:lnTo>
                <a:lnTo>
                  <a:pt x="1171" y="286"/>
                </a:lnTo>
                <a:lnTo>
                  <a:pt x="1175" y="286"/>
                </a:lnTo>
                <a:lnTo>
                  <a:pt x="1179" y="285"/>
                </a:lnTo>
                <a:lnTo>
                  <a:pt x="1184" y="284"/>
                </a:lnTo>
                <a:lnTo>
                  <a:pt x="1188" y="283"/>
                </a:lnTo>
                <a:lnTo>
                  <a:pt x="1192" y="283"/>
                </a:lnTo>
                <a:lnTo>
                  <a:pt x="1197" y="282"/>
                </a:lnTo>
                <a:lnTo>
                  <a:pt x="1201" y="281"/>
                </a:lnTo>
                <a:lnTo>
                  <a:pt x="1205" y="281"/>
                </a:lnTo>
                <a:lnTo>
                  <a:pt x="1210" y="280"/>
                </a:lnTo>
                <a:lnTo>
                  <a:pt x="1214" y="279"/>
                </a:lnTo>
                <a:lnTo>
                  <a:pt x="1218" y="279"/>
                </a:lnTo>
                <a:lnTo>
                  <a:pt x="1223" y="278"/>
                </a:lnTo>
                <a:lnTo>
                  <a:pt x="1227" y="277"/>
                </a:lnTo>
                <a:lnTo>
                  <a:pt x="1232" y="277"/>
                </a:lnTo>
                <a:lnTo>
                  <a:pt x="1236" y="276"/>
                </a:lnTo>
                <a:lnTo>
                  <a:pt x="1240" y="275"/>
                </a:lnTo>
                <a:lnTo>
                  <a:pt x="1245" y="275"/>
                </a:lnTo>
                <a:lnTo>
                  <a:pt x="1249" y="274"/>
                </a:lnTo>
                <a:lnTo>
                  <a:pt x="1253" y="273"/>
                </a:lnTo>
                <a:lnTo>
                  <a:pt x="1258" y="273"/>
                </a:lnTo>
                <a:lnTo>
                  <a:pt x="1262" y="272"/>
                </a:lnTo>
                <a:lnTo>
                  <a:pt x="1266" y="272"/>
                </a:lnTo>
                <a:lnTo>
                  <a:pt x="1271" y="271"/>
                </a:lnTo>
                <a:lnTo>
                  <a:pt x="1275" y="270"/>
                </a:lnTo>
                <a:lnTo>
                  <a:pt x="1279" y="270"/>
                </a:lnTo>
                <a:lnTo>
                  <a:pt x="1284" y="269"/>
                </a:lnTo>
                <a:lnTo>
                  <a:pt x="1288" y="268"/>
                </a:lnTo>
                <a:lnTo>
                  <a:pt x="1292" y="268"/>
                </a:lnTo>
                <a:lnTo>
                  <a:pt x="1297" y="267"/>
                </a:lnTo>
                <a:lnTo>
                  <a:pt x="1301" y="266"/>
                </a:lnTo>
                <a:lnTo>
                  <a:pt x="1305" y="266"/>
                </a:lnTo>
                <a:lnTo>
                  <a:pt x="1310" y="265"/>
                </a:lnTo>
                <a:lnTo>
                  <a:pt x="1314" y="265"/>
                </a:lnTo>
                <a:lnTo>
                  <a:pt x="1318" y="264"/>
                </a:lnTo>
                <a:lnTo>
                  <a:pt x="1323" y="263"/>
                </a:lnTo>
                <a:lnTo>
                  <a:pt x="1327" y="263"/>
                </a:lnTo>
                <a:lnTo>
                  <a:pt x="1331" y="262"/>
                </a:lnTo>
                <a:lnTo>
                  <a:pt x="1336" y="262"/>
                </a:lnTo>
                <a:lnTo>
                  <a:pt x="1340" y="261"/>
                </a:lnTo>
                <a:lnTo>
                  <a:pt x="1344" y="260"/>
                </a:lnTo>
                <a:lnTo>
                  <a:pt x="1349" y="260"/>
                </a:lnTo>
                <a:lnTo>
                  <a:pt x="1353" y="259"/>
                </a:lnTo>
                <a:lnTo>
                  <a:pt x="1357" y="259"/>
                </a:lnTo>
                <a:lnTo>
                  <a:pt x="1362" y="258"/>
                </a:lnTo>
                <a:lnTo>
                  <a:pt x="1366" y="257"/>
                </a:lnTo>
                <a:lnTo>
                  <a:pt x="1370" y="257"/>
                </a:lnTo>
                <a:lnTo>
                  <a:pt x="1375" y="256"/>
                </a:lnTo>
                <a:lnTo>
                  <a:pt x="1379" y="256"/>
                </a:lnTo>
                <a:lnTo>
                  <a:pt x="1383" y="255"/>
                </a:lnTo>
                <a:lnTo>
                  <a:pt x="1388" y="254"/>
                </a:lnTo>
                <a:lnTo>
                  <a:pt x="1392" y="254"/>
                </a:lnTo>
                <a:lnTo>
                  <a:pt x="1396" y="253"/>
                </a:lnTo>
                <a:lnTo>
                  <a:pt x="1401" y="253"/>
                </a:lnTo>
                <a:lnTo>
                  <a:pt x="1405" y="252"/>
                </a:lnTo>
                <a:lnTo>
                  <a:pt x="1409" y="251"/>
                </a:lnTo>
                <a:lnTo>
                  <a:pt x="1414" y="251"/>
                </a:lnTo>
                <a:lnTo>
                  <a:pt x="1418" y="250"/>
                </a:lnTo>
                <a:lnTo>
                  <a:pt x="1422" y="250"/>
                </a:lnTo>
                <a:lnTo>
                  <a:pt x="1427" y="249"/>
                </a:lnTo>
                <a:lnTo>
                  <a:pt x="1431" y="249"/>
                </a:lnTo>
                <a:lnTo>
                  <a:pt x="1435" y="248"/>
                </a:lnTo>
                <a:lnTo>
                  <a:pt x="1440" y="247"/>
                </a:lnTo>
                <a:lnTo>
                  <a:pt x="1444" y="247"/>
                </a:lnTo>
                <a:lnTo>
                  <a:pt x="1448" y="246"/>
                </a:lnTo>
                <a:lnTo>
                  <a:pt x="1453" y="246"/>
                </a:lnTo>
                <a:lnTo>
                  <a:pt x="1457" y="245"/>
                </a:lnTo>
                <a:lnTo>
                  <a:pt x="1461" y="245"/>
                </a:lnTo>
                <a:lnTo>
                  <a:pt x="1466" y="244"/>
                </a:lnTo>
                <a:lnTo>
                  <a:pt x="1470" y="243"/>
                </a:lnTo>
                <a:lnTo>
                  <a:pt x="1474" y="243"/>
                </a:lnTo>
                <a:lnTo>
                  <a:pt x="1479" y="242"/>
                </a:lnTo>
                <a:lnTo>
                  <a:pt x="1483" y="242"/>
                </a:lnTo>
                <a:lnTo>
                  <a:pt x="1487" y="241"/>
                </a:lnTo>
                <a:lnTo>
                  <a:pt x="1492" y="241"/>
                </a:lnTo>
                <a:lnTo>
                  <a:pt x="1496" y="240"/>
                </a:lnTo>
                <a:lnTo>
                  <a:pt x="1500" y="240"/>
                </a:lnTo>
                <a:lnTo>
                  <a:pt x="1505" y="239"/>
                </a:lnTo>
                <a:lnTo>
                  <a:pt x="1509" y="239"/>
                </a:lnTo>
                <a:lnTo>
                  <a:pt x="1513" y="238"/>
                </a:lnTo>
                <a:lnTo>
                  <a:pt x="1518" y="237"/>
                </a:lnTo>
                <a:lnTo>
                  <a:pt x="1522" y="237"/>
                </a:lnTo>
                <a:lnTo>
                  <a:pt x="1527" y="236"/>
                </a:lnTo>
                <a:lnTo>
                  <a:pt x="1531" y="236"/>
                </a:lnTo>
                <a:lnTo>
                  <a:pt x="1535" y="235"/>
                </a:lnTo>
                <a:lnTo>
                  <a:pt x="1540" y="235"/>
                </a:lnTo>
                <a:lnTo>
                  <a:pt x="1544" y="234"/>
                </a:lnTo>
                <a:lnTo>
                  <a:pt x="1548" y="234"/>
                </a:lnTo>
                <a:lnTo>
                  <a:pt x="1553" y="233"/>
                </a:lnTo>
                <a:lnTo>
                  <a:pt x="1557" y="233"/>
                </a:lnTo>
                <a:lnTo>
                  <a:pt x="1561" y="232"/>
                </a:lnTo>
                <a:lnTo>
                  <a:pt x="1566" y="232"/>
                </a:lnTo>
                <a:lnTo>
                  <a:pt x="1570" y="231"/>
                </a:lnTo>
                <a:lnTo>
                  <a:pt x="1574" y="231"/>
                </a:lnTo>
                <a:lnTo>
                  <a:pt x="1579" y="230"/>
                </a:lnTo>
                <a:lnTo>
                  <a:pt x="1583" y="229"/>
                </a:lnTo>
                <a:lnTo>
                  <a:pt x="1587" y="229"/>
                </a:lnTo>
                <a:lnTo>
                  <a:pt x="1592" y="228"/>
                </a:lnTo>
                <a:lnTo>
                  <a:pt x="1596" y="228"/>
                </a:lnTo>
                <a:lnTo>
                  <a:pt x="1600" y="227"/>
                </a:lnTo>
                <a:lnTo>
                  <a:pt x="1605" y="227"/>
                </a:lnTo>
                <a:lnTo>
                  <a:pt x="1609" y="226"/>
                </a:lnTo>
                <a:lnTo>
                  <a:pt x="1613" y="226"/>
                </a:lnTo>
                <a:lnTo>
                  <a:pt x="1618" y="225"/>
                </a:lnTo>
                <a:lnTo>
                  <a:pt x="1622" y="225"/>
                </a:lnTo>
                <a:lnTo>
                  <a:pt x="1626" y="224"/>
                </a:lnTo>
                <a:lnTo>
                  <a:pt x="1631" y="224"/>
                </a:lnTo>
                <a:lnTo>
                  <a:pt x="1635" y="223"/>
                </a:lnTo>
                <a:lnTo>
                  <a:pt x="1639" y="223"/>
                </a:lnTo>
                <a:lnTo>
                  <a:pt x="1644" y="222"/>
                </a:lnTo>
                <a:lnTo>
                  <a:pt x="1648" y="222"/>
                </a:lnTo>
                <a:lnTo>
                  <a:pt x="1652" y="221"/>
                </a:lnTo>
                <a:lnTo>
                  <a:pt x="1657" y="221"/>
                </a:lnTo>
                <a:lnTo>
                  <a:pt x="1661" y="220"/>
                </a:lnTo>
                <a:lnTo>
                  <a:pt x="1665" y="220"/>
                </a:lnTo>
                <a:lnTo>
                  <a:pt x="1670" y="219"/>
                </a:lnTo>
                <a:lnTo>
                  <a:pt x="1674" y="219"/>
                </a:lnTo>
                <a:lnTo>
                  <a:pt x="1678" y="218"/>
                </a:lnTo>
                <a:lnTo>
                  <a:pt x="1683" y="218"/>
                </a:lnTo>
                <a:lnTo>
                  <a:pt x="1687" y="217"/>
                </a:lnTo>
                <a:lnTo>
                  <a:pt x="1691" y="217"/>
                </a:lnTo>
                <a:lnTo>
                  <a:pt x="1696" y="216"/>
                </a:lnTo>
                <a:lnTo>
                  <a:pt x="1700" y="216"/>
                </a:lnTo>
                <a:lnTo>
                  <a:pt x="1704" y="215"/>
                </a:lnTo>
                <a:lnTo>
                  <a:pt x="1709" y="215"/>
                </a:lnTo>
                <a:lnTo>
                  <a:pt x="1713" y="214"/>
                </a:lnTo>
                <a:lnTo>
                  <a:pt x="1717" y="214"/>
                </a:lnTo>
                <a:lnTo>
                  <a:pt x="1722" y="214"/>
                </a:lnTo>
                <a:lnTo>
                  <a:pt x="1726" y="213"/>
                </a:lnTo>
                <a:lnTo>
                  <a:pt x="1730" y="213"/>
                </a:lnTo>
                <a:lnTo>
                  <a:pt x="1735" y="212"/>
                </a:lnTo>
                <a:lnTo>
                  <a:pt x="1739" y="212"/>
                </a:lnTo>
                <a:lnTo>
                  <a:pt x="1743" y="211"/>
                </a:lnTo>
                <a:lnTo>
                  <a:pt x="1748" y="211"/>
                </a:lnTo>
                <a:lnTo>
                  <a:pt x="1752" y="210"/>
                </a:lnTo>
                <a:lnTo>
                  <a:pt x="1756" y="210"/>
                </a:lnTo>
                <a:lnTo>
                  <a:pt x="1761" y="209"/>
                </a:lnTo>
                <a:lnTo>
                  <a:pt x="1765" y="209"/>
                </a:lnTo>
                <a:lnTo>
                  <a:pt x="1769" y="208"/>
                </a:lnTo>
                <a:lnTo>
                  <a:pt x="1774" y="208"/>
                </a:lnTo>
                <a:lnTo>
                  <a:pt x="1778" y="207"/>
                </a:lnTo>
                <a:lnTo>
                  <a:pt x="1782" y="207"/>
                </a:lnTo>
                <a:lnTo>
                  <a:pt x="1787" y="206"/>
                </a:lnTo>
                <a:lnTo>
                  <a:pt x="1791" y="206"/>
                </a:lnTo>
                <a:lnTo>
                  <a:pt x="1795" y="206"/>
                </a:lnTo>
                <a:lnTo>
                  <a:pt x="1800" y="205"/>
                </a:lnTo>
                <a:lnTo>
                  <a:pt x="1804" y="205"/>
                </a:lnTo>
                <a:lnTo>
                  <a:pt x="1808" y="204"/>
                </a:lnTo>
                <a:lnTo>
                  <a:pt x="1813" y="204"/>
                </a:lnTo>
                <a:lnTo>
                  <a:pt x="1817" y="203"/>
                </a:lnTo>
                <a:lnTo>
                  <a:pt x="1821" y="203"/>
                </a:lnTo>
                <a:lnTo>
                  <a:pt x="1826" y="202"/>
                </a:lnTo>
                <a:lnTo>
                  <a:pt x="1830" y="202"/>
                </a:lnTo>
                <a:lnTo>
                  <a:pt x="1835" y="201"/>
                </a:lnTo>
                <a:lnTo>
                  <a:pt x="1839" y="201"/>
                </a:lnTo>
                <a:lnTo>
                  <a:pt x="1843" y="201"/>
                </a:lnTo>
                <a:lnTo>
                  <a:pt x="1848" y="200"/>
                </a:lnTo>
                <a:lnTo>
                  <a:pt x="1852" y="200"/>
                </a:lnTo>
                <a:lnTo>
                  <a:pt x="1856" y="199"/>
                </a:lnTo>
                <a:lnTo>
                  <a:pt x="1861" y="199"/>
                </a:lnTo>
                <a:lnTo>
                  <a:pt x="1865" y="198"/>
                </a:lnTo>
                <a:lnTo>
                  <a:pt x="1869" y="198"/>
                </a:lnTo>
                <a:lnTo>
                  <a:pt x="1874" y="197"/>
                </a:lnTo>
                <a:lnTo>
                  <a:pt x="1878" y="197"/>
                </a:lnTo>
                <a:lnTo>
                  <a:pt x="1882" y="197"/>
                </a:lnTo>
                <a:lnTo>
                  <a:pt x="1887" y="196"/>
                </a:lnTo>
                <a:lnTo>
                  <a:pt x="1891" y="196"/>
                </a:lnTo>
                <a:lnTo>
                  <a:pt x="1895" y="195"/>
                </a:lnTo>
                <a:lnTo>
                  <a:pt x="1900" y="195"/>
                </a:lnTo>
                <a:lnTo>
                  <a:pt x="1904" y="194"/>
                </a:lnTo>
                <a:lnTo>
                  <a:pt x="1908" y="194"/>
                </a:lnTo>
                <a:lnTo>
                  <a:pt x="1913" y="193"/>
                </a:lnTo>
                <a:lnTo>
                  <a:pt x="1917" y="193"/>
                </a:lnTo>
                <a:lnTo>
                  <a:pt x="1921" y="193"/>
                </a:lnTo>
                <a:lnTo>
                  <a:pt x="1926" y="192"/>
                </a:lnTo>
                <a:lnTo>
                  <a:pt x="1930" y="192"/>
                </a:lnTo>
                <a:lnTo>
                  <a:pt x="1934" y="191"/>
                </a:lnTo>
                <a:lnTo>
                  <a:pt x="1939" y="191"/>
                </a:lnTo>
                <a:lnTo>
                  <a:pt x="1943" y="190"/>
                </a:lnTo>
                <a:lnTo>
                  <a:pt x="1947" y="190"/>
                </a:lnTo>
                <a:lnTo>
                  <a:pt x="1952" y="190"/>
                </a:lnTo>
                <a:lnTo>
                  <a:pt x="1956" y="189"/>
                </a:lnTo>
                <a:lnTo>
                  <a:pt x="1960" y="189"/>
                </a:lnTo>
                <a:lnTo>
                  <a:pt x="1965" y="188"/>
                </a:lnTo>
                <a:lnTo>
                  <a:pt x="1969" y="188"/>
                </a:lnTo>
                <a:lnTo>
                  <a:pt x="1973" y="187"/>
                </a:lnTo>
                <a:lnTo>
                  <a:pt x="1978" y="187"/>
                </a:lnTo>
                <a:lnTo>
                  <a:pt x="1982" y="187"/>
                </a:lnTo>
                <a:lnTo>
                  <a:pt x="1986" y="186"/>
                </a:lnTo>
                <a:lnTo>
                  <a:pt x="1991" y="186"/>
                </a:lnTo>
                <a:lnTo>
                  <a:pt x="1995" y="185"/>
                </a:lnTo>
                <a:lnTo>
                  <a:pt x="1999" y="185"/>
                </a:lnTo>
                <a:lnTo>
                  <a:pt x="2004" y="185"/>
                </a:lnTo>
                <a:lnTo>
                  <a:pt x="2008" y="184"/>
                </a:lnTo>
                <a:lnTo>
                  <a:pt x="2012" y="184"/>
                </a:lnTo>
                <a:lnTo>
                  <a:pt x="2017" y="183"/>
                </a:lnTo>
                <a:lnTo>
                  <a:pt x="2021" y="183"/>
                </a:lnTo>
                <a:lnTo>
                  <a:pt x="2025" y="182"/>
                </a:lnTo>
                <a:lnTo>
                  <a:pt x="2030" y="182"/>
                </a:lnTo>
                <a:lnTo>
                  <a:pt x="2034" y="182"/>
                </a:lnTo>
                <a:lnTo>
                  <a:pt x="2038" y="181"/>
                </a:lnTo>
                <a:lnTo>
                  <a:pt x="2043" y="181"/>
                </a:lnTo>
                <a:lnTo>
                  <a:pt x="2047" y="180"/>
                </a:lnTo>
                <a:lnTo>
                  <a:pt x="2051" y="180"/>
                </a:lnTo>
                <a:lnTo>
                  <a:pt x="2056" y="180"/>
                </a:lnTo>
                <a:lnTo>
                  <a:pt x="2060" y="179"/>
                </a:lnTo>
                <a:lnTo>
                  <a:pt x="2064" y="179"/>
                </a:lnTo>
                <a:lnTo>
                  <a:pt x="2069" y="178"/>
                </a:lnTo>
                <a:lnTo>
                  <a:pt x="2073" y="178"/>
                </a:lnTo>
                <a:lnTo>
                  <a:pt x="2077" y="178"/>
                </a:lnTo>
                <a:lnTo>
                  <a:pt x="2082" y="177"/>
                </a:lnTo>
                <a:lnTo>
                  <a:pt x="2086" y="177"/>
                </a:lnTo>
                <a:lnTo>
                  <a:pt x="2090" y="176"/>
                </a:lnTo>
                <a:lnTo>
                  <a:pt x="2095" y="176"/>
                </a:lnTo>
                <a:lnTo>
                  <a:pt x="2099" y="176"/>
                </a:lnTo>
                <a:lnTo>
                  <a:pt x="2103" y="175"/>
                </a:lnTo>
                <a:lnTo>
                  <a:pt x="2108" y="175"/>
                </a:lnTo>
                <a:lnTo>
                  <a:pt x="2112" y="174"/>
                </a:lnTo>
                <a:lnTo>
                  <a:pt x="2116" y="174"/>
                </a:lnTo>
                <a:lnTo>
                  <a:pt x="2121" y="174"/>
                </a:lnTo>
                <a:lnTo>
                  <a:pt x="2125" y="173"/>
                </a:lnTo>
                <a:lnTo>
                  <a:pt x="2129" y="173"/>
                </a:lnTo>
                <a:lnTo>
                  <a:pt x="2134" y="172"/>
                </a:lnTo>
                <a:lnTo>
                  <a:pt x="2138" y="172"/>
                </a:lnTo>
                <a:lnTo>
                  <a:pt x="2143" y="172"/>
                </a:lnTo>
                <a:lnTo>
                  <a:pt x="2147" y="171"/>
                </a:lnTo>
                <a:lnTo>
                  <a:pt x="2151" y="171"/>
                </a:lnTo>
                <a:lnTo>
                  <a:pt x="2156" y="171"/>
                </a:lnTo>
                <a:lnTo>
                  <a:pt x="2160" y="170"/>
                </a:lnTo>
                <a:lnTo>
                  <a:pt x="2164" y="170"/>
                </a:lnTo>
                <a:lnTo>
                  <a:pt x="2169" y="169"/>
                </a:lnTo>
                <a:lnTo>
                  <a:pt x="2173" y="169"/>
                </a:lnTo>
                <a:lnTo>
                  <a:pt x="2177" y="169"/>
                </a:lnTo>
                <a:lnTo>
                  <a:pt x="2182" y="168"/>
                </a:lnTo>
                <a:lnTo>
                  <a:pt x="2186" y="168"/>
                </a:lnTo>
                <a:lnTo>
                  <a:pt x="2190" y="167"/>
                </a:lnTo>
                <a:lnTo>
                  <a:pt x="2195" y="167"/>
                </a:lnTo>
                <a:lnTo>
                  <a:pt x="2199" y="167"/>
                </a:lnTo>
                <a:lnTo>
                  <a:pt x="2203" y="166"/>
                </a:lnTo>
                <a:lnTo>
                  <a:pt x="2208" y="166"/>
                </a:lnTo>
                <a:lnTo>
                  <a:pt x="2212" y="166"/>
                </a:lnTo>
                <a:lnTo>
                  <a:pt x="2216" y="165"/>
                </a:lnTo>
                <a:lnTo>
                  <a:pt x="2221" y="165"/>
                </a:lnTo>
                <a:lnTo>
                  <a:pt x="2225" y="164"/>
                </a:lnTo>
                <a:lnTo>
                  <a:pt x="2229" y="164"/>
                </a:lnTo>
                <a:lnTo>
                  <a:pt x="2234" y="164"/>
                </a:lnTo>
                <a:lnTo>
                  <a:pt x="2238" y="163"/>
                </a:lnTo>
                <a:lnTo>
                  <a:pt x="2242" y="163"/>
                </a:lnTo>
                <a:lnTo>
                  <a:pt x="2247" y="163"/>
                </a:lnTo>
                <a:lnTo>
                  <a:pt x="2251" y="162"/>
                </a:lnTo>
                <a:lnTo>
                  <a:pt x="2255" y="162"/>
                </a:lnTo>
                <a:lnTo>
                  <a:pt x="2260" y="161"/>
                </a:lnTo>
                <a:lnTo>
                  <a:pt x="2264" y="161"/>
                </a:lnTo>
                <a:lnTo>
                  <a:pt x="2268" y="161"/>
                </a:lnTo>
                <a:lnTo>
                  <a:pt x="2273" y="160"/>
                </a:lnTo>
                <a:lnTo>
                  <a:pt x="2277" y="160"/>
                </a:lnTo>
                <a:lnTo>
                  <a:pt x="2281" y="160"/>
                </a:lnTo>
                <a:lnTo>
                  <a:pt x="2286" y="159"/>
                </a:lnTo>
                <a:lnTo>
                  <a:pt x="2290" y="159"/>
                </a:lnTo>
                <a:lnTo>
                  <a:pt x="2294" y="159"/>
                </a:lnTo>
                <a:lnTo>
                  <a:pt x="2299" y="158"/>
                </a:lnTo>
                <a:lnTo>
                  <a:pt x="2303" y="158"/>
                </a:lnTo>
                <a:lnTo>
                  <a:pt x="2307" y="157"/>
                </a:lnTo>
                <a:lnTo>
                  <a:pt x="2312" y="157"/>
                </a:lnTo>
                <a:lnTo>
                  <a:pt x="2316" y="157"/>
                </a:lnTo>
                <a:lnTo>
                  <a:pt x="2320" y="156"/>
                </a:lnTo>
                <a:lnTo>
                  <a:pt x="2325" y="156"/>
                </a:lnTo>
                <a:lnTo>
                  <a:pt x="2329" y="156"/>
                </a:lnTo>
                <a:lnTo>
                  <a:pt x="2333" y="155"/>
                </a:lnTo>
                <a:lnTo>
                  <a:pt x="2338" y="155"/>
                </a:lnTo>
                <a:lnTo>
                  <a:pt x="2342" y="155"/>
                </a:lnTo>
                <a:lnTo>
                  <a:pt x="2346" y="154"/>
                </a:lnTo>
                <a:lnTo>
                  <a:pt x="2351" y="154"/>
                </a:lnTo>
                <a:lnTo>
                  <a:pt x="2355" y="153"/>
                </a:lnTo>
                <a:lnTo>
                  <a:pt x="2359" y="153"/>
                </a:lnTo>
                <a:lnTo>
                  <a:pt x="2364" y="153"/>
                </a:lnTo>
                <a:lnTo>
                  <a:pt x="2368" y="152"/>
                </a:lnTo>
                <a:lnTo>
                  <a:pt x="2372" y="152"/>
                </a:lnTo>
                <a:lnTo>
                  <a:pt x="2377" y="152"/>
                </a:lnTo>
                <a:lnTo>
                  <a:pt x="2381" y="151"/>
                </a:lnTo>
                <a:lnTo>
                  <a:pt x="2385" y="151"/>
                </a:lnTo>
                <a:lnTo>
                  <a:pt x="2390" y="151"/>
                </a:lnTo>
                <a:lnTo>
                  <a:pt x="2394" y="150"/>
                </a:lnTo>
                <a:lnTo>
                  <a:pt x="2398" y="150"/>
                </a:lnTo>
                <a:lnTo>
                  <a:pt x="2403" y="150"/>
                </a:lnTo>
                <a:lnTo>
                  <a:pt x="2407" y="149"/>
                </a:lnTo>
                <a:lnTo>
                  <a:pt x="2411" y="149"/>
                </a:lnTo>
                <a:lnTo>
                  <a:pt x="2416" y="149"/>
                </a:lnTo>
                <a:lnTo>
                  <a:pt x="2420" y="148"/>
                </a:lnTo>
                <a:lnTo>
                  <a:pt x="2424" y="148"/>
                </a:lnTo>
                <a:lnTo>
                  <a:pt x="2429" y="148"/>
                </a:lnTo>
                <a:lnTo>
                  <a:pt x="2433" y="147"/>
                </a:lnTo>
                <a:lnTo>
                  <a:pt x="2437" y="147"/>
                </a:lnTo>
                <a:lnTo>
                  <a:pt x="2442" y="147"/>
                </a:lnTo>
                <a:lnTo>
                  <a:pt x="2446" y="146"/>
                </a:lnTo>
                <a:lnTo>
                  <a:pt x="2451" y="146"/>
                </a:lnTo>
                <a:lnTo>
                  <a:pt x="2455" y="145"/>
                </a:lnTo>
                <a:lnTo>
                  <a:pt x="2459" y="145"/>
                </a:lnTo>
                <a:lnTo>
                  <a:pt x="2464" y="145"/>
                </a:lnTo>
                <a:lnTo>
                  <a:pt x="2468" y="144"/>
                </a:lnTo>
                <a:lnTo>
                  <a:pt x="2472" y="144"/>
                </a:lnTo>
                <a:lnTo>
                  <a:pt x="2477" y="144"/>
                </a:lnTo>
                <a:lnTo>
                  <a:pt x="2481" y="143"/>
                </a:lnTo>
                <a:lnTo>
                  <a:pt x="2485" y="143"/>
                </a:lnTo>
                <a:lnTo>
                  <a:pt x="2490" y="143"/>
                </a:lnTo>
                <a:lnTo>
                  <a:pt x="2494" y="142"/>
                </a:lnTo>
                <a:lnTo>
                  <a:pt x="2498" y="142"/>
                </a:lnTo>
                <a:lnTo>
                  <a:pt x="2503" y="142"/>
                </a:lnTo>
                <a:lnTo>
                  <a:pt x="2507" y="141"/>
                </a:lnTo>
                <a:lnTo>
                  <a:pt x="2511" y="141"/>
                </a:lnTo>
                <a:lnTo>
                  <a:pt x="2516" y="141"/>
                </a:lnTo>
                <a:lnTo>
                  <a:pt x="2520" y="140"/>
                </a:lnTo>
                <a:lnTo>
                  <a:pt x="2524" y="140"/>
                </a:lnTo>
                <a:lnTo>
                  <a:pt x="2529" y="140"/>
                </a:lnTo>
                <a:lnTo>
                  <a:pt x="2533" y="139"/>
                </a:lnTo>
                <a:lnTo>
                  <a:pt x="2537" y="139"/>
                </a:lnTo>
                <a:lnTo>
                  <a:pt x="2542" y="139"/>
                </a:lnTo>
                <a:lnTo>
                  <a:pt x="2546" y="138"/>
                </a:lnTo>
                <a:lnTo>
                  <a:pt x="2550" y="138"/>
                </a:lnTo>
                <a:lnTo>
                  <a:pt x="2555" y="138"/>
                </a:lnTo>
                <a:lnTo>
                  <a:pt x="2559" y="137"/>
                </a:lnTo>
                <a:lnTo>
                  <a:pt x="2563" y="137"/>
                </a:lnTo>
                <a:lnTo>
                  <a:pt x="2568" y="137"/>
                </a:lnTo>
                <a:lnTo>
                  <a:pt x="2572" y="136"/>
                </a:lnTo>
                <a:lnTo>
                  <a:pt x="2576" y="136"/>
                </a:lnTo>
                <a:lnTo>
                  <a:pt x="2581" y="136"/>
                </a:lnTo>
                <a:lnTo>
                  <a:pt x="2585" y="136"/>
                </a:lnTo>
                <a:lnTo>
                  <a:pt x="2589" y="135"/>
                </a:lnTo>
                <a:lnTo>
                  <a:pt x="2594" y="135"/>
                </a:lnTo>
                <a:lnTo>
                  <a:pt x="2598" y="135"/>
                </a:lnTo>
                <a:lnTo>
                  <a:pt x="2602" y="134"/>
                </a:lnTo>
                <a:lnTo>
                  <a:pt x="2607" y="134"/>
                </a:lnTo>
                <a:lnTo>
                  <a:pt x="2611" y="134"/>
                </a:lnTo>
                <a:lnTo>
                  <a:pt x="2615" y="133"/>
                </a:lnTo>
                <a:lnTo>
                  <a:pt x="2620" y="133"/>
                </a:lnTo>
                <a:lnTo>
                  <a:pt x="2624" y="133"/>
                </a:lnTo>
                <a:lnTo>
                  <a:pt x="2628" y="132"/>
                </a:lnTo>
                <a:lnTo>
                  <a:pt x="2633" y="132"/>
                </a:lnTo>
                <a:lnTo>
                  <a:pt x="2637" y="132"/>
                </a:lnTo>
                <a:lnTo>
                  <a:pt x="2641" y="131"/>
                </a:lnTo>
                <a:lnTo>
                  <a:pt x="2646" y="131"/>
                </a:lnTo>
                <a:lnTo>
                  <a:pt x="2650" y="131"/>
                </a:lnTo>
                <a:lnTo>
                  <a:pt x="2654" y="130"/>
                </a:lnTo>
                <a:lnTo>
                  <a:pt x="2659" y="130"/>
                </a:lnTo>
                <a:lnTo>
                  <a:pt x="2663" y="130"/>
                </a:lnTo>
                <a:lnTo>
                  <a:pt x="2667" y="129"/>
                </a:lnTo>
                <a:lnTo>
                  <a:pt x="2672" y="129"/>
                </a:lnTo>
                <a:lnTo>
                  <a:pt x="2676" y="129"/>
                </a:lnTo>
                <a:lnTo>
                  <a:pt x="2680" y="129"/>
                </a:lnTo>
                <a:lnTo>
                  <a:pt x="2685" y="128"/>
                </a:lnTo>
                <a:lnTo>
                  <a:pt x="2689" y="128"/>
                </a:lnTo>
                <a:lnTo>
                  <a:pt x="2693" y="128"/>
                </a:lnTo>
                <a:lnTo>
                  <a:pt x="2698" y="127"/>
                </a:lnTo>
                <a:lnTo>
                  <a:pt x="2702" y="127"/>
                </a:lnTo>
                <a:lnTo>
                  <a:pt x="2706" y="127"/>
                </a:lnTo>
                <a:lnTo>
                  <a:pt x="2711" y="126"/>
                </a:lnTo>
                <a:lnTo>
                  <a:pt x="2715" y="126"/>
                </a:lnTo>
                <a:lnTo>
                  <a:pt x="2719" y="126"/>
                </a:lnTo>
                <a:lnTo>
                  <a:pt x="2724" y="125"/>
                </a:lnTo>
                <a:lnTo>
                  <a:pt x="2728" y="125"/>
                </a:lnTo>
                <a:lnTo>
                  <a:pt x="2732" y="125"/>
                </a:lnTo>
                <a:lnTo>
                  <a:pt x="2737" y="124"/>
                </a:lnTo>
                <a:lnTo>
                  <a:pt x="2741" y="124"/>
                </a:lnTo>
                <a:lnTo>
                  <a:pt x="2746" y="124"/>
                </a:lnTo>
                <a:lnTo>
                  <a:pt x="2750" y="124"/>
                </a:lnTo>
                <a:lnTo>
                  <a:pt x="2754" y="123"/>
                </a:lnTo>
                <a:lnTo>
                  <a:pt x="2759" y="123"/>
                </a:lnTo>
                <a:lnTo>
                  <a:pt x="2763" y="123"/>
                </a:lnTo>
                <a:lnTo>
                  <a:pt x="2767" y="122"/>
                </a:lnTo>
                <a:lnTo>
                  <a:pt x="2772" y="122"/>
                </a:lnTo>
                <a:lnTo>
                  <a:pt x="2776" y="122"/>
                </a:lnTo>
                <a:lnTo>
                  <a:pt x="2780" y="121"/>
                </a:lnTo>
                <a:lnTo>
                  <a:pt x="2785" y="121"/>
                </a:lnTo>
                <a:lnTo>
                  <a:pt x="2789" y="121"/>
                </a:lnTo>
                <a:lnTo>
                  <a:pt x="2793" y="121"/>
                </a:lnTo>
                <a:lnTo>
                  <a:pt x="2798" y="120"/>
                </a:lnTo>
                <a:lnTo>
                  <a:pt x="2802" y="120"/>
                </a:lnTo>
                <a:lnTo>
                  <a:pt x="2806" y="120"/>
                </a:lnTo>
                <a:lnTo>
                  <a:pt x="2811" y="119"/>
                </a:lnTo>
                <a:lnTo>
                  <a:pt x="2815" y="119"/>
                </a:lnTo>
                <a:lnTo>
                  <a:pt x="2819" y="119"/>
                </a:lnTo>
                <a:lnTo>
                  <a:pt x="2824" y="118"/>
                </a:lnTo>
                <a:lnTo>
                  <a:pt x="2828" y="118"/>
                </a:lnTo>
                <a:lnTo>
                  <a:pt x="2832" y="118"/>
                </a:lnTo>
                <a:lnTo>
                  <a:pt x="2837" y="118"/>
                </a:lnTo>
                <a:lnTo>
                  <a:pt x="2841" y="117"/>
                </a:lnTo>
                <a:lnTo>
                  <a:pt x="2845" y="117"/>
                </a:lnTo>
                <a:lnTo>
                  <a:pt x="2850" y="117"/>
                </a:lnTo>
                <a:lnTo>
                  <a:pt x="2854" y="116"/>
                </a:lnTo>
                <a:lnTo>
                  <a:pt x="2858" y="116"/>
                </a:lnTo>
                <a:lnTo>
                  <a:pt x="2863" y="116"/>
                </a:lnTo>
                <a:lnTo>
                  <a:pt x="2867" y="115"/>
                </a:lnTo>
                <a:lnTo>
                  <a:pt x="2871" y="115"/>
                </a:lnTo>
                <a:lnTo>
                  <a:pt x="2876" y="115"/>
                </a:lnTo>
                <a:lnTo>
                  <a:pt x="2880" y="115"/>
                </a:lnTo>
                <a:lnTo>
                  <a:pt x="2884" y="114"/>
                </a:lnTo>
                <a:lnTo>
                  <a:pt x="2889" y="114"/>
                </a:lnTo>
                <a:lnTo>
                  <a:pt x="2893" y="114"/>
                </a:lnTo>
                <a:lnTo>
                  <a:pt x="2897" y="113"/>
                </a:lnTo>
                <a:lnTo>
                  <a:pt x="2902" y="113"/>
                </a:lnTo>
                <a:lnTo>
                  <a:pt x="2906" y="113"/>
                </a:lnTo>
                <a:lnTo>
                  <a:pt x="2910" y="113"/>
                </a:lnTo>
                <a:lnTo>
                  <a:pt x="2915" y="112"/>
                </a:lnTo>
                <a:lnTo>
                  <a:pt x="2919" y="112"/>
                </a:lnTo>
                <a:lnTo>
                  <a:pt x="2923" y="112"/>
                </a:lnTo>
                <a:lnTo>
                  <a:pt x="2928" y="111"/>
                </a:lnTo>
                <a:lnTo>
                  <a:pt x="2932" y="111"/>
                </a:lnTo>
                <a:lnTo>
                  <a:pt x="2936" y="111"/>
                </a:lnTo>
                <a:lnTo>
                  <a:pt x="2941" y="111"/>
                </a:lnTo>
                <a:lnTo>
                  <a:pt x="2945" y="110"/>
                </a:lnTo>
                <a:lnTo>
                  <a:pt x="2949" y="110"/>
                </a:lnTo>
                <a:lnTo>
                  <a:pt x="2954" y="110"/>
                </a:lnTo>
                <a:lnTo>
                  <a:pt x="2958" y="109"/>
                </a:lnTo>
                <a:lnTo>
                  <a:pt x="2962" y="109"/>
                </a:lnTo>
                <a:lnTo>
                  <a:pt x="2967" y="109"/>
                </a:lnTo>
                <a:lnTo>
                  <a:pt x="2971" y="109"/>
                </a:lnTo>
                <a:lnTo>
                  <a:pt x="2975" y="108"/>
                </a:lnTo>
                <a:lnTo>
                  <a:pt x="2980" y="108"/>
                </a:lnTo>
                <a:lnTo>
                  <a:pt x="2984" y="108"/>
                </a:lnTo>
                <a:lnTo>
                  <a:pt x="2988" y="107"/>
                </a:lnTo>
                <a:lnTo>
                  <a:pt x="2993" y="107"/>
                </a:lnTo>
                <a:lnTo>
                  <a:pt x="2997" y="107"/>
                </a:lnTo>
                <a:lnTo>
                  <a:pt x="3001" y="107"/>
                </a:lnTo>
                <a:lnTo>
                  <a:pt x="3006" y="106"/>
                </a:lnTo>
                <a:lnTo>
                  <a:pt x="3010" y="106"/>
                </a:lnTo>
                <a:lnTo>
                  <a:pt x="3014" y="106"/>
                </a:lnTo>
                <a:lnTo>
                  <a:pt x="3019" y="105"/>
                </a:lnTo>
                <a:lnTo>
                  <a:pt x="3023" y="105"/>
                </a:lnTo>
                <a:lnTo>
                  <a:pt x="3027" y="105"/>
                </a:lnTo>
                <a:lnTo>
                  <a:pt x="3032" y="105"/>
                </a:lnTo>
                <a:lnTo>
                  <a:pt x="3036" y="104"/>
                </a:lnTo>
                <a:lnTo>
                  <a:pt x="3040" y="104"/>
                </a:lnTo>
                <a:lnTo>
                  <a:pt x="3045" y="104"/>
                </a:lnTo>
                <a:lnTo>
                  <a:pt x="3049" y="104"/>
                </a:lnTo>
                <a:lnTo>
                  <a:pt x="3054" y="103"/>
                </a:lnTo>
                <a:lnTo>
                  <a:pt x="3058" y="103"/>
                </a:lnTo>
                <a:lnTo>
                  <a:pt x="3062" y="103"/>
                </a:lnTo>
                <a:lnTo>
                  <a:pt x="3067" y="102"/>
                </a:lnTo>
                <a:lnTo>
                  <a:pt x="3071" y="102"/>
                </a:lnTo>
                <a:lnTo>
                  <a:pt x="3075" y="102"/>
                </a:lnTo>
                <a:lnTo>
                  <a:pt x="3080" y="102"/>
                </a:lnTo>
                <a:lnTo>
                  <a:pt x="3084" y="101"/>
                </a:lnTo>
                <a:lnTo>
                  <a:pt x="3088" y="101"/>
                </a:lnTo>
                <a:lnTo>
                  <a:pt x="3093" y="101"/>
                </a:lnTo>
                <a:lnTo>
                  <a:pt x="3097" y="101"/>
                </a:lnTo>
                <a:lnTo>
                  <a:pt x="3101" y="100"/>
                </a:lnTo>
                <a:lnTo>
                  <a:pt x="3106" y="100"/>
                </a:lnTo>
                <a:lnTo>
                  <a:pt x="3110" y="100"/>
                </a:lnTo>
                <a:lnTo>
                  <a:pt x="3114" y="99"/>
                </a:lnTo>
                <a:lnTo>
                  <a:pt x="3119" y="99"/>
                </a:lnTo>
                <a:lnTo>
                  <a:pt x="3123" y="99"/>
                </a:lnTo>
                <a:lnTo>
                  <a:pt x="3127" y="99"/>
                </a:lnTo>
                <a:lnTo>
                  <a:pt x="3132" y="98"/>
                </a:lnTo>
                <a:lnTo>
                  <a:pt x="3136" y="98"/>
                </a:lnTo>
                <a:lnTo>
                  <a:pt x="3140" y="98"/>
                </a:lnTo>
                <a:lnTo>
                  <a:pt x="3145" y="98"/>
                </a:lnTo>
                <a:lnTo>
                  <a:pt x="3149" y="97"/>
                </a:lnTo>
                <a:lnTo>
                  <a:pt x="3153" y="97"/>
                </a:lnTo>
                <a:lnTo>
                  <a:pt x="3158" y="97"/>
                </a:lnTo>
                <a:lnTo>
                  <a:pt x="3162" y="96"/>
                </a:lnTo>
                <a:lnTo>
                  <a:pt x="3166" y="96"/>
                </a:lnTo>
                <a:lnTo>
                  <a:pt x="3171" y="96"/>
                </a:lnTo>
                <a:lnTo>
                  <a:pt x="3175" y="96"/>
                </a:lnTo>
                <a:lnTo>
                  <a:pt x="3179" y="95"/>
                </a:lnTo>
                <a:lnTo>
                  <a:pt x="3184" y="95"/>
                </a:lnTo>
                <a:lnTo>
                  <a:pt x="3188" y="95"/>
                </a:lnTo>
                <a:lnTo>
                  <a:pt x="3192" y="95"/>
                </a:lnTo>
                <a:lnTo>
                  <a:pt x="3197" y="94"/>
                </a:lnTo>
                <a:lnTo>
                  <a:pt x="3201" y="94"/>
                </a:lnTo>
                <a:lnTo>
                  <a:pt x="3205" y="94"/>
                </a:lnTo>
                <a:lnTo>
                  <a:pt x="3210" y="94"/>
                </a:lnTo>
                <a:lnTo>
                  <a:pt x="3214" y="93"/>
                </a:lnTo>
                <a:lnTo>
                  <a:pt x="3218" y="93"/>
                </a:lnTo>
                <a:lnTo>
                  <a:pt x="3223" y="93"/>
                </a:lnTo>
                <a:lnTo>
                  <a:pt x="3227" y="93"/>
                </a:lnTo>
                <a:lnTo>
                  <a:pt x="3231" y="92"/>
                </a:lnTo>
                <a:lnTo>
                  <a:pt x="3236" y="92"/>
                </a:lnTo>
                <a:lnTo>
                  <a:pt x="3240" y="92"/>
                </a:lnTo>
                <a:lnTo>
                  <a:pt x="3244" y="91"/>
                </a:lnTo>
                <a:lnTo>
                  <a:pt x="3249" y="91"/>
                </a:lnTo>
                <a:lnTo>
                  <a:pt x="3253" y="91"/>
                </a:lnTo>
                <a:lnTo>
                  <a:pt x="3257" y="91"/>
                </a:lnTo>
                <a:lnTo>
                  <a:pt x="3262" y="90"/>
                </a:lnTo>
                <a:lnTo>
                  <a:pt x="3266" y="90"/>
                </a:lnTo>
                <a:lnTo>
                  <a:pt x="3270" y="90"/>
                </a:lnTo>
                <a:lnTo>
                  <a:pt x="3275" y="90"/>
                </a:lnTo>
                <a:lnTo>
                  <a:pt x="3279" y="89"/>
                </a:lnTo>
                <a:lnTo>
                  <a:pt x="3283" y="89"/>
                </a:lnTo>
                <a:lnTo>
                  <a:pt x="3288" y="89"/>
                </a:lnTo>
                <a:lnTo>
                  <a:pt x="3292" y="89"/>
                </a:lnTo>
                <a:lnTo>
                  <a:pt x="3296" y="88"/>
                </a:lnTo>
                <a:lnTo>
                  <a:pt x="3301" y="88"/>
                </a:lnTo>
                <a:lnTo>
                  <a:pt x="3305" y="88"/>
                </a:lnTo>
                <a:lnTo>
                  <a:pt x="3309" y="88"/>
                </a:lnTo>
                <a:lnTo>
                  <a:pt x="3314" y="87"/>
                </a:lnTo>
                <a:lnTo>
                  <a:pt x="3318" y="87"/>
                </a:lnTo>
                <a:lnTo>
                  <a:pt x="3322" y="87"/>
                </a:lnTo>
                <a:lnTo>
                  <a:pt x="3327" y="87"/>
                </a:lnTo>
                <a:lnTo>
                  <a:pt x="3331" y="86"/>
                </a:lnTo>
                <a:lnTo>
                  <a:pt x="3335" y="86"/>
                </a:lnTo>
                <a:lnTo>
                  <a:pt x="3340" y="86"/>
                </a:lnTo>
                <a:lnTo>
                  <a:pt x="3344" y="86"/>
                </a:lnTo>
                <a:lnTo>
                  <a:pt x="3348" y="85"/>
                </a:lnTo>
                <a:lnTo>
                  <a:pt x="3353" y="85"/>
                </a:lnTo>
                <a:lnTo>
                  <a:pt x="3357" y="85"/>
                </a:lnTo>
                <a:lnTo>
                  <a:pt x="3362" y="85"/>
                </a:lnTo>
                <a:lnTo>
                  <a:pt x="3366" y="84"/>
                </a:lnTo>
                <a:lnTo>
                  <a:pt x="3370" y="84"/>
                </a:lnTo>
                <a:lnTo>
                  <a:pt x="3375" y="84"/>
                </a:lnTo>
                <a:lnTo>
                  <a:pt x="3379" y="84"/>
                </a:lnTo>
                <a:lnTo>
                  <a:pt x="3383" y="83"/>
                </a:lnTo>
                <a:lnTo>
                  <a:pt x="3388" y="83"/>
                </a:lnTo>
                <a:lnTo>
                  <a:pt x="3392" y="83"/>
                </a:lnTo>
                <a:lnTo>
                  <a:pt x="3396" y="83"/>
                </a:lnTo>
                <a:lnTo>
                  <a:pt x="3401" y="82"/>
                </a:lnTo>
                <a:lnTo>
                  <a:pt x="3405" y="82"/>
                </a:lnTo>
                <a:lnTo>
                  <a:pt x="3409" y="82"/>
                </a:lnTo>
                <a:lnTo>
                  <a:pt x="3414" y="82"/>
                </a:lnTo>
                <a:lnTo>
                  <a:pt x="3418" y="81"/>
                </a:lnTo>
                <a:lnTo>
                  <a:pt x="3422" y="81"/>
                </a:lnTo>
                <a:lnTo>
                  <a:pt x="3427" y="81"/>
                </a:lnTo>
                <a:lnTo>
                  <a:pt x="3431" y="81"/>
                </a:lnTo>
                <a:lnTo>
                  <a:pt x="3435" y="80"/>
                </a:lnTo>
                <a:lnTo>
                  <a:pt x="3440" y="80"/>
                </a:lnTo>
                <a:lnTo>
                  <a:pt x="3444" y="80"/>
                </a:lnTo>
                <a:lnTo>
                  <a:pt x="3448" y="80"/>
                </a:lnTo>
                <a:lnTo>
                  <a:pt x="3453" y="79"/>
                </a:lnTo>
                <a:lnTo>
                  <a:pt x="3457" y="79"/>
                </a:lnTo>
                <a:lnTo>
                  <a:pt x="3461" y="79"/>
                </a:lnTo>
                <a:lnTo>
                  <a:pt x="3466" y="79"/>
                </a:lnTo>
                <a:lnTo>
                  <a:pt x="3470" y="78"/>
                </a:lnTo>
                <a:lnTo>
                  <a:pt x="3474" y="78"/>
                </a:lnTo>
                <a:lnTo>
                  <a:pt x="3479" y="78"/>
                </a:lnTo>
                <a:lnTo>
                  <a:pt x="3483" y="78"/>
                </a:lnTo>
                <a:lnTo>
                  <a:pt x="3487" y="77"/>
                </a:lnTo>
                <a:lnTo>
                  <a:pt x="3492" y="77"/>
                </a:lnTo>
                <a:lnTo>
                  <a:pt x="3496" y="77"/>
                </a:lnTo>
                <a:lnTo>
                  <a:pt x="3500" y="77"/>
                </a:lnTo>
                <a:lnTo>
                  <a:pt x="3505" y="76"/>
                </a:lnTo>
                <a:lnTo>
                  <a:pt x="3509" y="76"/>
                </a:lnTo>
                <a:lnTo>
                  <a:pt x="3513" y="76"/>
                </a:lnTo>
                <a:lnTo>
                  <a:pt x="3518" y="76"/>
                </a:lnTo>
                <a:lnTo>
                  <a:pt x="3522" y="75"/>
                </a:lnTo>
                <a:lnTo>
                  <a:pt x="3526" y="75"/>
                </a:lnTo>
                <a:lnTo>
                  <a:pt x="3531" y="75"/>
                </a:lnTo>
                <a:lnTo>
                  <a:pt x="3535" y="75"/>
                </a:lnTo>
                <a:lnTo>
                  <a:pt x="3539" y="75"/>
                </a:lnTo>
                <a:lnTo>
                  <a:pt x="3544" y="74"/>
                </a:lnTo>
                <a:lnTo>
                  <a:pt x="3548" y="74"/>
                </a:lnTo>
                <a:lnTo>
                  <a:pt x="3552" y="74"/>
                </a:lnTo>
                <a:lnTo>
                  <a:pt x="3557" y="74"/>
                </a:lnTo>
                <a:lnTo>
                  <a:pt x="3561" y="73"/>
                </a:lnTo>
                <a:lnTo>
                  <a:pt x="3565" y="73"/>
                </a:lnTo>
                <a:lnTo>
                  <a:pt x="3570" y="73"/>
                </a:lnTo>
                <a:lnTo>
                  <a:pt x="3574" y="73"/>
                </a:lnTo>
                <a:lnTo>
                  <a:pt x="3578" y="72"/>
                </a:lnTo>
                <a:lnTo>
                  <a:pt x="3583" y="72"/>
                </a:lnTo>
                <a:lnTo>
                  <a:pt x="3587" y="72"/>
                </a:lnTo>
                <a:lnTo>
                  <a:pt x="3591" y="72"/>
                </a:lnTo>
                <a:lnTo>
                  <a:pt x="3596" y="71"/>
                </a:lnTo>
                <a:lnTo>
                  <a:pt x="3600" y="71"/>
                </a:lnTo>
                <a:lnTo>
                  <a:pt x="3604" y="71"/>
                </a:lnTo>
                <a:lnTo>
                  <a:pt x="3609" y="71"/>
                </a:lnTo>
                <a:lnTo>
                  <a:pt x="3613" y="70"/>
                </a:lnTo>
                <a:lnTo>
                  <a:pt x="3617" y="70"/>
                </a:lnTo>
                <a:lnTo>
                  <a:pt x="3622" y="70"/>
                </a:lnTo>
                <a:lnTo>
                  <a:pt x="3626" y="70"/>
                </a:lnTo>
                <a:lnTo>
                  <a:pt x="3630" y="70"/>
                </a:lnTo>
                <a:lnTo>
                  <a:pt x="3635" y="69"/>
                </a:lnTo>
                <a:lnTo>
                  <a:pt x="3639" y="69"/>
                </a:lnTo>
                <a:lnTo>
                  <a:pt x="3643" y="69"/>
                </a:lnTo>
                <a:lnTo>
                  <a:pt x="3648" y="69"/>
                </a:lnTo>
                <a:lnTo>
                  <a:pt x="3652" y="68"/>
                </a:lnTo>
                <a:lnTo>
                  <a:pt x="3656" y="68"/>
                </a:lnTo>
                <a:lnTo>
                  <a:pt x="3661" y="68"/>
                </a:lnTo>
                <a:lnTo>
                  <a:pt x="3665" y="68"/>
                </a:lnTo>
                <a:lnTo>
                  <a:pt x="3670" y="67"/>
                </a:lnTo>
                <a:lnTo>
                  <a:pt x="3674" y="67"/>
                </a:lnTo>
                <a:lnTo>
                  <a:pt x="3678" y="67"/>
                </a:lnTo>
                <a:lnTo>
                  <a:pt x="3683" y="67"/>
                </a:lnTo>
                <a:lnTo>
                  <a:pt x="3687" y="67"/>
                </a:lnTo>
                <a:lnTo>
                  <a:pt x="3691" y="66"/>
                </a:lnTo>
                <a:lnTo>
                  <a:pt x="3696" y="66"/>
                </a:lnTo>
                <a:lnTo>
                  <a:pt x="3700" y="66"/>
                </a:lnTo>
                <a:lnTo>
                  <a:pt x="3704" y="66"/>
                </a:lnTo>
                <a:lnTo>
                  <a:pt x="3709" y="65"/>
                </a:lnTo>
                <a:lnTo>
                  <a:pt x="3713" y="65"/>
                </a:lnTo>
                <a:lnTo>
                  <a:pt x="3717" y="65"/>
                </a:lnTo>
                <a:lnTo>
                  <a:pt x="3722" y="65"/>
                </a:lnTo>
                <a:lnTo>
                  <a:pt x="3726" y="65"/>
                </a:lnTo>
                <a:lnTo>
                  <a:pt x="3730" y="64"/>
                </a:lnTo>
                <a:lnTo>
                  <a:pt x="3735" y="64"/>
                </a:lnTo>
                <a:lnTo>
                  <a:pt x="3739" y="64"/>
                </a:lnTo>
                <a:lnTo>
                  <a:pt x="3743" y="64"/>
                </a:lnTo>
                <a:lnTo>
                  <a:pt x="3748" y="63"/>
                </a:lnTo>
                <a:lnTo>
                  <a:pt x="3752" y="63"/>
                </a:lnTo>
                <a:lnTo>
                  <a:pt x="3756" y="63"/>
                </a:lnTo>
                <a:lnTo>
                  <a:pt x="3761" y="63"/>
                </a:lnTo>
                <a:lnTo>
                  <a:pt x="3765" y="62"/>
                </a:lnTo>
                <a:lnTo>
                  <a:pt x="3769" y="62"/>
                </a:lnTo>
                <a:lnTo>
                  <a:pt x="3774" y="62"/>
                </a:lnTo>
                <a:lnTo>
                  <a:pt x="3778" y="62"/>
                </a:lnTo>
                <a:lnTo>
                  <a:pt x="3782" y="62"/>
                </a:lnTo>
                <a:lnTo>
                  <a:pt x="3787" y="61"/>
                </a:lnTo>
                <a:lnTo>
                  <a:pt x="3791" y="61"/>
                </a:lnTo>
                <a:lnTo>
                  <a:pt x="3795" y="61"/>
                </a:lnTo>
                <a:lnTo>
                  <a:pt x="3800" y="61"/>
                </a:lnTo>
                <a:lnTo>
                  <a:pt x="3804" y="60"/>
                </a:lnTo>
                <a:lnTo>
                  <a:pt x="3808" y="60"/>
                </a:lnTo>
                <a:lnTo>
                  <a:pt x="3813" y="60"/>
                </a:lnTo>
                <a:lnTo>
                  <a:pt x="3817" y="60"/>
                </a:lnTo>
                <a:lnTo>
                  <a:pt x="3821" y="60"/>
                </a:lnTo>
                <a:lnTo>
                  <a:pt x="3826" y="59"/>
                </a:lnTo>
                <a:lnTo>
                  <a:pt x="3830" y="59"/>
                </a:lnTo>
                <a:lnTo>
                  <a:pt x="3834" y="59"/>
                </a:lnTo>
                <a:lnTo>
                  <a:pt x="3839" y="59"/>
                </a:lnTo>
                <a:lnTo>
                  <a:pt x="3843" y="58"/>
                </a:lnTo>
                <a:lnTo>
                  <a:pt x="3847" y="58"/>
                </a:lnTo>
                <a:lnTo>
                  <a:pt x="3852" y="58"/>
                </a:lnTo>
                <a:lnTo>
                  <a:pt x="3856" y="58"/>
                </a:lnTo>
                <a:lnTo>
                  <a:pt x="3860" y="58"/>
                </a:lnTo>
                <a:lnTo>
                  <a:pt x="3865" y="57"/>
                </a:lnTo>
                <a:lnTo>
                  <a:pt x="3869" y="57"/>
                </a:lnTo>
                <a:lnTo>
                  <a:pt x="3873" y="57"/>
                </a:lnTo>
                <a:lnTo>
                  <a:pt x="3878" y="57"/>
                </a:lnTo>
                <a:lnTo>
                  <a:pt x="3882" y="56"/>
                </a:lnTo>
                <a:lnTo>
                  <a:pt x="3886" y="56"/>
                </a:lnTo>
                <a:lnTo>
                  <a:pt x="3891" y="56"/>
                </a:lnTo>
                <a:lnTo>
                  <a:pt x="3895" y="56"/>
                </a:lnTo>
                <a:lnTo>
                  <a:pt x="3899" y="56"/>
                </a:lnTo>
                <a:lnTo>
                  <a:pt x="3904" y="55"/>
                </a:lnTo>
                <a:lnTo>
                  <a:pt x="3908" y="55"/>
                </a:lnTo>
                <a:lnTo>
                  <a:pt x="3912" y="55"/>
                </a:lnTo>
                <a:lnTo>
                  <a:pt x="3917" y="55"/>
                </a:lnTo>
                <a:lnTo>
                  <a:pt x="3921" y="55"/>
                </a:lnTo>
                <a:lnTo>
                  <a:pt x="3925" y="54"/>
                </a:lnTo>
                <a:lnTo>
                  <a:pt x="3930" y="54"/>
                </a:lnTo>
                <a:lnTo>
                  <a:pt x="3934" y="54"/>
                </a:lnTo>
                <a:lnTo>
                  <a:pt x="3938" y="54"/>
                </a:lnTo>
                <a:lnTo>
                  <a:pt x="3943" y="53"/>
                </a:lnTo>
                <a:lnTo>
                  <a:pt x="3947" y="53"/>
                </a:lnTo>
                <a:lnTo>
                  <a:pt x="3951" y="53"/>
                </a:lnTo>
                <a:lnTo>
                  <a:pt x="3956" y="53"/>
                </a:lnTo>
                <a:lnTo>
                  <a:pt x="3960" y="53"/>
                </a:lnTo>
                <a:lnTo>
                  <a:pt x="3965" y="52"/>
                </a:lnTo>
                <a:lnTo>
                  <a:pt x="3969" y="52"/>
                </a:lnTo>
                <a:lnTo>
                  <a:pt x="3973" y="52"/>
                </a:lnTo>
                <a:lnTo>
                  <a:pt x="3978" y="52"/>
                </a:lnTo>
                <a:lnTo>
                  <a:pt x="3982" y="52"/>
                </a:lnTo>
                <a:lnTo>
                  <a:pt x="3986" y="51"/>
                </a:lnTo>
                <a:lnTo>
                  <a:pt x="3991" y="51"/>
                </a:lnTo>
                <a:lnTo>
                  <a:pt x="3995" y="51"/>
                </a:lnTo>
                <a:lnTo>
                  <a:pt x="3999" y="51"/>
                </a:lnTo>
                <a:lnTo>
                  <a:pt x="4004" y="50"/>
                </a:lnTo>
                <a:lnTo>
                  <a:pt x="4008" y="50"/>
                </a:lnTo>
                <a:lnTo>
                  <a:pt x="4012" y="50"/>
                </a:lnTo>
                <a:lnTo>
                  <a:pt x="4017" y="50"/>
                </a:lnTo>
                <a:lnTo>
                  <a:pt x="4021" y="50"/>
                </a:lnTo>
                <a:lnTo>
                  <a:pt x="4025" y="49"/>
                </a:lnTo>
                <a:lnTo>
                  <a:pt x="4030" y="49"/>
                </a:lnTo>
                <a:lnTo>
                  <a:pt x="4034" y="49"/>
                </a:lnTo>
                <a:lnTo>
                  <a:pt x="4038" y="49"/>
                </a:lnTo>
                <a:lnTo>
                  <a:pt x="4043" y="49"/>
                </a:lnTo>
                <a:lnTo>
                  <a:pt x="4047" y="48"/>
                </a:lnTo>
                <a:lnTo>
                  <a:pt x="4051" y="48"/>
                </a:lnTo>
                <a:lnTo>
                  <a:pt x="4056" y="48"/>
                </a:lnTo>
                <a:lnTo>
                  <a:pt x="4060" y="48"/>
                </a:lnTo>
                <a:lnTo>
                  <a:pt x="4064" y="48"/>
                </a:lnTo>
                <a:lnTo>
                  <a:pt x="4069" y="47"/>
                </a:lnTo>
                <a:lnTo>
                  <a:pt x="4073" y="47"/>
                </a:lnTo>
                <a:lnTo>
                  <a:pt x="4077" y="47"/>
                </a:lnTo>
                <a:lnTo>
                  <a:pt x="4082" y="47"/>
                </a:lnTo>
                <a:lnTo>
                  <a:pt x="4086" y="46"/>
                </a:lnTo>
                <a:lnTo>
                  <a:pt x="4090" y="46"/>
                </a:lnTo>
                <a:lnTo>
                  <a:pt x="4095" y="46"/>
                </a:lnTo>
                <a:lnTo>
                  <a:pt x="4099" y="46"/>
                </a:lnTo>
                <a:lnTo>
                  <a:pt x="4103" y="46"/>
                </a:lnTo>
                <a:lnTo>
                  <a:pt x="4108" y="45"/>
                </a:lnTo>
                <a:lnTo>
                  <a:pt x="4112" y="45"/>
                </a:lnTo>
                <a:lnTo>
                  <a:pt x="4116" y="45"/>
                </a:lnTo>
                <a:lnTo>
                  <a:pt x="4121" y="45"/>
                </a:lnTo>
                <a:lnTo>
                  <a:pt x="4125" y="45"/>
                </a:lnTo>
                <a:lnTo>
                  <a:pt x="4129" y="44"/>
                </a:lnTo>
                <a:lnTo>
                  <a:pt x="4134" y="44"/>
                </a:lnTo>
                <a:lnTo>
                  <a:pt x="4138" y="44"/>
                </a:lnTo>
                <a:lnTo>
                  <a:pt x="4142" y="44"/>
                </a:lnTo>
                <a:lnTo>
                  <a:pt x="4147" y="44"/>
                </a:lnTo>
                <a:lnTo>
                  <a:pt x="4151" y="43"/>
                </a:lnTo>
                <a:lnTo>
                  <a:pt x="4155" y="43"/>
                </a:lnTo>
                <a:lnTo>
                  <a:pt x="4160" y="43"/>
                </a:lnTo>
                <a:lnTo>
                  <a:pt x="4164" y="43"/>
                </a:lnTo>
                <a:lnTo>
                  <a:pt x="4168" y="43"/>
                </a:lnTo>
                <a:lnTo>
                  <a:pt x="4173" y="42"/>
                </a:lnTo>
                <a:lnTo>
                  <a:pt x="4177" y="42"/>
                </a:lnTo>
                <a:lnTo>
                  <a:pt x="4181" y="42"/>
                </a:lnTo>
                <a:lnTo>
                  <a:pt x="4186" y="42"/>
                </a:lnTo>
                <a:lnTo>
                  <a:pt x="4190" y="42"/>
                </a:lnTo>
                <a:lnTo>
                  <a:pt x="4194" y="41"/>
                </a:lnTo>
                <a:lnTo>
                  <a:pt x="4199" y="41"/>
                </a:lnTo>
                <a:lnTo>
                  <a:pt x="4203" y="41"/>
                </a:lnTo>
                <a:lnTo>
                  <a:pt x="4207" y="41"/>
                </a:lnTo>
                <a:lnTo>
                  <a:pt x="4212" y="41"/>
                </a:lnTo>
                <a:lnTo>
                  <a:pt x="4216" y="40"/>
                </a:lnTo>
                <a:lnTo>
                  <a:pt x="4220" y="40"/>
                </a:lnTo>
                <a:lnTo>
                  <a:pt x="4225" y="40"/>
                </a:lnTo>
                <a:lnTo>
                  <a:pt x="4229" y="40"/>
                </a:lnTo>
                <a:lnTo>
                  <a:pt x="4233" y="40"/>
                </a:lnTo>
                <a:lnTo>
                  <a:pt x="4238" y="39"/>
                </a:lnTo>
                <a:lnTo>
                  <a:pt x="4242" y="39"/>
                </a:lnTo>
                <a:lnTo>
                  <a:pt x="4246" y="39"/>
                </a:lnTo>
                <a:lnTo>
                  <a:pt x="4251" y="39"/>
                </a:lnTo>
                <a:lnTo>
                  <a:pt x="4255" y="39"/>
                </a:lnTo>
                <a:lnTo>
                  <a:pt x="4259" y="38"/>
                </a:lnTo>
                <a:lnTo>
                  <a:pt x="4264" y="38"/>
                </a:lnTo>
                <a:lnTo>
                  <a:pt x="4268" y="38"/>
                </a:lnTo>
                <a:lnTo>
                  <a:pt x="4273" y="38"/>
                </a:lnTo>
                <a:lnTo>
                  <a:pt x="4277" y="38"/>
                </a:lnTo>
                <a:lnTo>
                  <a:pt x="4281" y="37"/>
                </a:lnTo>
                <a:lnTo>
                  <a:pt x="4286" y="37"/>
                </a:lnTo>
                <a:lnTo>
                  <a:pt x="4290" y="37"/>
                </a:lnTo>
                <a:lnTo>
                  <a:pt x="4294" y="37"/>
                </a:lnTo>
                <a:lnTo>
                  <a:pt x="4299" y="37"/>
                </a:lnTo>
                <a:lnTo>
                  <a:pt x="4303" y="36"/>
                </a:lnTo>
                <a:lnTo>
                  <a:pt x="4307" y="36"/>
                </a:lnTo>
                <a:lnTo>
                  <a:pt x="4312" y="36"/>
                </a:lnTo>
                <a:lnTo>
                  <a:pt x="4316" y="36"/>
                </a:lnTo>
                <a:lnTo>
                  <a:pt x="4320" y="36"/>
                </a:lnTo>
                <a:lnTo>
                  <a:pt x="4325" y="35"/>
                </a:lnTo>
                <a:lnTo>
                  <a:pt x="4329" y="35"/>
                </a:lnTo>
                <a:lnTo>
                  <a:pt x="4333" y="35"/>
                </a:lnTo>
                <a:lnTo>
                  <a:pt x="4338" y="35"/>
                </a:lnTo>
                <a:lnTo>
                  <a:pt x="4342" y="35"/>
                </a:lnTo>
                <a:lnTo>
                  <a:pt x="4346" y="34"/>
                </a:lnTo>
                <a:lnTo>
                  <a:pt x="4351" y="34"/>
                </a:lnTo>
                <a:lnTo>
                  <a:pt x="4355" y="34"/>
                </a:lnTo>
                <a:lnTo>
                  <a:pt x="4359" y="34"/>
                </a:lnTo>
                <a:lnTo>
                  <a:pt x="4364" y="34"/>
                </a:lnTo>
                <a:lnTo>
                  <a:pt x="4368" y="33"/>
                </a:lnTo>
                <a:lnTo>
                  <a:pt x="4372" y="33"/>
                </a:lnTo>
                <a:lnTo>
                  <a:pt x="4377" y="33"/>
                </a:lnTo>
                <a:lnTo>
                  <a:pt x="4381" y="33"/>
                </a:lnTo>
                <a:lnTo>
                  <a:pt x="4385" y="33"/>
                </a:lnTo>
                <a:lnTo>
                  <a:pt x="4390" y="32"/>
                </a:lnTo>
                <a:lnTo>
                  <a:pt x="4394" y="32"/>
                </a:lnTo>
                <a:lnTo>
                  <a:pt x="4398" y="32"/>
                </a:lnTo>
                <a:lnTo>
                  <a:pt x="4403" y="32"/>
                </a:lnTo>
                <a:lnTo>
                  <a:pt x="4407" y="32"/>
                </a:lnTo>
                <a:lnTo>
                  <a:pt x="4411" y="32"/>
                </a:lnTo>
                <a:lnTo>
                  <a:pt x="4416" y="31"/>
                </a:lnTo>
                <a:lnTo>
                  <a:pt x="4420" y="31"/>
                </a:lnTo>
                <a:lnTo>
                  <a:pt x="4424" y="31"/>
                </a:lnTo>
                <a:lnTo>
                  <a:pt x="4429" y="31"/>
                </a:lnTo>
                <a:lnTo>
                  <a:pt x="4433" y="31"/>
                </a:lnTo>
                <a:lnTo>
                  <a:pt x="4437" y="30"/>
                </a:lnTo>
                <a:lnTo>
                  <a:pt x="4442" y="30"/>
                </a:lnTo>
                <a:lnTo>
                  <a:pt x="4446" y="30"/>
                </a:lnTo>
                <a:lnTo>
                  <a:pt x="4450" y="30"/>
                </a:lnTo>
                <a:lnTo>
                  <a:pt x="4455" y="30"/>
                </a:lnTo>
                <a:lnTo>
                  <a:pt x="4459" y="29"/>
                </a:lnTo>
                <a:lnTo>
                  <a:pt x="4463" y="29"/>
                </a:lnTo>
                <a:lnTo>
                  <a:pt x="4468" y="29"/>
                </a:lnTo>
                <a:lnTo>
                  <a:pt x="4472" y="29"/>
                </a:lnTo>
                <a:lnTo>
                  <a:pt x="4476" y="29"/>
                </a:lnTo>
                <a:lnTo>
                  <a:pt x="4481" y="28"/>
                </a:lnTo>
                <a:lnTo>
                  <a:pt x="4485" y="28"/>
                </a:lnTo>
                <a:lnTo>
                  <a:pt x="4489" y="28"/>
                </a:lnTo>
                <a:lnTo>
                  <a:pt x="4494" y="28"/>
                </a:lnTo>
                <a:lnTo>
                  <a:pt x="4498" y="28"/>
                </a:lnTo>
                <a:lnTo>
                  <a:pt x="4502" y="27"/>
                </a:lnTo>
                <a:lnTo>
                  <a:pt x="4507" y="27"/>
                </a:lnTo>
                <a:lnTo>
                  <a:pt x="4511" y="27"/>
                </a:lnTo>
                <a:lnTo>
                  <a:pt x="4515" y="27"/>
                </a:lnTo>
                <a:lnTo>
                  <a:pt x="4520" y="27"/>
                </a:lnTo>
                <a:lnTo>
                  <a:pt x="4524" y="27"/>
                </a:lnTo>
                <a:lnTo>
                  <a:pt x="4528" y="26"/>
                </a:lnTo>
                <a:lnTo>
                  <a:pt x="4533" y="26"/>
                </a:lnTo>
                <a:lnTo>
                  <a:pt x="4537" y="26"/>
                </a:lnTo>
                <a:lnTo>
                  <a:pt x="4541" y="26"/>
                </a:lnTo>
                <a:lnTo>
                  <a:pt x="4546" y="26"/>
                </a:lnTo>
                <a:lnTo>
                  <a:pt x="4550" y="25"/>
                </a:lnTo>
                <a:lnTo>
                  <a:pt x="4554" y="25"/>
                </a:lnTo>
                <a:lnTo>
                  <a:pt x="4559" y="25"/>
                </a:lnTo>
                <a:lnTo>
                  <a:pt x="4563" y="25"/>
                </a:lnTo>
                <a:lnTo>
                  <a:pt x="4567" y="25"/>
                </a:lnTo>
                <a:lnTo>
                  <a:pt x="4572" y="25"/>
                </a:lnTo>
                <a:lnTo>
                  <a:pt x="4576" y="24"/>
                </a:lnTo>
                <a:lnTo>
                  <a:pt x="4581" y="24"/>
                </a:lnTo>
                <a:lnTo>
                  <a:pt x="4585" y="24"/>
                </a:lnTo>
                <a:lnTo>
                  <a:pt x="4589" y="24"/>
                </a:lnTo>
                <a:lnTo>
                  <a:pt x="4594" y="24"/>
                </a:lnTo>
                <a:lnTo>
                  <a:pt x="4598" y="23"/>
                </a:lnTo>
                <a:lnTo>
                  <a:pt x="4602" y="23"/>
                </a:lnTo>
                <a:lnTo>
                  <a:pt x="4607" y="23"/>
                </a:lnTo>
                <a:lnTo>
                  <a:pt x="4611" y="23"/>
                </a:lnTo>
                <a:lnTo>
                  <a:pt x="4615" y="23"/>
                </a:lnTo>
                <a:lnTo>
                  <a:pt x="4620" y="22"/>
                </a:lnTo>
                <a:lnTo>
                  <a:pt x="4624" y="22"/>
                </a:lnTo>
                <a:lnTo>
                  <a:pt x="4628" y="22"/>
                </a:lnTo>
                <a:lnTo>
                  <a:pt x="4633" y="22"/>
                </a:lnTo>
                <a:lnTo>
                  <a:pt x="4637" y="22"/>
                </a:lnTo>
                <a:lnTo>
                  <a:pt x="4641" y="22"/>
                </a:lnTo>
                <a:lnTo>
                  <a:pt x="4646" y="21"/>
                </a:lnTo>
                <a:lnTo>
                  <a:pt x="4650" y="21"/>
                </a:lnTo>
                <a:lnTo>
                  <a:pt x="4654" y="21"/>
                </a:lnTo>
                <a:lnTo>
                  <a:pt x="4659" y="21"/>
                </a:lnTo>
                <a:lnTo>
                  <a:pt x="4663" y="21"/>
                </a:lnTo>
                <a:lnTo>
                  <a:pt x="4667" y="20"/>
                </a:lnTo>
                <a:lnTo>
                  <a:pt x="4672" y="20"/>
                </a:lnTo>
                <a:lnTo>
                  <a:pt x="4676" y="20"/>
                </a:lnTo>
                <a:lnTo>
                  <a:pt x="4680" y="20"/>
                </a:lnTo>
                <a:lnTo>
                  <a:pt x="4685" y="20"/>
                </a:lnTo>
                <a:lnTo>
                  <a:pt x="4689" y="20"/>
                </a:lnTo>
                <a:lnTo>
                  <a:pt x="4693" y="19"/>
                </a:lnTo>
                <a:lnTo>
                  <a:pt x="4698" y="19"/>
                </a:lnTo>
                <a:lnTo>
                  <a:pt x="4702" y="19"/>
                </a:lnTo>
                <a:lnTo>
                  <a:pt x="4706" y="19"/>
                </a:lnTo>
                <a:lnTo>
                  <a:pt x="4711" y="19"/>
                </a:lnTo>
                <a:lnTo>
                  <a:pt x="4715" y="18"/>
                </a:lnTo>
                <a:lnTo>
                  <a:pt x="4719" y="18"/>
                </a:lnTo>
                <a:lnTo>
                  <a:pt x="4724" y="18"/>
                </a:lnTo>
                <a:lnTo>
                  <a:pt x="4728" y="18"/>
                </a:lnTo>
                <a:lnTo>
                  <a:pt x="4732" y="18"/>
                </a:lnTo>
                <a:lnTo>
                  <a:pt x="4737" y="18"/>
                </a:lnTo>
                <a:lnTo>
                  <a:pt x="4741" y="17"/>
                </a:lnTo>
                <a:lnTo>
                  <a:pt x="4745" y="17"/>
                </a:lnTo>
                <a:lnTo>
                  <a:pt x="4750" y="17"/>
                </a:lnTo>
                <a:lnTo>
                  <a:pt x="4754" y="17"/>
                </a:lnTo>
                <a:lnTo>
                  <a:pt x="4758" y="17"/>
                </a:lnTo>
                <a:lnTo>
                  <a:pt x="4763" y="16"/>
                </a:lnTo>
                <a:lnTo>
                  <a:pt x="4767" y="16"/>
                </a:lnTo>
                <a:lnTo>
                  <a:pt x="4771" y="16"/>
                </a:lnTo>
                <a:lnTo>
                  <a:pt x="4776" y="16"/>
                </a:lnTo>
                <a:lnTo>
                  <a:pt x="4780" y="16"/>
                </a:lnTo>
                <a:lnTo>
                  <a:pt x="4784" y="16"/>
                </a:lnTo>
                <a:lnTo>
                  <a:pt x="4789" y="15"/>
                </a:lnTo>
                <a:lnTo>
                  <a:pt x="4793" y="15"/>
                </a:lnTo>
                <a:lnTo>
                  <a:pt x="4797" y="15"/>
                </a:lnTo>
                <a:lnTo>
                  <a:pt x="4802" y="15"/>
                </a:lnTo>
                <a:lnTo>
                  <a:pt x="4806" y="15"/>
                </a:lnTo>
                <a:lnTo>
                  <a:pt x="4810" y="15"/>
                </a:lnTo>
                <a:lnTo>
                  <a:pt x="4815" y="14"/>
                </a:lnTo>
                <a:lnTo>
                  <a:pt x="4819" y="14"/>
                </a:lnTo>
                <a:lnTo>
                  <a:pt x="4823" y="14"/>
                </a:lnTo>
                <a:lnTo>
                  <a:pt x="4828" y="14"/>
                </a:lnTo>
                <a:lnTo>
                  <a:pt x="4832" y="14"/>
                </a:lnTo>
                <a:lnTo>
                  <a:pt x="4836" y="13"/>
                </a:lnTo>
                <a:lnTo>
                  <a:pt x="4841" y="13"/>
                </a:lnTo>
                <a:lnTo>
                  <a:pt x="4845" y="13"/>
                </a:lnTo>
                <a:lnTo>
                  <a:pt x="4849" y="13"/>
                </a:lnTo>
                <a:lnTo>
                  <a:pt x="4854" y="13"/>
                </a:lnTo>
                <a:lnTo>
                  <a:pt x="4858" y="13"/>
                </a:lnTo>
                <a:lnTo>
                  <a:pt x="4862" y="12"/>
                </a:lnTo>
                <a:lnTo>
                  <a:pt x="4867" y="12"/>
                </a:lnTo>
                <a:lnTo>
                  <a:pt x="4871" y="12"/>
                </a:lnTo>
                <a:lnTo>
                  <a:pt x="4875" y="12"/>
                </a:lnTo>
                <a:lnTo>
                  <a:pt x="4880" y="12"/>
                </a:lnTo>
                <a:lnTo>
                  <a:pt x="4884" y="12"/>
                </a:lnTo>
                <a:lnTo>
                  <a:pt x="4889" y="11"/>
                </a:lnTo>
                <a:lnTo>
                  <a:pt x="4893" y="11"/>
                </a:lnTo>
                <a:lnTo>
                  <a:pt x="4897" y="11"/>
                </a:lnTo>
                <a:lnTo>
                  <a:pt x="4902" y="11"/>
                </a:lnTo>
                <a:lnTo>
                  <a:pt x="4906" y="11"/>
                </a:lnTo>
                <a:lnTo>
                  <a:pt x="4910" y="11"/>
                </a:lnTo>
                <a:lnTo>
                  <a:pt x="4915" y="10"/>
                </a:lnTo>
                <a:lnTo>
                  <a:pt x="4919" y="10"/>
                </a:lnTo>
                <a:lnTo>
                  <a:pt x="4923" y="10"/>
                </a:lnTo>
                <a:lnTo>
                  <a:pt x="4928" y="10"/>
                </a:lnTo>
                <a:lnTo>
                  <a:pt x="4932" y="10"/>
                </a:lnTo>
                <a:lnTo>
                  <a:pt x="4936" y="9"/>
                </a:lnTo>
                <a:lnTo>
                  <a:pt x="4941" y="9"/>
                </a:lnTo>
                <a:lnTo>
                  <a:pt x="4945" y="9"/>
                </a:lnTo>
                <a:lnTo>
                  <a:pt x="4949" y="9"/>
                </a:lnTo>
                <a:lnTo>
                  <a:pt x="4954" y="9"/>
                </a:lnTo>
                <a:lnTo>
                  <a:pt x="4958" y="9"/>
                </a:lnTo>
                <a:lnTo>
                  <a:pt x="4962" y="8"/>
                </a:lnTo>
                <a:lnTo>
                  <a:pt x="4967" y="8"/>
                </a:lnTo>
                <a:lnTo>
                  <a:pt x="4971" y="8"/>
                </a:lnTo>
                <a:lnTo>
                  <a:pt x="4975" y="8"/>
                </a:lnTo>
                <a:lnTo>
                  <a:pt x="4980" y="8"/>
                </a:lnTo>
                <a:lnTo>
                  <a:pt x="4984" y="8"/>
                </a:lnTo>
                <a:lnTo>
                  <a:pt x="4988" y="7"/>
                </a:lnTo>
                <a:lnTo>
                  <a:pt x="4993" y="7"/>
                </a:lnTo>
                <a:lnTo>
                  <a:pt x="4997" y="7"/>
                </a:lnTo>
                <a:lnTo>
                  <a:pt x="5001" y="7"/>
                </a:lnTo>
                <a:lnTo>
                  <a:pt x="5006" y="7"/>
                </a:lnTo>
                <a:lnTo>
                  <a:pt x="5010" y="7"/>
                </a:lnTo>
                <a:lnTo>
                  <a:pt x="5014" y="6"/>
                </a:lnTo>
                <a:lnTo>
                  <a:pt x="5019" y="6"/>
                </a:lnTo>
                <a:lnTo>
                  <a:pt x="5023" y="6"/>
                </a:lnTo>
                <a:lnTo>
                  <a:pt x="5027" y="6"/>
                </a:lnTo>
                <a:lnTo>
                  <a:pt x="5032" y="6"/>
                </a:lnTo>
                <a:lnTo>
                  <a:pt x="5036" y="6"/>
                </a:lnTo>
                <a:lnTo>
                  <a:pt x="5040" y="5"/>
                </a:lnTo>
                <a:lnTo>
                  <a:pt x="5045" y="5"/>
                </a:lnTo>
                <a:lnTo>
                  <a:pt x="5049" y="5"/>
                </a:lnTo>
                <a:lnTo>
                  <a:pt x="5053" y="5"/>
                </a:lnTo>
                <a:lnTo>
                  <a:pt x="5058" y="5"/>
                </a:lnTo>
                <a:lnTo>
                  <a:pt x="5062" y="5"/>
                </a:lnTo>
                <a:lnTo>
                  <a:pt x="5066" y="4"/>
                </a:lnTo>
                <a:lnTo>
                  <a:pt x="5071" y="4"/>
                </a:lnTo>
                <a:lnTo>
                  <a:pt x="5075" y="4"/>
                </a:lnTo>
                <a:lnTo>
                  <a:pt x="5079" y="4"/>
                </a:lnTo>
                <a:lnTo>
                  <a:pt x="5084" y="4"/>
                </a:lnTo>
                <a:lnTo>
                  <a:pt x="5088" y="4"/>
                </a:lnTo>
                <a:lnTo>
                  <a:pt x="5092" y="3"/>
                </a:lnTo>
                <a:lnTo>
                  <a:pt x="5097" y="3"/>
                </a:lnTo>
                <a:lnTo>
                  <a:pt x="5101" y="3"/>
                </a:lnTo>
                <a:lnTo>
                  <a:pt x="5105" y="3"/>
                </a:lnTo>
                <a:lnTo>
                  <a:pt x="5110" y="3"/>
                </a:lnTo>
                <a:lnTo>
                  <a:pt x="5114" y="3"/>
                </a:lnTo>
                <a:lnTo>
                  <a:pt x="5118" y="2"/>
                </a:lnTo>
                <a:lnTo>
                  <a:pt x="5123" y="2"/>
                </a:lnTo>
                <a:lnTo>
                  <a:pt x="5127" y="2"/>
                </a:lnTo>
                <a:lnTo>
                  <a:pt x="5131" y="2"/>
                </a:lnTo>
                <a:lnTo>
                  <a:pt x="5136" y="2"/>
                </a:lnTo>
                <a:lnTo>
                  <a:pt x="5140" y="2"/>
                </a:lnTo>
                <a:lnTo>
                  <a:pt x="5144" y="1"/>
                </a:lnTo>
                <a:lnTo>
                  <a:pt x="5149" y="1"/>
                </a:lnTo>
                <a:lnTo>
                  <a:pt x="5153" y="1"/>
                </a:lnTo>
                <a:lnTo>
                  <a:pt x="5157" y="1"/>
                </a:lnTo>
                <a:lnTo>
                  <a:pt x="5162" y="1"/>
                </a:lnTo>
                <a:lnTo>
                  <a:pt x="5166" y="1"/>
                </a:lnTo>
                <a:lnTo>
                  <a:pt x="5170" y="0"/>
                </a:lnTo>
                <a:lnTo>
                  <a:pt x="5175" y="0"/>
                </a:lnTo>
                <a:lnTo>
                  <a:pt x="5179" y="0"/>
                </a:lnTo>
                <a:lnTo>
                  <a:pt x="5184" y="0"/>
                </a:lnTo>
              </a:path>
            </a:pathLst>
          </a:custGeom>
          <a:noFill/>
          <a:ln w="22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8360" y="55800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907920" y="50292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07920" y="44784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4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7920" y="39258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6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7920" y="337356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8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845640" y="282240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0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45640" y="227160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2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45640" y="171936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40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rot="18900000">
            <a:off x="110196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rot="18900000">
            <a:off x="132588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6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rot="18900000">
            <a:off x="154800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6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rot="18900000">
            <a:off x="177084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6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rot="18900000">
            <a:off x="199476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rot="18900000">
            <a:off x="221688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8900000">
            <a:off x="243864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7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rot="18900000">
            <a:off x="266148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7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8900000">
            <a:off x="288468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7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rot="18900000">
            <a:off x="310752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7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rot="18900000">
            <a:off x="332928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rot="18900000">
            <a:off x="355356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8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rot="18900000">
            <a:off x="377532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rot="18900000">
            <a:off x="399816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8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8900000">
            <a:off x="422028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8900000">
            <a:off x="444420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rot="18900000">
            <a:off x="466596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rot="18900000">
            <a:off x="488880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rot="18900000">
            <a:off x="511200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rot="18900000">
            <a:off x="533484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rot="18900000">
            <a:off x="555696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rot="18900000">
            <a:off x="577872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8900000">
            <a:off x="6002640" y="5774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-550800" y="3477240"/>
            <a:ext cx="248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iles de toneladas (ready to cook equival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521000" y="1932120"/>
            <a:ext cx="1019160" cy="1265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714680" y="2104920"/>
            <a:ext cx="83880" cy="7956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894320" y="2073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l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714680" y="2525760"/>
            <a:ext cx="83880" cy="7920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906200" y="249408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rc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14680" y="2948040"/>
            <a:ext cx="83880" cy="79200"/>
          </a:xfrm>
          <a:prstGeom prst="rect">
            <a:avLst/>
          </a:prstGeom>
          <a:solidFill>
            <a:srgbClr val="008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905480" y="291636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cu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863760" y="5813280"/>
            <a:ext cx="1248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yeccion  2004 -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67520" y="355284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886440" y="25639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er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830720" y="425772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cu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203640" y="2149560"/>
            <a:ext cx="29509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merc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sa de Crecimiento Anual: 6.1% (2001-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68360" y="476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volución de la Producción Mundial de Carnes en el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ducción de biocombustibles en EE.U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851040" y="1219320"/>
          <a:ext cx="753084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1219320"/>
                    <a:ext cx="753084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aíz de EE.UU. – Uso alimenticio e industrial (M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762120" y="1295280"/>
          <a:ext cx="76579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657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2" name=""/>
          <p:cNvSpPr/>
          <p:nvPr/>
        </p:nvSpPr>
        <p:spPr>
          <a:xfrm>
            <a:off x="1187280" y="32893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298" y="9139"/>
                </a:moveTo>
                <a:lnTo>
                  <a:pt x="3298" y="91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ecosistemas sustentables  por  el  uso de  rotaciones  en siembra  directa y por un reordenamiento  territorial consensuado y efici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la  producción de alimentos con denominación de  origen y “Los Frutos Regionales” ocupar las  mejores  góndolas de los supermercados del 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바탕"/>
              </a:rPr>
              <a:t>El Poder de la Visión</a:t>
            </a:r>
            <a:br>
              <a:rPr sz="72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Cuidado con lo que te  propones que lo vas a  consegui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 a  los pueblos rurales con  buena  calidad de   vida, con buena  educación, vivienda y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539280" y="918720"/>
            <a:ext cx="8425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la Argentina surcada por  autovías y autopistas, al Paraná como gran centro de servicios y transformación de granos, a ferrocarriles  que nos unen al Pacifico y al Atlántico y al NEA y NOA  con el m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 la  cordillera de  Los Andes “perforada” por  vías de  comunicación y  los productos del NOA salir al  mundo  por Antofag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842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el desarrollo del  trafico  aéreo y una red  nacional interconectada. No es  necesario  pasar  por  Buenos Aires para ir  de una  capital de provincia  a 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los científicos  buscando  nuevos hallazgos, innovando, creando  valor  para  la  sociedad desde los laboratorios en las Universidades. Y nos vemos llevando  estos productos al campo, creando valor desde  el campo y  la  ind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6756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 a los  procesadores  y distribuidores  del mundo preferirnos  como proveedores. Porque somos  confiables, porque  comparten  nuestra visión de  los negocios  y la 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50560" y="358560"/>
            <a:ext cx="8713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es  ingresos  y  población son la  base  para un mayor crecimiento en el consumo de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684360" y="1521000"/>
          <a:ext cx="777384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21000"/>
                    <a:ext cx="7773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2" name=""/>
          <p:cNvSpPr/>
          <p:nvPr/>
        </p:nvSpPr>
        <p:spPr>
          <a:xfrm>
            <a:off x="3630600" y="613728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abobank analysis base on UN-Population department and IMF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6756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 los  turistas del  mundo visitarnos, recorriendo nuestras  rutas, admirando  nuestra  cultura, nuestra  divers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a las  culturas nativas crecer con nuevos emprendimientos sustentables. Produciendo alimentos sofisticados, que  “envasan”  su  cultura y se expor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a  estas  culturas integrarse  a  la sociedad pero manteniendo su  identidad y  construyendo  un  proyecto pro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l MERCOSUR  proveyendo alimentos al 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Vemos al ALCA , la UE, el Asia  Pacífico y todo lugar o región del mundo donde haya intereses o espacios para los intercambios, el  comer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nuevos actores, las  empresas  sociales, el  cuarto sector, liderando un  nuevo capit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 a  nuestra  Patria  ponerse  en marcha, hacia  adelante, sin mirar  atrás, con esperanza, equidad, respeto, integrada, solid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Nuestro próximo desafío esta allí adelante,  en el día  a día, mirando lejos y actuando cerca, al alcance  de nuestras  ma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Sembrando y cosech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Estudiando e Invirt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Trabajando , Legisl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Sirviendo a los ciudad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gentina, te hemos decepciona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35000" y="2136600"/>
            <a:ext cx="7078680" cy="34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35000" y="2136600"/>
            <a:ext cx="7078680" cy="3494160"/>
          </a:xfrm>
          <a:prstGeom prst="rect">
            <a:avLst/>
          </a:prstGeom>
          <a:noFill/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35000" y="2136600"/>
            <a:ext cx="1800" cy="349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2160" y="56307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524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2160" y="4853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2160" y="4467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2160" y="40784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2160" y="3689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2160" y="33004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2160" y="29145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2160" y="25257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2160" y="2136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35000" y="5630760"/>
            <a:ext cx="707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0350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1001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653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2319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2970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3622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2704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940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5588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239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6891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575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223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874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512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160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844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495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147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2795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464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112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7644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416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6082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733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85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036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684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368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0024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654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1305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989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2637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289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3940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606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5258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910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6561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7209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879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527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9178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830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0514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1148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799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451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3131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783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434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086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752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04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052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7703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355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9021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9672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324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976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1642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293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941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593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277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928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5576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6214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6865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546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8197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8849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500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166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818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14664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118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784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3435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087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4738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390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070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6722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356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007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8691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343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991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0642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1308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19604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26120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3263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3915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581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52328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880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65324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72164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78500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5016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915320" y="5630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8336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4852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113680" y="5630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066680" y="5231880"/>
            <a:ext cx="65160" cy="97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31840" y="5232240"/>
            <a:ext cx="68400" cy="223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221440"/>
            <a:ext cx="65160" cy="331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65400" y="5213520"/>
            <a:ext cx="64800" cy="79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0200" y="5213520"/>
            <a:ext cx="63720" cy="14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393920" y="5181120"/>
            <a:ext cx="68040" cy="320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61960" y="5178600"/>
            <a:ext cx="65160" cy="28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27120" y="5175000"/>
            <a:ext cx="65160" cy="32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2280" y="5175360"/>
            <a:ext cx="65160" cy="61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657440" y="5162040"/>
            <a:ext cx="65160" cy="190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22600" y="5135040"/>
            <a:ext cx="66600" cy="270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89200" y="5135400"/>
            <a:ext cx="65160" cy="18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54360" y="5135400"/>
            <a:ext cx="64800" cy="288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19160" y="5119560"/>
            <a:ext cx="65160" cy="446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4320" y="5119560"/>
            <a:ext cx="66600" cy="18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050920" y="5087880"/>
            <a:ext cx="65160" cy="316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16080" y="5078520"/>
            <a:ext cx="65160" cy="93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81240" y="5049720"/>
            <a:ext cx="65160" cy="288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46400" y="5049720"/>
            <a:ext cx="68040" cy="349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314440" y="5083200"/>
            <a:ext cx="65160" cy="14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379600" y="5062320"/>
            <a:ext cx="63720" cy="205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3320" y="5062680"/>
            <a:ext cx="64800" cy="252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8120" y="5087880"/>
            <a:ext cx="65160" cy="18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73280" y="5087880"/>
            <a:ext cx="68400" cy="237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41680" y="5111640"/>
            <a:ext cx="65160" cy="144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6840" y="5126040"/>
            <a:ext cx="64800" cy="381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71640" y="5121000"/>
            <a:ext cx="65160" cy="428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36800" y="5079600"/>
            <a:ext cx="66600" cy="414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3400" y="5079960"/>
            <a:ext cx="65160" cy="190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968560" y="5057280"/>
            <a:ext cx="65160" cy="414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33720" y="5036760"/>
            <a:ext cx="65160" cy="205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98880" y="5027760"/>
            <a:ext cx="66600" cy="93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165480" y="5006880"/>
            <a:ext cx="65160" cy="208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0640" y="5006880"/>
            <a:ext cx="65160" cy="46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95800" y="5011560"/>
            <a:ext cx="64800" cy="493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60600" y="5060880"/>
            <a:ext cx="65160" cy="428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5760" y="5103720"/>
            <a:ext cx="68400" cy="334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4160" y="5137200"/>
            <a:ext cx="63360" cy="93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557520" y="5113440"/>
            <a:ext cx="65160" cy="331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22680" y="5073120"/>
            <a:ext cx="65160" cy="399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87840" y="5044680"/>
            <a:ext cx="68040" cy="284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55880" y="5003280"/>
            <a:ext cx="65160" cy="414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821040" y="4987800"/>
            <a:ext cx="65160" cy="158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86200" y="4941720"/>
            <a:ext cx="65160" cy="460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951360" y="4908600"/>
            <a:ext cx="66600" cy="331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017960" y="4844520"/>
            <a:ext cx="65160" cy="637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083120" y="4781520"/>
            <a:ext cx="65160" cy="633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148280" y="4751280"/>
            <a:ext cx="64800" cy="302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213080" y="4747680"/>
            <a:ext cx="65160" cy="32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78240" y="4748040"/>
            <a:ext cx="66600" cy="414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44840" y="4789440"/>
            <a:ext cx="65160" cy="381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410000" y="4811760"/>
            <a:ext cx="65160" cy="158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475160" y="4797360"/>
            <a:ext cx="65160" cy="144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40320" y="4789440"/>
            <a:ext cx="66600" cy="79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606920" y="4736880"/>
            <a:ext cx="65160" cy="522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2080" y="4691160"/>
            <a:ext cx="65160" cy="460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737240" y="4660920"/>
            <a:ext cx="64800" cy="302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802040" y="4622760"/>
            <a:ext cx="68400" cy="381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70440" y="4622760"/>
            <a:ext cx="65160" cy="79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935600" y="4571640"/>
            <a:ext cx="65160" cy="586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00760" y="4543200"/>
            <a:ext cx="64800" cy="284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065560" y="4533480"/>
            <a:ext cx="63720" cy="97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9280" y="4533840"/>
            <a:ext cx="68040" cy="79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197320" y="4492800"/>
            <a:ext cx="65160" cy="489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262480" y="4454640"/>
            <a:ext cx="65160" cy="381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27640" y="4428720"/>
            <a:ext cx="65160" cy="255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2800" y="4393800"/>
            <a:ext cx="66600" cy="349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59400" y="4341600"/>
            <a:ext cx="65160" cy="522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524560" y="4282920"/>
            <a:ext cx="65160" cy="590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589720" y="4226040"/>
            <a:ext cx="64800" cy="5688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654520" y="4141800"/>
            <a:ext cx="66960" cy="842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721480" y="4090680"/>
            <a:ext cx="64800" cy="5076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86280" y="4026960"/>
            <a:ext cx="65160" cy="637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51440" y="3973320"/>
            <a:ext cx="65160" cy="536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916600" y="3936960"/>
            <a:ext cx="65160" cy="3672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981760" y="3908160"/>
            <a:ext cx="68040" cy="284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49800" y="3836520"/>
            <a:ext cx="65160" cy="7164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47600" y="2177640"/>
            <a:ext cx="7032600" cy="3331800"/>
            <a:chOff x="1047600" y="2177640"/>
            <a:chExt cx="7032600" cy="3331800"/>
          </a:xfrm>
        </p:grpSpPr>
        <p:sp>
          <p:nvSpPr>
            <p:cNvPr id="253" name=""/>
            <p:cNvSpPr/>
            <p:nvPr/>
          </p:nvSpPr>
          <p:spPr>
            <a:xfrm flipV="1">
              <a:off x="6114960" y="3722400"/>
              <a:ext cx="63360" cy="11340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178320" y="3698280"/>
              <a:ext cx="65160" cy="2412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3480" y="3698640"/>
              <a:ext cx="68400" cy="1512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311880" y="3642840"/>
              <a:ext cx="65160" cy="7020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77040" y="3568320"/>
              <a:ext cx="64800" cy="748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441840" y="3491280"/>
              <a:ext cx="65160" cy="766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507000" y="3416400"/>
              <a:ext cx="66600" cy="748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73600" y="3416400"/>
              <a:ext cx="65160" cy="14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638760" y="3412080"/>
              <a:ext cx="65160" cy="432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3920" y="3412080"/>
              <a:ext cx="65160" cy="10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769080" y="3388680"/>
              <a:ext cx="65160" cy="226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834240" y="3295440"/>
              <a:ext cx="66600" cy="932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900840" y="3208680"/>
              <a:ext cx="65160" cy="8712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966000" y="3128400"/>
              <a:ext cx="64800" cy="7956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030800" y="3047760"/>
              <a:ext cx="65160" cy="806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95960" y="2967480"/>
              <a:ext cx="68400" cy="7956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164360" y="2906280"/>
              <a:ext cx="65160" cy="608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229520" y="2898720"/>
              <a:ext cx="63360" cy="756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92880" y="2899080"/>
              <a:ext cx="65160" cy="316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358040" y="2923200"/>
              <a:ext cx="68040" cy="756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426080" y="2897280"/>
              <a:ext cx="65160" cy="2592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491240" y="2814480"/>
              <a:ext cx="65160" cy="824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556400" y="2750400"/>
              <a:ext cx="65160" cy="640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621560" y="2684160"/>
              <a:ext cx="65160" cy="658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686720" y="2592720"/>
              <a:ext cx="66600" cy="914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753320" y="2500560"/>
              <a:ext cx="65160" cy="9180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818480" y="2404080"/>
              <a:ext cx="64800" cy="964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883280" y="2319840"/>
              <a:ext cx="65160" cy="8388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48440" y="2249280"/>
              <a:ext cx="66600" cy="7020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15040" y="2177640"/>
              <a:ext cx="65160" cy="7164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066680" y="5425560"/>
              <a:ext cx="65160" cy="11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1840" y="5425920"/>
              <a:ext cx="68400" cy="457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200240" y="5459400"/>
              <a:ext cx="64800" cy="11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265040" y="5444280"/>
              <a:ext cx="65160" cy="151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30200" y="5444280"/>
              <a:ext cx="63720" cy="273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393920" y="5456520"/>
              <a:ext cx="68040" cy="151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61960" y="5456520"/>
              <a:ext cx="65160" cy="212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527120" y="5447520"/>
              <a:ext cx="65160" cy="302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592280" y="5422680"/>
              <a:ext cx="6516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657440" y="5388840"/>
              <a:ext cx="64800" cy="33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722240" y="5381280"/>
              <a:ext cx="66960" cy="7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89200" y="5381640"/>
              <a:ext cx="64800" cy="61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854000" y="5362920"/>
              <a:ext cx="6516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919160" y="5352120"/>
              <a:ext cx="65160" cy="10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984320" y="5335560"/>
              <a:ext cx="66600" cy="16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50920" y="5335560"/>
              <a:ext cx="65160" cy="57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116080" y="5316840"/>
              <a:ext cx="65160" cy="241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5317200"/>
              <a:ext cx="65160" cy="90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46400" y="5326200"/>
              <a:ext cx="68040" cy="626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14440" y="5389200"/>
              <a:ext cx="65160" cy="16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79600" y="5405760"/>
              <a:ext cx="6336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42960" y="5430600"/>
              <a:ext cx="65160" cy="428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08120" y="5421600"/>
              <a:ext cx="65160" cy="518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73280" y="5418360"/>
              <a:ext cx="68400" cy="2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641680" y="5397840"/>
              <a:ext cx="64800" cy="198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06480" y="5398200"/>
              <a:ext cx="65160" cy="1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771640" y="5376960"/>
              <a:ext cx="65160" cy="20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836800" y="5341680"/>
              <a:ext cx="66600" cy="352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3400" y="5313960"/>
              <a:ext cx="65160" cy="273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68560" y="5313960"/>
              <a:ext cx="65160" cy="151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033720" y="5316840"/>
              <a:ext cx="65160" cy="11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098880" y="5292720"/>
              <a:ext cx="6660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5480" y="5272920"/>
              <a:ext cx="65160" cy="19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230640" y="5261760"/>
              <a:ext cx="64800" cy="10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95440" y="5262120"/>
              <a:ext cx="65160" cy="33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60600" y="5295600"/>
              <a:ext cx="65160" cy="457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5760" y="5341680"/>
              <a:ext cx="68400" cy="259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494160" y="5355000"/>
              <a:ext cx="63360" cy="11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557520" y="5329440"/>
              <a:ext cx="65160" cy="259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22680" y="5316840"/>
              <a:ext cx="65160" cy="11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87840" y="5317200"/>
              <a:ext cx="68040" cy="43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55880" y="5295600"/>
              <a:ext cx="65160" cy="259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21040" y="5295600"/>
              <a:ext cx="65160" cy="61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86200" y="5292720"/>
              <a:ext cx="65160" cy="93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51360" y="5292720"/>
              <a:ext cx="66600" cy="1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17960" y="5275800"/>
              <a:ext cx="65160" cy="16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83120" y="5275800"/>
              <a:ext cx="64800" cy="25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47920" y="5278680"/>
              <a:ext cx="65160" cy="10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213080" y="5241960"/>
              <a:ext cx="65160" cy="471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78240" y="5242320"/>
              <a:ext cx="66600" cy="259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44840" y="5226840"/>
              <a:ext cx="65160" cy="410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410000" y="5171400"/>
              <a:ext cx="65160" cy="550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475160" y="5146920"/>
              <a:ext cx="6516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0320" y="5146920"/>
              <a:ext cx="66600" cy="198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06920" y="5167080"/>
              <a:ext cx="65160" cy="43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72080" y="5162400"/>
              <a:ext cx="64800" cy="93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36880" y="5162400"/>
              <a:ext cx="65160" cy="460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802040" y="5186520"/>
              <a:ext cx="68400" cy="212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870440" y="5174640"/>
              <a:ext cx="65160" cy="11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935600" y="5140800"/>
              <a:ext cx="64800" cy="33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00400" y="5133240"/>
              <a:ext cx="65160" cy="7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65560" y="5111640"/>
              <a:ext cx="63720" cy="212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129280" y="5079240"/>
              <a:ext cx="68040" cy="320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7320" y="5079600"/>
              <a:ext cx="65160" cy="612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262480" y="5096520"/>
              <a:ext cx="65160" cy="442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327640" y="5057640"/>
              <a:ext cx="65160" cy="385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2800" y="5058000"/>
              <a:ext cx="6660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9400" y="5082840"/>
              <a:ext cx="65160" cy="291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524560" y="5049000"/>
              <a:ext cx="64800" cy="626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589360" y="4990680"/>
              <a:ext cx="65160" cy="583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54520" y="4990680"/>
              <a:ext cx="66600" cy="79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721120" y="4987800"/>
              <a:ext cx="65160" cy="10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86280" y="4966200"/>
              <a:ext cx="65160" cy="212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851440" y="4906440"/>
              <a:ext cx="65160" cy="594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16600" y="4870080"/>
              <a:ext cx="65160" cy="367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81760" y="4850280"/>
              <a:ext cx="68040" cy="19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049800" y="4848480"/>
              <a:ext cx="65160" cy="1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114960" y="4831920"/>
              <a:ext cx="63360" cy="16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178320" y="4793400"/>
              <a:ext cx="65160" cy="381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3480" y="4793400"/>
              <a:ext cx="68400" cy="183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1880" y="4812120"/>
              <a:ext cx="65160" cy="20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377040" y="4785480"/>
              <a:ext cx="64800" cy="471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41840" y="4785840"/>
              <a:ext cx="65160" cy="500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507000" y="4785480"/>
              <a:ext cx="66600" cy="500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73600" y="4785840"/>
              <a:ext cx="65160" cy="75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38760" y="4793400"/>
              <a:ext cx="65160" cy="716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3920" y="4865400"/>
              <a:ext cx="65160" cy="42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769080" y="4884840"/>
              <a:ext cx="65160" cy="226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834240" y="4879440"/>
              <a:ext cx="66600" cy="57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00840" y="4879440"/>
              <a:ext cx="65160" cy="792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966000" y="4911120"/>
              <a:ext cx="64800" cy="475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030800" y="4901760"/>
              <a:ext cx="65160" cy="90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95960" y="4902120"/>
              <a:ext cx="68400" cy="288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64360" y="4930920"/>
              <a:ext cx="65160" cy="73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29520" y="5004720"/>
              <a:ext cx="63360" cy="24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292880" y="4958640"/>
              <a:ext cx="65160" cy="702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8040" y="4886640"/>
              <a:ext cx="68040" cy="716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426080" y="4848120"/>
              <a:ext cx="65160" cy="385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491240" y="4802040"/>
              <a:ext cx="65160" cy="457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56400" y="4802400"/>
              <a:ext cx="65160" cy="428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21560" y="4798080"/>
              <a:ext cx="65160" cy="475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686720" y="4723200"/>
              <a:ext cx="66600" cy="748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753320" y="4689000"/>
              <a:ext cx="65160" cy="334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18480" y="4689360"/>
              <a:ext cx="64800" cy="4572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83280" y="4735080"/>
              <a:ext cx="65160" cy="1368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8440" y="4749120"/>
              <a:ext cx="66600" cy="4896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15040" y="4798080"/>
              <a:ext cx="65160" cy="1224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81760" y="5496120"/>
              <a:ext cx="68040" cy="1332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049800" y="5477760"/>
              <a:ext cx="65160" cy="183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114960" y="5456160"/>
              <a:ext cx="63360" cy="2124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178320" y="5447160"/>
              <a:ext cx="65160" cy="90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43480" y="5447520"/>
              <a:ext cx="68400" cy="252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311880" y="5422680"/>
              <a:ext cx="65160" cy="273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377040" y="5401080"/>
              <a:ext cx="64800" cy="2124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441840" y="5384520"/>
              <a:ext cx="65160" cy="165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507000" y="5364000"/>
              <a:ext cx="66600" cy="198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73600" y="5346360"/>
              <a:ext cx="65160" cy="180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638760" y="5325840"/>
              <a:ext cx="65160" cy="198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03920" y="5326200"/>
              <a:ext cx="65160" cy="144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769080" y="5316840"/>
              <a:ext cx="65160" cy="90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34240" y="5295240"/>
              <a:ext cx="66600" cy="2124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00840" y="5295600"/>
              <a:ext cx="65160" cy="108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966000" y="5272560"/>
              <a:ext cx="64800" cy="2412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30800" y="5237280"/>
              <a:ext cx="65160" cy="3528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095960" y="5217480"/>
              <a:ext cx="68400" cy="1944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164360" y="5205240"/>
              <a:ext cx="65160" cy="1188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229520" y="5182200"/>
              <a:ext cx="63360" cy="2268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292880" y="5153040"/>
              <a:ext cx="65160" cy="291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58040" y="5126040"/>
              <a:ext cx="68040" cy="273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426080" y="5091840"/>
              <a:ext cx="65160" cy="3384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491240" y="5057640"/>
              <a:ext cx="65160" cy="3348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556400" y="5032080"/>
              <a:ext cx="65160" cy="255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621560" y="5007960"/>
              <a:ext cx="65160" cy="2448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686720" y="4998600"/>
              <a:ext cx="66600" cy="90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53320" y="4998960"/>
              <a:ext cx="65160" cy="180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818480" y="4998960"/>
              <a:ext cx="64800" cy="180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883280" y="4948200"/>
              <a:ext cx="65160" cy="5040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948440" y="4920480"/>
              <a:ext cx="66600" cy="2736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015040" y="4894560"/>
              <a:ext cx="65160" cy="25920"/>
            </a:xfrm>
            <a:prstGeom prst="line">
              <a:avLst/>
            </a:prstGeom>
            <a:ln w="60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47600" y="5222160"/>
              <a:ext cx="396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12760" y="521316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79360" y="523476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44520" y="5203800"/>
              <a:ext cx="3960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09680" y="5193360"/>
              <a:ext cx="39600" cy="3924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74840" y="5193360"/>
              <a:ext cx="39600" cy="3924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1440" y="5162400"/>
              <a:ext cx="4104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06600" y="5159520"/>
              <a:ext cx="39600" cy="3924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71400" y="5154840"/>
              <a:ext cx="3996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36560" y="5162400"/>
              <a:ext cx="3960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01720" y="5142600"/>
              <a:ext cx="396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70120" y="511668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3480" y="5116680"/>
              <a:ext cx="414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8640" y="5145840"/>
              <a:ext cx="4104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63800" y="509976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31840" y="509976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97000" y="5067720"/>
              <a:ext cx="396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2160" y="5058000"/>
              <a:ext cx="3960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27320" y="503244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93920" y="506628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59080" y="506304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23880" y="5044680"/>
              <a:ext cx="3996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89040" y="5067720"/>
              <a:ext cx="396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4200" y="5067720"/>
              <a:ext cx="396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20800" y="5091840"/>
              <a:ext cx="3960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85960" y="510732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1120" y="5145840"/>
              <a:ext cx="39600" cy="3816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16280" y="5101200"/>
              <a:ext cx="396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82880" y="5061240"/>
              <a:ext cx="41040" cy="3852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48040" y="5079600"/>
              <a:ext cx="4104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12840" y="5038560"/>
              <a:ext cx="41400" cy="39600"/>
            </a:xfrm>
            <a:prstGeom prst="rect">
              <a:avLst/>
            </a:prstGeom>
            <a:solidFill>
              <a:srgbClr val="333333"/>
            </a:solidFill>
            <a:ln w="205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078000" y="5016600"/>
            <a:ext cx="3996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46400" y="5006880"/>
            <a:ext cx="396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11560" y="4987800"/>
            <a:ext cx="396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499428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41520" y="504180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05240" y="5084640"/>
            <a:ext cx="414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73280" y="511956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38440" y="512928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03600" y="50943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68760" y="50529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35360" y="50245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0520" y="49863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65680" y="49687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30480" y="4923000"/>
            <a:ext cx="3996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97440" y="4889520"/>
            <a:ext cx="4104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62240" y="4827600"/>
            <a:ext cx="414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27400" y="476100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92560" y="473220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57720" y="47307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25760" y="4770360"/>
            <a:ext cx="3996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90920" y="4807080"/>
            <a:ext cx="3996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54640" y="4792680"/>
            <a:ext cx="4104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19440" y="4778280"/>
            <a:ext cx="414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87840" y="477036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53000" y="47181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18160" y="467208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2960" y="464328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49920" y="4605480"/>
            <a:ext cx="3960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5080" y="461160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979880" y="455148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45040" y="45259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10200" y="451476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76800" y="4522680"/>
            <a:ext cx="414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41960" y="447372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07120" y="44355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72280" y="44085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40320" y="437508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505480" y="432108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68840" y="4264200"/>
            <a:ext cx="414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34000" y="4205160"/>
            <a:ext cx="414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02400" y="41241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67560" y="4070520"/>
            <a:ext cx="3960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32360" y="4008600"/>
            <a:ext cx="3996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97520" y="395460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962680" y="3919680"/>
            <a:ext cx="3960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29280" y="388944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440" y="381780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59600" y="370368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24760" y="36799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91360" y="369396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56520" y="3624120"/>
            <a:ext cx="396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21320" y="354960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86480" y="347184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54880" y="33973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618240" y="3397320"/>
            <a:ext cx="414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83400" y="3392640"/>
            <a:ext cx="4140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48560" y="3392640"/>
            <a:ext cx="4104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13720" y="337032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81760" y="327672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46920" y="3191040"/>
            <a:ext cx="3960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12080" y="311148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77240" y="3027240"/>
            <a:ext cx="396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43840" y="294804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09000" y="2887560"/>
            <a:ext cx="3960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273800" y="2881440"/>
            <a:ext cx="3996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38960" y="29113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05560" y="2905200"/>
            <a:ext cx="3996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70720" y="287820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35880" y="279720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01040" y="273060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66200" y="266544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732800" y="2573280"/>
            <a:ext cx="4104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97960" y="2482920"/>
            <a:ext cx="4104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62760" y="2384280"/>
            <a:ext cx="39960" cy="399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927920" y="2300400"/>
            <a:ext cx="39600" cy="396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96320" y="223200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61480" y="2158920"/>
            <a:ext cx="39600" cy="3816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47600" y="541800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12760" y="54054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79360" y="545148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44520" y="54388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09680" y="542592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374840" y="54514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1440" y="543708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06600" y="54594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71760" y="542772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36560" y="540396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01720" y="53704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770120" y="53625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33480" y="536724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98640" y="534348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63800" y="533412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31840" y="531648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97000" y="53211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162160" y="52974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27320" y="530712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93920" y="53704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59080" y="538812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24240" y="541008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89040" y="545472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54200" y="540072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20800" y="5397480"/>
            <a:ext cx="3996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85960" y="538020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51120" y="538020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6280" y="53578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882880" y="532116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48040" y="529596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13200" y="5308560"/>
            <a:ext cx="4104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78000" y="529740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46400" y="527220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11560" y="52545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2419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41520" y="5275440"/>
            <a:ext cx="3996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5240" y="532116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73280" y="5346720"/>
            <a:ext cx="39960" cy="414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38440" y="5335560"/>
            <a:ext cx="3996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03600" y="53085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68760" y="52974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735360" y="530208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0520" y="527544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65680" y="528336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30480" y="5272200"/>
            <a:ext cx="3996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97440" y="5272200"/>
            <a:ext cx="4104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062240" y="5256360"/>
            <a:ext cx="414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27400" y="525924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2560" y="52704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57720" y="522144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25760" y="524988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90920" y="520848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54640" y="5153040"/>
            <a:ext cx="4104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519440" y="512928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87840" y="514656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53000" y="515304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18160" y="514188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82960" y="518796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49920" y="516744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15080" y="51544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79880" y="512136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45040" y="511344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10200" y="509112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76800" y="506088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41960" y="51213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07120" y="507852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72280" y="503856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440320" y="506268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05480" y="509112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68840" y="502920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34000" y="4970520"/>
            <a:ext cx="414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02400" y="497844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67560" y="496872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32360" y="494820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897520" y="48862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62680" y="484992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29280" y="483084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94440" y="482904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59600" y="48117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24760" y="47736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91360" y="47926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356520" y="48150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21320" y="4765680"/>
            <a:ext cx="3996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86480" y="481644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554880" y="4765680"/>
            <a:ext cx="39600" cy="396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18240" y="4773600"/>
            <a:ext cx="414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83400" y="4844880"/>
            <a:ext cx="414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48560" y="4889520"/>
            <a:ext cx="4104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13720" y="48657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81760" y="486108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946920" y="49402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12080" y="489096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77240" y="48816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43840" y="491184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09000" y="49863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73800" y="501012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38960" y="49402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405560" y="4869000"/>
            <a:ext cx="3996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470720" y="482904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35880" y="4782960"/>
            <a:ext cx="39600" cy="399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01040" y="482760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66200" y="47782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732800" y="4702320"/>
            <a:ext cx="41040" cy="4104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97960" y="4668840"/>
            <a:ext cx="4104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62760" y="4714920"/>
            <a:ext cx="3996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927920" y="473076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96320" y="477828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61480" y="4902120"/>
            <a:ext cx="39600" cy="3816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9040" y="55515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04520" y="51642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4520" y="4773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4520" y="43876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4520" y="3998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04520" y="3610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4520" y="32209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4520" y="28353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4520" y="24462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04520" y="205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9028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11646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142812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16902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195192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22140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247752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27396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300132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32616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35236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378576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16200000">
            <a:off x="40492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4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43110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6200000">
            <a:off x="45730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5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48366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509832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5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53604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6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56224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8860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614772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64098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66700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693216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6200000">
            <a:off x="71938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745740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7719480" y="57740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762200" y="6383160"/>
            <a:ext cx="374400" cy="1800"/>
          </a:xfrm>
          <a:prstGeom prst="line">
            <a:avLst/>
          </a:prstGeom>
          <a:ln w="39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28880" y="6364440"/>
            <a:ext cx="39600" cy="37800"/>
          </a:xfrm>
          <a:prstGeom prst="rect">
            <a:avLst/>
          </a:prstGeom>
          <a:solidFill>
            <a:srgbClr val="333333"/>
          </a:solidFill>
          <a:ln w="205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167200" y="6323040"/>
            <a:ext cx="934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arroll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205160" y="6383160"/>
            <a:ext cx="374760" cy="1800"/>
          </a:xfrm>
          <a:prstGeom prst="line">
            <a:avLst/>
          </a:prstGeom>
          <a:ln w="39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73640" y="6364440"/>
            <a:ext cx="39600" cy="37800"/>
          </a:xfrm>
          <a:prstGeom prst="ellipse">
            <a:avLst/>
          </a:prstGeom>
          <a:solidFill>
            <a:srgbClr val="808080"/>
          </a:solidFill>
          <a:ln w="20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12320" y="6323040"/>
            <a:ext cx="654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6373800"/>
            <a:ext cx="374760" cy="1440"/>
          </a:xfrm>
          <a:prstGeom prst="line">
            <a:avLst/>
          </a:prstGeom>
          <a:ln w="60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93560" y="6323040"/>
            <a:ext cx="80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merg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406600" y="2173320"/>
            <a:ext cx="22320" cy="3476160"/>
            <a:chOff x="2406600" y="2173320"/>
            <a:chExt cx="22320" cy="3476160"/>
          </a:xfrm>
        </p:grpSpPr>
        <p:sp>
          <p:nvSpPr>
            <p:cNvPr id="684" name=""/>
            <p:cNvSpPr/>
            <p:nvPr/>
          </p:nvSpPr>
          <p:spPr>
            <a:xfrm>
              <a:off x="2406600" y="5519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06600" y="53600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06600" y="52009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06600" y="504144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08040" y="48819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08040" y="47232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08040" y="45637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08040" y="440460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08040" y="42451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08040" y="40856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040" y="39265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11280" y="3765960"/>
              <a:ext cx="14400" cy="13140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11280" y="3606480"/>
              <a:ext cx="14400" cy="13140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11280" y="344700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11280" y="32878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11280" y="312840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11280" y="296964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11280" y="28101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11280" y="265068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14520" y="24915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14520" y="23320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14520" y="21733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382920" y="2173320"/>
            <a:ext cx="22320" cy="3476160"/>
            <a:chOff x="3382920" y="2173320"/>
            <a:chExt cx="22320" cy="3476160"/>
          </a:xfrm>
        </p:grpSpPr>
        <p:sp>
          <p:nvSpPr>
            <p:cNvPr id="707" name=""/>
            <p:cNvSpPr/>
            <p:nvPr/>
          </p:nvSpPr>
          <p:spPr>
            <a:xfrm>
              <a:off x="3382920" y="55195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1"/>
                  </a:ln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7" y="84"/>
                  </a:lnTo>
                  <a:lnTo>
                    <a:pt x="8" y="82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82920" y="53600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82920" y="520092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82920" y="504144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86160" y="48819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86160" y="472320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86160" y="45637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86160" y="440460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86160" y="42451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86160" y="40856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86160" y="39265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87600" y="376596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87600" y="360648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87600" y="34470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87600" y="32878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87600" y="31284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1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7" y="84"/>
                  </a:lnTo>
                  <a:lnTo>
                    <a:pt x="8" y="82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87600" y="296964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87600" y="28101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7600" y="265068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90840" y="24915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90840" y="23320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90840" y="21733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422600" y="2173320"/>
            <a:ext cx="14400" cy="3476160"/>
            <a:chOff x="4422600" y="2173320"/>
            <a:chExt cx="14400" cy="3476160"/>
          </a:xfrm>
        </p:grpSpPr>
        <p:sp>
          <p:nvSpPr>
            <p:cNvPr id="730" name=""/>
            <p:cNvSpPr/>
            <p:nvPr/>
          </p:nvSpPr>
          <p:spPr>
            <a:xfrm>
              <a:off x="4422600" y="5519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22600" y="53600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22600" y="52009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22600" y="50414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2600" y="48819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22600" y="472320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45637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422600" y="440460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2600" y="42451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22600" y="40856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22600" y="3926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2600" y="3765960"/>
              <a:ext cx="14400" cy="13140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22600" y="3606480"/>
              <a:ext cx="14400" cy="13140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22600" y="344700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22600" y="32878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22600" y="312840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22600" y="296964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22600" y="28101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22600" y="26506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22600" y="24915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23320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22600" y="21733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2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27760" y="2173320"/>
            <a:ext cx="19080" cy="3476160"/>
            <a:chOff x="5027760" y="2173320"/>
            <a:chExt cx="19080" cy="3476160"/>
          </a:xfrm>
        </p:grpSpPr>
        <p:sp>
          <p:nvSpPr>
            <p:cNvPr id="753" name=""/>
            <p:cNvSpPr/>
            <p:nvPr/>
          </p:nvSpPr>
          <p:spPr>
            <a:xfrm>
              <a:off x="5027760" y="5519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27760" y="53600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27760" y="52009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27760" y="50414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27760" y="48819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7760" y="472320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9560" y="45637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29560" y="440460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9560" y="42451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29560" y="40856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29560" y="39265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29560" y="376596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1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7" y="84"/>
                  </a:lnTo>
                  <a:lnTo>
                    <a:pt x="8" y="82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560" y="360648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29560" y="34470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29560" y="32878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29560" y="31284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29560" y="2969640"/>
              <a:ext cx="17280" cy="12960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800" y="28101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800" y="26506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32800" y="24915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32800" y="23320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32800" y="217332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194520" y="2173320"/>
            <a:ext cx="21960" cy="3476160"/>
            <a:chOff x="6194520" y="2173320"/>
            <a:chExt cx="21960" cy="3476160"/>
          </a:xfrm>
        </p:grpSpPr>
        <p:sp>
          <p:nvSpPr>
            <p:cNvPr id="776" name=""/>
            <p:cNvSpPr/>
            <p:nvPr/>
          </p:nvSpPr>
          <p:spPr>
            <a:xfrm>
              <a:off x="6194520" y="55195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94520" y="53600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94520" y="520092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94520" y="504144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95960" y="48819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95960" y="47232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95960" y="45637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95960" y="440460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95960" y="42451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95960" y="40856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95960" y="39265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99200" y="376596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99200" y="360648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99200" y="34470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99200" y="32878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99200" y="31284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1"/>
                  </a:lnTo>
                  <a:lnTo>
                    <a:pt x="2" y="82"/>
                  </a:lnTo>
                  <a:lnTo>
                    <a:pt x="3" y="84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99200" y="296964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99200" y="28101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99200" y="265068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02440" y="24915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02440" y="23320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02440" y="217332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789600" y="2173320"/>
            <a:ext cx="28800" cy="3476160"/>
            <a:chOff x="6789600" y="2173320"/>
            <a:chExt cx="28800" cy="3476160"/>
          </a:xfrm>
        </p:grpSpPr>
        <p:sp>
          <p:nvSpPr>
            <p:cNvPr id="799" name=""/>
            <p:cNvSpPr/>
            <p:nvPr/>
          </p:nvSpPr>
          <p:spPr>
            <a:xfrm>
              <a:off x="6789600" y="5519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7" y="82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89600" y="53600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91400" y="520092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91400" y="50414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791400" y="48819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91400" y="472320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4280" y="45637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94280" y="440460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94280" y="42451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94280" y="408564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96080" y="392652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96080" y="376596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1"/>
                  </a:lnTo>
                  <a:lnTo>
                    <a:pt x="2" y="82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7" y="84"/>
                  </a:lnTo>
                  <a:lnTo>
                    <a:pt x="8" y="82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96080" y="360648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99320" y="344700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99320" y="32878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99320" y="312840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99320" y="2969640"/>
              <a:ext cx="17280" cy="12960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00760" y="28101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00760" y="26506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00760" y="24915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00760" y="233208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04000" y="21733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186680" y="2173320"/>
            <a:ext cx="27000" cy="3476160"/>
            <a:chOff x="7186680" y="2173320"/>
            <a:chExt cx="27000" cy="3476160"/>
          </a:xfrm>
        </p:grpSpPr>
        <p:sp>
          <p:nvSpPr>
            <p:cNvPr id="822" name=""/>
            <p:cNvSpPr/>
            <p:nvPr/>
          </p:nvSpPr>
          <p:spPr>
            <a:xfrm>
              <a:off x="7186680" y="55195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6680" y="53600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86680" y="5200920"/>
              <a:ext cx="17280" cy="12960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88120" y="50414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88120" y="48819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88120" y="47232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88120" y="456372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91360" y="440460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91360" y="42451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91360" y="40856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0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91360" y="39265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92800" y="376596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92800" y="360648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92800" y="34470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92800" y="32878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92800" y="312840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96040" y="296964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96040" y="28101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96040" y="26506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96040" y="249156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99280" y="23320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99280" y="217332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839000" y="2173320"/>
            <a:ext cx="27000" cy="3476160"/>
            <a:chOff x="7839000" y="2173320"/>
            <a:chExt cx="27000" cy="3476160"/>
          </a:xfrm>
        </p:grpSpPr>
        <p:sp>
          <p:nvSpPr>
            <p:cNvPr id="845" name=""/>
            <p:cNvSpPr/>
            <p:nvPr/>
          </p:nvSpPr>
          <p:spPr>
            <a:xfrm>
              <a:off x="7839000" y="5519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7" y="82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39000" y="53600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39000" y="5200920"/>
              <a:ext cx="17280" cy="12960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1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40440" y="504144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40440" y="488196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40440" y="47232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40440" y="456372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43680" y="440460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43680" y="42451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43680" y="408564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0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43680" y="392652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45480" y="376596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45480" y="3606480"/>
              <a:ext cx="15840" cy="13140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7" y="86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45480" y="344700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845480" y="32878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45480" y="3128400"/>
              <a:ext cx="1728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1"/>
                  </a:moveTo>
                  <a:lnTo>
                    <a:pt x="0" y="82"/>
                  </a:lnTo>
                  <a:lnTo>
                    <a:pt x="2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5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48360" y="2969640"/>
              <a:ext cx="1440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48360" y="281016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48360" y="2650680"/>
              <a:ext cx="1440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0"/>
                  </a:moveTo>
                  <a:lnTo>
                    <a:pt x="0" y="82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48360" y="2491560"/>
              <a:ext cx="17640" cy="12996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50160" y="2332080"/>
              <a:ext cx="15840" cy="12996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0160" y="2173320"/>
              <a:ext cx="15840" cy="1296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0"/>
                  </a:moveTo>
                  <a:lnTo>
                    <a:pt x="0" y="82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7" y="85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89080" y="2789280"/>
            <a:ext cx="10746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59080" y="2813040"/>
            <a:ext cx="56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ÉGIM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275480" y="2962440"/>
            <a:ext cx="89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ERV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441520" y="2789280"/>
            <a:ext cx="7524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51320" y="2813040"/>
            <a:ext cx="55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ÍOD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68240" y="2962440"/>
            <a:ext cx="49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517920" y="2789280"/>
            <a:ext cx="6681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11520" y="281304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ÉC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635280" y="2962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65800" y="2878200"/>
            <a:ext cx="5698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02160" y="290196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24600" y="2727360"/>
            <a:ext cx="1000080" cy="54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264280" y="2752560"/>
            <a:ext cx="71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ÍODO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93720" y="2901960"/>
            <a:ext cx="858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ESTABIL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89040" y="3052800"/>
            <a:ext cx="870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76920" y="3592440"/>
            <a:ext cx="68904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13280" y="3618000"/>
            <a:ext cx="57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FONSÍ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407280" y="2173320"/>
            <a:ext cx="14040" cy="3476160"/>
            <a:chOff x="6407280" y="2173320"/>
            <a:chExt cx="14040" cy="3476160"/>
          </a:xfrm>
        </p:grpSpPr>
        <p:sp>
          <p:nvSpPr>
            <p:cNvPr id="885" name=""/>
            <p:cNvSpPr/>
            <p:nvPr/>
          </p:nvSpPr>
          <p:spPr>
            <a:xfrm>
              <a:off x="6407280" y="55195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07280" y="53600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07280" y="520092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07280" y="50414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07280" y="48819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07280" y="472320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07280" y="45637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07280" y="440460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07280" y="42451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07280" y="408564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07280" y="392652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07280" y="3765960"/>
              <a:ext cx="14040" cy="13140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07280" y="3606480"/>
              <a:ext cx="14040" cy="13140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7280" y="344700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07280" y="32878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07280" y="312840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07280" y="296964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07280" y="28101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07280" y="26506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07280" y="249156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07280" y="2332080"/>
              <a:ext cx="14040" cy="12996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07280" y="2173320"/>
              <a:ext cx="14040" cy="1296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2"/>
                  </a:moveTo>
                  <a:lnTo>
                    <a:pt x="1" y="82"/>
                  </a:lnTo>
                  <a:lnTo>
                    <a:pt x="3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8" y="82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6313320" y="3932280"/>
            <a:ext cx="69228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372360" y="3957480"/>
            <a:ext cx="602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36800" y="4106880"/>
            <a:ext cx="45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LIT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205760" y="3321000"/>
            <a:ext cx="53820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244280" y="3344760"/>
            <a:ext cx="42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57200" y="3100320"/>
            <a:ext cx="2649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16200000">
            <a:off x="-21960" y="3767760"/>
            <a:ext cx="1209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greso per cápi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037200" y="4443480"/>
            <a:ext cx="571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073920" y="446724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743200" y="1600200"/>
            <a:ext cx="4952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eso per capita 1895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Nuestro próximo desafío esta allí adelante,  en el día  a día, mirando lejos y actuando cerca, al alcance  de nuestras  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바탕"/>
                <a:ea typeface="바탕"/>
              </a:rPr>
              <a:t>Actuando con pasión y entusia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바탕"/>
                <a:ea typeface="바탕"/>
              </a:rPr>
              <a:t>con inteligencia para  darnos cu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바탕"/>
                <a:ea typeface="바탕"/>
              </a:rPr>
              <a:t>con generosidad para  compar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Al futuro  no hay  que predeci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Al  futuro hay  que  construi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mensiones de la Sociedad del Cono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6553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0066"/>
                </a:solidFill>
                <a:latin typeface="Arial"/>
              </a:rPr>
              <a:t>Información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66"/>
                </a:solidFill>
                <a:latin typeface="Arial"/>
              </a:rPr>
              <a:t>( Computadoras, Internet, telefonía, audiovisu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0066"/>
                </a:solidFill>
                <a:latin typeface="Arial"/>
              </a:rPr>
              <a:t>Información Gen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66"/>
                </a:solidFill>
                <a:latin typeface="Arial"/>
              </a:rPr>
              <a:t>( Biotecnología, Genómica, proteó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0066"/>
                </a:solidFill>
                <a:latin typeface="Arial"/>
              </a:rPr>
              <a:t>Información Rel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66"/>
                </a:solidFill>
                <a:latin typeface="Arial"/>
              </a:rPr>
              <a:t>( Redes, Capital Social,Turismo, Nuevo Gerenciamiento, interes por lo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740720" y="2060640"/>
            <a:ext cx="140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100" spc="-1" strike="noStrike">
                <a:solidFill>
                  <a:srgbClr val="ff3300"/>
                </a:solidFill>
                <a:latin typeface="Arial"/>
                <a:ea typeface="Arial"/>
              </a:rPr>
              <a:t>0 </a:t>
            </a:r>
            <a:r>
              <a:rPr b="1" lang="es-MX" sz="3200" spc="-1" strike="noStrike">
                <a:solidFill>
                  <a:srgbClr val="ff3300"/>
                </a:solidFill>
                <a:latin typeface="Arial"/>
                <a:ea typeface="Arial"/>
              </a:rPr>
              <a:t>y </a:t>
            </a:r>
            <a:r>
              <a:rPr b="1" lang="es-MX" sz="5100" spc="-1" strike="noStrike">
                <a:solidFill>
                  <a:srgbClr val="ff3300"/>
                </a:solidFill>
                <a:latin typeface="Arial"/>
                <a:ea typeface="Arial"/>
              </a:rPr>
              <a:t>1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524720" y="4221000"/>
          <a:ext cx="139068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221000"/>
                    <a:ext cx="13906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Gente  trabajando  en equipo,  con diálogos  abiertos  y francos, expresando sus  temores y sus  expecta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Gente  vendiendo  y comprando por los  caminos  de  Argentina, lap top en  mano , conectado  a WI MAX, con  información al instante, solucionando  los problemas de los  clientes y  ampliando las necesidades de los  mismos, agregándoles  valor  a sus  nego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Ingenieros explorando las  fronteras  tecnológicas, aumentando la  productividad y calidad de los  cultivos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496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바탕"/>
                <a:ea typeface="바탕"/>
              </a:rPr>
              <a:t>Vemos a los obreros transformarse en Trabajadores del Conocimiento, productivos y  comprometidos, con mas  tiempo para el ocio, deslocalizados, muchos  trabajando desde  sus  casas a  tiempo flexible. Vemos gente  feliz, con poder interior, construyendo el futuro, con empower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"/>
          <p:cNvGrpSpPr/>
          <p:nvPr/>
        </p:nvGrpSpPr>
        <p:grpSpPr>
          <a:xfrm>
            <a:off x="0" y="0"/>
            <a:ext cx="9180000" cy="1052640"/>
            <a:chOff x="0" y="0"/>
            <a:chExt cx="9180000" cy="1052640"/>
          </a:xfrm>
        </p:grpSpPr>
        <p:sp>
          <p:nvSpPr>
            <p:cNvPr id="927" name=""/>
            <p:cNvSpPr/>
            <p:nvPr/>
          </p:nvSpPr>
          <p:spPr>
            <a:xfrm>
              <a:off x="0" y="0"/>
              <a:ext cx="9180000" cy="1052640"/>
            </a:xfrm>
            <a:prstGeom prst="rect">
              <a:avLst/>
            </a:prstGeom>
            <a:solidFill>
              <a:srgbClr val="4f17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5963760" y="189000"/>
              <a:ext cx="2818080" cy="58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4302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mpacto en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que apalan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clave del nego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de sop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de 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2" name=""/>
          <p:cNvSpPr/>
          <p:nvPr/>
        </p:nvSpPr>
        <p:spPr>
          <a:xfrm>
            <a:off x="657360" y="1989000"/>
            <a:ext cx="458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3964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10800000">
            <a:off x="179280" y="1341360"/>
            <a:ext cx="546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Impacto en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796000" y="551664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5400000">
            <a:off x="877320" y="2184120"/>
            <a:ext cx="486000" cy="730440"/>
          </a:xfrm>
          <a:prstGeom prst="upArrow">
            <a:avLst>
              <a:gd name="adj1" fmla="val 50000"/>
              <a:gd name="adj2" fmla="val 37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771640" y="551664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5400000">
            <a:off x="837360" y="3852000"/>
            <a:ext cx="485640" cy="792000"/>
          </a:xfrm>
          <a:prstGeom prst="downArrow">
            <a:avLst>
              <a:gd name="adj1" fmla="val 50000"/>
              <a:gd name="adj2" fmla="val 4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6200000">
            <a:off x="1123560" y="198108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26920" y="40766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08000" y="44280"/>
            <a:ext cx="39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Procesos claves para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8:36:35Z</dcterms:created>
  <dc:creator>Malena Eceizabarrena</dc:creator>
  <dc:description/>
  <dc:language>en-US</dc:language>
  <cp:lastModifiedBy>Wagner</cp:lastModifiedBy>
  <dcterms:modified xsi:type="dcterms:W3CDTF">2006-10-20T02:48:09Z</dcterms:modified>
  <cp:revision>2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1065570</vt:r8>
  </property>
  <property fmtid="{D5CDD505-2E9C-101B-9397-08002B2CF9AE}" pid="3" name="_AuthorEmail">
    <vt:lpwstr>pwagner@cponline.org.ar</vt:lpwstr>
  </property>
  <property fmtid="{D5CDD505-2E9C-101B-9397-08002B2CF9AE}" pid="4" name="_AuthorEmailDisplayName">
    <vt:lpwstr>Pablo D. Wagner</vt:lpwstr>
  </property>
  <property fmtid="{D5CDD505-2E9C-101B-9397-08002B2CF9AE}" pid="5" name="_EmailSubject">
    <vt:lpwstr>Para subir a la página WEB - RCyT 9/10</vt:lpwstr>
  </property>
</Properties>
</file>