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9F9-22C2-4329-B5A7-051E614A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76A-02E5-40B5-8986-5A85555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EBD-C353-4D75-8CD8-BFA727DE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249-03BA-4189-81DC-EED21FC8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35E-884F-4D5B-B9AA-E607A30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9AC-3D16-4C65-9B90-ABDE5AF2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8A7-F18E-4C8F-9438-BEBF2F2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551-E4E5-49F0-B371-C2B9132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017-9EBB-47A2-A4DB-D0261EB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5CA-92E2-4509-9225-FD8FEDF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B25-4868-4150-9536-618137AF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D5A-0B85-45F9-8B84-8909D60E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27F4-6354-49C2-BB32-09AAEA52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Una carrera ….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….nuestros valores…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…..y cada fut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. Gabriel Vol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de Octubr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en soy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í en una hermosa decada (60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no de nacimiento, bonaerense por adopción. (Mor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infancia fue de Barrio (muchos valores d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amilia “ampliad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- todas las casas y las mamás del bar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desarrollé y continué en el barrio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enamoré (6 años de novio) y me casé con una chica de mi barrio. (llevo 21 años y 4 h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o que evolucioné en general , posiblemente cambié muchos enfoques con el paso del tiempo, …..solo una cosa no cambió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o siendo de Velez a morir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fue mi edu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eduqué en un primario Marista (San José de Mor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gí un colegio industrial como opción de secundaria,….el ENET N°1 de Haedo “Jorge Newbery”,…..y me recibí de Técnico Aeronáutico !!! (esta tal vez fue mi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rimer gran ele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legó la Universidad , elegí la Ingeniería Industrial (esta seguramente fue mi 2da.gran decision para mi fut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último (por ultimo ?) hice un post grado en Recurso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mino labo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s varios en los Veranos cuando no llegaba a los 16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primer trabajo formal en Austral como Técnico Aeronáu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primera oportunidad grande en Mercedes-Benz Argentina ( mi primera etapa en Calidad y el encuentro de mi más profunda vocación : los RRH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onsolidación en MBA y la llegada a SCJohnson &amp; Son de Argentina. (el encuentro de lo posible, trabajar en valores profu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es a poner en j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scubrimiento de ellos en el dia a 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pl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r en valores profun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o, coherencia, presión del contex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yecto de Sprinter en 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Personas de Alto Pot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Equipos de Alta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 responsabilidades como Director Int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erazgo en comite d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cion del Dto. Relaciones Institu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cion del Voluntariad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las politicas e iniciativas de 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endiz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ión por lo que uno h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er en uno mismo y en lo que hac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er lo que uno h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tud de servicio como líd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nder y ap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26:03Z</dcterms:created>
  <dc:creator>Gabriel</dc:creator>
  <dc:description/>
  <dc:language>en-US</dc:language>
  <cp:lastModifiedBy>Gabriel</cp:lastModifiedBy>
  <dcterms:modified xsi:type="dcterms:W3CDTF">2006-10-09T21:31:16Z</dcterms:modified>
  <cp:revision>3</cp:revision>
  <dc:subject/>
  <dc:title>Una carrera …. ….nuestros valores… …..y cada futu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2735594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. Wagner</vt:lpwstr>
  </property>
  <property fmtid="{D5CDD505-2E9C-101B-9397-08002B2CF9AE}" pid="5" name="_EmailSubject">
    <vt:lpwstr>Para subir a la página WEB - RCyT 9/10</vt:lpwstr>
  </property>
  <property fmtid="{D5CDD505-2E9C-101B-9397-08002B2CF9AE}" pid="6" name="_PreviousAdHocReviewCycleID">
    <vt:r8>185771876</vt:r8>
  </property>
</Properties>
</file>