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00C-A260-49DD-A31D-98ED4C01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350C-0594-489F-B8FA-97EACB7F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985-3F9A-4509-A6A3-6FB87C1A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594-285D-4211-9059-101B7B06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639A-A9A9-44D7-B7CB-C7B8E2C2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FA1-7E79-47A1-937F-66D539C2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12D5-0F80-4F17-83A6-F0328678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848-D4A2-48B5-8DB8-00A79C2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473E-3B33-40BD-93E7-8ABA21A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CF66-DDD1-4A95-A16E-7C19C3FA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61A1-5481-4504-B7E9-99AFD1F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C71-3C77-431C-93E9-08E52E14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7763-4898-4003-866B-A89E402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90A-F2F7-4A97-9FC8-26322C0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F614-92E6-4218-A829-B7F017A0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FDC3-8BC6-40AE-9213-3EF56688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6C50-DBB9-49D4-BF12-798636E1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2FC-9941-4270-BF06-B46D221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D8C-5EB6-4D17-BEC7-77982432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17B-F430-4EF1-9D33-4F4FE00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CCA-1A23-4788-A3CE-F1A0E506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13A-0A36-494F-898E-F4C8D94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362-19B3-430A-B011-9D77FB9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15D-CED9-464E-B4F6-CCCF9E9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AF7-BFE6-4FED-8322-4A0544F547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2DBB-CFB5-4E61-9199-F8D4A287BC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BIENES DE CAPITAL</a:t>
            </a:r>
            <a:r>
              <a:rPr b="1" i="1" lang="es-ES_tradnl" sz="2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000"/>
            </a:b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FABRICANTES DE BIENES DE CAPITAL, INFORMATICA Y TELECOMUNICACIONES. DECRETO 379/2001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DEVOLUCION DE CREDITOS FISCALES POR ALICUOTAS REDUCIDAS POR BIENES DE CAPITAL. ART. 28. E) LEY IVA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IMPORTACIONES Y ADQUISICIONES DE BIENES Y SERVICIOS PARA TAREAS DE EXPLORACION MINERA. LEY 24196 -25429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INVERSIONES EN BIENES DE CAPITAL Y OBRAS DE INFRAESTRUCTURA. LEY 25.924</a:t>
            </a:r>
            <a:br>
              <a:rPr sz="2000"/>
            </a:b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Arial"/>
              </a:rPr>
              <a:t>DEVOLUCION DE CREDITOS POR ADQUISICION EN BIENES DE CAPITAL LEY 25.988</a:t>
            </a:r>
            <a:br>
              <a:rPr sz="2000"/>
            </a:br>
            <a:br>
              <a:rPr sz="1400"/>
            </a:br>
            <a:r>
              <a:rPr b="1" lang="es-ES_tradnl" sz="1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PROYECTOS DE INVERSION AMPLIO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SOFTWARE. LEY 25.92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BIOCOMBUSTIBLES. LEY 26.09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cc"/>
                </a:solidFill>
                <a:latin typeface="Arial"/>
              </a:rPr>
              <a:t>HIDROGENO  26.12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centivos Promocionales - Daniel Martí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0:00:26Z</dcterms:created>
  <dc:creator>template</dc:creator>
  <dc:description/>
  <dc:language>en-US</dc:language>
  <cp:lastModifiedBy>template</cp:lastModifiedBy>
  <cp:lastPrinted>2005-09-26T20:07:35Z</cp:lastPrinted>
  <dcterms:modified xsi:type="dcterms:W3CDTF">2006-08-16T22:11:10Z</dcterms:modified>
  <cp:revision>6</cp:revision>
  <dc:subject/>
  <dc:title>MINERIA - LEY 24196</dc:title>
</cp:coreProperties>
</file>