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621-A983-4DDA-92B8-0D40DD31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56F-121E-4D5A-AD8C-C71A6FF9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F77-0D23-4E8F-8DE7-EC3D8424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0AD-F8FA-4077-8858-EE86E2BA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146C-32F1-4274-BACD-2BB133E9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BA41-3A8F-4C0E-AF2C-147C3A9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FAF1-9AB8-47B3-9BB7-DCE7AFD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317-6250-430F-9D81-D730E737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4164-CB26-4A71-838F-9E5ABF1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44EC-6F2E-48F5-92C9-2984C0C1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141D-7D43-4303-B42E-F9B177E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00B-B858-4301-A1D5-FB2270F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450D-F691-4AFA-9A7A-F69294E6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639B-87A6-4B8A-BAA8-260936D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A84-A823-4420-A93F-437AEE0B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9CB-7E20-41C6-94F3-0328B77C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9FF0-695F-4168-A865-E44E24CB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880-8078-44D5-9783-0C899D8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4E0-4802-4D01-B777-C0E57B6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C53-9A1F-4E07-817E-24E80002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F9B-72FD-4289-BF3D-0F1611DB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3B4-997F-48F0-A515-B68797E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7AA-E95F-4BB3-9972-8B89DD5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86E-48C7-4FDE-9081-95D159D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0D05-28FA-4037-B3FC-A6D7EC2183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A508-35FA-452A-9F0B-81B939272E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Times New Roman"/>
              </a:rPr>
              <a:t>REGIMEN DE PROMOCION DE LA INDUSTRIA DEL SOFTWAR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2565000"/>
            <a:ext cx="8915400" cy="35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EY 25.922 - 18/8/2004 (B.O. 09-09-200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MULGACIÓN PARCIAL. DECRETO 1182 DEL 07-09-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GLAMENTACION. DECRETO 1594/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GISTRO NACIONAL. RES. 61/05 (S.I…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STRUMENTACION. RES. 2029/06 (AFI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EDC-00BC-44EB-8FB8-CB405833AC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Desgravación 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sgravación del 60% en monto del impuesto a las ganancias determinado en cada ejercic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dición: acreditar gastos de investigación y desarrollo y/o procesos de certificación de calidad y/o exportaciones de software en las magnitudes que determina la Aut. de Apl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567-1AAB-4478-992B-0ADCA04A8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Times New Roman"/>
              </a:rPr>
              <a:t>Requisitos para acceder al tratamiento fiscal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berán estar en curso normal de cumplimiento de sus obligaciones impositivas y previsionales. Art. 6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berán cumplir con alguna norma de calidad reconocida aplicable a los productos de software. Vigencia especial. Al 3er 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7FF-71AB-43E7-BB3F-AFC511308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FONDO FIDUCIARIO (FONSOFT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Creación e integración. Art. 13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imes New Roman"/>
              </a:rPr>
              <a:t>Autoridad de aplicación. Sec. Ciencia, Tecnología e Innovación Productiv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ija criterios de distribu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gramas definidos por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eferencias definidos por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rogaciones de administración no podrán superar el 5% de la recaudacion anu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F5F-2383-4543-A91A-A15B202409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upo fisc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cupo fiscal de los beneficios será fijados anualmente en la ley de presupues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urante los primeros tres ejercicios fiscales el cupo se otorgará en función de la demanda y desarrollo de las actividades promocion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40E-B38E-49FB-B668-52E1C4C20D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IGENCIA Y REGLAMENTA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IGENCIA. 10 años desde su aprob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GIMEN ENMARCADO EN POLITICAS ESTRATEGICAS QUE ESTABLEZCA EL PODER EJECUTIVO A TRAVES DE ORG. COMPETEN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FE9-C7A7-4034-8B61-DC125446D0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ACTIVIDADES COMPRENDIDAS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EA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RODUCCION E IMPLEMENTA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UESTA A PUNTO DE SISTEMAS DE SOFTWARE Y DOCUMENT. ASOCIAD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imes New Roman"/>
              </a:rPr>
              <a:t>DEFINICION DE SOFTWARE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 Art. 5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7AE-88F9-4CB4-AA47-2A1725C22F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ACTIVIDADES EXCLUI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CTIVIDAD DE AUTODESARROLLO DE SOFTWARE. Art. 4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OLUCION DE PROBLEMAS TECNICOS YA SUPER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MANTENIMIENTO, CONVERSIÓN Y/O TRADUCCION DE LENGUAJ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COLECCION RUTINARIA DE DA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OTRAS. Art. 23 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CE3-8BEC-4C31-8484-57AB19276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SUJETOS ALCANZADOS - Condicion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ERSONAS FISICAS Y JURIDICAS CONSTITUIDAS EN LA R.A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HABILITADAS PARA ACTUAR EN EL TERRITORIO CON AJUSTE A LE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BIDAMENTE INSCRIP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CTIVIDAD PRINCIPAL INDUSTRIA DEL SOFT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SARROLLAR EN EL PAIS, POR CUENTA PROPIA ACTIVIDADES ART. 4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SCRIPCION EN EL REGISTRO HABILITADO POR LA AUTORIDAD DE APLIC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D39-EA2F-4EE8-A867-C0B3C5C837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UTORIDAD DE APLICA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CRETARIA DE INDUSTRIA, COMERCIO Y PEQUEÑA Y MEDIANA EMPRES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473-0748-4749-A66D-0B866384C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INFRACCIONES Y SANCIONES. Art. 20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574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 Revocación de la inscripción en el registro y de los beneficios otorgad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. Pago de los tributos no ingresados con motivo del tratamiento fiscal diferencial, con más los intereses, en relación al incumplimien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3. Inhabilitación para inscribirse nuevamente en el registr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856-097F-4FBB-85EA-2D934EF20D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Tratamiento Fiscal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GIMEN TRIBUTARIO GENERAL con las siguientes excepciones: (art. 6º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stabilidad Fiscal. Art. 7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ono de Crédito Fiscal equivalente a una porción de las contribuciones patronales pagadas. Art. 8º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Desgravación en el impuesto a las ganancias.Art. 9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E77-314D-418F-A33B-40D2523D3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ESTABILIDAD FISC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Por el término de 10 años, desde la vige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Tributos nacionales, directos, tasas y contribuciones, que recaen sobre los sujetos pasivos = beneficiarios inscrip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 podrán ver incrementada la carga tributaria total nacional al momento de la incorporación de la empresa al marco leg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688-3C00-4D1A-B49C-9107845558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Bono de Crédito Fisc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0574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ctividades. Investigación y desarrollo en software y procesos de certificación de calidad de software y/o exportación de softw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Podrán convertir en Bono de Crédito Fiscal, intransferible hasta el 70% de las contribuciones patronales pagadas s/nómina. Desti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plicaciones. Exclusión Imp. a las gananci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aplicabilidad a deudas anteriores y no generan saldos a favo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290-1012-4FB5-BB87-621F4AD41C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00:26Z</dcterms:created>
  <dc:creator>template</dc:creator>
  <dc:description/>
  <dc:language>en-US</dc:language>
  <cp:lastModifiedBy>template</cp:lastModifiedBy>
  <cp:lastPrinted>2006-09-05T21:11:36Z</cp:lastPrinted>
  <dcterms:modified xsi:type="dcterms:W3CDTF">2006-09-05T21:35:22Z</dcterms:modified>
  <cp:revision>13</cp:revision>
  <dc:subject/>
  <dc:title>MINERIA - LEY 24196</dc:title>
</cp:coreProperties>
</file>