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353-E922-4B4D-B3EA-9B79A0E3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D89-9CE7-4B80-8F33-6B6BF71B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3A1-4E70-4750-8747-DA87C9A8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C1C-6E44-4525-BD30-E44CDA71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5327-F95C-4F99-8631-559D4D9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1CFF-2B37-4370-8D1A-E662CABA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0CB5-6E81-4FFC-B7A8-C49A5C82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EAD-213B-4820-8471-BC76A7CD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E66B-F63C-4110-8441-CA075FCA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742-D8E5-4724-B8E1-579B750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06BB-7DBC-4DCA-9940-F0184E4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91F-A96B-4463-8DA5-9C8BE609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B515-7738-47DB-905E-1CB4F42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932-7BDE-41F0-86AD-B057F1B4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F2B2-992F-459D-91F5-323840C7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0B60-E044-44F7-B21A-FF19BFD5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903F-3EFE-4FB7-83CE-408AE78C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364-B2E8-4C7D-8EAF-991A4966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65C-A0B9-4477-9B41-E93905F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0A9-B2F5-43A7-8ADA-7CD0770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31D-944E-457C-8C4E-56CD168E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AD8-6B5D-47D9-8CBC-A9090812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2FE-24BC-4FC2-ACB0-EA87E1D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59F-72F4-4C2C-9732-98FBF60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DA9-930A-42D3-872B-62D8F756B6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C69-B9FC-4E0F-8427-265A1A26DB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LEY DE IMPUESTO AL VALOR AGREGAD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RT. 28 INC. 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BIENES DE 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C75C-2A6E-42DE-BD13-63434F634A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ALCANCE</a:t>
            </a: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68280"/>
            <a:ext cx="784872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NT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CACIONES DEL ART. 3° INC. 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IMPORTACIONES DEFINITIV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OSICIONES ARANCELARIAS. N.C.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LANILLA ANEXA (BIENES DE CAPITAL, TELECOMUNICACIONES E INFORMAT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LICUOTA REDUCIDA. 50% GENE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UJETOS: 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96E-2792-4F71-9A96-2E6F3DFE4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BENEFICIO / TRATAMIENTO DIFERENCI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 a F (t)                        S a F (43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Bienes (ejemplo 21% o 10,5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Servicios (ejemplo 21% o 27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ocaciones (ejemplo 21%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UJETOS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: FABRICANTES E IMPORT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666880"/>
            <a:ext cx="19810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2971800"/>
            <a:ext cx="0" cy="60948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557-B6E1-4E3A-BE73-3789936BB0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LIMITE - 3er párrafo 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ar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ALDO A FAVOR (operación o re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ALDO A FAVOR (teórico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diferencia constituye el límite sujeto al beneficio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141-9046-4A49-B4B4-B06DEB628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OTROS ASPEC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STOS LIM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ICTAMENES PROFESIONALES. Res. 1168/2001 (AFIP) existencia y legitim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GISTRO DE FABRICANTES (Res. 72/01 (Industria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tamiento Perman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reditación contra retenciones y percep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D01-0D6C-4419-A688-C067CF353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cc66"/>
                </a:solidFill>
                <a:latin typeface="Arial"/>
              </a:rPr>
              <a:t>ACREDITACION, DEVOLUCION O TRANSFERENCIA DE SALDOS A FAVOR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solución General N° 1168/2001 (AFI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solución General N° 1625/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solución General N° 1722/200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solución General N° 1882/2005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Nota Externa 9/2005 (3.1.0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C70-2310-4C32-8B5A-58F913D66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7:53:29Z</dcterms:created>
  <dc:creator>template</dc:creator>
  <dc:description/>
  <dc:language>en-US</dc:language>
  <cp:lastModifiedBy>template</cp:lastModifiedBy>
  <cp:lastPrinted>2005-10-04T18:19:09Z</cp:lastPrinted>
  <dcterms:modified xsi:type="dcterms:W3CDTF">2006-09-07T22:32:32Z</dcterms:modified>
  <cp:revision>6</cp:revision>
  <dc:subject/>
  <dc:title>LEY DE IMPUESTO AL VALOR AGREGADO</dc:title>
</cp:coreProperties>
</file>