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457-709E-4948-81C5-BF0EB603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42E-0982-4BD7-87E9-E2FA49D9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CAEB-F299-4907-9396-CD1437FC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DA6-CF99-4A99-873B-7F4CA528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0818-93C1-4E5E-B1A6-128C947F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BADD-9FF7-4E57-A05A-F4C659C2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48F9-5218-4413-8933-5A5A1896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9978-1D8B-46B1-A738-375FCFA2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1475-A27E-4B0B-8588-C067BDD9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6C12-81DC-4535-9345-A74C85C5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06A1-FDF6-4C0E-8328-C97962F9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837-C285-46F8-8AF4-6F574E02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38F3-6FEF-4520-8C24-3DFD0A3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FBF1-4583-4F26-A55F-CE4DE6E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1C1D-D406-4DD9-B961-532220F2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EFBA-F5C6-45BC-BE57-B78D9D5A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92A5-5637-49A3-A858-A31600BE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517-24AB-4351-9DF5-57A306A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C15-121D-40C0-9A53-46ED6130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75D-5B90-4518-83E3-2ACD867F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44C-43B2-462C-A1DE-2D90B597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FA3-DC2D-41D5-93B2-3065041B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1DF-32CC-4873-A2E3-D750F4CC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B96-89F0-4AB8-A411-CCE88C58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1FCF-7E5E-48F7-929A-919CF6A967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6A7B-B2AC-4CBA-BB14-49724DF048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Arial"/>
              </a:rPr>
              <a:t>ACREDITACION Y/O DEVOLUCION DE CREDITOS FISCALES ORIGINADOS EN “ADQUISICION” DE BIENES DE CAPITAL</a:t>
            </a: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39625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EY 25988. ARTICULO 5°, 6° Y 7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TRATRAMIENTO DIFERENCIAL IMPLICI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NTECEDENTES. ART. A CONT. 24. LEY 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A03B-8FE0-4AB0-BA06-3A86A2646D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</a:rPr>
              <a:t>CONCEPTO DE “ADQUISICION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R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NSTRUC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FABRICAC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ABORA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MPORTACION DEFINI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557-39FE-4E01-A3C8-CEF437DE50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</a:rPr>
              <a:t>ACREDITACION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ontra otros impuestos a cargo de la AFI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ncluidos los anticip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No incluye obligaciones derivadas 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Responsabilidad sustitu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Responsabilidad solida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Actuación como agentes de reten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Actuación como agentes de percep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No incluye gravámenes con destino exclusivo financiamiento de fondos con afectación específic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A24-6D35-4CA1-8942-2116878B7D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</a:rPr>
              <a:t>CONDICIONES PARA SU PROCEDENC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ORIGINADOS A PARTIR DEL 1/11/2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ONFORMEN SALDO A FAVOR AL 30/09/200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FACTOR ESENCIAL: NUEVAS INVERSIO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BIENES ESTEN EN EL PATRIMONIO A LA FECHA DE SOLICIT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BIENES MUEBLES O INMUEBLES, AMORTIZABLES PARA LEY I. GAN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CA8-02D3-4D2A-933C-B405D487D6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</a:rPr>
              <a:t>Nuevas Inver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No podrán estar amparadas en regímenes tributarios vigentes o futuros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Art. 2° Dto. 379/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berán ser, al menos igual al importe a acreditar y/o devolver.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Art. 4° Dto 379/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berán tener principio efectivo de ejecución (15% de la inversión necesaria para acceder a la acreditación y/o devolución) dentro de los 15 meses.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Art. 5° y 6°  Dto 379/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6C5-A36B-4977-95DC-13BC4D75E9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</a:rPr>
              <a:t>Inversiones en Curs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dquisiciones” efectuadas luego de la entrada en vigencia de la Ley 25.98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12E-9181-418B-A5CC-45079017EA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</a:rPr>
              <a:t>CUPO FISC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500 MILLONES ANU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Hasta un 50% a PY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ACREDITACION Y DEVOUC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ASIGNACION SEGÚN MECANISMOS QUE FIJE EL P.E. CON CRITERIOS OBJETIVOS (Antigüedad del crédito, et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NFORME TRIMESTRAL A LAS COMISIONES DE PRESUPUESTO Y HACIENDA sobre la distribución.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11E-1008-4B2F-8BF1-292669FB54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</a:rPr>
              <a:t>VIGENC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REDITOS FISCALES CON DERECHO A CÓMPUTO GENERADO HASTA EL 30 DE SETIEMBRE DE 200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QUE CORRESPONDAN A INVERSIONES EN BIENES MUEBLES O INMUEB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QUE REVISTAN LA CALIDAD DE AMORTIZABLES PARA EL IMPUESTO A LAS GANANCI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B83-E5E1-4F2E-B278-3569029094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Arial"/>
              </a:rPr>
              <a:t>AUTORIDAD DE APLICACIÓN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MINISTERIO DE ECONOMIA Y PRODUCCION (Decreto N° 379/05)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s-ES_tradnl" sz="3600" spc="-1" strike="noStrike">
                <a:solidFill>
                  <a:srgbClr val="ffffcc"/>
                </a:solidFill>
                <a:latin typeface="Arial"/>
              </a:rPr>
              <a:t>Normas sobre asignación  cupo anual</a:t>
            </a:r>
            <a:br>
              <a:rPr sz="3600"/>
            </a:br>
            <a:r>
              <a:rPr b="0" i="1" lang="es-ES_tradnl" sz="3600" spc="-1" strike="noStrike">
                <a:solidFill>
                  <a:srgbClr val="ffffcc"/>
                </a:solidFill>
                <a:latin typeface="Arial"/>
              </a:rPr>
              <a:t>Normas sobre cumplimiento del régime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120" y="41907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4558-BF31-4138-9E53-8289306E6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mplate</cp:lastModifiedBy>
  <dcterms:modified xsi:type="dcterms:W3CDTF">2006-09-07T22:32:09Z</dcterms:modified>
  <cp:revision>13</cp:revision>
  <dc:subject/>
  <dc:title>ACREDITACION Y/O DEVOLUCION DE CREDITOS FISCALES ORIGINADOS EN “ADQUISICION” DE BIENES DE CAPITAL </dc:title>
</cp:coreProperties>
</file>