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DD2B-1784-478E-9EF0-53425A92B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6392-33E3-4AB3-923C-F486DE72A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2C17-0BD7-47D4-BD27-761CDE07A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1D3D-A61E-422E-AA8D-46558F784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0139-7885-40F3-9E34-C091558E3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975D-BE48-49C3-9EE0-17F60A8A0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2AB7-BF2E-4F80-83A7-AE9E59A54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B271-F0D1-44BF-9C70-D0066210C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CA32-F6EA-4A52-B9B9-9ED350D9F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0E94-5DE9-4B75-B50D-BAC56E06F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178B-449A-4EAE-9E96-D13142CE0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5D04-049A-4041-9A00-EA54F8E18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A4BF6-AE71-4487-B84F-DEF5E1B8F2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7521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MEN DE INVERSIONES EN BIENES DE CAPITAL Y OBRAS DE INFRAESTRUCTUR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3276360"/>
            <a:ext cx="784872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Y 25.92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RETO 1150/2004. Promulg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RETO 1152/2004. Reglame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RETO 2007/2004. Precisión Cu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centivos Promocionales - Daniel Martí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9BC8-2BB1-4AEF-B598-605643A11DC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Impuesto a las Ganancias.Opción. 5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mortizar desde habilitación. Art. 84 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versiones realizadas e/ 1/10/04 y 30/9/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072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MA. 3 cuotas anuales, iguales y consecu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072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bras Iniciadas. Mínimo Cuotas 50% v.u. 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versiones realizadas e/ 1/10/05 y 30/9/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072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MA. 4 cuotas anuales, iguales y consecu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072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bras Iniciadas. Mínimo Cuotas 60% v.u. Est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versiones realizadas e/ 1/10/06 y 30/9/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072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MA. 5 cuotas anuales, iguales y consecu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072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bras Iniciadas. Mínimo Cuotas 70% v.u. 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072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centivos Promocionales - Daniel Martí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5A5D-01E2-4690-B287-45F381DA0CD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8390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Arial"/>
              </a:rPr>
              <a:t>Impuesto a las Ganancias. Art. 67</a:t>
            </a:r>
            <a:br>
              <a:rPr sz="44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rt. 6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915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 el supuesto de reemplazo de Bie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Base de amortización acelerada. Costo Art.6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mortización en exceso. Devolu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dición. Bienes 3 años en el patrimon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cumplimiento: rectificación con más los acceso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upuesto: Remplazo de bienes alcanzados por la franquici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centivos Promocionales - Daniel Martí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0CB0-C400-4D82-BBED-00E7D7A1A69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Arial"/>
              </a:rPr>
              <a:t>Inaplicabilidad del Régimen</a:t>
            </a: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rt. 8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B.M.A. comprendidos en obras en curso con principio de ejecución a la vigencia. Erogaciones mayores al 10% de la inversión prevista constituye principio de ejecu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Obras de Infraestructura iniciadas con anterioridad a la vigenci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centivos Promocionales - Daniel Martí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97E6-1010-4D88-A6D8-3C692A5D817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Arial"/>
              </a:rPr>
              <a:t>CONTROL DE CUMPLIMIENTO</a:t>
            </a: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rt. 8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erificación de Objetivos. MEyP y AF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Incumplimiento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: Resolución fundada A de A, no aplicación del art. 16 Ley 11.68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Prescripción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: Para solicitar restitución de C.F. IVA o ajuste de I. a las Ganancias. 5 años a partir del 1° de enero siguiente al cumplimiento del proyect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centivos Promocionales - Daniel Martí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D90C-0EF1-4FC1-AA1F-55D99BFB2F1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Arial"/>
              </a:rPr>
              <a:t>SANCIONES.</a:t>
            </a: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rt. 9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titución no es san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DUCID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l tratamiento otorgado por el plazo de vigencia del régi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LT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 100% del Crédito Fiscal devuelto o acreditado o del impuesto a las ganancias ingresado en defec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centivos Promocionales - Daniel Martí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DD07-3D96-4D2D-B39A-657425A7910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Arial"/>
              </a:rPr>
              <a:t>Excluidos del Régimen</a:t>
            </a: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rt 10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clarados en quieb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Querellados o denunciados penalmente, leyes 23771 o 24.769. Elevación a ju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nunciados o querellados por delitos comunes con conexión incumplimientos tributarios. Elevación a juicio antes de la aprobació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 se produce los hechos después de la aprobación. Corresponde la CADUC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centivos Promocionales - Daniel Martí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F440-E51D-41BC-881F-F6C254B7440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Arial"/>
              </a:rPr>
              <a:t>CONDICIONES para ingresar al régimen.</a:t>
            </a: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rt.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nunciar a procedimientos judiciales o administrativos o desistir de acciones y derech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ados en el Decreto 1043 /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dimientos de actualización con fines impositivos. Ley 23.928 y 24.07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as y gastos en el orden cau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Fisco renuncia al cobro de mul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centivos Promocionales - Daniel Martí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B1DF-8B61-4F9C-B49E-86084D2CADB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Arial"/>
              </a:rPr>
              <a:t>CUPO FISCAL ANUAL.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rt. 11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eneral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$ 1.000.000.000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VA - Devolucion anticipada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$ 700.000.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AN-Amort. Acelerad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$ 300.000.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yme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$   200.000.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VA - Devolucion anticipada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$ 140.000.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AN-Amort. Acelerad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$   60.000.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signación por concur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autas de elegibilidad por parte del P.Ejecu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ase Técnica y Fase Econó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bras de Infraestructura: A de A fija el cupo para cada proyec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*Decreto 2007/2004 - Asignación indistin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centivos Promocionales - Daniel Martí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EFF1-646A-49DA-980F-A7F6068FF61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UTORIDAD DE APLICAC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INISTERIO DE ECONOMIA Y PRODUCCION DE LA NACION. Art. 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probación de los proye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uede solicitar intervención de otras jurisdic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forme Bimestral al Congreso (Diputados y Senados) con remisión de actuaciones por parte del Poder Ejecutiv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centivos Promocionales - Daniel Martí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65C9-5923-4D09-BF2E-E17525F1D91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SPECTOS GENE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rt. 13º. Supletoriamente Ley 11.683, ley de los impuestos a las ganancias y valor agreg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rt. 14º. Invitación a las provincias. Adhesión al criterio promocional. Venta de Bienes. Sellos e Ingresos Bru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rt. 15º. Día de publicación. 6/9/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centivos Promocionales - Daniel Martí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588F-1048-42BB-A42D-8012F235243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ansión económ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mento de la productiv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ción de Emple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ulso de la Invers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ulación de Proyectos de Invers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centivos Promocionales - Daniel Martí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69AB-4D3D-4117-9F4C-44FC0A6EE21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Arial"/>
              </a:rPr>
              <a:t>REGIMEN TRANSITORIO - Tratamiento Fiscal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rt. 1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2285640"/>
            <a:ext cx="79246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rsiones en Bienes de Capital. Excep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e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enes Mue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ortizables en el Impuesto a las Gana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tino: Actividad Industri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centivos Promocionales - Daniel Martí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A95E-B406-4248-9A7D-1199A58F19A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Arial"/>
              </a:rPr>
              <a:t>REGIMEN TRANSITORIO</a:t>
            </a:r>
            <a:br>
              <a:rPr sz="4400"/>
            </a:b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Arial"/>
              </a:rPr>
              <a:t>Tratamiento Fiscal.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co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ras de Infraestructura. Exclus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acterísticas: Fijará la reglame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tino: Fijará la reglament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Actividad Industrial. Decreto 1152/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cances y Limitaciones: Establecidas en la Ley y en el Regla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centivos Promocionales - Daniel Martí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D747-1F68-4781-8824-2BC40BF481F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Arial"/>
              </a:rPr>
              <a:t>SUJETOS ALCANZADOS</a:t>
            </a:r>
            <a:br>
              <a:rPr sz="44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rt. 2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s Físicas domiciliadas en la R.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s Jurídicas constituidas en el paí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bilitadas para actuar en el paí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idamente inscrip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arrollen actividades productiv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Se establezcan con ese propósi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centivos Promocionales - Daniel Martí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B823-F630-4510-92B2-5A2E84E41BC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UJETOS ALCANZADOS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quis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Que acrediten ante A de A la existencia de un P de I. en act. Industrial u obras de in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alizarse entre mes calendario siguiente a vigencia y hasta el 36º mes posteri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A. de A. habilitará Registro. L. 25.92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berá acreditar la generación de puestos de trabajo genuin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centivos Promocionales - Daniel Martí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9DCE-0288-4BCB-A689-B0441537122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BENEFICIOS.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Opción x Proyecto. 3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VOLUCION ANTICIPADA DEL IV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rrespondiente a bienes u obras de infraestructura incluidos en el 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MORTIZACION ACELERADA EN EL IMPUESTO A LAS GANA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excluyen C. Fiscales financiados con el régimen de la Ley 24.4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pción: Acceso simultáneo. P de I. Cuya producción exclusiva mercado expor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centivos Promocionales - Daniel Martí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2382-8B39-41C6-A550-49E6C2CE144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Arial"/>
              </a:rPr>
              <a:t>DEVOLUCION ANTICIPADA</a:t>
            </a:r>
            <a:br>
              <a:rPr sz="44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rt.4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mpuesto al Valor Agreg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pra, fabricación, elaboración e importación de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ienes de Cap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bras de Infraestruc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mpuesto Factu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uego de 3 períodos fiscales será acreditado contra otros impuestos AFI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 será devuelto en el plazo fijado en el acto aprobato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diciones y Garantías que fije la reglament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3333cc"/>
                </a:solidFill>
                <a:uFillTx/>
                <a:latin typeface="Arial"/>
              </a:rPr>
              <a:t>Resolución General AFIP. 1943/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centivos Promocionales - Daniel Martí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C56D-2B1C-44CD-84D1-B3E8B83EB38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EVOLUCION ANTICIPA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quisito: Absorción previa por parte de D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dición: Los Bienes en el Patrimonio al momento de la solicitud de dev o acredi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so Leasing: 3 períodos fiscales desde op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imitación en la acreditación: No responsable sustituto o solidario, A de R, A de P, Impuestos con afectación específ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rden de Prelación: Primero CF. Generales, luego los del presente régimen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centivos Promocionales - Daniel Martí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2A0F-B489-4471-81AC-BB4A27360C8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7T23:02:47Z</dcterms:created>
  <dc:creator>DANIEL MARTIN</dc:creator>
  <dc:description/>
  <dc:language>en-US</dc:language>
  <cp:lastModifiedBy>template</cp:lastModifiedBy>
  <cp:lastPrinted>2005-10-03T22:05:44Z</cp:lastPrinted>
  <dcterms:modified xsi:type="dcterms:W3CDTF">2005-10-04T20:57:52Z</dcterms:modified>
  <cp:revision>5</cp:revision>
  <dc:subject/>
  <dc:title>REGIMEN DE INVERSIONES EN BIENES DE CAPITAL Y OBRAS DE INFRAESTRUCTURA </dc:title>
</cp:coreProperties>
</file>