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6B8A-CB8E-4164-890D-2DE1C53A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846-AE3E-46E4-A152-30BF8525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27C-74B4-46D6-ADC9-3A7FE217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180-CBFD-48F9-8411-2F960F40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FDA0-EDD3-4C9A-BE58-E34F2699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6512-3BC8-4244-853F-B8FED43A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70AC-2279-4600-A06B-3C77A3F2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7FAE-A82D-442B-80E1-722657C6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0625-1D14-4606-A485-BF8755AB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8FF6-4CAC-4A44-9D47-A75F3A95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D9D6-282D-4869-B5ED-4BCC03B8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4A5-6553-4128-857A-D0A9BF11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B849-E505-4FCA-B4B6-FF7CC3B9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AD30-7CB2-4D8F-BB8F-3D274141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E477-CB6C-4DA1-B031-4282D78C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7F7F-180A-4ACE-B79C-541AE021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49A1-5C2C-49E7-A8D5-16DA0B53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F08D-4CB1-4D44-A383-96CFB47D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45F-8D37-4158-A579-89B001DA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33C-D8A2-4494-BC2C-3EB7FCA2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800-070B-4D5B-AFEB-E6356034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72D-A020-44DC-80E8-60CD1CDD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EA5-4A33-4D72-B46D-92959AB0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F033-D68A-4A8E-953F-57EC4605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F8ED-2652-4C4C-9DFE-E5268F315E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446F-56D4-4465-B55B-81EA720EC8A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MINERIA - LEY 24196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Artículo 14 bis. Beneficios a la Export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mportación y Adquisiciones de bienes y servici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Tareas de Exploración Minera e inscriptos en el régimen de la ley 24.19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Beneficio. Devoluciones del crédito fiscal que conforme saldo a favor después de 12 me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ncompatibilidad con régimen Ley 24.40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20:00:26Z</dcterms:created>
  <dc:creator>template</dc:creator>
  <dc:description/>
  <dc:language>en-US</dc:language>
  <cp:lastModifiedBy>template</cp:lastModifiedBy>
  <cp:lastPrinted>2005-09-26T20:07:35Z</cp:lastPrinted>
  <dcterms:modified xsi:type="dcterms:W3CDTF">2005-10-04T20:04:19Z</dcterms:modified>
  <cp:revision>4</cp:revision>
  <dc:subject/>
  <dc:title>MINERIA - LEY 24196</dc:title>
</cp:coreProperties>
</file>