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CC7-2217-434E-A32E-B523113C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AEC-9FC8-4BF9-A3A6-0EC3DC79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4EE-ACCD-410C-A343-E02B6584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67C-9F17-4987-B908-901ECC5E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828-8A67-4DB4-9234-9446D0F1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0CE-8D4C-4035-809C-E6A52674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FBC-BA91-4AB6-A82D-C40E5F92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57B-16A9-4525-B638-6C76657D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FD5-D4EC-4C6D-8726-A96C6488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C3A-CE0E-4A50-A4D2-48DFA9FF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BA6-6011-406A-82EF-7838DB59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0BD-65EC-4695-A1E8-3D0119FE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602AA4-BA7A-4C52-90A3-FE1040E63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SION MACRO - ASPECTOS ECONOMICOS, POLITICOS Y SO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PECTOS PROPIOS DE LA NATURAL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IMA-SUELOS-RIQUEZA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 RESPECTO DE LOS PUE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 RESPECTO DE CENTRO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SPECTOS DE COYUNTURA ECONOMICO-POLITICO-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EQUILIBRIOS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PROMOCION ECONO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58672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939-5BA7-452B-89CD-45B53778FD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SION MACRO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PECTOS ECONOMICOS , POLITICOS Y SO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120" y="251424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ARROLLO ECONO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EQUILIBRIOS REG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EQUILIBRIO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TASA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MINUCION DE LA TASA DE DESOCU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MINUCION DE NIVELES DE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DE LA PRODUCTIVIDAD/COMPET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DE LAS EXPOR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755-A5E7-42BF-B82B-12E64B9CBB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POYO ESTA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ar una reg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ar una provi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ar una actividad 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ar un sector econó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ar una oper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udas extraordin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D5E-C818-4BED-8D97-EBB794B423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EDIDAS DE APOYO O FO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981080"/>
          <a:ext cx="77533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533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C2C-188D-4122-9552-54C3D47371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MO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2361960"/>
            <a:ext cx="601992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VEN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 otros conceptos simi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081-3DC8-4FAD-8313-ED6AF6B982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NES DE LOS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95480" y="2285640"/>
            <a:ext cx="5562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Y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5D4-0AB8-4E71-99A6-632D450365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IBUTARI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en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Reducciones Suspensiones Desgrava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ferimient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era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bilidad Fi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RIBUTARI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éditos Of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s de interé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os F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os Polític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752-CCD4-4C99-95B8-DB40BF566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esente material fue preparado al sólo efecto de facilitar la exposición del curso sobre Inversiones en Bienes de Capital -Incentivos Fiscales-, a realizarse el día 11 de setiembre de 2006 en el Consejo Profesional de Ciencias Económicas de la Ciudad Autónoma de Buenos Aires, habiéndoselo adecuado al tiempo y temas de exposi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98E-B7B3-4CCC-8500-3779D93192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23:32:38Z</dcterms:created>
  <dc:creator>Dir.de Pol, norm e Ing</dc:creator>
  <dc:description/>
  <dc:language>en-US</dc:language>
  <cp:lastModifiedBy>template</cp:lastModifiedBy>
  <cp:lastPrinted>2006-08-14T21:19:01Z</cp:lastPrinted>
  <dcterms:modified xsi:type="dcterms:W3CDTF">2006-08-14T21:22:04Z</dcterms:modified>
  <cp:revision>20</cp:revision>
  <dc:subject/>
  <dc:title>SISTEMA TRIBUTARIO ARGENTINO</dc:title>
</cp:coreProperties>
</file>