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E27-0414-4097-B101-513E479A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43F-280A-40B0-A3D4-FD3434D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208-9998-4E86-85FA-C57CA880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C1E-C5F0-4E1D-B4BB-848BA9AB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35C0-03CC-4F31-B697-44BBEC4D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87D2-28A0-4087-B2DA-8605CF75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400F-F6D7-4CEE-B2C1-7B2454B1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E498-D99C-43E4-B339-9B2B71A6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C7A8-F32A-44C3-8198-F0A307E9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9660-CE6D-4E25-ADA9-1115D58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D634-0ADC-47DE-B2C9-8A5B8C6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0BF-FAA9-46D4-A9AC-A9EF3D7B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AB3D-30CA-43CD-99AA-A6862AE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FB8E-9987-41F2-8EC0-35692568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25B7-B01E-4F1C-B0C5-6B5C3ED5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A2ED-8170-42E5-B460-96A24222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7777-D83B-4310-A4FC-2A61F0B2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191-1F1B-43DE-845D-0699E15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516-C7B4-407F-AFE8-CC7D0124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263-F4D4-4CC4-B1CF-31153B4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0A9-A81B-46BB-8F39-F9FB591E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860-4E66-4AA4-900C-E5CE98EE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C66-F982-4371-AEE1-755F114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B84-712E-47BA-B52C-C21464E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6F22-2271-43CE-BC76-AE0E3535E7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DDC0-3A34-4DEE-AC0D-A9E50C2A6E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REGIMEN APLICABLE AL HIDROGENO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EY DE PROMOCION DE LA INVESTIGACION, DESARROLLO, PRODUCCION Y USO DEL HIDROGENO COMO COMBUSTIBLE Y VECTOR ENERGÉTIC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EY 26.123 - 2/8/2006 (B.O. 25-08-0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PROMULGACIÓN de hecho 24-08-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C86-4E2F-4547-9D18-AFC484C3A3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VIGENCIA Y REGLAMENTAC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VIGENCIA: 15 AÑOS A CONTAR DESDE EL EJERCICIO SIGUIENTE AL DE LA PROMULGACION DE LA MISMA art .2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ENTRO DE LOS 90 DIAS  DE SU PROMULGACION. Art. 2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37D-B3E2-4B74-A82F-2C2D818D5A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ARACTERIST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ROVECHAMIENTO DE RECURSOS ENERGETICOS NO CONVEN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VERSIFICAR LA MATRIZ ENERGE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SMINUIR LA CONTAMINACION AMBIEN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SOS COMO COMBUSTIBLES Y VECTOR DE ENERG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SO VEHICUL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72A-43DA-4BBC-B37B-0D481412D8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66"/>
                </a:solidFill>
                <a:latin typeface="Times New Roman"/>
              </a:rPr>
              <a:t>SUJETOS ALCANZADOS Y EXCLUID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CANZADOS. PERSONAS FISICAS Y JURIDICAS, INSCRIPTAS EN EL REGISTRO QUE SE CREA en el Art. 7.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XCLUIDOS. Querellados, denunciados penalmente, declarados en quiebra. (art.5°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C82-F45E-48D0-ABC9-315556D2DE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UTORIDAD DE APLICAC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rá fijada por el Poder Ejecutivo N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B1E-ED6D-419E-8530-5894447FCB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NFRACCIONES Y SANC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percib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Mult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uspensión de la activ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ese definitivo de la actividad y la clausur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stitución de los créditos fiscales acreditados o devueltos, más impuesto a las ganancias y a la ganancia mínima presun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F6F-AE4A-4456-99EC-2C773A341E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REACION DEL FONDO.13-16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ONDO NACIONAL DE FOMENTO DEL HIDROGENO (FONHIDRO) (no está previsto ningún impuesto especial para su conformació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2DC-E9DA-4FA9-8A5F-C0EAA22E36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66"/>
                </a:solidFill>
                <a:latin typeface="Times New Roman"/>
              </a:rPr>
              <a:t>REGIMEN FISCAL PROMOCIONAL. Art. 17.1.2.3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DEDIQUEN A LA PRODUCCION Y USO DEL HIDROGENO PROMOVI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ESDE LA APROBACION DEL PROYECTO PROMOVI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EY. 25.9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GANANCIA MINIMA PRESUNTA (qué bien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mpuesto sobre los combustibles líquidos y el gas natural. 23.966, impuesto al gas oil ley 26028 ni la tasa de infraestructura hidríca 1381/01 (hidrógeno uso vehicular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EA7-C52F-4314-862E-A868171361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Cupo fisc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Distribución a propuesta del P.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fijará anualmente en la ley de presupues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 partir del segundo año se deben incluir también los reman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3FD-E1C1-43B1-B55C-DB684ECEE3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Destino excluido de los beneficios. Art 19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so como materia prima en procesos destinados a usos químicos o petroquímicos como destino fi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Utilizado en aquellos procesos que no tengan directa relación con el uso energético establecido en los objetivos del régim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A60-F0C0-475D-B457-B56993E5E3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00:26Z</dcterms:created>
  <dc:creator>template</dc:creator>
  <dc:description/>
  <dc:language>en-US</dc:language>
  <cp:lastModifiedBy>template</cp:lastModifiedBy>
  <cp:lastPrinted>2006-09-05T21:39:28Z</cp:lastPrinted>
  <dcterms:modified xsi:type="dcterms:W3CDTF">2006-09-07T20:50:35Z</dcterms:modified>
  <cp:revision>11</cp:revision>
  <dc:subject/>
  <dc:title>MINERIA - LEY 24196</dc:title>
</cp:coreProperties>
</file>