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395-548F-444E-9A38-4BA2654D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B20-4AD9-407E-A2E4-9528E994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EFC6-E918-4792-8C86-ED7E29E6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1BE8-32E5-480D-A168-399E66BA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79C1-67EA-446D-A588-21D3296F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E12A-D6F5-4F46-BA5B-B6C06F30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2FDC-0293-495D-9BC2-A145BB16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2C0C-92A6-41CC-9CF5-FF6402B9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3646-CAED-4FF3-A41C-77770ABC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AB8F-7908-4CAE-9E42-AF33AF25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517A-1939-47EC-8999-B491AE81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702-D045-4C09-89B0-6F8C4019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26DC-66C4-4185-B271-0BE20EA7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0B56-D4F3-4B24-9FD4-B9615ACF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832B-C14F-411E-9CBA-D07DF162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EB15-2F19-4877-AFC2-BF39D8FF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4227-A5CE-4AA6-9928-C81DDB1C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473-4730-46EC-A9DA-B67CFD15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5AC-CEE3-4ACB-B575-B5CE440D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E8B-3657-4D88-94BF-C496C895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809-8FBA-4232-903D-B6BFEB1A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720-021C-4A9A-99DA-D0F835A1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402-DB18-45DC-B1C1-3FEF97EC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EAD-5B12-403F-ACD5-D0DC0B94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DADE-3600-4331-BC6C-FBB42B5BC5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E042-FB5F-4071-B48E-867AF03E53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Arial"/>
              </a:rPr>
              <a:t>FABRICACION NACIONAL DE BIENES DE CAPITAL, INFORMATICA Y TELECOMUNICACIONES.</a:t>
            </a:r>
            <a:r>
              <a:rPr b="1" i="1" lang="es-ES_tradnl" sz="44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cc"/>
                </a:solidFill>
                <a:uFillTx/>
                <a:latin typeface="Arial"/>
              </a:rPr>
              <a:t>DECRETO 379/2001 </a:t>
            </a:r>
            <a:br>
              <a:rPr sz="3200"/>
            </a:br>
            <a:r>
              <a:rPr b="1" lang="es-ES_tradnl" sz="3200" spc="-1" strike="noStrike" u="sng">
                <a:solidFill>
                  <a:srgbClr val="ffffcc"/>
                </a:solidFill>
                <a:uFillTx/>
                <a:latin typeface="Arial"/>
              </a:rPr>
              <a:t>y Decreto 502/0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DFF-1BB5-45B7-9B30-4919B048F6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Arial"/>
              </a:rPr>
              <a:t>Condiciones Adicionales -cont.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Bono admite un sólo endos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Acreditar que no se registran deudas exigibles a los fines de autorizar la condición de endosable o no del bono fisc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6E7-7850-41BA-BA94-4AC1370D3C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Arial"/>
              </a:rPr>
              <a:t>REGIST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egistro de empresas locales, fabricantes de los bienes comprendidos en el Anexo I de la Resolución N° 8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71C7-08D0-46D3-92BA-0610197C8B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Arial"/>
              </a:rPr>
              <a:t>VIGENC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creto 594/2004 - Establece la vigencia hasta el 31/12/2005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Decreto 201/2006 (22.02.06)- La extiende hasta el 31/12/2008. Retroactividad.                                    Su justificación económic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D08-637F-4418-8900-3AAF9AA645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Arial"/>
              </a:rPr>
              <a:t>SU JUSTIFICAC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educción de aranceles para un rápido equipamien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educción protección efectiva de la industria loc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Mejorar la competitividad de la industria local. (vinculado con el aumento del benefici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C4E6-0D49-48CE-BBFA-B09AD9C68B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Arial"/>
              </a:rPr>
              <a:t>PROMOC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DENTIFICACION DEL INSTRUMENTO UTILIZAD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BONO DE CREDITO FISC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8890-6E50-48D7-B158-FD2CF1D23D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Arial"/>
              </a:rPr>
              <a:t>CARACTERISTIC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UJETOS BENEFICIARIOS. Fabricantes (concesiones y/o representantes).  No alcanza a revendedore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BIENES ALCANZADOS. Detalle Anex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STABLECIMIENTO INDUSTRIAL. Radicado en el Territorio Nacional.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REGIMEN DE INCENTIVO. BONOS DE CREDITO FISCAL. REDUCCION DE LOS INGRESOS FISCALES. COSTO FISCAL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0F2B-0712-4294-8694-7151892625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Arial"/>
              </a:rPr>
              <a:t>CARACTERISTICAS - cont-</a:t>
            </a: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Venta de Bienes nuev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 producción loc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stino: Inversiones económicas en el Territorio Naci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Además, bienes que formen parte de líneas de producción completas y autónom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fabricantes productores loc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afectados a nuevas plantas industriales o ampli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9D1-4844-4176-B47A-A3B7254CEC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Arial"/>
              </a:rPr>
              <a:t>BENEFICIO - BONO DE CREDITO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Aplicable al pago de impuestos nacio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Por un valor equivalente al 14%. Originalmente 10%. Decreto 502/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Aplicable sobre el precio de venta -neto de impuestos, gastos financieros, descuentos y/o bonificaciones- menos valor de insumos, componente o partes importados, nacionalizados con derecho de importación igual a 0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cc"/>
                </a:solidFill>
                <a:uFillTx/>
                <a:latin typeface="Arial"/>
              </a:rPr>
              <a:t>Excepción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: Procedencia extrazona con derecho igual 0% no producidas en el Mercosur, ingresadas antes de la Res. 8/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cc"/>
                </a:solidFill>
                <a:uFillTx/>
                <a:latin typeface="Arial"/>
              </a:rPr>
              <a:t>Condición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: Emisión de la factura y entrega de biene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940-C06C-4530-B186-8EEF8DB5E7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Arial"/>
              </a:rPr>
              <a:t>Bono de Crédito Fiscal -cont.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Nominativo, cesión a terceros por única vez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Utilizable contra Impuesto a las Ganancias, Ganancia Mínima Presunta, IVA, Impuestos Internos. (ddjj y anticipo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el caso de importación, aplicable contra retenciones y/o percepciones en Ganancias e IV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934-97AC-4620-9D9A-03AE4BF9B6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Arial"/>
              </a:rPr>
              <a:t>Actividades de verificación y contralor de la operator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l costo estará a cargo de los respectivos beneficiari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Según términos y condiciones que establezca la Autoridad de Aplicación - Secretaría de Industria. Autorización para delegar en un órgano inferior ejecución de funciones y/o emisión de acto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Resolución N° 117/200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Tasa. Resolución N° 91/06y 22406 (SICyPyM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ED2-7498-49A3-9C6A-C9FAADF32E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Arial"/>
              </a:rPr>
              <a:t>Condiciones adicionales para acceder al Bono de Crédito Fiscal - Decreto 594/04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Nómina de trabajadores en relación de dependencia, compromiso de no despedir sin justa causa o suspensiones en el período anual de la solicitu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Acreditar que no registran incumplimientos frente a la auditorí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Presentar en carácter de ddjj el compromisio de realizar actividades de investigación y desarrollo tecnológico del proceso y/o producto manufactur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DF9-68F0-44BB-8AC6-E3209C2A61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mplate</cp:lastModifiedBy>
  <cp:lastPrinted>2005-09-26T21:52:45Z</cp:lastPrinted>
  <dcterms:modified xsi:type="dcterms:W3CDTF">2006-09-04T21:48:14Z</dcterms:modified>
  <cp:revision>13</cp:revision>
  <dc:subject/>
  <dc:title>FABRICACION NACIONAL DE BIENES DE CAPITAL, INFORMATICA Y TELECOMUNICACIONES. DECRETO 379/2001 </dc:title>
</cp:coreProperties>
</file>