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B5D-5EB4-4566-ADE1-B81F8092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EC6-0622-4B7F-91A6-A98C921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3FD-AC99-4A94-96F8-6E7B15C9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670-DE02-446D-8D4E-D07D0042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4600-7E44-497C-959E-83462483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E404-F784-4AE1-9848-E9CFD52E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9218-4025-4AE7-AACE-96EB56E3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2C07-68D1-4A63-85CA-0EEC94F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B36F-1801-490D-BDF0-F8402BA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AAF7-47F2-4768-8424-82256602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87F7-CD18-4F0E-B536-FC3A345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41E-09FD-43DE-907E-55DF807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ECB1-DF95-47BA-BD8E-5EF586A1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C2CB-E6E1-4F99-AF5C-540FC63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6873-BEBE-4A21-92F0-75B0A202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1CF-63F1-4F91-A4F8-59993454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343D-6893-4DFE-B7BE-E62A48CB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107-AC18-4FD1-8E18-9C41F5B3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31D-4909-485C-B103-3EC0E982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E07-2EF0-4D01-A68F-1EAF7A6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840-4297-4F10-878D-BAD7133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1FE-9991-420E-A628-E94BBC6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313-E2F4-49C4-9A8A-459A4F47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953-F06C-4FE2-8659-553E2F8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C77-4FAF-4919-9E9C-B654529DE0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BA67-CD02-4A59-9A0F-1587630A36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BIOCOMBUSTIB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DE PROMOCION PARA LA PRODUCCION Y USO SUSTENTABLES DE BIOCOMBUSTI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26.093 - 19/4/2006 (B.O. 15-05-0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MULGACIÓN DE HECHO 12-05-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IN REGLAMENTACION al 11/09/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BFE-6AEB-4B2E-9628-82A7703AB9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ARACTERISTICA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USTITUTO PARA LA OFERTA DE COMBUSTI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SO DE ENERGIAS DE CARÁCTER ALTERNATIV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MPACTO AMBIENTAL MENOR CONTAMINAC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ROMOVER ECONOMIAS REG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CENTIVAR DESARROLLO DE PY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E41-208B-42ED-B1AB-852241921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UTORIDAD DE APLICA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rá fijada por el Poder Ejecutivo Nacion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Funciones. Art. 4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rá asistida por una Comisión Nacional Asesora (art. 3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6D7-0A8C-42D1-BD98-1144563E16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FINICION DE BIOCOMBUSTIBLES (art. 5°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BIOETAN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BIODIES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BIOG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A9F-B0AE-44CB-81F4-0327EFDA34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LANTAS PRODUCTORAS Y ESTABLECIMIENTOS MEZCLADO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ABILITACION (art. 6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XIGENCIA 5% (art.7° a 11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79F-16EA-49EC-90BE-2099B75C05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REGIMEN PROMOCIONAL (cap II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ujetos beneficiarios. Art. 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po Fiscal . Art. 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eneficios Promocionales (Art. 15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EY. 25.9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ANANCIA MINIMA PRESUNTA (qué bien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uesto sobre los combustibles líquidos y el gas natural. 23.966, impuesto al gas oil ley 26028 ni la tasa de infraestructura hidríca 1381/01 (biodiesel y bioetano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Ot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CEF-1207-4467-A885-DD1616D5A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UPO FISCAL (art. 14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fijará anualmente en la ley de presupue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stribución a propuesta del P.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ioridad: Pymes, Productores. Agropecuarios., economías reg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 partir del segundo año se deben incluir también los remanentes necesarios para la continuidad o finalización de los proye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577-E13A-41CF-884C-05329676A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NFRACCIONES Y SANCIONES </a:t>
            </a:r>
            <a:r>
              <a:rPr b="0" i="1" lang="es-ES_tradnl" sz="4400" spc="-1" strike="noStrike" u="sng">
                <a:solidFill>
                  <a:srgbClr val="ffcc66"/>
                </a:solidFill>
                <a:uFillTx/>
                <a:latin typeface="Times New Roman"/>
              </a:rPr>
              <a:t>(art.16/19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PLANTAS HABILITAD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HABILITACION DESARROLLO ACTIV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HABILITACION INSC. REGIST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BENEFICIARIOS DE CUP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VOCACION INSCRIPCION REGISTR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VOCACION BENEFICIOS OTORG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PAGO TRIBUTOS NO INGRES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STALACIONES DE MEZCL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MULT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HABILITACION DESARROLLO ACTIV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SUJETOS ARTICULO 1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MULT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C0A-10CB-4C46-A40B-771A8A74AA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IGENCIA Y REGLAMENT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5 AÑOS A PARTIR DE SU APROBACION.(art. 1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GLAMENTACION: NO ESTA FIJADO EL PLAZ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706-55CB-491C-B653-5CF17666D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00:26Z</dcterms:created>
  <dc:creator>template</dc:creator>
  <dc:description/>
  <dc:language>en-US</dc:language>
  <cp:lastModifiedBy>template</cp:lastModifiedBy>
  <cp:lastPrinted>2006-09-07T20:59:44Z</cp:lastPrinted>
  <dcterms:modified xsi:type="dcterms:W3CDTF">2006-09-07T22:31:43Z</dcterms:modified>
  <cp:revision>13</cp:revision>
  <dc:subject/>
  <dc:title>MINERIA - LEY 24196</dc:title>
</cp:coreProperties>
</file>