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6A2CE-6E4C-4516-B8BB-EC33C88092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94F24-E861-4F28-AFEA-81D236B7D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6AD67-3185-450E-BE92-A175FA2B6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1424A0-3DAE-4DFD-A58F-B55CCB64D1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9CDC0-48E5-4889-BCE2-AB0073D60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051EA-5C8B-4304-A4EE-65D68B2F7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35501-5B64-4139-8647-B30E46835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3D43A-F049-41B8-B40E-D4135B83F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63B03-93AB-492A-B928-E2810F74B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A10FF-E151-4B0B-9DD6-941A74F13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E7541-ED55-4457-8822-882315D6A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9F71F-248C-4292-9A80-B88CA0417A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988A0-6CC6-4DF9-9E8E-B932E76036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Arial"/>
              </a:rPr>
              <a:t>Verificación de creditos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deuda de los trabajadores autónomos en la ley 24.522</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r: Dr. Juan Carlos Celan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driguez, Celano, Stupnik y asociados</a:t>
            </a:r>
          </a:p>
        </p:txBody>
      </p:sp>
      <p:sp>
        <p:nvSpPr>
          <p:cNvPr id="5" name="PlaceHolder 4"/>
          <p:cNvSpPr>
            <a:spLocks noGrp="1"/>
          </p:cNvSpPr>
          <p:nvPr>
            <p:ph type="sldNum" idx="3"/>
          </p:nvPr>
        </p:nvSpPr>
        <p:spPr/>
        <p:txBody>
          <a:bodyPr/>
          <a:p>
            <a:fld id="{DE9B764F-2A45-4BC0-BA6A-51E7606BBC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960"/>
            <a:ext cx="8291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468360" y="620280"/>
            <a:ext cx="8207280" cy="53182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norma aplicable, ley 24.476, dice en su art. 1ro. que los trabajadores autónomos incorporados al Sistema Integrado de Jubilaciones de la ley 24.241 y su modificatoria 24.347, no podrán ser compelidos ni judicial ni administrativamente al pago de los importes que adeuden a la Administración Nacional de la Seguridad Social devengados hasta el 30 de septiembre de 1993.</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mismo tratamiento recibirán aquellos que, en lo sucesivo, se incorporen al sistema en cuyo caso abonarán los importes que le correspondan desde los devengados a partir del mes de octubre de 1993 o desde la fecha de reiniciación de actividades autónomas, la que fuere posteri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driguez, Celano, Stupnik y asociados</a:t>
            </a:r>
          </a:p>
        </p:txBody>
      </p:sp>
      <p:sp>
        <p:nvSpPr>
          <p:cNvPr id="5" name="PlaceHolder 4"/>
          <p:cNvSpPr>
            <a:spLocks noGrp="1"/>
          </p:cNvSpPr>
          <p:nvPr>
            <p:ph type="sldNum" idx="3"/>
          </p:nvPr>
        </p:nvSpPr>
        <p:spPr/>
        <p:txBody>
          <a:bodyPr/>
          <a:p>
            <a:fld id="{D5C97943-40B3-4034-8EFF-61EC84D725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60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2"/>
          <p:cNvSpPr>
            <a:spLocks noGrp="1"/>
          </p:cNvSpPr>
          <p:nvPr>
            <p:ph/>
          </p:nvPr>
        </p:nvSpPr>
        <p:spPr>
          <a:xfrm>
            <a:off x="468000" y="333000"/>
            <a:ext cx="8280360" cy="58323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art. 2do. en su segundo párrafo prevé que estas disposiciones podrán ser opuestas en cualquier tiempo a todo requerimiento administrativo de las obligaciones en ella comprendida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norma aplicable acota específicamente los periodos respecto de los cuales no es factible ser ejecutado, para de esta forma, cercenar las facultades del Fisco Nacional respecto de los aportes de los trabajadores autónomos por los periodos comprendidos hasta septiembre de 1993.</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driguez, Celano, Stupnik y asociados</a:t>
            </a:r>
          </a:p>
        </p:txBody>
      </p:sp>
      <p:sp>
        <p:nvSpPr>
          <p:cNvPr id="5" name="PlaceHolder 4"/>
          <p:cNvSpPr>
            <a:spLocks noGrp="1"/>
          </p:cNvSpPr>
          <p:nvPr>
            <p:ph type="sldNum" idx="3"/>
          </p:nvPr>
        </p:nvSpPr>
        <p:spPr/>
        <p:txBody>
          <a:bodyPr/>
          <a:p>
            <a:fld id="{903AD999-1C16-47CC-BA30-D0AC2BBBE6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4212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PlaceHolder 2"/>
          <p:cNvSpPr>
            <a:spLocks noGrp="1"/>
          </p:cNvSpPr>
          <p:nvPr>
            <p:ph/>
          </p:nvPr>
        </p:nvSpPr>
        <p:spPr>
          <a:xfrm>
            <a:off x="457200" y="549000"/>
            <a:ext cx="8291520" cy="557676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n tal sentido, debiera entenderse que no estuvo en el espíritu del legislador impedir el reclamo de los aportes por la vía judicial o administrativa. Considerando la situación que se vivía en el país en esos momentos (posteriormente empeorada para la fuerza laboral) lo que se pretendía con el dictado de la norma era zanjar una situación coyuntural  que impedía a los contribuyentes que tuvieren deudas considerables de este origen pudiesen jubilarse, concomitantemente, fueren ejecutados por las mismas.</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llo llevo tranquilidad momentánea a este grupo de contribuyentes que pudo obtener el beneficio jubilatorio, cumpliendo con los recaudos de edad y aportes, soslayándose los periodos impagos anteriores a septiembre de 1993.</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driguez, Celano, Stupnik y asociados</a:t>
            </a:r>
          </a:p>
        </p:txBody>
      </p:sp>
      <p:sp>
        <p:nvSpPr>
          <p:cNvPr id="5" name="PlaceHolder 4"/>
          <p:cNvSpPr>
            <a:spLocks noGrp="1"/>
          </p:cNvSpPr>
          <p:nvPr>
            <p:ph type="sldNum" idx="3"/>
          </p:nvPr>
        </p:nvSpPr>
        <p:spPr/>
        <p:txBody>
          <a:bodyPr/>
          <a:p>
            <a:fld id="{D158C20B-F847-4C59-84B8-B82561B264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MERA CONCLUSION</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l contribuyente no puede ser compelido en forma judicial ni administrativa por los aportes correspondientes a plazos anteriores al 30 de septiembre de 1993. Dicho de otra manera y en lo referido a la verificación de los créditos comprendidos en el proceso de la ley 24.522, el Fisco Nacional carece de facultades para verificar créditos por estos plazo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driguez, Celano, Stupnik y asociados</a:t>
            </a:r>
          </a:p>
        </p:txBody>
      </p:sp>
      <p:sp>
        <p:nvSpPr>
          <p:cNvPr id="5" name="PlaceHolder 4"/>
          <p:cNvSpPr>
            <a:spLocks noGrp="1"/>
          </p:cNvSpPr>
          <p:nvPr>
            <p:ph type="sldNum" idx="3"/>
          </p:nvPr>
        </p:nvSpPr>
        <p:spPr/>
        <p:txBody>
          <a:bodyPr/>
          <a:p>
            <a:fld id="{86F9DFDD-4FB6-45FE-882C-EC6242A1F7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GUNDA CONCLUSION</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Contrariamente a lo indicado en el punto anterior, la Administración Federal de Ingresos Públicos –por los  aportes correspondientes a plazos posteriores al 1ro. de octubre de 1993- se encuentra facultada para exigir su cumplimiento en los  procesos inmersos en la normativa concursal, con las restricciones que veremos más  adelant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driguez, Celano, Stupnik y asociados</a:t>
            </a:r>
          </a:p>
        </p:txBody>
      </p:sp>
      <p:sp>
        <p:nvSpPr>
          <p:cNvPr id="5" name="PlaceHolder 4"/>
          <p:cNvSpPr>
            <a:spLocks noGrp="1"/>
          </p:cNvSpPr>
          <p:nvPr>
            <p:ph type="sldNum" idx="3"/>
          </p:nvPr>
        </p:nvSpPr>
        <p:spPr/>
        <p:txBody>
          <a:bodyPr/>
          <a:p>
            <a:fld id="{6B0F9A40-FF84-463E-BC4D-9528A0C60C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os trabajadores autónomos</a:t>
            </a:r>
            <a:br>
              <a:rPr sz="4000"/>
            </a:br>
            <a:r>
              <a:rPr b="1" lang="en-US" sz="4000" spc="-1" strike="noStrike">
                <a:solidFill>
                  <a:srgbClr val="000000"/>
                </a:solidFill>
                <a:latin typeface="Arial"/>
              </a:rPr>
              <a:t>con afiliación voluntaria</a:t>
            </a:r>
            <a:endParaRPr b="0" lang="en-US" sz="4000" spc="-1" strike="noStrike">
              <a:solidFill>
                <a:srgbClr val="000000"/>
              </a:solidFill>
              <a:latin typeface="Arial"/>
            </a:endParaRPr>
          </a:p>
        </p:txBody>
      </p:sp>
      <p:sp>
        <p:nvSpPr>
          <p:cNvPr id="70" name="PlaceHolder 2"/>
          <p:cNvSpPr>
            <a:spLocks noGrp="1"/>
          </p:cNvSpPr>
          <p:nvPr>
            <p:ph/>
          </p:nvPr>
        </p:nvSpPr>
        <p:spPr>
          <a:xfrm>
            <a:off x="456840" y="1413000"/>
            <a:ext cx="8218440" cy="47131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sistema previsional argentino incluye a aquellas personas que ejercen determinados oficios o tareas como trabajadores autónomos. El art. 5to. de la ley 18.038 y el decreto 433/94 disponen para estos trabajadores que la afiliación voluntaria subsiste y genera la obligación de aportar:</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entras no se formule expresa renuncia ante la autoridad previsional,</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afiliación caduca cuando se adeudasen seis mensualidades  consecutivas de aportes.</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reincorporación al sistema se produce con un acto formal y expreso, bajo ciertas condiciones de edad que no son motivo de este trabaj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driguez, Celano, Stupnik y asociados</a:t>
            </a:r>
          </a:p>
        </p:txBody>
      </p:sp>
      <p:sp>
        <p:nvSpPr>
          <p:cNvPr id="5" name="PlaceHolder 4"/>
          <p:cNvSpPr>
            <a:spLocks noGrp="1"/>
          </p:cNvSpPr>
          <p:nvPr>
            <p:ph type="sldNum" idx="3"/>
          </p:nvPr>
        </p:nvSpPr>
        <p:spPr/>
        <p:txBody>
          <a:bodyPr/>
          <a:p>
            <a:fld id="{5ABB9EC0-8BBA-412D-8A99-4DB435199E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CERA CONCLUSION</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opinión del autor, la caducidad es automática, aunque en la practica nunca vemos que la misma se lleve a cabo; de allí que las verificaciones de créditos que son presentadas ante la Sindicatura, en los términos del art. 32 de la LCQ, comprendan siempre periodos posteriores a los seis meses no cancelados.</a:t>
            </a: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go y para los trabajadores autónomos con afiliación voluntaria no procede el reconocimiento de los créditos posteriores a los seis mes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driguez, Celano, Stupnik y asociados</a:t>
            </a:r>
          </a:p>
        </p:txBody>
      </p:sp>
      <p:sp>
        <p:nvSpPr>
          <p:cNvPr id="5" name="PlaceHolder 4"/>
          <p:cNvSpPr>
            <a:spLocks noGrp="1"/>
          </p:cNvSpPr>
          <p:nvPr>
            <p:ph type="sldNum" idx="3"/>
          </p:nvPr>
        </p:nvSpPr>
        <p:spPr/>
        <p:txBody>
          <a:bodyPr/>
          <a:p>
            <a:fld id="{24AB749F-7774-42A1-8390-784EE0AC75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52560"/>
            <a:ext cx="82072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ctr">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60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     </a:t>
            </a:r>
            <a:r>
              <a:rPr b="1" lang="en-US" sz="4400" spc="-1" strike="noStrike">
                <a:solidFill>
                  <a:srgbClr val="000000"/>
                </a:solidFill>
                <a:latin typeface="Arial"/>
              </a:rPr>
              <a:t>Los trabajadores autónomos</a:t>
            </a:r>
            <a:br>
              <a:rPr sz="4400"/>
            </a:br>
            <a:r>
              <a:rPr b="1" lang="en-US" sz="4400" spc="-1" strike="noStrike">
                <a:solidFill>
                  <a:srgbClr val="000000"/>
                </a:solidFill>
                <a:latin typeface="Arial"/>
              </a:rPr>
              <a:t>con afiliación obligatoria</a:t>
            </a:r>
            <a:endParaRPr b="0" lang="en-US" sz="4400" spc="-1" strike="noStrike">
              <a:solidFill>
                <a:srgbClr val="000000"/>
              </a:solidFill>
              <a:latin typeface="Arial"/>
            </a:endParaRPr>
          </a:p>
        </p:txBody>
      </p:sp>
      <p:sp>
        <p:nvSpPr>
          <p:cNvPr id="4" name="PlaceHolder 3"/>
          <p:cNvSpPr>
            <a:spLocks noGrp="1"/>
          </p:cNvSpPr>
          <p:nvPr>
            <p:ph type="ftr" idx="2"/>
          </p:nvPr>
        </p:nvSpPr>
        <p:spPr/>
        <p:txBody>
          <a:bodyPr/>
          <a:p>
            <a:r>
              <a:t>Rodriguez, Celano, Stupnik y asociados</a:t>
            </a:r>
          </a:p>
        </p:txBody>
      </p:sp>
      <p:sp>
        <p:nvSpPr>
          <p:cNvPr id="5" name="PlaceHolder 4"/>
          <p:cNvSpPr>
            <a:spLocks noGrp="1"/>
          </p:cNvSpPr>
          <p:nvPr>
            <p:ph type="sldNum" idx="3"/>
          </p:nvPr>
        </p:nvSpPr>
        <p:spPr/>
        <p:txBody>
          <a:bodyPr/>
          <a:p>
            <a:fld id="{F28549E3-CA76-442D-A851-BA67B07235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260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476280"/>
            <a:ext cx="8291520" cy="5649840"/>
          </a:xfrm>
          <a:prstGeom prst="rect">
            <a:avLst/>
          </a:prstGeom>
          <a:noFill/>
          <a:ln w="0">
            <a:noFill/>
          </a:ln>
        </p:spPr>
        <p:txBody>
          <a:bodyPr lIns="90000" rIns="90000" tIns="46800" bIns="46800" anchor="t">
            <a:normAutofit/>
          </a:bodyPr>
          <a:p>
            <a:pPr marL="609480" indent="-60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ción, administración o conducción de cualquier empresa, organización, establecimiento o explotación con fines de lucro, o sociedad comercial o civil aunque por esas actividades no obtengan retribución, utilidad o ingreso alguno.</a:t>
            </a:r>
            <a:endParaRPr b="0" lang="en-US" sz="2800" spc="-1" strike="noStrike">
              <a:solidFill>
                <a:srgbClr val="000000"/>
              </a:solidFill>
              <a:latin typeface="Arial"/>
            </a:endParaRPr>
          </a:p>
          <a:p>
            <a:pPr marL="609480" indent="-60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ión desempeñada por graduado universitario.</a:t>
            </a:r>
            <a:endParaRPr b="0" lang="en-US" sz="2800" spc="-1" strike="noStrike">
              <a:solidFill>
                <a:srgbClr val="000000"/>
              </a:solidFill>
              <a:latin typeface="Arial"/>
            </a:endParaRPr>
          </a:p>
          <a:p>
            <a:pPr marL="609480" indent="-60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desempeño de actividades de producción y/o cobranza de seguros, reaseguros, etc.</a:t>
            </a:r>
            <a:endParaRPr b="0" lang="en-US" sz="2800" spc="-1" strike="noStrike">
              <a:solidFill>
                <a:srgbClr val="000000"/>
              </a:solidFill>
              <a:latin typeface="Arial"/>
            </a:endParaRPr>
          </a:p>
          <a:p>
            <a:pPr marL="609480" indent="-60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alquier otra actividad lucrativa no comprendida en los incisos precedent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driguez, Celano, Stupnik y asociados</a:t>
            </a:r>
          </a:p>
        </p:txBody>
      </p:sp>
      <p:sp>
        <p:nvSpPr>
          <p:cNvPr id="5" name="PlaceHolder 4"/>
          <p:cNvSpPr>
            <a:spLocks noGrp="1"/>
          </p:cNvSpPr>
          <p:nvPr>
            <p:ph type="sldNum" idx="3"/>
          </p:nvPr>
        </p:nvSpPr>
        <p:spPr/>
        <p:txBody>
          <a:bodyPr/>
          <a:p>
            <a:fld id="{A999DF2C-951E-4C97-83F2-74D7D19B93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2120"/>
            <a:ext cx="8291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457200" y="404280"/>
            <a:ext cx="8291520" cy="57214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    </a:t>
            </a:r>
            <a:r>
              <a:rPr b="0" lang="es-AR" sz="2800" spc="-1" strike="noStrike">
                <a:solidFill>
                  <a:srgbClr val="000000"/>
                </a:solidFill>
                <a:latin typeface="Arial"/>
              </a:rPr>
              <a:t>Adviértase aquí, que el informe de la sindicatura concursal , en orden a la emisión de una opinión verificatoria favorable o desfavorable, deberá contener un meduloso análisis de estas cuestiones. Así, no deben tener el mismo tratamiento por ejemplo: los trabajadores autónomos que realizan tareas manuales como un electricista y el socio gerente una sociedad de responsabilidad limitada. La normativa en este sentido es clara al diferenciar las personas que poseen afiliación voluntaria de las que son obligatoria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driguez, Celano, Stupnik y asociados</a:t>
            </a:r>
          </a:p>
        </p:txBody>
      </p:sp>
      <p:sp>
        <p:nvSpPr>
          <p:cNvPr id="5" name="PlaceHolder 4"/>
          <p:cNvSpPr>
            <a:spLocks noGrp="1"/>
          </p:cNvSpPr>
          <p:nvPr>
            <p:ph type="sldNum" idx="3"/>
          </p:nvPr>
        </p:nvSpPr>
        <p:spPr/>
        <p:txBody>
          <a:bodyPr/>
          <a:p>
            <a:fld id="{1E242674-973C-40D5-A247-E6493BCB16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presente trabajo tiene por motivo analizar la situación generada en el proceso de la ley 24.522 por la verificación de los créditos correspondientes a las deudas generadas por las personas físicas comprendidas en el Régimen de la Seguridad Social  para Trabajadores Autónomos, por la falta de los aportes previsionales a la luz de la normativa legal y la jurisprudencia existent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driguez, Celano, Stupnik y asociados</a:t>
            </a:r>
          </a:p>
        </p:txBody>
      </p:sp>
      <p:sp>
        <p:nvSpPr>
          <p:cNvPr id="5" name="PlaceHolder 4"/>
          <p:cNvSpPr>
            <a:spLocks noGrp="1"/>
          </p:cNvSpPr>
          <p:nvPr>
            <p:ph type="sldNum" idx="3"/>
          </p:nvPr>
        </p:nvSpPr>
        <p:spPr/>
        <p:txBody>
          <a:bodyPr/>
          <a:p>
            <a:fld id="{E6E484D9-E854-4419-BC45-97FC2373F4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395280" y="206064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OS CONCEPTOS INVOLUCRADO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N EL APORTE PREVISIONAL</a:t>
            </a: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Rodriguez, Celano, Stupnik y asociados</a:t>
            </a:r>
          </a:p>
        </p:txBody>
      </p:sp>
      <p:sp>
        <p:nvSpPr>
          <p:cNvPr id="5" name="PlaceHolder 4"/>
          <p:cNvSpPr>
            <a:spLocks noGrp="1"/>
          </p:cNvSpPr>
          <p:nvPr>
            <p:ph type="sldNum" idx="3"/>
          </p:nvPr>
        </p:nvSpPr>
        <p:spPr/>
        <p:txBody>
          <a:bodyPr/>
          <a:p>
            <a:fld id="{8584D730-023A-4D59-96B5-CBF703909F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4212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 name="PlaceHolder 2"/>
          <p:cNvSpPr>
            <a:spLocks noGrp="1"/>
          </p:cNvSpPr>
          <p:nvPr>
            <p:ph/>
          </p:nvPr>
        </p:nvSpPr>
        <p:spPr>
          <a:xfrm>
            <a:off x="539280" y="333360"/>
            <a:ext cx="8209080" cy="5749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En algunos incidentes se ha planteado la necesidad que se reconozca la porcion del credito que no se aplica en forma directa al contribuyente, es decir, aquellos que hacen al mantenimiento del sistema jubilatorio general y a obra social.</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En tal sentido, opino que tal cuestion deviene abstracta pues la normativa previsional no excluye conceptos en particular, por lo tanto, no procede la verificacion parcial por conceptos especificos ya que la norma misma no los distingu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driguez, Celano, Stupnik y asociados</a:t>
            </a:r>
          </a:p>
        </p:txBody>
      </p:sp>
      <p:sp>
        <p:nvSpPr>
          <p:cNvPr id="5" name="PlaceHolder 4"/>
          <p:cNvSpPr>
            <a:spLocks noGrp="1"/>
          </p:cNvSpPr>
          <p:nvPr>
            <p:ph type="sldNum" idx="3"/>
          </p:nvPr>
        </p:nvSpPr>
        <p:spPr/>
        <p:txBody>
          <a:bodyPr/>
          <a:p>
            <a:fld id="{4194CF2A-243A-4717-AC20-A42C27602A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 JURISPRUDENCIA</a:t>
            </a:r>
            <a:endParaRPr b="0" lang="en-US" sz="4400" spc="-1" strike="noStrike">
              <a:solidFill>
                <a:srgbClr val="000000"/>
              </a:solidFill>
              <a:latin typeface="Arial"/>
            </a:endParaRPr>
          </a:p>
        </p:txBody>
      </p:sp>
      <p:sp>
        <p:nvSpPr>
          <p:cNvPr id="4" name="PlaceHolder 3"/>
          <p:cNvSpPr>
            <a:spLocks noGrp="1"/>
          </p:cNvSpPr>
          <p:nvPr>
            <p:ph type="ftr" idx="2"/>
          </p:nvPr>
        </p:nvSpPr>
        <p:spPr/>
        <p:txBody>
          <a:bodyPr/>
          <a:p>
            <a:r>
              <a:t>Rodriguez, Celano, Stupnik y asociados</a:t>
            </a:r>
          </a:p>
        </p:txBody>
      </p:sp>
      <p:sp>
        <p:nvSpPr>
          <p:cNvPr id="5" name="PlaceHolder 4"/>
          <p:cNvSpPr>
            <a:spLocks noGrp="1"/>
          </p:cNvSpPr>
          <p:nvPr>
            <p:ph type="sldNum" idx="3"/>
          </p:nvPr>
        </p:nvSpPr>
        <p:spPr/>
        <p:txBody>
          <a:bodyPr/>
          <a:p>
            <a:fld id="{81410BD2-33E5-4581-B0FD-72D78586B1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2120"/>
            <a:ext cx="8291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457200" y="404280"/>
            <a:ext cx="8291520" cy="572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La jurisprudencia ha sido unánime en cuanto al rechazo de la pretensión verificatoria del crédito por la AFI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El fallo Becerra Julio Ruben s/propia quiebra s/incidente de revisión por el Fisco Nacional del 09/03/06, CNCom, Sala B es solo uno de los últimos dictados pero, hay una multiplicad de otras sentencias tales como: Céspedes Mariano s/quiebra s/inc. De rev. Por AFIP Sala B, del 01-06-04, Pérez Silva, Gumersindo s/quiebra s/incidente de rev. AFIP, Sala C, 23-12-03, Salazar Julio s/quiebra, Sala C, Hommar Lucio s/quiebra Sala B, 14-06-04, Petito Omar A s/quiebra, Sala A, 08-09-03, entre otro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driguez, Celano, Stupnik y asociados</a:t>
            </a:r>
          </a:p>
        </p:txBody>
      </p:sp>
      <p:sp>
        <p:nvSpPr>
          <p:cNvPr id="5" name="PlaceHolder 4"/>
          <p:cNvSpPr>
            <a:spLocks noGrp="1"/>
          </p:cNvSpPr>
          <p:nvPr>
            <p:ph type="sldNum" idx="3"/>
          </p:nvPr>
        </p:nvSpPr>
        <p:spPr/>
        <p:txBody>
          <a:bodyPr/>
          <a:p>
            <a:fld id="{A3128163-36DA-4042-ABCC-1FE5071AB8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Generalmente fundada en dos cuest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la carencia de facultades y potestades persecutorias de la AFIP para reclamar  estos creditos y por ende, legitimación para verificarl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la consecuencia de no efectuar los aportes es la imposibilidad de obtener la jubilació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driguez, Celano, Stupnik y asociados</a:t>
            </a:r>
          </a:p>
        </p:txBody>
      </p:sp>
      <p:sp>
        <p:nvSpPr>
          <p:cNvPr id="5" name="PlaceHolder 4"/>
          <p:cNvSpPr>
            <a:spLocks noGrp="1"/>
          </p:cNvSpPr>
          <p:nvPr>
            <p:ph type="sldNum" idx="3"/>
          </p:nvPr>
        </p:nvSpPr>
        <p:spPr/>
        <p:txBody>
          <a:bodyPr/>
          <a:p>
            <a:fld id="{94E008DA-7A2B-47A3-8A9F-B9E2A4A5D1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2120"/>
            <a:ext cx="8291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0" name="PlaceHolder 2"/>
          <p:cNvSpPr>
            <a:spLocks noGrp="1"/>
          </p:cNvSpPr>
          <p:nvPr>
            <p:ph/>
          </p:nvPr>
        </p:nvSpPr>
        <p:spPr>
          <a:xfrm>
            <a:off x="457200" y="333000"/>
            <a:ext cx="8291520" cy="579276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se ha formado una corriente jurisprudencial errónea por cuanto a partir de la sancion de la ley 24.241 y su modificatoria 24.347 se fueron rechazando las verificaciones por los periodos anteriores al 30 de setiembre de 1993, con lo cual se ha formado un “cliché” aplicado automáticamente a traves del tiempo sin considerar las normas que se encuentran vigentes respecto de los periodos posteriores al 1 de octubre de 1993.</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Asi, los resumenes jurisprudenciales utilizados dan cuenta de la falta de legitimidad del Fisco para verificar credito, sin agregados adicionales respecto de la determinación de los periodos comprendidos en cada  sentenci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driguez, Celano, Stupnik y asociados</a:t>
            </a:r>
          </a:p>
        </p:txBody>
      </p:sp>
      <p:sp>
        <p:nvSpPr>
          <p:cNvPr id="5" name="PlaceHolder 4"/>
          <p:cNvSpPr>
            <a:spLocks noGrp="1"/>
          </p:cNvSpPr>
          <p:nvPr>
            <p:ph type="sldNum" idx="3"/>
          </p:nvPr>
        </p:nvSpPr>
        <p:spPr/>
        <p:txBody>
          <a:bodyPr/>
          <a:p>
            <a:fld id="{60E345DD-4587-4F3D-AF5A-7A6830D470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11988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2" name="PlaceHolder 2"/>
          <p:cNvSpPr>
            <a:spLocks noGrp="1"/>
          </p:cNvSpPr>
          <p:nvPr>
            <p:ph/>
          </p:nvPr>
        </p:nvSpPr>
        <p:spPr>
          <a:xfrm>
            <a:off x="456840" y="333000"/>
            <a:ext cx="8218440" cy="57927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El exceso de causas judiciales en el fuero comercial, asi como la existencia de complejas cuestiones para resolver en los expedientes: la pesificacion, las acciones de recomposicion patrimonial, los acuerdos preventivos extrajudiciales,  los creditos impositivos, la morigeración de intereses, entre otros, se llevaron las mayores horas de trabajo de los magistrados y sus equipos. </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Estas cuestiones de gran notoriedad economica han desplazado a creditos de menor cuantia, como el caso bajo exame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driguez, Celano, Stupnik y asociados</a:t>
            </a:r>
          </a:p>
        </p:txBody>
      </p:sp>
      <p:sp>
        <p:nvSpPr>
          <p:cNvPr id="5" name="PlaceHolder 4"/>
          <p:cNvSpPr>
            <a:spLocks noGrp="1"/>
          </p:cNvSpPr>
          <p:nvPr>
            <p:ph type="sldNum" idx="3"/>
          </p:nvPr>
        </p:nvSpPr>
        <p:spPr/>
        <p:txBody>
          <a:bodyPr/>
          <a:p>
            <a:fld id="{88FED4A7-5903-4F47-903B-29ABF239B84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16560"/>
            <a:ext cx="82072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 name="PlaceHolder 2"/>
          <p:cNvSpPr>
            <a:spLocks noGrp="1"/>
          </p:cNvSpPr>
          <p:nvPr>
            <p:ph/>
          </p:nvPr>
        </p:nvSpPr>
        <p:spPr>
          <a:xfrm>
            <a:off x="395280" y="105264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ara arribar a una conclusión, tres cuestiones serán sometidas a estudi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 facultades del Fisco Nacional para verificar crédito en los procesos de la ley 24.522,</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situación de los trabajadores autónomos con afiliación voluntari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situación de los mismos trabajadores con afiliación obligatoria.</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driguez, Celano, Stupnik y asociados</a:t>
            </a:r>
          </a:p>
        </p:txBody>
      </p:sp>
      <p:sp>
        <p:nvSpPr>
          <p:cNvPr id="5" name="PlaceHolder 4"/>
          <p:cNvSpPr>
            <a:spLocks noGrp="1"/>
          </p:cNvSpPr>
          <p:nvPr>
            <p:ph type="sldNum" idx="3"/>
          </p:nvPr>
        </p:nvSpPr>
        <p:spPr/>
        <p:txBody>
          <a:bodyPr/>
          <a:p>
            <a:fld id="{B1C8B7C0-51A4-45EE-8DEA-B0670D0197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El encuadre leg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cuestión bajo análisis se encuentra comprendida en las leyes 18.038, 19.032, 21.581 24.241, 24.347 y 24.476.</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driguez, Celano, Stupnik y asociados</a:t>
            </a:r>
          </a:p>
        </p:txBody>
      </p:sp>
      <p:sp>
        <p:nvSpPr>
          <p:cNvPr id="5" name="PlaceHolder 4"/>
          <p:cNvSpPr>
            <a:spLocks noGrp="1"/>
          </p:cNvSpPr>
          <p:nvPr>
            <p:ph type="sldNum" idx="3"/>
          </p:nvPr>
        </p:nvSpPr>
        <p:spPr/>
        <p:txBody>
          <a:bodyPr/>
          <a:p>
            <a:fld id="{51FB8B6D-FB7B-4655-8EE9-0D4245387E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2600"/>
            <a:ext cx="8075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 name="PlaceHolder 2"/>
          <p:cNvSpPr>
            <a:spLocks noGrp="1"/>
          </p:cNvSpPr>
          <p:nvPr>
            <p:ph/>
          </p:nvPr>
        </p:nvSpPr>
        <p:spPr>
          <a:xfrm>
            <a:off x="250920" y="981000"/>
            <a:ext cx="8353440" cy="511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 Ley de Jubilaciones y Pensiones No. 24.241 que reglamenta el sistema provisional instituye el sistema Integrado de Jubilaciones y Pensiones con dos categorí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régimen previsional publica, fundamentado en el otorgamiento de prestaciones por parte del estado que financiará a través de un sistema de repar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ro régimen provisional basado en la capitalización individual, conocido como régimen de capitalización o “privado”</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driguez, Celano, Stupnik y asociados</a:t>
            </a:r>
          </a:p>
        </p:txBody>
      </p:sp>
      <p:sp>
        <p:nvSpPr>
          <p:cNvPr id="5" name="PlaceHolder 4"/>
          <p:cNvSpPr>
            <a:spLocks noGrp="1"/>
          </p:cNvSpPr>
          <p:nvPr>
            <p:ph type="sldNum" idx="3"/>
          </p:nvPr>
        </p:nvSpPr>
        <p:spPr/>
        <p:txBody>
          <a:bodyPr/>
          <a:p>
            <a:fld id="{57F5DF05-3CAB-40B0-92DB-B85F7EF63E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4212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PlaceHolder 2"/>
          <p:cNvSpPr>
            <a:spLocks noGrp="1"/>
          </p:cNvSpPr>
          <p:nvPr>
            <p:ph/>
          </p:nvPr>
        </p:nvSpPr>
        <p:spPr>
          <a:xfrm>
            <a:off x="456840" y="692280"/>
            <a:ext cx="8218440" cy="5433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l ANSES ha sido originariamente el ente facultado para reclamar judicialmente los aportes adeudados por la falta de aportes de estos trabajador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ntre sus disposiciones determin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enes están obligados a aporta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 forma en que se calcularan los aportes y contribuciones obligatorios al sistem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obligación del trabajador en depositar el aporte correspondiente a la orden de SUS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driguez, Celano, Stupnik y asociados</a:t>
            </a:r>
          </a:p>
        </p:txBody>
      </p:sp>
      <p:sp>
        <p:nvSpPr>
          <p:cNvPr id="5" name="PlaceHolder 4"/>
          <p:cNvSpPr>
            <a:spLocks noGrp="1"/>
          </p:cNvSpPr>
          <p:nvPr>
            <p:ph type="sldNum" idx="3"/>
          </p:nvPr>
        </p:nvSpPr>
        <p:spPr/>
        <p:txBody>
          <a:bodyPr/>
          <a:p>
            <a:fld id="{BAB23C26-AC8B-4D9E-9DA4-6C3F3F252D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600"/>
            <a:ext cx="8291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 name="PlaceHolder 2"/>
          <p:cNvSpPr>
            <a:spLocks noGrp="1"/>
          </p:cNvSpPr>
          <p:nvPr>
            <p:ph/>
          </p:nvPr>
        </p:nvSpPr>
        <p:spPr>
          <a:xfrm>
            <a:off x="456840" y="765000"/>
            <a:ext cx="8218440" cy="536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El Decreto 507/93 en su articulo 3ro. Modificó  el art. 2do. del decreto No. 2741/91 disponiendo que la Dirección General Impositiva seria a partir de dicha oportunidad  la encargada de perseguir la recaudación  y fiscalización de los aportes y contribuciones de índole provision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Luego, los fondos recaudados deben ser transferidos automáticamente a la administración Nacional de la Seguridad Social, para su administración, previa deducción del porcentaje que se fije para la atención del gasto de las nuevas funciones que demanden a la Dirección General Impositiv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driguez, Celano, Stupnik y asociados</a:t>
            </a:r>
          </a:p>
        </p:txBody>
      </p:sp>
      <p:sp>
        <p:nvSpPr>
          <p:cNvPr id="5" name="PlaceHolder 4"/>
          <p:cNvSpPr>
            <a:spLocks noGrp="1"/>
          </p:cNvSpPr>
          <p:nvPr>
            <p:ph type="sldNum" idx="3"/>
          </p:nvPr>
        </p:nvSpPr>
        <p:spPr/>
        <p:txBody>
          <a:bodyPr/>
          <a:p>
            <a:fld id="{3BE23470-5C91-46BB-A0E0-DEBD496763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La AFIP se encuentra</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acultada para ejecutar estos créditos?</a:t>
            </a: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Rodriguez, Celano, Stupnik y asociados</a:t>
            </a:r>
          </a:p>
        </p:txBody>
      </p:sp>
      <p:sp>
        <p:nvSpPr>
          <p:cNvPr id="5" name="PlaceHolder 4"/>
          <p:cNvSpPr>
            <a:spLocks noGrp="1"/>
          </p:cNvSpPr>
          <p:nvPr>
            <p:ph type="sldNum" idx="3"/>
          </p:nvPr>
        </p:nvSpPr>
        <p:spPr/>
        <p:txBody>
          <a:bodyPr/>
          <a:p>
            <a:fld id="{EF789D34-9339-4361-8FC1-09A715591D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7440"/>
            <a:ext cx="8291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2"/>
          <p:cNvSpPr>
            <a:spLocks noGrp="1"/>
          </p:cNvSpPr>
          <p:nvPr>
            <p:ph/>
          </p:nvPr>
        </p:nvSpPr>
        <p:spPr>
          <a:xfrm>
            <a:off x="457200" y="620280"/>
            <a:ext cx="8362800" cy="5505480"/>
          </a:xfrm>
          <a:prstGeom prst="rect">
            <a:avLst/>
          </a:prstGeom>
          <a:noFill/>
          <a:ln w="0">
            <a:noFill/>
          </a:ln>
        </p:spPr>
        <p:txBody>
          <a:bodyPr lIns="90000" rIns="90000" tIns="46800" bIns="46800" anchor="t">
            <a:normAutofit/>
          </a:bodyPr>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2200" spc="-1" strike="noStrike">
                <a:solidFill>
                  <a:srgbClr val="000000"/>
                </a:solidFill>
                <a:latin typeface="Arial"/>
              </a:rPr>
              <a:t>En el fallo CNCom, Sala C, del 11/06/04 en autos SALAZAR, Julio C, exp. 6325/02, la Excma. Cámara hizo suyo los fundamentos de la Sra. Fiscal de Cámara que sostuvo que “… </a:t>
            </a:r>
            <a:r>
              <a:rPr b="0" i="1" lang="es-AR" sz="2200" spc="-1" strike="noStrike">
                <a:solidFill>
                  <a:srgbClr val="000000"/>
                </a:solidFill>
                <a:latin typeface="Arial"/>
              </a:rPr>
              <a:t>no esta prevista la ejecutabilidad de la deuda contra el trabajador autónomo inscripto en el sistema, la que si resulta factura en otros casos, por ejemplo, cuando el obligado es el empleador en una relación de dependencia. La Administración Federal de Ingresos Públicos carece de potestad persecutoria y por ende de legitimación para obtener la ejecución forzosa de un crédito de esta clase. Así lo establece el art. 1 de la ley 24476 en cuanto dispone que los trabajadores autónomos incorporados al sistema integrado de jubilaciones de la ley 24.241 y su modificatoria ley 24.347, no podrán ser compelidos judicial ni administrativamente al pago de los importes que adeuden al Anses...”.</a:t>
            </a:r>
            <a:r>
              <a:rPr b="0" lang="es-AR" sz="2200" spc="-1" strike="noStrike">
                <a:solidFill>
                  <a:srgbClr val="000000"/>
                </a:solidFill>
                <a:latin typeface="Arial"/>
              </a:rPr>
              <a:t> En el mismo sentido la funcionaria aludida se expidió con fecha 19/08/2003, posición luego receptada por la CNCom. Sala A, en el fallo Petito, Omar s/quiebra del 08/09/2003.</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Rodriguez, Celano, Stupnik y asociados</a:t>
            </a:r>
          </a:p>
        </p:txBody>
      </p:sp>
      <p:sp>
        <p:nvSpPr>
          <p:cNvPr id="5" name="PlaceHolder 4"/>
          <p:cNvSpPr>
            <a:spLocks noGrp="1"/>
          </p:cNvSpPr>
          <p:nvPr>
            <p:ph type="sldNum" idx="3"/>
          </p:nvPr>
        </p:nvSpPr>
        <p:spPr/>
        <p:txBody>
          <a:bodyPr/>
          <a:p>
            <a:fld id="{C8844F3B-66E4-4F7B-9E1F-E6A684F8BD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5T14:03:46Z</dcterms:created>
  <dc:creator>Owner</dc:creator>
  <dc:description/>
  <dc:language>en-US</dc:language>
  <cp:lastModifiedBy>Owner</cp:lastModifiedBy>
  <dcterms:modified xsi:type="dcterms:W3CDTF">2006-10-25T15:35:40Z</dcterms:modified>
  <cp:revision>10</cp:revision>
  <dc:subject/>
  <dc:title>Verificación de creditos </dc:title>
</cp:coreProperties>
</file>