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27000"/>
            <a:ext cx="9906120" cy="476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Pericias y los SRC Altern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60480" y="6502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337C-3353-4442-B9F7-FAA2442399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15800" y="907920"/>
            <a:ext cx="9001080" cy="511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146240" y="2205000"/>
            <a:ext cx="75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PERICIAS Y LOS SRC ALTERN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2680" y="328464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 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52880" y="4149720"/>
            <a:ext cx="3600360" cy="1222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-27000"/>
            <a:ext cx="9906120" cy="647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14320" y="4365720"/>
            <a:ext cx="7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06680" y="4146480"/>
            <a:ext cx="7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8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16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13840" y="85716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AL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36520" y="270828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 la aseveración técnica de que los registros están llevados en legal forma, cuando se conocen las disposiciones legales que incidan sobre el ente sometido a estudio y que a su vez se refieran a los registros de cont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23480" y="857160"/>
            <a:ext cx="59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UACIÓN DE LA PRESCINDENCIA DEL ART 53 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0520" y="1844640"/>
            <a:ext cx="878508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robadas antes de la vigencia de la Resolución 7/05 IGJ (21/02/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rt 6.6  Normas transitorias de adecuación, exigibles a partir del ejerc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onómico inmediato siguiente a la vigencia de estas nor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robadas a partir del 21/02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En relación a los informes periódicos (Res 07/05 IGJ - Arts 287 I y II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obligatorios a partir del ejercicio económico de cierre inmediato siguiente a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tor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esto de las formali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forma inmediata, a la fecha de aprob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74920" y="857160"/>
            <a:ext cx="67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SITOS DEL ALMACENAMIENTO DE HOJAS MÓVILES (RES 07/05 IGJ - ART 2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2276640"/>
            <a:ext cx="8785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Impresión en papel consistente y con tinta indele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– Encabezamiento de las hojas, nombre de la sociedad, nombre del registr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Páginas con numeración correlativa desde el Nº 1 al comienzo del ejerc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uadernadas cada 500 folios o cierre de ejercicio, o lo que resulte prim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– En la primera página identificatoria a la sociedad a la que pertene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minación del registro, número de la primera y última hoja, fecha y firm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nte legal y sín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07000" y="85716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SITOS DE ALMACENAMIENTO EN CD Y M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S 07/05 IGJ - ART 2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1800" y="2052720"/>
            <a:ext cx="8785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Numerados correlativamente desde el Nº 1 para cada registro y ejercici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mero de or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– WORM (Una sola escritura y múltiples lectur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Patrones de calidad que impidan alteraciones y permitan su conserv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– MF – No permite adicionar fotogra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– Procedimiento de em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– Acta de registración con fecha de la primera y última registración. Firmada por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nte Leg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– Informe trimestral del Síndico registrado en el Libro Inventario y Bal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81240" y="2060640"/>
            <a:ext cx="75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– INFORME ANUAL DE CONTADOR PÚBLICO INDEPENDIENT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39800" y="2565360"/>
            <a:ext cx="7850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Descripción exacta del sistema regist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– Opinión fundada sobre la concordancia entr el SRC utilizado y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bado. La IGJ entregará una certificación qu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Á REGULARMENTE LLEV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52520" y="4653000"/>
            <a:ext cx="50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– INFORME DE ACTUALIZACIÓN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12880" y="5084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2 años sobre la situación de obsolesc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41600" y="85716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PERI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 07/05 IGJ – ART 2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080440" y="1628640"/>
            <a:ext cx="7078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 282-1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romisos asumidos de lectura, impresión y consu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 282-2-F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odelos en blanco y ejempl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cabezamiento de los folios (285.2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en cons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nominación de la soc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mbre del regis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Peri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 282-2.d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El sistema de numeración de los regis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4880" y="85716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ROS REQUISITOS DE LA  RES 07/05 IG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73600" y="252108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92160" y="98100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o I – Identificación del 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560" y="1341360"/>
            <a:ext cx="8940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torización concedida por: ……………………………………….. (Tácita o Expre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fecha:                            …/…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de almacenamiento:  ……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stros Autoriz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cripción en el Libro Inventario y Balances de la autor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ro Nº ……………  Rubricado el …/…/…  Bajo el Nº …………… Folios desde / h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gistro de habilitación de Medios Ópt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ro Nº ……………  Rubricado el …/…/…  Bajo el Nº ………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as objeto de la peri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lio Nº ……………  Fecha …/…/…  Periodo de Almacenamiento 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83040" y="620640"/>
            <a:ext cx="38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OS DEL TRABAJO PER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1800" y="981000"/>
            <a:ext cx="63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o II – Esquema del SCR y de los listados autor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8880" y="2670120"/>
            <a:ext cx="900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l esquema (Flujograma) del Sistema de Registro Contable, transcripto al Folio Nº ……………….. (282.2.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aración del formato del listado Utilizado vs. el Autorizado (282.2.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stado autorizado, transcripto en el Folio Nº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87440" y="981000"/>
          <a:ext cx="8929440" cy="5467320"/>
        </p:xfrm>
        <a:graphic>
          <a:graphicData uri="http://schemas.openxmlformats.org/drawingml/2006/table">
            <a:tbl>
              <a:tblPr/>
              <a:tblGrid>
                <a:gridCol w="1728720"/>
                <a:gridCol w="3529080"/>
                <a:gridCol w="2736720"/>
                <a:gridCol w="9349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DE COMER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OS DEL DOCU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LT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5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i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cen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úb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 1ª página identificatoria (285.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– Etiquetado (286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 – Encabezamiento (286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de numeración de los registros (282.2.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s Profesional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-M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ndico Trimestral (286.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-HM-M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ual   (287.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orga Certificación IGJ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olescencia 287-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-MF Acta de registración (286.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 Encuadernado (285.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 papel consistente, tinta indele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-MF (28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2880" y="549360"/>
            <a:ext cx="59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o III – Sistema de seguridad de las regist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5240" y="55548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505240" y="5411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60880" y="112536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01480" y="1701720"/>
          <a:ext cx="8915400" cy="4260960"/>
        </p:xfrm>
        <a:graphic>
          <a:graphicData uri="http://schemas.openxmlformats.org/drawingml/2006/table">
            <a:tbl>
              <a:tblPr/>
              <a:tblGrid>
                <a:gridCol w="2086200"/>
                <a:gridCol w="2652480"/>
                <a:gridCol w="2595600"/>
                <a:gridCol w="1581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DE COMER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OS DEL DOCU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LTER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ción en Libro Inventario y Bal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ción del Inventar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alan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ibro May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cuen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sitos 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ación cer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ión de listado al momento de realizar el informe (282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81240" y="3200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81240" y="304128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25240" y="83664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ISLACIÓN APLI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86960" y="2565360"/>
            <a:ext cx="452232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56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ódigo de Comercio (Arts 43 – 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56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y 19550 LS (Art 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56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olución 7/05 IGJ (Arts 280 – 2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56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y 25506 de Firma Digital (Arts 11 –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495360" y="1916280"/>
          <a:ext cx="8915400" cy="2358720"/>
        </p:xfrm>
        <a:graphic>
          <a:graphicData uri="http://schemas.openxmlformats.org/drawingml/2006/table">
            <a:tbl>
              <a:tblPr/>
              <a:tblGrid>
                <a:gridCol w="2085840"/>
                <a:gridCol w="2157480"/>
                <a:gridCol w="3090960"/>
                <a:gridCol w="1581120"/>
              </a:tblGrid>
              <a:tr h="118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ma de docu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stados contables en el Libro de Inventarios y Bal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ioma n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os regis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bilidad con documentación respaldato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or muestre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0880" y="112536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85240" y="857160"/>
            <a:ext cx="62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CIÓN DE LOS PLAZOS DE 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9800" y="1693800"/>
            <a:ext cx="71294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evaluar por el Peri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cha del informe periódico del Síndico (RT 1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cha del informe trimestral del Síndico (Res 07/05 IG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cha del informe de cierre (Res 07/05 IG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de la contabilidad desde 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cha de la certificación de la IGJ, en la que deberá con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bilidad está regularmente llev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es 07/05 IG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09640" y="857160"/>
            <a:ext cx="64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OS TRIBUTARIOS VS. REGISTROS CO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1600" y="2349360"/>
            <a:ext cx="518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os de la Resolución General AFIP 13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 V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 integran el 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319200" y="85716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ACIÓN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0280" y="2552760"/>
            <a:ext cx="308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quisitos de la Ley 255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rm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me St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78160" y="836640"/>
            <a:ext cx="45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SISTEMA DE REGISTRO CON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R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82320" y="162864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SITOS APROP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33240" y="2492280"/>
          <a:ext cx="8640720" cy="2851200"/>
        </p:xfrm>
        <a:graphic>
          <a:graphicData uri="http://schemas.openxmlformats.org/drawingml/2006/table">
            <a:tbl>
              <a:tblPr/>
              <a:tblGrid>
                <a:gridCol w="2665440"/>
                <a:gridCol w="3024360"/>
                <a:gridCol w="295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CIÓN 7/05 IG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 SO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i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ción inequívo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-53-54-62-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lter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937960" y="85716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OS INTEGRANTES DEL 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4880" y="2349360"/>
            <a:ext cx="8712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BROS INDISPENSABLES OBLIGATORIOS (Art 44 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ntario y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BROS AUXILIARES OBLIG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aquellos necesarios por la naturaleza e importancia del ente (Art 44 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78600" y="857160"/>
            <a:ext cx="64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CIÓN EN EL LIBRO INVENTARIO Y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8880" y="2093760"/>
            <a:ext cx="91663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 52 (Res 7/05 IGJ – Art 2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– Estados contables con la firma del Representante Leg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– Detalle, analítico y composición de los rubros del Activo y Pa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– Informes del órgano de fiscalización y Contador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 – Plan de Cuentas, agregados y reemplaz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 –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cripción del SRC y Dictámen Técnico de prescindencia del Art 53 CC y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respondiente autorización  del Órgano de Contra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37120" y="857160"/>
            <a:ext cx="29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SITOS FOR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20880" y="1776240"/>
            <a:ext cx="8496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hibición de alterar el orden cronológico de fechas y oper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huecos o blan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interlineaciones, raspaduras, enmiendas y/o tachadu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hibición de alterar la foliación o mutilar el regis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ocumentación de su giro firmada por si o por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ioma 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71400" y="857160"/>
            <a:ext cx="66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CINDENCIA DE LAS FORMALIDADES DEL ART 53 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96880" y="1919160"/>
            <a:ext cx="74170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aplicación del Art 61 LS (Res 7/05 IGJ - Arts 282-283-2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presci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encuader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fol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individualización con nota dat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destino del 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su tit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número de h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24160" y="2219400"/>
            <a:ext cx="74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aprobación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ácita (Transcurrido 30 días hábiles de su presentación) (Art 2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e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bros admiti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, con excepción del Libro Inventario y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86680" y="85716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OBACIÓN DE LA SOLICITUD DE PRESCI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71720" y="85716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EN JU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0520" y="1916280"/>
            <a:ext cx="87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9240" y="2421000"/>
            <a:ext cx="820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 55 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arecen de las formalidades del Art 53 CC y tengan los vicios del Art 54 CC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tienen valor alguno en juic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 56 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omisión de los Libros indispensables, se juzga por los libros del advers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84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836280" y="-27000"/>
            <a:ext cx="85680" cy="688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4903560" y="-4930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4887720" y="1879560"/>
            <a:ext cx="101520" cy="9909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948996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rot="10800000">
            <a:off x="128520" y="6021360"/>
            <a:ext cx="2174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8:02:34Z</dcterms:created>
  <dc:creator>mjonte</dc:creator>
  <dc:description/>
  <dc:language>en-US</dc:language>
  <cp:lastModifiedBy>Thelma Karen Stretcu</cp:lastModifiedBy>
  <dcterms:modified xsi:type="dcterms:W3CDTF">2006-09-18T12:15:29Z</dcterms:modified>
  <cp:revision>68</cp:revision>
  <dc:subject/>
  <dc:title>Diapositiva 1</dc:title>
</cp:coreProperties>
</file>