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78C-EA3F-4AA5-AB64-5FD490E9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A5B-EF28-4FE5-A34B-C6F3202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9D3-6EA9-479A-A896-A048435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EAB-5C6A-438B-A9CA-27392547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6EBB-0FD2-4703-AEAD-5DCC4275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156A-AC53-48AE-A5F6-B36492F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AC8E-2F1B-4834-B88E-ADE1B9E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C1C6-8156-432B-8C5C-03BEBBE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4064-DC81-4431-863D-6BCA0F5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99C-AB19-49FA-BB9E-8CBEB71D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16B-E242-43D6-90B1-3506B60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1FA-95EC-42C6-9CF6-D52BB444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C993-0A27-41B5-919F-41C36BB0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BC06-B1FE-40CD-A490-6539E335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640A-3D3A-4E5C-91F4-5DAF237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FEE7-A00D-48A6-BBE9-61C9DBD1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4FBD-53BB-43CF-AA1A-8D22E21D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1C77-0B3A-4BEA-AEE1-53031F4B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D0E9-3866-47A1-9F7F-98C92E2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E198-7D6A-4DC3-AA8E-861F68F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239F-1741-4A26-9F7E-80AC0B3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4834-6166-416E-A579-ABAD15A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E1F-9AC9-41D0-A723-083BC97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0978-5B13-454F-9F4D-4774EB9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04DE-21C1-480B-925C-6537AF7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375E-EA4C-466C-88B2-189D028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2A06-D105-4224-BC87-43211B8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482E-1DF8-478D-BD53-4B09B1D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D0EE-9375-4F8A-97FF-826B0C4B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10C0-EB36-46D1-870B-8C64BC7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4DE-4EF3-41B5-99D7-ADF62A1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A0A-8E54-40A4-8B51-6514D9E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112-21CB-4D29-9E8C-59B79B9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2F7-50AE-49DA-AE20-0CCF69A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27B-D135-4D46-9BD1-2B69C7E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960-DCA2-4E7D-BCDE-9090AE2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CD3-CED0-4BC8-ADDA-C999BEF9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e4d8c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638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828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5e3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5e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f98"/>
              </a:buClr>
              <a:buSzPct val="80000"/>
              <a:buFont typeface=""/>
              <a:buChar char="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09f98"/>
              </a:buClr>
              <a:buFont typeface="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7795-72BD-43AD-B677-71CE7A2899DF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638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828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5e3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5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88F-74A2-413B-AB9E-750A780FA60A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lc.fao.org/privado%20/arg1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lobaIización, Agronegocios y Desarrollo Lo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dolfo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rupo de Reflexión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ww.grr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917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 que no logra el Mercosur…               (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rakopsora sp. 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ybean rust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oy agricultor y no tengo tierras, tampoco tengo tractores, ni cosechadoras. Y esta es la mayor innovación del país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oco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85840" y="182880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Argentina, a diferencia del mundo , hoy no tenés que ser hijo de chacarero o un estanciero para ser agricul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és una buena idea y tenés plata, vas, alquilás un campo, y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sos agricultor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00400" cy="237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46483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ste es un proceso extraordinario y democrático del acceso a la tierra, donde la propiedad de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tierra no importa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; lo que importa es la propiedad del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nocimiento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ituación Argentin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del 10 % de la población vive en zonas r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24 nuevos asentamientos en la CABA (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, domingo 20 de julio200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8 de cada 10 habitantes de asentamientos de la CABA y Conurbano son desplazados rurales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PAF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recimiento no es desarrol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l modelo agro-exportador de carnes, cereales, frutas y hortalizas, al modelo agro-exportador de comodi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90 Desregulación y globalización (OM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90 – 2001 Desaparición de mas de 100.000 empresas agropecuarias del sector lácteo, ganadero, frutícola, hortícola. Mayor escala, mayor eficiencia, mas competitividad, mas rentabilidad (OM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001 al día de hoy: la comoditis pagan la deuda externa y la contención social, en un escenario de desocupación y urbanización crecien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2848"/>
          <a:stretch/>
        </p:blipFill>
        <p:spPr>
          <a:xfrm>
            <a:off x="612720" y="1536840"/>
            <a:ext cx="7991640" cy="4556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3360"/>
            <a:ext cx="9144000" cy="53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 actual sistema agroalime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oncentración de t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rporatizaci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: Los pooles de siembra son los nuevos actores en el ca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tre 1992 y 1999 el número de pequeños y medianos productores en el paí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minuyo d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0.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6.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 tamaño promedio de un establecimiento media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ci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243 has. a 357 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rgentina: Proyectos de Incremento de Capacidad de Elaboración de Oleaginosos al 2006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en tons/día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rma                    Loc         Prov          Vol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nge Argentina Ramallo   Bs.As.    5.000 Nuev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gill SACI         Galvez     Sta. Fe 13.000 Nuev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. Dreyfus SA      Timbúes   Sta. Fe 8.000 Nuev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os                S.Lorenzo Sta. Fe 12.000 Ampli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centin                S.Lorenzo Sta. Fe 10.000 Ampli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minal VI          S.Lorenzo Sta. Fe 8.000 Ampli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tal                                                 56.000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lc.fao.org/privado /arg1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informacion JJ.Hinrischs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s Propuestas para los Planes Proinder; PSA; Manos a la Obra y o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nar escala para ser “competitiv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PA ( Eurep-GAP) para ganar mercado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rtar competir glob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ociativ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E KYUNG HAE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CÚ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 DE SETIEMBR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pado a la valla que los separaba de la reunión de la OMC, Lee un simple campesino coreano, se clava una daga en el pecho, al caer, muestra una panca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C mata campesin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sucedió en Argentin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martya Sen 1995 Food Economics and Enti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 hambre NO es por falta de alimentos sino por carencia de “titularidad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pacidad de adquirir y/o producir su alim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Herma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.Dal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” Salir de la idea de la economía global para ocuparnos de lo local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Beyond the Growth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pe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ultifuncionalidad de la agricultu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Trabajo (¿Emple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Arra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Autosu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Paisaje,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“Desarrollo Sustentable” es mejoramiento cualitativo no crecimiento c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Modelo solidario ”creí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“ El mercado funciona crea o no la gente. El capitalismo florece con cínicos y egoístas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aul Krugman www.mit.edu/krug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 de dimensión human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una sociedad “pos-petróleo”, con cambio climático, de mucho trabajo y poco empl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ciones locales, para mercados cercan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ricultura de bajos insu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cert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packing (papel, cartón, polietiléno)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BASU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frío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transporte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(*) Rifkin Jeremy :1990. Entropía:Hacia el mundo invernad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n los 70´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Buenos Aires nor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191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8000"/>
                </a:solidFill>
                <a:latin typeface="Arial"/>
                <a:ea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Explotaciones mixtas (agricultura/ganadería),   trigo,lino, maíz, girasol, guinea, coriandro, mosta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 </a:t>
            </a: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5 cvs de papa, dos épocas de pla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8000"/>
                </a:solidFill>
                <a:latin typeface="Arial"/>
                <a:ea typeface="Times New Roman"/>
              </a:rPr>
              <a:t>  </a:t>
            </a:r>
            <a:r>
              <a:rPr b="1" lang="es-MX" sz="2800" spc="-1" strike="noStrike">
                <a:solidFill>
                  <a:srgbClr val="808000"/>
                </a:solidFill>
                <a:latin typeface="Arial"/>
                <a:ea typeface="Times New Roman"/>
              </a:rPr>
              <a:t>*4 cvs de batata, tres fábricas de dul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 </a:t>
            </a:r>
            <a:r>
              <a:rPr b="1" lang="es-MX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*Choclo,(con riego) para fresco e industria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 </a:t>
            </a:r>
            <a:r>
              <a:rPr b="1" lang="es-MX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*Arveja, lenteja, cvs p/ seco, fresco, e industria      local:San Pedro,Ramallo, Pavón Arr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  </a:t>
            </a: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Zanahoria (con riego)Pergam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   </a:t>
            </a:r>
            <a:r>
              <a:rPr b="1" lang="es-MX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*Cinturón Hortícola de Ros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00000"/>
                </a:solidFill>
                <a:latin typeface="Arial"/>
                <a:ea typeface="Times New Roman"/>
              </a:rPr>
              <a:t>En los 80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70352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levantan los alambrados e instalaciones ganadera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aparecen los Feed – lot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*Aparece el contrat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*Agricultura permanente:trigo/soja; lenteja/soja; arveja/soja.Ero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*Siembra directa barbecho/soja.1l/ha glifosato c/s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En los 90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914400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modi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Los invernáculos, tomates LV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*Los duraznos amarillos.</a:t>
            </a: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La papa Spunta.</a:t>
            </a:r>
            <a:r>
              <a:rPr b="1" lang="es-MX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*Frigorífico Pérez Millán cerrado</a:t>
            </a:r>
            <a:r>
              <a:rPr b="1" lang="es-MX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*Soja siembra directa, aparece el pool de siem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as de tres aplicaciones de glifosato; 2,4 D inve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ancro, nemátode, babosas,caracoles,bicho bol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00"/>
                </a:solidFill>
                <a:latin typeface="Arial"/>
              </a:rPr>
              <a:t>La Mejor Carne del Mu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alone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162560" cy="198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91520" y="2209680"/>
            <a:ext cx="380880" cy="1505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035320" y="3510000"/>
            <a:ext cx="841320" cy="212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209680"/>
            <a:ext cx="91440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n letra pequeña se advier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e producto no deberá ser administrado a animales de establecimientos rur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criptos como proveedores para la Unión Europea (Res. SAGP y A Nº 370/97) y/o pa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tros países que prohiben el uso de sustancias anabolizantes (RES. SAGP y A Nº 515/9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rio LA NACION de Argentina, Suplemento CAMPO, página 5 del sábado 15 de julio del 2000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240" y="17762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240" y="4270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3200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6019920" y="304920"/>
            <a:ext cx="18516600" cy="7392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00200" y="7621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Tiene forma de salame, parece salame, pero ¿Qué e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533520" y="84240"/>
            <a:ext cx="96775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 rot="1941000">
            <a:off x="2513880" y="3569760"/>
            <a:ext cx="4343400" cy="632160"/>
          </a:xfrm>
          <a:prstGeom prst="rect">
            <a:avLst/>
          </a:prstGeom>
          <a:solidFill>
            <a:srgbClr val="cc0066"/>
          </a:solidFill>
          <a:ln w="0">
            <a:noFill/>
          </a:ln>
          <a:effectLst>
            <a:outerShdw dist="17819" dir="2700000" blurRad="0" rotWithShape="0">
              <a:srgbClr val="463828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Barbecho Directo</a:t>
            </a:r>
            <a:endParaRPr b="0" lang="en-US" sz="2400" spc="-1" strike="noStrike">
              <a:solidFill>
                <a:srgbClr val="b75e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8:38:21Z</dcterms:created>
  <dc:creator>Abuelo</dc:creator>
  <dc:description/>
  <dc:language>en-US</dc:language>
  <cp:lastModifiedBy>C.P.C.E.C.A.B.A.</cp:lastModifiedBy>
  <dcterms:modified xsi:type="dcterms:W3CDTF">2006-09-19T19:49:58Z</dcterms:modified>
  <cp:revision>56</cp:revision>
  <dc:subject/>
  <dc:title>ARGENTINA BASE LATINOAMERICANA DE LOS AGRONEGOCIOS </dc:title>
</cp:coreProperties>
</file>