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1D5-160C-4F34-8D58-67FABE87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854-73E2-4EDC-804E-1EDE2967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85B-4A33-4D42-954C-AB1FB11D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BF4-3C79-4FA4-9488-61A49077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226-C854-41B9-BF8E-C6BDBBDC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451-DBC8-4B9B-91B3-6622A436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8E2-BDA8-4223-9219-BA2B55EF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22A-27C2-45E4-84E7-4CDECA7E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B95-4531-4ED1-A81E-1F1D06FA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5DF-95A7-4FED-B4C4-EBBE40FB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6C0-603A-4722-9E28-3573DA66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A1A-52A2-43F7-8E5C-A9F63351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D1E8-7F32-4E50-9B72-9AAF8164AC82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4640" y="6286680"/>
            <a:ext cx="814680" cy="34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333399"/>
                </a:solidFill>
                <a:latin typeface="Times New Roman"/>
              </a:rPr>
              <a:t>AD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333399"/>
                </a:solidFill>
                <a:latin typeface="Times New Roman"/>
              </a:rPr>
              <a:t>Desarrol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OS PARA EL USO DEL SUELO PROMOVIENDO EL DESARROLLO SOSTEN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056280"/>
            <a:ext cx="3600360" cy="61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99"/>
                </a:solidFill>
                <a:latin typeface="Times New Roman"/>
              </a:rPr>
              <a:t>Armando De Ang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99"/>
                </a:solidFill>
                <a:latin typeface="Times New Roman"/>
              </a:rPr>
              <a:t>Desarrollo Económico e Institu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4040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Times New Roman"/>
              </a:rPr>
              <a:t>Setiembr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609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esarroll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4152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28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esarroll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82800"/>
            <a:ext cx="9144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380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esarroll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042920"/>
            <a:ext cx="8763120" cy="2505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Promoción de actividades de educación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9144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09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Zonificación Ambiental y Ordenamiento 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8380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Zonificación Ambiental y Ordenamiento 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8380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Zonificación Ambiental y Ordenamiento 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609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esarrollo de los Recursos Naturales y Diversificación Productiva bajo Condiciones de 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8839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609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esarrollo de los Recursos Naturales y Diversificación Productiva bajo Condiciones de 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3098880"/>
            <a:ext cx="91440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212920"/>
            <a:ext cx="86425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XO CUADROS ESTADÍ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148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4520" indent="-1244520">
              <a:spcBef>
                <a:spcPts val="1500"/>
              </a:spcBef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NA’s 1988 y 2002; Encuesta Industrial Mensual. INDEC. Se agradece la colaboración de Pabl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asenbalg y Germán Herrera en su compi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1913040"/>
            <a:ext cx="89154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12920"/>
            <a:ext cx="86425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DATOS CONTEX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1148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4520" indent="-1244520">
              <a:spcBef>
                <a:spcPts val="1500"/>
              </a:spcBef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NA’s 1988 y 2002; Encuesta Industrial Mensual. INDEC. Se agradece la colaboración de Pabl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asenbalg y Germán Herrera en su compi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320" y="1341360"/>
            <a:ext cx="89154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8915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15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5400" y="838080"/>
            <a:ext cx="8915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879560"/>
            <a:ext cx="8534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640" y="6286680"/>
            <a:ext cx="814680" cy="34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333399"/>
                </a:solidFill>
                <a:latin typeface="Times New Roman"/>
              </a:rPr>
              <a:t>AD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333399"/>
                </a:solidFill>
                <a:latin typeface="Times New Roman"/>
              </a:rPr>
              <a:t>Desarrol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320" y="1023840"/>
            <a:ext cx="8839080" cy="507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STRIBUCIÓN USO DE LA TIERRA -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600200"/>
            <a:ext cx="864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SITOS E INSTRUMENTOS PARA EL DESARROLLO SOSTENIBLE DEL USO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299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4520" indent="-1244520">
              <a:spcBef>
                <a:spcPts val="1500"/>
              </a:spcBef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 conceptual y desarrollo metodológico del Programa Estratégico de Acción para la Cuenca del Río Bermejo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REQUISITOS PARA EL DESARROLLO 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52480"/>
            <a:ext cx="88390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ción de la consideración ambiental en las políticas, planes y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imiento de mecanismos de articulación y coordinación regional y de participac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ción de programas, proyectos y acciones de prevención y remediación ambiental y de desarrollo sostenible de los recursos naturales prior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0666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OS PARA EL DESARROLLO 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168640"/>
            <a:ext cx="89154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esarrollo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Promoción de actividades de educació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Zonificación Ambiental y Ordenamiento Terri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esarrollo Sustentable de los Recursos Naturales y Diversificación Productiva bajo Condiciones de Susten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09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esarroll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320" y="1258920"/>
            <a:ext cx="883908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20:17:47Z</dcterms:created>
  <dc:creator>Mauro Spitale</dc:creator>
  <dc:description/>
  <dc:language>en-US</dc:language>
  <cp:lastModifiedBy>C.P.C.E.C.A.B.A.</cp:lastModifiedBy>
  <dcterms:modified xsi:type="dcterms:W3CDTF">2006-09-19T19:23:56Z</dcterms:modified>
  <cp:revision>59</cp:revision>
  <dc:subject/>
  <dc:title>Presentación de PowerPoint</dc:title>
</cp:coreProperties>
</file>