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E9E-B804-4F71-AB55-5C04BC94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D7B-B9A6-42B3-9EE7-76D05F0C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9C2-CB97-437C-BBBC-1D82E6C6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8D2-08E8-4A48-9566-ED7B510F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669E-C3D0-4975-958C-28004908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3E40-FFD2-4ED3-B7A0-4AC35502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A065-616F-4F06-8EB0-96FAF535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6C8A-C643-4053-9007-75804D22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4089-52A0-431D-A781-28F9420D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08C0-F10F-491C-843C-A18211DD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E88D-C923-4D05-A429-D2ECE0DE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06E-F1C1-493A-9409-8353E313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5C8B-0F9D-45B4-BF18-1A3D15BA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77AA-4B2C-481F-9467-B3DF28C8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7E90-3D47-4563-BED6-44ACE3A5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8DDA-3253-4A2E-95C1-65612AA6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B4AE-8B31-45AB-AA29-AE9A6A53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290C-A757-4D6B-AC0F-06D7A0DE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0999-49AC-496E-BCD9-FAB996A4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EFFFF-A38F-4025-802C-8D69B104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3606-CB4E-46D9-9EB7-E69B40BC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1062-DCB6-4F08-B288-D4708F55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952-87DD-435A-84A2-A4BBAE1E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60CE-4637-4128-80F8-BF289D5A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2911-9FF1-4551-A9BD-28C4F20C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19CE-E401-4990-8B18-653C2A27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32375-BB21-4248-BCCA-DE764B7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CE61-2F44-40C3-A30D-DE2C13C7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071E-A3F7-43E6-AE9F-ABB0FAE9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6DB4-89A0-4CBC-98AC-E202CA9F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1ED-076A-46EE-842D-D220D874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0B2-2199-4F8E-9562-89C4C21C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171-DFA4-45FE-B109-3CCE146F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3D7-64B0-4254-99EA-4F371B54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E3A-4B60-444B-9733-2CD3B55A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D5E-41FB-4046-9A05-39845B33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7955-B563-4162-82D8-6846A56A9924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7F5C-4988-4C21-B544-4D18D519B318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62BB-140D-4DF6-8135-4631C1E64B7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404640"/>
            <a:ext cx="9144000" cy="6183000"/>
            <a:chOff x="0" y="404640"/>
            <a:chExt cx="9144000" cy="6183000"/>
          </a:xfrm>
        </p:grpSpPr>
        <p:sp>
          <p:nvSpPr>
            <p:cNvPr id="138" name=""/>
            <p:cNvSpPr/>
            <p:nvPr/>
          </p:nvSpPr>
          <p:spPr>
            <a:xfrm>
              <a:off x="0" y="404640"/>
              <a:ext cx="9144000" cy="61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ll MT"/>
                </a:rPr>
                <a:t>Demanda mundial de alimento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ll MT"/>
                </a:rPr>
                <a:t>Desarrollo local</a:t>
              </a:r>
              <a:br>
                <a:rPr sz="4400"/>
              </a:br>
              <a:r>
                <a:rPr b="1" lang="en-US" sz="4400" spc="-1" strike="noStrike">
                  <a:solidFill>
                    <a:srgbClr val="000000"/>
                  </a:solidFill>
                  <a:latin typeface="Bell MT"/>
                </a:rPr>
                <a:t> Agroindustrias y cluster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ll MT"/>
                </a:rPr>
                <a:t>Rol de los actores</a:t>
              </a:r>
              <a:br>
                <a:rPr sz="4400"/>
              </a:br>
              <a:r>
                <a:rPr b="1" lang="en-US" sz="4400" spc="-1" strike="noStrike">
                  <a:solidFill>
                    <a:srgbClr val="000000"/>
                  </a:solidFill>
                  <a:latin typeface="Bell MT"/>
                </a:rPr>
                <a:t>de las cadenas de valo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32000" y="1773360"/>
              <a:ext cx="46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32000" y="4581360"/>
              <a:ext cx="46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Mapa del hambre de la FAO"/>
          <p:cNvPicPr/>
          <p:nvPr/>
        </p:nvPicPr>
        <p:blipFill>
          <a:blip r:embed="rId1"/>
          <a:stretch/>
        </p:blipFill>
        <p:spPr>
          <a:xfrm>
            <a:off x="324000" y="243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2920" y="765000"/>
            <a:ext cx="64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nueva REVOLUCION 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5040" y="1916280"/>
            <a:ext cx="78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haga frente al aumento en la demanda de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720" y="3141720"/>
            <a:ext cx="90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que permita reemplazar parcialmente a los combustibles fós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90760" y="3933720"/>
            <a:ext cx="40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OCOMBUST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60360" y="4510080"/>
            <a:ext cx="63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STICOS BIODEGRAD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08040" y="508464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ES TEXTILES ARTIFI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54200" y="90792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yecciones de F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720" y="1773360"/>
            <a:ext cx="744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cimiento anual de la demanda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40840" y="2637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sta 2015      1,6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3480" y="3573360"/>
            <a:ext cx="32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15 - 2030      1,4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7120" y="4149720"/>
            <a:ext cx="71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anda países menos desarroll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56600" y="5084640"/>
            <a:ext cx="36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Últimos 30 años      3,7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50760" y="573408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óximos 30 años      2,0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2040" y="1716120"/>
            <a:ext cx="83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querimientos de un adulto de 30 a 6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360" y="258768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2.700 kcal/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5560" y="3645000"/>
            <a:ext cx="903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ás del 60% de la población mundial habit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países con consumos diarios sobre ese r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88720" y="5013360"/>
            <a:ext cx="55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es desarrollados       3.300 kcal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ina                               3.000 kcal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a                             &lt; 2.500 kcal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2349360"/>
            <a:ext cx="85327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ecerá demanda de Valor energ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idratos de carbono se estanca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549360"/>
            <a:ext cx="853272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umento de Proteínas Ani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ños 60: 10 kg  - fin de siglo: 26 k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030: 37 k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CT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ños 60: 28 kg  - fin de siglo: 45 k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030: 66 k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1280" y="2060640"/>
            <a:ext cx="85327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zúcares y Aceites vege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rasas totales / saturadas / tr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ibra alimen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6000" y="765000"/>
            <a:ext cx="68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ndencia a globalización de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3280" y="170028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íses desarroll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2160" y="2421000"/>
            <a:ext cx="52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5 por ciento de los aliment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las mismas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3440" y="4365720"/>
            <a:ext cx="71967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vergencia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pansión de cadenas de comidas ráp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an 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73800" y="2275920"/>
            <a:ext cx="73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STA DE PRODUCTOS DE EXPORTACIÓN DIVERS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0760" y="3789000"/>
            <a:ext cx="57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OVACIÓN PERMANENTE D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ANASTA DE PRODUCTOS DE EXPORTACIÓ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STA DINÁMICA DE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240" y="620640"/>
            <a:ext cx="79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fíos para el sector agroalimentario argen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989080" y="242028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YOR VALOR AGREG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61080" y="4075920"/>
            <a:ext cx="67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TOS ESTÁNDARES EN MATERIA SANITARIA Y C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240" y="620640"/>
            <a:ext cx="79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fíos para el sector agroalimentario argen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789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ell MT"/>
              </a:rPr>
              <a:t>Demanda mundial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556720" y="4075920"/>
            <a:ext cx="38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VERSIFICACIÓN DE DESTIN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5080" y="2491560"/>
            <a:ext cx="65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IGENCIA DE MERCADOS. ANÁLISIS DE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240" y="620640"/>
            <a:ext cx="79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fíos para el sector agroalimentario argen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33080" y="4365000"/>
            <a:ext cx="63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FIL DEL EXPORTADOR. CULTURA EXPORTADOR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2520" y="2564640"/>
            <a:ext cx="52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ARROLLAR LA CAPACIDAD COMERCI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1240" y="620640"/>
            <a:ext cx="79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fíos para el sector agroalimentario argen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0320" y="548640"/>
            <a:ext cx="61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TRICCIONES PARAARANCELARIAS VINCULADA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CUESTIONES SANITARIAS Y DE C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82280" y="1770840"/>
            <a:ext cx="709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ganismos genéticamente modificados (OG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gas y enfermedades vegetales y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de anabó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8360" y="443628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OS INTERNACIONALES MÁS EXIGE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9080" y="5660280"/>
            <a:ext cx="59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FERMEDADES EMERGENTES Y REEMER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56920" y="1760760"/>
            <a:ext cx="67744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ografía y comportamiento hum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ances tecnológicos e indust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económico y uso de la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ercio internacional y tu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aptación y cambios microbi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uptura de las normas y medidas san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6160" y="333000"/>
            <a:ext cx="709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ctores que contribuyen a la emergencia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enfermedades  de naturaleza infeccios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73840" y="1772640"/>
            <a:ext cx="69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TALECIMIENTO DE LA POLÍTICA SANITARIA REGION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42720" y="2349000"/>
            <a:ext cx="55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ES SANITARIOS Y TRAZABILIDAD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O UN FACTOR DE AGREGACIÓN DE VALOR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CCESO A ALGUNOS MERCA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00640" y="3644640"/>
            <a:ext cx="465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LICACIÓN DE NORMAS DE PROCES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ASEGUREN ALTA CALIDAD E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OCUIDAD DE LOS PRODUC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83560" y="479700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S DE TIPIFICACIÓN, CLASIFICACIÓ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SEGREGACIÓN DE L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77200" y="5589000"/>
            <a:ext cx="74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CARECIMIENTO DE LOS PROCESOS DE EXPORTACIÓN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REGULACIONES RELACIONADAS CON EL BIOTERRORISM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53280" y="1699920"/>
            <a:ext cx="668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DE CALIDAD DE PRODUCTOS FITOSANITARIO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E PRODUCTOS VETERINARIO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CUMPLIMIENTO DE PROCEDIMIENTOS DE US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2923560"/>
            <a:ext cx="77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ENESTAR ANIMAL. EN EL CAMPO, EL TRANSPORTE Y LA FAE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13080" y="357120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ENTABILIDAD AMBIEN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61440" y="421884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DAD EN LA CADENA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1120" y="2492280"/>
            <a:ext cx="745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resas, por grande que sean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pueden hacer frente a estos desafío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islad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338560" y="2552760"/>
            <a:ext cx="430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DE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3571920"/>
            <a:ext cx="430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40000" y="4508640"/>
            <a:ext cx="430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66560" y="69228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os aglomerados o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10520" y="1844640"/>
            <a:ext cx="52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centraciones geográficas de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pañías interrelacio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4640" y="3497400"/>
            <a:ext cx="800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oveedores especializados, servicios, industrias conexas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 instituciones asociadas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(universidades, asociaciones gremiales, etc)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ampos particulares que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mpiten, pero que también coope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7960" y="1693800"/>
            <a:ext cx="7822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ugieren que una buena parte de la ventaja competitiva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e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fuera </a:t>
            </a:r>
            <a:r>
              <a:rPr b="0" lang="es-AR" sz="2400" spc="-1" strike="noStrike">
                <a:solidFill>
                  <a:srgbClr val="ff0000"/>
                </a:solidFill>
                <a:latin typeface="Arial"/>
              </a:rPr>
              <a:t>de las compañía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y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asta fuera del sector al que pertenecen sus industria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s-AR" sz="2400" spc="-1" strike="noStrike">
                <a:solidFill>
                  <a:srgbClr val="ff0000"/>
                </a:solidFill>
                <a:latin typeface="Arial"/>
              </a:rPr>
              <a:t>reside en las localidade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donde establecen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us unidades empresa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6560" y="69228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os aglomerados o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3440" y="549360"/>
            <a:ext cx="69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dicciones de largo plazo son comple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84360" y="1484280"/>
            <a:ext cx="726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umerables factores: Climáticos, sani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cio económicos, tecnológicos y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3440" y="3284640"/>
            <a:ext cx="78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ertas características estructurales actu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dicionan fuertemente los escenarios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8960" y="4770360"/>
            <a:ext cx="5622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robables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endencias globales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materia agroalimen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1280" y="220500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umentan la productividad de las empresas o industrias constituy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ejoran su capacidad de innovar y, por lo tanto, el crecimiento de la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imulan la formación de empresas nuevas que apoyen la innovación y amplíen el aglom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6560" y="69228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os aglomerados o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66560" y="69228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os aglomerados o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5080" y="170028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dent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71560" y="254160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Vínculos verticales de insumo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200" y="3116160"/>
            <a:ext cx="89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Vínculos horizontales por insumos o productos comple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6960" y="3692520"/>
            <a:ext cx="85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stituciones de capacitación, tecnología, capital,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15880" y="42670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rganismos gubernamentales y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30840" y="2133720"/>
            <a:ext cx="86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linear la frontera del aglomerado puede ser un acto cre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80680" y="3500280"/>
            <a:ext cx="612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gunas compañías pueden formar parte de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varios aglomerad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84280" y="5229360"/>
            <a:ext cx="608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aglomerado puede quedar definido como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go muy general hasta muy espec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6560" y="69228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os aglomerados o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1628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aglomerado sirve de foro constructivo y eficiente para el diálogo entre las compañías relacionadas, sus proveedores, el gobierno y otras institu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6560" y="69228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os aglomerados o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941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inversiones públicas y privadas para mejorar las circunstancias de un aglomerado benefician a 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mpre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00640" y="1628640"/>
            <a:ext cx="6558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os vínculos estrechos entre compañías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n beneficiosos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o sólo por economías de esca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asa de innovación y avance téc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recimiento de la produ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51720" y="1989000"/>
            <a:ext cx="679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 prosperidad y productividad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una localización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no depende del sector predomi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80" y="4365720"/>
            <a:ext cx="879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ualquier actividad productiva puede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utilizar  “alta tecnología” y ser “conocimiento-intensi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42880" y="476280"/>
            <a:ext cx="58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bastecerse dentro del aglomerado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isminuye costos de trans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04680" y="2060640"/>
            <a:ext cx="724896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tock e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stos y demoras de impor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portamiento oportunista de provee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ayor transparencia y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estación conjunta de servicios de apo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10920" y="16286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mpleados especi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0920" y="306864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ceso a l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234936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mplemen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8400" y="3789360"/>
            <a:ext cx="74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ceso a instituciones y bienes púb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0200" y="4581360"/>
            <a:ext cx="66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esión competitiva: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centivo y medición de desemp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9280" y="1700280"/>
            <a:ext cx="907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pacidad sustentable de permanecer y crecer en los mercados corrientes y en nuevos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360" y="335772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empeño de las fi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6720" y="479736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17440" y="5877000"/>
            <a:ext cx="58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ceso de conquista de los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3789360"/>
            <a:ext cx="2232000" cy="1008000"/>
          </a:xfrm>
          <a:custGeom>
            <a:avLst/>
            <a:gdLst/>
            <a:ahLst/>
            <a:rect l="l" t="t" r="r" b="b"/>
            <a:pathLst>
              <a:path w="1406" h="635">
                <a:moveTo>
                  <a:pt x="1406" y="0"/>
                </a:moveTo>
                <a:cubicBezTo>
                  <a:pt x="979" y="83"/>
                  <a:pt x="552" y="166"/>
                  <a:pt x="318" y="272"/>
                </a:cubicBezTo>
                <a:cubicBezTo>
                  <a:pt x="84" y="378"/>
                  <a:pt x="23" y="529"/>
                  <a:pt x="0" y="635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84120" y="5300640"/>
            <a:ext cx="1343160" cy="865080"/>
          </a:xfrm>
          <a:custGeom>
            <a:avLst/>
            <a:gdLst/>
            <a:ahLst/>
            <a:rect l="l" t="t" r="r" b="b"/>
            <a:pathLst>
              <a:path w="846" h="545">
                <a:moveTo>
                  <a:pt x="121" y="0"/>
                </a:moveTo>
                <a:cubicBezTo>
                  <a:pt x="60" y="181"/>
                  <a:pt x="0" y="363"/>
                  <a:pt x="121" y="454"/>
                </a:cubicBezTo>
                <a:cubicBezTo>
                  <a:pt x="242" y="545"/>
                  <a:pt x="740" y="545"/>
                  <a:pt x="846" y="545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3789360"/>
            <a:ext cx="2184480" cy="1800360"/>
          </a:xfrm>
          <a:custGeom>
            <a:avLst/>
            <a:gdLst/>
            <a:ahLst/>
            <a:rect l="l" t="t" r="r" b="b"/>
            <a:pathLst>
              <a:path w="1376" h="1134">
                <a:moveTo>
                  <a:pt x="0" y="0"/>
                </a:moveTo>
                <a:cubicBezTo>
                  <a:pt x="492" y="155"/>
                  <a:pt x="984" y="310"/>
                  <a:pt x="1180" y="499"/>
                </a:cubicBezTo>
                <a:cubicBezTo>
                  <a:pt x="1376" y="688"/>
                  <a:pt x="1188" y="1043"/>
                  <a:pt x="1180" y="113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90120" y="855720"/>
            <a:ext cx="59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mpetitividad adquirida reve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8360" y="19890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9840" y="2205000"/>
            <a:ext cx="8163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volución de las exportaciones e impor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volución de la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compa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ponibilidad y Accesibilidad del conocimiento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asado recient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de los sesen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minuye la tasa de crecimiento de la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ece fuertemente la productividad agrí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dencia secular a la baja de precios agropec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9340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Exportaciones de los Complejos más Dinámico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39640" y="1700280"/>
          <a:ext cx="8229600" cy="4497480"/>
        </p:xfrm>
        <a:graphic>
          <a:graphicData uri="http://schemas.openxmlformats.org/drawingml/2006/table">
            <a:tbl>
              <a:tblPr/>
              <a:tblGrid>
                <a:gridCol w="2303640"/>
                <a:gridCol w="3292560"/>
                <a:gridCol w="2633400"/>
              </a:tblGrid>
              <a:tr h="12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ción en las exportaciones agro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olución en los últimos 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2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s Vacu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u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áct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nos y Mo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icul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84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úc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466920" y="6356520"/>
            <a:ext cx="83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laboración Propia en base a datos de INDEC y S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Exportaciones de los Complejos en Retroces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57360" y="2211480"/>
          <a:ext cx="8162640" cy="3657240"/>
        </p:xfrm>
        <a:graphic>
          <a:graphicData uri="http://schemas.openxmlformats.org/drawingml/2006/table">
            <a:tbl>
              <a:tblPr/>
              <a:tblGrid>
                <a:gridCol w="2517480"/>
                <a:gridCol w="2823480"/>
                <a:gridCol w="282168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ción en las exportaciones agroindustr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olución en los últimos 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gumb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o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od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66920" y="6165720"/>
            <a:ext cx="83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laboración Propia en base a datos de INDEC y S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Exportaciones Argentinas en el </a:t>
            </a:r>
            <a:br>
              <a:rPr sz="3400"/>
            </a:b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ranking mundial –  Productos Agrícola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97800" y="616572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AO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96720" y="2166840"/>
          <a:ext cx="8496360" cy="2981520"/>
        </p:xfrm>
        <a:graphic>
          <a:graphicData uri="http://schemas.openxmlformats.org/drawingml/2006/table">
            <a:tbl>
              <a:tblPr/>
              <a:tblGrid>
                <a:gridCol w="1319040"/>
                <a:gridCol w="1933560"/>
                <a:gridCol w="1704960"/>
                <a:gridCol w="1930680"/>
                <a:gridCol w="1608120"/>
              </a:tblGrid>
              <a:tr h="100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 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ill.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unitario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E. U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581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50.8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18.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91.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9.976.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.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Exportaciones Argentinas en el </a:t>
            </a:r>
            <a:br>
              <a:rPr sz="3400"/>
            </a:b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ranking mundial – Aceite de Soja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11280" y="1844640"/>
          <a:ext cx="7993080" cy="4505040"/>
        </p:xfrm>
        <a:graphic>
          <a:graphicData uri="http://schemas.openxmlformats.org/drawingml/2006/table">
            <a:tbl>
              <a:tblPr/>
              <a:tblGrid>
                <a:gridCol w="1044360"/>
                <a:gridCol w="2124000"/>
                <a:gridCol w="1440000"/>
                <a:gridCol w="1727280"/>
                <a:gridCol w="1657440"/>
              </a:tblGrid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 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ill.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unitario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.340.96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.3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5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17.24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8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E. U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5.0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.1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es Baj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.19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3997800" y="628488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AO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Exportaciones Argentinas en el </a:t>
            </a:r>
            <a:br>
              <a:rPr sz="3400"/>
            </a:b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ranking mundial –  Aceite de Girasol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7800" y="616572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AO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95280" y="2789280"/>
          <a:ext cx="8209080" cy="2190600"/>
        </p:xfrm>
        <a:graphic>
          <a:graphicData uri="http://schemas.openxmlformats.org/drawingml/2006/table">
            <a:tbl>
              <a:tblPr/>
              <a:tblGrid>
                <a:gridCol w="1173240"/>
                <a:gridCol w="2077920"/>
                <a:gridCol w="1519200"/>
                <a:gridCol w="1719360"/>
                <a:gridCol w="1719360"/>
              </a:tblGrid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 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ill.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unitario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924.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6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cr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9.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es Baj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8.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Exportaciones Argentinas en el </a:t>
            </a:r>
            <a:br>
              <a:rPr sz="3400"/>
            </a:b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ranking mundial –  Jugo de Limó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97800" y="616572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AO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9640" y="2789280"/>
          <a:ext cx="8064720" cy="2190600"/>
        </p:xfrm>
        <a:graphic>
          <a:graphicData uri="http://schemas.openxmlformats.org/drawingml/2006/table">
            <a:tbl>
              <a:tblPr/>
              <a:tblGrid>
                <a:gridCol w="1249560"/>
                <a:gridCol w="1828800"/>
                <a:gridCol w="1617480"/>
                <a:gridCol w="1828800"/>
                <a:gridCol w="1540080"/>
              </a:tblGrid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 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ill.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unitario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8.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9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Exportaciones Argentinas en el </a:t>
            </a:r>
            <a:br>
              <a:rPr sz="3400"/>
            </a:b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ranking mundial – Miel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97800" y="616572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AO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84360" y="2789280"/>
          <a:ext cx="7848360" cy="2190600"/>
        </p:xfrm>
        <a:graphic>
          <a:graphicData uri="http://schemas.openxmlformats.org/drawingml/2006/table">
            <a:tbl>
              <a:tblPr/>
              <a:tblGrid>
                <a:gridCol w="1207800"/>
                <a:gridCol w="1765440"/>
                <a:gridCol w="1560600"/>
                <a:gridCol w="1765080"/>
                <a:gridCol w="1549440"/>
              </a:tblGrid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(M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ill.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unitario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62.5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.9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Exportaciones Argentinas en el </a:t>
            </a:r>
            <a:br>
              <a:rPr sz="3400"/>
            </a:b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ranking mundial – Limones fresco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00000" y="2276640"/>
          <a:ext cx="7345440" cy="2190600"/>
        </p:xfrm>
        <a:graphic>
          <a:graphicData uri="http://schemas.openxmlformats.org/drawingml/2006/table">
            <a:tbl>
              <a:tblPr/>
              <a:tblGrid>
                <a:gridCol w="1081080"/>
                <a:gridCol w="1684440"/>
                <a:gridCol w="1535040"/>
                <a:gridCol w="1559160"/>
                <a:gridCol w="1485720"/>
              </a:tblGrid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 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ill.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unitario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.4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.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16.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997800" y="616572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AO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Exportaciones Argentinas en el </a:t>
            </a:r>
            <a:br>
              <a:rPr sz="3400"/>
            </a:b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ranking mundial – Pera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97800" y="616572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AO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2789280"/>
          <a:ext cx="8064720" cy="2190600"/>
        </p:xfrm>
        <a:graphic>
          <a:graphicData uri="http://schemas.openxmlformats.org/drawingml/2006/table">
            <a:tbl>
              <a:tblPr/>
              <a:tblGrid>
                <a:gridCol w="1154160"/>
                <a:gridCol w="2040120"/>
                <a:gridCol w="1492200"/>
                <a:gridCol w="1690560"/>
                <a:gridCol w="1687680"/>
              </a:tblGrid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 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ill.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unitario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él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.7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es Baj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20.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Exportaciones Argentinas en el </a:t>
            </a:r>
            <a:br>
              <a:rPr sz="3400"/>
            </a:b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ranking mundial – Maíz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900000" y="1844640"/>
          <a:ext cx="7272360" cy="4505400"/>
        </p:xfrm>
        <a:graphic>
          <a:graphicData uri="http://schemas.openxmlformats.org/drawingml/2006/table">
            <a:tbl>
              <a:tblPr/>
              <a:tblGrid>
                <a:gridCol w="1079640"/>
                <a:gridCol w="1660320"/>
                <a:gridCol w="1546560"/>
                <a:gridCol w="1546200"/>
                <a:gridCol w="1439640"/>
              </a:tblGrid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 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ill.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unitario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E. U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741.1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55.98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5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0.692.0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.19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30.99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18.16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997800" y="628488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AO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692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cimiento de la Demanda Glo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98900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los ¨70 y ¨8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720" y="2852640"/>
            <a:ext cx="22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,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 an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6360" y="4005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1080" y="43624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los ¨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62760" y="522612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 an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Exportaciones Argentinas en el </a:t>
            </a:r>
            <a:br>
              <a:rPr sz="3400"/>
            </a:b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ranking mundial – Trigo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68360" y="1700280"/>
          <a:ext cx="8280360" cy="4505400"/>
        </p:xfrm>
        <a:graphic>
          <a:graphicData uri="http://schemas.openxmlformats.org/drawingml/2006/table">
            <a:tbl>
              <a:tblPr/>
              <a:tblGrid>
                <a:gridCol w="876240"/>
                <a:gridCol w="2147760"/>
                <a:gridCol w="1800360"/>
                <a:gridCol w="1655640"/>
                <a:gridCol w="1800360"/>
              </a:tblGrid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 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ill.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unitario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E. U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581.4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18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50.82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18.67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91.8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9.976.59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.3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3997800" y="621180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AO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Exportaciones Argentinas en el </a:t>
            </a:r>
            <a:br>
              <a:rPr sz="3400"/>
            </a:b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ranking mundial – Porotos Seco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971640" y="2392200"/>
          <a:ext cx="6913440" cy="2981520"/>
        </p:xfrm>
        <a:graphic>
          <a:graphicData uri="http://schemas.openxmlformats.org/drawingml/2006/table">
            <a:tbl>
              <a:tblPr/>
              <a:tblGrid>
                <a:gridCol w="1008000"/>
                <a:gridCol w="1771560"/>
                <a:gridCol w="1386000"/>
                <a:gridCol w="1595520"/>
                <a:gridCol w="1152360"/>
              </a:tblGrid>
              <a:tr h="100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 (M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ill.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unitario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3.2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yan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E. U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.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6.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67.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3997800" y="616572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AO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Exportaciones Argentinas en el </a:t>
            </a:r>
            <a:br>
              <a:rPr sz="3400"/>
            </a:br>
            <a:r>
              <a:rPr b="0" lang="es-AR" sz="3400" spc="-1" strike="noStrike">
                <a:solidFill>
                  <a:srgbClr val="330033"/>
                </a:solidFill>
                <a:latin typeface="Times New Roman"/>
              </a:rPr>
              <a:t>ranking mundial – Carne Bovina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31640" y="2205000"/>
          <a:ext cx="8388360" cy="3772080"/>
        </p:xfrm>
        <a:graphic>
          <a:graphicData uri="http://schemas.openxmlformats.org/drawingml/2006/table">
            <a:tbl>
              <a:tblPr/>
              <a:tblGrid>
                <a:gridCol w="955800"/>
                <a:gridCol w="2156040"/>
                <a:gridCol w="1768320"/>
                <a:gridCol w="1797120"/>
                <a:gridCol w="1711080"/>
              </a:tblGrid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 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ill.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unitario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9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3.6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.3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eva Zel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5.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es Baj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.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l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.5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17.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.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3997800" y="616572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AO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1695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b2b2b2"/>
                </a:solidFill>
                <a:latin typeface="Times New Roman"/>
              </a:rPr>
              <a:t>2. Principales Ejes de la</a:t>
            </a:r>
            <a:br>
              <a:rPr sz="3800"/>
            </a:br>
            <a:r>
              <a:rPr b="1" lang="es-AR" sz="3800" spc="-1" strike="noStrike">
                <a:solidFill>
                  <a:srgbClr val="b2b2b2"/>
                </a:solidFill>
                <a:latin typeface="Times New Roman"/>
              </a:rPr>
              <a:t>Política Agroindustrial Argentin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008000" y="1915920"/>
            <a:ext cx="8136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desarrollo del interior a través de lo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erción internacional y promoción de las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idad, calidad e i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cuidad de aliment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y preservación de los recurs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624720" cy="5217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11280" y="76500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ña de Azú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5080" y="64911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ortaciones complejo azúcar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850160" cy="4810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60680" y="64911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Ministerio de Economía y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905440" cy="4498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54560" y="549360"/>
            <a:ext cx="49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ción de Algod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8160" y="64911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24720" cy="475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55280" y="706320"/>
            <a:ext cx="488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godón: Margen Br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975640" cy="4556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23840" y="56196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ción de Arro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64911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547640" y="1603440"/>
            <a:ext cx="6417000" cy="49100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26920" y="476280"/>
            <a:ext cx="49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ortaciones de Arro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6160" y="64911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esaceler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emás de baja en tasa de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isi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ESETAMIENTO del consumo de alimentos en los países desarrollados y en las poblaciones satisfechas de países menos desarrol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626160" cy="4765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808560" y="561960"/>
            <a:ext cx="42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oz: Margen br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64911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178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899280" y="70632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ción de L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94160" y="62373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46960" cy="43675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09120" y="614520"/>
            <a:ext cx="66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jo lanero: Export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94880" y="6237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732720" cy="4357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39640" y="70632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utas de pepita: Export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94880" y="6237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224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900000" y="63504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nos: Export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4880" y="6237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121440" cy="4214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66920" y="635040"/>
            <a:ext cx="82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erba Mate: Precio pagado al prod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4160" y="62373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24920" cy="4740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83280" y="490680"/>
            <a:ext cx="72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icultura: Exportaciones de ca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94880" y="6237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00000" y="1623960"/>
            <a:ext cx="7056720" cy="47642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83280" y="41112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ción de carne av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94160" y="62373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92720" cy="4510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826200" y="54936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ción de le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94160" y="62373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824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82560" y="706320"/>
            <a:ext cx="71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he: Precio pagado al prod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94160" y="63752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547640" y="1628640"/>
          <a:ext cx="6048720" cy="46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628640"/>
                    <a:ext cx="604872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0" y="59832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oyección del crecimiento pobl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81320" y="62658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nte F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840720" cy="4438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82920" y="542880"/>
            <a:ext cx="74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ortaciones de productos láct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94880" y="6237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553080" cy="4398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2920" y="490680"/>
            <a:ext cx="59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ción de carne vac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94160" y="63752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53080" cy="49449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10560" y="476280"/>
            <a:ext cx="46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ción de gr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94160" y="63752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200640" cy="48596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83280" y="635040"/>
            <a:ext cx="48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e de produ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543640" cy="5121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05840" y="274680"/>
            <a:ext cx="89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o de fertilizantes (en miles de tonelad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94160" y="63752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 SAGP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050160" cy="4938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59832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íses actualmente Desarroll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4520" y="476280"/>
            <a:ext cx="685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términos absol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ecimiento anual sigue siendo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6520" y="1916280"/>
            <a:ext cx="52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78 millones de habitantes al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29440" y="3357720"/>
            <a:ext cx="7444800" cy="2176200"/>
            <a:chOff x="829440" y="3357720"/>
            <a:chExt cx="7444800" cy="2176200"/>
          </a:xfrm>
        </p:grpSpPr>
        <p:sp>
          <p:nvSpPr>
            <p:cNvPr id="165" name=""/>
            <p:cNvSpPr/>
            <p:nvPr/>
          </p:nvSpPr>
          <p:spPr>
            <a:xfrm>
              <a:off x="1580400" y="5013360"/>
              <a:ext cx="59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95% en países menos desarrollad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829440" y="3357720"/>
              <a:ext cx="7444800" cy="947160"/>
              <a:chOff x="829440" y="3357720"/>
              <a:chExt cx="7444800" cy="9471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829440" y="3357720"/>
                <a:ext cx="7444800" cy="947160"/>
                <a:chOff x="829440" y="3357720"/>
                <a:chExt cx="7444800" cy="9471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829440" y="3357720"/>
                  <a:ext cx="24775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año 2006</a:t>
                  </a:r>
                  <a:br>
                    <a:rPr sz="2800"/>
                  </a:b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6.500 millon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796720" y="3357720"/>
                  <a:ext cx="24775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año 2015</a:t>
                  </a:r>
                  <a:br>
                    <a:rPr sz="2800"/>
                  </a:b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7.200 millon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70" name=""/>
              <p:cNvCxnSpPr>
                <a:stCxn id="168" idx="3"/>
                <a:endCxn id="169" idx="1"/>
              </p:cNvCxnSpPr>
              <p:nvPr/>
            </p:nvCxnSpPr>
            <p:spPr>
              <a:xfrm>
                <a:off x="3309480" y="3830400"/>
                <a:ext cx="2485080" cy="1080"/>
              </a:xfrm>
              <a:prstGeom prst="straightConnector1">
                <a:avLst/>
              </a:prstGeom>
              <a:ln w="54000">
                <a:solidFill>
                  <a:srgbClr val="000000"/>
                </a:solidFill>
                <a:miter/>
                <a:tailEnd len="lg" type="stealth" w="lg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4:35:57Z</dcterms:created>
  <dc:creator>jmacei_mecon</dc:creator>
  <dc:description/>
  <dc:language>en-US</dc:language>
  <cp:lastModifiedBy>C.P.C.E.C.A.B.A.</cp:lastModifiedBy>
  <dcterms:modified xsi:type="dcterms:W3CDTF">2006-09-19T19:53:42Z</dcterms:modified>
  <cp:revision>39</cp:revision>
  <dc:subject/>
  <dc:title>Diapositiva 1</dc:title>
</cp:coreProperties>
</file>